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F40E-72A2-4B3B-8551-BEA52BF094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2C96-B783-4CB5-A83F-1D777BFBA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AF2C-7422-46D4-B7C6-D76C197E0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8F6B-2AC8-484E-88DE-91DF90F90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275D-6470-45C6-9D1E-DDF52E0BC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1F7D-5B02-4BE7-BB34-980ED9947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87FD-E511-4DFF-98E2-498C5BCB8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08AC-E615-4863-97E7-9C6217654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F309-5A1B-4BE1-9373-EE31B7E30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057-4D5B-47F0-B92F-A3F04FD6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027-EB71-4ABA-B4A9-4F7A8D5B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866-F7E8-4189-95DD-29BB2AFF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306-2FF8-4944-86EF-F1E38596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F91E-8AC7-476A-BEE1-35177359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5A59-06FB-4B13-B495-C9785A5D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4312-9587-4336-A4EC-6E649A67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F73E-93C8-4682-B26C-DBB60E40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94D3-C10C-4CE8-AD7B-E7203718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F31F-64F1-4946-B368-C0AB86C4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6CE4-4AEB-43F7-85C0-3E3A4C0C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0BA-916B-4B29-AF81-BBD23369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9838-F741-4571-B04C-B5A7587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E5B7-9907-4797-9996-EC928FA5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7AEB-2CAF-4093-9931-967E90BE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8E74-AA43-49B8-BDC2-828C443E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38E1-E7FC-45D3-ABF8-2F2133C6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0E28-309D-423A-9561-609817C1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820A3-A161-4549-A4B9-74C759DE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5225-6800-41D5-97A3-5C83E8E4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B373-FD1F-4C66-AA18-3940F0B6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02F0-3506-46F7-98BD-FD896D94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0D5-0135-4710-BE44-EF161A95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4D91-8A8E-4AAE-98BF-5498D57A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16FFB-1FAE-4C9C-98C1-7F53C15E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7D1F6-7A0E-4219-98AD-445D13DE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B20F-707A-4CA0-A800-3507D6A2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B053-08BE-438C-965C-299C2262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1A14-8BE2-487B-B8EE-7163CD62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B0C5B-F855-4174-A16E-E75C14DF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06488-94BF-465B-80EB-4114D121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5601-9332-45F2-AD81-7C67ED26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00D4E-C0C8-466E-AC9F-3B0B0A9F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364-6094-4E0C-8B97-516B41B4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EE62A-C07E-418D-B7E1-24629ED8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E7CB-84B5-4882-924F-35F42F53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E61F0-5D30-4D98-ABA3-FC057456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3EBA-AAD9-48D7-9E8E-BD35F5E8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B5582-5CBC-4C3C-A642-FBB700C0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12728-F8F9-4045-B2F2-069CB54B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3CCE-AE6C-4B60-800C-C77CF5CC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9BE55-9159-473D-9D8A-A9BB8B70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7AFA5-6BBF-4C6C-8EF9-AFF45DD5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4288E-056E-40A0-92D0-88D2C9FC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B74-4E3A-409C-826F-6F02A6E7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F980-3780-416F-8043-15C7D2CC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7102-7CCD-432A-B2E9-02B5D1C4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2C2F7-A0B7-4EAF-8BF3-519178EC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7D4D3-AD8C-422D-8471-6C7A6A9E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D2C24-5A49-4ADA-9094-7C7CCE80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64FA-AD90-4D08-9FEB-055C2491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8790-317A-4904-9B20-5D337ACB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F57A5-5150-4054-889E-21FF2C61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E6F93-8383-44BA-B669-87EACC95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C320F-487E-4305-B410-EC0E85F2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072-6DB3-4AF9-A876-E2C84FBC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6C7C8-97E5-42B5-8251-DE053360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BC866-E321-444C-8768-1B643185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9E82E-226B-4D09-BCA1-CEC9C549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A57A2-32D6-4C89-AC54-C0CAC463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41E50-6FB3-48B9-ABF2-4720CE8D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45EEA-66DD-4A67-800E-81F051CC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B5C3B-C971-46EC-9C3E-B2554107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6419-B209-4372-B50B-CC2785EF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EB7A6-77C1-4AC3-98B3-CF2CB17C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C7EF9-FD05-48FF-8592-C24994DD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ED5-5F89-4573-A176-10E50E76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B2F29-F6A5-4C54-AC71-01363972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E509F-DB98-49D4-A9C4-FC80F3D3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FF4A9-897C-4AA2-93C8-14AC0A7E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8EB-7E8B-4D84-A144-78C94E3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CB9-6655-4FCF-90BD-0FCA933D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C4F0-2C66-486B-A63A-5765C576CE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56C2-1699-4077-B2D5-B46A3EA2D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8A57-9914-4B0D-8A7C-561F0C740950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9515-647D-4A17-B9AC-A83C9AEE160D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C8BC-82BB-4533-BA26-F98903178C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F5DB-8FA5-4313-939C-A379AF5F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5198-523B-465D-91BA-D1FF3E4701B0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242E-E774-42F4-911D-146EC1A53149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3CC0-B652-41D5-963F-F07D470267D3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55CA-742C-4063-9FEF-91B948663D0B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0FF6-937C-4FE8-9262-33DDEAB0139F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8A22-3F6C-4368-8F4C-A6CF327E6764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2540307579_8a80d74065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2.4: The Distributive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5911560"/>
            <a:ext cx="9144000" cy="94716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no harm in doubt and skepticism, for it is through these that new discoveries are m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solidFill>
            <a:srgbClr val="99cc00">
              <a:alpha val="62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33520" y="747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very real numb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15"/>
              <p:cNvSpPr txBox="1"/>
              <p:nvPr/>
            </p:nvSpPr>
            <p:spPr>
              <a:xfrm>
                <a:off x="990720" y="1295280"/>
                <a:ext cx="2743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±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5105520" y="1295280"/>
                <a:ext cx="2743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±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 Box 7"/>
          <p:cNvSpPr/>
          <p:nvPr/>
        </p:nvSpPr>
        <p:spPr>
          <a:xfrm>
            <a:off x="4114800" y="129528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6"/>
          <p:cNvGrpSpPr/>
          <p:nvPr/>
        </p:nvGrpSpPr>
        <p:grpSpPr>
          <a:xfrm>
            <a:off x="990720" y="2057400"/>
            <a:ext cx="6781680" cy="914400"/>
            <a:chOff x="990720" y="2057400"/>
            <a:chExt cx="6781680" cy="914400"/>
          </a:xfrm>
        </p:grpSpPr>
        <mc:AlternateContent>
          <mc:Choice xmlns:a14="http://schemas.microsoft.com/office/drawing/2010/main" Requires="a14">
            <p:sp>
              <p:nvSpPr>
                <p:cNvPr id="286" name="Object 18"/>
                <p:cNvSpPr txBox="1"/>
                <p:nvPr/>
              </p:nvSpPr>
              <p:spPr>
                <a:xfrm>
                  <a:off x="1676520" y="2467080"/>
                  <a:ext cx="12603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19"/>
                <p:cNvSpPr txBox="1"/>
                <p:nvPr/>
              </p:nvSpPr>
              <p:spPr>
                <a:xfrm>
                  <a:off x="5715000" y="2467080"/>
                  <a:ext cx="12603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Text Box 7"/>
            <p:cNvSpPr/>
            <p:nvPr/>
          </p:nvSpPr>
          <p:spPr>
            <a:xfrm>
              <a:off x="990720" y="20574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Order of 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4800600" y="20574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tive Prope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7"/>
          <p:cNvGrpSpPr/>
          <p:nvPr/>
        </p:nvGrpSpPr>
        <p:grpSpPr>
          <a:xfrm>
            <a:off x="990720" y="3809880"/>
            <a:ext cx="6781680" cy="914400"/>
            <a:chOff x="990720" y="3809880"/>
            <a:chExt cx="6781680" cy="914400"/>
          </a:xfrm>
        </p:grpSpPr>
        <mc:AlternateContent>
          <mc:Choice xmlns:a14="http://schemas.microsoft.com/office/drawing/2010/main" Requires="a14">
            <p:sp>
              <p:nvSpPr>
                <p:cNvPr id="291" name="Object 22"/>
                <p:cNvSpPr txBox="1"/>
                <p:nvPr/>
              </p:nvSpPr>
              <p:spPr>
                <a:xfrm>
                  <a:off x="1692360" y="4219560"/>
                  <a:ext cx="12286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Object 23"/>
                <p:cNvSpPr txBox="1"/>
                <p:nvPr/>
              </p:nvSpPr>
              <p:spPr>
                <a:xfrm>
                  <a:off x="5730840" y="4219560"/>
                  <a:ext cx="12286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Text Box 7"/>
            <p:cNvSpPr/>
            <p:nvPr/>
          </p:nvSpPr>
          <p:spPr>
            <a:xfrm>
              <a:off x="990720" y="38098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Order of 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4800600" y="38098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tive Prope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238"/>
          <p:cNvGrpSpPr/>
          <p:nvPr/>
        </p:nvGrpSpPr>
        <p:grpSpPr>
          <a:xfrm>
            <a:off x="1623960" y="2430360"/>
            <a:ext cx="6100920" cy="3481560"/>
            <a:chOff x="1623960" y="2430360"/>
            <a:chExt cx="6100920" cy="3481560"/>
          </a:xfrm>
        </p:grpSpPr>
        <p:sp>
          <p:nvSpPr>
            <p:cNvPr id="296" name="SMARTInkAnnotation254"/>
            <p:cNvSpPr/>
            <p:nvPr/>
          </p:nvSpPr>
          <p:spPr>
            <a:xfrm>
              <a:off x="1791000" y="3116160"/>
              <a:ext cx="53280" cy="266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3341" h="266701">
                  <a:moveTo>
                    <a:pt x="53340" y="0"/>
                  </a:moveTo>
                  <a:lnTo>
                    <a:pt x="53340" y="17167"/>
                  </a:lnTo>
                  <a:lnTo>
                    <a:pt x="52494" y="20758"/>
                  </a:lnTo>
                  <a:lnTo>
                    <a:pt x="51082" y="24845"/>
                  </a:lnTo>
                  <a:lnTo>
                    <a:pt x="49295" y="29264"/>
                  </a:lnTo>
                  <a:lnTo>
                    <a:pt x="47257" y="33902"/>
                  </a:lnTo>
                  <a:lnTo>
                    <a:pt x="42734" y="43572"/>
                  </a:lnTo>
                  <a:lnTo>
                    <a:pt x="40343" y="49368"/>
                  </a:lnTo>
                  <a:lnTo>
                    <a:pt x="37902" y="55772"/>
                  </a:lnTo>
                  <a:lnTo>
                    <a:pt x="35428" y="62581"/>
                  </a:lnTo>
                  <a:lnTo>
                    <a:pt x="32932" y="68814"/>
                  </a:lnTo>
                  <a:lnTo>
                    <a:pt x="30421" y="74663"/>
                  </a:lnTo>
                  <a:lnTo>
                    <a:pt x="27901" y="80255"/>
                  </a:lnTo>
                  <a:lnTo>
                    <a:pt x="25374" y="86524"/>
                  </a:lnTo>
                  <a:lnTo>
                    <a:pt x="20308" y="100262"/>
                  </a:lnTo>
                  <a:lnTo>
                    <a:pt x="17772" y="108328"/>
                  </a:lnTo>
                  <a:lnTo>
                    <a:pt x="12697" y="126321"/>
                  </a:lnTo>
                  <a:lnTo>
                    <a:pt x="11004" y="135014"/>
                  </a:lnTo>
                  <a:lnTo>
                    <a:pt x="9876" y="143349"/>
                  </a:lnTo>
                  <a:lnTo>
                    <a:pt x="9124" y="151446"/>
                  </a:lnTo>
                  <a:lnTo>
                    <a:pt x="7776" y="159384"/>
                  </a:lnTo>
                  <a:lnTo>
                    <a:pt x="6031" y="167216"/>
                  </a:lnTo>
                  <a:lnTo>
                    <a:pt x="4020" y="174977"/>
                  </a:lnTo>
                  <a:lnTo>
                    <a:pt x="2680" y="182691"/>
                  </a:lnTo>
                  <a:lnTo>
                    <a:pt x="1787" y="190374"/>
                  </a:lnTo>
                  <a:lnTo>
                    <a:pt x="1191" y="198036"/>
                  </a:lnTo>
                  <a:lnTo>
                    <a:pt x="794" y="204837"/>
                  </a:lnTo>
                  <a:lnTo>
                    <a:pt x="353" y="216910"/>
                  </a:lnTo>
                  <a:lnTo>
                    <a:pt x="70" y="243695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MARTInkAnnotation255"/>
            <p:cNvSpPr/>
            <p:nvPr/>
          </p:nvSpPr>
          <p:spPr>
            <a:xfrm>
              <a:off x="1989720" y="3078000"/>
              <a:ext cx="243000" cy="3427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43357" h="342901">
                  <a:moveTo>
                    <a:pt x="90956" y="0"/>
                  </a:moveTo>
                  <a:lnTo>
                    <a:pt x="82866" y="4045"/>
                  </a:lnTo>
                  <a:lnTo>
                    <a:pt x="80483" y="6084"/>
                  </a:lnTo>
                  <a:lnTo>
                    <a:pt x="78894" y="8289"/>
                  </a:lnTo>
                  <a:lnTo>
                    <a:pt x="76282" y="12997"/>
                  </a:lnTo>
                  <a:lnTo>
                    <a:pt x="70051" y="21255"/>
                  </a:lnTo>
                  <a:lnTo>
                    <a:pt x="61996" y="34896"/>
                  </a:lnTo>
                  <a:lnTo>
                    <a:pt x="53814" y="47683"/>
                  </a:lnTo>
                  <a:lnTo>
                    <a:pt x="39687" y="69162"/>
                  </a:lnTo>
                  <a:lnTo>
                    <a:pt x="34764" y="77435"/>
                  </a:lnTo>
                  <a:lnTo>
                    <a:pt x="29788" y="86336"/>
                  </a:lnTo>
                  <a:lnTo>
                    <a:pt x="24777" y="95657"/>
                  </a:lnTo>
                  <a:lnTo>
                    <a:pt x="20590" y="105258"/>
                  </a:lnTo>
                  <a:lnTo>
                    <a:pt x="16952" y="115045"/>
                  </a:lnTo>
                  <a:lnTo>
                    <a:pt x="13680" y="124957"/>
                  </a:lnTo>
                  <a:lnTo>
                    <a:pt x="10652" y="134951"/>
                  </a:lnTo>
                  <a:lnTo>
                    <a:pt x="5030" y="155087"/>
                  </a:lnTo>
                  <a:lnTo>
                    <a:pt x="3192" y="165198"/>
                  </a:lnTo>
                  <a:lnTo>
                    <a:pt x="1967" y="175326"/>
                  </a:lnTo>
                  <a:lnTo>
                    <a:pt x="1150" y="185464"/>
                  </a:lnTo>
                  <a:lnTo>
                    <a:pt x="605" y="195609"/>
                  </a:lnTo>
                  <a:lnTo>
                    <a:pt x="0" y="215913"/>
                  </a:lnTo>
                  <a:lnTo>
                    <a:pt x="1532" y="225222"/>
                  </a:lnTo>
                  <a:lnTo>
                    <a:pt x="4247" y="233968"/>
                  </a:lnTo>
                  <a:lnTo>
                    <a:pt x="7750" y="242339"/>
                  </a:lnTo>
                  <a:lnTo>
                    <a:pt x="10932" y="250459"/>
                  </a:lnTo>
                  <a:lnTo>
                    <a:pt x="16725" y="266255"/>
                  </a:lnTo>
                  <a:lnTo>
                    <a:pt x="21996" y="274024"/>
                  </a:lnTo>
                  <a:lnTo>
                    <a:pt x="28896" y="281742"/>
                  </a:lnTo>
                  <a:lnTo>
                    <a:pt x="36883" y="289428"/>
                  </a:lnTo>
                  <a:lnTo>
                    <a:pt x="44747" y="296245"/>
                  </a:lnTo>
                  <a:lnTo>
                    <a:pt x="52530" y="302483"/>
                  </a:lnTo>
                  <a:lnTo>
                    <a:pt x="60259" y="308336"/>
                  </a:lnTo>
                  <a:lnTo>
                    <a:pt x="69645" y="313084"/>
                  </a:lnTo>
                  <a:lnTo>
                    <a:pt x="80135" y="317096"/>
                  </a:lnTo>
                  <a:lnTo>
                    <a:pt x="91362" y="320617"/>
                  </a:lnTo>
                  <a:lnTo>
                    <a:pt x="103080" y="323812"/>
                  </a:lnTo>
                  <a:lnTo>
                    <a:pt x="115125" y="326788"/>
                  </a:lnTo>
                  <a:lnTo>
                    <a:pt x="127389" y="329619"/>
                  </a:lnTo>
                  <a:lnTo>
                    <a:pt x="154562" y="335022"/>
                  </a:lnTo>
                  <a:lnTo>
                    <a:pt x="168920" y="337648"/>
                  </a:lnTo>
                  <a:lnTo>
                    <a:pt x="180185" y="339399"/>
                  </a:lnTo>
                  <a:lnTo>
                    <a:pt x="189389" y="340566"/>
                  </a:lnTo>
                  <a:lnTo>
                    <a:pt x="197218" y="341344"/>
                  </a:lnTo>
                  <a:lnTo>
                    <a:pt x="205824" y="341862"/>
                  </a:lnTo>
                  <a:lnTo>
                    <a:pt x="243356" y="3429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MARTInkAnnotation256"/>
            <p:cNvSpPr/>
            <p:nvPr/>
          </p:nvSpPr>
          <p:spPr>
            <a:xfrm>
              <a:off x="2270880" y="3093480"/>
              <a:ext cx="189000" cy="3276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89166" h="327631">
                  <a:moveTo>
                    <a:pt x="0" y="7590"/>
                  </a:moveTo>
                  <a:lnTo>
                    <a:pt x="4045" y="7590"/>
                  </a:lnTo>
                  <a:lnTo>
                    <a:pt x="5237" y="8437"/>
                  </a:lnTo>
                  <a:lnTo>
                    <a:pt x="6031" y="9848"/>
                  </a:lnTo>
                  <a:lnTo>
                    <a:pt x="6561" y="11635"/>
                  </a:lnTo>
                  <a:lnTo>
                    <a:pt x="8607" y="12827"/>
                  </a:lnTo>
                  <a:lnTo>
                    <a:pt x="11665" y="13621"/>
                  </a:lnTo>
                  <a:lnTo>
                    <a:pt x="15397" y="14151"/>
                  </a:lnTo>
                  <a:lnTo>
                    <a:pt x="19578" y="14504"/>
                  </a:lnTo>
                  <a:lnTo>
                    <a:pt x="24059" y="14740"/>
                  </a:lnTo>
                  <a:lnTo>
                    <a:pt x="28739" y="14896"/>
                  </a:lnTo>
                  <a:lnTo>
                    <a:pt x="47462" y="15117"/>
                  </a:lnTo>
                  <a:lnTo>
                    <a:pt x="54502" y="14301"/>
                  </a:lnTo>
                  <a:lnTo>
                    <a:pt x="61734" y="12911"/>
                  </a:lnTo>
                  <a:lnTo>
                    <a:pt x="69096" y="11137"/>
                  </a:lnTo>
                  <a:lnTo>
                    <a:pt x="76544" y="9955"/>
                  </a:lnTo>
                  <a:lnTo>
                    <a:pt x="84050" y="9167"/>
                  </a:lnTo>
                  <a:lnTo>
                    <a:pt x="91593" y="8641"/>
                  </a:lnTo>
                  <a:lnTo>
                    <a:pt x="99162" y="7444"/>
                  </a:lnTo>
                  <a:lnTo>
                    <a:pt x="106748" y="5799"/>
                  </a:lnTo>
                  <a:lnTo>
                    <a:pt x="114345" y="3856"/>
                  </a:lnTo>
                  <a:lnTo>
                    <a:pt x="121950" y="2561"/>
                  </a:lnTo>
                  <a:lnTo>
                    <a:pt x="129560" y="1697"/>
                  </a:lnTo>
                  <a:lnTo>
                    <a:pt x="137173" y="1122"/>
                  </a:lnTo>
                  <a:lnTo>
                    <a:pt x="143942" y="738"/>
                  </a:lnTo>
                  <a:lnTo>
                    <a:pt x="155979" y="311"/>
                  </a:lnTo>
                  <a:lnTo>
                    <a:pt x="179738" y="0"/>
                  </a:lnTo>
                  <a:lnTo>
                    <a:pt x="181632" y="837"/>
                  </a:lnTo>
                  <a:lnTo>
                    <a:pt x="187496" y="5213"/>
                  </a:lnTo>
                  <a:lnTo>
                    <a:pt x="189165" y="6534"/>
                  </a:lnTo>
                  <a:lnTo>
                    <a:pt x="188763" y="7733"/>
                  </a:lnTo>
                  <a:lnTo>
                    <a:pt x="184153" y="14312"/>
                  </a:lnTo>
                  <a:lnTo>
                    <a:pt x="179777" y="22149"/>
                  </a:lnTo>
                  <a:lnTo>
                    <a:pt x="176578" y="25762"/>
                  </a:lnTo>
                  <a:lnTo>
                    <a:pt x="172752" y="29018"/>
                  </a:lnTo>
                  <a:lnTo>
                    <a:pt x="168508" y="32036"/>
                  </a:lnTo>
                  <a:lnTo>
                    <a:pt x="163986" y="36587"/>
                  </a:lnTo>
                  <a:lnTo>
                    <a:pt x="159277" y="42161"/>
                  </a:lnTo>
                  <a:lnTo>
                    <a:pt x="154444" y="48418"/>
                  </a:lnTo>
                  <a:lnTo>
                    <a:pt x="149530" y="55128"/>
                  </a:lnTo>
                  <a:lnTo>
                    <a:pt x="139553" y="69358"/>
                  </a:lnTo>
                  <a:lnTo>
                    <a:pt x="103285" y="122784"/>
                  </a:lnTo>
                  <a:lnTo>
                    <a:pt x="89931" y="141196"/>
                  </a:lnTo>
                  <a:lnTo>
                    <a:pt x="84507" y="150848"/>
                  </a:lnTo>
                  <a:lnTo>
                    <a:pt x="80045" y="160668"/>
                  </a:lnTo>
                  <a:lnTo>
                    <a:pt x="76223" y="170602"/>
                  </a:lnTo>
                  <a:lnTo>
                    <a:pt x="71982" y="180612"/>
                  </a:lnTo>
                  <a:lnTo>
                    <a:pt x="62755" y="200764"/>
                  </a:lnTo>
                  <a:lnTo>
                    <a:pt x="57923" y="210032"/>
                  </a:lnTo>
                  <a:lnTo>
                    <a:pt x="53009" y="218752"/>
                  </a:lnTo>
                  <a:lnTo>
                    <a:pt x="48039" y="227105"/>
                  </a:lnTo>
                  <a:lnTo>
                    <a:pt x="43880" y="235213"/>
                  </a:lnTo>
                  <a:lnTo>
                    <a:pt x="40260" y="243159"/>
                  </a:lnTo>
                  <a:lnTo>
                    <a:pt x="37000" y="250996"/>
                  </a:lnTo>
                  <a:lnTo>
                    <a:pt x="33980" y="258760"/>
                  </a:lnTo>
                  <a:lnTo>
                    <a:pt x="28367" y="274161"/>
                  </a:lnTo>
                  <a:lnTo>
                    <a:pt x="26531" y="280978"/>
                  </a:lnTo>
                  <a:lnTo>
                    <a:pt x="25308" y="287215"/>
                  </a:lnTo>
                  <a:lnTo>
                    <a:pt x="24492" y="293067"/>
                  </a:lnTo>
                  <a:lnTo>
                    <a:pt x="23101" y="298661"/>
                  </a:lnTo>
                  <a:lnTo>
                    <a:pt x="21327" y="304084"/>
                  </a:lnTo>
                  <a:lnTo>
                    <a:pt x="17946" y="313778"/>
                  </a:lnTo>
                  <a:lnTo>
                    <a:pt x="16443" y="320909"/>
                  </a:lnTo>
                  <a:lnTo>
                    <a:pt x="15195" y="323150"/>
                  </a:lnTo>
                  <a:lnTo>
                    <a:pt x="13517" y="324643"/>
                  </a:lnTo>
                  <a:lnTo>
                    <a:pt x="7620" y="3276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MARTInkAnnotation257"/>
            <p:cNvSpPr/>
            <p:nvPr/>
          </p:nvSpPr>
          <p:spPr>
            <a:xfrm>
              <a:off x="2248200" y="3283920"/>
              <a:ext cx="213120" cy="291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13361" h="29299">
                  <a:moveTo>
                    <a:pt x="0" y="0"/>
                  </a:moveTo>
                  <a:lnTo>
                    <a:pt x="4045" y="4046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9081" y="7760"/>
                  </a:lnTo>
                  <a:lnTo>
                    <a:pt x="23727" y="9407"/>
                  </a:lnTo>
                  <a:lnTo>
                    <a:pt x="28518" y="11352"/>
                  </a:lnTo>
                  <a:lnTo>
                    <a:pt x="33405" y="13495"/>
                  </a:lnTo>
                  <a:lnTo>
                    <a:pt x="43351" y="18133"/>
                  </a:lnTo>
                  <a:lnTo>
                    <a:pt x="50068" y="19709"/>
                  </a:lnTo>
                  <a:lnTo>
                    <a:pt x="57932" y="20759"/>
                  </a:lnTo>
                  <a:lnTo>
                    <a:pt x="66561" y="21459"/>
                  </a:lnTo>
                  <a:lnTo>
                    <a:pt x="74854" y="22773"/>
                  </a:lnTo>
                  <a:lnTo>
                    <a:pt x="82923" y="24495"/>
                  </a:lnTo>
                  <a:lnTo>
                    <a:pt x="90842" y="26490"/>
                  </a:lnTo>
                  <a:lnTo>
                    <a:pt x="98661" y="27820"/>
                  </a:lnTo>
                  <a:lnTo>
                    <a:pt x="106414" y="28707"/>
                  </a:lnTo>
                  <a:lnTo>
                    <a:pt x="114123" y="29298"/>
                  </a:lnTo>
                  <a:lnTo>
                    <a:pt x="122649" y="28845"/>
                  </a:lnTo>
                  <a:lnTo>
                    <a:pt x="131719" y="27697"/>
                  </a:lnTo>
                  <a:lnTo>
                    <a:pt x="141153" y="26085"/>
                  </a:lnTo>
                  <a:lnTo>
                    <a:pt x="149982" y="25010"/>
                  </a:lnTo>
                  <a:lnTo>
                    <a:pt x="158408" y="24293"/>
                  </a:lnTo>
                  <a:lnTo>
                    <a:pt x="166565" y="23815"/>
                  </a:lnTo>
                  <a:lnTo>
                    <a:pt x="173697" y="22650"/>
                  </a:lnTo>
                  <a:lnTo>
                    <a:pt x="180145" y="21027"/>
                  </a:lnTo>
                  <a:lnTo>
                    <a:pt x="186137" y="19098"/>
                  </a:lnTo>
                  <a:lnTo>
                    <a:pt x="191825" y="17812"/>
                  </a:lnTo>
                  <a:lnTo>
                    <a:pt x="197310" y="16955"/>
                  </a:lnTo>
                  <a:lnTo>
                    <a:pt x="21336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MARTInkAnnotation258"/>
            <p:cNvSpPr/>
            <p:nvPr/>
          </p:nvSpPr>
          <p:spPr>
            <a:xfrm>
              <a:off x="2552760" y="3062880"/>
              <a:ext cx="121320" cy="3427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21380" h="34290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6083" y="7760"/>
                  </a:lnTo>
                  <a:lnTo>
                    <a:pt x="8289" y="9407"/>
                  </a:lnTo>
                  <a:lnTo>
                    <a:pt x="10606" y="11352"/>
                  </a:lnTo>
                  <a:lnTo>
                    <a:pt x="13844" y="14341"/>
                  </a:lnTo>
                  <a:lnTo>
                    <a:pt x="26492" y="26639"/>
                  </a:lnTo>
                  <a:lnTo>
                    <a:pt x="50944" y="50963"/>
                  </a:lnTo>
                  <a:lnTo>
                    <a:pt x="55129" y="55989"/>
                  </a:lnTo>
                  <a:lnTo>
                    <a:pt x="58766" y="61032"/>
                  </a:lnTo>
                  <a:lnTo>
                    <a:pt x="74732" y="85340"/>
                  </a:lnTo>
                  <a:lnTo>
                    <a:pt x="78608" y="93300"/>
                  </a:lnTo>
                  <a:lnTo>
                    <a:pt x="82039" y="101993"/>
                  </a:lnTo>
                  <a:lnTo>
                    <a:pt x="93628" y="136234"/>
                  </a:lnTo>
                  <a:lnTo>
                    <a:pt x="97132" y="145010"/>
                  </a:lnTo>
                  <a:lnTo>
                    <a:pt x="101162" y="154246"/>
                  </a:lnTo>
                  <a:lnTo>
                    <a:pt x="105541" y="163791"/>
                  </a:lnTo>
                  <a:lnTo>
                    <a:pt x="109308" y="172694"/>
                  </a:lnTo>
                  <a:lnTo>
                    <a:pt x="112665" y="181169"/>
                  </a:lnTo>
                  <a:lnTo>
                    <a:pt x="115750" y="189360"/>
                  </a:lnTo>
                  <a:lnTo>
                    <a:pt x="117807" y="198206"/>
                  </a:lnTo>
                  <a:lnTo>
                    <a:pt x="119178" y="207491"/>
                  </a:lnTo>
                  <a:lnTo>
                    <a:pt x="120092" y="217068"/>
                  </a:lnTo>
                  <a:lnTo>
                    <a:pt x="120702" y="225991"/>
                  </a:lnTo>
                  <a:lnTo>
                    <a:pt x="121108" y="234481"/>
                  </a:lnTo>
                  <a:lnTo>
                    <a:pt x="121379" y="242681"/>
                  </a:lnTo>
                  <a:lnTo>
                    <a:pt x="120713" y="250687"/>
                  </a:lnTo>
                  <a:lnTo>
                    <a:pt x="119422" y="258565"/>
                  </a:lnTo>
                  <a:lnTo>
                    <a:pt x="117715" y="266356"/>
                  </a:lnTo>
                  <a:lnTo>
                    <a:pt x="114883" y="273244"/>
                  </a:lnTo>
                  <a:lnTo>
                    <a:pt x="111302" y="279530"/>
                  </a:lnTo>
                  <a:lnTo>
                    <a:pt x="107222" y="285413"/>
                  </a:lnTo>
                  <a:lnTo>
                    <a:pt x="103655" y="291029"/>
                  </a:lnTo>
                  <a:lnTo>
                    <a:pt x="100430" y="296466"/>
                  </a:lnTo>
                  <a:lnTo>
                    <a:pt x="97433" y="301784"/>
                  </a:lnTo>
                  <a:lnTo>
                    <a:pt x="93742" y="307023"/>
                  </a:lnTo>
                  <a:lnTo>
                    <a:pt x="89588" y="312209"/>
                  </a:lnTo>
                  <a:lnTo>
                    <a:pt x="85125" y="317359"/>
                  </a:lnTo>
                  <a:lnTo>
                    <a:pt x="80457" y="321639"/>
                  </a:lnTo>
                  <a:lnTo>
                    <a:pt x="75652" y="325339"/>
                  </a:lnTo>
                  <a:lnTo>
                    <a:pt x="70755" y="328653"/>
                  </a:lnTo>
                  <a:lnTo>
                    <a:pt x="65796" y="331709"/>
                  </a:lnTo>
                  <a:lnTo>
                    <a:pt x="60798" y="334593"/>
                  </a:lnTo>
                  <a:lnTo>
                    <a:pt x="45720" y="3429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MARTInkAnnotation259"/>
            <p:cNvSpPr/>
            <p:nvPr/>
          </p:nvSpPr>
          <p:spPr>
            <a:xfrm>
              <a:off x="1851840" y="3627000"/>
              <a:ext cx="251280" cy="1828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51461" h="182881">
                  <a:moveTo>
                    <a:pt x="0" y="30480"/>
                  </a:moveTo>
                  <a:lnTo>
                    <a:pt x="0" y="23174"/>
                  </a:lnTo>
                  <a:lnTo>
                    <a:pt x="4045" y="18908"/>
                  </a:lnTo>
                  <a:lnTo>
                    <a:pt x="10547" y="14612"/>
                  </a:lnTo>
                  <a:lnTo>
                    <a:pt x="14651" y="12281"/>
                  </a:lnTo>
                  <a:lnTo>
                    <a:pt x="23727" y="7434"/>
                  </a:lnTo>
                  <a:lnTo>
                    <a:pt x="28518" y="4956"/>
                  </a:lnTo>
                  <a:lnTo>
                    <a:pt x="34252" y="3304"/>
                  </a:lnTo>
                  <a:lnTo>
                    <a:pt x="40615" y="2203"/>
                  </a:lnTo>
                  <a:lnTo>
                    <a:pt x="47397" y="1469"/>
                  </a:lnTo>
                  <a:lnTo>
                    <a:pt x="55304" y="979"/>
                  </a:lnTo>
                  <a:lnTo>
                    <a:pt x="73122" y="435"/>
                  </a:lnTo>
                  <a:lnTo>
                    <a:pt x="116152" y="57"/>
                  </a:lnTo>
                  <a:lnTo>
                    <a:pt x="206299" y="0"/>
                  </a:lnTo>
                  <a:lnTo>
                    <a:pt x="208653" y="847"/>
                  </a:lnTo>
                  <a:lnTo>
                    <a:pt x="210222" y="2258"/>
                  </a:lnTo>
                  <a:lnTo>
                    <a:pt x="211268" y="4046"/>
                  </a:lnTo>
                  <a:lnTo>
                    <a:pt x="212430" y="8289"/>
                  </a:lnTo>
                  <a:lnTo>
                    <a:pt x="212740" y="10606"/>
                  </a:lnTo>
                  <a:lnTo>
                    <a:pt x="211254" y="12997"/>
                  </a:lnTo>
                  <a:lnTo>
                    <a:pt x="205086" y="17912"/>
                  </a:lnTo>
                  <a:lnTo>
                    <a:pt x="201071" y="20408"/>
                  </a:lnTo>
                  <a:lnTo>
                    <a:pt x="196700" y="22919"/>
                  </a:lnTo>
                  <a:lnTo>
                    <a:pt x="192094" y="25439"/>
                  </a:lnTo>
                  <a:lnTo>
                    <a:pt x="169429" y="37077"/>
                  </a:lnTo>
                  <a:lnTo>
                    <a:pt x="161213" y="41651"/>
                  </a:lnTo>
                  <a:lnTo>
                    <a:pt x="153195" y="46395"/>
                  </a:lnTo>
                  <a:lnTo>
                    <a:pt x="145311" y="51250"/>
                  </a:lnTo>
                  <a:lnTo>
                    <a:pt x="136667" y="56180"/>
                  </a:lnTo>
                  <a:lnTo>
                    <a:pt x="118032" y="66173"/>
                  </a:lnTo>
                  <a:lnTo>
                    <a:pt x="110015" y="71209"/>
                  </a:lnTo>
                  <a:lnTo>
                    <a:pt x="102977" y="76259"/>
                  </a:lnTo>
                  <a:lnTo>
                    <a:pt x="96591" y="81320"/>
                  </a:lnTo>
                  <a:lnTo>
                    <a:pt x="89794" y="86386"/>
                  </a:lnTo>
                  <a:lnTo>
                    <a:pt x="75469" y="96531"/>
                  </a:lnTo>
                  <a:lnTo>
                    <a:pt x="69786" y="101608"/>
                  </a:lnTo>
                  <a:lnTo>
                    <a:pt x="65151" y="106685"/>
                  </a:lnTo>
                  <a:lnTo>
                    <a:pt x="61214" y="111763"/>
                  </a:lnTo>
                  <a:lnTo>
                    <a:pt x="57742" y="116842"/>
                  </a:lnTo>
                  <a:lnTo>
                    <a:pt x="54582" y="121922"/>
                  </a:lnTo>
                  <a:lnTo>
                    <a:pt x="51628" y="127001"/>
                  </a:lnTo>
                  <a:lnTo>
                    <a:pt x="50505" y="132081"/>
                  </a:lnTo>
                  <a:lnTo>
                    <a:pt x="50604" y="137161"/>
                  </a:lnTo>
                  <a:lnTo>
                    <a:pt x="51516" y="142240"/>
                  </a:lnTo>
                  <a:lnTo>
                    <a:pt x="54664" y="147320"/>
                  </a:lnTo>
                  <a:lnTo>
                    <a:pt x="59302" y="152400"/>
                  </a:lnTo>
                  <a:lnTo>
                    <a:pt x="64935" y="157480"/>
                  </a:lnTo>
                  <a:lnTo>
                    <a:pt x="70384" y="161713"/>
                  </a:lnTo>
                  <a:lnTo>
                    <a:pt x="75709" y="165383"/>
                  </a:lnTo>
                  <a:lnTo>
                    <a:pt x="80953" y="168675"/>
                  </a:lnTo>
                  <a:lnTo>
                    <a:pt x="87835" y="171717"/>
                  </a:lnTo>
                  <a:lnTo>
                    <a:pt x="95810" y="174591"/>
                  </a:lnTo>
                  <a:lnTo>
                    <a:pt x="104514" y="177354"/>
                  </a:lnTo>
                  <a:lnTo>
                    <a:pt x="113702" y="179196"/>
                  </a:lnTo>
                  <a:lnTo>
                    <a:pt x="123215" y="180424"/>
                  </a:lnTo>
                  <a:lnTo>
                    <a:pt x="132943" y="181243"/>
                  </a:lnTo>
                  <a:lnTo>
                    <a:pt x="144509" y="181789"/>
                  </a:lnTo>
                  <a:lnTo>
                    <a:pt x="170906" y="182395"/>
                  </a:lnTo>
                  <a:lnTo>
                    <a:pt x="25146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MARTInkAnnotation260"/>
            <p:cNvSpPr/>
            <p:nvPr/>
          </p:nvSpPr>
          <p:spPr>
            <a:xfrm>
              <a:off x="2286720" y="3573720"/>
              <a:ext cx="141840" cy="11808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42151" h="118177">
                  <a:moveTo>
                    <a:pt x="90771" y="22860"/>
                  </a:moveTo>
                  <a:lnTo>
                    <a:pt x="90771" y="15268"/>
                  </a:lnTo>
                  <a:lnTo>
                    <a:pt x="86726" y="15248"/>
                  </a:lnTo>
                  <a:lnTo>
                    <a:pt x="83841" y="16092"/>
                  </a:lnTo>
                  <a:lnTo>
                    <a:pt x="80225" y="17501"/>
                  </a:lnTo>
                  <a:lnTo>
                    <a:pt x="76120" y="19288"/>
                  </a:lnTo>
                  <a:lnTo>
                    <a:pt x="72537" y="21325"/>
                  </a:lnTo>
                  <a:lnTo>
                    <a:pt x="69302" y="23530"/>
                  </a:lnTo>
                  <a:lnTo>
                    <a:pt x="66298" y="25847"/>
                  </a:lnTo>
                  <a:lnTo>
                    <a:pt x="62603" y="29085"/>
                  </a:lnTo>
                  <a:lnTo>
                    <a:pt x="58445" y="32937"/>
                  </a:lnTo>
                  <a:lnTo>
                    <a:pt x="53981" y="37198"/>
                  </a:lnTo>
                  <a:lnTo>
                    <a:pt x="49311" y="40885"/>
                  </a:lnTo>
                  <a:lnTo>
                    <a:pt x="44504" y="44190"/>
                  </a:lnTo>
                  <a:lnTo>
                    <a:pt x="33801" y="50967"/>
                  </a:lnTo>
                  <a:lnTo>
                    <a:pt x="20578" y="59623"/>
                  </a:lnTo>
                  <a:lnTo>
                    <a:pt x="15189" y="64302"/>
                  </a:lnTo>
                  <a:lnTo>
                    <a:pt x="10750" y="69115"/>
                  </a:lnTo>
                  <a:lnTo>
                    <a:pt x="6944" y="74016"/>
                  </a:lnTo>
                  <a:lnTo>
                    <a:pt x="4406" y="78131"/>
                  </a:lnTo>
                  <a:lnTo>
                    <a:pt x="2715" y="81721"/>
                  </a:lnTo>
                  <a:lnTo>
                    <a:pt x="1587" y="84961"/>
                  </a:lnTo>
                  <a:lnTo>
                    <a:pt x="835" y="87967"/>
                  </a:lnTo>
                  <a:lnTo>
                    <a:pt x="334" y="90818"/>
                  </a:lnTo>
                  <a:lnTo>
                    <a:pt x="0" y="93566"/>
                  </a:lnTo>
                  <a:lnTo>
                    <a:pt x="623" y="97091"/>
                  </a:lnTo>
                  <a:lnTo>
                    <a:pt x="1886" y="101134"/>
                  </a:lnTo>
                  <a:lnTo>
                    <a:pt x="3574" y="105523"/>
                  </a:lnTo>
                  <a:lnTo>
                    <a:pt x="7240" y="108448"/>
                  </a:lnTo>
                  <a:lnTo>
                    <a:pt x="12224" y="110399"/>
                  </a:lnTo>
                  <a:lnTo>
                    <a:pt x="18086" y="111699"/>
                  </a:lnTo>
                  <a:lnTo>
                    <a:pt x="23688" y="113413"/>
                  </a:lnTo>
                  <a:lnTo>
                    <a:pt x="29116" y="115402"/>
                  </a:lnTo>
                  <a:lnTo>
                    <a:pt x="34427" y="117575"/>
                  </a:lnTo>
                  <a:lnTo>
                    <a:pt x="40509" y="118176"/>
                  </a:lnTo>
                  <a:lnTo>
                    <a:pt x="47103" y="117731"/>
                  </a:lnTo>
                  <a:lnTo>
                    <a:pt x="54039" y="116587"/>
                  </a:lnTo>
                  <a:lnTo>
                    <a:pt x="61203" y="115825"/>
                  </a:lnTo>
                  <a:lnTo>
                    <a:pt x="68519" y="115317"/>
                  </a:lnTo>
                  <a:lnTo>
                    <a:pt x="75937" y="114978"/>
                  </a:lnTo>
                  <a:lnTo>
                    <a:pt x="82575" y="113059"/>
                  </a:lnTo>
                  <a:lnTo>
                    <a:pt x="88694" y="110086"/>
                  </a:lnTo>
                  <a:lnTo>
                    <a:pt x="94466" y="106411"/>
                  </a:lnTo>
                  <a:lnTo>
                    <a:pt x="100008" y="103114"/>
                  </a:lnTo>
                  <a:lnTo>
                    <a:pt x="105396" y="100069"/>
                  </a:lnTo>
                  <a:lnTo>
                    <a:pt x="110681" y="97193"/>
                  </a:lnTo>
                  <a:lnTo>
                    <a:pt x="115898" y="93582"/>
                  </a:lnTo>
                  <a:lnTo>
                    <a:pt x="121069" y="89482"/>
                  </a:lnTo>
                  <a:lnTo>
                    <a:pt x="126210" y="85054"/>
                  </a:lnTo>
                  <a:lnTo>
                    <a:pt x="130483" y="80410"/>
                  </a:lnTo>
                  <a:lnTo>
                    <a:pt x="134180" y="75620"/>
                  </a:lnTo>
                  <a:lnTo>
                    <a:pt x="137490" y="70733"/>
                  </a:lnTo>
                  <a:lnTo>
                    <a:pt x="139697" y="65782"/>
                  </a:lnTo>
                  <a:lnTo>
                    <a:pt x="141169" y="60788"/>
                  </a:lnTo>
                  <a:lnTo>
                    <a:pt x="142150" y="55766"/>
                  </a:lnTo>
                  <a:lnTo>
                    <a:pt x="141957" y="50724"/>
                  </a:lnTo>
                  <a:lnTo>
                    <a:pt x="140982" y="45669"/>
                  </a:lnTo>
                  <a:lnTo>
                    <a:pt x="139485" y="40606"/>
                  </a:lnTo>
                  <a:lnTo>
                    <a:pt x="138487" y="35537"/>
                  </a:lnTo>
                  <a:lnTo>
                    <a:pt x="137822" y="30465"/>
                  </a:lnTo>
                  <a:lnTo>
                    <a:pt x="137378" y="25390"/>
                  </a:lnTo>
                  <a:lnTo>
                    <a:pt x="135389" y="21160"/>
                  </a:lnTo>
                  <a:lnTo>
                    <a:pt x="132370" y="17493"/>
                  </a:lnTo>
                  <a:lnTo>
                    <a:pt x="128664" y="14203"/>
                  </a:lnTo>
                  <a:lnTo>
                    <a:pt x="124500" y="11162"/>
                  </a:lnTo>
                  <a:lnTo>
                    <a:pt x="120030" y="8287"/>
                  </a:lnTo>
                  <a:lnTo>
                    <a:pt x="115357" y="5525"/>
                  </a:lnTo>
                  <a:lnTo>
                    <a:pt x="111395" y="3683"/>
                  </a:lnTo>
                  <a:lnTo>
                    <a:pt x="107907" y="2456"/>
                  </a:lnTo>
                  <a:lnTo>
                    <a:pt x="104735" y="1637"/>
                  </a:lnTo>
                  <a:lnTo>
                    <a:pt x="101774" y="1091"/>
                  </a:lnTo>
                  <a:lnTo>
                    <a:pt x="98953" y="727"/>
                  </a:lnTo>
                  <a:lnTo>
                    <a:pt x="9077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MARTInkAnnotation261"/>
            <p:cNvSpPr/>
            <p:nvPr/>
          </p:nvSpPr>
          <p:spPr>
            <a:xfrm>
              <a:off x="2294280" y="3733920"/>
              <a:ext cx="169200" cy="1062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9297" h="106199">
                  <a:moveTo>
                    <a:pt x="90862" y="7620"/>
                  </a:moveTo>
                  <a:lnTo>
                    <a:pt x="90862" y="1060"/>
                  </a:lnTo>
                  <a:lnTo>
                    <a:pt x="90015" y="706"/>
                  </a:lnTo>
                  <a:lnTo>
                    <a:pt x="86817" y="314"/>
                  </a:lnTo>
                  <a:lnTo>
                    <a:pt x="83932" y="1056"/>
                  </a:lnTo>
                  <a:lnTo>
                    <a:pt x="80315" y="2397"/>
                  </a:lnTo>
                  <a:lnTo>
                    <a:pt x="76211" y="4139"/>
                  </a:lnTo>
                  <a:lnTo>
                    <a:pt x="67135" y="8330"/>
                  </a:lnTo>
                  <a:lnTo>
                    <a:pt x="47511" y="17920"/>
                  </a:lnTo>
                  <a:lnTo>
                    <a:pt x="42488" y="21260"/>
                  </a:lnTo>
                  <a:lnTo>
                    <a:pt x="37446" y="25180"/>
                  </a:lnTo>
                  <a:lnTo>
                    <a:pt x="32391" y="29487"/>
                  </a:lnTo>
                  <a:lnTo>
                    <a:pt x="27328" y="34051"/>
                  </a:lnTo>
                  <a:lnTo>
                    <a:pt x="17187" y="43638"/>
                  </a:lnTo>
                  <a:lnTo>
                    <a:pt x="6002" y="54510"/>
                  </a:lnTo>
                  <a:lnTo>
                    <a:pt x="3809" y="58354"/>
                  </a:lnTo>
                  <a:lnTo>
                    <a:pt x="2347" y="62609"/>
                  </a:lnTo>
                  <a:lnTo>
                    <a:pt x="1372" y="67140"/>
                  </a:lnTo>
                  <a:lnTo>
                    <a:pt x="722" y="71853"/>
                  </a:lnTo>
                  <a:lnTo>
                    <a:pt x="288" y="76689"/>
                  </a:lnTo>
                  <a:lnTo>
                    <a:pt x="0" y="81606"/>
                  </a:lnTo>
                  <a:lnTo>
                    <a:pt x="1500" y="85731"/>
                  </a:lnTo>
                  <a:lnTo>
                    <a:pt x="4194" y="89327"/>
                  </a:lnTo>
                  <a:lnTo>
                    <a:pt x="7684" y="92571"/>
                  </a:lnTo>
                  <a:lnTo>
                    <a:pt x="11703" y="95581"/>
                  </a:lnTo>
                  <a:lnTo>
                    <a:pt x="16076" y="98434"/>
                  </a:lnTo>
                  <a:lnTo>
                    <a:pt x="20685" y="101183"/>
                  </a:lnTo>
                  <a:lnTo>
                    <a:pt x="26297" y="103015"/>
                  </a:lnTo>
                  <a:lnTo>
                    <a:pt x="32579" y="104237"/>
                  </a:lnTo>
                  <a:lnTo>
                    <a:pt x="39306" y="105051"/>
                  </a:lnTo>
                  <a:lnTo>
                    <a:pt x="47178" y="105594"/>
                  </a:lnTo>
                  <a:lnTo>
                    <a:pt x="55813" y="105956"/>
                  </a:lnTo>
                  <a:lnTo>
                    <a:pt x="64956" y="106198"/>
                  </a:lnTo>
                  <a:lnTo>
                    <a:pt x="73591" y="105512"/>
                  </a:lnTo>
                  <a:lnTo>
                    <a:pt x="81888" y="104208"/>
                  </a:lnTo>
                  <a:lnTo>
                    <a:pt x="89960" y="102492"/>
                  </a:lnTo>
                  <a:lnTo>
                    <a:pt x="97880" y="100502"/>
                  </a:lnTo>
                  <a:lnTo>
                    <a:pt x="105701" y="98328"/>
                  </a:lnTo>
                  <a:lnTo>
                    <a:pt x="121164" y="93654"/>
                  </a:lnTo>
                  <a:lnTo>
                    <a:pt x="136502" y="88755"/>
                  </a:lnTo>
                  <a:lnTo>
                    <a:pt x="143302" y="85417"/>
                  </a:lnTo>
                  <a:lnTo>
                    <a:pt x="149529" y="81498"/>
                  </a:lnTo>
                  <a:lnTo>
                    <a:pt x="155373" y="77192"/>
                  </a:lnTo>
                  <a:lnTo>
                    <a:pt x="160116" y="72628"/>
                  </a:lnTo>
                  <a:lnTo>
                    <a:pt x="164125" y="67892"/>
                  </a:lnTo>
                  <a:lnTo>
                    <a:pt x="167644" y="63042"/>
                  </a:lnTo>
                  <a:lnTo>
                    <a:pt x="169143" y="58961"/>
                  </a:lnTo>
                  <a:lnTo>
                    <a:pt x="169296" y="55394"/>
                  </a:lnTo>
                  <a:lnTo>
                    <a:pt x="168551" y="52169"/>
                  </a:lnTo>
                  <a:lnTo>
                    <a:pt x="166362" y="48327"/>
                  </a:lnTo>
                  <a:lnTo>
                    <a:pt x="163208" y="44071"/>
                  </a:lnTo>
                  <a:lnTo>
                    <a:pt x="159413" y="39541"/>
                  </a:lnTo>
                  <a:lnTo>
                    <a:pt x="155189" y="34827"/>
                  </a:lnTo>
                  <a:lnTo>
                    <a:pt x="145981" y="25074"/>
                  </a:lnTo>
                  <a:lnTo>
                    <a:pt x="140308" y="20949"/>
                  </a:lnTo>
                  <a:lnTo>
                    <a:pt x="133986" y="17353"/>
                  </a:lnTo>
                  <a:lnTo>
                    <a:pt x="127231" y="14109"/>
                  </a:lnTo>
                  <a:lnTo>
                    <a:pt x="120188" y="11099"/>
                  </a:lnTo>
                  <a:lnTo>
                    <a:pt x="112953" y="8246"/>
                  </a:lnTo>
                  <a:lnTo>
                    <a:pt x="105589" y="5497"/>
                  </a:lnTo>
                  <a:lnTo>
                    <a:pt x="98987" y="3665"/>
                  </a:lnTo>
                  <a:lnTo>
                    <a:pt x="92892" y="2444"/>
                  </a:lnTo>
                  <a:lnTo>
                    <a:pt x="87135" y="1629"/>
                  </a:lnTo>
                  <a:lnTo>
                    <a:pt x="81604" y="1086"/>
                  </a:lnTo>
                  <a:lnTo>
                    <a:pt x="76224" y="724"/>
                  </a:lnTo>
                  <a:lnTo>
                    <a:pt x="6038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MARTInkAnnotation262"/>
            <p:cNvSpPr/>
            <p:nvPr/>
          </p:nvSpPr>
          <p:spPr>
            <a:xfrm>
              <a:off x="1623960" y="3098880"/>
              <a:ext cx="174600" cy="146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174844" h="146983">
                  <a:moveTo>
                    <a:pt x="30063" y="0"/>
                  </a:moveTo>
                  <a:lnTo>
                    <a:pt x="30063" y="16581"/>
                  </a:lnTo>
                  <a:lnTo>
                    <a:pt x="29216" y="21116"/>
                  </a:lnTo>
                  <a:lnTo>
                    <a:pt x="27805" y="25832"/>
                  </a:lnTo>
                  <a:lnTo>
                    <a:pt x="26018" y="30669"/>
                  </a:lnTo>
                  <a:lnTo>
                    <a:pt x="23979" y="35587"/>
                  </a:lnTo>
                  <a:lnTo>
                    <a:pt x="21774" y="40560"/>
                  </a:lnTo>
                  <a:lnTo>
                    <a:pt x="19457" y="45568"/>
                  </a:lnTo>
                  <a:lnTo>
                    <a:pt x="17912" y="49753"/>
                  </a:lnTo>
                  <a:lnTo>
                    <a:pt x="16883" y="53390"/>
                  </a:lnTo>
                  <a:lnTo>
                    <a:pt x="16196" y="56662"/>
                  </a:lnTo>
                  <a:lnTo>
                    <a:pt x="14892" y="60536"/>
                  </a:lnTo>
                  <a:lnTo>
                    <a:pt x="13176" y="64812"/>
                  </a:lnTo>
                  <a:lnTo>
                    <a:pt x="11185" y="69356"/>
                  </a:lnTo>
                  <a:lnTo>
                    <a:pt x="6715" y="78921"/>
                  </a:lnTo>
                  <a:lnTo>
                    <a:pt x="4338" y="83842"/>
                  </a:lnTo>
                  <a:lnTo>
                    <a:pt x="2753" y="88816"/>
                  </a:lnTo>
                  <a:lnTo>
                    <a:pt x="1696" y="93826"/>
                  </a:lnTo>
                  <a:lnTo>
                    <a:pt x="992" y="98858"/>
                  </a:lnTo>
                  <a:lnTo>
                    <a:pt x="522" y="103060"/>
                  </a:lnTo>
                  <a:lnTo>
                    <a:pt x="209" y="106709"/>
                  </a:lnTo>
                  <a:lnTo>
                    <a:pt x="0" y="109987"/>
                  </a:lnTo>
                  <a:lnTo>
                    <a:pt x="1554" y="113866"/>
                  </a:lnTo>
                  <a:lnTo>
                    <a:pt x="4284" y="118145"/>
                  </a:lnTo>
                  <a:lnTo>
                    <a:pt x="7797" y="122692"/>
                  </a:lnTo>
                  <a:lnTo>
                    <a:pt x="10986" y="126569"/>
                  </a:lnTo>
                  <a:lnTo>
                    <a:pt x="13958" y="130001"/>
                  </a:lnTo>
                  <a:lnTo>
                    <a:pt x="16786" y="133135"/>
                  </a:lnTo>
                  <a:lnTo>
                    <a:pt x="20365" y="136072"/>
                  </a:lnTo>
                  <a:lnTo>
                    <a:pt x="24444" y="138876"/>
                  </a:lnTo>
                  <a:lnTo>
                    <a:pt x="28857" y="141592"/>
                  </a:lnTo>
                  <a:lnTo>
                    <a:pt x="34339" y="143403"/>
                  </a:lnTo>
                  <a:lnTo>
                    <a:pt x="40534" y="144610"/>
                  </a:lnTo>
                  <a:lnTo>
                    <a:pt x="47203" y="145415"/>
                  </a:lnTo>
                  <a:lnTo>
                    <a:pt x="53344" y="145951"/>
                  </a:lnTo>
                  <a:lnTo>
                    <a:pt x="59130" y="146309"/>
                  </a:lnTo>
                  <a:lnTo>
                    <a:pt x="64681" y="146547"/>
                  </a:lnTo>
                  <a:lnTo>
                    <a:pt x="77622" y="146812"/>
                  </a:lnTo>
                  <a:lnTo>
                    <a:pt x="106627" y="146982"/>
                  </a:lnTo>
                  <a:lnTo>
                    <a:pt x="113278" y="146150"/>
                  </a:lnTo>
                  <a:lnTo>
                    <a:pt x="119407" y="144748"/>
                  </a:lnTo>
                  <a:lnTo>
                    <a:pt x="131578" y="140933"/>
                  </a:lnTo>
                  <a:lnTo>
                    <a:pt x="145454" y="136415"/>
                  </a:lnTo>
                  <a:lnTo>
                    <a:pt x="151864" y="134871"/>
                  </a:lnTo>
                  <a:lnTo>
                    <a:pt x="157830" y="133842"/>
                  </a:lnTo>
                  <a:lnTo>
                    <a:pt x="174843" y="1317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MARTInkAnnotation263"/>
            <p:cNvSpPr/>
            <p:nvPr/>
          </p:nvSpPr>
          <p:spPr>
            <a:xfrm>
              <a:off x="5722560" y="2453040"/>
              <a:ext cx="502560" cy="18288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182880"/>
                <a:gd name="textAreaBottom" fmla="*/ 182880 h 182880"/>
              </a:gdLst>
              <a:ahLst/>
              <a:rect l="textAreaLeft" t="textAreaTop" r="textAreaRight" b="textAreaBottom"/>
              <a:pathLst>
                <a:path w="502922" h="182880">
                  <a:moveTo>
                    <a:pt x="0" y="182879"/>
                  </a:moveTo>
                  <a:lnTo>
                    <a:pt x="4045" y="182879"/>
                  </a:lnTo>
                  <a:lnTo>
                    <a:pt x="5237" y="182032"/>
                  </a:lnTo>
                  <a:lnTo>
                    <a:pt x="6032" y="180621"/>
                  </a:lnTo>
                  <a:lnTo>
                    <a:pt x="7306" y="176318"/>
                  </a:lnTo>
                  <a:lnTo>
                    <a:pt x="7481" y="171214"/>
                  </a:lnTo>
                  <a:lnTo>
                    <a:pt x="7528" y="167483"/>
                  </a:lnTo>
                  <a:lnTo>
                    <a:pt x="8405" y="164148"/>
                  </a:lnTo>
                  <a:lnTo>
                    <a:pt x="9836" y="161078"/>
                  </a:lnTo>
                  <a:lnTo>
                    <a:pt x="11637" y="158185"/>
                  </a:lnTo>
                  <a:lnTo>
                    <a:pt x="13640" y="152713"/>
                  </a:lnTo>
                  <a:lnTo>
                    <a:pt x="14529" y="147459"/>
                  </a:lnTo>
                  <a:lnTo>
                    <a:pt x="14924" y="142301"/>
                  </a:lnTo>
                  <a:lnTo>
                    <a:pt x="15877" y="139740"/>
                  </a:lnTo>
                  <a:lnTo>
                    <a:pt x="19192" y="134637"/>
                  </a:lnTo>
                  <a:lnTo>
                    <a:pt x="21262" y="131244"/>
                  </a:lnTo>
                  <a:lnTo>
                    <a:pt x="23487" y="127289"/>
                  </a:lnTo>
                  <a:lnTo>
                    <a:pt x="25818" y="122959"/>
                  </a:lnTo>
                  <a:lnTo>
                    <a:pt x="28219" y="119226"/>
                  </a:lnTo>
                  <a:lnTo>
                    <a:pt x="30666" y="115890"/>
                  </a:lnTo>
                  <a:lnTo>
                    <a:pt x="33144" y="112820"/>
                  </a:lnTo>
                  <a:lnTo>
                    <a:pt x="35898" y="107151"/>
                  </a:lnTo>
                  <a:lnTo>
                    <a:pt x="36632" y="104453"/>
                  </a:lnTo>
                  <a:lnTo>
                    <a:pt x="38815" y="101809"/>
                  </a:lnTo>
                  <a:lnTo>
                    <a:pt x="45756" y="96612"/>
                  </a:lnTo>
                  <a:lnTo>
                    <a:pt x="49130" y="93194"/>
                  </a:lnTo>
                  <a:lnTo>
                    <a:pt x="52227" y="89223"/>
                  </a:lnTo>
                  <a:lnTo>
                    <a:pt x="55138" y="84882"/>
                  </a:lnTo>
                  <a:lnTo>
                    <a:pt x="57926" y="81141"/>
                  </a:lnTo>
                  <a:lnTo>
                    <a:pt x="60630" y="77800"/>
                  </a:lnTo>
                  <a:lnTo>
                    <a:pt x="63280" y="74727"/>
                  </a:lnTo>
                  <a:lnTo>
                    <a:pt x="70740" y="69053"/>
                  </a:lnTo>
                  <a:lnTo>
                    <a:pt x="79701" y="63710"/>
                  </a:lnTo>
                  <a:lnTo>
                    <a:pt x="89327" y="58513"/>
                  </a:lnTo>
                  <a:lnTo>
                    <a:pt x="96993" y="53381"/>
                  </a:lnTo>
                  <a:lnTo>
                    <a:pt x="104068" y="48277"/>
                  </a:lnTo>
                  <a:lnTo>
                    <a:pt x="112857" y="43187"/>
                  </a:lnTo>
                  <a:lnTo>
                    <a:pt x="122407" y="38103"/>
                  </a:lnTo>
                  <a:lnTo>
                    <a:pt x="157509" y="20319"/>
                  </a:lnTo>
                  <a:lnTo>
                    <a:pt x="167653" y="17497"/>
                  </a:lnTo>
                  <a:lnTo>
                    <a:pt x="177806" y="15396"/>
                  </a:lnTo>
                  <a:lnTo>
                    <a:pt x="192195" y="10299"/>
                  </a:lnTo>
                  <a:lnTo>
                    <a:pt x="203891" y="7567"/>
                  </a:lnTo>
                  <a:lnTo>
                    <a:pt x="215925" y="3927"/>
                  </a:lnTo>
                  <a:lnTo>
                    <a:pt x="227482" y="1745"/>
                  </a:lnTo>
                  <a:lnTo>
                    <a:pt x="238263" y="775"/>
                  </a:lnTo>
                  <a:lnTo>
                    <a:pt x="253853" y="229"/>
                  </a:lnTo>
                  <a:lnTo>
                    <a:pt x="294635" y="8"/>
                  </a:lnTo>
                  <a:lnTo>
                    <a:pt x="325119" y="0"/>
                  </a:lnTo>
                  <a:lnTo>
                    <a:pt x="337537" y="2257"/>
                  </a:lnTo>
                  <a:lnTo>
                    <a:pt x="350677" y="5236"/>
                  </a:lnTo>
                  <a:lnTo>
                    <a:pt x="362161" y="6560"/>
                  </a:lnTo>
                  <a:lnTo>
                    <a:pt x="370651" y="9406"/>
                  </a:lnTo>
                  <a:lnTo>
                    <a:pt x="374101" y="11350"/>
                  </a:lnTo>
                  <a:lnTo>
                    <a:pt x="382450" y="13511"/>
                  </a:lnTo>
                  <a:lnTo>
                    <a:pt x="391804" y="15318"/>
                  </a:lnTo>
                  <a:lnTo>
                    <a:pt x="401607" y="18943"/>
                  </a:lnTo>
                  <a:lnTo>
                    <a:pt x="411608" y="23376"/>
                  </a:lnTo>
                  <a:lnTo>
                    <a:pt x="420850" y="28169"/>
                  </a:lnTo>
                  <a:lnTo>
                    <a:pt x="427780" y="33121"/>
                  </a:lnTo>
                  <a:lnTo>
                    <a:pt x="433682" y="38145"/>
                  </a:lnTo>
                  <a:lnTo>
                    <a:pt x="436442" y="40670"/>
                  </a:lnTo>
                  <a:lnTo>
                    <a:pt x="439128" y="42353"/>
                  </a:lnTo>
                  <a:lnTo>
                    <a:pt x="444371" y="44223"/>
                  </a:lnTo>
                  <a:lnTo>
                    <a:pt x="446954" y="46415"/>
                  </a:lnTo>
                  <a:lnTo>
                    <a:pt x="449523" y="49570"/>
                  </a:lnTo>
                  <a:lnTo>
                    <a:pt x="452082" y="53366"/>
                  </a:lnTo>
                  <a:lnTo>
                    <a:pt x="454634" y="56744"/>
                  </a:lnTo>
                  <a:lnTo>
                    <a:pt x="457183" y="59842"/>
                  </a:lnTo>
                  <a:lnTo>
                    <a:pt x="462273" y="65543"/>
                  </a:lnTo>
                  <a:lnTo>
                    <a:pt x="467357" y="70899"/>
                  </a:lnTo>
                  <a:lnTo>
                    <a:pt x="474979" y="78674"/>
                  </a:lnTo>
                  <a:lnTo>
                    <a:pt x="476674" y="81235"/>
                  </a:lnTo>
                  <a:lnTo>
                    <a:pt x="478555" y="86340"/>
                  </a:lnTo>
                  <a:lnTo>
                    <a:pt x="481649" y="91431"/>
                  </a:lnTo>
                  <a:lnTo>
                    <a:pt x="485846" y="96515"/>
                  </a:lnTo>
                  <a:lnTo>
                    <a:pt x="490534" y="101597"/>
                  </a:lnTo>
                  <a:lnTo>
                    <a:pt x="492123" y="104138"/>
                  </a:lnTo>
                  <a:lnTo>
                    <a:pt x="493889" y="109218"/>
                  </a:lnTo>
                  <a:lnTo>
                    <a:pt x="494882" y="112794"/>
                  </a:lnTo>
                  <a:lnTo>
                    <a:pt x="495176" y="117898"/>
                  </a:lnTo>
                  <a:lnTo>
                    <a:pt x="496064" y="119239"/>
                  </a:lnTo>
                  <a:lnTo>
                    <a:pt x="497503" y="120132"/>
                  </a:lnTo>
                  <a:lnTo>
                    <a:pt x="499309" y="120728"/>
                  </a:lnTo>
                  <a:lnTo>
                    <a:pt x="500513" y="121972"/>
                  </a:lnTo>
                  <a:lnTo>
                    <a:pt x="501315" y="123647"/>
                  </a:lnTo>
                  <a:lnTo>
                    <a:pt x="502921" y="1295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MARTInkAnnotation264"/>
            <p:cNvSpPr/>
            <p:nvPr/>
          </p:nvSpPr>
          <p:spPr>
            <a:xfrm>
              <a:off x="5745240" y="2430360"/>
              <a:ext cx="1013040" cy="236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13461" h="236221">
                  <a:moveTo>
                    <a:pt x="0" y="236220"/>
                  </a:moveTo>
                  <a:lnTo>
                    <a:pt x="0" y="228914"/>
                  </a:lnTo>
                  <a:lnTo>
                    <a:pt x="4045" y="228693"/>
                  </a:lnTo>
                  <a:lnTo>
                    <a:pt x="5237" y="227816"/>
                  </a:lnTo>
                  <a:lnTo>
                    <a:pt x="6032" y="226383"/>
                  </a:lnTo>
                  <a:lnTo>
                    <a:pt x="6561" y="224583"/>
                  </a:lnTo>
                  <a:lnTo>
                    <a:pt x="7760" y="223382"/>
                  </a:lnTo>
                  <a:lnTo>
                    <a:pt x="9407" y="222581"/>
                  </a:lnTo>
                  <a:lnTo>
                    <a:pt x="13495" y="221692"/>
                  </a:lnTo>
                  <a:lnTo>
                    <a:pt x="18133" y="221296"/>
                  </a:lnTo>
                  <a:lnTo>
                    <a:pt x="20556" y="220344"/>
                  </a:lnTo>
                  <a:lnTo>
                    <a:pt x="25505" y="217029"/>
                  </a:lnTo>
                  <a:lnTo>
                    <a:pt x="33051" y="210402"/>
                  </a:lnTo>
                  <a:lnTo>
                    <a:pt x="35581" y="208848"/>
                  </a:lnTo>
                  <a:lnTo>
                    <a:pt x="43186" y="205814"/>
                  </a:lnTo>
                  <a:lnTo>
                    <a:pt x="48263" y="202104"/>
                  </a:lnTo>
                  <a:lnTo>
                    <a:pt x="51649" y="200776"/>
                  </a:lnTo>
                  <a:lnTo>
                    <a:pt x="69250" y="196387"/>
                  </a:lnTo>
                  <a:lnTo>
                    <a:pt x="78190" y="192270"/>
                  </a:lnTo>
                  <a:lnTo>
                    <a:pt x="88831" y="185192"/>
                  </a:lnTo>
                  <a:lnTo>
                    <a:pt x="97618" y="180239"/>
                  </a:lnTo>
                  <a:lnTo>
                    <a:pt x="107168" y="175215"/>
                  </a:lnTo>
                  <a:lnTo>
                    <a:pt x="116210" y="170160"/>
                  </a:lnTo>
                  <a:lnTo>
                    <a:pt x="123052" y="165091"/>
                  </a:lnTo>
                  <a:lnTo>
                    <a:pt x="133430" y="160016"/>
                  </a:lnTo>
                  <a:lnTo>
                    <a:pt x="145662" y="154938"/>
                  </a:lnTo>
                  <a:lnTo>
                    <a:pt x="156743" y="149859"/>
                  </a:lnTo>
                  <a:lnTo>
                    <a:pt x="177654" y="139700"/>
                  </a:lnTo>
                  <a:lnTo>
                    <a:pt x="187895" y="134620"/>
                  </a:lnTo>
                  <a:lnTo>
                    <a:pt x="200349" y="129540"/>
                  </a:lnTo>
                  <a:lnTo>
                    <a:pt x="213505" y="124460"/>
                  </a:lnTo>
                  <a:lnTo>
                    <a:pt x="224995" y="119380"/>
                  </a:lnTo>
                  <a:lnTo>
                    <a:pt x="235746" y="112042"/>
                  </a:lnTo>
                  <a:lnTo>
                    <a:pt x="240985" y="107715"/>
                  </a:lnTo>
                  <a:lnTo>
                    <a:pt x="253578" y="100649"/>
                  </a:lnTo>
                  <a:lnTo>
                    <a:pt x="266794" y="94686"/>
                  </a:lnTo>
                  <a:lnTo>
                    <a:pt x="278313" y="89214"/>
                  </a:lnTo>
                  <a:lnTo>
                    <a:pt x="291334" y="83960"/>
                  </a:lnTo>
                  <a:lnTo>
                    <a:pt x="305589" y="78802"/>
                  </a:lnTo>
                  <a:lnTo>
                    <a:pt x="320391" y="73688"/>
                  </a:lnTo>
                  <a:lnTo>
                    <a:pt x="333178" y="66335"/>
                  </a:lnTo>
                  <a:lnTo>
                    <a:pt x="338959" y="62003"/>
                  </a:lnTo>
                  <a:lnTo>
                    <a:pt x="352155" y="54932"/>
                  </a:lnTo>
                  <a:lnTo>
                    <a:pt x="366487" y="48968"/>
                  </a:lnTo>
                  <a:lnTo>
                    <a:pt x="381324" y="43495"/>
                  </a:lnTo>
                  <a:lnTo>
                    <a:pt x="403956" y="35653"/>
                  </a:lnTo>
                  <a:lnTo>
                    <a:pt x="441973" y="28904"/>
                  </a:lnTo>
                  <a:lnTo>
                    <a:pt x="485299" y="17572"/>
                  </a:lnTo>
                  <a:lnTo>
                    <a:pt x="509835" y="10945"/>
                  </a:lnTo>
                  <a:lnTo>
                    <a:pt x="540881" y="6019"/>
                  </a:lnTo>
                  <a:lnTo>
                    <a:pt x="557045" y="2675"/>
                  </a:lnTo>
                  <a:lnTo>
                    <a:pt x="584339" y="793"/>
                  </a:lnTo>
                  <a:lnTo>
                    <a:pt x="608888" y="235"/>
                  </a:lnTo>
                  <a:lnTo>
                    <a:pt x="736624" y="0"/>
                  </a:lnTo>
                  <a:lnTo>
                    <a:pt x="751004" y="2258"/>
                  </a:lnTo>
                  <a:lnTo>
                    <a:pt x="763887" y="5237"/>
                  </a:lnTo>
                  <a:lnTo>
                    <a:pt x="792853" y="9407"/>
                  </a:lnTo>
                  <a:lnTo>
                    <a:pt x="815451" y="13512"/>
                  </a:lnTo>
                  <a:lnTo>
                    <a:pt x="829783" y="15319"/>
                  </a:lnTo>
                  <a:lnTo>
                    <a:pt x="847372" y="21096"/>
                  </a:lnTo>
                  <a:lnTo>
                    <a:pt x="864154" y="28170"/>
                  </a:lnTo>
                  <a:lnTo>
                    <a:pt x="883991" y="34781"/>
                  </a:lnTo>
                  <a:lnTo>
                    <a:pt x="900123" y="37963"/>
                  </a:lnTo>
                  <a:lnTo>
                    <a:pt x="911487" y="43892"/>
                  </a:lnTo>
                  <a:lnTo>
                    <a:pt x="925203" y="51011"/>
                  </a:lnTo>
                  <a:lnTo>
                    <a:pt x="935006" y="55974"/>
                  </a:lnTo>
                  <a:lnTo>
                    <a:pt x="942750" y="61002"/>
                  </a:lnTo>
                  <a:lnTo>
                    <a:pt x="949014" y="66058"/>
                  </a:lnTo>
                  <a:lnTo>
                    <a:pt x="954620" y="71128"/>
                  </a:lnTo>
                  <a:lnTo>
                    <a:pt x="959933" y="76204"/>
                  </a:lnTo>
                  <a:lnTo>
                    <a:pt x="1001819" y="117899"/>
                  </a:lnTo>
                  <a:lnTo>
                    <a:pt x="1003159" y="120086"/>
                  </a:lnTo>
                  <a:lnTo>
                    <a:pt x="1005893" y="127209"/>
                  </a:lnTo>
                  <a:lnTo>
                    <a:pt x="1010842" y="133836"/>
                  </a:lnTo>
                  <a:lnTo>
                    <a:pt x="1013460" y="137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MARTInkAnnotation265"/>
            <p:cNvSpPr/>
            <p:nvPr/>
          </p:nvSpPr>
          <p:spPr>
            <a:xfrm>
              <a:off x="5381280" y="2994480"/>
              <a:ext cx="249480" cy="4878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249823" h="487681">
                  <a:moveTo>
                    <a:pt x="150762" y="0"/>
                  </a:moveTo>
                  <a:lnTo>
                    <a:pt x="146717" y="0"/>
                  </a:lnTo>
                  <a:lnTo>
                    <a:pt x="145526" y="847"/>
                  </a:lnTo>
                  <a:lnTo>
                    <a:pt x="144731" y="2258"/>
                  </a:lnTo>
                  <a:lnTo>
                    <a:pt x="144201" y="4046"/>
                  </a:lnTo>
                  <a:lnTo>
                    <a:pt x="143002" y="5237"/>
                  </a:lnTo>
                  <a:lnTo>
                    <a:pt x="141355" y="6031"/>
                  </a:lnTo>
                  <a:lnTo>
                    <a:pt x="139411" y="6561"/>
                  </a:lnTo>
                  <a:lnTo>
                    <a:pt x="134992" y="9407"/>
                  </a:lnTo>
                  <a:lnTo>
                    <a:pt x="127745" y="15769"/>
                  </a:lnTo>
                  <a:lnTo>
                    <a:pt x="125257" y="18133"/>
                  </a:lnTo>
                  <a:lnTo>
                    <a:pt x="117711" y="29550"/>
                  </a:lnTo>
                  <a:lnTo>
                    <a:pt x="110391" y="38815"/>
                  </a:lnTo>
                  <a:lnTo>
                    <a:pt x="106068" y="43657"/>
                  </a:lnTo>
                  <a:lnTo>
                    <a:pt x="99007" y="53552"/>
                  </a:lnTo>
                  <a:lnTo>
                    <a:pt x="92200" y="64441"/>
                  </a:lnTo>
                  <a:lnTo>
                    <a:pt x="54138" y="122056"/>
                  </a:lnTo>
                  <a:lnTo>
                    <a:pt x="49093" y="130477"/>
                  </a:lnTo>
                  <a:lnTo>
                    <a:pt x="44036" y="139478"/>
                  </a:lnTo>
                  <a:lnTo>
                    <a:pt x="33902" y="158511"/>
                  </a:lnTo>
                  <a:lnTo>
                    <a:pt x="23754" y="178258"/>
                  </a:lnTo>
                  <a:lnTo>
                    <a:pt x="19523" y="188265"/>
                  </a:lnTo>
                  <a:lnTo>
                    <a:pt x="15856" y="198324"/>
                  </a:lnTo>
                  <a:lnTo>
                    <a:pt x="12565" y="208416"/>
                  </a:lnTo>
                  <a:lnTo>
                    <a:pt x="9524" y="218530"/>
                  </a:lnTo>
                  <a:lnTo>
                    <a:pt x="3888" y="238801"/>
                  </a:lnTo>
                  <a:lnTo>
                    <a:pt x="2046" y="248947"/>
                  </a:lnTo>
                  <a:lnTo>
                    <a:pt x="818" y="259098"/>
                  </a:lnTo>
                  <a:lnTo>
                    <a:pt x="0" y="269252"/>
                  </a:lnTo>
                  <a:lnTo>
                    <a:pt x="300" y="279408"/>
                  </a:lnTo>
                  <a:lnTo>
                    <a:pt x="1348" y="289566"/>
                  </a:lnTo>
                  <a:lnTo>
                    <a:pt x="2892" y="299724"/>
                  </a:lnTo>
                  <a:lnTo>
                    <a:pt x="3922" y="309036"/>
                  </a:lnTo>
                  <a:lnTo>
                    <a:pt x="4609" y="317784"/>
                  </a:lnTo>
                  <a:lnTo>
                    <a:pt x="5066" y="326156"/>
                  </a:lnTo>
                  <a:lnTo>
                    <a:pt x="7065" y="334278"/>
                  </a:lnTo>
                  <a:lnTo>
                    <a:pt x="10091" y="342231"/>
                  </a:lnTo>
                  <a:lnTo>
                    <a:pt x="13801" y="350075"/>
                  </a:lnTo>
                  <a:lnTo>
                    <a:pt x="18815" y="357843"/>
                  </a:lnTo>
                  <a:lnTo>
                    <a:pt x="24698" y="365562"/>
                  </a:lnTo>
                  <a:lnTo>
                    <a:pt x="31159" y="373248"/>
                  </a:lnTo>
                  <a:lnTo>
                    <a:pt x="37160" y="380912"/>
                  </a:lnTo>
                  <a:lnTo>
                    <a:pt x="42854" y="388561"/>
                  </a:lnTo>
                  <a:lnTo>
                    <a:pt x="48343" y="396201"/>
                  </a:lnTo>
                  <a:lnTo>
                    <a:pt x="56236" y="402987"/>
                  </a:lnTo>
                  <a:lnTo>
                    <a:pt x="65732" y="409205"/>
                  </a:lnTo>
                  <a:lnTo>
                    <a:pt x="76295" y="415043"/>
                  </a:lnTo>
                  <a:lnTo>
                    <a:pt x="85877" y="420629"/>
                  </a:lnTo>
                  <a:lnTo>
                    <a:pt x="103298" y="431351"/>
                  </a:lnTo>
                  <a:lnTo>
                    <a:pt x="112346" y="436581"/>
                  </a:lnTo>
                  <a:lnTo>
                    <a:pt x="131431" y="446907"/>
                  </a:lnTo>
                  <a:lnTo>
                    <a:pt x="141261" y="451185"/>
                  </a:lnTo>
                  <a:lnTo>
                    <a:pt x="151202" y="454883"/>
                  </a:lnTo>
                  <a:lnTo>
                    <a:pt x="187444" y="466903"/>
                  </a:lnTo>
                  <a:lnTo>
                    <a:pt x="196383" y="469595"/>
                  </a:lnTo>
                  <a:lnTo>
                    <a:pt x="215347" y="474845"/>
                  </a:lnTo>
                  <a:lnTo>
                    <a:pt x="223452" y="477430"/>
                  </a:lnTo>
                  <a:lnTo>
                    <a:pt x="230549" y="480000"/>
                  </a:lnTo>
                  <a:lnTo>
                    <a:pt x="249822" y="4876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MARTInkAnnotation266"/>
            <p:cNvSpPr/>
            <p:nvPr/>
          </p:nvSpPr>
          <p:spPr>
            <a:xfrm>
              <a:off x="5577840" y="3116160"/>
              <a:ext cx="174960" cy="98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5118" h="98643">
                  <a:moveTo>
                    <a:pt x="91297" y="0"/>
                  </a:moveTo>
                  <a:lnTo>
                    <a:pt x="83685" y="0"/>
                  </a:lnTo>
                  <a:lnTo>
                    <a:pt x="73072" y="10606"/>
                  </a:lnTo>
                  <a:lnTo>
                    <a:pt x="69834" y="12997"/>
                  </a:lnTo>
                  <a:lnTo>
                    <a:pt x="65982" y="15438"/>
                  </a:lnTo>
                  <a:lnTo>
                    <a:pt x="61720" y="17912"/>
                  </a:lnTo>
                  <a:lnTo>
                    <a:pt x="58032" y="20408"/>
                  </a:lnTo>
                  <a:lnTo>
                    <a:pt x="54727" y="22918"/>
                  </a:lnTo>
                  <a:lnTo>
                    <a:pt x="51677" y="25439"/>
                  </a:lnTo>
                  <a:lnTo>
                    <a:pt x="47950" y="28813"/>
                  </a:lnTo>
                  <a:lnTo>
                    <a:pt x="39294" y="37077"/>
                  </a:lnTo>
                  <a:lnTo>
                    <a:pt x="34615" y="40804"/>
                  </a:lnTo>
                  <a:lnTo>
                    <a:pt x="29803" y="44137"/>
                  </a:lnTo>
                  <a:lnTo>
                    <a:pt x="24901" y="47204"/>
                  </a:lnTo>
                  <a:lnTo>
                    <a:pt x="20786" y="50096"/>
                  </a:lnTo>
                  <a:lnTo>
                    <a:pt x="17196" y="52871"/>
                  </a:lnTo>
                  <a:lnTo>
                    <a:pt x="13957" y="55567"/>
                  </a:lnTo>
                  <a:lnTo>
                    <a:pt x="10950" y="58212"/>
                  </a:lnTo>
                  <a:lnTo>
                    <a:pt x="5352" y="63407"/>
                  </a:lnTo>
                  <a:lnTo>
                    <a:pt x="3520" y="65978"/>
                  </a:lnTo>
                  <a:lnTo>
                    <a:pt x="2299" y="68539"/>
                  </a:lnTo>
                  <a:lnTo>
                    <a:pt x="1485" y="71093"/>
                  </a:lnTo>
                  <a:lnTo>
                    <a:pt x="942" y="73642"/>
                  </a:lnTo>
                  <a:lnTo>
                    <a:pt x="581" y="76188"/>
                  </a:lnTo>
                  <a:lnTo>
                    <a:pt x="0" y="82313"/>
                  </a:lnTo>
                  <a:lnTo>
                    <a:pt x="799" y="83662"/>
                  </a:lnTo>
                  <a:lnTo>
                    <a:pt x="2178" y="85408"/>
                  </a:lnTo>
                  <a:lnTo>
                    <a:pt x="3945" y="87419"/>
                  </a:lnTo>
                  <a:lnTo>
                    <a:pt x="6815" y="89606"/>
                  </a:lnTo>
                  <a:lnTo>
                    <a:pt x="10422" y="91911"/>
                  </a:lnTo>
                  <a:lnTo>
                    <a:pt x="14521" y="94294"/>
                  </a:lnTo>
                  <a:lnTo>
                    <a:pt x="19793" y="95882"/>
                  </a:lnTo>
                  <a:lnTo>
                    <a:pt x="25848" y="96942"/>
                  </a:lnTo>
                  <a:lnTo>
                    <a:pt x="32424" y="97648"/>
                  </a:lnTo>
                  <a:lnTo>
                    <a:pt x="38502" y="98119"/>
                  </a:lnTo>
                  <a:lnTo>
                    <a:pt x="44247" y="98432"/>
                  </a:lnTo>
                  <a:lnTo>
                    <a:pt x="49770" y="98642"/>
                  </a:lnTo>
                  <a:lnTo>
                    <a:pt x="56839" y="97934"/>
                  </a:lnTo>
                  <a:lnTo>
                    <a:pt x="64938" y="96617"/>
                  </a:lnTo>
                  <a:lnTo>
                    <a:pt x="73725" y="94891"/>
                  </a:lnTo>
                  <a:lnTo>
                    <a:pt x="82122" y="93741"/>
                  </a:lnTo>
                  <a:lnTo>
                    <a:pt x="90261" y="92974"/>
                  </a:lnTo>
                  <a:lnTo>
                    <a:pt x="98226" y="92463"/>
                  </a:lnTo>
                  <a:lnTo>
                    <a:pt x="106076" y="91275"/>
                  </a:lnTo>
                  <a:lnTo>
                    <a:pt x="113851" y="89637"/>
                  </a:lnTo>
                  <a:lnTo>
                    <a:pt x="121572" y="87698"/>
                  </a:lnTo>
                  <a:lnTo>
                    <a:pt x="129260" y="85558"/>
                  </a:lnTo>
                  <a:lnTo>
                    <a:pt x="144577" y="80924"/>
                  </a:lnTo>
                  <a:lnTo>
                    <a:pt x="150524" y="79349"/>
                  </a:lnTo>
                  <a:lnTo>
                    <a:pt x="155334" y="78300"/>
                  </a:lnTo>
                  <a:lnTo>
                    <a:pt x="159389" y="77600"/>
                  </a:lnTo>
                  <a:lnTo>
                    <a:pt x="162939" y="77133"/>
                  </a:lnTo>
                  <a:lnTo>
                    <a:pt x="166151" y="76822"/>
                  </a:lnTo>
                  <a:lnTo>
                    <a:pt x="175117" y="76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MARTInkAnnotation267"/>
            <p:cNvSpPr/>
            <p:nvPr/>
          </p:nvSpPr>
          <p:spPr>
            <a:xfrm>
              <a:off x="5699880" y="3078000"/>
              <a:ext cx="83160" cy="25128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83468" h="251461">
                  <a:moveTo>
                    <a:pt x="83467" y="0"/>
                  </a:moveTo>
                  <a:lnTo>
                    <a:pt x="83467" y="6561"/>
                  </a:lnTo>
                  <a:lnTo>
                    <a:pt x="81209" y="9407"/>
                  </a:lnTo>
                  <a:lnTo>
                    <a:pt x="79422" y="11351"/>
                  </a:lnTo>
                  <a:lnTo>
                    <a:pt x="78230" y="14341"/>
                  </a:lnTo>
                  <a:lnTo>
                    <a:pt x="76906" y="22178"/>
                  </a:lnTo>
                  <a:lnTo>
                    <a:pt x="75707" y="25792"/>
                  </a:lnTo>
                  <a:lnTo>
                    <a:pt x="74060" y="29048"/>
                  </a:lnTo>
                  <a:lnTo>
                    <a:pt x="72116" y="32065"/>
                  </a:lnTo>
                  <a:lnTo>
                    <a:pt x="69973" y="35770"/>
                  </a:lnTo>
                  <a:lnTo>
                    <a:pt x="65335" y="44402"/>
                  </a:lnTo>
                  <a:lnTo>
                    <a:pt x="62912" y="49921"/>
                  </a:lnTo>
                  <a:lnTo>
                    <a:pt x="60450" y="56141"/>
                  </a:lnTo>
                  <a:lnTo>
                    <a:pt x="57962" y="62827"/>
                  </a:lnTo>
                  <a:lnTo>
                    <a:pt x="54611" y="68978"/>
                  </a:lnTo>
                  <a:lnTo>
                    <a:pt x="50683" y="74772"/>
                  </a:lnTo>
                  <a:lnTo>
                    <a:pt x="46371" y="80328"/>
                  </a:lnTo>
                  <a:lnTo>
                    <a:pt x="42650" y="86572"/>
                  </a:lnTo>
                  <a:lnTo>
                    <a:pt x="39322" y="93275"/>
                  </a:lnTo>
                  <a:lnTo>
                    <a:pt x="33368" y="106649"/>
                  </a:lnTo>
                  <a:lnTo>
                    <a:pt x="27898" y="118237"/>
                  </a:lnTo>
                  <a:lnTo>
                    <a:pt x="25255" y="124545"/>
                  </a:lnTo>
                  <a:lnTo>
                    <a:pt x="22646" y="131290"/>
                  </a:lnTo>
                  <a:lnTo>
                    <a:pt x="20060" y="138326"/>
                  </a:lnTo>
                  <a:lnTo>
                    <a:pt x="17489" y="144711"/>
                  </a:lnTo>
                  <a:lnTo>
                    <a:pt x="14928" y="150660"/>
                  </a:lnTo>
                  <a:lnTo>
                    <a:pt x="12374" y="156320"/>
                  </a:lnTo>
                  <a:lnTo>
                    <a:pt x="10672" y="162634"/>
                  </a:lnTo>
                  <a:lnTo>
                    <a:pt x="9537" y="169382"/>
                  </a:lnTo>
                  <a:lnTo>
                    <a:pt x="8781" y="176421"/>
                  </a:lnTo>
                  <a:lnTo>
                    <a:pt x="7430" y="182808"/>
                  </a:lnTo>
                  <a:lnTo>
                    <a:pt x="5683" y="188759"/>
                  </a:lnTo>
                  <a:lnTo>
                    <a:pt x="3671" y="194419"/>
                  </a:lnTo>
                  <a:lnTo>
                    <a:pt x="2330" y="199886"/>
                  </a:lnTo>
                  <a:lnTo>
                    <a:pt x="1435" y="205224"/>
                  </a:lnTo>
                  <a:lnTo>
                    <a:pt x="839" y="210476"/>
                  </a:lnTo>
                  <a:lnTo>
                    <a:pt x="442" y="215671"/>
                  </a:lnTo>
                  <a:lnTo>
                    <a:pt x="177" y="220827"/>
                  </a:lnTo>
                  <a:lnTo>
                    <a:pt x="0" y="225958"/>
                  </a:lnTo>
                  <a:lnTo>
                    <a:pt x="730" y="230225"/>
                  </a:lnTo>
                  <a:lnTo>
                    <a:pt x="2062" y="233917"/>
                  </a:lnTo>
                  <a:lnTo>
                    <a:pt x="3797" y="237225"/>
                  </a:lnTo>
                  <a:lnTo>
                    <a:pt x="5725" y="243158"/>
                  </a:lnTo>
                  <a:lnTo>
                    <a:pt x="7267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MARTInkAnnotation268"/>
            <p:cNvSpPr/>
            <p:nvPr/>
          </p:nvSpPr>
          <p:spPr>
            <a:xfrm>
              <a:off x="5874840" y="3253680"/>
              <a:ext cx="15120" cy="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5241" h="1">
                  <a:moveTo>
                    <a:pt x="1524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MARTInkAnnotation269"/>
            <p:cNvSpPr/>
            <p:nvPr/>
          </p:nvSpPr>
          <p:spPr>
            <a:xfrm>
              <a:off x="6004440" y="3140280"/>
              <a:ext cx="198000" cy="1893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98121" h="189412">
                  <a:moveTo>
                    <a:pt x="0" y="21771"/>
                  </a:moveTo>
                  <a:lnTo>
                    <a:pt x="0" y="15210"/>
                  </a:lnTo>
                  <a:lnTo>
                    <a:pt x="4045" y="10420"/>
                  </a:lnTo>
                  <a:lnTo>
                    <a:pt x="6083" y="9123"/>
                  </a:lnTo>
                  <a:lnTo>
                    <a:pt x="10606" y="7683"/>
                  </a:lnTo>
                  <a:lnTo>
                    <a:pt x="15438" y="7043"/>
                  </a:lnTo>
                  <a:lnTo>
                    <a:pt x="17912" y="6872"/>
                  </a:lnTo>
                  <a:lnTo>
                    <a:pt x="21254" y="5912"/>
                  </a:lnTo>
                  <a:lnTo>
                    <a:pt x="25177" y="4425"/>
                  </a:lnTo>
                  <a:lnTo>
                    <a:pt x="29484" y="2587"/>
                  </a:lnTo>
                  <a:lnTo>
                    <a:pt x="34050" y="1362"/>
                  </a:lnTo>
                  <a:lnTo>
                    <a:pt x="38786" y="545"/>
                  </a:lnTo>
                  <a:lnTo>
                    <a:pt x="43637" y="0"/>
                  </a:lnTo>
                  <a:lnTo>
                    <a:pt x="48565" y="484"/>
                  </a:lnTo>
                  <a:lnTo>
                    <a:pt x="53543" y="1653"/>
                  </a:lnTo>
                  <a:lnTo>
                    <a:pt x="58555" y="3279"/>
                  </a:lnTo>
                  <a:lnTo>
                    <a:pt x="62744" y="4363"/>
                  </a:lnTo>
                  <a:lnTo>
                    <a:pt x="66383" y="5086"/>
                  </a:lnTo>
                  <a:lnTo>
                    <a:pt x="69655" y="5568"/>
                  </a:lnTo>
                  <a:lnTo>
                    <a:pt x="73530" y="5889"/>
                  </a:lnTo>
                  <a:lnTo>
                    <a:pt x="77806" y="6103"/>
                  </a:lnTo>
                  <a:lnTo>
                    <a:pt x="87074" y="6341"/>
                  </a:lnTo>
                  <a:lnTo>
                    <a:pt x="96837" y="6447"/>
                  </a:lnTo>
                  <a:lnTo>
                    <a:pt x="100119" y="7321"/>
                  </a:lnTo>
                  <a:lnTo>
                    <a:pt x="102305" y="8751"/>
                  </a:lnTo>
                  <a:lnTo>
                    <a:pt x="103764" y="10551"/>
                  </a:lnTo>
                  <a:lnTo>
                    <a:pt x="106429" y="11751"/>
                  </a:lnTo>
                  <a:lnTo>
                    <a:pt x="109900" y="12551"/>
                  </a:lnTo>
                  <a:lnTo>
                    <a:pt x="113906" y="13084"/>
                  </a:lnTo>
                  <a:lnTo>
                    <a:pt x="117425" y="14287"/>
                  </a:lnTo>
                  <a:lnTo>
                    <a:pt x="123590" y="17880"/>
                  </a:lnTo>
                  <a:lnTo>
                    <a:pt x="125574" y="20024"/>
                  </a:lnTo>
                  <a:lnTo>
                    <a:pt x="126896" y="22300"/>
                  </a:lnTo>
                  <a:lnTo>
                    <a:pt x="128365" y="27086"/>
                  </a:lnTo>
                  <a:lnTo>
                    <a:pt x="129017" y="32036"/>
                  </a:lnTo>
                  <a:lnTo>
                    <a:pt x="129385" y="35537"/>
                  </a:lnTo>
                  <a:lnTo>
                    <a:pt x="127213" y="40872"/>
                  </a:lnTo>
                  <a:lnTo>
                    <a:pt x="125450" y="44665"/>
                  </a:lnTo>
                  <a:lnTo>
                    <a:pt x="123426" y="48040"/>
                  </a:lnTo>
                  <a:lnTo>
                    <a:pt x="121230" y="51137"/>
                  </a:lnTo>
                  <a:lnTo>
                    <a:pt x="116534" y="56836"/>
                  </a:lnTo>
                  <a:lnTo>
                    <a:pt x="111624" y="62191"/>
                  </a:lnTo>
                  <a:lnTo>
                    <a:pt x="104100" y="69966"/>
                  </a:lnTo>
                  <a:lnTo>
                    <a:pt x="101573" y="73374"/>
                  </a:lnTo>
                  <a:lnTo>
                    <a:pt x="99042" y="77340"/>
                  </a:lnTo>
                  <a:lnTo>
                    <a:pt x="96508" y="81677"/>
                  </a:lnTo>
                  <a:lnTo>
                    <a:pt x="93125" y="85415"/>
                  </a:lnTo>
                  <a:lnTo>
                    <a:pt x="89177" y="88754"/>
                  </a:lnTo>
                  <a:lnTo>
                    <a:pt x="84851" y="91826"/>
                  </a:lnTo>
                  <a:lnTo>
                    <a:pt x="81121" y="95568"/>
                  </a:lnTo>
                  <a:lnTo>
                    <a:pt x="77787" y="99756"/>
                  </a:lnTo>
                  <a:lnTo>
                    <a:pt x="74718" y="104241"/>
                  </a:lnTo>
                  <a:lnTo>
                    <a:pt x="70979" y="108924"/>
                  </a:lnTo>
                  <a:lnTo>
                    <a:pt x="66792" y="113740"/>
                  </a:lnTo>
                  <a:lnTo>
                    <a:pt x="58472" y="122759"/>
                  </a:lnTo>
                  <a:lnTo>
                    <a:pt x="49028" y="132597"/>
                  </a:lnTo>
                  <a:lnTo>
                    <a:pt x="43521" y="138196"/>
                  </a:lnTo>
                  <a:lnTo>
                    <a:pt x="40021" y="140874"/>
                  </a:lnTo>
                  <a:lnTo>
                    <a:pt x="35994" y="143507"/>
                  </a:lnTo>
                  <a:lnTo>
                    <a:pt x="31616" y="146108"/>
                  </a:lnTo>
                  <a:lnTo>
                    <a:pt x="28697" y="149536"/>
                  </a:lnTo>
                  <a:lnTo>
                    <a:pt x="26752" y="153514"/>
                  </a:lnTo>
                  <a:lnTo>
                    <a:pt x="25455" y="157860"/>
                  </a:lnTo>
                  <a:lnTo>
                    <a:pt x="23743" y="161604"/>
                  </a:lnTo>
                  <a:lnTo>
                    <a:pt x="21755" y="164946"/>
                  </a:lnTo>
                  <a:lnTo>
                    <a:pt x="19584" y="168021"/>
                  </a:lnTo>
                  <a:lnTo>
                    <a:pt x="17171" y="173695"/>
                  </a:lnTo>
                  <a:lnTo>
                    <a:pt x="15622" y="180192"/>
                  </a:lnTo>
                  <a:lnTo>
                    <a:pt x="15353" y="185363"/>
                  </a:lnTo>
                  <a:lnTo>
                    <a:pt x="16162" y="186712"/>
                  </a:lnTo>
                  <a:lnTo>
                    <a:pt x="17548" y="187612"/>
                  </a:lnTo>
                  <a:lnTo>
                    <a:pt x="19318" y="188212"/>
                  </a:lnTo>
                  <a:lnTo>
                    <a:pt x="22192" y="188612"/>
                  </a:lnTo>
                  <a:lnTo>
                    <a:pt x="25802" y="188878"/>
                  </a:lnTo>
                  <a:lnTo>
                    <a:pt x="29901" y="189056"/>
                  </a:lnTo>
                  <a:lnTo>
                    <a:pt x="38971" y="189253"/>
                  </a:lnTo>
                  <a:lnTo>
                    <a:pt x="198120" y="1894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MARTInkAnnotation270"/>
            <p:cNvSpPr/>
            <p:nvPr/>
          </p:nvSpPr>
          <p:spPr>
            <a:xfrm>
              <a:off x="6354720" y="3154320"/>
              <a:ext cx="37800" cy="198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38101" h="198121">
                  <a:moveTo>
                    <a:pt x="38100" y="0"/>
                  </a:moveTo>
                  <a:lnTo>
                    <a:pt x="38100" y="4045"/>
                  </a:lnTo>
                  <a:lnTo>
                    <a:pt x="37253" y="6084"/>
                  </a:lnTo>
                  <a:lnTo>
                    <a:pt x="35842" y="8289"/>
                  </a:lnTo>
                  <a:lnTo>
                    <a:pt x="34055" y="10606"/>
                  </a:lnTo>
                  <a:lnTo>
                    <a:pt x="32863" y="12997"/>
                  </a:lnTo>
                  <a:lnTo>
                    <a:pt x="32069" y="15438"/>
                  </a:lnTo>
                  <a:lnTo>
                    <a:pt x="31186" y="21255"/>
                  </a:lnTo>
                  <a:lnTo>
                    <a:pt x="30951" y="25176"/>
                  </a:lnTo>
                  <a:lnTo>
                    <a:pt x="30793" y="29485"/>
                  </a:lnTo>
                  <a:lnTo>
                    <a:pt x="29843" y="34049"/>
                  </a:lnTo>
                  <a:lnTo>
                    <a:pt x="28362" y="38786"/>
                  </a:lnTo>
                  <a:lnTo>
                    <a:pt x="26528" y="43638"/>
                  </a:lnTo>
                  <a:lnTo>
                    <a:pt x="24459" y="48565"/>
                  </a:lnTo>
                  <a:lnTo>
                    <a:pt x="22233" y="53544"/>
                  </a:lnTo>
                  <a:lnTo>
                    <a:pt x="19902" y="58555"/>
                  </a:lnTo>
                  <a:lnTo>
                    <a:pt x="18348" y="63590"/>
                  </a:lnTo>
                  <a:lnTo>
                    <a:pt x="17312" y="68641"/>
                  </a:lnTo>
                  <a:lnTo>
                    <a:pt x="16622" y="73700"/>
                  </a:lnTo>
                  <a:lnTo>
                    <a:pt x="15315" y="79613"/>
                  </a:lnTo>
                  <a:lnTo>
                    <a:pt x="13597" y="86096"/>
                  </a:lnTo>
                  <a:lnTo>
                    <a:pt x="11605" y="92957"/>
                  </a:lnTo>
                  <a:lnTo>
                    <a:pt x="10276" y="99225"/>
                  </a:lnTo>
                  <a:lnTo>
                    <a:pt x="9391" y="105097"/>
                  </a:lnTo>
                  <a:lnTo>
                    <a:pt x="8801" y="110704"/>
                  </a:lnTo>
                  <a:lnTo>
                    <a:pt x="8407" y="116136"/>
                  </a:lnTo>
                  <a:lnTo>
                    <a:pt x="8145" y="121451"/>
                  </a:lnTo>
                  <a:lnTo>
                    <a:pt x="7970" y="126687"/>
                  </a:lnTo>
                  <a:lnTo>
                    <a:pt x="7007" y="131872"/>
                  </a:lnTo>
                  <a:lnTo>
                    <a:pt x="5517" y="137021"/>
                  </a:lnTo>
                  <a:lnTo>
                    <a:pt x="3678" y="142147"/>
                  </a:lnTo>
                  <a:lnTo>
                    <a:pt x="2452" y="147258"/>
                  </a:lnTo>
                  <a:lnTo>
                    <a:pt x="1635" y="152359"/>
                  </a:lnTo>
                  <a:lnTo>
                    <a:pt x="1090" y="157452"/>
                  </a:lnTo>
                  <a:lnTo>
                    <a:pt x="726" y="162542"/>
                  </a:lnTo>
                  <a:lnTo>
                    <a:pt x="484" y="167628"/>
                  </a:lnTo>
                  <a:lnTo>
                    <a:pt x="144" y="180619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271"/>
            <p:cNvSpPr/>
            <p:nvPr/>
          </p:nvSpPr>
          <p:spPr>
            <a:xfrm>
              <a:off x="6324480" y="3261240"/>
              <a:ext cx="213120" cy="22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13361" h="22861">
                  <a:moveTo>
                    <a:pt x="0" y="22860"/>
                  </a:moveTo>
                  <a:lnTo>
                    <a:pt x="6561" y="16299"/>
                  </a:lnTo>
                  <a:lnTo>
                    <a:pt x="9407" y="15711"/>
                  </a:lnTo>
                  <a:lnTo>
                    <a:pt x="14341" y="15449"/>
                  </a:lnTo>
                  <a:lnTo>
                    <a:pt x="26639" y="15302"/>
                  </a:lnTo>
                  <a:lnTo>
                    <a:pt x="153777" y="15240"/>
                  </a:lnTo>
                  <a:lnTo>
                    <a:pt x="160091" y="14393"/>
                  </a:lnTo>
                  <a:lnTo>
                    <a:pt x="165993" y="12982"/>
                  </a:lnTo>
                  <a:lnTo>
                    <a:pt x="171622" y="11195"/>
                  </a:lnTo>
                  <a:lnTo>
                    <a:pt x="176222" y="10003"/>
                  </a:lnTo>
                  <a:lnTo>
                    <a:pt x="180134" y="9209"/>
                  </a:lnTo>
                  <a:lnTo>
                    <a:pt x="183589" y="8680"/>
                  </a:lnTo>
                  <a:lnTo>
                    <a:pt x="187586" y="7480"/>
                  </a:lnTo>
                  <a:lnTo>
                    <a:pt x="191945" y="5833"/>
                  </a:lnTo>
                  <a:lnTo>
                    <a:pt x="203015" y="1152"/>
                  </a:lnTo>
                  <a:lnTo>
                    <a:pt x="206787" y="512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272"/>
            <p:cNvSpPr/>
            <p:nvPr/>
          </p:nvSpPr>
          <p:spPr>
            <a:xfrm>
              <a:off x="6671520" y="3124080"/>
              <a:ext cx="254520" cy="12168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54846" h="121819">
                  <a:moveTo>
                    <a:pt x="56726" y="0"/>
                  </a:moveTo>
                  <a:lnTo>
                    <a:pt x="60770" y="0"/>
                  </a:lnTo>
                  <a:lnTo>
                    <a:pt x="61963" y="847"/>
                  </a:lnTo>
                  <a:lnTo>
                    <a:pt x="62757" y="2258"/>
                  </a:lnTo>
                  <a:lnTo>
                    <a:pt x="63286" y="4045"/>
                  </a:lnTo>
                  <a:lnTo>
                    <a:pt x="64486" y="5237"/>
                  </a:lnTo>
                  <a:lnTo>
                    <a:pt x="66132" y="6031"/>
                  </a:lnTo>
                  <a:lnTo>
                    <a:pt x="68077" y="6561"/>
                  </a:lnTo>
                  <a:lnTo>
                    <a:pt x="69374" y="7760"/>
                  </a:lnTo>
                  <a:lnTo>
                    <a:pt x="70237" y="9407"/>
                  </a:lnTo>
                  <a:lnTo>
                    <a:pt x="70813" y="11352"/>
                  </a:lnTo>
                  <a:lnTo>
                    <a:pt x="70350" y="13494"/>
                  </a:lnTo>
                  <a:lnTo>
                    <a:pt x="69195" y="15769"/>
                  </a:lnTo>
                  <a:lnTo>
                    <a:pt x="65304" y="21460"/>
                  </a:lnTo>
                  <a:lnTo>
                    <a:pt x="62514" y="24495"/>
                  </a:lnTo>
                  <a:lnTo>
                    <a:pt x="60584" y="26490"/>
                  </a:lnTo>
                  <a:lnTo>
                    <a:pt x="59298" y="28667"/>
                  </a:lnTo>
                  <a:lnTo>
                    <a:pt x="58440" y="30965"/>
                  </a:lnTo>
                  <a:lnTo>
                    <a:pt x="57868" y="33343"/>
                  </a:lnTo>
                  <a:lnTo>
                    <a:pt x="55794" y="35775"/>
                  </a:lnTo>
                  <a:lnTo>
                    <a:pt x="52718" y="38244"/>
                  </a:lnTo>
                  <a:lnTo>
                    <a:pt x="48974" y="40736"/>
                  </a:lnTo>
                  <a:lnTo>
                    <a:pt x="45631" y="43244"/>
                  </a:lnTo>
                  <a:lnTo>
                    <a:pt x="42557" y="45763"/>
                  </a:lnTo>
                  <a:lnTo>
                    <a:pt x="39659" y="48289"/>
                  </a:lnTo>
                  <a:lnTo>
                    <a:pt x="36882" y="50819"/>
                  </a:lnTo>
                  <a:lnTo>
                    <a:pt x="31537" y="55888"/>
                  </a:lnTo>
                  <a:lnTo>
                    <a:pt x="848" y="86360"/>
                  </a:lnTo>
                  <a:lnTo>
                    <a:pt x="0" y="88053"/>
                  </a:lnTo>
                  <a:lnTo>
                    <a:pt x="281" y="89182"/>
                  </a:lnTo>
                  <a:lnTo>
                    <a:pt x="2852" y="91283"/>
                  </a:lnTo>
                  <a:lnTo>
                    <a:pt x="6818" y="95039"/>
                  </a:lnTo>
                  <a:lnTo>
                    <a:pt x="13810" y="101914"/>
                  </a:lnTo>
                  <a:lnTo>
                    <a:pt x="17954" y="103502"/>
                  </a:lnTo>
                  <a:lnTo>
                    <a:pt x="23259" y="104562"/>
                  </a:lnTo>
                  <a:lnTo>
                    <a:pt x="29334" y="105268"/>
                  </a:lnTo>
                  <a:lnTo>
                    <a:pt x="35078" y="106585"/>
                  </a:lnTo>
                  <a:lnTo>
                    <a:pt x="40599" y="108310"/>
                  </a:lnTo>
                  <a:lnTo>
                    <a:pt x="45975" y="110307"/>
                  </a:lnTo>
                  <a:lnTo>
                    <a:pt x="52099" y="111638"/>
                  </a:lnTo>
                  <a:lnTo>
                    <a:pt x="58721" y="112525"/>
                  </a:lnTo>
                  <a:lnTo>
                    <a:pt x="65676" y="113117"/>
                  </a:lnTo>
                  <a:lnTo>
                    <a:pt x="73699" y="114358"/>
                  </a:lnTo>
                  <a:lnTo>
                    <a:pt x="82434" y="116032"/>
                  </a:lnTo>
                  <a:lnTo>
                    <a:pt x="91644" y="117995"/>
                  </a:lnTo>
                  <a:lnTo>
                    <a:pt x="100325" y="119303"/>
                  </a:lnTo>
                  <a:lnTo>
                    <a:pt x="108651" y="120175"/>
                  </a:lnTo>
                  <a:lnTo>
                    <a:pt x="116743" y="120757"/>
                  </a:lnTo>
                  <a:lnTo>
                    <a:pt x="126370" y="121145"/>
                  </a:lnTo>
                  <a:lnTo>
                    <a:pt x="157606" y="121690"/>
                  </a:lnTo>
                  <a:lnTo>
                    <a:pt x="172399" y="121818"/>
                  </a:lnTo>
                  <a:lnTo>
                    <a:pt x="179562" y="121005"/>
                  </a:lnTo>
                  <a:lnTo>
                    <a:pt x="186875" y="119617"/>
                  </a:lnTo>
                  <a:lnTo>
                    <a:pt x="194292" y="117845"/>
                  </a:lnTo>
                  <a:lnTo>
                    <a:pt x="201776" y="116663"/>
                  </a:lnTo>
                  <a:lnTo>
                    <a:pt x="209306" y="115875"/>
                  </a:lnTo>
                  <a:lnTo>
                    <a:pt x="216866" y="115350"/>
                  </a:lnTo>
                  <a:lnTo>
                    <a:pt x="222752" y="114154"/>
                  </a:lnTo>
                  <a:lnTo>
                    <a:pt x="227524" y="112509"/>
                  </a:lnTo>
                  <a:lnTo>
                    <a:pt x="235083" y="109270"/>
                  </a:lnTo>
                  <a:lnTo>
                    <a:pt x="241264" y="107831"/>
                  </a:lnTo>
                  <a:lnTo>
                    <a:pt x="246833" y="104934"/>
                  </a:lnTo>
                  <a:lnTo>
                    <a:pt x="254845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273"/>
            <p:cNvSpPr/>
            <p:nvPr/>
          </p:nvSpPr>
          <p:spPr>
            <a:xfrm>
              <a:off x="6857640" y="3139200"/>
              <a:ext cx="75960" cy="21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76201" h="213361">
                  <a:moveTo>
                    <a:pt x="76200" y="0"/>
                  </a:moveTo>
                  <a:lnTo>
                    <a:pt x="72155" y="4045"/>
                  </a:lnTo>
                  <a:lnTo>
                    <a:pt x="70963" y="6084"/>
                  </a:lnTo>
                  <a:lnTo>
                    <a:pt x="69639" y="10606"/>
                  </a:lnTo>
                  <a:lnTo>
                    <a:pt x="69051" y="15438"/>
                  </a:lnTo>
                  <a:lnTo>
                    <a:pt x="68893" y="17912"/>
                  </a:lnTo>
                  <a:lnTo>
                    <a:pt x="67943" y="20408"/>
                  </a:lnTo>
                  <a:lnTo>
                    <a:pt x="66463" y="22919"/>
                  </a:lnTo>
                  <a:lnTo>
                    <a:pt x="64628" y="25439"/>
                  </a:lnTo>
                  <a:lnTo>
                    <a:pt x="62559" y="28813"/>
                  </a:lnTo>
                  <a:lnTo>
                    <a:pt x="60333" y="32755"/>
                  </a:lnTo>
                  <a:lnTo>
                    <a:pt x="55601" y="41651"/>
                  </a:lnTo>
                  <a:lnTo>
                    <a:pt x="50676" y="51249"/>
                  </a:lnTo>
                  <a:lnTo>
                    <a:pt x="49024" y="56180"/>
                  </a:lnTo>
                  <a:lnTo>
                    <a:pt x="47923" y="61160"/>
                  </a:lnTo>
                  <a:lnTo>
                    <a:pt x="47189" y="66173"/>
                  </a:lnTo>
                  <a:lnTo>
                    <a:pt x="45006" y="71209"/>
                  </a:lnTo>
                  <a:lnTo>
                    <a:pt x="41857" y="76259"/>
                  </a:lnTo>
                  <a:lnTo>
                    <a:pt x="38065" y="81320"/>
                  </a:lnTo>
                  <a:lnTo>
                    <a:pt x="35537" y="86387"/>
                  </a:lnTo>
                  <a:lnTo>
                    <a:pt x="33851" y="91458"/>
                  </a:lnTo>
                  <a:lnTo>
                    <a:pt x="32727" y="96532"/>
                  </a:lnTo>
                  <a:lnTo>
                    <a:pt x="31131" y="101608"/>
                  </a:lnTo>
                  <a:lnTo>
                    <a:pt x="29221" y="106685"/>
                  </a:lnTo>
                  <a:lnTo>
                    <a:pt x="27101" y="111763"/>
                  </a:lnTo>
                  <a:lnTo>
                    <a:pt x="23994" y="117689"/>
                  </a:lnTo>
                  <a:lnTo>
                    <a:pt x="20230" y="124179"/>
                  </a:lnTo>
                  <a:lnTo>
                    <a:pt x="16026" y="131046"/>
                  </a:lnTo>
                  <a:lnTo>
                    <a:pt x="13224" y="137318"/>
                  </a:lnTo>
                  <a:lnTo>
                    <a:pt x="11357" y="143192"/>
                  </a:lnTo>
                  <a:lnTo>
                    <a:pt x="10111" y="148801"/>
                  </a:lnTo>
                  <a:lnTo>
                    <a:pt x="8434" y="154234"/>
                  </a:lnTo>
                  <a:lnTo>
                    <a:pt x="6469" y="159549"/>
                  </a:lnTo>
                  <a:lnTo>
                    <a:pt x="4313" y="164786"/>
                  </a:lnTo>
                  <a:lnTo>
                    <a:pt x="2875" y="169971"/>
                  </a:lnTo>
                  <a:lnTo>
                    <a:pt x="1917" y="175120"/>
                  </a:lnTo>
                  <a:lnTo>
                    <a:pt x="1278" y="180247"/>
                  </a:lnTo>
                  <a:lnTo>
                    <a:pt x="852" y="184511"/>
                  </a:lnTo>
                  <a:lnTo>
                    <a:pt x="568" y="188201"/>
                  </a:lnTo>
                  <a:lnTo>
                    <a:pt x="253" y="194558"/>
                  </a:lnTo>
                  <a:lnTo>
                    <a:pt x="112" y="200206"/>
                  </a:lnTo>
                  <a:lnTo>
                    <a:pt x="0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274"/>
            <p:cNvSpPr/>
            <p:nvPr/>
          </p:nvSpPr>
          <p:spPr>
            <a:xfrm>
              <a:off x="7026840" y="3245760"/>
              <a:ext cx="36360" cy="7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6606" h="7621">
                  <a:moveTo>
                    <a:pt x="-28931" y="0"/>
                  </a:moveTo>
                  <a:lnTo>
                    <a:pt x="18471" y="0"/>
                  </a:lnTo>
                  <a:lnTo>
                    <a:pt x="16050" y="847"/>
                  </a:lnTo>
                  <a:lnTo>
                    <a:pt x="13588" y="2258"/>
                  </a:lnTo>
                  <a:lnTo>
                    <a:pt x="11100" y="4046"/>
                  </a:lnTo>
                  <a:lnTo>
                    <a:pt x="8595" y="5237"/>
                  </a:lnTo>
                  <a:lnTo>
                    <a:pt x="6078" y="6031"/>
                  </a:lnTo>
                  <a:lnTo>
                    <a:pt x="0" y="7307"/>
                  </a:lnTo>
                  <a:lnTo>
                    <a:pt x="348" y="7411"/>
                  </a:lnTo>
                  <a:lnTo>
                    <a:pt x="1427" y="7481"/>
                  </a:lnTo>
                  <a:lnTo>
                    <a:pt x="5198" y="7593"/>
                  </a:lnTo>
                  <a:lnTo>
                    <a:pt x="-2893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275"/>
            <p:cNvSpPr/>
            <p:nvPr/>
          </p:nvSpPr>
          <p:spPr>
            <a:xfrm>
              <a:off x="7171200" y="3139200"/>
              <a:ext cx="226800" cy="236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26971" h="236182">
                  <a:moveTo>
                    <a:pt x="44558" y="0"/>
                  </a:moveTo>
                  <a:lnTo>
                    <a:pt x="44558" y="6561"/>
                  </a:lnTo>
                  <a:lnTo>
                    <a:pt x="43712" y="6914"/>
                  </a:lnTo>
                  <a:lnTo>
                    <a:pt x="40513" y="7306"/>
                  </a:lnTo>
                  <a:lnTo>
                    <a:pt x="39321" y="8257"/>
                  </a:lnTo>
                  <a:lnTo>
                    <a:pt x="38527" y="9738"/>
                  </a:lnTo>
                  <a:lnTo>
                    <a:pt x="37644" y="13641"/>
                  </a:lnTo>
                  <a:lnTo>
                    <a:pt x="37077" y="20788"/>
                  </a:lnTo>
                  <a:lnTo>
                    <a:pt x="37031" y="21479"/>
                  </a:lnTo>
                  <a:lnTo>
                    <a:pt x="34722" y="26762"/>
                  </a:lnTo>
                  <a:lnTo>
                    <a:pt x="32921" y="30541"/>
                  </a:lnTo>
                  <a:lnTo>
                    <a:pt x="30873" y="33061"/>
                  </a:lnTo>
                  <a:lnTo>
                    <a:pt x="28661" y="34741"/>
                  </a:lnTo>
                  <a:lnTo>
                    <a:pt x="26341" y="35860"/>
                  </a:lnTo>
                  <a:lnTo>
                    <a:pt x="24793" y="38300"/>
                  </a:lnTo>
                  <a:lnTo>
                    <a:pt x="23073" y="45527"/>
                  </a:lnTo>
                  <a:lnTo>
                    <a:pt x="21768" y="48131"/>
                  </a:lnTo>
                  <a:lnTo>
                    <a:pt x="20052" y="49868"/>
                  </a:lnTo>
                  <a:lnTo>
                    <a:pt x="18060" y="51025"/>
                  </a:lnTo>
                  <a:lnTo>
                    <a:pt x="16733" y="52643"/>
                  </a:lnTo>
                  <a:lnTo>
                    <a:pt x="15848" y="54569"/>
                  </a:lnTo>
                  <a:lnTo>
                    <a:pt x="15258" y="56699"/>
                  </a:lnTo>
                  <a:lnTo>
                    <a:pt x="12345" y="61324"/>
                  </a:lnTo>
                  <a:lnTo>
                    <a:pt x="10383" y="63743"/>
                  </a:lnTo>
                  <a:lnTo>
                    <a:pt x="9074" y="66202"/>
                  </a:lnTo>
                  <a:lnTo>
                    <a:pt x="7621" y="71192"/>
                  </a:lnTo>
                  <a:lnTo>
                    <a:pt x="6386" y="72861"/>
                  </a:lnTo>
                  <a:lnTo>
                    <a:pt x="4718" y="73974"/>
                  </a:lnTo>
                  <a:lnTo>
                    <a:pt x="0" y="75760"/>
                  </a:lnTo>
                  <a:lnTo>
                    <a:pt x="459" y="75907"/>
                  </a:lnTo>
                  <a:lnTo>
                    <a:pt x="6667" y="76174"/>
                  </a:lnTo>
                  <a:lnTo>
                    <a:pt x="43042" y="76199"/>
                  </a:lnTo>
                  <a:lnTo>
                    <a:pt x="51167" y="75353"/>
                  </a:lnTo>
                  <a:lnTo>
                    <a:pt x="59125" y="73942"/>
                  </a:lnTo>
                  <a:lnTo>
                    <a:pt x="66968" y="72154"/>
                  </a:lnTo>
                  <a:lnTo>
                    <a:pt x="75585" y="71810"/>
                  </a:lnTo>
                  <a:lnTo>
                    <a:pt x="84715" y="72426"/>
                  </a:lnTo>
                  <a:lnTo>
                    <a:pt x="94190" y="73684"/>
                  </a:lnTo>
                  <a:lnTo>
                    <a:pt x="103893" y="74523"/>
                  </a:lnTo>
                  <a:lnTo>
                    <a:pt x="113748" y="75082"/>
                  </a:lnTo>
                  <a:lnTo>
                    <a:pt x="123704" y="75455"/>
                  </a:lnTo>
                  <a:lnTo>
                    <a:pt x="132036" y="77396"/>
                  </a:lnTo>
                  <a:lnTo>
                    <a:pt x="139283" y="80385"/>
                  </a:lnTo>
                  <a:lnTo>
                    <a:pt x="145808" y="84070"/>
                  </a:lnTo>
                  <a:lnTo>
                    <a:pt x="152699" y="87373"/>
                  </a:lnTo>
                  <a:lnTo>
                    <a:pt x="159831" y="90422"/>
                  </a:lnTo>
                  <a:lnTo>
                    <a:pt x="167127" y="93301"/>
                  </a:lnTo>
                  <a:lnTo>
                    <a:pt x="182006" y="98758"/>
                  </a:lnTo>
                  <a:lnTo>
                    <a:pt x="189531" y="101399"/>
                  </a:lnTo>
                  <a:lnTo>
                    <a:pt x="195392" y="104853"/>
                  </a:lnTo>
                  <a:lnTo>
                    <a:pt x="200148" y="108848"/>
                  </a:lnTo>
                  <a:lnTo>
                    <a:pt x="207689" y="116957"/>
                  </a:lnTo>
                  <a:lnTo>
                    <a:pt x="213863" y="123383"/>
                  </a:lnTo>
                  <a:lnTo>
                    <a:pt x="216695" y="127129"/>
                  </a:lnTo>
                  <a:lnTo>
                    <a:pt x="219428" y="131319"/>
                  </a:lnTo>
                  <a:lnTo>
                    <a:pt x="222099" y="135806"/>
                  </a:lnTo>
                  <a:lnTo>
                    <a:pt x="225065" y="143050"/>
                  </a:lnTo>
                  <a:lnTo>
                    <a:pt x="226383" y="149938"/>
                  </a:lnTo>
                  <a:lnTo>
                    <a:pt x="226735" y="154145"/>
                  </a:lnTo>
                  <a:lnTo>
                    <a:pt x="226970" y="158643"/>
                  </a:lnTo>
                  <a:lnTo>
                    <a:pt x="226279" y="163336"/>
                  </a:lnTo>
                  <a:lnTo>
                    <a:pt x="224971" y="168157"/>
                  </a:lnTo>
                  <a:lnTo>
                    <a:pt x="223254" y="173064"/>
                  </a:lnTo>
                  <a:lnTo>
                    <a:pt x="221262" y="177183"/>
                  </a:lnTo>
                  <a:lnTo>
                    <a:pt x="214413" y="187871"/>
                  </a:lnTo>
                  <a:lnTo>
                    <a:pt x="211981" y="192134"/>
                  </a:lnTo>
                  <a:lnTo>
                    <a:pt x="209514" y="196670"/>
                  </a:lnTo>
                  <a:lnTo>
                    <a:pt x="204514" y="203966"/>
                  </a:lnTo>
                  <a:lnTo>
                    <a:pt x="201995" y="207098"/>
                  </a:lnTo>
                  <a:lnTo>
                    <a:pt x="198623" y="210032"/>
                  </a:lnTo>
                  <a:lnTo>
                    <a:pt x="194681" y="212834"/>
                  </a:lnTo>
                  <a:lnTo>
                    <a:pt x="190360" y="215550"/>
                  </a:lnTo>
                  <a:lnTo>
                    <a:pt x="185786" y="218206"/>
                  </a:lnTo>
                  <a:lnTo>
                    <a:pt x="181044" y="220824"/>
                  </a:lnTo>
                  <a:lnTo>
                    <a:pt x="176188" y="223416"/>
                  </a:lnTo>
                  <a:lnTo>
                    <a:pt x="172105" y="225991"/>
                  </a:lnTo>
                  <a:lnTo>
                    <a:pt x="165310" y="231109"/>
                  </a:lnTo>
                  <a:lnTo>
                    <a:pt x="161467" y="232813"/>
                  </a:lnTo>
                  <a:lnTo>
                    <a:pt x="157210" y="233949"/>
                  </a:lnTo>
                  <a:lnTo>
                    <a:pt x="152680" y="234706"/>
                  </a:lnTo>
                  <a:lnTo>
                    <a:pt x="148812" y="235211"/>
                  </a:lnTo>
                  <a:lnTo>
                    <a:pt x="142258" y="235771"/>
                  </a:lnTo>
                  <a:lnTo>
                    <a:pt x="136523" y="236021"/>
                  </a:lnTo>
                  <a:lnTo>
                    <a:pt x="128534" y="236161"/>
                  </a:lnTo>
                  <a:lnTo>
                    <a:pt x="125942" y="236181"/>
                  </a:lnTo>
                  <a:lnTo>
                    <a:pt x="123367" y="235347"/>
                  </a:lnTo>
                  <a:lnTo>
                    <a:pt x="120805" y="233945"/>
                  </a:lnTo>
                  <a:lnTo>
                    <a:pt x="113138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276"/>
            <p:cNvSpPr/>
            <p:nvPr/>
          </p:nvSpPr>
          <p:spPr>
            <a:xfrm>
              <a:off x="7292160" y="3154320"/>
              <a:ext cx="182520" cy="75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0" h="7620">
                  <a:moveTo>
                    <a:pt x="0" y="7619"/>
                  </a:moveTo>
                  <a:lnTo>
                    <a:pt x="8090" y="7619"/>
                  </a:lnTo>
                  <a:lnTo>
                    <a:pt x="11320" y="6772"/>
                  </a:lnTo>
                  <a:lnTo>
                    <a:pt x="14320" y="5361"/>
                  </a:lnTo>
                  <a:lnTo>
                    <a:pt x="17166" y="3574"/>
                  </a:lnTo>
                  <a:lnTo>
                    <a:pt x="19911" y="2382"/>
                  </a:lnTo>
                  <a:lnTo>
                    <a:pt x="22588" y="1588"/>
                  </a:lnTo>
                  <a:lnTo>
                    <a:pt x="25218" y="1058"/>
                  </a:lnTo>
                  <a:lnTo>
                    <a:pt x="28666" y="705"/>
                  </a:lnTo>
                  <a:lnTo>
                    <a:pt x="32657" y="470"/>
                  </a:lnTo>
                  <a:lnTo>
                    <a:pt x="40761" y="208"/>
                  </a:lnTo>
                  <a:lnTo>
                    <a:pt x="51777" y="61"/>
                  </a:lnTo>
                  <a:lnTo>
                    <a:pt x="115742" y="0"/>
                  </a:lnTo>
                  <a:lnTo>
                    <a:pt x="122035" y="846"/>
                  </a:lnTo>
                  <a:lnTo>
                    <a:pt x="127923" y="2257"/>
                  </a:lnTo>
                  <a:lnTo>
                    <a:pt x="133542" y="4044"/>
                  </a:lnTo>
                  <a:lnTo>
                    <a:pt x="138981" y="5236"/>
                  </a:lnTo>
                  <a:lnTo>
                    <a:pt x="144300" y="6030"/>
                  </a:lnTo>
                  <a:lnTo>
                    <a:pt x="149540" y="6560"/>
                  </a:lnTo>
                  <a:lnTo>
                    <a:pt x="153880" y="6913"/>
                  </a:lnTo>
                  <a:lnTo>
                    <a:pt x="157620" y="7148"/>
                  </a:lnTo>
                  <a:lnTo>
                    <a:pt x="164033" y="7410"/>
                  </a:lnTo>
                  <a:lnTo>
                    <a:pt x="172403" y="7557"/>
                  </a:lnTo>
                  <a:lnTo>
                    <a:pt x="182879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277"/>
            <p:cNvSpPr/>
            <p:nvPr/>
          </p:nvSpPr>
          <p:spPr>
            <a:xfrm>
              <a:off x="7558560" y="2974680"/>
              <a:ext cx="166320" cy="4690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166419" h="469211">
                  <a:moveTo>
                    <a:pt x="0" y="4390"/>
                  </a:moveTo>
                  <a:lnTo>
                    <a:pt x="4046" y="345"/>
                  </a:lnTo>
                  <a:lnTo>
                    <a:pt x="5237" y="0"/>
                  </a:lnTo>
                  <a:lnTo>
                    <a:pt x="6032" y="616"/>
                  </a:lnTo>
                  <a:lnTo>
                    <a:pt x="6563" y="1875"/>
                  </a:lnTo>
                  <a:lnTo>
                    <a:pt x="7761" y="2713"/>
                  </a:lnTo>
                  <a:lnTo>
                    <a:pt x="11351" y="3645"/>
                  </a:lnTo>
                  <a:lnTo>
                    <a:pt x="15770" y="4059"/>
                  </a:lnTo>
                  <a:lnTo>
                    <a:pt x="18134" y="4169"/>
                  </a:lnTo>
                  <a:lnTo>
                    <a:pt x="20555" y="5089"/>
                  </a:lnTo>
                  <a:lnTo>
                    <a:pt x="25506" y="8370"/>
                  </a:lnTo>
                  <a:lnTo>
                    <a:pt x="41142" y="19022"/>
                  </a:lnTo>
                  <a:lnTo>
                    <a:pt x="46902" y="23458"/>
                  </a:lnTo>
                  <a:lnTo>
                    <a:pt x="52434" y="28109"/>
                  </a:lnTo>
                  <a:lnTo>
                    <a:pt x="57816" y="32902"/>
                  </a:lnTo>
                  <a:lnTo>
                    <a:pt x="63099" y="38638"/>
                  </a:lnTo>
                  <a:lnTo>
                    <a:pt x="68312" y="45002"/>
                  </a:lnTo>
                  <a:lnTo>
                    <a:pt x="73482" y="51785"/>
                  </a:lnTo>
                  <a:lnTo>
                    <a:pt x="83742" y="66094"/>
                  </a:lnTo>
                  <a:lnTo>
                    <a:pt x="88847" y="73466"/>
                  </a:lnTo>
                  <a:lnTo>
                    <a:pt x="93946" y="81768"/>
                  </a:lnTo>
                  <a:lnTo>
                    <a:pt x="99037" y="90689"/>
                  </a:lnTo>
                  <a:lnTo>
                    <a:pt x="109211" y="109632"/>
                  </a:lnTo>
                  <a:lnTo>
                    <a:pt x="119377" y="129340"/>
                  </a:lnTo>
                  <a:lnTo>
                    <a:pt x="123611" y="140183"/>
                  </a:lnTo>
                  <a:lnTo>
                    <a:pt x="127281" y="151645"/>
                  </a:lnTo>
                  <a:lnTo>
                    <a:pt x="130574" y="163520"/>
                  </a:lnTo>
                  <a:lnTo>
                    <a:pt x="134462" y="175670"/>
                  </a:lnTo>
                  <a:lnTo>
                    <a:pt x="138750" y="188004"/>
                  </a:lnTo>
                  <a:lnTo>
                    <a:pt x="143299" y="200459"/>
                  </a:lnTo>
                  <a:lnTo>
                    <a:pt x="147180" y="212996"/>
                  </a:lnTo>
                  <a:lnTo>
                    <a:pt x="150614" y="225587"/>
                  </a:lnTo>
                  <a:lnTo>
                    <a:pt x="153749" y="238215"/>
                  </a:lnTo>
                  <a:lnTo>
                    <a:pt x="155839" y="251713"/>
                  </a:lnTo>
                  <a:lnTo>
                    <a:pt x="157233" y="265792"/>
                  </a:lnTo>
                  <a:lnTo>
                    <a:pt x="158163" y="280258"/>
                  </a:lnTo>
                  <a:lnTo>
                    <a:pt x="159628" y="294135"/>
                  </a:lnTo>
                  <a:lnTo>
                    <a:pt x="161453" y="307620"/>
                  </a:lnTo>
                  <a:lnTo>
                    <a:pt x="163516" y="320843"/>
                  </a:lnTo>
                  <a:lnTo>
                    <a:pt x="164890" y="333046"/>
                  </a:lnTo>
                  <a:lnTo>
                    <a:pt x="165807" y="344567"/>
                  </a:lnTo>
                  <a:lnTo>
                    <a:pt x="166418" y="355635"/>
                  </a:lnTo>
                  <a:lnTo>
                    <a:pt x="165979" y="365553"/>
                  </a:lnTo>
                  <a:lnTo>
                    <a:pt x="164839" y="374705"/>
                  </a:lnTo>
                  <a:lnTo>
                    <a:pt x="163233" y="383347"/>
                  </a:lnTo>
                  <a:lnTo>
                    <a:pt x="161316" y="391648"/>
                  </a:lnTo>
                  <a:lnTo>
                    <a:pt x="159190" y="399722"/>
                  </a:lnTo>
                  <a:lnTo>
                    <a:pt x="156926" y="407645"/>
                  </a:lnTo>
                  <a:lnTo>
                    <a:pt x="153726" y="414620"/>
                  </a:lnTo>
                  <a:lnTo>
                    <a:pt x="149896" y="420963"/>
                  </a:lnTo>
                  <a:lnTo>
                    <a:pt x="145652" y="426885"/>
                  </a:lnTo>
                  <a:lnTo>
                    <a:pt x="141127" y="432527"/>
                  </a:lnTo>
                  <a:lnTo>
                    <a:pt x="136420" y="437981"/>
                  </a:lnTo>
                  <a:lnTo>
                    <a:pt x="131586" y="443311"/>
                  </a:lnTo>
                  <a:lnTo>
                    <a:pt x="126671" y="447711"/>
                  </a:lnTo>
                  <a:lnTo>
                    <a:pt x="121700" y="451491"/>
                  </a:lnTo>
                  <a:lnTo>
                    <a:pt x="116694" y="454857"/>
                  </a:lnTo>
                  <a:lnTo>
                    <a:pt x="112510" y="457101"/>
                  </a:lnTo>
                  <a:lnTo>
                    <a:pt x="108873" y="458598"/>
                  </a:lnTo>
                  <a:lnTo>
                    <a:pt x="105603" y="459595"/>
                  </a:lnTo>
                  <a:lnTo>
                    <a:pt x="101729" y="460260"/>
                  </a:lnTo>
                  <a:lnTo>
                    <a:pt x="97452" y="460704"/>
                  </a:lnTo>
                  <a:lnTo>
                    <a:pt x="92908" y="460999"/>
                  </a:lnTo>
                  <a:lnTo>
                    <a:pt x="89032" y="462043"/>
                  </a:lnTo>
                  <a:lnTo>
                    <a:pt x="85602" y="463585"/>
                  </a:lnTo>
                  <a:lnTo>
                    <a:pt x="82468" y="465460"/>
                  </a:lnTo>
                  <a:lnTo>
                    <a:pt x="79533" y="466710"/>
                  </a:lnTo>
                  <a:lnTo>
                    <a:pt x="76728" y="467543"/>
                  </a:lnTo>
                  <a:lnTo>
                    <a:pt x="68580" y="469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278"/>
            <p:cNvSpPr/>
            <p:nvPr/>
          </p:nvSpPr>
          <p:spPr>
            <a:xfrm>
              <a:off x="5794920" y="3573720"/>
              <a:ext cx="171360" cy="135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71410" h="135493">
                  <a:moveTo>
                    <a:pt x="171409" y="45588"/>
                  </a:moveTo>
                  <a:lnTo>
                    <a:pt x="171409" y="34237"/>
                  </a:lnTo>
                  <a:lnTo>
                    <a:pt x="170562" y="32094"/>
                  </a:lnTo>
                  <a:lnTo>
                    <a:pt x="169151" y="29819"/>
                  </a:lnTo>
                  <a:lnTo>
                    <a:pt x="167364" y="27455"/>
                  </a:lnTo>
                  <a:lnTo>
                    <a:pt x="166172" y="25033"/>
                  </a:lnTo>
                  <a:lnTo>
                    <a:pt x="165378" y="22571"/>
                  </a:lnTo>
                  <a:lnTo>
                    <a:pt x="164848" y="20083"/>
                  </a:lnTo>
                  <a:lnTo>
                    <a:pt x="163648" y="17578"/>
                  </a:lnTo>
                  <a:lnTo>
                    <a:pt x="162002" y="15062"/>
                  </a:lnTo>
                  <a:lnTo>
                    <a:pt x="160058" y="12537"/>
                  </a:lnTo>
                  <a:lnTo>
                    <a:pt x="157915" y="10007"/>
                  </a:lnTo>
                  <a:lnTo>
                    <a:pt x="155639" y="7474"/>
                  </a:lnTo>
                  <a:lnTo>
                    <a:pt x="153277" y="4939"/>
                  </a:lnTo>
                  <a:lnTo>
                    <a:pt x="150007" y="3248"/>
                  </a:lnTo>
                  <a:lnTo>
                    <a:pt x="146134" y="2122"/>
                  </a:lnTo>
                  <a:lnTo>
                    <a:pt x="141859" y="1371"/>
                  </a:lnTo>
                  <a:lnTo>
                    <a:pt x="138162" y="870"/>
                  </a:lnTo>
                  <a:lnTo>
                    <a:pt x="134851" y="536"/>
                  </a:lnTo>
                  <a:lnTo>
                    <a:pt x="131797" y="313"/>
                  </a:lnTo>
                  <a:lnTo>
                    <a:pt x="127221" y="165"/>
                  </a:lnTo>
                  <a:lnTo>
                    <a:pt x="115364" y="0"/>
                  </a:lnTo>
                  <a:lnTo>
                    <a:pt x="108645" y="803"/>
                  </a:lnTo>
                  <a:lnTo>
                    <a:pt x="101627" y="2184"/>
                  </a:lnTo>
                  <a:lnTo>
                    <a:pt x="94407" y="3952"/>
                  </a:lnTo>
                  <a:lnTo>
                    <a:pt x="87055" y="5978"/>
                  </a:lnTo>
                  <a:lnTo>
                    <a:pt x="72111" y="10485"/>
                  </a:lnTo>
                  <a:lnTo>
                    <a:pt x="49419" y="17784"/>
                  </a:lnTo>
                  <a:lnTo>
                    <a:pt x="42669" y="21125"/>
                  </a:lnTo>
                  <a:lnTo>
                    <a:pt x="36476" y="25046"/>
                  </a:lnTo>
                  <a:lnTo>
                    <a:pt x="30653" y="29354"/>
                  </a:lnTo>
                  <a:lnTo>
                    <a:pt x="25078" y="33072"/>
                  </a:lnTo>
                  <a:lnTo>
                    <a:pt x="19669" y="36397"/>
                  </a:lnTo>
                  <a:lnTo>
                    <a:pt x="14369" y="39461"/>
                  </a:lnTo>
                  <a:lnTo>
                    <a:pt x="10835" y="43197"/>
                  </a:lnTo>
                  <a:lnTo>
                    <a:pt x="8481" y="47381"/>
                  </a:lnTo>
                  <a:lnTo>
                    <a:pt x="6910" y="51863"/>
                  </a:lnTo>
                  <a:lnTo>
                    <a:pt x="5016" y="56545"/>
                  </a:lnTo>
                  <a:lnTo>
                    <a:pt x="2907" y="61359"/>
                  </a:lnTo>
                  <a:lnTo>
                    <a:pt x="655" y="66262"/>
                  </a:lnTo>
                  <a:lnTo>
                    <a:pt x="0" y="71224"/>
                  </a:lnTo>
                  <a:lnTo>
                    <a:pt x="410" y="76225"/>
                  </a:lnTo>
                  <a:lnTo>
                    <a:pt x="1529" y="81253"/>
                  </a:lnTo>
                  <a:lnTo>
                    <a:pt x="3123" y="85451"/>
                  </a:lnTo>
                  <a:lnTo>
                    <a:pt x="5031" y="89097"/>
                  </a:lnTo>
                  <a:lnTo>
                    <a:pt x="7151" y="92374"/>
                  </a:lnTo>
                  <a:lnTo>
                    <a:pt x="10257" y="96252"/>
                  </a:lnTo>
                  <a:lnTo>
                    <a:pt x="14021" y="100531"/>
                  </a:lnTo>
                  <a:lnTo>
                    <a:pt x="18224" y="105076"/>
                  </a:lnTo>
                  <a:lnTo>
                    <a:pt x="22718" y="108954"/>
                  </a:lnTo>
                  <a:lnTo>
                    <a:pt x="27408" y="112385"/>
                  </a:lnTo>
                  <a:lnTo>
                    <a:pt x="32229" y="115519"/>
                  </a:lnTo>
                  <a:lnTo>
                    <a:pt x="37982" y="118456"/>
                  </a:lnTo>
                  <a:lnTo>
                    <a:pt x="44358" y="121260"/>
                  </a:lnTo>
                  <a:lnTo>
                    <a:pt x="51148" y="123976"/>
                  </a:lnTo>
                  <a:lnTo>
                    <a:pt x="65466" y="129251"/>
                  </a:lnTo>
                  <a:lnTo>
                    <a:pt x="72841" y="131844"/>
                  </a:lnTo>
                  <a:lnTo>
                    <a:pt x="80297" y="133572"/>
                  </a:lnTo>
                  <a:lnTo>
                    <a:pt x="87807" y="134724"/>
                  </a:lnTo>
                  <a:lnTo>
                    <a:pt x="95355" y="135492"/>
                  </a:lnTo>
                  <a:lnTo>
                    <a:pt x="102080" y="135157"/>
                  </a:lnTo>
                  <a:lnTo>
                    <a:pt x="108256" y="134088"/>
                  </a:lnTo>
                  <a:lnTo>
                    <a:pt x="114067" y="132528"/>
                  </a:lnTo>
                  <a:lnTo>
                    <a:pt x="119635" y="130641"/>
                  </a:lnTo>
                  <a:lnTo>
                    <a:pt x="125039" y="128536"/>
                  </a:lnTo>
                  <a:lnTo>
                    <a:pt x="130336" y="126287"/>
                  </a:lnTo>
                  <a:lnTo>
                    <a:pt x="134713" y="123941"/>
                  </a:lnTo>
                  <a:lnTo>
                    <a:pt x="138479" y="121529"/>
                  </a:lnTo>
                  <a:lnTo>
                    <a:pt x="141835" y="119076"/>
                  </a:lnTo>
                  <a:lnTo>
                    <a:pt x="144920" y="116593"/>
                  </a:lnTo>
                  <a:lnTo>
                    <a:pt x="147823" y="114092"/>
                  </a:lnTo>
                  <a:lnTo>
                    <a:pt x="150605" y="111577"/>
                  </a:lnTo>
                  <a:lnTo>
                    <a:pt x="153306" y="108207"/>
                  </a:lnTo>
                  <a:lnTo>
                    <a:pt x="155954" y="104268"/>
                  </a:lnTo>
                  <a:lnTo>
                    <a:pt x="158566" y="99948"/>
                  </a:lnTo>
                  <a:lnTo>
                    <a:pt x="160307" y="95374"/>
                  </a:lnTo>
                  <a:lnTo>
                    <a:pt x="161468" y="90633"/>
                  </a:lnTo>
                  <a:lnTo>
                    <a:pt x="162242" y="85778"/>
                  </a:lnTo>
                  <a:lnTo>
                    <a:pt x="161911" y="80848"/>
                  </a:lnTo>
                  <a:lnTo>
                    <a:pt x="160844" y="75868"/>
                  </a:lnTo>
                  <a:lnTo>
                    <a:pt x="159286" y="70855"/>
                  </a:lnTo>
                  <a:lnTo>
                    <a:pt x="158246" y="66666"/>
                  </a:lnTo>
                  <a:lnTo>
                    <a:pt x="157554" y="63026"/>
                  </a:lnTo>
                  <a:lnTo>
                    <a:pt x="157092" y="59754"/>
                  </a:lnTo>
                  <a:lnTo>
                    <a:pt x="155938" y="56725"/>
                  </a:lnTo>
                  <a:lnTo>
                    <a:pt x="154322" y="53860"/>
                  </a:lnTo>
                  <a:lnTo>
                    <a:pt x="152398" y="51102"/>
                  </a:lnTo>
                  <a:lnTo>
                    <a:pt x="150268" y="48418"/>
                  </a:lnTo>
                  <a:lnTo>
                    <a:pt x="148002" y="45781"/>
                  </a:lnTo>
                  <a:lnTo>
                    <a:pt x="145645" y="43177"/>
                  </a:lnTo>
                  <a:lnTo>
                    <a:pt x="143226" y="41441"/>
                  </a:lnTo>
                  <a:lnTo>
                    <a:pt x="140767" y="40283"/>
                  </a:lnTo>
                  <a:lnTo>
                    <a:pt x="133309" y="379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279"/>
            <p:cNvSpPr/>
            <p:nvPr/>
          </p:nvSpPr>
          <p:spPr>
            <a:xfrm>
              <a:off x="5814000" y="3680280"/>
              <a:ext cx="151560" cy="1508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51671" h="150849">
                  <a:moveTo>
                    <a:pt x="106436" y="7612"/>
                  </a:moveTo>
                  <a:lnTo>
                    <a:pt x="106436" y="306"/>
                  </a:lnTo>
                  <a:lnTo>
                    <a:pt x="102390" y="85"/>
                  </a:lnTo>
                  <a:lnTo>
                    <a:pt x="98675" y="10"/>
                  </a:lnTo>
                  <a:lnTo>
                    <a:pt x="95084" y="0"/>
                  </a:lnTo>
                  <a:lnTo>
                    <a:pt x="92941" y="844"/>
                  </a:lnTo>
                  <a:lnTo>
                    <a:pt x="88303" y="4040"/>
                  </a:lnTo>
                  <a:lnTo>
                    <a:pt x="84187" y="6077"/>
                  </a:lnTo>
                  <a:lnTo>
                    <a:pt x="78903" y="8282"/>
                  </a:lnTo>
                  <a:lnTo>
                    <a:pt x="72841" y="10599"/>
                  </a:lnTo>
                  <a:lnTo>
                    <a:pt x="67105" y="13836"/>
                  </a:lnTo>
                  <a:lnTo>
                    <a:pt x="61588" y="17689"/>
                  </a:lnTo>
                  <a:lnTo>
                    <a:pt x="56217" y="21950"/>
                  </a:lnTo>
                  <a:lnTo>
                    <a:pt x="50097" y="26484"/>
                  </a:lnTo>
                  <a:lnTo>
                    <a:pt x="36523" y="36037"/>
                  </a:lnTo>
                  <a:lnTo>
                    <a:pt x="31040" y="40956"/>
                  </a:lnTo>
                  <a:lnTo>
                    <a:pt x="26539" y="45928"/>
                  </a:lnTo>
                  <a:lnTo>
                    <a:pt x="22690" y="50936"/>
                  </a:lnTo>
                  <a:lnTo>
                    <a:pt x="18432" y="55121"/>
                  </a:lnTo>
                  <a:lnTo>
                    <a:pt x="13900" y="58758"/>
                  </a:lnTo>
                  <a:lnTo>
                    <a:pt x="9185" y="62030"/>
                  </a:lnTo>
                  <a:lnTo>
                    <a:pt x="6042" y="65904"/>
                  </a:lnTo>
                  <a:lnTo>
                    <a:pt x="3947" y="70180"/>
                  </a:lnTo>
                  <a:lnTo>
                    <a:pt x="2550" y="74724"/>
                  </a:lnTo>
                  <a:lnTo>
                    <a:pt x="1618" y="79446"/>
                  </a:lnTo>
                  <a:lnTo>
                    <a:pt x="997" y="84288"/>
                  </a:lnTo>
                  <a:lnTo>
                    <a:pt x="583" y="89210"/>
                  </a:lnTo>
                  <a:lnTo>
                    <a:pt x="307" y="94184"/>
                  </a:lnTo>
                  <a:lnTo>
                    <a:pt x="0" y="104226"/>
                  </a:lnTo>
                  <a:lnTo>
                    <a:pt x="766" y="109275"/>
                  </a:lnTo>
                  <a:lnTo>
                    <a:pt x="2122" y="114334"/>
                  </a:lnTo>
                  <a:lnTo>
                    <a:pt x="3873" y="119400"/>
                  </a:lnTo>
                  <a:lnTo>
                    <a:pt x="6734" y="123624"/>
                  </a:lnTo>
                  <a:lnTo>
                    <a:pt x="10334" y="127287"/>
                  </a:lnTo>
                  <a:lnTo>
                    <a:pt x="14428" y="130575"/>
                  </a:lnTo>
                  <a:lnTo>
                    <a:pt x="18850" y="133614"/>
                  </a:lnTo>
                  <a:lnTo>
                    <a:pt x="23492" y="136487"/>
                  </a:lnTo>
                  <a:lnTo>
                    <a:pt x="28280" y="139249"/>
                  </a:lnTo>
                  <a:lnTo>
                    <a:pt x="38115" y="144575"/>
                  </a:lnTo>
                  <a:lnTo>
                    <a:pt x="43108" y="147181"/>
                  </a:lnTo>
                  <a:lnTo>
                    <a:pt x="48977" y="148918"/>
                  </a:lnTo>
                  <a:lnTo>
                    <a:pt x="55430" y="150076"/>
                  </a:lnTo>
                  <a:lnTo>
                    <a:pt x="62272" y="150848"/>
                  </a:lnTo>
                  <a:lnTo>
                    <a:pt x="68526" y="150516"/>
                  </a:lnTo>
                  <a:lnTo>
                    <a:pt x="74389" y="149448"/>
                  </a:lnTo>
                  <a:lnTo>
                    <a:pt x="79991" y="147889"/>
                  </a:lnTo>
                  <a:lnTo>
                    <a:pt x="85419" y="146003"/>
                  </a:lnTo>
                  <a:lnTo>
                    <a:pt x="90731" y="143900"/>
                  </a:lnTo>
                  <a:lnTo>
                    <a:pt x="95966" y="141651"/>
                  </a:lnTo>
                  <a:lnTo>
                    <a:pt x="106298" y="136894"/>
                  </a:lnTo>
                  <a:lnTo>
                    <a:pt x="111424" y="134440"/>
                  </a:lnTo>
                  <a:lnTo>
                    <a:pt x="116535" y="131111"/>
                  </a:lnTo>
                  <a:lnTo>
                    <a:pt x="121635" y="127198"/>
                  </a:lnTo>
                  <a:lnTo>
                    <a:pt x="126728" y="122896"/>
                  </a:lnTo>
                  <a:lnTo>
                    <a:pt x="130971" y="118335"/>
                  </a:lnTo>
                  <a:lnTo>
                    <a:pt x="134646" y="113600"/>
                  </a:lnTo>
                  <a:lnTo>
                    <a:pt x="137943" y="108751"/>
                  </a:lnTo>
                  <a:lnTo>
                    <a:pt x="140987" y="103825"/>
                  </a:lnTo>
                  <a:lnTo>
                    <a:pt x="143863" y="98847"/>
                  </a:lnTo>
                  <a:lnTo>
                    <a:pt x="146627" y="93835"/>
                  </a:lnTo>
                  <a:lnTo>
                    <a:pt x="148469" y="89648"/>
                  </a:lnTo>
                  <a:lnTo>
                    <a:pt x="149699" y="86009"/>
                  </a:lnTo>
                  <a:lnTo>
                    <a:pt x="150517" y="82737"/>
                  </a:lnTo>
                  <a:lnTo>
                    <a:pt x="151063" y="78862"/>
                  </a:lnTo>
                  <a:lnTo>
                    <a:pt x="151427" y="74585"/>
                  </a:lnTo>
                  <a:lnTo>
                    <a:pt x="151670" y="70041"/>
                  </a:lnTo>
                  <a:lnTo>
                    <a:pt x="150986" y="65318"/>
                  </a:lnTo>
                  <a:lnTo>
                    <a:pt x="149682" y="60476"/>
                  </a:lnTo>
                  <a:lnTo>
                    <a:pt x="147966" y="55555"/>
                  </a:lnTo>
                  <a:lnTo>
                    <a:pt x="145977" y="50581"/>
                  </a:lnTo>
                  <a:lnTo>
                    <a:pt x="143803" y="45571"/>
                  </a:lnTo>
                  <a:lnTo>
                    <a:pt x="141507" y="40538"/>
                  </a:lnTo>
                  <a:lnTo>
                    <a:pt x="139976" y="36336"/>
                  </a:lnTo>
                  <a:lnTo>
                    <a:pt x="138956" y="32688"/>
                  </a:lnTo>
                  <a:lnTo>
                    <a:pt x="138276" y="29409"/>
                  </a:lnTo>
                  <a:lnTo>
                    <a:pt x="136976" y="26377"/>
                  </a:lnTo>
                  <a:lnTo>
                    <a:pt x="135262" y="23509"/>
                  </a:lnTo>
                  <a:lnTo>
                    <a:pt x="133273" y="20750"/>
                  </a:lnTo>
                  <a:lnTo>
                    <a:pt x="131100" y="18064"/>
                  </a:lnTo>
                  <a:lnTo>
                    <a:pt x="128805" y="15427"/>
                  </a:lnTo>
                  <a:lnTo>
                    <a:pt x="126428" y="12822"/>
                  </a:lnTo>
                  <a:lnTo>
                    <a:pt x="123998" y="11085"/>
                  </a:lnTo>
                  <a:lnTo>
                    <a:pt x="121530" y="9927"/>
                  </a:lnTo>
                  <a:lnTo>
                    <a:pt x="114056" y="76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280"/>
            <p:cNvSpPr/>
            <p:nvPr/>
          </p:nvSpPr>
          <p:spPr>
            <a:xfrm>
              <a:off x="6316920" y="3581280"/>
              <a:ext cx="37800" cy="236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8101" h="236221">
                  <a:moveTo>
                    <a:pt x="38100" y="0"/>
                  </a:moveTo>
                  <a:lnTo>
                    <a:pt x="38100" y="58782"/>
                  </a:lnTo>
                  <a:lnTo>
                    <a:pt x="37253" y="64588"/>
                  </a:lnTo>
                  <a:lnTo>
                    <a:pt x="35842" y="70999"/>
                  </a:lnTo>
                  <a:lnTo>
                    <a:pt x="34055" y="77813"/>
                  </a:lnTo>
                  <a:lnTo>
                    <a:pt x="32863" y="84048"/>
                  </a:lnTo>
                  <a:lnTo>
                    <a:pt x="32069" y="89899"/>
                  </a:lnTo>
                  <a:lnTo>
                    <a:pt x="31539" y="95493"/>
                  </a:lnTo>
                  <a:lnTo>
                    <a:pt x="30339" y="101762"/>
                  </a:lnTo>
                  <a:lnTo>
                    <a:pt x="28694" y="108481"/>
                  </a:lnTo>
                  <a:lnTo>
                    <a:pt x="26749" y="115501"/>
                  </a:lnTo>
                  <a:lnTo>
                    <a:pt x="24606" y="121874"/>
                  </a:lnTo>
                  <a:lnTo>
                    <a:pt x="22331" y="127816"/>
                  </a:lnTo>
                  <a:lnTo>
                    <a:pt x="19967" y="133471"/>
                  </a:lnTo>
                  <a:lnTo>
                    <a:pt x="17545" y="139781"/>
                  </a:lnTo>
                  <a:lnTo>
                    <a:pt x="12595" y="153565"/>
                  </a:lnTo>
                  <a:lnTo>
                    <a:pt x="10090" y="159950"/>
                  </a:lnTo>
                  <a:lnTo>
                    <a:pt x="7574" y="165900"/>
                  </a:lnTo>
                  <a:lnTo>
                    <a:pt x="5049" y="171560"/>
                  </a:lnTo>
                  <a:lnTo>
                    <a:pt x="3367" y="177874"/>
                  </a:lnTo>
                  <a:lnTo>
                    <a:pt x="2244" y="184622"/>
                  </a:lnTo>
                  <a:lnTo>
                    <a:pt x="1496" y="191662"/>
                  </a:lnTo>
                  <a:lnTo>
                    <a:pt x="998" y="197202"/>
                  </a:lnTo>
                  <a:lnTo>
                    <a:pt x="665" y="201741"/>
                  </a:lnTo>
                  <a:lnTo>
                    <a:pt x="296" y="209043"/>
                  </a:lnTo>
                  <a:lnTo>
                    <a:pt x="131" y="215110"/>
                  </a:lnTo>
                  <a:lnTo>
                    <a:pt x="0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281"/>
            <p:cNvSpPr/>
            <p:nvPr/>
          </p:nvSpPr>
          <p:spPr>
            <a:xfrm>
              <a:off x="6301440" y="3703320"/>
              <a:ext cx="167400" cy="532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67640" h="5334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8" y="2258"/>
                  </a:lnTo>
                  <a:lnTo>
                    <a:pt x="10605" y="4045"/>
                  </a:lnTo>
                  <a:lnTo>
                    <a:pt x="12997" y="5237"/>
                  </a:lnTo>
                  <a:lnTo>
                    <a:pt x="17912" y="6561"/>
                  </a:lnTo>
                  <a:lnTo>
                    <a:pt x="22101" y="7760"/>
                  </a:lnTo>
                  <a:lnTo>
                    <a:pt x="33529" y="11352"/>
                  </a:lnTo>
                  <a:lnTo>
                    <a:pt x="121943" y="40649"/>
                  </a:lnTo>
                  <a:lnTo>
                    <a:pt x="129555" y="42340"/>
                  </a:lnTo>
                  <a:lnTo>
                    <a:pt x="137170" y="43466"/>
                  </a:lnTo>
                  <a:lnTo>
                    <a:pt x="144786" y="44218"/>
                  </a:lnTo>
                  <a:lnTo>
                    <a:pt x="150710" y="45565"/>
                  </a:lnTo>
                  <a:lnTo>
                    <a:pt x="155507" y="47310"/>
                  </a:lnTo>
                  <a:lnTo>
                    <a:pt x="167639" y="53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282"/>
            <p:cNvSpPr/>
            <p:nvPr/>
          </p:nvSpPr>
          <p:spPr>
            <a:xfrm>
              <a:off x="6691680" y="3588840"/>
              <a:ext cx="196200" cy="2282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196444" h="228474">
                  <a:moveTo>
                    <a:pt x="5943" y="45706"/>
                  </a:moveTo>
                  <a:lnTo>
                    <a:pt x="9989" y="45706"/>
                  </a:lnTo>
                  <a:lnTo>
                    <a:pt x="12874" y="44013"/>
                  </a:lnTo>
                  <a:lnTo>
                    <a:pt x="16490" y="41191"/>
                  </a:lnTo>
                  <a:lnTo>
                    <a:pt x="20594" y="37616"/>
                  </a:lnTo>
                  <a:lnTo>
                    <a:pt x="24177" y="35233"/>
                  </a:lnTo>
                  <a:lnTo>
                    <a:pt x="27413" y="33644"/>
                  </a:lnTo>
                  <a:lnTo>
                    <a:pt x="40526" y="29150"/>
                  </a:lnTo>
                  <a:lnTo>
                    <a:pt x="46779" y="27049"/>
                  </a:lnTo>
                  <a:lnTo>
                    <a:pt x="53486" y="23954"/>
                  </a:lnTo>
                  <a:lnTo>
                    <a:pt x="60499" y="20198"/>
                  </a:lnTo>
                  <a:lnTo>
                    <a:pt x="67713" y="16001"/>
                  </a:lnTo>
                  <a:lnTo>
                    <a:pt x="75064" y="12356"/>
                  </a:lnTo>
                  <a:lnTo>
                    <a:pt x="82503" y="9079"/>
                  </a:lnTo>
                  <a:lnTo>
                    <a:pt x="90004" y="6048"/>
                  </a:lnTo>
                  <a:lnTo>
                    <a:pt x="97543" y="4028"/>
                  </a:lnTo>
                  <a:lnTo>
                    <a:pt x="105110" y="2680"/>
                  </a:lnTo>
                  <a:lnTo>
                    <a:pt x="112694" y="1782"/>
                  </a:lnTo>
                  <a:lnTo>
                    <a:pt x="120291" y="1184"/>
                  </a:lnTo>
                  <a:lnTo>
                    <a:pt x="127895" y="784"/>
                  </a:lnTo>
                  <a:lnTo>
                    <a:pt x="146217" y="223"/>
                  </a:lnTo>
                  <a:lnTo>
                    <a:pt x="159266" y="56"/>
                  </a:lnTo>
                  <a:lnTo>
                    <a:pt x="178845" y="0"/>
                  </a:lnTo>
                  <a:lnTo>
                    <a:pt x="182171" y="842"/>
                  </a:lnTo>
                  <a:lnTo>
                    <a:pt x="184389" y="2250"/>
                  </a:lnTo>
                  <a:lnTo>
                    <a:pt x="189767" y="8277"/>
                  </a:lnTo>
                  <a:lnTo>
                    <a:pt x="191993" y="10593"/>
                  </a:lnTo>
                  <a:lnTo>
                    <a:pt x="193477" y="12985"/>
                  </a:lnTo>
                  <a:lnTo>
                    <a:pt x="195124" y="17899"/>
                  </a:lnTo>
                  <a:lnTo>
                    <a:pt x="194718" y="21241"/>
                  </a:lnTo>
                  <a:lnTo>
                    <a:pt x="193599" y="25163"/>
                  </a:lnTo>
                  <a:lnTo>
                    <a:pt x="192007" y="29470"/>
                  </a:lnTo>
                  <a:lnTo>
                    <a:pt x="190100" y="34036"/>
                  </a:lnTo>
                  <a:lnTo>
                    <a:pt x="187980" y="38772"/>
                  </a:lnTo>
                  <a:lnTo>
                    <a:pt x="185721" y="43624"/>
                  </a:lnTo>
                  <a:lnTo>
                    <a:pt x="182522" y="48551"/>
                  </a:lnTo>
                  <a:lnTo>
                    <a:pt x="178696" y="53529"/>
                  </a:lnTo>
                  <a:lnTo>
                    <a:pt x="174452" y="58541"/>
                  </a:lnTo>
                  <a:lnTo>
                    <a:pt x="169929" y="63576"/>
                  </a:lnTo>
                  <a:lnTo>
                    <a:pt x="160387" y="73686"/>
                  </a:lnTo>
                  <a:lnTo>
                    <a:pt x="141451" y="92943"/>
                  </a:lnTo>
                  <a:lnTo>
                    <a:pt x="133536" y="99211"/>
                  </a:lnTo>
                  <a:lnTo>
                    <a:pt x="124871" y="105083"/>
                  </a:lnTo>
                  <a:lnTo>
                    <a:pt x="115708" y="110691"/>
                  </a:lnTo>
                  <a:lnTo>
                    <a:pt x="107060" y="116969"/>
                  </a:lnTo>
                  <a:lnTo>
                    <a:pt x="98754" y="123695"/>
                  </a:lnTo>
                  <a:lnTo>
                    <a:pt x="90677" y="130718"/>
                  </a:lnTo>
                  <a:lnTo>
                    <a:pt x="82753" y="137094"/>
                  </a:lnTo>
                  <a:lnTo>
                    <a:pt x="74929" y="143039"/>
                  </a:lnTo>
                  <a:lnTo>
                    <a:pt x="59463" y="154158"/>
                  </a:lnTo>
                  <a:lnTo>
                    <a:pt x="44123" y="164745"/>
                  </a:lnTo>
                  <a:lnTo>
                    <a:pt x="37324" y="169938"/>
                  </a:lnTo>
                  <a:lnTo>
                    <a:pt x="31097" y="175094"/>
                  </a:lnTo>
                  <a:lnTo>
                    <a:pt x="20509" y="184492"/>
                  </a:lnTo>
                  <a:lnTo>
                    <a:pt x="12982" y="191491"/>
                  </a:lnTo>
                  <a:lnTo>
                    <a:pt x="3984" y="200191"/>
                  </a:lnTo>
                  <a:lnTo>
                    <a:pt x="2097" y="203729"/>
                  </a:lnTo>
                  <a:lnTo>
                    <a:pt x="839" y="207782"/>
                  </a:lnTo>
                  <a:lnTo>
                    <a:pt x="0" y="212176"/>
                  </a:lnTo>
                  <a:lnTo>
                    <a:pt x="289" y="215106"/>
                  </a:lnTo>
                  <a:lnTo>
                    <a:pt x="1326" y="217060"/>
                  </a:lnTo>
                  <a:lnTo>
                    <a:pt x="5584" y="220077"/>
                  </a:lnTo>
                  <a:lnTo>
                    <a:pt x="9091" y="222066"/>
                  </a:lnTo>
                  <a:lnTo>
                    <a:pt x="13121" y="224240"/>
                  </a:lnTo>
                  <a:lnTo>
                    <a:pt x="18349" y="225689"/>
                  </a:lnTo>
                  <a:lnTo>
                    <a:pt x="24374" y="226654"/>
                  </a:lnTo>
                  <a:lnTo>
                    <a:pt x="30930" y="227298"/>
                  </a:lnTo>
                  <a:lnTo>
                    <a:pt x="36994" y="227728"/>
                  </a:lnTo>
                  <a:lnTo>
                    <a:pt x="42731" y="228014"/>
                  </a:lnTo>
                  <a:lnTo>
                    <a:pt x="48248" y="228204"/>
                  </a:lnTo>
                  <a:lnTo>
                    <a:pt x="76240" y="228473"/>
                  </a:lnTo>
                  <a:lnTo>
                    <a:pt x="87521" y="227664"/>
                  </a:lnTo>
                  <a:lnTo>
                    <a:pt x="99275" y="226278"/>
                  </a:lnTo>
                  <a:lnTo>
                    <a:pt x="111344" y="224507"/>
                  </a:lnTo>
                  <a:lnTo>
                    <a:pt x="121931" y="223327"/>
                  </a:lnTo>
                  <a:lnTo>
                    <a:pt x="131528" y="222540"/>
                  </a:lnTo>
                  <a:lnTo>
                    <a:pt x="140466" y="222015"/>
                  </a:lnTo>
                  <a:lnTo>
                    <a:pt x="157172" y="221432"/>
                  </a:lnTo>
                  <a:lnTo>
                    <a:pt x="165182" y="221277"/>
                  </a:lnTo>
                  <a:lnTo>
                    <a:pt x="172216" y="220327"/>
                  </a:lnTo>
                  <a:lnTo>
                    <a:pt x="178598" y="218846"/>
                  </a:lnTo>
                  <a:lnTo>
                    <a:pt x="196443" y="2133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283"/>
            <p:cNvSpPr/>
            <p:nvPr/>
          </p:nvSpPr>
          <p:spPr>
            <a:xfrm>
              <a:off x="6975000" y="3615120"/>
              <a:ext cx="179280" cy="2386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179418" h="238820">
                  <a:moveTo>
                    <a:pt x="141834" y="11991"/>
                  </a:moveTo>
                  <a:lnTo>
                    <a:pt x="141834" y="7946"/>
                  </a:lnTo>
                  <a:lnTo>
                    <a:pt x="142680" y="6755"/>
                  </a:lnTo>
                  <a:lnTo>
                    <a:pt x="144092" y="5960"/>
                  </a:lnTo>
                  <a:lnTo>
                    <a:pt x="149140" y="4464"/>
                  </a:lnTo>
                  <a:lnTo>
                    <a:pt x="149391" y="0"/>
                  </a:lnTo>
                  <a:lnTo>
                    <a:pt x="149425" y="1864"/>
                  </a:lnTo>
                  <a:lnTo>
                    <a:pt x="148588" y="2699"/>
                  </a:lnTo>
                  <a:lnTo>
                    <a:pt x="147184" y="3257"/>
                  </a:lnTo>
                  <a:lnTo>
                    <a:pt x="145401" y="3628"/>
                  </a:lnTo>
                  <a:lnTo>
                    <a:pt x="142518" y="4723"/>
                  </a:lnTo>
                  <a:lnTo>
                    <a:pt x="138903" y="6299"/>
                  </a:lnTo>
                  <a:lnTo>
                    <a:pt x="134801" y="8196"/>
                  </a:lnTo>
                  <a:lnTo>
                    <a:pt x="129524" y="11155"/>
                  </a:lnTo>
                  <a:lnTo>
                    <a:pt x="123467" y="14820"/>
                  </a:lnTo>
                  <a:lnTo>
                    <a:pt x="116889" y="18957"/>
                  </a:lnTo>
                  <a:lnTo>
                    <a:pt x="109117" y="23409"/>
                  </a:lnTo>
                  <a:lnTo>
                    <a:pt x="91451" y="32870"/>
                  </a:lnTo>
                  <a:lnTo>
                    <a:pt x="82846" y="37764"/>
                  </a:lnTo>
                  <a:lnTo>
                    <a:pt x="74568" y="42719"/>
                  </a:lnTo>
                  <a:lnTo>
                    <a:pt x="66509" y="47717"/>
                  </a:lnTo>
                  <a:lnTo>
                    <a:pt x="58598" y="53589"/>
                  </a:lnTo>
                  <a:lnTo>
                    <a:pt x="50783" y="60042"/>
                  </a:lnTo>
                  <a:lnTo>
                    <a:pt x="43033" y="66885"/>
                  </a:lnTo>
                  <a:lnTo>
                    <a:pt x="36173" y="73987"/>
                  </a:lnTo>
                  <a:lnTo>
                    <a:pt x="29907" y="81262"/>
                  </a:lnTo>
                  <a:lnTo>
                    <a:pt x="24035" y="88652"/>
                  </a:lnTo>
                  <a:lnTo>
                    <a:pt x="18429" y="96119"/>
                  </a:lnTo>
                  <a:lnTo>
                    <a:pt x="7682" y="111188"/>
                  </a:lnTo>
                  <a:lnTo>
                    <a:pt x="4140" y="119609"/>
                  </a:lnTo>
                  <a:lnTo>
                    <a:pt x="1777" y="128610"/>
                  </a:lnTo>
                  <a:lnTo>
                    <a:pt x="202" y="137997"/>
                  </a:lnTo>
                  <a:lnTo>
                    <a:pt x="0" y="146795"/>
                  </a:lnTo>
                  <a:lnTo>
                    <a:pt x="711" y="155200"/>
                  </a:lnTo>
                  <a:lnTo>
                    <a:pt x="2032" y="163344"/>
                  </a:lnTo>
                  <a:lnTo>
                    <a:pt x="3760" y="171313"/>
                  </a:lnTo>
                  <a:lnTo>
                    <a:pt x="5757" y="179166"/>
                  </a:lnTo>
                  <a:lnTo>
                    <a:pt x="7936" y="186941"/>
                  </a:lnTo>
                  <a:lnTo>
                    <a:pt x="11082" y="194664"/>
                  </a:lnTo>
                  <a:lnTo>
                    <a:pt x="14872" y="202353"/>
                  </a:lnTo>
                  <a:lnTo>
                    <a:pt x="19094" y="210019"/>
                  </a:lnTo>
                  <a:lnTo>
                    <a:pt x="25293" y="215976"/>
                  </a:lnTo>
                  <a:lnTo>
                    <a:pt x="32814" y="220795"/>
                  </a:lnTo>
                  <a:lnTo>
                    <a:pt x="61126" y="234611"/>
                  </a:lnTo>
                  <a:lnTo>
                    <a:pt x="68556" y="236604"/>
                  </a:lnTo>
                  <a:lnTo>
                    <a:pt x="76895" y="237933"/>
                  </a:lnTo>
                  <a:lnTo>
                    <a:pt x="85841" y="238819"/>
                  </a:lnTo>
                  <a:lnTo>
                    <a:pt x="94345" y="238563"/>
                  </a:lnTo>
                  <a:lnTo>
                    <a:pt x="102554" y="237546"/>
                  </a:lnTo>
                  <a:lnTo>
                    <a:pt x="110567" y="236021"/>
                  </a:lnTo>
                  <a:lnTo>
                    <a:pt x="117602" y="233311"/>
                  </a:lnTo>
                  <a:lnTo>
                    <a:pt x="123986" y="229811"/>
                  </a:lnTo>
                  <a:lnTo>
                    <a:pt x="129936" y="225785"/>
                  </a:lnTo>
                  <a:lnTo>
                    <a:pt x="136441" y="220560"/>
                  </a:lnTo>
                  <a:lnTo>
                    <a:pt x="143318" y="214537"/>
                  </a:lnTo>
                  <a:lnTo>
                    <a:pt x="150443" y="207982"/>
                  </a:lnTo>
                  <a:lnTo>
                    <a:pt x="156040" y="201072"/>
                  </a:lnTo>
                  <a:lnTo>
                    <a:pt x="160618" y="193925"/>
                  </a:lnTo>
                  <a:lnTo>
                    <a:pt x="164517" y="186620"/>
                  </a:lnTo>
                  <a:lnTo>
                    <a:pt x="167962" y="178364"/>
                  </a:lnTo>
                  <a:lnTo>
                    <a:pt x="171106" y="169473"/>
                  </a:lnTo>
                  <a:lnTo>
                    <a:pt x="174048" y="160159"/>
                  </a:lnTo>
                  <a:lnTo>
                    <a:pt x="176010" y="150563"/>
                  </a:lnTo>
                  <a:lnTo>
                    <a:pt x="177317" y="140779"/>
                  </a:lnTo>
                  <a:lnTo>
                    <a:pt x="178190" y="130870"/>
                  </a:lnTo>
                  <a:lnTo>
                    <a:pt x="178771" y="121724"/>
                  </a:lnTo>
                  <a:lnTo>
                    <a:pt x="179417" y="104788"/>
                  </a:lnTo>
                  <a:lnTo>
                    <a:pt x="178743" y="96716"/>
                  </a:lnTo>
                  <a:lnTo>
                    <a:pt x="177446" y="88794"/>
                  </a:lnTo>
                  <a:lnTo>
                    <a:pt x="175735" y="80973"/>
                  </a:lnTo>
                  <a:lnTo>
                    <a:pt x="172901" y="73219"/>
                  </a:lnTo>
                  <a:lnTo>
                    <a:pt x="169318" y="65510"/>
                  </a:lnTo>
                  <a:lnTo>
                    <a:pt x="165237" y="57830"/>
                  </a:lnTo>
                  <a:lnTo>
                    <a:pt x="161670" y="51864"/>
                  </a:lnTo>
                  <a:lnTo>
                    <a:pt x="158443" y="47040"/>
                  </a:lnTo>
                  <a:lnTo>
                    <a:pt x="149453" y="348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284"/>
            <p:cNvSpPr/>
            <p:nvPr/>
          </p:nvSpPr>
          <p:spPr>
            <a:xfrm>
              <a:off x="6248160" y="3962520"/>
              <a:ext cx="243720" cy="1522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43842" h="152297">
                  <a:moveTo>
                    <a:pt x="0" y="22859"/>
                  </a:moveTo>
                  <a:lnTo>
                    <a:pt x="14651" y="22859"/>
                  </a:lnTo>
                  <a:lnTo>
                    <a:pt x="19081" y="22013"/>
                  </a:lnTo>
                  <a:lnTo>
                    <a:pt x="23728" y="20602"/>
                  </a:lnTo>
                  <a:lnTo>
                    <a:pt x="28519" y="18814"/>
                  </a:lnTo>
                  <a:lnTo>
                    <a:pt x="33405" y="16776"/>
                  </a:lnTo>
                  <a:lnTo>
                    <a:pt x="38357" y="14570"/>
                  </a:lnTo>
                  <a:lnTo>
                    <a:pt x="43352" y="12253"/>
                  </a:lnTo>
                  <a:lnTo>
                    <a:pt x="48375" y="10709"/>
                  </a:lnTo>
                  <a:lnTo>
                    <a:pt x="53416" y="9679"/>
                  </a:lnTo>
                  <a:lnTo>
                    <a:pt x="58471" y="8992"/>
                  </a:lnTo>
                  <a:lnTo>
                    <a:pt x="64380" y="7688"/>
                  </a:lnTo>
                  <a:lnTo>
                    <a:pt x="70860" y="5972"/>
                  </a:lnTo>
                  <a:lnTo>
                    <a:pt x="77720" y="3981"/>
                  </a:lnTo>
                  <a:lnTo>
                    <a:pt x="83987" y="2653"/>
                  </a:lnTo>
                  <a:lnTo>
                    <a:pt x="89858" y="1769"/>
                  </a:lnTo>
                  <a:lnTo>
                    <a:pt x="95465" y="1179"/>
                  </a:lnTo>
                  <a:lnTo>
                    <a:pt x="100898" y="786"/>
                  </a:lnTo>
                  <a:lnTo>
                    <a:pt x="106212" y="523"/>
                  </a:lnTo>
                  <a:lnTo>
                    <a:pt x="116632" y="232"/>
                  </a:lnTo>
                  <a:lnTo>
                    <a:pt x="149558" y="5"/>
                  </a:lnTo>
                  <a:lnTo>
                    <a:pt x="158476" y="0"/>
                  </a:lnTo>
                  <a:lnTo>
                    <a:pt x="158991" y="847"/>
                  </a:lnTo>
                  <a:lnTo>
                    <a:pt x="159563" y="4044"/>
                  </a:lnTo>
                  <a:lnTo>
                    <a:pt x="158868" y="5236"/>
                  </a:lnTo>
                  <a:lnTo>
                    <a:pt x="157559" y="6030"/>
                  </a:lnTo>
                  <a:lnTo>
                    <a:pt x="155839" y="6560"/>
                  </a:lnTo>
                  <a:lnTo>
                    <a:pt x="154693" y="7760"/>
                  </a:lnTo>
                  <a:lnTo>
                    <a:pt x="153929" y="9407"/>
                  </a:lnTo>
                  <a:lnTo>
                    <a:pt x="153419" y="11351"/>
                  </a:lnTo>
                  <a:lnTo>
                    <a:pt x="151386" y="13494"/>
                  </a:lnTo>
                  <a:lnTo>
                    <a:pt x="144612" y="18132"/>
                  </a:lnTo>
                  <a:lnTo>
                    <a:pt x="140435" y="20555"/>
                  </a:lnTo>
                  <a:lnTo>
                    <a:pt x="131278" y="25504"/>
                  </a:lnTo>
                  <a:lnTo>
                    <a:pt x="125618" y="28009"/>
                  </a:lnTo>
                  <a:lnTo>
                    <a:pt x="119306" y="30526"/>
                  </a:lnTo>
                  <a:lnTo>
                    <a:pt x="112557" y="33050"/>
                  </a:lnTo>
                  <a:lnTo>
                    <a:pt x="105519" y="36427"/>
                  </a:lnTo>
                  <a:lnTo>
                    <a:pt x="98285" y="40371"/>
                  </a:lnTo>
                  <a:lnTo>
                    <a:pt x="90924" y="44694"/>
                  </a:lnTo>
                  <a:lnTo>
                    <a:pt x="78229" y="51755"/>
                  </a:lnTo>
                  <a:lnTo>
                    <a:pt x="61561" y="60489"/>
                  </a:lnTo>
                  <a:lnTo>
                    <a:pt x="56281" y="63186"/>
                  </a:lnTo>
                  <a:lnTo>
                    <a:pt x="51914" y="66677"/>
                  </a:lnTo>
                  <a:lnTo>
                    <a:pt x="48156" y="70698"/>
                  </a:lnTo>
                  <a:lnTo>
                    <a:pt x="44804" y="75072"/>
                  </a:lnTo>
                  <a:lnTo>
                    <a:pt x="41723" y="78834"/>
                  </a:lnTo>
                  <a:lnTo>
                    <a:pt x="38822" y="82189"/>
                  </a:lnTo>
                  <a:lnTo>
                    <a:pt x="36041" y="85272"/>
                  </a:lnTo>
                  <a:lnTo>
                    <a:pt x="34188" y="88175"/>
                  </a:lnTo>
                  <a:lnTo>
                    <a:pt x="32952" y="90956"/>
                  </a:lnTo>
                  <a:lnTo>
                    <a:pt x="32128" y="93657"/>
                  </a:lnTo>
                  <a:lnTo>
                    <a:pt x="31579" y="97151"/>
                  </a:lnTo>
                  <a:lnTo>
                    <a:pt x="31213" y="101174"/>
                  </a:lnTo>
                  <a:lnTo>
                    <a:pt x="30968" y="105549"/>
                  </a:lnTo>
                  <a:lnTo>
                    <a:pt x="31652" y="108466"/>
                  </a:lnTo>
                  <a:lnTo>
                    <a:pt x="32955" y="110410"/>
                  </a:lnTo>
                  <a:lnTo>
                    <a:pt x="34670" y="111706"/>
                  </a:lnTo>
                  <a:lnTo>
                    <a:pt x="35813" y="114264"/>
                  </a:lnTo>
                  <a:lnTo>
                    <a:pt x="36575" y="117662"/>
                  </a:lnTo>
                  <a:lnTo>
                    <a:pt x="37084" y="121621"/>
                  </a:lnTo>
                  <a:lnTo>
                    <a:pt x="38269" y="124260"/>
                  </a:lnTo>
                  <a:lnTo>
                    <a:pt x="39906" y="126020"/>
                  </a:lnTo>
                  <a:lnTo>
                    <a:pt x="44829" y="128822"/>
                  </a:lnTo>
                  <a:lnTo>
                    <a:pt x="57122" y="135159"/>
                  </a:lnTo>
                  <a:lnTo>
                    <a:pt x="66592" y="139939"/>
                  </a:lnTo>
                  <a:lnTo>
                    <a:pt x="73181" y="141552"/>
                  </a:lnTo>
                  <a:lnTo>
                    <a:pt x="80961" y="142628"/>
                  </a:lnTo>
                  <a:lnTo>
                    <a:pt x="89534" y="143345"/>
                  </a:lnTo>
                  <a:lnTo>
                    <a:pt x="97790" y="144670"/>
                  </a:lnTo>
                  <a:lnTo>
                    <a:pt x="105833" y="146399"/>
                  </a:lnTo>
                  <a:lnTo>
                    <a:pt x="113735" y="148399"/>
                  </a:lnTo>
                  <a:lnTo>
                    <a:pt x="122391" y="149733"/>
                  </a:lnTo>
                  <a:lnTo>
                    <a:pt x="131547" y="150622"/>
                  </a:lnTo>
                  <a:lnTo>
                    <a:pt x="141038" y="151214"/>
                  </a:lnTo>
                  <a:lnTo>
                    <a:pt x="160615" y="151873"/>
                  </a:lnTo>
                  <a:lnTo>
                    <a:pt x="196733" y="152296"/>
                  </a:lnTo>
                  <a:lnTo>
                    <a:pt x="203969" y="151484"/>
                  </a:lnTo>
                  <a:lnTo>
                    <a:pt x="210486" y="150095"/>
                  </a:lnTo>
                  <a:lnTo>
                    <a:pt x="216524" y="148323"/>
                  </a:lnTo>
                  <a:lnTo>
                    <a:pt x="222243" y="147142"/>
                  </a:lnTo>
                  <a:lnTo>
                    <a:pt x="227749" y="146354"/>
                  </a:lnTo>
                  <a:lnTo>
                    <a:pt x="243841" y="1447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285"/>
            <p:cNvSpPr/>
            <p:nvPr/>
          </p:nvSpPr>
          <p:spPr>
            <a:xfrm>
              <a:off x="6561360" y="3916800"/>
              <a:ext cx="173880" cy="11376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74150" h="113844">
                  <a:moveTo>
                    <a:pt x="136232" y="0"/>
                  </a:moveTo>
                  <a:lnTo>
                    <a:pt x="129671" y="0"/>
                  </a:lnTo>
                  <a:lnTo>
                    <a:pt x="124568" y="2257"/>
                  </a:lnTo>
                  <a:lnTo>
                    <a:pt x="120836" y="4045"/>
                  </a:lnTo>
                  <a:lnTo>
                    <a:pt x="115808" y="5236"/>
                  </a:lnTo>
                  <a:lnTo>
                    <a:pt x="109916" y="6031"/>
                  </a:lnTo>
                  <a:lnTo>
                    <a:pt x="103448" y="6561"/>
                  </a:lnTo>
                  <a:lnTo>
                    <a:pt x="97443" y="8607"/>
                  </a:lnTo>
                  <a:lnTo>
                    <a:pt x="91746" y="11665"/>
                  </a:lnTo>
                  <a:lnTo>
                    <a:pt x="86255" y="15396"/>
                  </a:lnTo>
                  <a:lnTo>
                    <a:pt x="80054" y="18731"/>
                  </a:lnTo>
                  <a:lnTo>
                    <a:pt x="73380" y="21801"/>
                  </a:lnTo>
                  <a:lnTo>
                    <a:pt x="66391" y="24693"/>
                  </a:lnTo>
                  <a:lnTo>
                    <a:pt x="59191" y="27470"/>
                  </a:lnTo>
                  <a:lnTo>
                    <a:pt x="44419" y="32811"/>
                  </a:lnTo>
                  <a:lnTo>
                    <a:pt x="37769" y="36267"/>
                  </a:lnTo>
                  <a:lnTo>
                    <a:pt x="31644" y="40264"/>
                  </a:lnTo>
                  <a:lnTo>
                    <a:pt x="25867" y="44623"/>
                  </a:lnTo>
                  <a:lnTo>
                    <a:pt x="20322" y="48375"/>
                  </a:lnTo>
                  <a:lnTo>
                    <a:pt x="14933" y="51724"/>
                  </a:lnTo>
                  <a:lnTo>
                    <a:pt x="9645" y="54802"/>
                  </a:lnTo>
                  <a:lnTo>
                    <a:pt x="6121" y="58548"/>
                  </a:lnTo>
                  <a:lnTo>
                    <a:pt x="3771" y="62739"/>
                  </a:lnTo>
                  <a:lnTo>
                    <a:pt x="2206" y="67226"/>
                  </a:lnTo>
                  <a:lnTo>
                    <a:pt x="1161" y="71911"/>
                  </a:lnTo>
                  <a:lnTo>
                    <a:pt x="465" y="76727"/>
                  </a:lnTo>
                  <a:lnTo>
                    <a:pt x="0" y="81631"/>
                  </a:lnTo>
                  <a:lnTo>
                    <a:pt x="538" y="85748"/>
                  </a:lnTo>
                  <a:lnTo>
                    <a:pt x="1743" y="89338"/>
                  </a:lnTo>
                  <a:lnTo>
                    <a:pt x="3392" y="92579"/>
                  </a:lnTo>
                  <a:lnTo>
                    <a:pt x="6185" y="95586"/>
                  </a:lnTo>
                  <a:lnTo>
                    <a:pt x="9742" y="98437"/>
                  </a:lnTo>
                  <a:lnTo>
                    <a:pt x="13805" y="101185"/>
                  </a:lnTo>
                  <a:lnTo>
                    <a:pt x="19054" y="103864"/>
                  </a:lnTo>
                  <a:lnTo>
                    <a:pt x="25093" y="106496"/>
                  </a:lnTo>
                  <a:lnTo>
                    <a:pt x="31660" y="109097"/>
                  </a:lnTo>
                  <a:lnTo>
                    <a:pt x="39424" y="110832"/>
                  </a:lnTo>
                  <a:lnTo>
                    <a:pt x="47987" y="111988"/>
                  </a:lnTo>
                  <a:lnTo>
                    <a:pt x="57081" y="112759"/>
                  </a:lnTo>
                  <a:lnTo>
                    <a:pt x="66532" y="113272"/>
                  </a:lnTo>
                  <a:lnTo>
                    <a:pt x="86063" y="113843"/>
                  </a:lnTo>
                  <a:lnTo>
                    <a:pt x="95166" y="113149"/>
                  </a:lnTo>
                  <a:lnTo>
                    <a:pt x="103775" y="111839"/>
                  </a:lnTo>
                  <a:lnTo>
                    <a:pt x="112054" y="110120"/>
                  </a:lnTo>
                  <a:lnTo>
                    <a:pt x="120114" y="108127"/>
                  </a:lnTo>
                  <a:lnTo>
                    <a:pt x="128027" y="105951"/>
                  </a:lnTo>
                  <a:lnTo>
                    <a:pt x="135842" y="103654"/>
                  </a:lnTo>
                  <a:lnTo>
                    <a:pt x="142745" y="101276"/>
                  </a:lnTo>
                  <a:lnTo>
                    <a:pt x="149042" y="98844"/>
                  </a:lnTo>
                  <a:lnTo>
                    <a:pt x="154932" y="96376"/>
                  </a:lnTo>
                  <a:lnTo>
                    <a:pt x="159705" y="93037"/>
                  </a:lnTo>
                  <a:lnTo>
                    <a:pt x="163734" y="89119"/>
                  </a:lnTo>
                  <a:lnTo>
                    <a:pt x="167267" y="84812"/>
                  </a:lnTo>
                  <a:lnTo>
                    <a:pt x="169622" y="81095"/>
                  </a:lnTo>
                  <a:lnTo>
                    <a:pt x="171192" y="77770"/>
                  </a:lnTo>
                  <a:lnTo>
                    <a:pt x="172239" y="74707"/>
                  </a:lnTo>
                  <a:lnTo>
                    <a:pt x="172937" y="70971"/>
                  </a:lnTo>
                  <a:lnTo>
                    <a:pt x="173403" y="66788"/>
                  </a:lnTo>
                  <a:lnTo>
                    <a:pt x="173712" y="62305"/>
                  </a:lnTo>
                  <a:lnTo>
                    <a:pt x="174057" y="55067"/>
                  </a:lnTo>
                  <a:lnTo>
                    <a:pt x="174149" y="51951"/>
                  </a:lnTo>
                  <a:lnTo>
                    <a:pt x="173363" y="49028"/>
                  </a:lnTo>
                  <a:lnTo>
                    <a:pt x="171994" y="46231"/>
                  </a:lnTo>
                  <a:lnTo>
                    <a:pt x="170233" y="43521"/>
                  </a:lnTo>
                  <a:lnTo>
                    <a:pt x="168213" y="40867"/>
                  </a:lnTo>
                  <a:lnTo>
                    <a:pt x="166020" y="38251"/>
                  </a:lnTo>
                  <a:lnTo>
                    <a:pt x="163710" y="35661"/>
                  </a:lnTo>
                  <a:lnTo>
                    <a:pt x="160478" y="33934"/>
                  </a:lnTo>
                  <a:lnTo>
                    <a:pt x="156630" y="32782"/>
                  </a:lnTo>
                  <a:lnTo>
                    <a:pt x="152371" y="32015"/>
                  </a:lnTo>
                  <a:lnTo>
                    <a:pt x="148684" y="31503"/>
                  </a:lnTo>
                  <a:lnTo>
                    <a:pt x="145381" y="31162"/>
                  </a:lnTo>
                  <a:lnTo>
                    <a:pt x="136232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286"/>
            <p:cNvSpPr/>
            <p:nvPr/>
          </p:nvSpPr>
          <p:spPr>
            <a:xfrm>
              <a:off x="6578280" y="4031280"/>
              <a:ext cx="133560" cy="11412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33923" h="114161">
                  <a:moveTo>
                    <a:pt x="88783" y="45720"/>
                  </a:moveTo>
                  <a:lnTo>
                    <a:pt x="95345" y="45720"/>
                  </a:lnTo>
                  <a:lnTo>
                    <a:pt x="74419" y="45720"/>
                  </a:lnTo>
                  <a:lnTo>
                    <a:pt x="70741" y="46566"/>
                  </a:lnTo>
                  <a:lnTo>
                    <a:pt x="67442" y="47978"/>
                  </a:lnTo>
                  <a:lnTo>
                    <a:pt x="64395" y="49765"/>
                  </a:lnTo>
                  <a:lnTo>
                    <a:pt x="59825" y="51803"/>
                  </a:lnTo>
                  <a:lnTo>
                    <a:pt x="54238" y="54009"/>
                  </a:lnTo>
                  <a:lnTo>
                    <a:pt x="47973" y="56326"/>
                  </a:lnTo>
                  <a:lnTo>
                    <a:pt x="42103" y="58717"/>
                  </a:lnTo>
                  <a:lnTo>
                    <a:pt x="36497" y="61158"/>
                  </a:lnTo>
                  <a:lnTo>
                    <a:pt x="31066" y="63632"/>
                  </a:lnTo>
                  <a:lnTo>
                    <a:pt x="26598" y="66128"/>
                  </a:lnTo>
                  <a:lnTo>
                    <a:pt x="22772" y="68639"/>
                  </a:lnTo>
                  <a:lnTo>
                    <a:pt x="19376" y="71159"/>
                  </a:lnTo>
                  <a:lnTo>
                    <a:pt x="15419" y="73686"/>
                  </a:lnTo>
                  <a:lnTo>
                    <a:pt x="11087" y="76217"/>
                  </a:lnTo>
                  <a:lnTo>
                    <a:pt x="6506" y="78752"/>
                  </a:lnTo>
                  <a:lnTo>
                    <a:pt x="3452" y="82134"/>
                  </a:lnTo>
                  <a:lnTo>
                    <a:pt x="1415" y="86083"/>
                  </a:lnTo>
                  <a:lnTo>
                    <a:pt x="57" y="90409"/>
                  </a:lnTo>
                  <a:lnTo>
                    <a:pt x="0" y="94139"/>
                  </a:lnTo>
                  <a:lnTo>
                    <a:pt x="808" y="97473"/>
                  </a:lnTo>
                  <a:lnTo>
                    <a:pt x="2193" y="100542"/>
                  </a:lnTo>
                  <a:lnTo>
                    <a:pt x="4810" y="103435"/>
                  </a:lnTo>
                  <a:lnTo>
                    <a:pt x="8248" y="106210"/>
                  </a:lnTo>
                  <a:lnTo>
                    <a:pt x="12233" y="108907"/>
                  </a:lnTo>
                  <a:lnTo>
                    <a:pt x="16583" y="110704"/>
                  </a:lnTo>
                  <a:lnTo>
                    <a:pt x="21176" y="111903"/>
                  </a:lnTo>
                  <a:lnTo>
                    <a:pt x="25933" y="112702"/>
                  </a:lnTo>
                  <a:lnTo>
                    <a:pt x="31642" y="113234"/>
                  </a:lnTo>
                  <a:lnTo>
                    <a:pt x="37989" y="113590"/>
                  </a:lnTo>
                  <a:lnTo>
                    <a:pt x="51815" y="113984"/>
                  </a:lnTo>
                  <a:lnTo>
                    <a:pt x="66425" y="114160"/>
                  </a:lnTo>
                  <a:lnTo>
                    <a:pt x="73032" y="113360"/>
                  </a:lnTo>
                  <a:lnTo>
                    <a:pt x="79129" y="111981"/>
                  </a:lnTo>
                  <a:lnTo>
                    <a:pt x="84887" y="110214"/>
                  </a:lnTo>
                  <a:lnTo>
                    <a:pt x="90419" y="108189"/>
                  </a:lnTo>
                  <a:lnTo>
                    <a:pt x="95800" y="105993"/>
                  </a:lnTo>
                  <a:lnTo>
                    <a:pt x="101081" y="103682"/>
                  </a:lnTo>
                  <a:lnTo>
                    <a:pt x="106295" y="100448"/>
                  </a:lnTo>
                  <a:lnTo>
                    <a:pt x="111465" y="96599"/>
                  </a:lnTo>
                  <a:lnTo>
                    <a:pt x="116605" y="92339"/>
                  </a:lnTo>
                  <a:lnTo>
                    <a:pt x="120877" y="87806"/>
                  </a:lnTo>
                  <a:lnTo>
                    <a:pt x="124572" y="83091"/>
                  </a:lnTo>
                  <a:lnTo>
                    <a:pt x="127882" y="78254"/>
                  </a:lnTo>
                  <a:lnTo>
                    <a:pt x="130090" y="73336"/>
                  </a:lnTo>
                  <a:lnTo>
                    <a:pt x="131561" y="68364"/>
                  </a:lnTo>
                  <a:lnTo>
                    <a:pt x="132542" y="63356"/>
                  </a:lnTo>
                  <a:lnTo>
                    <a:pt x="133196" y="58324"/>
                  </a:lnTo>
                  <a:lnTo>
                    <a:pt x="133631" y="53276"/>
                  </a:lnTo>
                  <a:lnTo>
                    <a:pt x="133922" y="48217"/>
                  </a:lnTo>
                  <a:lnTo>
                    <a:pt x="133269" y="43998"/>
                  </a:lnTo>
                  <a:lnTo>
                    <a:pt x="131987" y="40339"/>
                  </a:lnTo>
                  <a:lnTo>
                    <a:pt x="123846" y="24337"/>
                  </a:lnTo>
                  <a:lnTo>
                    <a:pt x="121472" y="20458"/>
                  </a:lnTo>
                  <a:lnTo>
                    <a:pt x="119042" y="17025"/>
                  </a:lnTo>
                  <a:lnTo>
                    <a:pt x="116576" y="13890"/>
                  </a:lnTo>
                  <a:lnTo>
                    <a:pt x="114085" y="10954"/>
                  </a:lnTo>
                  <a:lnTo>
                    <a:pt x="111579" y="8149"/>
                  </a:lnTo>
                  <a:lnTo>
                    <a:pt x="109060" y="5432"/>
                  </a:lnTo>
                  <a:lnTo>
                    <a:pt x="106535" y="3621"/>
                  </a:lnTo>
                  <a:lnTo>
                    <a:pt x="104005" y="2415"/>
                  </a:lnTo>
                  <a:lnTo>
                    <a:pt x="9640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287"/>
            <p:cNvSpPr/>
            <p:nvPr/>
          </p:nvSpPr>
          <p:spPr>
            <a:xfrm>
              <a:off x="2042280" y="4701960"/>
              <a:ext cx="213120" cy="12960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13321" h="129541">
                  <a:moveTo>
                    <a:pt x="60920" y="0"/>
                  </a:moveTo>
                  <a:lnTo>
                    <a:pt x="60920" y="18199"/>
                  </a:lnTo>
                  <a:lnTo>
                    <a:pt x="60073" y="20599"/>
                  </a:lnTo>
                  <a:lnTo>
                    <a:pt x="58662" y="23046"/>
                  </a:lnTo>
                  <a:lnTo>
                    <a:pt x="56875" y="25524"/>
                  </a:lnTo>
                  <a:lnTo>
                    <a:pt x="54837" y="28022"/>
                  </a:lnTo>
                  <a:lnTo>
                    <a:pt x="52631" y="30535"/>
                  </a:lnTo>
                  <a:lnTo>
                    <a:pt x="50314" y="33057"/>
                  </a:lnTo>
                  <a:lnTo>
                    <a:pt x="48769" y="35584"/>
                  </a:lnTo>
                  <a:lnTo>
                    <a:pt x="47740" y="38116"/>
                  </a:lnTo>
                  <a:lnTo>
                    <a:pt x="47053" y="40651"/>
                  </a:lnTo>
                  <a:lnTo>
                    <a:pt x="45749" y="43187"/>
                  </a:lnTo>
                  <a:lnTo>
                    <a:pt x="44033" y="45725"/>
                  </a:lnTo>
                  <a:lnTo>
                    <a:pt x="42042" y="48263"/>
                  </a:lnTo>
                  <a:lnTo>
                    <a:pt x="39021" y="51649"/>
                  </a:lnTo>
                  <a:lnTo>
                    <a:pt x="31150" y="59926"/>
                  </a:lnTo>
                  <a:lnTo>
                    <a:pt x="5125" y="86267"/>
                  </a:lnTo>
                  <a:lnTo>
                    <a:pt x="3403" y="89685"/>
                  </a:lnTo>
                  <a:lnTo>
                    <a:pt x="2255" y="93656"/>
                  </a:lnTo>
                  <a:lnTo>
                    <a:pt x="1490" y="97998"/>
                  </a:lnTo>
                  <a:lnTo>
                    <a:pt x="980" y="101739"/>
                  </a:lnTo>
                  <a:lnTo>
                    <a:pt x="640" y="105079"/>
                  </a:lnTo>
                  <a:lnTo>
                    <a:pt x="413" y="108152"/>
                  </a:lnTo>
                  <a:lnTo>
                    <a:pt x="262" y="111048"/>
                  </a:lnTo>
                  <a:lnTo>
                    <a:pt x="0" y="120321"/>
                  </a:lnTo>
                  <a:lnTo>
                    <a:pt x="1680" y="120854"/>
                  </a:lnTo>
                  <a:lnTo>
                    <a:pt x="8062" y="121446"/>
                  </a:lnTo>
                  <a:lnTo>
                    <a:pt x="11288" y="122451"/>
                  </a:lnTo>
                  <a:lnTo>
                    <a:pt x="17130" y="125825"/>
                  </a:lnTo>
                  <a:lnTo>
                    <a:pt x="20720" y="127063"/>
                  </a:lnTo>
                  <a:lnTo>
                    <a:pt x="24807" y="127889"/>
                  </a:lnTo>
                  <a:lnTo>
                    <a:pt x="29225" y="128439"/>
                  </a:lnTo>
                  <a:lnTo>
                    <a:pt x="34710" y="127960"/>
                  </a:lnTo>
                  <a:lnTo>
                    <a:pt x="40907" y="126793"/>
                  </a:lnTo>
                  <a:lnTo>
                    <a:pt x="47578" y="125168"/>
                  </a:lnTo>
                  <a:lnTo>
                    <a:pt x="53719" y="124086"/>
                  </a:lnTo>
                  <a:lnTo>
                    <a:pt x="59506" y="123364"/>
                  </a:lnTo>
                  <a:lnTo>
                    <a:pt x="65057" y="122882"/>
                  </a:lnTo>
                  <a:lnTo>
                    <a:pt x="71298" y="122562"/>
                  </a:lnTo>
                  <a:lnTo>
                    <a:pt x="85006" y="122205"/>
                  </a:lnTo>
                  <a:lnTo>
                    <a:pt x="91371" y="121263"/>
                  </a:lnTo>
                  <a:lnTo>
                    <a:pt x="97307" y="119789"/>
                  </a:lnTo>
                  <a:lnTo>
                    <a:pt x="102958" y="117959"/>
                  </a:lnTo>
                  <a:lnTo>
                    <a:pt x="109265" y="116740"/>
                  </a:lnTo>
                  <a:lnTo>
                    <a:pt x="116010" y="115926"/>
                  </a:lnTo>
                  <a:lnTo>
                    <a:pt x="128585" y="115023"/>
                  </a:lnTo>
                  <a:lnTo>
                    <a:pt x="136995" y="114621"/>
                  </a:lnTo>
                  <a:lnTo>
                    <a:pt x="145813" y="114443"/>
                  </a:lnTo>
                  <a:lnTo>
                    <a:pt x="184953" y="114302"/>
                  </a:lnTo>
                  <a:lnTo>
                    <a:pt x="186789" y="115148"/>
                  </a:lnTo>
                  <a:lnTo>
                    <a:pt x="188013" y="116559"/>
                  </a:lnTo>
                  <a:lnTo>
                    <a:pt x="188828" y="118346"/>
                  </a:lnTo>
                  <a:lnTo>
                    <a:pt x="190219" y="119537"/>
                  </a:lnTo>
                  <a:lnTo>
                    <a:pt x="191993" y="120332"/>
                  </a:lnTo>
                  <a:lnTo>
                    <a:pt x="196221" y="121214"/>
                  </a:lnTo>
                  <a:lnTo>
                    <a:pt x="200923" y="121607"/>
                  </a:lnTo>
                  <a:lnTo>
                    <a:pt x="203362" y="122558"/>
                  </a:lnTo>
                  <a:lnTo>
                    <a:pt x="208330" y="125872"/>
                  </a:lnTo>
                  <a:lnTo>
                    <a:pt x="213320" y="1295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288"/>
            <p:cNvSpPr/>
            <p:nvPr/>
          </p:nvSpPr>
          <p:spPr>
            <a:xfrm>
              <a:off x="2255760" y="4725000"/>
              <a:ext cx="60840" cy="2210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21040"/>
                <a:gd name="textAreaBottom" fmla="*/ 221400 h 221040"/>
              </a:gdLst>
              <a:ahLst/>
              <a:rect l="textAreaLeft" t="textAreaTop" r="textAreaRight" b="textAreaBottom"/>
              <a:pathLst>
                <a:path w="60961" h="220981">
                  <a:moveTo>
                    <a:pt x="60960" y="0"/>
                  </a:moveTo>
                  <a:lnTo>
                    <a:pt x="56915" y="0"/>
                  </a:lnTo>
                  <a:lnTo>
                    <a:pt x="55723" y="846"/>
                  </a:lnTo>
                  <a:lnTo>
                    <a:pt x="54929" y="2258"/>
                  </a:lnTo>
                  <a:lnTo>
                    <a:pt x="54399" y="4045"/>
                  </a:lnTo>
                  <a:lnTo>
                    <a:pt x="53200" y="6083"/>
                  </a:lnTo>
                  <a:lnTo>
                    <a:pt x="51553" y="8289"/>
                  </a:lnTo>
                  <a:lnTo>
                    <a:pt x="49609" y="10606"/>
                  </a:lnTo>
                  <a:lnTo>
                    <a:pt x="48313" y="14691"/>
                  </a:lnTo>
                  <a:lnTo>
                    <a:pt x="47449" y="19954"/>
                  </a:lnTo>
                  <a:lnTo>
                    <a:pt x="46872" y="26003"/>
                  </a:lnTo>
                  <a:lnTo>
                    <a:pt x="45642" y="31728"/>
                  </a:lnTo>
                  <a:lnTo>
                    <a:pt x="43974" y="37239"/>
                  </a:lnTo>
                  <a:lnTo>
                    <a:pt x="39864" y="48724"/>
                  </a:lnTo>
                  <a:lnTo>
                    <a:pt x="5078" y="152410"/>
                  </a:lnTo>
                  <a:lnTo>
                    <a:pt x="3385" y="159180"/>
                  </a:lnTo>
                  <a:lnTo>
                    <a:pt x="2257" y="165387"/>
                  </a:lnTo>
                  <a:lnTo>
                    <a:pt x="1504" y="171218"/>
                  </a:lnTo>
                  <a:lnTo>
                    <a:pt x="1003" y="177645"/>
                  </a:lnTo>
                  <a:lnTo>
                    <a:pt x="669" y="184471"/>
                  </a:lnTo>
                  <a:lnTo>
                    <a:pt x="198" y="201695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289"/>
            <p:cNvSpPr/>
            <p:nvPr/>
          </p:nvSpPr>
          <p:spPr>
            <a:xfrm>
              <a:off x="2369880" y="4648680"/>
              <a:ext cx="98640" cy="373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98966" h="373381">
                  <a:moveTo>
                    <a:pt x="83820" y="0"/>
                  </a:moveTo>
                  <a:lnTo>
                    <a:pt x="90381" y="13122"/>
                  </a:lnTo>
                  <a:lnTo>
                    <a:pt x="90970" y="21072"/>
                  </a:lnTo>
                  <a:lnTo>
                    <a:pt x="91126" y="26748"/>
                  </a:lnTo>
                  <a:lnTo>
                    <a:pt x="92078" y="33072"/>
                  </a:lnTo>
                  <a:lnTo>
                    <a:pt x="93559" y="39828"/>
                  </a:lnTo>
                  <a:lnTo>
                    <a:pt x="95393" y="46872"/>
                  </a:lnTo>
                  <a:lnTo>
                    <a:pt x="96615" y="54108"/>
                  </a:lnTo>
                  <a:lnTo>
                    <a:pt x="97430" y="61472"/>
                  </a:lnTo>
                  <a:lnTo>
                    <a:pt x="97974" y="68921"/>
                  </a:lnTo>
                  <a:lnTo>
                    <a:pt x="98336" y="78121"/>
                  </a:lnTo>
                  <a:lnTo>
                    <a:pt x="98846" y="109601"/>
                  </a:lnTo>
                  <a:lnTo>
                    <a:pt x="98965" y="127452"/>
                  </a:lnTo>
                  <a:lnTo>
                    <a:pt x="98150" y="137461"/>
                  </a:lnTo>
                  <a:lnTo>
                    <a:pt x="96760" y="148368"/>
                  </a:lnTo>
                  <a:lnTo>
                    <a:pt x="94987" y="159872"/>
                  </a:lnTo>
                  <a:lnTo>
                    <a:pt x="92958" y="170928"/>
                  </a:lnTo>
                  <a:lnTo>
                    <a:pt x="88446" y="192244"/>
                  </a:lnTo>
                  <a:lnTo>
                    <a:pt x="78651" y="233523"/>
                  </a:lnTo>
                  <a:lnTo>
                    <a:pt x="73620" y="253930"/>
                  </a:lnTo>
                  <a:lnTo>
                    <a:pt x="70247" y="264113"/>
                  </a:lnTo>
                  <a:lnTo>
                    <a:pt x="66305" y="274289"/>
                  </a:lnTo>
                  <a:lnTo>
                    <a:pt x="61983" y="284459"/>
                  </a:lnTo>
                  <a:lnTo>
                    <a:pt x="57409" y="293780"/>
                  </a:lnTo>
                  <a:lnTo>
                    <a:pt x="52666" y="302533"/>
                  </a:lnTo>
                  <a:lnTo>
                    <a:pt x="43727" y="318186"/>
                  </a:lnTo>
                  <a:lnTo>
                    <a:pt x="36932" y="330787"/>
                  </a:lnTo>
                  <a:lnTo>
                    <a:pt x="33088" y="336518"/>
                  </a:lnTo>
                  <a:lnTo>
                    <a:pt x="28832" y="342032"/>
                  </a:lnTo>
                  <a:lnTo>
                    <a:pt x="24301" y="347401"/>
                  </a:lnTo>
                  <a:lnTo>
                    <a:pt x="20434" y="351827"/>
                  </a:lnTo>
                  <a:lnTo>
                    <a:pt x="13880" y="359003"/>
                  </a:lnTo>
                  <a:lnTo>
                    <a:pt x="0" y="3733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MARTInkAnnotation290"/>
            <p:cNvSpPr/>
            <p:nvPr/>
          </p:nvSpPr>
          <p:spPr>
            <a:xfrm>
              <a:off x="1928160" y="4564800"/>
              <a:ext cx="106200" cy="3733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106530" h="373381">
                  <a:moveTo>
                    <a:pt x="76049" y="0"/>
                  </a:moveTo>
                  <a:lnTo>
                    <a:pt x="72004" y="0"/>
                  </a:lnTo>
                  <a:lnTo>
                    <a:pt x="69119" y="1693"/>
                  </a:lnTo>
                  <a:lnTo>
                    <a:pt x="65503" y="4516"/>
                  </a:lnTo>
                  <a:lnTo>
                    <a:pt x="61398" y="8091"/>
                  </a:lnTo>
                  <a:lnTo>
                    <a:pt x="58662" y="11320"/>
                  </a:lnTo>
                  <a:lnTo>
                    <a:pt x="55621" y="17167"/>
                  </a:lnTo>
                  <a:lnTo>
                    <a:pt x="53117" y="20758"/>
                  </a:lnTo>
                  <a:lnTo>
                    <a:pt x="49755" y="24845"/>
                  </a:lnTo>
                  <a:lnTo>
                    <a:pt x="45819" y="29263"/>
                  </a:lnTo>
                  <a:lnTo>
                    <a:pt x="34674" y="40946"/>
                  </a:lnTo>
                  <a:lnTo>
                    <a:pt x="28146" y="47617"/>
                  </a:lnTo>
                  <a:lnTo>
                    <a:pt x="22947" y="54605"/>
                  </a:lnTo>
                  <a:lnTo>
                    <a:pt x="18634" y="61803"/>
                  </a:lnTo>
                  <a:lnTo>
                    <a:pt x="14912" y="69142"/>
                  </a:lnTo>
                  <a:lnTo>
                    <a:pt x="11585" y="77421"/>
                  </a:lnTo>
                  <a:lnTo>
                    <a:pt x="8519" y="86328"/>
                  </a:lnTo>
                  <a:lnTo>
                    <a:pt x="5629" y="95652"/>
                  </a:lnTo>
                  <a:lnTo>
                    <a:pt x="3703" y="106102"/>
                  </a:lnTo>
                  <a:lnTo>
                    <a:pt x="2418" y="117301"/>
                  </a:lnTo>
                  <a:lnTo>
                    <a:pt x="1562" y="129001"/>
                  </a:lnTo>
                  <a:lnTo>
                    <a:pt x="991" y="140187"/>
                  </a:lnTo>
                  <a:lnTo>
                    <a:pt x="357" y="161647"/>
                  </a:lnTo>
                  <a:lnTo>
                    <a:pt x="0" y="196815"/>
                  </a:lnTo>
                  <a:lnTo>
                    <a:pt x="1643" y="209103"/>
                  </a:lnTo>
                  <a:lnTo>
                    <a:pt x="4432" y="221529"/>
                  </a:lnTo>
                  <a:lnTo>
                    <a:pt x="7984" y="234046"/>
                  </a:lnTo>
                  <a:lnTo>
                    <a:pt x="12046" y="246624"/>
                  </a:lnTo>
                  <a:lnTo>
                    <a:pt x="16447" y="259242"/>
                  </a:lnTo>
                  <a:lnTo>
                    <a:pt x="21074" y="271888"/>
                  </a:lnTo>
                  <a:lnTo>
                    <a:pt x="27546" y="283705"/>
                  </a:lnTo>
                  <a:lnTo>
                    <a:pt x="35247" y="294970"/>
                  </a:lnTo>
                  <a:lnTo>
                    <a:pt x="43768" y="305867"/>
                  </a:lnTo>
                  <a:lnTo>
                    <a:pt x="52835" y="316518"/>
                  </a:lnTo>
                  <a:lnTo>
                    <a:pt x="62266" y="327005"/>
                  </a:lnTo>
                  <a:lnTo>
                    <a:pt x="87205" y="353430"/>
                  </a:lnTo>
                  <a:lnTo>
                    <a:pt x="106529" y="3733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MARTInkAnnotation291"/>
            <p:cNvSpPr/>
            <p:nvPr/>
          </p:nvSpPr>
          <p:spPr>
            <a:xfrm>
              <a:off x="2545560" y="4709520"/>
              <a:ext cx="195840" cy="26208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96040" h="262081">
                  <a:moveTo>
                    <a:pt x="75754" y="0"/>
                  </a:moveTo>
                  <a:lnTo>
                    <a:pt x="71709" y="4045"/>
                  </a:lnTo>
                  <a:lnTo>
                    <a:pt x="70517" y="6084"/>
                  </a:lnTo>
                  <a:lnTo>
                    <a:pt x="67994" y="13844"/>
                  </a:lnTo>
                  <a:lnTo>
                    <a:pt x="64403" y="21957"/>
                  </a:lnTo>
                  <a:lnTo>
                    <a:pt x="59985" y="28950"/>
                  </a:lnTo>
                  <a:lnTo>
                    <a:pt x="55199" y="35727"/>
                  </a:lnTo>
                  <a:lnTo>
                    <a:pt x="52737" y="39905"/>
                  </a:lnTo>
                  <a:lnTo>
                    <a:pt x="50249" y="44383"/>
                  </a:lnTo>
                  <a:lnTo>
                    <a:pt x="45227" y="51617"/>
                  </a:lnTo>
                  <a:lnTo>
                    <a:pt x="40173" y="57654"/>
                  </a:lnTo>
                  <a:lnTo>
                    <a:pt x="35105" y="63160"/>
                  </a:lnTo>
                  <a:lnTo>
                    <a:pt x="30030" y="70687"/>
                  </a:lnTo>
                  <a:lnTo>
                    <a:pt x="24952" y="78830"/>
                  </a:lnTo>
                  <a:lnTo>
                    <a:pt x="19873" y="85271"/>
                  </a:lnTo>
                  <a:lnTo>
                    <a:pt x="17334" y="87327"/>
                  </a:lnTo>
                  <a:lnTo>
                    <a:pt x="14793" y="88698"/>
                  </a:lnTo>
                  <a:lnTo>
                    <a:pt x="12254" y="89612"/>
                  </a:lnTo>
                  <a:lnTo>
                    <a:pt x="7174" y="92886"/>
                  </a:lnTo>
                  <a:lnTo>
                    <a:pt x="1059" y="97841"/>
                  </a:lnTo>
                  <a:lnTo>
                    <a:pt x="558" y="97400"/>
                  </a:lnTo>
                  <a:lnTo>
                    <a:pt x="223" y="96261"/>
                  </a:lnTo>
                  <a:lnTo>
                    <a:pt x="0" y="94654"/>
                  </a:lnTo>
                  <a:lnTo>
                    <a:pt x="698" y="93582"/>
                  </a:lnTo>
                  <a:lnTo>
                    <a:pt x="2010" y="92868"/>
                  </a:lnTo>
                  <a:lnTo>
                    <a:pt x="6572" y="91228"/>
                  </a:lnTo>
                  <a:lnTo>
                    <a:pt x="10159" y="89605"/>
                  </a:lnTo>
                  <a:lnTo>
                    <a:pt x="23299" y="83277"/>
                  </a:lnTo>
                  <a:lnTo>
                    <a:pt x="58026" y="66008"/>
                  </a:lnTo>
                  <a:lnTo>
                    <a:pt x="63089" y="64325"/>
                  </a:lnTo>
                  <a:lnTo>
                    <a:pt x="68157" y="63204"/>
                  </a:lnTo>
                  <a:lnTo>
                    <a:pt x="73229" y="62456"/>
                  </a:lnTo>
                  <a:lnTo>
                    <a:pt x="78304" y="61957"/>
                  </a:lnTo>
                  <a:lnTo>
                    <a:pt x="83381" y="61625"/>
                  </a:lnTo>
                  <a:lnTo>
                    <a:pt x="92690" y="61256"/>
                  </a:lnTo>
                  <a:lnTo>
                    <a:pt x="99650" y="61091"/>
                  </a:lnTo>
                  <a:lnTo>
                    <a:pt x="104385" y="61894"/>
                  </a:lnTo>
                  <a:lnTo>
                    <a:pt x="110081" y="63277"/>
                  </a:lnTo>
                  <a:lnTo>
                    <a:pt x="116419" y="65044"/>
                  </a:lnTo>
                  <a:lnTo>
                    <a:pt x="121491" y="67916"/>
                  </a:lnTo>
                  <a:lnTo>
                    <a:pt x="125718" y="71524"/>
                  </a:lnTo>
                  <a:lnTo>
                    <a:pt x="129384" y="75623"/>
                  </a:lnTo>
                  <a:lnTo>
                    <a:pt x="137972" y="84693"/>
                  </a:lnTo>
                  <a:lnTo>
                    <a:pt x="142633" y="89482"/>
                  </a:lnTo>
                  <a:lnTo>
                    <a:pt x="147433" y="95214"/>
                  </a:lnTo>
                  <a:lnTo>
                    <a:pt x="152327" y="101577"/>
                  </a:lnTo>
                  <a:lnTo>
                    <a:pt x="157282" y="108358"/>
                  </a:lnTo>
                  <a:lnTo>
                    <a:pt x="162280" y="114572"/>
                  </a:lnTo>
                  <a:lnTo>
                    <a:pt x="167305" y="120408"/>
                  </a:lnTo>
                  <a:lnTo>
                    <a:pt x="172348" y="125992"/>
                  </a:lnTo>
                  <a:lnTo>
                    <a:pt x="176556" y="133101"/>
                  </a:lnTo>
                  <a:lnTo>
                    <a:pt x="180209" y="141228"/>
                  </a:lnTo>
                  <a:lnTo>
                    <a:pt x="186525" y="158441"/>
                  </a:lnTo>
                  <a:lnTo>
                    <a:pt x="192155" y="174558"/>
                  </a:lnTo>
                  <a:lnTo>
                    <a:pt x="193994" y="182412"/>
                  </a:lnTo>
                  <a:lnTo>
                    <a:pt x="195221" y="190188"/>
                  </a:lnTo>
                  <a:lnTo>
                    <a:pt x="196039" y="197912"/>
                  </a:lnTo>
                  <a:lnTo>
                    <a:pt x="195737" y="205601"/>
                  </a:lnTo>
                  <a:lnTo>
                    <a:pt x="194689" y="213268"/>
                  </a:lnTo>
                  <a:lnTo>
                    <a:pt x="193144" y="220919"/>
                  </a:lnTo>
                  <a:lnTo>
                    <a:pt x="191267" y="227712"/>
                  </a:lnTo>
                  <a:lnTo>
                    <a:pt x="189170" y="233935"/>
                  </a:lnTo>
                  <a:lnTo>
                    <a:pt x="186925" y="239777"/>
                  </a:lnTo>
                  <a:lnTo>
                    <a:pt x="184581" y="244517"/>
                  </a:lnTo>
                  <a:lnTo>
                    <a:pt x="179719" y="252044"/>
                  </a:lnTo>
                  <a:lnTo>
                    <a:pt x="175544" y="255235"/>
                  </a:lnTo>
                  <a:lnTo>
                    <a:pt x="170221" y="258211"/>
                  </a:lnTo>
                  <a:lnTo>
                    <a:pt x="164132" y="261041"/>
                  </a:lnTo>
                  <a:lnTo>
                    <a:pt x="158379" y="262080"/>
                  </a:lnTo>
                  <a:lnTo>
                    <a:pt x="152851" y="261927"/>
                  </a:lnTo>
                  <a:lnTo>
                    <a:pt x="147472" y="260978"/>
                  </a:lnTo>
                  <a:lnTo>
                    <a:pt x="141346" y="260345"/>
                  </a:lnTo>
                  <a:lnTo>
                    <a:pt x="134722" y="259923"/>
                  </a:lnTo>
                  <a:lnTo>
                    <a:pt x="127766" y="259642"/>
                  </a:lnTo>
                  <a:lnTo>
                    <a:pt x="122282" y="258608"/>
                  </a:lnTo>
                  <a:lnTo>
                    <a:pt x="117779" y="257072"/>
                  </a:lnTo>
                  <a:lnTo>
                    <a:pt x="106234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MARTInkAnnotation292"/>
            <p:cNvSpPr/>
            <p:nvPr/>
          </p:nvSpPr>
          <p:spPr>
            <a:xfrm>
              <a:off x="2636640" y="467928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1">
                  <a:moveTo>
                    <a:pt x="0" y="0"/>
                  </a:moveTo>
                  <a:lnTo>
                    <a:pt x="109454" y="0"/>
                  </a:lnTo>
                  <a:lnTo>
                    <a:pt x="118689" y="846"/>
                  </a:lnTo>
                  <a:lnTo>
                    <a:pt x="127386" y="2258"/>
                  </a:lnTo>
                  <a:lnTo>
                    <a:pt x="135724" y="4045"/>
                  </a:lnTo>
                  <a:lnTo>
                    <a:pt x="142976" y="5237"/>
                  </a:lnTo>
                  <a:lnTo>
                    <a:pt x="149504" y="6032"/>
                  </a:lnTo>
                  <a:lnTo>
                    <a:pt x="16764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SMARTInkAnnotation293"/>
            <p:cNvSpPr/>
            <p:nvPr/>
          </p:nvSpPr>
          <p:spPr>
            <a:xfrm>
              <a:off x="2080440" y="5102640"/>
              <a:ext cx="342720" cy="2894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342901" h="289350">
                  <a:moveTo>
                    <a:pt x="0" y="56875"/>
                  </a:moveTo>
                  <a:lnTo>
                    <a:pt x="4045" y="52830"/>
                  </a:lnTo>
                  <a:lnTo>
                    <a:pt x="5237" y="50792"/>
                  </a:lnTo>
                  <a:lnTo>
                    <a:pt x="6561" y="46269"/>
                  </a:lnTo>
                  <a:lnTo>
                    <a:pt x="7760" y="44725"/>
                  </a:lnTo>
                  <a:lnTo>
                    <a:pt x="9407" y="43695"/>
                  </a:lnTo>
                  <a:lnTo>
                    <a:pt x="18027" y="39988"/>
                  </a:lnTo>
                  <a:lnTo>
                    <a:pt x="27486" y="35823"/>
                  </a:lnTo>
                  <a:lnTo>
                    <a:pt x="33563" y="33527"/>
                  </a:lnTo>
                  <a:lnTo>
                    <a:pt x="40156" y="31150"/>
                  </a:lnTo>
                  <a:lnTo>
                    <a:pt x="46244" y="27871"/>
                  </a:lnTo>
                  <a:lnTo>
                    <a:pt x="51996" y="23993"/>
                  </a:lnTo>
                  <a:lnTo>
                    <a:pt x="57524" y="19713"/>
                  </a:lnTo>
                  <a:lnTo>
                    <a:pt x="65443" y="16861"/>
                  </a:lnTo>
                  <a:lnTo>
                    <a:pt x="74955" y="14959"/>
                  </a:lnTo>
                  <a:lnTo>
                    <a:pt x="85530" y="13691"/>
                  </a:lnTo>
                  <a:lnTo>
                    <a:pt x="95967" y="11999"/>
                  </a:lnTo>
                  <a:lnTo>
                    <a:pt x="106311" y="10025"/>
                  </a:lnTo>
                  <a:lnTo>
                    <a:pt x="126836" y="5572"/>
                  </a:lnTo>
                  <a:lnTo>
                    <a:pt x="147247" y="772"/>
                  </a:lnTo>
                  <a:lnTo>
                    <a:pt x="156585" y="0"/>
                  </a:lnTo>
                  <a:lnTo>
                    <a:pt x="165350" y="332"/>
                  </a:lnTo>
                  <a:lnTo>
                    <a:pt x="173733" y="1399"/>
                  </a:lnTo>
                  <a:lnTo>
                    <a:pt x="182709" y="2111"/>
                  </a:lnTo>
                  <a:lnTo>
                    <a:pt x="192079" y="2586"/>
                  </a:lnTo>
                  <a:lnTo>
                    <a:pt x="201713" y="2902"/>
                  </a:lnTo>
                  <a:lnTo>
                    <a:pt x="210675" y="3960"/>
                  </a:lnTo>
                  <a:lnTo>
                    <a:pt x="219190" y="5512"/>
                  </a:lnTo>
                  <a:lnTo>
                    <a:pt x="227407" y="7393"/>
                  </a:lnTo>
                  <a:lnTo>
                    <a:pt x="234578" y="8647"/>
                  </a:lnTo>
                  <a:lnTo>
                    <a:pt x="241052" y="9483"/>
                  </a:lnTo>
                  <a:lnTo>
                    <a:pt x="247062" y="10040"/>
                  </a:lnTo>
                  <a:lnTo>
                    <a:pt x="255996" y="12917"/>
                  </a:lnTo>
                  <a:lnTo>
                    <a:pt x="262789" y="17018"/>
                  </a:lnTo>
                  <a:lnTo>
                    <a:pt x="268631" y="21663"/>
                  </a:lnTo>
                  <a:lnTo>
                    <a:pt x="274050" y="28808"/>
                  </a:lnTo>
                  <a:lnTo>
                    <a:pt x="276680" y="33084"/>
                  </a:lnTo>
                  <a:lnTo>
                    <a:pt x="277587" y="36781"/>
                  </a:lnTo>
                  <a:lnTo>
                    <a:pt x="277344" y="40092"/>
                  </a:lnTo>
                  <a:lnTo>
                    <a:pt x="270872" y="59580"/>
                  </a:lnTo>
                  <a:lnTo>
                    <a:pt x="267788" y="65452"/>
                  </a:lnTo>
                  <a:lnTo>
                    <a:pt x="264039" y="71060"/>
                  </a:lnTo>
                  <a:lnTo>
                    <a:pt x="259846" y="76491"/>
                  </a:lnTo>
                  <a:lnTo>
                    <a:pt x="254510" y="81806"/>
                  </a:lnTo>
                  <a:lnTo>
                    <a:pt x="248414" y="87043"/>
                  </a:lnTo>
                  <a:lnTo>
                    <a:pt x="241809" y="92227"/>
                  </a:lnTo>
                  <a:lnTo>
                    <a:pt x="234866" y="98223"/>
                  </a:lnTo>
                  <a:lnTo>
                    <a:pt x="227698" y="104760"/>
                  </a:lnTo>
                  <a:lnTo>
                    <a:pt x="220378" y="111658"/>
                  </a:lnTo>
                  <a:lnTo>
                    <a:pt x="212959" y="117950"/>
                  </a:lnTo>
                  <a:lnTo>
                    <a:pt x="205473" y="123839"/>
                  </a:lnTo>
                  <a:lnTo>
                    <a:pt x="197942" y="129458"/>
                  </a:lnTo>
                  <a:lnTo>
                    <a:pt x="190381" y="135743"/>
                  </a:lnTo>
                  <a:lnTo>
                    <a:pt x="182801" y="142474"/>
                  </a:lnTo>
                  <a:lnTo>
                    <a:pt x="175207" y="149501"/>
                  </a:lnTo>
                  <a:lnTo>
                    <a:pt x="168452" y="156726"/>
                  </a:lnTo>
                  <a:lnTo>
                    <a:pt x="162254" y="164082"/>
                  </a:lnTo>
                  <a:lnTo>
                    <a:pt x="156430" y="171527"/>
                  </a:lnTo>
                  <a:lnTo>
                    <a:pt x="151700" y="178182"/>
                  </a:lnTo>
                  <a:lnTo>
                    <a:pt x="147700" y="184314"/>
                  </a:lnTo>
                  <a:lnTo>
                    <a:pt x="144187" y="190094"/>
                  </a:lnTo>
                  <a:lnTo>
                    <a:pt x="140998" y="195641"/>
                  </a:lnTo>
                  <a:lnTo>
                    <a:pt x="135197" y="206320"/>
                  </a:lnTo>
                  <a:lnTo>
                    <a:pt x="133311" y="212385"/>
                  </a:lnTo>
                  <a:lnTo>
                    <a:pt x="132055" y="218968"/>
                  </a:lnTo>
                  <a:lnTo>
                    <a:pt x="131216" y="225897"/>
                  </a:lnTo>
                  <a:lnTo>
                    <a:pt x="131504" y="232210"/>
                  </a:lnTo>
                  <a:lnTo>
                    <a:pt x="132543" y="238112"/>
                  </a:lnTo>
                  <a:lnTo>
                    <a:pt x="134082" y="243739"/>
                  </a:lnTo>
                  <a:lnTo>
                    <a:pt x="138050" y="252250"/>
                  </a:lnTo>
                  <a:lnTo>
                    <a:pt x="140293" y="255705"/>
                  </a:lnTo>
                  <a:lnTo>
                    <a:pt x="147302" y="261802"/>
                  </a:lnTo>
                  <a:lnTo>
                    <a:pt x="156061" y="268180"/>
                  </a:lnTo>
                  <a:lnTo>
                    <a:pt x="165598" y="276660"/>
                  </a:lnTo>
                  <a:lnTo>
                    <a:pt x="172206" y="279598"/>
                  </a:lnTo>
                  <a:lnTo>
                    <a:pt x="179997" y="281557"/>
                  </a:lnTo>
                  <a:lnTo>
                    <a:pt x="188578" y="282863"/>
                  </a:lnTo>
                  <a:lnTo>
                    <a:pt x="209402" y="286572"/>
                  </a:lnTo>
                  <a:lnTo>
                    <a:pt x="220881" y="288746"/>
                  </a:lnTo>
                  <a:lnTo>
                    <a:pt x="231921" y="289349"/>
                  </a:lnTo>
                  <a:lnTo>
                    <a:pt x="242667" y="288904"/>
                  </a:lnTo>
                  <a:lnTo>
                    <a:pt x="253218" y="287761"/>
                  </a:lnTo>
                  <a:lnTo>
                    <a:pt x="264486" y="286999"/>
                  </a:lnTo>
                  <a:lnTo>
                    <a:pt x="276230" y="286491"/>
                  </a:lnTo>
                  <a:lnTo>
                    <a:pt x="288293" y="286153"/>
                  </a:lnTo>
                  <a:lnTo>
                    <a:pt x="298029" y="285080"/>
                  </a:lnTo>
                  <a:lnTo>
                    <a:pt x="306213" y="283518"/>
                  </a:lnTo>
                  <a:lnTo>
                    <a:pt x="313362" y="281631"/>
                  </a:lnTo>
                  <a:lnTo>
                    <a:pt x="319821" y="280372"/>
                  </a:lnTo>
                  <a:lnTo>
                    <a:pt x="325821" y="279533"/>
                  </a:lnTo>
                  <a:lnTo>
                    <a:pt x="342900" y="2778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SMARTInkAnnotation294"/>
            <p:cNvSpPr/>
            <p:nvPr/>
          </p:nvSpPr>
          <p:spPr>
            <a:xfrm>
              <a:off x="2410560" y="5169600"/>
              <a:ext cx="263880" cy="266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264141" h="266096">
                  <a:moveTo>
                    <a:pt x="264140" y="65949"/>
                  </a:moveTo>
                  <a:lnTo>
                    <a:pt x="264140" y="43025"/>
                  </a:lnTo>
                  <a:lnTo>
                    <a:pt x="263294" y="38814"/>
                  </a:lnTo>
                  <a:lnTo>
                    <a:pt x="261883" y="34312"/>
                  </a:lnTo>
                  <a:lnTo>
                    <a:pt x="260095" y="29618"/>
                  </a:lnTo>
                  <a:lnTo>
                    <a:pt x="256364" y="25641"/>
                  </a:lnTo>
                  <a:lnTo>
                    <a:pt x="251336" y="22144"/>
                  </a:lnTo>
                  <a:lnTo>
                    <a:pt x="245444" y="18966"/>
                  </a:lnTo>
                  <a:lnTo>
                    <a:pt x="238976" y="15153"/>
                  </a:lnTo>
                  <a:lnTo>
                    <a:pt x="225016" y="6402"/>
                  </a:lnTo>
                  <a:lnTo>
                    <a:pt x="216891" y="3391"/>
                  </a:lnTo>
                  <a:lnTo>
                    <a:pt x="208087" y="1384"/>
                  </a:lnTo>
                  <a:lnTo>
                    <a:pt x="198832" y="45"/>
                  </a:lnTo>
                  <a:lnTo>
                    <a:pt x="187581" y="0"/>
                  </a:lnTo>
                  <a:lnTo>
                    <a:pt x="175001" y="816"/>
                  </a:lnTo>
                  <a:lnTo>
                    <a:pt x="161534" y="2207"/>
                  </a:lnTo>
                  <a:lnTo>
                    <a:pt x="148323" y="3981"/>
                  </a:lnTo>
                  <a:lnTo>
                    <a:pt x="135282" y="6010"/>
                  </a:lnTo>
                  <a:lnTo>
                    <a:pt x="122355" y="8210"/>
                  </a:lnTo>
                  <a:lnTo>
                    <a:pt x="109503" y="11370"/>
                  </a:lnTo>
                  <a:lnTo>
                    <a:pt x="96702" y="15169"/>
                  </a:lnTo>
                  <a:lnTo>
                    <a:pt x="83935" y="19396"/>
                  </a:lnTo>
                  <a:lnTo>
                    <a:pt x="72036" y="25600"/>
                  </a:lnTo>
                  <a:lnTo>
                    <a:pt x="60717" y="33123"/>
                  </a:lnTo>
                  <a:lnTo>
                    <a:pt x="49785" y="41525"/>
                  </a:lnTo>
                  <a:lnTo>
                    <a:pt x="39956" y="49666"/>
                  </a:lnTo>
                  <a:lnTo>
                    <a:pt x="30864" y="57634"/>
                  </a:lnTo>
                  <a:lnTo>
                    <a:pt x="22263" y="65486"/>
                  </a:lnTo>
                  <a:lnTo>
                    <a:pt x="15682" y="74954"/>
                  </a:lnTo>
                  <a:lnTo>
                    <a:pt x="10448" y="85499"/>
                  </a:lnTo>
                  <a:lnTo>
                    <a:pt x="6112" y="96762"/>
                  </a:lnTo>
                  <a:lnTo>
                    <a:pt x="3221" y="107658"/>
                  </a:lnTo>
                  <a:lnTo>
                    <a:pt x="1294" y="118309"/>
                  </a:lnTo>
                  <a:lnTo>
                    <a:pt x="9" y="128795"/>
                  </a:lnTo>
                  <a:lnTo>
                    <a:pt x="0" y="140020"/>
                  </a:lnTo>
                  <a:lnTo>
                    <a:pt x="840" y="151737"/>
                  </a:lnTo>
                  <a:lnTo>
                    <a:pt x="2246" y="163781"/>
                  </a:lnTo>
                  <a:lnTo>
                    <a:pt x="5724" y="175197"/>
                  </a:lnTo>
                  <a:lnTo>
                    <a:pt x="10583" y="186195"/>
                  </a:lnTo>
                  <a:lnTo>
                    <a:pt x="16362" y="196913"/>
                  </a:lnTo>
                  <a:lnTo>
                    <a:pt x="24448" y="207445"/>
                  </a:lnTo>
                  <a:lnTo>
                    <a:pt x="34072" y="217853"/>
                  </a:lnTo>
                  <a:lnTo>
                    <a:pt x="44721" y="228178"/>
                  </a:lnTo>
                  <a:lnTo>
                    <a:pt x="55208" y="236756"/>
                  </a:lnTo>
                  <a:lnTo>
                    <a:pt x="65585" y="244167"/>
                  </a:lnTo>
                  <a:lnTo>
                    <a:pt x="75890" y="250801"/>
                  </a:lnTo>
                  <a:lnTo>
                    <a:pt x="86994" y="256070"/>
                  </a:lnTo>
                  <a:lnTo>
                    <a:pt x="98629" y="260430"/>
                  </a:lnTo>
                  <a:lnTo>
                    <a:pt x="110619" y="264183"/>
                  </a:lnTo>
                  <a:lnTo>
                    <a:pt x="122846" y="265839"/>
                  </a:lnTo>
                  <a:lnTo>
                    <a:pt x="135231" y="266095"/>
                  </a:lnTo>
                  <a:lnTo>
                    <a:pt x="147721" y="265420"/>
                  </a:lnTo>
                  <a:lnTo>
                    <a:pt x="158587" y="263276"/>
                  </a:lnTo>
                  <a:lnTo>
                    <a:pt x="168371" y="260154"/>
                  </a:lnTo>
                  <a:lnTo>
                    <a:pt x="177434" y="256379"/>
                  </a:lnTo>
                  <a:lnTo>
                    <a:pt x="186016" y="251323"/>
                  </a:lnTo>
                  <a:lnTo>
                    <a:pt x="194277" y="245411"/>
                  </a:lnTo>
                  <a:lnTo>
                    <a:pt x="202325" y="238930"/>
                  </a:lnTo>
                  <a:lnTo>
                    <a:pt x="209383" y="231224"/>
                  </a:lnTo>
                  <a:lnTo>
                    <a:pt x="215782" y="222699"/>
                  </a:lnTo>
                  <a:lnTo>
                    <a:pt x="221742" y="213629"/>
                  </a:lnTo>
                  <a:lnTo>
                    <a:pt x="225715" y="204196"/>
                  </a:lnTo>
                  <a:lnTo>
                    <a:pt x="228363" y="194520"/>
                  </a:lnTo>
                  <a:lnTo>
                    <a:pt x="230129" y="184683"/>
                  </a:lnTo>
                  <a:lnTo>
                    <a:pt x="231306" y="173892"/>
                  </a:lnTo>
                  <a:lnTo>
                    <a:pt x="232091" y="162464"/>
                  </a:lnTo>
                  <a:lnTo>
                    <a:pt x="232614" y="150612"/>
                  </a:lnTo>
                  <a:lnTo>
                    <a:pt x="232116" y="138478"/>
                  </a:lnTo>
                  <a:lnTo>
                    <a:pt x="230938" y="126156"/>
                  </a:lnTo>
                  <a:lnTo>
                    <a:pt x="229305" y="113706"/>
                  </a:lnTo>
                  <a:lnTo>
                    <a:pt x="226524" y="102021"/>
                  </a:lnTo>
                  <a:lnTo>
                    <a:pt x="222976" y="90843"/>
                  </a:lnTo>
                  <a:lnTo>
                    <a:pt x="218917" y="80005"/>
                  </a:lnTo>
                  <a:lnTo>
                    <a:pt x="213671" y="70240"/>
                  </a:lnTo>
                  <a:lnTo>
                    <a:pt x="207634" y="61189"/>
                  </a:lnTo>
                  <a:lnTo>
                    <a:pt x="201070" y="52616"/>
                  </a:lnTo>
                  <a:lnTo>
                    <a:pt x="195846" y="45207"/>
                  </a:lnTo>
                  <a:lnTo>
                    <a:pt x="191518" y="38574"/>
                  </a:lnTo>
                  <a:lnTo>
                    <a:pt x="187785" y="32459"/>
                  </a:lnTo>
                  <a:lnTo>
                    <a:pt x="183604" y="27536"/>
                  </a:lnTo>
                  <a:lnTo>
                    <a:pt x="179122" y="23407"/>
                  </a:lnTo>
                  <a:lnTo>
                    <a:pt x="165080" y="126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MARTInkAnnotation295"/>
            <p:cNvSpPr/>
            <p:nvPr/>
          </p:nvSpPr>
          <p:spPr>
            <a:xfrm>
              <a:off x="5204520" y="4778280"/>
              <a:ext cx="194400" cy="2574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94437" h="257443">
                  <a:moveTo>
                    <a:pt x="60830" y="0"/>
                  </a:moveTo>
                  <a:lnTo>
                    <a:pt x="60830" y="17912"/>
                  </a:lnTo>
                  <a:lnTo>
                    <a:pt x="58572" y="25176"/>
                  </a:lnTo>
                  <a:lnTo>
                    <a:pt x="55594" y="33203"/>
                  </a:lnTo>
                  <a:lnTo>
                    <a:pt x="54269" y="39593"/>
                  </a:lnTo>
                  <a:lnTo>
                    <a:pt x="49165" y="47512"/>
                  </a:lnTo>
                  <a:lnTo>
                    <a:pt x="45433" y="51995"/>
                  </a:lnTo>
                  <a:lnTo>
                    <a:pt x="42099" y="55830"/>
                  </a:lnTo>
                  <a:lnTo>
                    <a:pt x="36136" y="62349"/>
                  </a:lnTo>
                  <a:lnTo>
                    <a:pt x="30664" y="70326"/>
                  </a:lnTo>
                  <a:lnTo>
                    <a:pt x="28019" y="74824"/>
                  </a:lnTo>
                  <a:lnTo>
                    <a:pt x="25081" y="82080"/>
                  </a:lnTo>
                  <a:lnTo>
                    <a:pt x="24297" y="85200"/>
                  </a:lnTo>
                  <a:lnTo>
                    <a:pt x="21169" y="90925"/>
                  </a:lnTo>
                  <a:lnTo>
                    <a:pt x="16956" y="96291"/>
                  </a:lnTo>
                  <a:lnTo>
                    <a:pt x="12262" y="101499"/>
                  </a:lnTo>
                  <a:lnTo>
                    <a:pt x="9825" y="103225"/>
                  </a:lnTo>
                  <a:lnTo>
                    <a:pt x="4859" y="105145"/>
                  </a:lnTo>
                  <a:lnTo>
                    <a:pt x="0" y="106640"/>
                  </a:lnTo>
                  <a:lnTo>
                    <a:pt x="3954" y="106668"/>
                  </a:lnTo>
                  <a:lnTo>
                    <a:pt x="5979" y="105825"/>
                  </a:lnTo>
                  <a:lnTo>
                    <a:pt x="13722" y="100594"/>
                  </a:lnTo>
                  <a:lnTo>
                    <a:pt x="17572" y="98389"/>
                  </a:lnTo>
                  <a:lnTo>
                    <a:pt x="26364" y="93682"/>
                  </a:lnTo>
                  <a:lnTo>
                    <a:pt x="35916" y="88768"/>
                  </a:lnTo>
                  <a:lnTo>
                    <a:pt x="41681" y="86272"/>
                  </a:lnTo>
                  <a:lnTo>
                    <a:pt x="48064" y="83761"/>
                  </a:lnTo>
                  <a:lnTo>
                    <a:pt x="54859" y="81241"/>
                  </a:lnTo>
                  <a:lnTo>
                    <a:pt x="61084" y="79560"/>
                  </a:lnTo>
                  <a:lnTo>
                    <a:pt x="66925" y="78440"/>
                  </a:lnTo>
                  <a:lnTo>
                    <a:pt x="72514" y="77693"/>
                  </a:lnTo>
                  <a:lnTo>
                    <a:pt x="78779" y="76349"/>
                  </a:lnTo>
                  <a:lnTo>
                    <a:pt x="85496" y="74606"/>
                  </a:lnTo>
                  <a:lnTo>
                    <a:pt x="92514" y="72597"/>
                  </a:lnTo>
                  <a:lnTo>
                    <a:pt x="99733" y="71258"/>
                  </a:lnTo>
                  <a:lnTo>
                    <a:pt x="107085" y="70366"/>
                  </a:lnTo>
                  <a:lnTo>
                    <a:pt x="114527" y="69770"/>
                  </a:lnTo>
                  <a:lnTo>
                    <a:pt x="121181" y="70220"/>
                  </a:lnTo>
                  <a:lnTo>
                    <a:pt x="127311" y="71367"/>
                  </a:lnTo>
                  <a:lnTo>
                    <a:pt x="133090" y="72978"/>
                  </a:lnTo>
                  <a:lnTo>
                    <a:pt x="138637" y="74899"/>
                  </a:lnTo>
                  <a:lnTo>
                    <a:pt x="144028" y="77026"/>
                  </a:lnTo>
                  <a:lnTo>
                    <a:pt x="149315" y="79291"/>
                  </a:lnTo>
                  <a:lnTo>
                    <a:pt x="159706" y="84065"/>
                  </a:lnTo>
                  <a:lnTo>
                    <a:pt x="164847" y="86523"/>
                  </a:lnTo>
                  <a:lnTo>
                    <a:pt x="169122" y="89856"/>
                  </a:lnTo>
                  <a:lnTo>
                    <a:pt x="172817" y="93770"/>
                  </a:lnTo>
                  <a:lnTo>
                    <a:pt x="176128" y="98074"/>
                  </a:lnTo>
                  <a:lnTo>
                    <a:pt x="179182" y="102636"/>
                  </a:lnTo>
                  <a:lnTo>
                    <a:pt x="182065" y="107370"/>
                  </a:lnTo>
                  <a:lnTo>
                    <a:pt x="184833" y="112220"/>
                  </a:lnTo>
                  <a:lnTo>
                    <a:pt x="186679" y="117147"/>
                  </a:lnTo>
                  <a:lnTo>
                    <a:pt x="187909" y="122124"/>
                  </a:lnTo>
                  <a:lnTo>
                    <a:pt x="188730" y="127137"/>
                  </a:lnTo>
                  <a:lnTo>
                    <a:pt x="190123" y="133018"/>
                  </a:lnTo>
                  <a:lnTo>
                    <a:pt x="191899" y="139478"/>
                  </a:lnTo>
                  <a:lnTo>
                    <a:pt x="193929" y="146325"/>
                  </a:lnTo>
                  <a:lnTo>
                    <a:pt x="194436" y="153431"/>
                  </a:lnTo>
                  <a:lnTo>
                    <a:pt x="193927" y="160707"/>
                  </a:lnTo>
                  <a:lnTo>
                    <a:pt x="192741" y="168098"/>
                  </a:lnTo>
                  <a:lnTo>
                    <a:pt x="191104" y="174719"/>
                  </a:lnTo>
                  <a:lnTo>
                    <a:pt x="189166" y="180826"/>
                  </a:lnTo>
                  <a:lnTo>
                    <a:pt x="187027" y="186590"/>
                  </a:lnTo>
                  <a:lnTo>
                    <a:pt x="184755" y="192127"/>
                  </a:lnTo>
                  <a:lnTo>
                    <a:pt x="182393" y="197512"/>
                  </a:lnTo>
                  <a:lnTo>
                    <a:pt x="177511" y="208010"/>
                  </a:lnTo>
                  <a:lnTo>
                    <a:pt x="172519" y="218320"/>
                  </a:lnTo>
                  <a:lnTo>
                    <a:pt x="169156" y="223440"/>
                  </a:lnTo>
                  <a:lnTo>
                    <a:pt x="165221" y="228546"/>
                  </a:lnTo>
                  <a:lnTo>
                    <a:pt x="160904" y="233644"/>
                  </a:lnTo>
                  <a:lnTo>
                    <a:pt x="156333" y="237890"/>
                  </a:lnTo>
                  <a:lnTo>
                    <a:pt x="151592" y="241566"/>
                  </a:lnTo>
                  <a:lnTo>
                    <a:pt x="146738" y="244864"/>
                  </a:lnTo>
                  <a:lnTo>
                    <a:pt x="142655" y="247909"/>
                  </a:lnTo>
                  <a:lnTo>
                    <a:pt x="139087" y="250786"/>
                  </a:lnTo>
                  <a:lnTo>
                    <a:pt x="135861" y="253551"/>
                  </a:lnTo>
                  <a:lnTo>
                    <a:pt x="132017" y="255393"/>
                  </a:lnTo>
                  <a:lnTo>
                    <a:pt x="127762" y="256622"/>
                  </a:lnTo>
                  <a:lnTo>
                    <a:pt x="123231" y="257442"/>
                  </a:lnTo>
                  <a:lnTo>
                    <a:pt x="118518" y="257141"/>
                  </a:lnTo>
                  <a:lnTo>
                    <a:pt x="113682" y="256094"/>
                  </a:lnTo>
                  <a:lnTo>
                    <a:pt x="108764" y="254549"/>
                  </a:lnTo>
                  <a:lnTo>
                    <a:pt x="103793" y="252673"/>
                  </a:lnTo>
                  <a:lnTo>
                    <a:pt x="98786" y="250575"/>
                  </a:lnTo>
                  <a:lnTo>
                    <a:pt x="93754" y="248330"/>
                  </a:lnTo>
                  <a:lnTo>
                    <a:pt x="89553" y="246833"/>
                  </a:lnTo>
                  <a:lnTo>
                    <a:pt x="85905" y="245836"/>
                  </a:lnTo>
                  <a:lnTo>
                    <a:pt x="76070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MARTInkAnnotation296"/>
            <p:cNvSpPr/>
            <p:nvPr/>
          </p:nvSpPr>
          <p:spPr>
            <a:xfrm>
              <a:off x="5265360" y="4755240"/>
              <a:ext cx="228240" cy="30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8601" h="30481">
                  <a:moveTo>
                    <a:pt x="0" y="30480"/>
                  </a:moveTo>
                  <a:lnTo>
                    <a:pt x="6561" y="30480"/>
                  </a:lnTo>
                  <a:lnTo>
                    <a:pt x="7760" y="29633"/>
                  </a:lnTo>
                  <a:lnTo>
                    <a:pt x="9408" y="28223"/>
                  </a:lnTo>
                  <a:lnTo>
                    <a:pt x="11352" y="26435"/>
                  </a:lnTo>
                  <a:lnTo>
                    <a:pt x="13495" y="25243"/>
                  </a:lnTo>
                  <a:lnTo>
                    <a:pt x="15770" y="24449"/>
                  </a:lnTo>
                  <a:lnTo>
                    <a:pt x="21402" y="23566"/>
                  </a:lnTo>
                  <a:lnTo>
                    <a:pt x="25275" y="23331"/>
                  </a:lnTo>
                  <a:lnTo>
                    <a:pt x="29550" y="23174"/>
                  </a:lnTo>
                  <a:lnTo>
                    <a:pt x="47702" y="22953"/>
                  </a:lnTo>
                  <a:lnTo>
                    <a:pt x="54661" y="22075"/>
                  </a:lnTo>
                  <a:lnTo>
                    <a:pt x="61841" y="20644"/>
                  </a:lnTo>
                  <a:lnTo>
                    <a:pt x="69168" y="18843"/>
                  </a:lnTo>
                  <a:lnTo>
                    <a:pt x="76592" y="17642"/>
                  </a:lnTo>
                  <a:lnTo>
                    <a:pt x="84081" y="16841"/>
                  </a:lnTo>
                  <a:lnTo>
                    <a:pt x="91614" y="16307"/>
                  </a:lnTo>
                  <a:lnTo>
                    <a:pt x="99176" y="15952"/>
                  </a:lnTo>
                  <a:lnTo>
                    <a:pt x="114352" y="15556"/>
                  </a:lnTo>
                  <a:lnTo>
                    <a:pt x="121955" y="14604"/>
                  </a:lnTo>
                  <a:lnTo>
                    <a:pt x="129563" y="13123"/>
                  </a:lnTo>
                  <a:lnTo>
                    <a:pt x="137175" y="11289"/>
                  </a:lnTo>
                  <a:lnTo>
                    <a:pt x="144791" y="10066"/>
                  </a:lnTo>
                  <a:lnTo>
                    <a:pt x="152407" y="9251"/>
                  </a:lnTo>
                  <a:lnTo>
                    <a:pt x="160024" y="8707"/>
                  </a:lnTo>
                  <a:lnTo>
                    <a:pt x="167643" y="7498"/>
                  </a:lnTo>
                  <a:lnTo>
                    <a:pt x="175262" y="5845"/>
                  </a:lnTo>
                  <a:lnTo>
                    <a:pt x="182882" y="3897"/>
                  </a:lnTo>
                  <a:lnTo>
                    <a:pt x="189654" y="2598"/>
                  </a:lnTo>
                  <a:lnTo>
                    <a:pt x="195863" y="1732"/>
                  </a:lnTo>
                  <a:lnTo>
                    <a:pt x="201696" y="1155"/>
                  </a:lnTo>
                  <a:lnTo>
                    <a:pt x="207277" y="770"/>
                  </a:lnTo>
                  <a:lnTo>
                    <a:pt x="212692" y="513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MARTInkAnnotation297"/>
            <p:cNvSpPr/>
            <p:nvPr/>
          </p:nvSpPr>
          <p:spPr>
            <a:xfrm>
              <a:off x="5526000" y="4915440"/>
              <a:ext cx="43560" cy="151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3914" h="15241">
                  <a:moveTo>
                    <a:pt x="28673" y="0"/>
                  </a:moveTo>
                  <a:lnTo>
                    <a:pt x="-29245" y="0"/>
                  </a:lnTo>
                  <a:lnTo>
                    <a:pt x="0" y="0"/>
                  </a:lnTo>
                  <a:lnTo>
                    <a:pt x="4912" y="0"/>
                  </a:lnTo>
                  <a:lnTo>
                    <a:pt x="6059" y="846"/>
                  </a:lnTo>
                  <a:lnTo>
                    <a:pt x="7670" y="2258"/>
                  </a:lnTo>
                  <a:lnTo>
                    <a:pt x="9591" y="4045"/>
                  </a:lnTo>
                  <a:lnTo>
                    <a:pt x="12565" y="5237"/>
                  </a:lnTo>
                  <a:lnTo>
                    <a:pt x="16241" y="6031"/>
                  </a:lnTo>
                  <a:lnTo>
                    <a:pt x="20385" y="6561"/>
                  </a:lnTo>
                  <a:lnTo>
                    <a:pt x="23995" y="7760"/>
                  </a:lnTo>
                  <a:lnTo>
                    <a:pt x="27247" y="9408"/>
                  </a:lnTo>
                  <a:lnTo>
                    <a:pt x="30262" y="11352"/>
                  </a:lnTo>
                  <a:lnTo>
                    <a:pt x="-32417" y="12648"/>
                  </a:lnTo>
                  <a:lnTo>
                    <a:pt x="-29665" y="13512"/>
                  </a:lnTo>
                  <a:lnTo>
                    <a:pt x="-21623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MARTInkAnnotation298"/>
            <p:cNvSpPr/>
            <p:nvPr/>
          </p:nvSpPr>
          <p:spPr>
            <a:xfrm>
              <a:off x="5623560" y="4770720"/>
              <a:ext cx="227880" cy="22500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228121" h="225219">
                  <a:moveTo>
                    <a:pt x="0" y="7621"/>
                  </a:moveTo>
                  <a:lnTo>
                    <a:pt x="4045" y="3575"/>
                  </a:lnTo>
                  <a:lnTo>
                    <a:pt x="6083" y="2384"/>
                  </a:lnTo>
                  <a:lnTo>
                    <a:pt x="10606" y="1059"/>
                  </a:lnTo>
                  <a:lnTo>
                    <a:pt x="14691" y="706"/>
                  </a:lnTo>
                  <a:lnTo>
                    <a:pt x="19954" y="471"/>
                  </a:lnTo>
                  <a:lnTo>
                    <a:pt x="37239" y="140"/>
                  </a:lnTo>
                  <a:lnTo>
                    <a:pt x="228120" y="0"/>
                  </a:lnTo>
                  <a:lnTo>
                    <a:pt x="224412" y="0"/>
                  </a:lnTo>
                  <a:lnTo>
                    <a:pt x="222422" y="847"/>
                  </a:lnTo>
                  <a:lnTo>
                    <a:pt x="217952" y="4045"/>
                  </a:lnTo>
                  <a:lnTo>
                    <a:pt x="213143" y="10546"/>
                  </a:lnTo>
                  <a:lnTo>
                    <a:pt x="210675" y="14652"/>
                  </a:lnTo>
                  <a:lnTo>
                    <a:pt x="207337" y="19081"/>
                  </a:lnTo>
                  <a:lnTo>
                    <a:pt x="203418" y="23727"/>
                  </a:lnTo>
                  <a:lnTo>
                    <a:pt x="199112" y="28518"/>
                  </a:lnTo>
                  <a:lnTo>
                    <a:pt x="189812" y="38357"/>
                  </a:lnTo>
                  <a:lnTo>
                    <a:pt x="184961" y="43351"/>
                  </a:lnTo>
                  <a:lnTo>
                    <a:pt x="179188" y="48374"/>
                  </a:lnTo>
                  <a:lnTo>
                    <a:pt x="172799" y="53417"/>
                  </a:lnTo>
                  <a:lnTo>
                    <a:pt x="165999" y="58471"/>
                  </a:lnTo>
                  <a:lnTo>
                    <a:pt x="159772" y="63534"/>
                  </a:lnTo>
                  <a:lnTo>
                    <a:pt x="153928" y="68603"/>
                  </a:lnTo>
                  <a:lnTo>
                    <a:pt x="148339" y="73675"/>
                  </a:lnTo>
                  <a:lnTo>
                    <a:pt x="142919" y="79598"/>
                  </a:lnTo>
                  <a:lnTo>
                    <a:pt x="137613" y="86085"/>
                  </a:lnTo>
                  <a:lnTo>
                    <a:pt x="132382" y="92950"/>
                  </a:lnTo>
                  <a:lnTo>
                    <a:pt x="126355" y="99220"/>
                  </a:lnTo>
                  <a:lnTo>
                    <a:pt x="119797" y="105094"/>
                  </a:lnTo>
                  <a:lnTo>
                    <a:pt x="112884" y="110703"/>
                  </a:lnTo>
                  <a:lnTo>
                    <a:pt x="106583" y="116135"/>
                  </a:lnTo>
                  <a:lnTo>
                    <a:pt x="100688" y="121450"/>
                  </a:lnTo>
                  <a:lnTo>
                    <a:pt x="95066" y="126687"/>
                  </a:lnTo>
                  <a:lnTo>
                    <a:pt x="90470" y="132718"/>
                  </a:lnTo>
                  <a:lnTo>
                    <a:pt x="86560" y="139279"/>
                  </a:lnTo>
                  <a:lnTo>
                    <a:pt x="83106" y="146192"/>
                  </a:lnTo>
                  <a:lnTo>
                    <a:pt x="79111" y="152495"/>
                  </a:lnTo>
                  <a:lnTo>
                    <a:pt x="74754" y="158390"/>
                  </a:lnTo>
                  <a:lnTo>
                    <a:pt x="70156" y="164014"/>
                  </a:lnTo>
                  <a:lnTo>
                    <a:pt x="66244" y="169456"/>
                  </a:lnTo>
                  <a:lnTo>
                    <a:pt x="62789" y="174778"/>
                  </a:lnTo>
                  <a:lnTo>
                    <a:pt x="59640" y="180019"/>
                  </a:lnTo>
                  <a:lnTo>
                    <a:pt x="57540" y="184359"/>
                  </a:lnTo>
                  <a:lnTo>
                    <a:pt x="56140" y="188099"/>
                  </a:lnTo>
                  <a:lnTo>
                    <a:pt x="55207" y="191440"/>
                  </a:lnTo>
                  <a:lnTo>
                    <a:pt x="51912" y="197409"/>
                  </a:lnTo>
                  <a:lnTo>
                    <a:pt x="49847" y="200186"/>
                  </a:lnTo>
                  <a:lnTo>
                    <a:pt x="48472" y="203731"/>
                  </a:lnTo>
                  <a:lnTo>
                    <a:pt x="47554" y="207787"/>
                  </a:lnTo>
                  <a:lnTo>
                    <a:pt x="45828" y="220208"/>
                  </a:lnTo>
                  <a:lnTo>
                    <a:pt x="45752" y="224797"/>
                  </a:lnTo>
                  <a:lnTo>
                    <a:pt x="46588" y="225218"/>
                  </a:lnTo>
                  <a:lnTo>
                    <a:pt x="47991" y="224652"/>
                  </a:lnTo>
                  <a:lnTo>
                    <a:pt x="5334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MARTInkAnnotation299"/>
            <p:cNvSpPr/>
            <p:nvPr/>
          </p:nvSpPr>
          <p:spPr>
            <a:xfrm>
              <a:off x="5638680" y="4862520"/>
              <a:ext cx="213120" cy="22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13361" h="22545">
                  <a:moveTo>
                    <a:pt x="0" y="14924"/>
                  </a:moveTo>
                  <a:lnTo>
                    <a:pt x="0" y="10879"/>
                  </a:lnTo>
                  <a:lnTo>
                    <a:pt x="846" y="9687"/>
                  </a:lnTo>
                  <a:lnTo>
                    <a:pt x="2258" y="8893"/>
                  </a:lnTo>
                  <a:lnTo>
                    <a:pt x="4045" y="8363"/>
                  </a:lnTo>
                  <a:lnTo>
                    <a:pt x="8289" y="7775"/>
                  </a:lnTo>
                  <a:lnTo>
                    <a:pt x="12997" y="7513"/>
                  </a:lnTo>
                  <a:lnTo>
                    <a:pt x="17912" y="7397"/>
                  </a:lnTo>
                  <a:lnTo>
                    <a:pt x="20408" y="6519"/>
                  </a:lnTo>
                  <a:lnTo>
                    <a:pt x="22919" y="5088"/>
                  </a:lnTo>
                  <a:lnTo>
                    <a:pt x="25439" y="3287"/>
                  </a:lnTo>
                  <a:lnTo>
                    <a:pt x="28813" y="2086"/>
                  </a:lnTo>
                  <a:lnTo>
                    <a:pt x="32756" y="1285"/>
                  </a:lnTo>
                  <a:lnTo>
                    <a:pt x="37077" y="751"/>
                  </a:lnTo>
                  <a:lnTo>
                    <a:pt x="42498" y="395"/>
                  </a:lnTo>
                  <a:lnTo>
                    <a:pt x="48652" y="158"/>
                  </a:lnTo>
                  <a:lnTo>
                    <a:pt x="55295" y="0"/>
                  </a:lnTo>
                  <a:lnTo>
                    <a:pt x="62264" y="742"/>
                  </a:lnTo>
                  <a:lnTo>
                    <a:pt x="69449" y="2082"/>
                  </a:lnTo>
                  <a:lnTo>
                    <a:pt x="76779" y="3823"/>
                  </a:lnTo>
                  <a:lnTo>
                    <a:pt x="84206" y="4983"/>
                  </a:lnTo>
                  <a:lnTo>
                    <a:pt x="91698" y="5757"/>
                  </a:lnTo>
                  <a:lnTo>
                    <a:pt x="99232" y="6273"/>
                  </a:lnTo>
                  <a:lnTo>
                    <a:pt x="106794" y="7463"/>
                  </a:lnTo>
                  <a:lnTo>
                    <a:pt x="114377" y="9103"/>
                  </a:lnTo>
                  <a:lnTo>
                    <a:pt x="121972" y="11043"/>
                  </a:lnTo>
                  <a:lnTo>
                    <a:pt x="129574" y="12337"/>
                  </a:lnTo>
                  <a:lnTo>
                    <a:pt x="137183" y="13200"/>
                  </a:lnTo>
                  <a:lnTo>
                    <a:pt x="144795" y="13774"/>
                  </a:lnTo>
                  <a:lnTo>
                    <a:pt x="151563" y="14158"/>
                  </a:lnTo>
                  <a:lnTo>
                    <a:pt x="163600" y="14584"/>
                  </a:lnTo>
                  <a:lnTo>
                    <a:pt x="169179" y="15544"/>
                  </a:lnTo>
                  <a:lnTo>
                    <a:pt x="174593" y="17031"/>
                  </a:lnTo>
                  <a:lnTo>
                    <a:pt x="179896" y="18869"/>
                  </a:lnTo>
                  <a:lnTo>
                    <a:pt x="184278" y="19247"/>
                  </a:lnTo>
                  <a:lnTo>
                    <a:pt x="188045" y="18653"/>
                  </a:lnTo>
                  <a:lnTo>
                    <a:pt x="191403" y="17410"/>
                  </a:lnTo>
                  <a:lnTo>
                    <a:pt x="194489" y="17428"/>
                  </a:lnTo>
                  <a:lnTo>
                    <a:pt x="197393" y="18287"/>
                  </a:lnTo>
                  <a:lnTo>
                    <a:pt x="200175" y="19706"/>
                  </a:lnTo>
                  <a:lnTo>
                    <a:pt x="202876" y="20652"/>
                  </a:lnTo>
                  <a:lnTo>
                    <a:pt x="205525" y="21283"/>
                  </a:lnTo>
                  <a:lnTo>
                    <a:pt x="213360" y="225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SMARTInkAnnotation300"/>
            <p:cNvSpPr/>
            <p:nvPr/>
          </p:nvSpPr>
          <p:spPr>
            <a:xfrm>
              <a:off x="5973840" y="4892400"/>
              <a:ext cx="198000" cy="30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8121" h="30481">
                  <a:moveTo>
                    <a:pt x="0" y="30480"/>
                  </a:moveTo>
                  <a:lnTo>
                    <a:pt x="101257" y="30480"/>
                  </a:lnTo>
                  <a:lnTo>
                    <a:pt x="104757" y="29634"/>
                  </a:lnTo>
                  <a:lnTo>
                    <a:pt x="108786" y="28222"/>
                  </a:lnTo>
                  <a:lnTo>
                    <a:pt x="113163" y="26435"/>
                  </a:lnTo>
                  <a:lnTo>
                    <a:pt x="116929" y="25243"/>
                  </a:lnTo>
                  <a:lnTo>
                    <a:pt x="120286" y="24449"/>
                  </a:lnTo>
                  <a:lnTo>
                    <a:pt x="123371" y="23919"/>
                  </a:lnTo>
                  <a:lnTo>
                    <a:pt x="126274" y="22720"/>
                  </a:lnTo>
                  <a:lnTo>
                    <a:pt x="129057" y="21073"/>
                  </a:lnTo>
                  <a:lnTo>
                    <a:pt x="131757" y="19129"/>
                  </a:lnTo>
                  <a:lnTo>
                    <a:pt x="134405" y="17832"/>
                  </a:lnTo>
                  <a:lnTo>
                    <a:pt x="137017" y="16968"/>
                  </a:lnTo>
                  <a:lnTo>
                    <a:pt x="139605" y="16392"/>
                  </a:lnTo>
                  <a:lnTo>
                    <a:pt x="143023" y="15162"/>
                  </a:lnTo>
                  <a:lnTo>
                    <a:pt x="146995" y="13494"/>
                  </a:lnTo>
                  <a:lnTo>
                    <a:pt x="151337" y="11536"/>
                  </a:lnTo>
                  <a:lnTo>
                    <a:pt x="155925" y="10231"/>
                  </a:lnTo>
                  <a:lnTo>
                    <a:pt x="160677" y="9360"/>
                  </a:lnTo>
                  <a:lnTo>
                    <a:pt x="165538" y="8781"/>
                  </a:lnTo>
                  <a:lnTo>
                    <a:pt x="169625" y="8393"/>
                  </a:lnTo>
                  <a:lnTo>
                    <a:pt x="173197" y="8135"/>
                  </a:lnTo>
                  <a:lnTo>
                    <a:pt x="180967" y="7722"/>
                  </a:lnTo>
                  <a:lnTo>
                    <a:pt x="182452" y="6841"/>
                  </a:lnTo>
                  <a:lnTo>
                    <a:pt x="184289" y="5408"/>
                  </a:lnTo>
                  <a:lnTo>
                    <a:pt x="186359" y="3605"/>
                  </a:lnTo>
                  <a:lnTo>
                    <a:pt x="188586" y="2403"/>
                  </a:lnTo>
                  <a:lnTo>
                    <a:pt x="190918" y="1602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MARTInkAnnotation301"/>
            <p:cNvSpPr/>
            <p:nvPr/>
          </p:nvSpPr>
          <p:spPr>
            <a:xfrm>
              <a:off x="6248160" y="4748040"/>
              <a:ext cx="219960" cy="2278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220296" h="227903">
                  <a:moveTo>
                    <a:pt x="0" y="22516"/>
                  </a:moveTo>
                  <a:lnTo>
                    <a:pt x="0" y="18471"/>
                  </a:lnTo>
                  <a:lnTo>
                    <a:pt x="847" y="17279"/>
                  </a:lnTo>
                  <a:lnTo>
                    <a:pt x="2258" y="16485"/>
                  </a:lnTo>
                  <a:lnTo>
                    <a:pt x="4046" y="15955"/>
                  </a:lnTo>
                  <a:lnTo>
                    <a:pt x="8289" y="13109"/>
                  </a:lnTo>
                  <a:lnTo>
                    <a:pt x="10606" y="11164"/>
                  </a:lnTo>
                  <a:lnTo>
                    <a:pt x="13844" y="9868"/>
                  </a:lnTo>
                  <a:lnTo>
                    <a:pt x="17696" y="9004"/>
                  </a:lnTo>
                  <a:lnTo>
                    <a:pt x="21958" y="8428"/>
                  </a:lnTo>
                  <a:lnTo>
                    <a:pt x="27338" y="7197"/>
                  </a:lnTo>
                  <a:lnTo>
                    <a:pt x="33466" y="5530"/>
                  </a:lnTo>
                  <a:lnTo>
                    <a:pt x="40091" y="3572"/>
                  </a:lnTo>
                  <a:lnTo>
                    <a:pt x="47047" y="2267"/>
                  </a:lnTo>
                  <a:lnTo>
                    <a:pt x="54225" y="1396"/>
                  </a:lnTo>
                  <a:lnTo>
                    <a:pt x="61550" y="816"/>
                  </a:lnTo>
                  <a:lnTo>
                    <a:pt x="68973" y="429"/>
                  </a:lnTo>
                  <a:lnTo>
                    <a:pt x="83995" y="0"/>
                  </a:lnTo>
                  <a:lnTo>
                    <a:pt x="91557" y="732"/>
                  </a:lnTo>
                  <a:lnTo>
                    <a:pt x="99138" y="2067"/>
                  </a:lnTo>
                  <a:lnTo>
                    <a:pt x="106732" y="3803"/>
                  </a:lnTo>
                  <a:lnTo>
                    <a:pt x="113488" y="4961"/>
                  </a:lnTo>
                  <a:lnTo>
                    <a:pt x="119685" y="5732"/>
                  </a:lnTo>
                  <a:lnTo>
                    <a:pt x="125510" y="6247"/>
                  </a:lnTo>
                  <a:lnTo>
                    <a:pt x="131087" y="7436"/>
                  </a:lnTo>
                  <a:lnTo>
                    <a:pt x="136498" y="9076"/>
                  </a:lnTo>
                  <a:lnTo>
                    <a:pt x="141798" y="11016"/>
                  </a:lnTo>
                  <a:lnTo>
                    <a:pt x="147026" y="13156"/>
                  </a:lnTo>
                  <a:lnTo>
                    <a:pt x="152204" y="15429"/>
                  </a:lnTo>
                  <a:lnTo>
                    <a:pt x="157349" y="17792"/>
                  </a:lnTo>
                  <a:lnTo>
                    <a:pt x="161627" y="19366"/>
                  </a:lnTo>
                  <a:lnTo>
                    <a:pt x="165324" y="20416"/>
                  </a:lnTo>
                  <a:lnTo>
                    <a:pt x="168637" y="21116"/>
                  </a:lnTo>
                  <a:lnTo>
                    <a:pt x="170844" y="22430"/>
                  </a:lnTo>
                  <a:lnTo>
                    <a:pt x="172316" y="24151"/>
                  </a:lnTo>
                  <a:lnTo>
                    <a:pt x="173297" y="26146"/>
                  </a:lnTo>
                  <a:lnTo>
                    <a:pt x="174387" y="30621"/>
                  </a:lnTo>
                  <a:lnTo>
                    <a:pt x="174678" y="32999"/>
                  </a:lnTo>
                  <a:lnTo>
                    <a:pt x="173180" y="35432"/>
                  </a:lnTo>
                  <a:lnTo>
                    <a:pt x="166997" y="40392"/>
                  </a:lnTo>
                  <a:lnTo>
                    <a:pt x="162978" y="42900"/>
                  </a:lnTo>
                  <a:lnTo>
                    <a:pt x="158605" y="45419"/>
                  </a:lnTo>
                  <a:lnTo>
                    <a:pt x="153997" y="47944"/>
                  </a:lnTo>
                  <a:lnTo>
                    <a:pt x="148384" y="50475"/>
                  </a:lnTo>
                  <a:lnTo>
                    <a:pt x="142103" y="53009"/>
                  </a:lnTo>
                  <a:lnTo>
                    <a:pt x="135375" y="55545"/>
                  </a:lnTo>
                  <a:lnTo>
                    <a:pt x="129197" y="58082"/>
                  </a:lnTo>
                  <a:lnTo>
                    <a:pt x="123384" y="60620"/>
                  </a:lnTo>
                  <a:lnTo>
                    <a:pt x="117816" y="63159"/>
                  </a:lnTo>
                  <a:lnTo>
                    <a:pt x="110718" y="65698"/>
                  </a:lnTo>
                  <a:lnTo>
                    <a:pt x="102598" y="68237"/>
                  </a:lnTo>
                  <a:lnTo>
                    <a:pt x="85392" y="73317"/>
                  </a:lnTo>
                  <a:lnTo>
                    <a:pt x="69279" y="78397"/>
                  </a:lnTo>
                  <a:lnTo>
                    <a:pt x="63119" y="80936"/>
                  </a:lnTo>
                  <a:lnTo>
                    <a:pt x="58166" y="83476"/>
                  </a:lnTo>
                  <a:lnTo>
                    <a:pt x="54018" y="86016"/>
                  </a:lnTo>
                  <a:lnTo>
                    <a:pt x="47150" y="91096"/>
                  </a:lnTo>
                  <a:lnTo>
                    <a:pt x="39888" y="97211"/>
                  </a:lnTo>
                  <a:lnTo>
                    <a:pt x="39291" y="98559"/>
                  </a:lnTo>
                  <a:lnTo>
                    <a:pt x="38630" y="102315"/>
                  </a:lnTo>
                  <a:lnTo>
                    <a:pt x="40147" y="103656"/>
                  </a:lnTo>
                  <a:lnTo>
                    <a:pt x="42851" y="104549"/>
                  </a:lnTo>
                  <a:lnTo>
                    <a:pt x="46348" y="105144"/>
                  </a:lnTo>
                  <a:lnTo>
                    <a:pt x="50371" y="106388"/>
                  </a:lnTo>
                  <a:lnTo>
                    <a:pt x="54748" y="108065"/>
                  </a:lnTo>
                  <a:lnTo>
                    <a:pt x="59359" y="110028"/>
                  </a:lnTo>
                  <a:lnTo>
                    <a:pt x="65820" y="111338"/>
                  </a:lnTo>
                  <a:lnTo>
                    <a:pt x="73513" y="112210"/>
                  </a:lnTo>
                  <a:lnTo>
                    <a:pt x="82028" y="112792"/>
                  </a:lnTo>
                  <a:lnTo>
                    <a:pt x="90246" y="114027"/>
                  </a:lnTo>
                  <a:lnTo>
                    <a:pt x="98264" y="115697"/>
                  </a:lnTo>
                  <a:lnTo>
                    <a:pt x="133428" y="124460"/>
                  </a:lnTo>
                  <a:lnTo>
                    <a:pt x="142292" y="126885"/>
                  </a:lnTo>
                  <a:lnTo>
                    <a:pt x="158915" y="131838"/>
                  </a:lnTo>
                  <a:lnTo>
                    <a:pt x="166057" y="134344"/>
                  </a:lnTo>
                  <a:lnTo>
                    <a:pt x="172511" y="136861"/>
                  </a:lnTo>
                  <a:lnTo>
                    <a:pt x="178508" y="139386"/>
                  </a:lnTo>
                  <a:lnTo>
                    <a:pt x="185045" y="142763"/>
                  </a:lnTo>
                  <a:lnTo>
                    <a:pt x="191943" y="146708"/>
                  </a:lnTo>
                  <a:lnTo>
                    <a:pt x="199082" y="151030"/>
                  </a:lnTo>
                  <a:lnTo>
                    <a:pt x="204688" y="154759"/>
                  </a:lnTo>
                  <a:lnTo>
                    <a:pt x="209272" y="158092"/>
                  </a:lnTo>
                  <a:lnTo>
                    <a:pt x="213175" y="161160"/>
                  </a:lnTo>
                  <a:lnTo>
                    <a:pt x="215777" y="164052"/>
                  </a:lnTo>
                  <a:lnTo>
                    <a:pt x="217510" y="166826"/>
                  </a:lnTo>
                  <a:lnTo>
                    <a:pt x="219439" y="172168"/>
                  </a:lnTo>
                  <a:lnTo>
                    <a:pt x="220295" y="177364"/>
                  </a:lnTo>
                  <a:lnTo>
                    <a:pt x="219677" y="180781"/>
                  </a:lnTo>
                  <a:lnTo>
                    <a:pt x="218418" y="184753"/>
                  </a:lnTo>
                  <a:lnTo>
                    <a:pt x="216732" y="189094"/>
                  </a:lnTo>
                  <a:lnTo>
                    <a:pt x="213915" y="192835"/>
                  </a:lnTo>
                  <a:lnTo>
                    <a:pt x="210343" y="196175"/>
                  </a:lnTo>
                  <a:lnTo>
                    <a:pt x="206269" y="199249"/>
                  </a:lnTo>
                  <a:lnTo>
                    <a:pt x="201860" y="202145"/>
                  </a:lnTo>
                  <a:lnTo>
                    <a:pt x="197226" y="204922"/>
                  </a:lnTo>
                  <a:lnTo>
                    <a:pt x="192444" y="207620"/>
                  </a:lnTo>
                  <a:lnTo>
                    <a:pt x="182616" y="212876"/>
                  </a:lnTo>
                  <a:lnTo>
                    <a:pt x="177624" y="215463"/>
                  </a:lnTo>
                  <a:lnTo>
                    <a:pt x="171756" y="217187"/>
                  </a:lnTo>
                  <a:lnTo>
                    <a:pt x="165304" y="218337"/>
                  </a:lnTo>
                  <a:lnTo>
                    <a:pt x="158463" y="219103"/>
                  </a:lnTo>
                  <a:lnTo>
                    <a:pt x="152209" y="220461"/>
                  </a:lnTo>
                  <a:lnTo>
                    <a:pt x="146346" y="222212"/>
                  </a:lnTo>
                  <a:lnTo>
                    <a:pt x="140745" y="224227"/>
                  </a:lnTo>
                  <a:lnTo>
                    <a:pt x="135316" y="225570"/>
                  </a:lnTo>
                  <a:lnTo>
                    <a:pt x="130004" y="226465"/>
                  </a:lnTo>
                  <a:lnTo>
                    <a:pt x="124770" y="227063"/>
                  </a:lnTo>
                  <a:lnTo>
                    <a:pt x="119586" y="227461"/>
                  </a:lnTo>
                  <a:lnTo>
                    <a:pt x="114437" y="227726"/>
                  </a:lnTo>
                  <a:lnTo>
                    <a:pt x="109312" y="227902"/>
                  </a:lnTo>
                  <a:lnTo>
                    <a:pt x="103354" y="227174"/>
                  </a:lnTo>
                  <a:lnTo>
                    <a:pt x="96843" y="225841"/>
                  </a:lnTo>
                  <a:lnTo>
                    <a:pt x="89963" y="224106"/>
                  </a:lnTo>
                  <a:lnTo>
                    <a:pt x="83681" y="222950"/>
                  </a:lnTo>
                  <a:lnTo>
                    <a:pt x="77801" y="222179"/>
                  </a:lnTo>
                  <a:lnTo>
                    <a:pt x="72187" y="221664"/>
                  </a:lnTo>
                  <a:lnTo>
                    <a:pt x="67598" y="220475"/>
                  </a:lnTo>
                  <a:lnTo>
                    <a:pt x="63692" y="218835"/>
                  </a:lnTo>
                  <a:lnTo>
                    <a:pt x="57095" y="214756"/>
                  </a:lnTo>
                  <a:lnTo>
                    <a:pt x="51340" y="210121"/>
                  </a:lnTo>
                  <a:lnTo>
                    <a:pt x="48620" y="208546"/>
                  </a:lnTo>
                  <a:lnTo>
                    <a:pt x="45960" y="207496"/>
                  </a:lnTo>
                  <a:lnTo>
                    <a:pt x="38100" y="2053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MARTInkAnnotation302"/>
            <p:cNvSpPr/>
            <p:nvPr/>
          </p:nvSpPr>
          <p:spPr>
            <a:xfrm>
              <a:off x="6537600" y="4869720"/>
              <a:ext cx="29880" cy="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047" h="1">
                  <a:moveTo>
                    <a:pt x="0" y="0"/>
                  </a:moveTo>
                  <a:lnTo>
                    <a:pt x="30046" y="0"/>
                  </a:lnTo>
                  <a:lnTo>
                    <a:pt x="8" y="0"/>
                  </a:lnTo>
                  <a:lnTo>
                    <a:pt x="76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303"/>
            <p:cNvSpPr/>
            <p:nvPr/>
          </p:nvSpPr>
          <p:spPr>
            <a:xfrm>
              <a:off x="6591240" y="4770720"/>
              <a:ext cx="211320" cy="239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11684" h="239519">
                  <a:moveTo>
                    <a:pt x="45680" y="0"/>
                  </a:moveTo>
                  <a:lnTo>
                    <a:pt x="27768" y="17912"/>
                  </a:lnTo>
                  <a:lnTo>
                    <a:pt x="22762" y="25176"/>
                  </a:lnTo>
                  <a:lnTo>
                    <a:pt x="20242" y="29485"/>
                  </a:lnTo>
                  <a:lnTo>
                    <a:pt x="15183" y="36528"/>
                  </a:lnTo>
                  <a:lnTo>
                    <a:pt x="10113" y="42482"/>
                  </a:lnTo>
                  <a:lnTo>
                    <a:pt x="5037" y="47950"/>
                  </a:lnTo>
                  <a:lnTo>
                    <a:pt x="3345" y="50594"/>
                  </a:lnTo>
                  <a:lnTo>
                    <a:pt x="963" y="57512"/>
                  </a:lnTo>
                  <a:lnTo>
                    <a:pt x="406" y="59428"/>
                  </a:lnTo>
                  <a:lnTo>
                    <a:pt x="19" y="66789"/>
                  </a:lnTo>
                  <a:lnTo>
                    <a:pt x="0" y="67386"/>
                  </a:lnTo>
                  <a:lnTo>
                    <a:pt x="834" y="67785"/>
                  </a:lnTo>
                  <a:lnTo>
                    <a:pt x="6052" y="68344"/>
                  </a:lnTo>
                  <a:lnTo>
                    <a:pt x="10569" y="68475"/>
                  </a:lnTo>
                  <a:lnTo>
                    <a:pt x="29445" y="68571"/>
                  </a:lnTo>
                  <a:lnTo>
                    <a:pt x="34857" y="67728"/>
                  </a:lnTo>
                  <a:lnTo>
                    <a:pt x="41005" y="66319"/>
                  </a:lnTo>
                  <a:lnTo>
                    <a:pt x="47643" y="64533"/>
                  </a:lnTo>
                  <a:lnTo>
                    <a:pt x="53762" y="63342"/>
                  </a:lnTo>
                  <a:lnTo>
                    <a:pt x="59535" y="62548"/>
                  </a:lnTo>
                  <a:lnTo>
                    <a:pt x="65076" y="62019"/>
                  </a:lnTo>
                  <a:lnTo>
                    <a:pt x="71311" y="61666"/>
                  </a:lnTo>
                  <a:lnTo>
                    <a:pt x="85012" y="61273"/>
                  </a:lnTo>
                  <a:lnTo>
                    <a:pt x="92221" y="62016"/>
                  </a:lnTo>
                  <a:lnTo>
                    <a:pt x="99568" y="63358"/>
                  </a:lnTo>
                  <a:lnTo>
                    <a:pt x="107005" y="65099"/>
                  </a:lnTo>
                  <a:lnTo>
                    <a:pt x="113657" y="66259"/>
                  </a:lnTo>
                  <a:lnTo>
                    <a:pt x="119784" y="67033"/>
                  </a:lnTo>
                  <a:lnTo>
                    <a:pt x="125563" y="67549"/>
                  </a:lnTo>
                  <a:lnTo>
                    <a:pt x="131109" y="68739"/>
                  </a:lnTo>
                  <a:lnTo>
                    <a:pt x="136500" y="70379"/>
                  </a:lnTo>
                  <a:lnTo>
                    <a:pt x="141787" y="72319"/>
                  </a:lnTo>
                  <a:lnTo>
                    <a:pt x="147005" y="75306"/>
                  </a:lnTo>
                  <a:lnTo>
                    <a:pt x="152176" y="78991"/>
                  </a:lnTo>
                  <a:lnTo>
                    <a:pt x="157317" y="83141"/>
                  </a:lnTo>
                  <a:lnTo>
                    <a:pt x="162438" y="87600"/>
                  </a:lnTo>
                  <a:lnTo>
                    <a:pt x="167546" y="92267"/>
                  </a:lnTo>
                  <a:lnTo>
                    <a:pt x="177736" y="101967"/>
                  </a:lnTo>
                  <a:lnTo>
                    <a:pt x="187910" y="111924"/>
                  </a:lnTo>
                  <a:lnTo>
                    <a:pt x="192147" y="116949"/>
                  </a:lnTo>
                  <a:lnTo>
                    <a:pt x="195817" y="121993"/>
                  </a:lnTo>
                  <a:lnTo>
                    <a:pt x="199111" y="127049"/>
                  </a:lnTo>
                  <a:lnTo>
                    <a:pt x="202155" y="132959"/>
                  </a:lnTo>
                  <a:lnTo>
                    <a:pt x="205030" y="139439"/>
                  </a:lnTo>
                  <a:lnTo>
                    <a:pt x="207793" y="146300"/>
                  </a:lnTo>
                  <a:lnTo>
                    <a:pt x="209636" y="152567"/>
                  </a:lnTo>
                  <a:lnTo>
                    <a:pt x="210863" y="158437"/>
                  </a:lnTo>
                  <a:lnTo>
                    <a:pt x="211683" y="164045"/>
                  </a:lnTo>
                  <a:lnTo>
                    <a:pt x="211382" y="169477"/>
                  </a:lnTo>
                  <a:lnTo>
                    <a:pt x="210335" y="174791"/>
                  </a:lnTo>
                  <a:lnTo>
                    <a:pt x="208790" y="180027"/>
                  </a:lnTo>
                  <a:lnTo>
                    <a:pt x="207760" y="185212"/>
                  </a:lnTo>
                  <a:lnTo>
                    <a:pt x="207074" y="190361"/>
                  </a:lnTo>
                  <a:lnTo>
                    <a:pt x="206616" y="195488"/>
                  </a:lnTo>
                  <a:lnTo>
                    <a:pt x="204617" y="200598"/>
                  </a:lnTo>
                  <a:lnTo>
                    <a:pt x="201592" y="205699"/>
                  </a:lnTo>
                  <a:lnTo>
                    <a:pt x="197882" y="210792"/>
                  </a:lnTo>
                  <a:lnTo>
                    <a:pt x="193715" y="215035"/>
                  </a:lnTo>
                  <a:lnTo>
                    <a:pt x="189243" y="218710"/>
                  </a:lnTo>
                  <a:lnTo>
                    <a:pt x="184569" y="222006"/>
                  </a:lnTo>
                  <a:lnTo>
                    <a:pt x="180606" y="225051"/>
                  </a:lnTo>
                  <a:lnTo>
                    <a:pt x="177118" y="227928"/>
                  </a:lnTo>
                  <a:lnTo>
                    <a:pt x="173946" y="230691"/>
                  </a:lnTo>
                  <a:lnTo>
                    <a:pt x="170137" y="233381"/>
                  </a:lnTo>
                  <a:lnTo>
                    <a:pt x="165905" y="236021"/>
                  </a:lnTo>
                  <a:lnTo>
                    <a:pt x="161390" y="238627"/>
                  </a:lnTo>
                  <a:lnTo>
                    <a:pt x="156687" y="239518"/>
                  </a:lnTo>
                  <a:lnTo>
                    <a:pt x="151858" y="239265"/>
                  </a:lnTo>
                  <a:lnTo>
                    <a:pt x="146946" y="238251"/>
                  </a:lnTo>
                  <a:lnTo>
                    <a:pt x="141130" y="236727"/>
                  </a:lnTo>
                  <a:lnTo>
                    <a:pt x="134714" y="234864"/>
                  </a:lnTo>
                  <a:lnTo>
                    <a:pt x="127896" y="232777"/>
                  </a:lnTo>
                  <a:lnTo>
                    <a:pt x="121657" y="230538"/>
                  </a:lnTo>
                  <a:lnTo>
                    <a:pt x="115805" y="228198"/>
                  </a:lnTo>
                  <a:lnTo>
                    <a:pt x="110210" y="225792"/>
                  </a:lnTo>
                  <a:lnTo>
                    <a:pt x="103940" y="222495"/>
                  </a:lnTo>
                  <a:lnTo>
                    <a:pt x="97221" y="218603"/>
                  </a:lnTo>
                  <a:lnTo>
                    <a:pt x="90200" y="214316"/>
                  </a:lnTo>
                  <a:lnTo>
                    <a:pt x="84674" y="209764"/>
                  </a:lnTo>
                  <a:lnTo>
                    <a:pt x="80143" y="205036"/>
                  </a:lnTo>
                  <a:lnTo>
                    <a:pt x="76275" y="200191"/>
                  </a:lnTo>
                  <a:lnTo>
                    <a:pt x="72004" y="196114"/>
                  </a:lnTo>
                  <a:lnTo>
                    <a:pt x="67462" y="192549"/>
                  </a:lnTo>
                  <a:lnTo>
                    <a:pt x="5330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304"/>
            <p:cNvSpPr/>
            <p:nvPr/>
          </p:nvSpPr>
          <p:spPr>
            <a:xfrm>
              <a:off x="6636600" y="4747680"/>
              <a:ext cx="159840" cy="7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0021" h="7621">
                  <a:moveTo>
                    <a:pt x="0" y="0"/>
                  </a:moveTo>
                  <a:lnTo>
                    <a:pt x="80430" y="0"/>
                  </a:lnTo>
                  <a:lnTo>
                    <a:pt x="89179" y="847"/>
                  </a:lnTo>
                  <a:lnTo>
                    <a:pt x="97553" y="2257"/>
                  </a:lnTo>
                  <a:lnTo>
                    <a:pt x="105675" y="4045"/>
                  </a:lnTo>
                  <a:lnTo>
                    <a:pt x="113631" y="5237"/>
                  </a:lnTo>
                  <a:lnTo>
                    <a:pt x="121474" y="6031"/>
                  </a:lnTo>
                  <a:lnTo>
                    <a:pt x="129243" y="6561"/>
                  </a:lnTo>
                  <a:lnTo>
                    <a:pt x="142389" y="7149"/>
                  </a:lnTo>
                  <a:lnTo>
                    <a:pt x="16002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305"/>
            <p:cNvSpPr/>
            <p:nvPr/>
          </p:nvSpPr>
          <p:spPr>
            <a:xfrm>
              <a:off x="5311080" y="5167080"/>
              <a:ext cx="302760" cy="17496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303085" h="175060">
                  <a:moveTo>
                    <a:pt x="0" y="45624"/>
                  </a:moveTo>
                  <a:lnTo>
                    <a:pt x="4044" y="45624"/>
                  </a:lnTo>
                  <a:lnTo>
                    <a:pt x="6083" y="44777"/>
                  </a:lnTo>
                  <a:lnTo>
                    <a:pt x="13843" y="39541"/>
                  </a:lnTo>
                  <a:lnTo>
                    <a:pt x="21957" y="35018"/>
                  </a:lnTo>
                  <a:lnTo>
                    <a:pt x="36044" y="27712"/>
                  </a:lnTo>
                  <a:lnTo>
                    <a:pt x="41809" y="26063"/>
                  </a:lnTo>
                  <a:lnTo>
                    <a:pt x="48192" y="24963"/>
                  </a:lnTo>
                  <a:lnTo>
                    <a:pt x="54988" y="24230"/>
                  </a:lnTo>
                  <a:lnTo>
                    <a:pt x="61212" y="22895"/>
                  </a:lnTo>
                  <a:lnTo>
                    <a:pt x="67054" y="21158"/>
                  </a:lnTo>
                  <a:lnTo>
                    <a:pt x="72643" y="19153"/>
                  </a:lnTo>
                  <a:lnTo>
                    <a:pt x="79755" y="16970"/>
                  </a:lnTo>
                  <a:lnTo>
                    <a:pt x="96689" y="12287"/>
                  </a:lnTo>
                  <a:lnTo>
                    <a:pt x="105099" y="10699"/>
                  </a:lnTo>
                  <a:lnTo>
                    <a:pt x="113246" y="9640"/>
                  </a:lnTo>
                  <a:lnTo>
                    <a:pt x="121217" y="8935"/>
                  </a:lnTo>
                  <a:lnTo>
                    <a:pt x="128225" y="8465"/>
                  </a:lnTo>
                  <a:lnTo>
                    <a:pt x="140526" y="7942"/>
                  </a:lnTo>
                  <a:lnTo>
                    <a:pt x="147024" y="6956"/>
                  </a:lnTo>
                  <a:lnTo>
                    <a:pt x="153896" y="5452"/>
                  </a:lnTo>
                  <a:lnTo>
                    <a:pt x="161017" y="3603"/>
                  </a:lnTo>
                  <a:lnTo>
                    <a:pt x="166611" y="2370"/>
                  </a:lnTo>
                  <a:lnTo>
                    <a:pt x="175085" y="1000"/>
                  </a:lnTo>
                  <a:lnTo>
                    <a:pt x="181672" y="391"/>
                  </a:lnTo>
                  <a:lnTo>
                    <a:pt x="190141" y="48"/>
                  </a:lnTo>
                  <a:lnTo>
                    <a:pt x="192801" y="0"/>
                  </a:lnTo>
                  <a:lnTo>
                    <a:pt x="194574" y="815"/>
                  </a:lnTo>
                  <a:lnTo>
                    <a:pt x="195755" y="2205"/>
                  </a:lnTo>
                  <a:lnTo>
                    <a:pt x="197653" y="6473"/>
                  </a:lnTo>
                  <a:lnTo>
                    <a:pt x="193395" y="7057"/>
                  </a:lnTo>
                  <a:lnTo>
                    <a:pt x="189890" y="7213"/>
                  </a:lnTo>
                  <a:lnTo>
                    <a:pt x="186707" y="8163"/>
                  </a:lnTo>
                  <a:lnTo>
                    <a:pt x="177334" y="13546"/>
                  </a:lnTo>
                  <a:lnTo>
                    <a:pt x="168844" y="18102"/>
                  </a:lnTo>
                  <a:lnTo>
                    <a:pt x="154544" y="25428"/>
                  </a:lnTo>
                  <a:lnTo>
                    <a:pt x="148749" y="27080"/>
                  </a:lnTo>
                  <a:lnTo>
                    <a:pt x="142346" y="28181"/>
                  </a:lnTo>
                  <a:lnTo>
                    <a:pt x="135537" y="28916"/>
                  </a:lnTo>
                  <a:lnTo>
                    <a:pt x="129304" y="29405"/>
                  </a:lnTo>
                  <a:lnTo>
                    <a:pt x="123456" y="29731"/>
                  </a:lnTo>
                  <a:lnTo>
                    <a:pt x="117864" y="29949"/>
                  </a:lnTo>
                  <a:lnTo>
                    <a:pt x="113289" y="30941"/>
                  </a:lnTo>
                  <a:lnTo>
                    <a:pt x="102805" y="35535"/>
                  </a:lnTo>
                  <a:lnTo>
                    <a:pt x="93935" y="37516"/>
                  </a:lnTo>
                  <a:lnTo>
                    <a:pt x="93104" y="37679"/>
                  </a:lnTo>
                  <a:lnTo>
                    <a:pt x="93396" y="37787"/>
                  </a:lnTo>
                  <a:lnTo>
                    <a:pt x="102191" y="37975"/>
                  </a:lnTo>
                  <a:lnTo>
                    <a:pt x="111458" y="40249"/>
                  </a:lnTo>
                  <a:lnTo>
                    <a:pt x="117485" y="42041"/>
                  </a:lnTo>
                  <a:lnTo>
                    <a:pt x="124044" y="43235"/>
                  </a:lnTo>
                  <a:lnTo>
                    <a:pt x="130955" y="44031"/>
                  </a:lnTo>
                  <a:lnTo>
                    <a:pt x="138103" y="44562"/>
                  </a:lnTo>
                  <a:lnTo>
                    <a:pt x="146256" y="45763"/>
                  </a:lnTo>
                  <a:lnTo>
                    <a:pt x="155077" y="47410"/>
                  </a:lnTo>
                  <a:lnTo>
                    <a:pt x="173909" y="51498"/>
                  </a:lnTo>
                  <a:lnTo>
                    <a:pt x="223676" y="63508"/>
                  </a:lnTo>
                  <a:lnTo>
                    <a:pt x="233784" y="66860"/>
                  </a:lnTo>
                  <a:lnTo>
                    <a:pt x="243909" y="70789"/>
                  </a:lnTo>
                  <a:lnTo>
                    <a:pt x="262497" y="78822"/>
                  </a:lnTo>
                  <a:lnTo>
                    <a:pt x="276402" y="85214"/>
                  </a:lnTo>
                  <a:lnTo>
                    <a:pt x="281635" y="88104"/>
                  </a:lnTo>
                  <a:lnTo>
                    <a:pt x="289706" y="93573"/>
                  </a:lnTo>
                  <a:lnTo>
                    <a:pt x="293043" y="97063"/>
                  </a:lnTo>
                  <a:lnTo>
                    <a:pt x="296116" y="101083"/>
                  </a:lnTo>
                  <a:lnTo>
                    <a:pt x="299010" y="105457"/>
                  </a:lnTo>
                  <a:lnTo>
                    <a:pt x="300940" y="109219"/>
                  </a:lnTo>
                  <a:lnTo>
                    <a:pt x="302226" y="112574"/>
                  </a:lnTo>
                  <a:lnTo>
                    <a:pt x="303084" y="115657"/>
                  </a:lnTo>
                  <a:lnTo>
                    <a:pt x="302809" y="118559"/>
                  </a:lnTo>
                  <a:lnTo>
                    <a:pt x="301779" y="121341"/>
                  </a:lnTo>
                  <a:lnTo>
                    <a:pt x="298377" y="126690"/>
                  </a:lnTo>
                  <a:lnTo>
                    <a:pt x="294042" y="131888"/>
                  </a:lnTo>
                  <a:lnTo>
                    <a:pt x="290855" y="135307"/>
                  </a:lnTo>
                  <a:lnTo>
                    <a:pt x="282797" y="143621"/>
                  </a:lnTo>
                  <a:lnTo>
                    <a:pt x="278278" y="147362"/>
                  </a:lnTo>
                  <a:lnTo>
                    <a:pt x="273572" y="150703"/>
                  </a:lnTo>
                  <a:lnTo>
                    <a:pt x="268741" y="153777"/>
                  </a:lnTo>
                  <a:lnTo>
                    <a:pt x="263826" y="156673"/>
                  </a:lnTo>
                  <a:lnTo>
                    <a:pt x="258858" y="159450"/>
                  </a:lnTo>
                  <a:lnTo>
                    <a:pt x="253852" y="162148"/>
                  </a:lnTo>
                  <a:lnTo>
                    <a:pt x="247974" y="163947"/>
                  </a:lnTo>
                  <a:lnTo>
                    <a:pt x="241515" y="165146"/>
                  </a:lnTo>
                  <a:lnTo>
                    <a:pt x="234671" y="165945"/>
                  </a:lnTo>
                  <a:lnTo>
                    <a:pt x="227567" y="167325"/>
                  </a:lnTo>
                  <a:lnTo>
                    <a:pt x="220291" y="169092"/>
                  </a:lnTo>
                  <a:lnTo>
                    <a:pt x="212900" y="171115"/>
                  </a:lnTo>
                  <a:lnTo>
                    <a:pt x="206280" y="172465"/>
                  </a:lnTo>
                  <a:lnTo>
                    <a:pt x="200173" y="173365"/>
                  </a:lnTo>
                  <a:lnTo>
                    <a:pt x="194408" y="173965"/>
                  </a:lnTo>
                  <a:lnTo>
                    <a:pt x="188025" y="174365"/>
                  </a:lnTo>
                  <a:lnTo>
                    <a:pt x="174159" y="174809"/>
                  </a:lnTo>
                  <a:lnTo>
                    <a:pt x="156119" y="175059"/>
                  </a:lnTo>
                  <a:lnTo>
                    <a:pt x="149799" y="174247"/>
                  </a:lnTo>
                  <a:lnTo>
                    <a:pt x="143046" y="172859"/>
                  </a:lnTo>
                  <a:lnTo>
                    <a:pt x="136004" y="171088"/>
                  </a:lnTo>
                  <a:lnTo>
                    <a:pt x="130462" y="169906"/>
                  </a:lnTo>
                  <a:lnTo>
                    <a:pt x="122047" y="168594"/>
                  </a:lnTo>
                  <a:lnTo>
                    <a:pt x="113227" y="165753"/>
                  </a:lnTo>
                  <a:lnTo>
                    <a:pt x="104510" y="161668"/>
                  </a:lnTo>
                  <a:lnTo>
                    <a:pt x="97813" y="157030"/>
                  </a:lnTo>
                  <a:lnTo>
                    <a:pt x="91439" y="152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306"/>
            <p:cNvSpPr/>
            <p:nvPr/>
          </p:nvSpPr>
          <p:spPr>
            <a:xfrm>
              <a:off x="5669280" y="5182200"/>
              <a:ext cx="148680" cy="2437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148787" h="243697">
                  <a:moveTo>
                    <a:pt x="0" y="0"/>
                  </a:moveTo>
                  <a:lnTo>
                    <a:pt x="7306" y="0"/>
                  </a:lnTo>
                  <a:lnTo>
                    <a:pt x="7593" y="6561"/>
                  </a:lnTo>
                  <a:lnTo>
                    <a:pt x="11657" y="11352"/>
                  </a:lnTo>
                  <a:lnTo>
                    <a:pt x="12851" y="13495"/>
                  </a:lnTo>
                  <a:lnTo>
                    <a:pt x="14179" y="18133"/>
                  </a:lnTo>
                  <a:lnTo>
                    <a:pt x="14925" y="25505"/>
                  </a:lnTo>
                  <a:lnTo>
                    <a:pt x="12843" y="32784"/>
                  </a:lnTo>
                  <a:lnTo>
                    <a:pt x="11102" y="37097"/>
                  </a:lnTo>
                  <a:lnTo>
                    <a:pt x="9168" y="44145"/>
                  </a:lnTo>
                  <a:lnTo>
                    <a:pt x="8308" y="50947"/>
                  </a:lnTo>
                  <a:lnTo>
                    <a:pt x="8078" y="55131"/>
                  </a:lnTo>
                  <a:lnTo>
                    <a:pt x="7926" y="59614"/>
                  </a:lnTo>
                  <a:lnTo>
                    <a:pt x="6977" y="63449"/>
                  </a:lnTo>
                  <a:lnTo>
                    <a:pt x="3666" y="69968"/>
                  </a:lnTo>
                  <a:lnTo>
                    <a:pt x="2444" y="73739"/>
                  </a:lnTo>
                  <a:lnTo>
                    <a:pt x="1629" y="77946"/>
                  </a:lnTo>
                  <a:lnTo>
                    <a:pt x="1086" y="82444"/>
                  </a:lnTo>
                  <a:lnTo>
                    <a:pt x="482" y="89700"/>
                  </a:lnTo>
                  <a:lnTo>
                    <a:pt x="215" y="95746"/>
                  </a:lnTo>
                  <a:lnTo>
                    <a:pt x="3" y="106539"/>
                  </a:lnTo>
                  <a:lnTo>
                    <a:pt x="0" y="106676"/>
                  </a:lnTo>
                  <a:lnTo>
                    <a:pt x="0" y="102634"/>
                  </a:lnTo>
                  <a:lnTo>
                    <a:pt x="2258" y="96133"/>
                  </a:lnTo>
                  <a:lnTo>
                    <a:pt x="4045" y="92028"/>
                  </a:lnTo>
                  <a:lnTo>
                    <a:pt x="8289" y="82953"/>
                  </a:lnTo>
                  <a:lnTo>
                    <a:pt x="25439" y="48209"/>
                  </a:lnTo>
                  <a:lnTo>
                    <a:pt x="27966" y="43993"/>
                  </a:lnTo>
                  <a:lnTo>
                    <a:pt x="30497" y="40335"/>
                  </a:lnTo>
                  <a:lnTo>
                    <a:pt x="33031" y="37050"/>
                  </a:lnTo>
                  <a:lnTo>
                    <a:pt x="35568" y="34013"/>
                  </a:lnTo>
                  <a:lnTo>
                    <a:pt x="38105" y="31142"/>
                  </a:lnTo>
                  <a:lnTo>
                    <a:pt x="40644" y="28382"/>
                  </a:lnTo>
                  <a:lnTo>
                    <a:pt x="43182" y="26541"/>
                  </a:lnTo>
                  <a:lnTo>
                    <a:pt x="45722" y="25314"/>
                  </a:lnTo>
                  <a:lnTo>
                    <a:pt x="48262" y="24496"/>
                  </a:lnTo>
                  <a:lnTo>
                    <a:pt x="50801" y="23951"/>
                  </a:lnTo>
                  <a:lnTo>
                    <a:pt x="53340" y="23587"/>
                  </a:lnTo>
                  <a:lnTo>
                    <a:pt x="55880" y="23345"/>
                  </a:lnTo>
                  <a:lnTo>
                    <a:pt x="58420" y="23183"/>
                  </a:lnTo>
                  <a:lnTo>
                    <a:pt x="60961" y="23075"/>
                  </a:lnTo>
                  <a:lnTo>
                    <a:pt x="63500" y="23004"/>
                  </a:lnTo>
                  <a:lnTo>
                    <a:pt x="66040" y="23802"/>
                  </a:lnTo>
                  <a:lnTo>
                    <a:pt x="68580" y="25182"/>
                  </a:lnTo>
                  <a:lnTo>
                    <a:pt x="71120" y="26948"/>
                  </a:lnTo>
                  <a:lnTo>
                    <a:pt x="74507" y="29819"/>
                  </a:lnTo>
                  <a:lnTo>
                    <a:pt x="78458" y="33426"/>
                  </a:lnTo>
                  <a:lnTo>
                    <a:pt x="87364" y="41949"/>
                  </a:lnTo>
                  <a:lnTo>
                    <a:pt x="96966" y="51382"/>
                  </a:lnTo>
                  <a:lnTo>
                    <a:pt x="101898" y="57115"/>
                  </a:lnTo>
                  <a:lnTo>
                    <a:pt x="106879" y="63477"/>
                  </a:lnTo>
                  <a:lnTo>
                    <a:pt x="111892" y="70258"/>
                  </a:lnTo>
                  <a:lnTo>
                    <a:pt x="121979" y="84566"/>
                  </a:lnTo>
                  <a:lnTo>
                    <a:pt x="127039" y="91937"/>
                  </a:lnTo>
                  <a:lnTo>
                    <a:pt x="131260" y="98545"/>
                  </a:lnTo>
                  <a:lnTo>
                    <a:pt x="134920" y="104643"/>
                  </a:lnTo>
                  <a:lnTo>
                    <a:pt x="138207" y="110402"/>
                  </a:lnTo>
                  <a:lnTo>
                    <a:pt x="140398" y="116781"/>
                  </a:lnTo>
                  <a:lnTo>
                    <a:pt x="141859" y="123574"/>
                  </a:lnTo>
                  <a:lnTo>
                    <a:pt x="142833" y="130643"/>
                  </a:lnTo>
                  <a:lnTo>
                    <a:pt x="144329" y="137895"/>
                  </a:lnTo>
                  <a:lnTo>
                    <a:pt x="146172" y="145270"/>
                  </a:lnTo>
                  <a:lnTo>
                    <a:pt x="148248" y="152726"/>
                  </a:lnTo>
                  <a:lnTo>
                    <a:pt x="148786" y="159391"/>
                  </a:lnTo>
                  <a:lnTo>
                    <a:pt x="148297" y="165527"/>
                  </a:lnTo>
                  <a:lnTo>
                    <a:pt x="147125" y="171312"/>
                  </a:lnTo>
                  <a:lnTo>
                    <a:pt x="146343" y="176861"/>
                  </a:lnTo>
                  <a:lnTo>
                    <a:pt x="145822" y="182254"/>
                  </a:lnTo>
                  <a:lnTo>
                    <a:pt x="145475" y="187542"/>
                  </a:lnTo>
                  <a:lnTo>
                    <a:pt x="144397" y="192762"/>
                  </a:lnTo>
                  <a:lnTo>
                    <a:pt x="142832" y="197934"/>
                  </a:lnTo>
                  <a:lnTo>
                    <a:pt x="140941" y="203076"/>
                  </a:lnTo>
                  <a:lnTo>
                    <a:pt x="138834" y="208197"/>
                  </a:lnTo>
                  <a:lnTo>
                    <a:pt x="136582" y="213305"/>
                  </a:lnTo>
                  <a:lnTo>
                    <a:pt x="134235" y="218403"/>
                  </a:lnTo>
                  <a:lnTo>
                    <a:pt x="130130" y="222649"/>
                  </a:lnTo>
                  <a:lnTo>
                    <a:pt x="124854" y="226326"/>
                  </a:lnTo>
                  <a:lnTo>
                    <a:pt x="118796" y="229624"/>
                  </a:lnTo>
                  <a:lnTo>
                    <a:pt x="113911" y="232669"/>
                  </a:lnTo>
                  <a:lnTo>
                    <a:pt x="109807" y="235546"/>
                  </a:lnTo>
                  <a:lnTo>
                    <a:pt x="106225" y="238311"/>
                  </a:lnTo>
                  <a:lnTo>
                    <a:pt x="102143" y="240154"/>
                  </a:lnTo>
                  <a:lnTo>
                    <a:pt x="97729" y="241382"/>
                  </a:lnTo>
                  <a:lnTo>
                    <a:pt x="93093" y="242202"/>
                  </a:lnTo>
                  <a:lnTo>
                    <a:pt x="87462" y="242748"/>
                  </a:lnTo>
                  <a:lnTo>
                    <a:pt x="81169" y="243112"/>
                  </a:lnTo>
                  <a:lnTo>
                    <a:pt x="68248" y="243516"/>
                  </a:lnTo>
                  <a:lnTo>
                    <a:pt x="56862" y="243696"/>
                  </a:lnTo>
                  <a:lnTo>
                    <a:pt x="50608" y="242050"/>
                  </a:lnTo>
                  <a:lnTo>
                    <a:pt x="43899" y="239261"/>
                  </a:lnTo>
                  <a:lnTo>
                    <a:pt x="36886" y="235707"/>
                  </a:lnTo>
                  <a:lnTo>
                    <a:pt x="31364" y="233338"/>
                  </a:lnTo>
                  <a:lnTo>
                    <a:pt x="26835" y="231759"/>
                  </a:lnTo>
                  <a:lnTo>
                    <a:pt x="22971" y="230706"/>
                  </a:lnTo>
                  <a:lnTo>
                    <a:pt x="19547" y="229157"/>
                  </a:lnTo>
                  <a:lnTo>
                    <a:pt x="16418" y="227278"/>
                  </a:lnTo>
                  <a:lnTo>
                    <a:pt x="762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307"/>
            <p:cNvSpPr/>
            <p:nvPr/>
          </p:nvSpPr>
          <p:spPr>
            <a:xfrm>
              <a:off x="5669280" y="514404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1" h="7619">
                  <a:moveTo>
                    <a:pt x="0" y="7618"/>
                  </a:moveTo>
                  <a:lnTo>
                    <a:pt x="0" y="3573"/>
                  </a:lnTo>
                  <a:lnTo>
                    <a:pt x="846" y="2382"/>
                  </a:lnTo>
                  <a:lnTo>
                    <a:pt x="2258" y="1587"/>
                  </a:lnTo>
                  <a:lnTo>
                    <a:pt x="4045" y="1057"/>
                  </a:lnTo>
                  <a:lnTo>
                    <a:pt x="6083" y="704"/>
                  </a:lnTo>
                  <a:lnTo>
                    <a:pt x="8289" y="469"/>
                  </a:lnTo>
                  <a:lnTo>
                    <a:pt x="10606" y="312"/>
                  </a:lnTo>
                  <a:lnTo>
                    <a:pt x="13844" y="207"/>
                  </a:lnTo>
                  <a:lnTo>
                    <a:pt x="31207" y="40"/>
                  </a:lnTo>
                  <a:lnTo>
                    <a:pt x="72644" y="0"/>
                  </a:lnTo>
                  <a:lnTo>
                    <a:pt x="78063" y="847"/>
                  </a:lnTo>
                  <a:lnTo>
                    <a:pt x="83368" y="2257"/>
                  </a:lnTo>
                  <a:lnTo>
                    <a:pt x="88599" y="4044"/>
                  </a:lnTo>
                  <a:lnTo>
                    <a:pt x="93780" y="5235"/>
                  </a:lnTo>
                  <a:lnTo>
                    <a:pt x="98926" y="6030"/>
                  </a:lnTo>
                  <a:lnTo>
                    <a:pt x="104051" y="6559"/>
                  </a:lnTo>
                  <a:lnTo>
                    <a:pt x="110007" y="6912"/>
                  </a:lnTo>
                  <a:lnTo>
                    <a:pt x="123399" y="7305"/>
                  </a:lnTo>
                  <a:lnTo>
                    <a:pt x="142219" y="7556"/>
                  </a:lnTo>
                  <a:lnTo>
                    <a:pt x="198120" y="76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308"/>
            <p:cNvSpPr/>
            <p:nvPr/>
          </p:nvSpPr>
          <p:spPr>
            <a:xfrm>
              <a:off x="5973840" y="5311800"/>
              <a:ext cx="236160" cy="457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36221" h="45721">
                  <a:moveTo>
                    <a:pt x="0" y="45720"/>
                  </a:moveTo>
                  <a:lnTo>
                    <a:pt x="4045" y="45720"/>
                  </a:lnTo>
                  <a:lnTo>
                    <a:pt x="5237" y="44873"/>
                  </a:lnTo>
                  <a:lnTo>
                    <a:pt x="6032" y="43463"/>
                  </a:lnTo>
                  <a:lnTo>
                    <a:pt x="7306" y="39159"/>
                  </a:lnTo>
                  <a:lnTo>
                    <a:pt x="8258" y="38806"/>
                  </a:lnTo>
                  <a:lnTo>
                    <a:pt x="11572" y="38414"/>
                  </a:lnTo>
                  <a:lnTo>
                    <a:pt x="14488" y="37463"/>
                  </a:lnTo>
                  <a:lnTo>
                    <a:pt x="18125" y="35982"/>
                  </a:lnTo>
                  <a:lnTo>
                    <a:pt x="22244" y="34148"/>
                  </a:lnTo>
                  <a:lnTo>
                    <a:pt x="25836" y="32925"/>
                  </a:lnTo>
                  <a:lnTo>
                    <a:pt x="32085" y="31567"/>
                  </a:lnTo>
                  <a:lnTo>
                    <a:pt x="37685" y="30963"/>
                  </a:lnTo>
                  <a:lnTo>
                    <a:pt x="40363" y="30802"/>
                  </a:lnTo>
                  <a:lnTo>
                    <a:pt x="43842" y="29848"/>
                  </a:lnTo>
                  <a:lnTo>
                    <a:pt x="47855" y="28365"/>
                  </a:lnTo>
                  <a:lnTo>
                    <a:pt x="52223" y="26530"/>
                  </a:lnTo>
                  <a:lnTo>
                    <a:pt x="56829" y="25307"/>
                  </a:lnTo>
                  <a:lnTo>
                    <a:pt x="61592" y="24492"/>
                  </a:lnTo>
                  <a:lnTo>
                    <a:pt x="66462" y="23948"/>
                  </a:lnTo>
                  <a:lnTo>
                    <a:pt x="70555" y="23585"/>
                  </a:lnTo>
                  <a:lnTo>
                    <a:pt x="77360" y="23182"/>
                  </a:lnTo>
                  <a:lnTo>
                    <a:pt x="81207" y="22228"/>
                  </a:lnTo>
                  <a:lnTo>
                    <a:pt x="85464" y="20745"/>
                  </a:lnTo>
                  <a:lnTo>
                    <a:pt x="89997" y="18911"/>
                  </a:lnTo>
                  <a:lnTo>
                    <a:pt x="94711" y="17687"/>
                  </a:lnTo>
                  <a:lnTo>
                    <a:pt x="99547" y="16872"/>
                  </a:lnTo>
                  <a:lnTo>
                    <a:pt x="104465" y="16327"/>
                  </a:lnTo>
                  <a:lnTo>
                    <a:pt x="109437" y="15118"/>
                  </a:lnTo>
                  <a:lnTo>
                    <a:pt x="114445" y="13466"/>
                  </a:lnTo>
                  <a:lnTo>
                    <a:pt x="119476" y="11517"/>
                  </a:lnTo>
                  <a:lnTo>
                    <a:pt x="124525" y="10218"/>
                  </a:lnTo>
                  <a:lnTo>
                    <a:pt x="129583" y="9352"/>
                  </a:lnTo>
                  <a:lnTo>
                    <a:pt x="134649" y="8775"/>
                  </a:lnTo>
                  <a:lnTo>
                    <a:pt x="139719" y="8390"/>
                  </a:lnTo>
                  <a:lnTo>
                    <a:pt x="144793" y="8133"/>
                  </a:lnTo>
                  <a:lnTo>
                    <a:pt x="149868" y="7962"/>
                  </a:lnTo>
                  <a:lnTo>
                    <a:pt x="154946" y="7002"/>
                  </a:lnTo>
                  <a:lnTo>
                    <a:pt x="160023" y="5514"/>
                  </a:lnTo>
                  <a:lnTo>
                    <a:pt x="165102" y="3676"/>
                  </a:lnTo>
                  <a:lnTo>
                    <a:pt x="170182" y="2451"/>
                  </a:lnTo>
                  <a:lnTo>
                    <a:pt x="175261" y="1634"/>
                  </a:lnTo>
                  <a:lnTo>
                    <a:pt x="180340" y="1089"/>
                  </a:lnTo>
                  <a:lnTo>
                    <a:pt x="185421" y="726"/>
                  </a:lnTo>
                  <a:lnTo>
                    <a:pt x="190500" y="484"/>
                  </a:lnTo>
                  <a:lnTo>
                    <a:pt x="203482" y="143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309"/>
            <p:cNvSpPr/>
            <p:nvPr/>
          </p:nvSpPr>
          <p:spPr>
            <a:xfrm>
              <a:off x="6381000" y="5197680"/>
              <a:ext cx="11880" cy="2055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2012" h="205741">
                  <a:moveTo>
                    <a:pt x="12011" y="0"/>
                  </a:moveTo>
                  <a:lnTo>
                    <a:pt x="7965" y="4045"/>
                  </a:lnTo>
                  <a:lnTo>
                    <a:pt x="6774" y="6084"/>
                  </a:lnTo>
                  <a:lnTo>
                    <a:pt x="5980" y="8289"/>
                  </a:lnTo>
                  <a:lnTo>
                    <a:pt x="5450" y="10606"/>
                  </a:lnTo>
                  <a:lnTo>
                    <a:pt x="5097" y="13844"/>
                  </a:lnTo>
                  <a:lnTo>
                    <a:pt x="4861" y="17696"/>
                  </a:lnTo>
                  <a:lnTo>
                    <a:pt x="4600" y="26492"/>
                  </a:lnTo>
                  <a:lnTo>
                    <a:pt x="4404" y="63282"/>
                  </a:lnTo>
                  <a:lnTo>
                    <a:pt x="4391" y="137200"/>
                  </a:lnTo>
                  <a:lnTo>
                    <a:pt x="3544" y="143960"/>
                  </a:lnTo>
                  <a:lnTo>
                    <a:pt x="2133" y="150160"/>
                  </a:lnTo>
                  <a:lnTo>
                    <a:pt x="345" y="155987"/>
                  </a:lnTo>
                  <a:lnTo>
                    <a:pt x="0" y="162411"/>
                  </a:lnTo>
                  <a:lnTo>
                    <a:pt x="617" y="169234"/>
                  </a:lnTo>
                  <a:lnTo>
                    <a:pt x="1875" y="176323"/>
                  </a:lnTo>
                  <a:lnTo>
                    <a:pt x="2714" y="182742"/>
                  </a:lnTo>
                  <a:lnTo>
                    <a:pt x="3273" y="188715"/>
                  </a:lnTo>
                  <a:lnTo>
                    <a:pt x="4391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310"/>
            <p:cNvSpPr/>
            <p:nvPr/>
          </p:nvSpPr>
          <p:spPr>
            <a:xfrm>
              <a:off x="6537600" y="5212800"/>
              <a:ext cx="196200" cy="23580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96477" h="235763">
                  <a:moveTo>
                    <a:pt x="30477" y="0"/>
                  </a:moveTo>
                  <a:lnTo>
                    <a:pt x="23916" y="6561"/>
                  </a:lnTo>
                  <a:lnTo>
                    <a:pt x="23328" y="9407"/>
                  </a:lnTo>
                  <a:lnTo>
                    <a:pt x="23171" y="11352"/>
                  </a:lnTo>
                  <a:lnTo>
                    <a:pt x="22220" y="13494"/>
                  </a:lnTo>
                  <a:lnTo>
                    <a:pt x="18905" y="18133"/>
                  </a:lnTo>
                  <a:lnTo>
                    <a:pt x="17682" y="21402"/>
                  </a:lnTo>
                  <a:lnTo>
                    <a:pt x="16868" y="25275"/>
                  </a:lnTo>
                  <a:lnTo>
                    <a:pt x="16324" y="29550"/>
                  </a:lnTo>
                  <a:lnTo>
                    <a:pt x="13463" y="36558"/>
                  </a:lnTo>
                  <a:lnTo>
                    <a:pt x="10215" y="42495"/>
                  </a:lnTo>
                  <a:lnTo>
                    <a:pt x="8772" y="47956"/>
                  </a:lnTo>
                  <a:lnTo>
                    <a:pt x="7540" y="49750"/>
                  </a:lnTo>
                  <a:lnTo>
                    <a:pt x="5872" y="50947"/>
                  </a:lnTo>
                  <a:lnTo>
                    <a:pt x="3914" y="51744"/>
                  </a:lnTo>
                  <a:lnTo>
                    <a:pt x="2608" y="53123"/>
                  </a:lnTo>
                  <a:lnTo>
                    <a:pt x="1737" y="54889"/>
                  </a:lnTo>
                  <a:lnTo>
                    <a:pt x="0" y="60951"/>
                  </a:lnTo>
                  <a:lnTo>
                    <a:pt x="4042" y="56912"/>
                  </a:lnTo>
                  <a:lnTo>
                    <a:pt x="6927" y="55721"/>
                  </a:lnTo>
                  <a:lnTo>
                    <a:pt x="10543" y="54927"/>
                  </a:lnTo>
                  <a:lnTo>
                    <a:pt x="14648" y="54399"/>
                  </a:lnTo>
                  <a:lnTo>
                    <a:pt x="19924" y="54045"/>
                  </a:lnTo>
                  <a:lnTo>
                    <a:pt x="25982" y="53811"/>
                  </a:lnTo>
                  <a:lnTo>
                    <a:pt x="46643" y="53480"/>
                  </a:lnTo>
                  <a:lnTo>
                    <a:pt x="53954" y="53433"/>
                  </a:lnTo>
                  <a:lnTo>
                    <a:pt x="62215" y="54249"/>
                  </a:lnTo>
                  <a:lnTo>
                    <a:pt x="71110" y="55639"/>
                  </a:lnTo>
                  <a:lnTo>
                    <a:pt x="80425" y="57413"/>
                  </a:lnTo>
                  <a:lnTo>
                    <a:pt x="88329" y="60288"/>
                  </a:lnTo>
                  <a:lnTo>
                    <a:pt x="95292" y="63899"/>
                  </a:lnTo>
                  <a:lnTo>
                    <a:pt x="122679" y="81860"/>
                  </a:lnTo>
                  <a:lnTo>
                    <a:pt x="129197" y="86747"/>
                  </a:lnTo>
                  <a:lnTo>
                    <a:pt x="135238" y="91698"/>
                  </a:lnTo>
                  <a:lnTo>
                    <a:pt x="140958" y="96692"/>
                  </a:lnTo>
                  <a:lnTo>
                    <a:pt x="146464" y="102561"/>
                  </a:lnTo>
                  <a:lnTo>
                    <a:pt x="151828" y="109014"/>
                  </a:lnTo>
                  <a:lnTo>
                    <a:pt x="157097" y="115856"/>
                  </a:lnTo>
                  <a:lnTo>
                    <a:pt x="162304" y="122111"/>
                  </a:lnTo>
                  <a:lnTo>
                    <a:pt x="167469" y="127974"/>
                  </a:lnTo>
                  <a:lnTo>
                    <a:pt x="172604" y="133576"/>
                  </a:lnTo>
                  <a:lnTo>
                    <a:pt x="176875" y="139851"/>
                  </a:lnTo>
                  <a:lnTo>
                    <a:pt x="180570" y="146574"/>
                  </a:lnTo>
                  <a:lnTo>
                    <a:pt x="189813" y="165913"/>
                  </a:lnTo>
                  <a:lnTo>
                    <a:pt x="192581" y="171569"/>
                  </a:lnTo>
                  <a:lnTo>
                    <a:pt x="194426" y="177033"/>
                  </a:lnTo>
                  <a:lnTo>
                    <a:pt x="195656" y="182368"/>
                  </a:lnTo>
                  <a:lnTo>
                    <a:pt x="196476" y="187619"/>
                  </a:lnTo>
                  <a:lnTo>
                    <a:pt x="196176" y="192813"/>
                  </a:lnTo>
                  <a:lnTo>
                    <a:pt x="195131" y="197968"/>
                  </a:lnTo>
                  <a:lnTo>
                    <a:pt x="193587" y="203099"/>
                  </a:lnTo>
                  <a:lnTo>
                    <a:pt x="190863" y="207366"/>
                  </a:lnTo>
                  <a:lnTo>
                    <a:pt x="187354" y="211058"/>
                  </a:lnTo>
                  <a:lnTo>
                    <a:pt x="183321" y="214365"/>
                  </a:lnTo>
                  <a:lnTo>
                    <a:pt x="178940" y="217416"/>
                  </a:lnTo>
                  <a:lnTo>
                    <a:pt x="174326" y="220298"/>
                  </a:lnTo>
                  <a:lnTo>
                    <a:pt x="169557" y="223065"/>
                  </a:lnTo>
                  <a:lnTo>
                    <a:pt x="159741" y="228397"/>
                  </a:lnTo>
                  <a:lnTo>
                    <a:pt x="154753" y="231005"/>
                  </a:lnTo>
                  <a:lnTo>
                    <a:pt x="148888" y="232743"/>
                  </a:lnTo>
                  <a:lnTo>
                    <a:pt x="142438" y="233903"/>
                  </a:lnTo>
                  <a:lnTo>
                    <a:pt x="135597" y="234675"/>
                  </a:lnTo>
                  <a:lnTo>
                    <a:pt x="129343" y="235190"/>
                  </a:lnTo>
                  <a:lnTo>
                    <a:pt x="123482" y="235534"/>
                  </a:lnTo>
                  <a:lnTo>
                    <a:pt x="117880" y="235762"/>
                  </a:lnTo>
                  <a:lnTo>
                    <a:pt x="110759" y="235068"/>
                  </a:lnTo>
                  <a:lnTo>
                    <a:pt x="102625" y="233759"/>
                  </a:lnTo>
                  <a:lnTo>
                    <a:pt x="93815" y="232040"/>
                  </a:lnTo>
                  <a:lnTo>
                    <a:pt x="85402" y="230893"/>
                  </a:lnTo>
                  <a:lnTo>
                    <a:pt x="77255" y="230128"/>
                  </a:lnTo>
                  <a:lnTo>
                    <a:pt x="69282" y="229619"/>
                  </a:lnTo>
                  <a:lnTo>
                    <a:pt x="62274" y="228432"/>
                  </a:lnTo>
                  <a:lnTo>
                    <a:pt x="55908" y="226795"/>
                  </a:lnTo>
                  <a:lnTo>
                    <a:pt x="29480" y="218084"/>
                  </a:lnTo>
                  <a:lnTo>
                    <a:pt x="23886" y="215662"/>
                  </a:lnTo>
                  <a:lnTo>
                    <a:pt x="19310" y="213202"/>
                  </a:lnTo>
                  <a:lnTo>
                    <a:pt x="7617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311"/>
            <p:cNvSpPr/>
            <p:nvPr/>
          </p:nvSpPr>
          <p:spPr>
            <a:xfrm>
              <a:off x="6575760" y="5151960"/>
              <a:ext cx="228240" cy="453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28601" h="45685">
                  <a:moveTo>
                    <a:pt x="0" y="22824"/>
                  </a:moveTo>
                  <a:lnTo>
                    <a:pt x="0" y="18779"/>
                  </a:lnTo>
                  <a:lnTo>
                    <a:pt x="846" y="17587"/>
                  </a:lnTo>
                  <a:lnTo>
                    <a:pt x="2258" y="16793"/>
                  </a:lnTo>
                  <a:lnTo>
                    <a:pt x="4045" y="16263"/>
                  </a:lnTo>
                  <a:lnTo>
                    <a:pt x="6083" y="15064"/>
                  </a:lnTo>
                  <a:lnTo>
                    <a:pt x="8288" y="13417"/>
                  </a:lnTo>
                  <a:lnTo>
                    <a:pt x="10606" y="11473"/>
                  </a:lnTo>
                  <a:lnTo>
                    <a:pt x="13844" y="9329"/>
                  </a:lnTo>
                  <a:lnTo>
                    <a:pt x="17696" y="7054"/>
                  </a:lnTo>
                  <a:lnTo>
                    <a:pt x="21957" y="4691"/>
                  </a:lnTo>
                  <a:lnTo>
                    <a:pt x="26491" y="3115"/>
                  </a:lnTo>
                  <a:lnTo>
                    <a:pt x="31207" y="2065"/>
                  </a:lnTo>
                  <a:lnTo>
                    <a:pt x="36045" y="1365"/>
                  </a:lnTo>
                  <a:lnTo>
                    <a:pt x="41810" y="898"/>
                  </a:lnTo>
                  <a:lnTo>
                    <a:pt x="48193" y="587"/>
                  </a:lnTo>
                  <a:lnTo>
                    <a:pt x="61212" y="241"/>
                  </a:lnTo>
                  <a:lnTo>
                    <a:pt x="92644" y="0"/>
                  </a:lnTo>
                  <a:lnTo>
                    <a:pt x="99863" y="835"/>
                  </a:lnTo>
                  <a:lnTo>
                    <a:pt x="107215" y="2238"/>
                  </a:lnTo>
                  <a:lnTo>
                    <a:pt x="114656" y="4020"/>
                  </a:lnTo>
                  <a:lnTo>
                    <a:pt x="122158" y="6055"/>
                  </a:lnTo>
                  <a:lnTo>
                    <a:pt x="137266" y="10573"/>
                  </a:lnTo>
                  <a:lnTo>
                    <a:pt x="145697" y="13810"/>
                  </a:lnTo>
                  <a:lnTo>
                    <a:pt x="154705" y="17661"/>
                  </a:lnTo>
                  <a:lnTo>
                    <a:pt x="172051" y="25609"/>
                  </a:lnTo>
                  <a:lnTo>
                    <a:pt x="185406" y="31964"/>
                  </a:lnTo>
                  <a:lnTo>
                    <a:pt x="192183" y="34844"/>
                  </a:lnTo>
                  <a:lnTo>
                    <a:pt x="199242" y="37611"/>
                  </a:lnTo>
                  <a:lnTo>
                    <a:pt x="206488" y="40302"/>
                  </a:lnTo>
                  <a:lnTo>
                    <a:pt x="212165" y="42096"/>
                  </a:lnTo>
                  <a:lnTo>
                    <a:pt x="216797" y="43292"/>
                  </a:lnTo>
                  <a:lnTo>
                    <a:pt x="228600" y="456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312"/>
            <p:cNvSpPr/>
            <p:nvPr/>
          </p:nvSpPr>
          <p:spPr>
            <a:xfrm>
              <a:off x="5760720" y="5579280"/>
              <a:ext cx="380880" cy="2966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80993" h="296742">
                  <a:moveTo>
                    <a:pt x="7612" y="129113"/>
                  </a:moveTo>
                  <a:lnTo>
                    <a:pt x="85" y="129113"/>
                  </a:lnTo>
                  <a:lnTo>
                    <a:pt x="0" y="122552"/>
                  </a:lnTo>
                  <a:lnTo>
                    <a:pt x="844" y="122199"/>
                  </a:lnTo>
                  <a:lnTo>
                    <a:pt x="4040" y="121807"/>
                  </a:lnTo>
                  <a:lnTo>
                    <a:pt x="5231" y="120856"/>
                  </a:lnTo>
                  <a:lnTo>
                    <a:pt x="6024" y="119375"/>
                  </a:lnTo>
                  <a:lnTo>
                    <a:pt x="6553" y="117541"/>
                  </a:lnTo>
                  <a:lnTo>
                    <a:pt x="11657" y="110988"/>
                  </a:lnTo>
                  <a:lnTo>
                    <a:pt x="18723" y="103277"/>
                  </a:lnTo>
                  <a:lnTo>
                    <a:pt x="28308" y="94176"/>
                  </a:lnTo>
                  <a:lnTo>
                    <a:pt x="36848" y="88750"/>
                  </a:lnTo>
                  <a:lnTo>
                    <a:pt x="48546" y="81258"/>
                  </a:lnTo>
                  <a:lnTo>
                    <a:pt x="55221" y="76890"/>
                  </a:lnTo>
                  <a:lnTo>
                    <a:pt x="61365" y="73131"/>
                  </a:lnTo>
                  <a:lnTo>
                    <a:pt x="72707" y="66696"/>
                  </a:lnTo>
                  <a:lnTo>
                    <a:pt x="83392" y="58756"/>
                  </a:lnTo>
                  <a:lnTo>
                    <a:pt x="94632" y="50430"/>
                  </a:lnTo>
                  <a:lnTo>
                    <a:pt x="101186" y="47025"/>
                  </a:lnTo>
                  <a:lnTo>
                    <a:pt x="108094" y="43907"/>
                  </a:lnTo>
                  <a:lnTo>
                    <a:pt x="115240" y="40983"/>
                  </a:lnTo>
                  <a:lnTo>
                    <a:pt x="122544" y="38186"/>
                  </a:lnTo>
                  <a:lnTo>
                    <a:pt x="129953" y="35475"/>
                  </a:lnTo>
                  <a:lnTo>
                    <a:pt x="137433" y="31974"/>
                  </a:lnTo>
                  <a:lnTo>
                    <a:pt x="144960" y="27947"/>
                  </a:lnTo>
                  <a:lnTo>
                    <a:pt x="152516" y="23569"/>
                  </a:lnTo>
                  <a:lnTo>
                    <a:pt x="160095" y="20651"/>
                  </a:lnTo>
                  <a:lnTo>
                    <a:pt x="167688" y="18705"/>
                  </a:lnTo>
                  <a:lnTo>
                    <a:pt x="175289" y="17408"/>
                  </a:lnTo>
                  <a:lnTo>
                    <a:pt x="182897" y="15696"/>
                  </a:lnTo>
                  <a:lnTo>
                    <a:pt x="190509" y="13708"/>
                  </a:lnTo>
                  <a:lnTo>
                    <a:pt x="198123" y="11536"/>
                  </a:lnTo>
                  <a:lnTo>
                    <a:pt x="208841" y="6865"/>
                  </a:lnTo>
                  <a:lnTo>
                    <a:pt x="212885" y="4434"/>
                  </a:lnTo>
                  <a:lnTo>
                    <a:pt x="221893" y="1734"/>
                  </a:lnTo>
                  <a:lnTo>
                    <a:pt x="231542" y="534"/>
                  </a:lnTo>
                  <a:lnTo>
                    <a:pt x="241474" y="0"/>
                  </a:lnTo>
                  <a:lnTo>
                    <a:pt x="251533" y="2020"/>
                  </a:lnTo>
                  <a:lnTo>
                    <a:pt x="260802" y="4894"/>
                  </a:lnTo>
                  <a:lnTo>
                    <a:pt x="267743" y="6171"/>
                  </a:lnTo>
                  <a:lnTo>
                    <a:pt x="273650" y="8997"/>
                  </a:lnTo>
                  <a:lnTo>
                    <a:pt x="276411" y="10936"/>
                  </a:lnTo>
                  <a:lnTo>
                    <a:pt x="278251" y="13074"/>
                  </a:lnTo>
                  <a:lnTo>
                    <a:pt x="279478" y="15347"/>
                  </a:lnTo>
                  <a:lnTo>
                    <a:pt x="280842" y="20130"/>
                  </a:lnTo>
                  <a:lnTo>
                    <a:pt x="281609" y="29277"/>
                  </a:lnTo>
                  <a:lnTo>
                    <a:pt x="281837" y="46473"/>
                  </a:lnTo>
                  <a:lnTo>
                    <a:pt x="281890" y="57389"/>
                  </a:lnTo>
                  <a:lnTo>
                    <a:pt x="281057" y="62670"/>
                  </a:lnTo>
                  <a:lnTo>
                    <a:pt x="279656" y="67885"/>
                  </a:lnTo>
                  <a:lnTo>
                    <a:pt x="264019" y="114303"/>
                  </a:lnTo>
                  <a:lnTo>
                    <a:pt x="260677" y="121780"/>
                  </a:lnTo>
                  <a:lnTo>
                    <a:pt x="256755" y="129304"/>
                  </a:lnTo>
                  <a:lnTo>
                    <a:pt x="252447" y="136861"/>
                  </a:lnTo>
                  <a:lnTo>
                    <a:pt x="248729" y="144438"/>
                  </a:lnTo>
                  <a:lnTo>
                    <a:pt x="245404" y="152030"/>
                  </a:lnTo>
                  <a:lnTo>
                    <a:pt x="242340" y="159631"/>
                  </a:lnTo>
                  <a:lnTo>
                    <a:pt x="238604" y="166392"/>
                  </a:lnTo>
                  <a:lnTo>
                    <a:pt x="234420" y="172592"/>
                  </a:lnTo>
                  <a:lnTo>
                    <a:pt x="229937" y="178419"/>
                  </a:lnTo>
                  <a:lnTo>
                    <a:pt x="225256" y="184844"/>
                  </a:lnTo>
                  <a:lnTo>
                    <a:pt x="215538" y="198755"/>
                  </a:lnTo>
                  <a:lnTo>
                    <a:pt x="211423" y="206021"/>
                  </a:lnTo>
                  <a:lnTo>
                    <a:pt x="207833" y="213405"/>
                  </a:lnTo>
                  <a:lnTo>
                    <a:pt x="204592" y="220868"/>
                  </a:lnTo>
                  <a:lnTo>
                    <a:pt x="199892" y="227536"/>
                  </a:lnTo>
                  <a:lnTo>
                    <a:pt x="194219" y="233675"/>
                  </a:lnTo>
                  <a:lnTo>
                    <a:pt x="187897" y="239461"/>
                  </a:lnTo>
                  <a:lnTo>
                    <a:pt x="182836" y="245012"/>
                  </a:lnTo>
                  <a:lnTo>
                    <a:pt x="178614" y="250406"/>
                  </a:lnTo>
                  <a:lnTo>
                    <a:pt x="174954" y="255695"/>
                  </a:lnTo>
                  <a:lnTo>
                    <a:pt x="166370" y="263830"/>
                  </a:lnTo>
                  <a:lnTo>
                    <a:pt x="157758" y="270267"/>
                  </a:lnTo>
                  <a:lnTo>
                    <a:pt x="148149" y="278651"/>
                  </a:lnTo>
                  <a:lnTo>
                    <a:pt x="142604" y="283910"/>
                  </a:lnTo>
                  <a:lnTo>
                    <a:pt x="140787" y="286498"/>
                  </a:lnTo>
                  <a:lnTo>
                    <a:pt x="137471" y="295741"/>
                  </a:lnTo>
                  <a:lnTo>
                    <a:pt x="137156" y="296741"/>
                  </a:lnTo>
                  <a:lnTo>
                    <a:pt x="145244" y="292704"/>
                  </a:lnTo>
                  <a:lnTo>
                    <a:pt x="153730" y="290720"/>
                  </a:lnTo>
                  <a:lnTo>
                    <a:pt x="163994" y="288992"/>
                  </a:lnTo>
                  <a:lnTo>
                    <a:pt x="170287" y="287345"/>
                  </a:lnTo>
                  <a:lnTo>
                    <a:pt x="177022" y="285401"/>
                  </a:lnTo>
                  <a:lnTo>
                    <a:pt x="184052" y="284106"/>
                  </a:lnTo>
                  <a:lnTo>
                    <a:pt x="191279" y="283241"/>
                  </a:lnTo>
                  <a:lnTo>
                    <a:pt x="198637" y="282665"/>
                  </a:lnTo>
                  <a:lnTo>
                    <a:pt x="205235" y="281435"/>
                  </a:lnTo>
                  <a:lnTo>
                    <a:pt x="217083" y="277809"/>
                  </a:lnTo>
                  <a:lnTo>
                    <a:pt x="223459" y="276504"/>
                  </a:lnTo>
                  <a:lnTo>
                    <a:pt x="230250" y="275634"/>
                  </a:lnTo>
                  <a:lnTo>
                    <a:pt x="237318" y="275054"/>
                  </a:lnTo>
                  <a:lnTo>
                    <a:pt x="244569" y="274666"/>
                  </a:lnTo>
                  <a:lnTo>
                    <a:pt x="259400" y="274237"/>
                  </a:lnTo>
                  <a:lnTo>
                    <a:pt x="282030" y="273995"/>
                  </a:lnTo>
                  <a:lnTo>
                    <a:pt x="288771" y="274807"/>
                  </a:lnTo>
                  <a:lnTo>
                    <a:pt x="294957" y="276196"/>
                  </a:lnTo>
                  <a:lnTo>
                    <a:pt x="300776" y="277969"/>
                  </a:lnTo>
                  <a:lnTo>
                    <a:pt x="307194" y="279150"/>
                  </a:lnTo>
                  <a:lnTo>
                    <a:pt x="314014" y="279937"/>
                  </a:lnTo>
                  <a:lnTo>
                    <a:pt x="326671" y="280813"/>
                  </a:lnTo>
                  <a:lnTo>
                    <a:pt x="335118" y="281202"/>
                  </a:lnTo>
                  <a:lnTo>
                    <a:pt x="343953" y="281374"/>
                  </a:lnTo>
                  <a:lnTo>
                    <a:pt x="359376" y="281486"/>
                  </a:lnTo>
                  <a:lnTo>
                    <a:pt x="362348" y="282342"/>
                  </a:lnTo>
                  <a:lnTo>
                    <a:pt x="370576" y="286744"/>
                  </a:lnTo>
                  <a:lnTo>
                    <a:pt x="380992" y="289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313"/>
            <p:cNvSpPr/>
            <p:nvPr/>
          </p:nvSpPr>
          <p:spPr>
            <a:xfrm>
              <a:off x="6212160" y="5685480"/>
              <a:ext cx="256680" cy="22644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56849" h="226592">
                  <a:moveTo>
                    <a:pt x="196022" y="60960"/>
                  </a:moveTo>
                  <a:lnTo>
                    <a:pt x="200067" y="60960"/>
                  </a:lnTo>
                  <a:lnTo>
                    <a:pt x="202106" y="60113"/>
                  </a:lnTo>
                  <a:lnTo>
                    <a:pt x="209020" y="55723"/>
                  </a:lnTo>
                  <a:lnTo>
                    <a:pt x="213935" y="54399"/>
                  </a:lnTo>
                  <a:lnTo>
                    <a:pt x="221199" y="51553"/>
                  </a:lnTo>
                  <a:lnTo>
                    <a:pt x="229225" y="47466"/>
                  </a:lnTo>
                  <a:lnTo>
                    <a:pt x="235615" y="42828"/>
                  </a:lnTo>
                  <a:lnTo>
                    <a:pt x="241277" y="40201"/>
                  </a:lnTo>
                  <a:lnTo>
                    <a:pt x="243972" y="39501"/>
                  </a:lnTo>
                  <a:lnTo>
                    <a:pt x="249224" y="36465"/>
                  </a:lnTo>
                  <a:lnTo>
                    <a:pt x="255450" y="31663"/>
                  </a:lnTo>
                  <a:lnTo>
                    <a:pt x="255960" y="30422"/>
                  </a:lnTo>
                  <a:lnTo>
                    <a:pt x="256848" y="24023"/>
                  </a:lnTo>
                  <a:lnTo>
                    <a:pt x="256046" y="23635"/>
                  </a:lnTo>
                  <a:lnTo>
                    <a:pt x="250026" y="23090"/>
                  </a:lnTo>
                  <a:lnTo>
                    <a:pt x="237894" y="22929"/>
                  </a:lnTo>
                  <a:lnTo>
                    <a:pt x="209585" y="22869"/>
                  </a:lnTo>
                  <a:lnTo>
                    <a:pt x="201677" y="23713"/>
                  </a:lnTo>
                  <a:lnTo>
                    <a:pt x="193019" y="25122"/>
                  </a:lnTo>
                  <a:lnTo>
                    <a:pt x="183860" y="26908"/>
                  </a:lnTo>
                  <a:lnTo>
                    <a:pt x="164653" y="31151"/>
                  </a:lnTo>
                  <a:lnTo>
                    <a:pt x="154789" y="33467"/>
                  </a:lnTo>
                  <a:lnTo>
                    <a:pt x="143980" y="36705"/>
                  </a:lnTo>
                  <a:lnTo>
                    <a:pt x="132541" y="40557"/>
                  </a:lnTo>
                  <a:lnTo>
                    <a:pt x="120681" y="44818"/>
                  </a:lnTo>
                  <a:lnTo>
                    <a:pt x="109389" y="49352"/>
                  </a:lnTo>
                  <a:lnTo>
                    <a:pt x="98473" y="54068"/>
                  </a:lnTo>
                  <a:lnTo>
                    <a:pt x="87809" y="58906"/>
                  </a:lnTo>
                  <a:lnTo>
                    <a:pt x="78160" y="63824"/>
                  </a:lnTo>
                  <a:lnTo>
                    <a:pt x="69188" y="68796"/>
                  </a:lnTo>
                  <a:lnTo>
                    <a:pt x="60666" y="73804"/>
                  </a:lnTo>
                  <a:lnTo>
                    <a:pt x="44424" y="83884"/>
                  </a:lnTo>
                  <a:lnTo>
                    <a:pt x="36536" y="88943"/>
                  </a:lnTo>
                  <a:lnTo>
                    <a:pt x="29585" y="94856"/>
                  </a:lnTo>
                  <a:lnTo>
                    <a:pt x="23257" y="101337"/>
                  </a:lnTo>
                  <a:lnTo>
                    <a:pt x="17345" y="108198"/>
                  </a:lnTo>
                  <a:lnTo>
                    <a:pt x="12558" y="115312"/>
                  </a:lnTo>
                  <a:lnTo>
                    <a:pt x="8520" y="122595"/>
                  </a:lnTo>
                  <a:lnTo>
                    <a:pt x="4980" y="129990"/>
                  </a:lnTo>
                  <a:lnTo>
                    <a:pt x="2621" y="136613"/>
                  </a:lnTo>
                  <a:lnTo>
                    <a:pt x="1048" y="142722"/>
                  </a:lnTo>
                  <a:lnTo>
                    <a:pt x="0" y="148488"/>
                  </a:lnTo>
                  <a:lnTo>
                    <a:pt x="994" y="155719"/>
                  </a:lnTo>
                  <a:lnTo>
                    <a:pt x="3351" y="163926"/>
                  </a:lnTo>
                  <a:lnTo>
                    <a:pt x="6614" y="172784"/>
                  </a:lnTo>
                  <a:lnTo>
                    <a:pt x="10483" y="180383"/>
                  </a:lnTo>
                  <a:lnTo>
                    <a:pt x="14756" y="187143"/>
                  </a:lnTo>
                  <a:lnTo>
                    <a:pt x="19298" y="193341"/>
                  </a:lnTo>
                  <a:lnTo>
                    <a:pt x="24866" y="199168"/>
                  </a:lnTo>
                  <a:lnTo>
                    <a:pt x="31118" y="204745"/>
                  </a:lnTo>
                  <a:lnTo>
                    <a:pt x="37826" y="210157"/>
                  </a:lnTo>
                  <a:lnTo>
                    <a:pt x="44838" y="214611"/>
                  </a:lnTo>
                  <a:lnTo>
                    <a:pt x="52053" y="218427"/>
                  </a:lnTo>
                  <a:lnTo>
                    <a:pt x="59402" y="221818"/>
                  </a:lnTo>
                  <a:lnTo>
                    <a:pt x="67689" y="224079"/>
                  </a:lnTo>
                  <a:lnTo>
                    <a:pt x="76600" y="225586"/>
                  </a:lnTo>
                  <a:lnTo>
                    <a:pt x="85927" y="226591"/>
                  </a:lnTo>
                  <a:lnTo>
                    <a:pt x="96379" y="226414"/>
                  </a:lnTo>
                  <a:lnTo>
                    <a:pt x="107580" y="225449"/>
                  </a:lnTo>
                  <a:lnTo>
                    <a:pt x="119281" y="223959"/>
                  </a:lnTo>
                  <a:lnTo>
                    <a:pt x="130468" y="221273"/>
                  </a:lnTo>
                  <a:lnTo>
                    <a:pt x="141313" y="217788"/>
                  </a:lnTo>
                  <a:lnTo>
                    <a:pt x="151929" y="213773"/>
                  </a:lnTo>
                  <a:lnTo>
                    <a:pt x="161547" y="208555"/>
                  </a:lnTo>
                  <a:lnTo>
                    <a:pt x="170499" y="202537"/>
                  </a:lnTo>
                  <a:lnTo>
                    <a:pt x="179007" y="195984"/>
                  </a:lnTo>
                  <a:lnTo>
                    <a:pt x="186372" y="189077"/>
                  </a:lnTo>
                  <a:lnTo>
                    <a:pt x="192975" y="181931"/>
                  </a:lnTo>
                  <a:lnTo>
                    <a:pt x="199071" y="174627"/>
                  </a:lnTo>
                  <a:lnTo>
                    <a:pt x="203981" y="166372"/>
                  </a:lnTo>
                  <a:lnTo>
                    <a:pt x="208101" y="157481"/>
                  </a:lnTo>
                  <a:lnTo>
                    <a:pt x="214938" y="139418"/>
                  </a:lnTo>
                  <a:lnTo>
                    <a:pt x="220798" y="122924"/>
                  </a:lnTo>
                  <a:lnTo>
                    <a:pt x="221853" y="114122"/>
                  </a:lnTo>
                  <a:lnTo>
                    <a:pt x="221709" y="104868"/>
                  </a:lnTo>
                  <a:lnTo>
                    <a:pt x="220767" y="95312"/>
                  </a:lnTo>
                  <a:lnTo>
                    <a:pt x="219292" y="87248"/>
                  </a:lnTo>
                  <a:lnTo>
                    <a:pt x="217462" y="80179"/>
                  </a:lnTo>
                  <a:lnTo>
                    <a:pt x="215395" y="73773"/>
                  </a:lnTo>
                  <a:lnTo>
                    <a:pt x="212324" y="66962"/>
                  </a:lnTo>
                  <a:lnTo>
                    <a:pt x="208583" y="59881"/>
                  </a:lnTo>
                  <a:lnTo>
                    <a:pt x="204396" y="52621"/>
                  </a:lnTo>
                  <a:lnTo>
                    <a:pt x="199065" y="46087"/>
                  </a:lnTo>
                  <a:lnTo>
                    <a:pt x="192970" y="40038"/>
                  </a:lnTo>
                  <a:lnTo>
                    <a:pt x="186368" y="34312"/>
                  </a:lnTo>
                  <a:lnTo>
                    <a:pt x="179426" y="28802"/>
                  </a:lnTo>
                  <a:lnTo>
                    <a:pt x="172258" y="23435"/>
                  </a:lnTo>
                  <a:lnTo>
                    <a:pt x="164939" y="18163"/>
                  </a:lnTo>
                  <a:lnTo>
                    <a:pt x="159213" y="13802"/>
                  </a:lnTo>
                  <a:lnTo>
                    <a:pt x="154549" y="10048"/>
                  </a:lnTo>
                  <a:lnTo>
                    <a:pt x="150594" y="6699"/>
                  </a:lnTo>
                  <a:lnTo>
                    <a:pt x="146263" y="4466"/>
                  </a:lnTo>
                  <a:lnTo>
                    <a:pt x="141683" y="2977"/>
                  </a:lnTo>
                  <a:lnTo>
                    <a:pt x="12744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0" y="6094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ify each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33520" y="121932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1397160" y="1228680"/>
                <a:ext cx="1498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1" name="Group 16"/>
          <p:cNvGrpSpPr/>
          <p:nvPr/>
        </p:nvGrpSpPr>
        <p:grpSpPr>
          <a:xfrm>
            <a:off x="4724280" y="1263600"/>
            <a:ext cx="2667240" cy="552240"/>
            <a:chOff x="4724280" y="1263600"/>
            <a:chExt cx="2667240" cy="552240"/>
          </a:xfrm>
        </p:grpSpPr>
        <p:sp>
          <p:nvSpPr>
            <p:cNvPr id="362" name="Text Box 7"/>
            <p:cNvSpPr/>
            <p:nvPr/>
          </p:nvSpPr>
          <p:spPr>
            <a:xfrm>
              <a:off x="4724280" y="12636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2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5"/>
                <p:cNvSpPr txBox="1"/>
                <p:nvPr/>
              </p:nvSpPr>
              <p:spPr>
                <a:xfrm>
                  <a:off x="5567400" y="1295280"/>
                  <a:ext cx="182412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(</m:t>
                      </m:r>
                      <m:r>
                        <m:t xml:space="preserve">7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4" name="Group 17"/>
          <p:cNvGrpSpPr/>
          <p:nvPr/>
        </p:nvGrpSpPr>
        <p:grpSpPr>
          <a:xfrm>
            <a:off x="533520" y="3505320"/>
            <a:ext cx="2209680" cy="532800"/>
            <a:chOff x="533520" y="3505320"/>
            <a:chExt cx="2209680" cy="532800"/>
          </a:xfrm>
        </p:grpSpPr>
        <p:sp>
          <p:nvSpPr>
            <p:cNvPr id="365" name="Text Box 7"/>
            <p:cNvSpPr/>
            <p:nvPr/>
          </p:nvSpPr>
          <p:spPr>
            <a:xfrm>
              <a:off x="533520" y="35053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3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Object 4"/>
                <p:cNvSpPr txBox="1"/>
                <p:nvPr/>
              </p:nvSpPr>
              <p:spPr>
                <a:xfrm>
                  <a:off x="1440000" y="3517920"/>
                  <a:ext cx="1303200" cy="52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Group 18"/>
          <p:cNvGrpSpPr/>
          <p:nvPr/>
        </p:nvGrpSpPr>
        <p:grpSpPr>
          <a:xfrm>
            <a:off x="4648320" y="3505320"/>
            <a:ext cx="2819160" cy="532800"/>
            <a:chOff x="4648320" y="3505320"/>
            <a:chExt cx="2819160" cy="532800"/>
          </a:xfrm>
        </p:grpSpPr>
        <p:sp>
          <p:nvSpPr>
            <p:cNvPr id="368" name="Text Box 7"/>
            <p:cNvSpPr/>
            <p:nvPr/>
          </p:nvSpPr>
          <p:spPr>
            <a:xfrm>
              <a:off x="4648320" y="35053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4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Object 3"/>
                <p:cNvSpPr txBox="1"/>
                <p:nvPr/>
              </p:nvSpPr>
              <p:spPr>
                <a:xfrm>
                  <a:off x="5511960" y="3517920"/>
                  <a:ext cx="1955520" cy="52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z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0" name="Group 9262"/>
          <p:cNvGrpSpPr/>
          <p:nvPr/>
        </p:nvGrpSpPr>
        <p:grpSpPr>
          <a:xfrm>
            <a:off x="922320" y="1036800"/>
            <a:ext cx="6613560" cy="3336840"/>
            <a:chOff x="922320" y="1036800"/>
            <a:chExt cx="6613560" cy="3336840"/>
          </a:xfrm>
        </p:grpSpPr>
        <p:sp>
          <p:nvSpPr>
            <p:cNvPr id="371" name="SMARTInkAnnotation191"/>
            <p:cNvSpPr/>
            <p:nvPr/>
          </p:nvSpPr>
          <p:spPr>
            <a:xfrm>
              <a:off x="1493640" y="1105200"/>
              <a:ext cx="419040" cy="2282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419093" h="228589">
                  <a:moveTo>
                    <a:pt x="7612" y="213348"/>
                  </a:moveTo>
                  <a:lnTo>
                    <a:pt x="3567" y="213348"/>
                  </a:lnTo>
                  <a:lnTo>
                    <a:pt x="2375" y="212501"/>
                  </a:lnTo>
                  <a:lnTo>
                    <a:pt x="1581" y="211090"/>
                  </a:lnTo>
                  <a:lnTo>
                    <a:pt x="306" y="206787"/>
                  </a:lnTo>
                  <a:lnTo>
                    <a:pt x="54" y="199854"/>
                  </a:lnTo>
                  <a:lnTo>
                    <a:pt x="0" y="187843"/>
                  </a:lnTo>
                  <a:lnTo>
                    <a:pt x="844" y="184492"/>
                  </a:lnTo>
                  <a:lnTo>
                    <a:pt x="2253" y="180564"/>
                  </a:lnTo>
                  <a:lnTo>
                    <a:pt x="4040" y="176252"/>
                  </a:lnTo>
                  <a:lnTo>
                    <a:pt x="8282" y="169203"/>
                  </a:lnTo>
                  <a:lnTo>
                    <a:pt x="12990" y="162401"/>
                  </a:lnTo>
                  <a:lnTo>
                    <a:pt x="15430" y="158217"/>
                  </a:lnTo>
                  <a:lnTo>
                    <a:pt x="17904" y="153734"/>
                  </a:lnTo>
                  <a:lnTo>
                    <a:pt x="22911" y="144237"/>
                  </a:lnTo>
                  <a:lnTo>
                    <a:pt x="25431" y="139334"/>
                  </a:lnTo>
                  <a:lnTo>
                    <a:pt x="28805" y="134372"/>
                  </a:lnTo>
                  <a:lnTo>
                    <a:pt x="32747" y="129371"/>
                  </a:lnTo>
                  <a:lnTo>
                    <a:pt x="37069" y="124343"/>
                  </a:lnTo>
                  <a:lnTo>
                    <a:pt x="40797" y="119298"/>
                  </a:lnTo>
                  <a:lnTo>
                    <a:pt x="44128" y="114241"/>
                  </a:lnTo>
                  <a:lnTo>
                    <a:pt x="47196" y="109177"/>
                  </a:lnTo>
                  <a:lnTo>
                    <a:pt x="50935" y="104107"/>
                  </a:lnTo>
                  <a:lnTo>
                    <a:pt x="55121" y="99034"/>
                  </a:lnTo>
                  <a:lnTo>
                    <a:pt x="59605" y="93959"/>
                  </a:lnTo>
                  <a:lnTo>
                    <a:pt x="69102" y="83804"/>
                  </a:lnTo>
                  <a:lnTo>
                    <a:pt x="88997" y="63487"/>
                  </a:lnTo>
                  <a:lnTo>
                    <a:pt x="94042" y="59254"/>
                  </a:lnTo>
                  <a:lnTo>
                    <a:pt x="108386" y="49251"/>
                  </a:lnTo>
                  <a:lnTo>
                    <a:pt x="115336" y="43614"/>
                  </a:lnTo>
                  <a:lnTo>
                    <a:pt x="120068" y="40079"/>
                  </a:lnTo>
                  <a:lnTo>
                    <a:pt x="132099" y="31635"/>
                  </a:lnTo>
                  <a:lnTo>
                    <a:pt x="143655" y="24496"/>
                  </a:lnTo>
                  <a:lnTo>
                    <a:pt x="154436" y="18500"/>
                  </a:lnTo>
                  <a:lnTo>
                    <a:pt x="170025" y="10365"/>
                  </a:lnTo>
                  <a:lnTo>
                    <a:pt x="180267" y="5165"/>
                  </a:lnTo>
                  <a:lnTo>
                    <a:pt x="192721" y="2289"/>
                  </a:lnTo>
                  <a:lnTo>
                    <a:pt x="199598" y="1522"/>
                  </a:lnTo>
                  <a:lnTo>
                    <a:pt x="211755" y="670"/>
                  </a:lnTo>
                  <a:lnTo>
                    <a:pt x="222802" y="291"/>
                  </a:lnTo>
                  <a:lnTo>
                    <a:pt x="239389" y="78"/>
                  </a:lnTo>
                  <a:lnTo>
                    <a:pt x="270685" y="0"/>
                  </a:lnTo>
                  <a:lnTo>
                    <a:pt x="281449" y="2251"/>
                  </a:lnTo>
                  <a:lnTo>
                    <a:pt x="291877" y="5227"/>
                  </a:lnTo>
                  <a:lnTo>
                    <a:pt x="302157" y="6550"/>
                  </a:lnTo>
                  <a:lnTo>
                    <a:pt x="314628" y="11653"/>
                  </a:lnTo>
                  <a:lnTo>
                    <a:pt x="327790" y="18719"/>
                  </a:lnTo>
                  <a:lnTo>
                    <a:pt x="339285" y="24682"/>
                  </a:lnTo>
                  <a:lnTo>
                    <a:pt x="344720" y="28304"/>
                  </a:lnTo>
                  <a:lnTo>
                    <a:pt x="350038" y="32412"/>
                  </a:lnTo>
                  <a:lnTo>
                    <a:pt x="355276" y="36844"/>
                  </a:lnTo>
                  <a:lnTo>
                    <a:pt x="360461" y="40645"/>
                  </a:lnTo>
                  <a:lnTo>
                    <a:pt x="370738" y="47127"/>
                  </a:lnTo>
                  <a:lnTo>
                    <a:pt x="375850" y="50887"/>
                  </a:lnTo>
                  <a:lnTo>
                    <a:pt x="380951" y="55088"/>
                  </a:lnTo>
                  <a:lnTo>
                    <a:pt x="386044" y="59581"/>
                  </a:lnTo>
                  <a:lnTo>
                    <a:pt x="390287" y="64270"/>
                  </a:lnTo>
                  <a:lnTo>
                    <a:pt x="393962" y="69089"/>
                  </a:lnTo>
                  <a:lnTo>
                    <a:pt x="397259" y="73996"/>
                  </a:lnTo>
                  <a:lnTo>
                    <a:pt x="399456" y="78960"/>
                  </a:lnTo>
                  <a:lnTo>
                    <a:pt x="400921" y="83963"/>
                  </a:lnTo>
                  <a:lnTo>
                    <a:pt x="401899" y="88991"/>
                  </a:lnTo>
                  <a:lnTo>
                    <a:pt x="403397" y="94037"/>
                  </a:lnTo>
                  <a:lnTo>
                    <a:pt x="405242" y="99094"/>
                  </a:lnTo>
                  <a:lnTo>
                    <a:pt x="407319" y="104159"/>
                  </a:lnTo>
                  <a:lnTo>
                    <a:pt x="409550" y="110075"/>
                  </a:lnTo>
                  <a:lnTo>
                    <a:pt x="414287" y="123422"/>
                  </a:lnTo>
                  <a:lnTo>
                    <a:pt x="415888" y="129691"/>
                  </a:lnTo>
                  <a:lnTo>
                    <a:pt x="416956" y="135563"/>
                  </a:lnTo>
                  <a:lnTo>
                    <a:pt x="417668" y="141172"/>
                  </a:lnTo>
                  <a:lnTo>
                    <a:pt x="418143" y="145757"/>
                  </a:lnTo>
                  <a:lnTo>
                    <a:pt x="418459" y="149661"/>
                  </a:lnTo>
                  <a:lnTo>
                    <a:pt x="418670" y="153110"/>
                  </a:lnTo>
                  <a:lnTo>
                    <a:pt x="417964" y="157103"/>
                  </a:lnTo>
                  <a:lnTo>
                    <a:pt x="416647" y="161458"/>
                  </a:lnTo>
                  <a:lnTo>
                    <a:pt x="414922" y="166055"/>
                  </a:lnTo>
                  <a:lnTo>
                    <a:pt x="413772" y="170812"/>
                  </a:lnTo>
                  <a:lnTo>
                    <a:pt x="413005" y="175678"/>
                  </a:lnTo>
                  <a:lnTo>
                    <a:pt x="412494" y="180614"/>
                  </a:lnTo>
                  <a:lnTo>
                    <a:pt x="413000" y="185599"/>
                  </a:lnTo>
                  <a:lnTo>
                    <a:pt x="414184" y="190615"/>
                  </a:lnTo>
                  <a:lnTo>
                    <a:pt x="415820" y="195653"/>
                  </a:lnTo>
                  <a:lnTo>
                    <a:pt x="416911" y="199858"/>
                  </a:lnTo>
                  <a:lnTo>
                    <a:pt x="418123" y="206788"/>
                  </a:lnTo>
                  <a:lnTo>
                    <a:pt x="418446" y="210668"/>
                  </a:lnTo>
                  <a:lnTo>
                    <a:pt x="418662" y="214948"/>
                  </a:lnTo>
                  <a:lnTo>
                    <a:pt x="419092" y="228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MARTInkAnnotation192"/>
            <p:cNvSpPr/>
            <p:nvPr/>
          </p:nvSpPr>
          <p:spPr>
            <a:xfrm>
              <a:off x="1577520" y="1036800"/>
              <a:ext cx="1112400" cy="28188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281880"/>
                <a:gd name="textAreaBottom" fmla="*/ 281880 h 281880"/>
              </a:gdLst>
              <a:ahLst/>
              <a:rect l="textAreaLeft" t="textAreaTop" r="textAreaRight" b="textAreaBottom"/>
              <a:pathLst>
                <a:path w="1112521" h="281908">
                  <a:moveTo>
                    <a:pt x="0" y="281907"/>
                  </a:moveTo>
                  <a:lnTo>
                    <a:pt x="0" y="270556"/>
                  </a:lnTo>
                  <a:lnTo>
                    <a:pt x="847" y="268413"/>
                  </a:lnTo>
                  <a:lnTo>
                    <a:pt x="5237" y="261352"/>
                  </a:lnTo>
                  <a:lnTo>
                    <a:pt x="7760" y="253897"/>
                  </a:lnTo>
                  <a:lnTo>
                    <a:pt x="13494" y="245480"/>
                  </a:lnTo>
                  <a:lnTo>
                    <a:pt x="18133" y="237213"/>
                  </a:lnTo>
                  <a:lnTo>
                    <a:pt x="23017" y="230152"/>
                  </a:lnTo>
                  <a:lnTo>
                    <a:pt x="28010" y="223345"/>
                  </a:lnTo>
                  <a:lnTo>
                    <a:pt x="33051" y="214675"/>
                  </a:lnTo>
                  <a:lnTo>
                    <a:pt x="36427" y="209992"/>
                  </a:lnTo>
                  <a:lnTo>
                    <a:pt x="40372" y="205177"/>
                  </a:lnTo>
                  <a:lnTo>
                    <a:pt x="44694" y="200274"/>
                  </a:lnTo>
                  <a:lnTo>
                    <a:pt x="50116" y="195312"/>
                  </a:lnTo>
                  <a:lnTo>
                    <a:pt x="56271" y="190310"/>
                  </a:lnTo>
                  <a:lnTo>
                    <a:pt x="62914" y="185282"/>
                  </a:lnTo>
                  <a:lnTo>
                    <a:pt x="69036" y="180237"/>
                  </a:lnTo>
                  <a:lnTo>
                    <a:pt x="74811" y="175181"/>
                  </a:lnTo>
                  <a:lnTo>
                    <a:pt x="80354" y="170116"/>
                  </a:lnTo>
                  <a:lnTo>
                    <a:pt x="87436" y="165046"/>
                  </a:lnTo>
                  <a:lnTo>
                    <a:pt x="95544" y="159973"/>
                  </a:lnTo>
                  <a:lnTo>
                    <a:pt x="104336" y="154898"/>
                  </a:lnTo>
                  <a:lnTo>
                    <a:pt x="120878" y="144743"/>
                  </a:lnTo>
                  <a:lnTo>
                    <a:pt x="128845" y="139664"/>
                  </a:lnTo>
                  <a:lnTo>
                    <a:pt x="137544" y="134585"/>
                  </a:lnTo>
                  <a:lnTo>
                    <a:pt x="146729" y="129506"/>
                  </a:lnTo>
                  <a:lnTo>
                    <a:pt x="165966" y="119347"/>
                  </a:lnTo>
                  <a:lnTo>
                    <a:pt x="185805" y="109187"/>
                  </a:lnTo>
                  <a:lnTo>
                    <a:pt x="205911" y="101285"/>
                  </a:lnTo>
                  <a:lnTo>
                    <a:pt x="226982" y="94104"/>
                  </a:lnTo>
                  <a:lnTo>
                    <a:pt x="250459" y="85268"/>
                  </a:lnTo>
                  <a:lnTo>
                    <a:pt x="325255" y="55754"/>
                  </a:lnTo>
                  <a:lnTo>
                    <a:pt x="350580" y="47903"/>
                  </a:lnTo>
                  <a:lnTo>
                    <a:pt x="375946" y="40746"/>
                  </a:lnTo>
                  <a:lnTo>
                    <a:pt x="388638" y="36466"/>
                  </a:lnTo>
                  <a:lnTo>
                    <a:pt x="414028" y="28889"/>
                  </a:lnTo>
                  <a:lnTo>
                    <a:pt x="439423" y="25521"/>
                  </a:lnTo>
                  <a:lnTo>
                    <a:pt x="464821" y="19509"/>
                  </a:lnTo>
                  <a:lnTo>
                    <a:pt x="491067" y="12886"/>
                  </a:lnTo>
                  <a:lnTo>
                    <a:pt x="533557" y="8311"/>
                  </a:lnTo>
                  <a:lnTo>
                    <a:pt x="560281" y="4240"/>
                  </a:lnTo>
                  <a:lnTo>
                    <a:pt x="586269" y="1866"/>
                  </a:lnTo>
                  <a:lnTo>
                    <a:pt x="611931" y="811"/>
                  </a:lnTo>
                  <a:lnTo>
                    <a:pt x="650178" y="217"/>
                  </a:lnTo>
                  <a:lnTo>
                    <a:pt x="713732" y="0"/>
                  </a:lnTo>
                  <a:lnTo>
                    <a:pt x="739136" y="2240"/>
                  </a:lnTo>
                  <a:lnTo>
                    <a:pt x="764538" y="5210"/>
                  </a:lnTo>
                  <a:lnTo>
                    <a:pt x="789939" y="6531"/>
                  </a:lnTo>
                  <a:lnTo>
                    <a:pt x="823995" y="11319"/>
                  </a:lnTo>
                  <a:lnTo>
                    <a:pt x="842893" y="17995"/>
                  </a:lnTo>
                  <a:lnTo>
                    <a:pt x="860606" y="25759"/>
                  </a:lnTo>
                  <a:lnTo>
                    <a:pt x="879767" y="32033"/>
                  </a:lnTo>
                  <a:lnTo>
                    <a:pt x="899572" y="39901"/>
                  </a:lnTo>
                  <a:lnTo>
                    <a:pt x="909595" y="44369"/>
                  </a:lnTo>
                  <a:lnTo>
                    <a:pt x="918816" y="49042"/>
                  </a:lnTo>
                  <a:lnTo>
                    <a:pt x="927504" y="53850"/>
                  </a:lnTo>
                  <a:lnTo>
                    <a:pt x="935836" y="58749"/>
                  </a:lnTo>
                  <a:lnTo>
                    <a:pt x="951867" y="68708"/>
                  </a:lnTo>
                  <a:lnTo>
                    <a:pt x="959698" y="73734"/>
                  </a:lnTo>
                  <a:lnTo>
                    <a:pt x="966612" y="78779"/>
                  </a:lnTo>
                  <a:lnTo>
                    <a:pt x="972914" y="83835"/>
                  </a:lnTo>
                  <a:lnTo>
                    <a:pt x="978810" y="88899"/>
                  </a:lnTo>
                  <a:lnTo>
                    <a:pt x="984433" y="93968"/>
                  </a:lnTo>
                  <a:lnTo>
                    <a:pt x="995197" y="104117"/>
                  </a:lnTo>
                  <a:lnTo>
                    <a:pt x="1026117" y="134588"/>
                  </a:lnTo>
                  <a:lnTo>
                    <a:pt x="1031211" y="140514"/>
                  </a:lnTo>
                  <a:lnTo>
                    <a:pt x="1036301" y="147005"/>
                  </a:lnTo>
                  <a:lnTo>
                    <a:pt x="1041387" y="153873"/>
                  </a:lnTo>
                  <a:lnTo>
                    <a:pt x="1045625" y="160144"/>
                  </a:lnTo>
                  <a:lnTo>
                    <a:pt x="1049296" y="166018"/>
                  </a:lnTo>
                  <a:lnTo>
                    <a:pt x="1052591" y="171628"/>
                  </a:lnTo>
                  <a:lnTo>
                    <a:pt x="1055634" y="177061"/>
                  </a:lnTo>
                  <a:lnTo>
                    <a:pt x="1061273" y="187613"/>
                  </a:lnTo>
                  <a:lnTo>
                    <a:pt x="1069208" y="203074"/>
                  </a:lnTo>
                  <a:lnTo>
                    <a:pt x="1072638" y="208185"/>
                  </a:lnTo>
                  <a:lnTo>
                    <a:pt x="1076619" y="213286"/>
                  </a:lnTo>
                  <a:lnTo>
                    <a:pt x="1080966" y="218380"/>
                  </a:lnTo>
                  <a:lnTo>
                    <a:pt x="1083864" y="223469"/>
                  </a:lnTo>
                  <a:lnTo>
                    <a:pt x="1085796" y="228555"/>
                  </a:lnTo>
                  <a:lnTo>
                    <a:pt x="1087083" y="233639"/>
                  </a:lnTo>
                  <a:lnTo>
                    <a:pt x="1090773" y="241546"/>
                  </a:lnTo>
                  <a:lnTo>
                    <a:pt x="1095234" y="248729"/>
                  </a:lnTo>
                  <a:lnTo>
                    <a:pt x="1097610" y="253015"/>
                  </a:lnTo>
                  <a:lnTo>
                    <a:pt x="1101660" y="261446"/>
                  </a:lnTo>
                  <a:lnTo>
                    <a:pt x="1103460" y="268015"/>
                  </a:lnTo>
                  <a:lnTo>
                    <a:pt x="1106517" y="273757"/>
                  </a:lnTo>
                  <a:lnTo>
                    <a:pt x="1112520" y="2819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MARTInkAnnotation193"/>
            <p:cNvSpPr/>
            <p:nvPr/>
          </p:nvSpPr>
          <p:spPr>
            <a:xfrm>
              <a:off x="1159920" y="1897560"/>
              <a:ext cx="264960" cy="2970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65128" h="297100">
                  <a:moveTo>
                    <a:pt x="67007" y="76161"/>
                  </a:moveTo>
                  <a:lnTo>
                    <a:pt x="67007" y="58028"/>
                  </a:lnTo>
                  <a:lnTo>
                    <a:pt x="67854" y="55606"/>
                  </a:lnTo>
                  <a:lnTo>
                    <a:pt x="71052" y="50656"/>
                  </a:lnTo>
                  <a:lnTo>
                    <a:pt x="77613" y="43110"/>
                  </a:lnTo>
                  <a:lnTo>
                    <a:pt x="84703" y="38047"/>
                  </a:lnTo>
                  <a:lnTo>
                    <a:pt x="92652" y="32975"/>
                  </a:lnTo>
                  <a:lnTo>
                    <a:pt x="99007" y="27898"/>
                  </a:lnTo>
                  <a:lnTo>
                    <a:pt x="106911" y="22820"/>
                  </a:lnTo>
                  <a:lnTo>
                    <a:pt x="111390" y="20280"/>
                  </a:lnTo>
                  <a:lnTo>
                    <a:pt x="116915" y="17741"/>
                  </a:lnTo>
                  <a:lnTo>
                    <a:pt x="123139" y="15201"/>
                  </a:lnTo>
                  <a:lnTo>
                    <a:pt x="129829" y="12661"/>
                  </a:lnTo>
                  <a:lnTo>
                    <a:pt x="135135" y="10121"/>
                  </a:lnTo>
                  <a:lnTo>
                    <a:pt x="143288" y="5041"/>
                  </a:lnTo>
                  <a:lnTo>
                    <a:pt x="147494" y="3348"/>
                  </a:lnTo>
                  <a:lnTo>
                    <a:pt x="151992" y="2219"/>
                  </a:lnTo>
                  <a:lnTo>
                    <a:pt x="156683" y="1466"/>
                  </a:lnTo>
                  <a:lnTo>
                    <a:pt x="164154" y="630"/>
                  </a:lnTo>
                  <a:lnTo>
                    <a:pt x="170297" y="258"/>
                  </a:lnTo>
                  <a:lnTo>
                    <a:pt x="179690" y="0"/>
                  </a:lnTo>
                  <a:lnTo>
                    <a:pt x="182846" y="2236"/>
                  </a:lnTo>
                  <a:lnTo>
                    <a:pt x="187726" y="6525"/>
                  </a:lnTo>
                  <a:lnTo>
                    <a:pt x="188571" y="15359"/>
                  </a:lnTo>
                  <a:lnTo>
                    <a:pt x="186511" y="24020"/>
                  </a:lnTo>
                  <a:lnTo>
                    <a:pt x="184776" y="28700"/>
                  </a:lnTo>
                  <a:lnTo>
                    <a:pt x="182773" y="33514"/>
                  </a:lnTo>
                  <a:lnTo>
                    <a:pt x="180591" y="38416"/>
                  </a:lnTo>
                  <a:lnTo>
                    <a:pt x="175909" y="48379"/>
                  </a:lnTo>
                  <a:lnTo>
                    <a:pt x="171005" y="58451"/>
                  </a:lnTo>
                  <a:lnTo>
                    <a:pt x="167666" y="63508"/>
                  </a:lnTo>
                  <a:lnTo>
                    <a:pt x="163746" y="68572"/>
                  </a:lnTo>
                  <a:lnTo>
                    <a:pt x="159440" y="73642"/>
                  </a:lnTo>
                  <a:lnTo>
                    <a:pt x="154876" y="79561"/>
                  </a:lnTo>
                  <a:lnTo>
                    <a:pt x="150139" y="86048"/>
                  </a:lnTo>
                  <a:lnTo>
                    <a:pt x="145288" y="92912"/>
                  </a:lnTo>
                  <a:lnTo>
                    <a:pt x="139515" y="100029"/>
                  </a:lnTo>
                  <a:lnTo>
                    <a:pt x="133125" y="107313"/>
                  </a:lnTo>
                  <a:lnTo>
                    <a:pt x="126326" y="114709"/>
                  </a:lnTo>
                  <a:lnTo>
                    <a:pt x="120100" y="122180"/>
                  </a:lnTo>
                  <a:lnTo>
                    <a:pt x="114255" y="129700"/>
                  </a:lnTo>
                  <a:lnTo>
                    <a:pt x="108666" y="137254"/>
                  </a:lnTo>
                  <a:lnTo>
                    <a:pt x="102400" y="144830"/>
                  </a:lnTo>
                  <a:lnTo>
                    <a:pt x="95682" y="152420"/>
                  </a:lnTo>
                  <a:lnTo>
                    <a:pt x="88664" y="160021"/>
                  </a:lnTo>
                  <a:lnTo>
                    <a:pt x="82291" y="167627"/>
                  </a:lnTo>
                  <a:lnTo>
                    <a:pt x="76350" y="175239"/>
                  </a:lnTo>
                  <a:lnTo>
                    <a:pt x="70696" y="182853"/>
                  </a:lnTo>
                  <a:lnTo>
                    <a:pt x="59898" y="198086"/>
                  </a:lnTo>
                  <a:lnTo>
                    <a:pt x="54647" y="205705"/>
                  </a:lnTo>
                  <a:lnTo>
                    <a:pt x="48607" y="212477"/>
                  </a:lnTo>
                  <a:lnTo>
                    <a:pt x="42040" y="218685"/>
                  </a:lnTo>
                  <a:lnTo>
                    <a:pt x="35123" y="224517"/>
                  </a:lnTo>
                  <a:lnTo>
                    <a:pt x="29664" y="230099"/>
                  </a:lnTo>
                  <a:lnTo>
                    <a:pt x="25179" y="235513"/>
                  </a:lnTo>
                  <a:lnTo>
                    <a:pt x="21341" y="240816"/>
                  </a:lnTo>
                  <a:lnTo>
                    <a:pt x="17936" y="246044"/>
                  </a:lnTo>
                  <a:lnTo>
                    <a:pt x="14820" y="251223"/>
                  </a:lnTo>
                  <a:lnTo>
                    <a:pt x="11896" y="256369"/>
                  </a:lnTo>
                  <a:lnTo>
                    <a:pt x="6389" y="266603"/>
                  </a:lnTo>
                  <a:lnTo>
                    <a:pt x="3735" y="271702"/>
                  </a:lnTo>
                  <a:lnTo>
                    <a:pt x="786" y="279626"/>
                  </a:lnTo>
                  <a:lnTo>
                    <a:pt x="0" y="282924"/>
                  </a:lnTo>
                  <a:lnTo>
                    <a:pt x="322" y="285970"/>
                  </a:lnTo>
                  <a:lnTo>
                    <a:pt x="1384" y="288847"/>
                  </a:lnTo>
                  <a:lnTo>
                    <a:pt x="2938" y="291612"/>
                  </a:lnTo>
                  <a:lnTo>
                    <a:pt x="4821" y="293455"/>
                  </a:lnTo>
                  <a:lnTo>
                    <a:pt x="6923" y="294684"/>
                  </a:lnTo>
                  <a:lnTo>
                    <a:pt x="9171" y="295503"/>
                  </a:lnTo>
                  <a:lnTo>
                    <a:pt x="16184" y="296413"/>
                  </a:lnTo>
                  <a:lnTo>
                    <a:pt x="20425" y="296656"/>
                  </a:lnTo>
                  <a:lnTo>
                    <a:pt x="29653" y="296925"/>
                  </a:lnTo>
                  <a:lnTo>
                    <a:pt x="53419" y="297099"/>
                  </a:lnTo>
                  <a:lnTo>
                    <a:pt x="60489" y="296266"/>
                  </a:lnTo>
                  <a:lnTo>
                    <a:pt x="67741" y="294865"/>
                  </a:lnTo>
                  <a:lnTo>
                    <a:pt x="75116" y="293084"/>
                  </a:lnTo>
                  <a:lnTo>
                    <a:pt x="82573" y="291896"/>
                  </a:lnTo>
                  <a:lnTo>
                    <a:pt x="90085" y="291104"/>
                  </a:lnTo>
                  <a:lnTo>
                    <a:pt x="97632" y="290577"/>
                  </a:lnTo>
                  <a:lnTo>
                    <a:pt x="106050" y="289378"/>
                  </a:lnTo>
                  <a:lnTo>
                    <a:pt x="115049" y="287733"/>
                  </a:lnTo>
                  <a:lnTo>
                    <a:pt x="124435" y="285789"/>
                  </a:lnTo>
                  <a:lnTo>
                    <a:pt x="133232" y="283646"/>
                  </a:lnTo>
                  <a:lnTo>
                    <a:pt x="141637" y="281371"/>
                  </a:lnTo>
                  <a:lnTo>
                    <a:pt x="157750" y="276586"/>
                  </a:lnTo>
                  <a:lnTo>
                    <a:pt x="173377" y="271636"/>
                  </a:lnTo>
                  <a:lnTo>
                    <a:pt x="181100" y="269978"/>
                  </a:lnTo>
                  <a:lnTo>
                    <a:pt x="188789" y="268872"/>
                  </a:lnTo>
                  <a:lnTo>
                    <a:pt x="196455" y="268135"/>
                  </a:lnTo>
                  <a:lnTo>
                    <a:pt x="204105" y="266797"/>
                  </a:lnTo>
                  <a:lnTo>
                    <a:pt x="211746" y="265059"/>
                  </a:lnTo>
                  <a:lnTo>
                    <a:pt x="219380" y="263053"/>
                  </a:lnTo>
                  <a:lnTo>
                    <a:pt x="226162" y="261716"/>
                  </a:lnTo>
                  <a:lnTo>
                    <a:pt x="232377" y="260824"/>
                  </a:lnTo>
                  <a:lnTo>
                    <a:pt x="238214" y="260230"/>
                  </a:lnTo>
                  <a:lnTo>
                    <a:pt x="242952" y="258987"/>
                  </a:lnTo>
                  <a:lnTo>
                    <a:pt x="253665" y="254039"/>
                  </a:lnTo>
                  <a:lnTo>
                    <a:pt x="256639" y="253167"/>
                  </a:lnTo>
                  <a:lnTo>
                    <a:pt x="265127" y="2514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MARTInkAnnotation194"/>
            <p:cNvSpPr/>
            <p:nvPr/>
          </p:nvSpPr>
          <p:spPr>
            <a:xfrm>
              <a:off x="1447920" y="2014920"/>
              <a:ext cx="75960" cy="50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6065" h="50111">
                  <a:moveTo>
                    <a:pt x="76064" y="4390"/>
                  </a:moveTo>
                  <a:lnTo>
                    <a:pt x="72019" y="345"/>
                  </a:lnTo>
                  <a:lnTo>
                    <a:pt x="70827" y="0"/>
                  </a:lnTo>
                  <a:lnTo>
                    <a:pt x="70033" y="617"/>
                  </a:lnTo>
                  <a:lnTo>
                    <a:pt x="69503" y="1875"/>
                  </a:lnTo>
                  <a:lnTo>
                    <a:pt x="68304" y="2713"/>
                  </a:lnTo>
                  <a:lnTo>
                    <a:pt x="66657" y="3272"/>
                  </a:lnTo>
                  <a:lnTo>
                    <a:pt x="64713" y="3645"/>
                  </a:lnTo>
                  <a:lnTo>
                    <a:pt x="62570" y="4740"/>
                  </a:lnTo>
                  <a:lnTo>
                    <a:pt x="60295" y="6317"/>
                  </a:lnTo>
                  <a:lnTo>
                    <a:pt x="57931" y="8215"/>
                  </a:lnTo>
                  <a:lnTo>
                    <a:pt x="54662" y="10326"/>
                  </a:lnTo>
                  <a:lnTo>
                    <a:pt x="50790" y="12581"/>
                  </a:lnTo>
                  <a:lnTo>
                    <a:pt x="46515" y="14931"/>
                  </a:lnTo>
                  <a:lnTo>
                    <a:pt x="37249" y="19800"/>
                  </a:lnTo>
                  <a:lnTo>
                    <a:pt x="32407" y="22283"/>
                  </a:lnTo>
                  <a:lnTo>
                    <a:pt x="28333" y="23939"/>
                  </a:lnTo>
                  <a:lnTo>
                    <a:pt x="24770" y="25043"/>
                  </a:lnTo>
                  <a:lnTo>
                    <a:pt x="21548" y="25779"/>
                  </a:lnTo>
                  <a:lnTo>
                    <a:pt x="18554" y="26269"/>
                  </a:lnTo>
                  <a:lnTo>
                    <a:pt x="15710" y="26596"/>
                  </a:lnTo>
                  <a:lnTo>
                    <a:pt x="12968" y="26814"/>
                  </a:lnTo>
                  <a:lnTo>
                    <a:pt x="10294" y="26960"/>
                  </a:lnTo>
                  <a:lnTo>
                    <a:pt x="5064" y="27121"/>
                  </a:lnTo>
                  <a:lnTo>
                    <a:pt x="3331" y="28011"/>
                  </a:lnTo>
                  <a:lnTo>
                    <a:pt x="2175" y="29451"/>
                  </a:lnTo>
                  <a:lnTo>
                    <a:pt x="0" y="34553"/>
                  </a:lnTo>
                  <a:lnTo>
                    <a:pt x="801" y="33812"/>
                  </a:lnTo>
                  <a:lnTo>
                    <a:pt x="3950" y="30731"/>
                  </a:lnTo>
                  <a:lnTo>
                    <a:pt x="6821" y="29571"/>
                  </a:lnTo>
                  <a:lnTo>
                    <a:pt x="10429" y="28797"/>
                  </a:lnTo>
                  <a:lnTo>
                    <a:pt x="14527" y="28282"/>
                  </a:lnTo>
                  <a:lnTo>
                    <a:pt x="18106" y="27938"/>
                  </a:lnTo>
                  <a:lnTo>
                    <a:pt x="21339" y="27709"/>
                  </a:lnTo>
                  <a:lnTo>
                    <a:pt x="24341" y="27556"/>
                  </a:lnTo>
                  <a:lnTo>
                    <a:pt x="32192" y="27386"/>
                  </a:lnTo>
                  <a:lnTo>
                    <a:pt x="60348" y="27251"/>
                  </a:lnTo>
                  <a:lnTo>
                    <a:pt x="56638" y="27251"/>
                  </a:lnTo>
                  <a:lnTo>
                    <a:pt x="55494" y="28097"/>
                  </a:lnTo>
                  <a:lnTo>
                    <a:pt x="54731" y="29508"/>
                  </a:lnTo>
                  <a:lnTo>
                    <a:pt x="54222" y="31296"/>
                  </a:lnTo>
                  <a:lnTo>
                    <a:pt x="53036" y="32487"/>
                  </a:lnTo>
                  <a:lnTo>
                    <a:pt x="51399" y="33282"/>
                  </a:lnTo>
                  <a:lnTo>
                    <a:pt x="49460" y="33811"/>
                  </a:lnTo>
                  <a:lnTo>
                    <a:pt x="46475" y="35011"/>
                  </a:lnTo>
                  <a:lnTo>
                    <a:pt x="42791" y="36657"/>
                  </a:lnTo>
                  <a:lnTo>
                    <a:pt x="38642" y="38602"/>
                  </a:lnTo>
                  <a:lnTo>
                    <a:pt x="35030" y="39898"/>
                  </a:lnTo>
                  <a:lnTo>
                    <a:pt x="31774" y="40762"/>
                  </a:lnTo>
                  <a:lnTo>
                    <a:pt x="28758" y="41338"/>
                  </a:lnTo>
                  <a:lnTo>
                    <a:pt x="25900" y="41722"/>
                  </a:lnTo>
                  <a:lnTo>
                    <a:pt x="23148" y="41978"/>
                  </a:lnTo>
                  <a:lnTo>
                    <a:pt x="20467" y="42149"/>
                  </a:lnTo>
                  <a:lnTo>
                    <a:pt x="18679" y="43110"/>
                  </a:lnTo>
                  <a:lnTo>
                    <a:pt x="17488" y="44597"/>
                  </a:lnTo>
                  <a:lnTo>
                    <a:pt x="15104" y="50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MARTInkAnnotation195"/>
            <p:cNvSpPr/>
            <p:nvPr/>
          </p:nvSpPr>
          <p:spPr>
            <a:xfrm>
              <a:off x="1600920" y="1943280"/>
              <a:ext cx="263160" cy="25524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263437" h="255530">
                  <a:moveTo>
                    <a:pt x="90936" y="0"/>
                  </a:moveTo>
                  <a:lnTo>
                    <a:pt x="84375" y="0"/>
                  </a:lnTo>
                  <a:lnTo>
                    <a:pt x="76595" y="6084"/>
                  </a:lnTo>
                  <a:lnTo>
                    <a:pt x="68758" y="10606"/>
                  </a:lnTo>
                  <a:lnTo>
                    <a:pt x="64297" y="12151"/>
                  </a:lnTo>
                  <a:lnTo>
                    <a:pt x="59630" y="13180"/>
                  </a:lnTo>
                  <a:lnTo>
                    <a:pt x="54826" y="13867"/>
                  </a:lnTo>
                  <a:lnTo>
                    <a:pt x="50776" y="16018"/>
                  </a:lnTo>
                  <a:lnTo>
                    <a:pt x="44018" y="22924"/>
                  </a:lnTo>
                  <a:lnTo>
                    <a:pt x="39338" y="26289"/>
                  </a:lnTo>
                  <a:lnTo>
                    <a:pt x="33677" y="29379"/>
                  </a:lnTo>
                  <a:lnTo>
                    <a:pt x="27363" y="32286"/>
                  </a:lnTo>
                  <a:lnTo>
                    <a:pt x="22308" y="35071"/>
                  </a:lnTo>
                  <a:lnTo>
                    <a:pt x="14432" y="40423"/>
                  </a:lnTo>
                  <a:lnTo>
                    <a:pt x="8110" y="45623"/>
                  </a:lnTo>
                  <a:lnTo>
                    <a:pt x="5239" y="48196"/>
                  </a:lnTo>
                  <a:lnTo>
                    <a:pt x="3324" y="50757"/>
                  </a:lnTo>
                  <a:lnTo>
                    <a:pt x="1198" y="55861"/>
                  </a:lnTo>
                  <a:lnTo>
                    <a:pt x="0" y="63494"/>
                  </a:lnTo>
                  <a:lnTo>
                    <a:pt x="679" y="65190"/>
                  </a:lnTo>
                  <a:lnTo>
                    <a:pt x="1978" y="66320"/>
                  </a:lnTo>
                  <a:lnTo>
                    <a:pt x="7373" y="68422"/>
                  </a:lnTo>
                  <a:lnTo>
                    <a:pt x="38633" y="79054"/>
                  </a:lnTo>
                  <a:lnTo>
                    <a:pt x="46754" y="80643"/>
                  </a:lnTo>
                  <a:lnTo>
                    <a:pt x="55555" y="81702"/>
                  </a:lnTo>
                  <a:lnTo>
                    <a:pt x="64809" y="82408"/>
                  </a:lnTo>
                  <a:lnTo>
                    <a:pt x="75211" y="82878"/>
                  </a:lnTo>
                  <a:lnTo>
                    <a:pt x="98058" y="83402"/>
                  </a:lnTo>
                  <a:lnTo>
                    <a:pt x="110077" y="85234"/>
                  </a:lnTo>
                  <a:lnTo>
                    <a:pt x="122324" y="88150"/>
                  </a:lnTo>
                  <a:lnTo>
                    <a:pt x="146373" y="95058"/>
                  </a:lnTo>
                  <a:lnTo>
                    <a:pt x="189407" y="106391"/>
                  </a:lnTo>
                  <a:lnTo>
                    <a:pt x="199763" y="109028"/>
                  </a:lnTo>
                  <a:lnTo>
                    <a:pt x="209207" y="112478"/>
                  </a:lnTo>
                  <a:lnTo>
                    <a:pt x="218044" y="116472"/>
                  </a:lnTo>
                  <a:lnTo>
                    <a:pt x="226475" y="120828"/>
                  </a:lnTo>
                  <a:lnTo>
                    <a:pt x="232942" y="124579"/>
                  </a:lnTo>
                  <a:lnTo>
                    <a:pt x="238100" y="127926"/>
                  </a:lnTo>
                  <a:lnTo>
                    <a:pt x="242385" y="131004"/>
                  </a:lnTo>
                  <a:lnTo>
                    <a:pt x="246935" y="134749"/>
                  </a:lnTo>
                  <a:lnTo>
                    <a:pt x="251662" y="138940"/>
                  </a:lnTo>
                  <a:lnTo>
                    <a:pt x="256507" y="143427"/>
                  </a:lnTo>
                  <a:lnTo>
                    <a:pt x="259737" y="148111"/>
                  </a:lnTo>
                  <a:lnTo>
                    <a:pt x="261890" y="152927"/>
                  </a:lnTo>
                  <a:lnTo>
                    <a:pt x="263325" y="157832"/>
                  </a:lnTo>
                  <a:lnTo>
                    <a:pt x="263436" y="162794"/>
                  </a:lnTo>
                  <a:lnTo>
                    <a:pt x="262662" y="167796"/>
                  </a:lnTo>
                  <a:lnTo>
                    <a:pt x="261300" y="172824"/>
                  </a:lnTo>
                  <a:lnTo>
                    <a:pt x="259545" y="177869"/>
                  </a:lnTo>
                  <a:lnTo>
                    <a:pt x="257529" y="182926"/>
                  </a:lnTo>
                  <a:lnTo>
                    <a:pt x="255338" y="187991"/>
                  </a:lnTo>
                  <a:lnTo>
                    <a:pt x="252184" y="192214"/>
                  </a:lnTo>
                  <a:lnTo>
                    <a:pt x="244164" y="199164"/>
                  </a:lnTo>
                  <a:lnTo>
                    <a:pt x="238808" y="203049"/>
                  </a:lnTo>
                  <a:lnTo>
                    <a:pt x="226084" y="211882"/>
                  </a:lnTo>
                  <a:lnTo>
                    <a:pt x="204640" y="226375"/>
                  </a:lnTo>
                  <a:lnTo>
                    <a:pt x="196372" y="230503"/>
                  </a:lnTo>
                  <a:lnTo>
                    <a:pt x="187473" y="234102"/>
                  </a:lnTo>
                  <a:lnTo>
                    <a:pt x="152903" y="245962"/>
                  </a:lnTo>
                  <a:lnTo>
                    <a:pt x="144101" y="247795"/>
                  </a:lnTo>
                  <a:lnTo>
                    <a:pt x="134846" y="249017"/>
                  </a:lnTo>
                  <a:lnTo>
                    <a:pt x="125289" y="249831"/>
                  </a:lnTo>
                  <a:lnTo>
                    <a:pt x="116378" y="251221"/>
                  </a:lnTo>
                  <a:lnTo>
                    <a:pt x="107898" y="252994"/>
                  </a:lnTo>
                  <a:lnTo>
                    <a:pt x="99704" y="255023"/>
                  </a:lnTo>
                  <a:lnTo>
                    <a:pt x="90855" y="255529"/>
                  </a:lnTo>
                  <a:lnTo>
                    <a:pt x="81569" y="255019"/>
                  </a:lnTo>
                  <a:lnTo>
                    <a:pt x="71991" y="253833"/>
                  </a:lnTo>
                  <a:lnTo>
                    <a:pt x="64759" y="253042"/>
                  </a:lnTo>
                  <a:lnTo>
                    <a:pt x="59091" y="252515"/>
                  </a:lnTo>
                  <a:lnTo>
                    <a:pt x="54466" y="252163"/>
                  </a:lnTo>
                  <a:lnTo>
                    <a:pt x="47070" y="251772"/>
                  </a:lnTo>
                  <a:lnTo>
                    <a:pt x="37596" y="2514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MARTInkAnnotation196"/>
            <p:cNvSpPr/>
            <p:nvPr/>
          </p:nvSpPr>
          <p:spPr>
            <a:xfrm>
              <a:off x="1676520" y="1928160"/>
              <a:ext cx="190440" cy="15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0501" h="15241">
                  <a:moveTo>
                    <a:pt x="0" y="15240"/>
                  </a:moveTo>
                  <a:lnTo>
                    <a:pt x="6561" y="8679"/>
                  </a:lnTo>
                  <a:lnTo>
                    <a:pt x="8607" y="8326"/>
                  </a:lnTo>
                  <a:lnTo>
                    <a:pt x="11665" y="8091"/>
                  </a:lnTo>
                  <a:lnTo>
                    <a:pt x="18731" y="7829"/>
                  </a:lnTo>
                  <a:lnTo>
                    <a:pt x="28316" y="7682"/>
                  </a:lnTo>
                  <a:lnTo>
                    <a:pt x="103271" y="7621"/>
                  </a:lnTo>
                  <a:lnTo>
                    <a:pt x="112874" y="6774"/>
                  </a:lnTo>
                  <a:lnTo>
                    <a:pt x="122663" y="5363"/>
                  </a:lnTo>
                  <a:lnTo>
                    <a:pt x="132575" y="3575"/>
                  </a:lnTo>
                  <a:lnTo>
                    <a:pt x="142570" y="2384"/>
                  </a:lnTo>
                  <a:lnTo>
                    <a:pt x="152620" y="1589"/>
                  </a:lnTo>
                  <a:lnTo>
                    <a:pt x="176172" y="471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MARTInkAnnotation197"/>
            <p:cNvSpPr/>
            <p:nvPr/>
          </p:nvSpPr>
          <p:spPr>
            <a:xfrm>
              <a:off x="1935720" y="1958400"/>
              <a:ext cx="152280" cy="25884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52308" h="259081">
                  <a:moveTo>
                    <a:pt x="144780" y="0"/>
                  </a:moveTo>
                  <a:lnTo>
                    <a:pt x="144780" y="4046"/>
                  </a:lnTo>
                  <a:lnTo>
                    <a:pt x="145627" y="6084"/>
                  </a:lnTo>
                  <a:lnTo>
                    <a:pt x="150017" y="12151"/>
                  </a:lnTo>
                  <a:lnTo>
                    <a:pt x="151341" y="13867"/>
                  </a:lnTo>
                  <a:lnTo>
                    <a:pt x="151929" y="19146"/>
                  </a:lnTo>
                  <a:lnTo>
                    <a:pt x="152191" y="27136"/>
                  </a:lnTo>
                  <a:lnTo>
                    <a:pt x="152307" y="36332"/>
                  </a:lnTo>
                  <a:lnTo>
                    <a:pt x="150645" y="42001"/>
                  </a:lnTo>
                  <a:lnTo>
                    <a:pt x="147843" y="48321"/>
                  </a:lnTo>
                  <a:lnTo>
                    <a:pt x="144282" y="55074"/>
                  </a:lnTo>
                  <a:lnTo>
                    <a:pt x="141061" y="62116"/>
                  </a:lnTo>
                  <a:lnTo>
                    <a:pt x="138068" y="69351"/>
                  </a:lnTo>
                  <a:lnTo>
                    <a:pt x="135225" y="76714"/>
                  </a:lnTo>
                  <a:lnTo>
                    <a:pt x="132483" y="83316"/>
                  </a:lnTo>
                  <a:lnTo>
                    <a:pt x="129809" y="89411"/>
                  </a:lnTo>
                  <a:lnTo>
                    <a:pt x="127179" y="95167"/>
                  </a:lnTo>
                  <a:lnTo>
                    <a:pt x="124580" y="101545"/>
                  </a:lnTo>
                  <a:lnTo>
                    <a:pt x="121999" y="108337"/>
                  </a:lnTo>
                  <a:lnTo>
                    <a:pt x="119433" y="115405"/>
                  </a:lnTo>
                  <a:lnTo>
                    <a:pt x="116029" y="122657"/>
                  </a:lnTo>
                  <a:lnTo>
                    <a:pt x="112066" y="130031"/>
                  </a:lnTo>
                  <a:lnTo>
                    <a:pt x="107730" y="137488"/>
                  </a:lnTo>
                  <a:lnTo>
                    <a:pt x="98398" y="152546"/>
                  </a:lnTo>
                  <a:lnTo>
                    <a:pt x="78609" y="182909"/>
                  </a:lnTo>
                  <a:lnTo>
                    <a:pt x="73573" y="189673"/>
                  </a:lnTo>
                  <a:lnTo>
                    <a:pt x="68522" y="195875"/>
                  </a:lnTo>
                  <a:lnTo>
                    <a:pt x="63461" y="201704"/>
                  </a:lnTo>
                  <a:lnTo>
                    <a:pt x="58394" y="207282"/>
                  </a:lnTo>
                  <a:lnTo>
                    <a:pt x="48249" y="217997"/>
                  </a:lnTo>
                  <a:lnTo>
                    <a:pt x="33017" y="233549"/>
                  </a:lnTo>
                  <a:lnTo>
                    <a:pt x="27937" y="237826"/>
                  </a:lnTo>
                  <a:lnTo>
                    <a:pt x="22859" y="241524"/>
                  </a:lnTo>
                  <a:lnTo>
                    <a:pt x="17779" y="244836"/>
                  </a:lnTo>
                  <a:lnTo>
                    <a:pt x="13546" y="247891"/>
                  </a:lnTo>
                  <a:lnTo>
                    <a:pt x="9877" y="250774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MARTInkAnnotation198"/>
            <p:cNvSpPr/>
            <p:nvPr/>
          </p:nvSpPr>
          <p:spPr>
            <a:xfrm>
              <a:off x="1928160" y="2034720"/>
              <a:ext cx="220680" cy="190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20981" h="190501">
                  <a:moveTo>
                    <a:pt x="0" y="0"/>
                  </a:moveTo>
                  <a:lnTo>
                    <a:pt x="0" y="4046"/>
                  </a:lnTo>
                  <a:lnTo>
                    <a:pt x="847" y="5237"/>
                  </a:lnTo>
                  <a:lnTo>
                    <a:pt x="2258" y="6032"/>
                  </a:lnTo>
                  <a:lnTo>
                    <a:pt x="8607" y="8258"/>
                  </a:lnTo>
                  <a:lnTo>
                    <a:pt x="15397" y="11573"/>
                  </a:lnTo>
                  <a:lnTo>
                    <a:pt x="21801" y="13610"/>
                  </a:lnTo>
                  <a:lnTo>
                    <a:pt x="24694" y="14154"/>
                  </a:lnTo>
                  <a:lnTo>
                    <a:pt x="28316" y="16209"/>
                  </a:lnTo>
                  <a:lnTo>
                    <a:pt x="32424" y="19273"/>
                  </a:lnTo>
                  <a:lnTo>
                    <a:pt x="36856" y="23009"/>
                  </a:lnTo>
                  <a:lnTo>
                    <a:pt x="41504" y="26346"/>
                  </a:lnTo>
                  <a:lnTo>
                    <a:pt x="46296" y="29417"/>
                  </a:lnTo>
                  <a:lnTo>
                    <a:pt x="51184" y="32312"/>
                  </a:lnTo>
                  <a:lnTo>
                    <a:pt x="55289" y="35935"/>
                  </a:lnTo>
                  <a:lnTo>
                    <a:pt x="58873" y="40043"/>
                  </a:lnTo>
                  <a:lnTo>
                    <a:pt x="62109" y="44476"/>
                  </a:lnTo>
                  <a:lnTo>
                    <a:pt x="70220" y="56174"/>
                  </a:lnTo>
                  <a:lnTo>
                    <a:pt x="74753" y="62849"/>
                  </a:lnTo>
                  <a:lnTo>
                    <a:pt x="80315" y="68993"/>
                  </a:lnTo>
                  <a:lnTo>
                    <a:pt x="86564" y="74782"/>
                  </a:lnTo>
                  <a:lnTo>
                    <a:pt x="93269" y="80335"/>
                  </a:lnTo>
                  <a:lnTo>
                    <a:pt x="98586" y="86577"/>
                  </a:lnTo>
                  <a:lnTo>
                    <a:pt x="102977" y="93278"/>
                  </a:lnTo>
                  <a:lnTo>
                    <a:pt x="106752" y="100285"/>
                  </a:lnTo>
                  <a:lnTo>
                    <a:pt x="111808" y="107497"/>
                  </a:lnTo>
                  <a:lnTo>
                    <a:pt x="117719" y="114845"/>
                  </a:lnTo>
                  <a:lnTo>
                    <a:pt x="124199" y="122283"/>
                  </a:lnTo>
                  <a:lnTo>
                    <a:pt x="131060" y="128936"/>
                  </a:lnTo>
                  <a:lnTo>
                    <a:pt x="138173" y="135064"/>
                  </a:lnTo>
                  <a:lnTo>
                    <a:pt x="145456" y="140843"/>
                  </a:lnTo>
                  <a:lnTo>
                    <a:pt x="152851" y="146389"/>
                  </a:lnTo>
                  <a:lnTo>
                    <a:pt x="167840" y="157066"/>
                  </a:lnTo>
                  <a:lnTo>
                    <a:pt x="190560" y="172598"/>
                  </a:lnTo>
                  <a:lnTo>
                    <a:pt x="197313" y="176872"/>
                  </a:lnTo>
                  <a:lnTo>
                    <a:pt x="203509" y="180568"/>
                  </a:lnTo>
                  <a:lnTo>
                    <a:pt x="220980" y="1905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SMARTInkAnnotation199"/>
            <p:cNvSpPr/>
            <p:nvPr/>
          </p:nvSpPr>
          <p:spPr>
            <a:xfrm>
              <a:off x="2339640" y="1965960"/>
              <a:ext cx="68400" cy="266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68581" h="266701">
                  <a:moveTo>
                    <a:pt x="68580" y="0"/>
                  </a:moveTo>
                  <a:lnTo>
                    <a:pt x="68580" y="36045"/>
                  </a:lnTo>
                  <a:lnTo>
                    <a:pt x="67734" y="40963"/>
                  </a:lnTo>
                  <a:lnTo>
                    <a:pt x="66322" y="45936"/>
                  </a:lnTo>
                  <a:lnTo>
                    <a:pt x="60292" y="63282"/>
                  </a:lnTo>
                  <a:lnTo>
                    <a:pt x="20319" y="182883"/>
                  </a:lnTo>
                  <a:lnTo>
                    <a:pt x="17780" y="189656"/>
                  </a:lnTo>
                  <a:lnTo>
                    <a:pt x="15240" y="195864"/>
                  </a:lnTo>
                  <a:lnTo>
                    <a:pt x="12700" y="201696"/>
                  </a:lnTo>
                  <a:lnTo>
                    <a:pt x="11007" y="207277"/>
                  </a:lnTo>
                  <a:lnTo>
                    <a:pt x="9878" y="212692"/>
                  </a:lnTo>
                  <a:lnTo>
                    <a:pt x="9125" y="217994"/>
                  </a:lnTo>
                  <a:lnTo>
                    <a:pt x="8624" y="223223"/>
                  </a:lnTo>
                  <a:lnTo>
                    <a:pt x="8289" y="228402"/>
                  </a:lnTo>
                  <a:lnTo>
                    <a:pt x="8066" y="233548"/>
                  </a:lnTo>
                  <a:lnTo>
                    <a:pt x="7071" y="237825"/>
                  </a:lnTo>
                  <a:lnTo>
                    <a:pt x="5561" y="241523"/>
                  </a:lnTo>
                  <a:lnTo>
                    <a:pt x="3707" y="244835"/>
                  </a:lnTo>
                  <a:lnTo>
                    <a:pt x="1648" y="250773"/>
                  </a:lnTo>
                  <a:lnTo>
                    <a:pt x="217" y="258833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MARTInkAnnotation200"/>
            <p:cNvSpPr/>
            <p:nvPr/>
          </p:nvSpPr>
          <p:spPr>
            <a:xfrm>
              <a:off x="2278440" y="2111040"/>
              <a:ext cx="228600" cy="15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8601" h="15233">
                  <a:moveTo>
                    <a:pt x="0" y="7612"/>
                  </a:moveTo>
                  <a:lnTo>
                    <a:pt x="8091" y="7612"/>
                  </a:lnTo>
                  <a:lnTo>
                    <a:pt x="10473" y="6766"/>
                  </a:lnTo>
                  <a:lnTo>
                    <a:pt x="12062" y="5354"/>
                  </a:lnTo>
                  <a:lnTo>
                    <a:pt x="13121" y="3567"/>
                  </a:lnTo>
                  <a:lnTo>
                    <a:pt x="15521" y="2375"/>
                  </a:lnTo>
                  <a:lnTo>
                    <a:pt x="18814" y="1581"/>
                  </a:lnTo>
                  <a:lnTo>
                    <a:pt x="22703" y="1052"/>
                  </a:lnTo>
                  <a:lnTo>
                    <a:pt x="27835" y="698"/>
                  </a:lnTo>
                  <a:lnTo>
                    <a:pt x="33797" y="463"/>
                  </a:lnTo>
                  <a:lnTo>
                    <a:pt x="47194" y="202"/>
                  </a:lnTo>
                  <a:lnTo>
                    <a:pt x="110783" y="0"/>
                  </a:lnTo>
                  <a:lnTo>
                    <a:pt x="120422" y="844"/>
                  </a:lnTo>
                  <a:lnTo>
                    <a:pt x="130235" y="2254"/>
                  </a:lnTo>
                  <a:lnTo>
                    <a:pt x="140163" y="4040"/>
                  </a:lnTo>
                  <a:lnTo>
                    <a:pt x="150169" y="5231"/>
                  </a:lnTo>
                  <a:lnTo>
                    <a:pt x="160226" y="6025"/>
                  </a:lnTo>
                  <a:lnTo>
                    <a:pt x="170317" y="6554"/>
                  </a:lnTo>
                  <a:lnTo>
                    <a:pt x="180432" y="7753"/>
                  </a:lnTo>
                  <a:lnTo>
                    <a:pt x="190561" y="9400"/>
                  </a:lnTo>
                  <a:lnTo>
                    <a:pt x="200701" y="11344"/>
                  </a:lnTo>
                  <a:lnTo>
                    <a:pt x="208307" y="12640"/>
                  </a:lnTo>
                  <a:lnTo>
                    <a:pt x="214224" y="13504"/>
                  </a:lnTo>
                  <a:lnTo>
                    <a:pt x="228600" y="15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MARTInkAnnotation201"/>
            <p:cNvSpPr/>
            <p:nvPr/>
          </p:nvSpPr>
          <p:spPr>
            <a:xfrm>
              <a:off x="2674800" y="1958760"/>
              <a:ext cx="280800" cy="2815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1026" h="281682">
                  <a:moveTo>
                    <a:pt x="0" y="60834"/>
                  </a:moveTo>
                  <a:lnTo>
                    <a:pt x="4045" y="60834"/>
                  </a:lnTo>
                  <a:lnTo>
                    <a:pt x="5237" y="59987"/>
                  </a:lnTo>
                  <a:lnTo>
                    <a:pt x="6031" y="58576"/>
                  </a:lnTo>
                  <a:lnTo>
                    <a:pt x="6561" y="56789"/>
                  </a:lnTo>
                  <a:lnTo>
                    <a:pt x="9407" y="52545"/>
                  </a:lnTo>
                  <a:lnTo>
                    <a:pt x="11352" y="50228"/>
                  </a:lnTo>
                  <a:lnTo>
                    <a:pt x="14341" y="48683"/>
                  </a:lnTo>
                  <a:lnTo>
                    <a:pt x="26639" y="45663"/>
                  </a:lnTo>
                  <a:lnTo>
                    <a:pt x="31306" y="43946"/>
                  </a:lnTo>
                  <a:lnTo>
                    <a:pt x="36111" y="41956"/>
                  </a:lnTo>
                  <a:lnTo>
                    <a:pt x="41854" y="39782"/>
                  </a:lnTo>
                  <a:lnTo>
                    <a:pt x="55009" y="35109"/>
                  </a:lnTo>
                  <a:lnTo>
                    <a:pt x="62919" y="31830"/>
                  </a:lnTo>
                  <a:lnTo>
                    <a:pt x="71580" y="27952"/>
                  </a:lnTo>
                  <a:lnTo>
                    <a:pt x="80740" y="23673"/>
                  </a:lnTo>
                  <a:lnTo>
                    <a:pt x="89386" y="20820"/>
                  </a:lnTo>
                  <a:lnTo>
                    <a:pt x="97691" y="18918"/>
                  </a:lnTo>
                  <a:lnTo>
                    <a:pt x="105767" y="17650"/>
                  </a:lnTo>
                  <a:lnTo>
                    <a:pt x="114538" y="15958"/>
                  </a:lnTo>
                  <a:lnTo>
                    <a:pt x="133315" y="11820"/>
                  </a:lnTo>
                  <a:lnTo>
                    <a:pt x="162926" y="4731"/>
                  </a:lnTo>
                  <a:lnTo>
                    <a:pt x="171270" y="3112"/>
                  </a:lnTo>
                  <a:lnTo>
                    <a:pt x="178527" y="2033"/>
                  </a:lnTo>
                  <a:lnTo>
                    <a:pt x="185058" y="1313"/>
                  </a:lnTo>
                  <a:lnTo>
                    <a:pt x="191105" y="833"/>
                  </a:lnTo>
                  <a:lnTo>
                    <a:pt x="196830" y="513"/>
                  </a:lnTo>
                  <a:lnTo>
                    <a:pt x="210095" y="0"/>
                  </a:lnTo>
                  <a:lnTo>
                    <a:pt x="211183" y="805"/>
                  </a:lnTo>
                  <a:lnTo>
                    <a:pt x="211909" y="2188"/>
                  </a:lnTo>
                  <a:lnTo>
                    <a:pt x="212393" y="3956"/>
                  </a:lnTo>
                  <a:lnTo>
                    <a:pt x="211868" y="5983"/>
                  </a:lnTo>
                  <a:lnTo>
                    <a:pt x="209028" y="10491"/>
                  </a:lnTo>
                  <a:lnTo>
                    <a:pt x="202686" y="15317"/>
                  </a:lnTo>
                  <a:lnTo>
                    <a:pt x="198624" y="17789"/>
                  </a:lnTo>
                  <a:lnTo>
                    <a:pt x="180772" y="29359"/>
                  </a:lnTo>
                  <a:lnTo>
                    <a:pt x="159395" y="43512"/>
                  </a:lnTo>
                  <a:lnTo>
                    <a:pt x="152830" y="48439"/>
                  </a:lnTo>
                  <a:lnTo>
                    <a:pt x="146760" y="53418"/>
                  </a:lnTo>
                  <a:lnTo>
                    <a:pt x="141020" y="58430"/>
                  </a:lnTo>
                  <a:lnTo>
                    <a:pt x="134653" y="62618"/>
                  </a:lnTo>
                  <a:lnTo>
                    <a:pt x="127869" y="66256"/>
                  </a:lnTo>
                  <a:lnTo>
                    <a:pt x="120806" y="69529"/>
                  </a:lnTo>
                  <a:lnTo>
                    <a:pt x="114404" y="73404"/>
                  </a:lnTo>
                  <a:lnTo>
                    <a:pt x="108443" y="77681"/>
                  </a:lnTo>
                  <a:lnTo>
                    <a:pt x="102775" y="82225"/>
                  </a:lnTo>
                  <a:lnTo>
                    <a:pt x="97304" y="86948"/>
                  </a:lnTo>
                  <a:lnTo>
                    <a:pt x="91962" y="91790"/>
                  </a:lnTo>
                  <a:lnTo>
                    <a:pt x="86708" y="96711"/>
                  </a:lnTo>
                  <a:lnTo>
                    <a:pt x="80871" y="104437"/>
                  </a:lnTo>
                  <a:lnTo>
                    <a:pt x="78276" y="110693"/>
                  </a:lnTo>
                  <a:lnTo>
                    <a:pt x="77123" y="116296"/>
                  </a:lnTo>
                  <a:lnTo>
                    <a:pt x="79355" y="118975"/>
                  </a:lnTo>
                  <a:lnTo>
                    <a:pt x="83384" y="121608"/>
                  </a:lnTo>
                  <a:lnTo>
                    <a:pt x="104054" y="131917"/>
                  </a:lnTo>
                  <a:lnTo>
                    <a:pt x="110856" y="133623"/>
                  </a:lnTo>
                  <a:lnTo>
                    <a:pt x="118777" y="134760"/>
                  </a:lnTo>
                  <a:lnTo>
                    <a:pt x="127445" y="135518"/>
                  </a:lnTo>
                  <a:lnTo>
                    <a:pt x="136610" y="136870"/>
                  </a:lnTo>
                  <a:lnTo>
                    <a:pt x="146107" y="138618"/>
                  </a:lnTo>
                  <a:lnTo>
                    <a:pt x="165690" y="142818"/>
                  </a:lnTo>
                  <a:lnTo>
                    <a:pt x="205857" y="152413"/>
                  </a:lnTo>
                  <a:lnTo>
                    <a:pt x="215978" y="154907"/>
                  </a:lnTo>
                  <a:lnTo>
                    <a:pt x="224418" y="157416"/>
                  </a:lnTo>
                  <a:lnTo>
                    <a:pt x="231739" y="159935"/>
                  </a:lnTo>
                  <a:lnTo>
                    <a:pt x="238313" y="162462"/>
                  </a:lnTo>
                  <a:lnTo>
                    <a:pt x="244389" y="165839"/>
                  </a:lnTo>
                  <a:lnTo>
                    <a:pt x="250132" y="169784"/>
                  </a:lnTo>
                  <a:lnTo>
                    <a:pt x="255655" y="174107"/>
                  </a:lnTo>
                  <a:lnTo>
                    <a:pt x="261030" y="177836"/>
                  </a:lnTo>
                  <a:lnTo>
                    <a:pt x="266306" y="181169"/>
                  </a:lnTo>
                  <a:lnTo>
                    <a:pt x="271518" y="184237"/>
                  </a:lnTo>
                  <a:lnTo>
                    <a:pt x="274992" y="187130"/>
                  </a:lnTo>
                  <a:lnTo>
                    <a:pt x="277308" y="189904"/>
                  </a:lnTo>
                  <a:lnTo>
                    <a:pt x="278852" y="192601"/>
                  </a:lnTo>
                  <a:lnTo>
                    <a:pt x="280567" y="200113"/>
                  </a:lnTo>
                  <a:lnTo>
                    <a:pt x="281025" y="204486"/>
                  </a:lnTo>
                  <a:lnTo>
                    <a:pt x="280484" y="208249"/>
                  </a:lnTo>
                  <a:lnTo>
                    <a:pt x="277624" y="214687"/>
                  </a:lnTo>
                  <a:lnTo>
                    <a:pt x="271273" y="222629"/>
                  </a:lnTo>
                  <a:lnTo>
                    <a:pt x="267209" y="227117"/>
                  </a:lnTo>
                  <a:lnTo>
                    <a:pt x="263652" y="231803"/>
                  </a:lnTo>
                  <a:lnTo>
                    <a:pt x="260435" y="236620"/>
                  </a:lnTo>
                  <a:lnTo>
                    <a:pt x="257443" y="241525"/>
                  </a:lnTo>
                  <a:lnTo>
                    <a:pt x="249604" y="249232"/>
                  </a:lnTo>
                  <a:lnTo>
                    <a:pt x="245142" y="252473"/>
                  </a:lnTo>
                  <a:lnTo>
                    <a:pt x="239628" y="255480"/>
                  </a:lnTo>
                  <a:lnTo>
                    <a:pt x="233412" y="258331"/>
                  </a:lnTo>
                  <a:lnTo>
                    <a:pt x="226728" y="261079"/>
                  </a:lnTo>
                  <a:lnTo>
                    <a:pt x="218886" y="263757"/>
                  </a:lnTo>
                  <a:lnTo>
                    <a:pt x="210270" y="266389"/>
                  </a:lnTo>
                  <a:lnTo>
                    <a:pt x="192513" y="271572"/>
                  </a:lnTo>
                  <a:lnTo>
                    <a:pt x="176155" y="276698"/>
                  </a:lnTo>
                  <a:lnTo>
                    <a:pt x="167390" y="278403"/>
                  </a:lnTo>
                  <a:lnTo>
                    <a:pt x="158160" y="279540"/>
                  </a:lnTo>
                  <a:lnTo>
                    <a:pt x="148620" y="280298"/>
                  </a:lnTo>
                  <a:lnTo>
                    <a:pt x="139720" y="280803"/>
                  </a:lnTo>
                  <a:lnTo>
                    <a:pt x="123058" y="281365"/>
                  </a:lnTo>
                  <a:lnTo>
                    <a:pt x="95352" y="281681"/>
                  </a:lnTo>
                  <a:lnTo>
                    <a:pt x="86428" y="280879"/>
                  </a:lnTo>
                  <a:lnTo>
                    <a:pt x="77939" y="279497"/>
                  </a:lnTo>
                  <a:lnTo>
                    <a:pt x="69739" y="277729"/>
                  </a:lnTo>
                  <a:lnTo>
                    <a:pt x="62579" y="276551"/>
                  </a:lnTo>
                  <a:lnTo>
                    <a:pt x="56113" y="275765"/>
                  </a:lnTo>
                  <a:lnTo>
                    <a:pt x="50109" y="275241"/>
                  </a:lnTo>
                  <a:lnTo>
                    <a:pt x="45259" y="274045"/>
                  </a:lnTo>
                  <a:lnTo>
                    <a:pt x="37613" y="270459"/>
                  </a:lnTo>
                  <a:lnTo>
                    <a:pt x="31393" y="266043"/>
                  </a:lnTo>
                  <a:lnTo>
                    <a:pt x="28548" y="263680"/>
                  </a:lnTo>
                  <a:lnTo>
                    <a:pt x="26652" y="261258"/>
                  </a:lnTo>
                  <a:lnTo>
                    <a:pt x="25388" y="258797"/>
                  </a:lnTo>
                  <a:lnTo>
                    <a:pt x="22860" y="251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MARTInkAnnotation202"/>
            <p:cNvSpPr/>
            <p:nvPr/>
          </p:nvSpPr>
          <p:spPr>
            <a:xfrm>
              <a:off x="3003840" y="2095560"/>
              <a:ext cx="36360" cy="7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6599" h="7621">
                  <a:moveTo>
                    <a:pt x="-28938" y="0"/>
                  </a:moveTo>
                  <a:lnTo>
                    <a:pt x="25992" y="0"/>
                  </a:lnTo>
                  <a:lnTo>
                    <a:pt x="23601" y="847"/>
                  </a:lnTo>
                  <a:lnTo>
                    <a:pt x="21160" y="2258"/>
                  </a:lnTo>
                  <a:lnTo>
                    <a:pt x="18686" y="4045"/>
                  </a:lnTo>
                  <a:lnTo>
                    <a:pt x="16190" y="5237"/>
                  </a:lnTo>
                  <a:lnTo>
                    <a:pt x="13679" y="6032"/>
                  </a:lnTo>
                  <a:lnTo>
                    <a:pt x="11159" y="6561"/>
                  </a:lnTo>
                  <a:lnTo>
                    <a:pt x="8632" y="6914"/>
                  </a:lnTo>
                  <a:lnTo>
                    <a:pt x="6101" y="7150"/>
                  </a:lnTo>
                  <a:lnTo>
                    <a:pt x="0" y="7527"/>
                  </a:lnTo>
                  <a:lnTo>
                    <a:pt x="346" y="7558"/>
                  </a:lnTo>
                  <a:lnTo>
                    <a:pt x="2988" y="7593"/>
                  </a:lnTo>
                  <a:lnTo>
                    <a:pt x="-28938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MARTInkAnnotation203"/>
            <p:cNvSpPr/>
            <p:nvPr/>
          </p:nvSpPr>
          <p:spPr>
            <a:xfrm>
              <a:off x="3141000" y="1966320"/>
              <a:ext cx="250200" cy="23616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50219" h="236209">
                  <a:moveTo>
                    <a:pt x="13998" y="22851"/>
                  </a:moveTo>
                  <a:lnTo>
                    <a:pt x="13998" y="18806"/>
                  </a:lnTo>
                  <a:lnTo>
                    <a:pt x="14844" y="17614"/>
                  </a:lnTo>
                  <a:lnTo>
                    <a:pt x="16255" y="16820"/>
                  </a:lnTo>
                  <a:lnTo>
                    <a:pt x="18043" y="16290"/>
                  </a:lnTo>
                  <a:lnTo>
                    <a:pt x="19235" y="15091"/>
                  </a:lnTo>
                  <a:lnTo>
                    <a:pt x="20029" y="13444"/>
                  </a:lnTo>
                  <a:lnTo>
                    <a:pt x="20559" y="11500"/>
                  </a:lnTo>
                  <a:lnTo>
                    <a:pt x="22605" y="10203"/>
                  </a:lnTo>
                  <a:lnTo>
                    <a:pt x="29395" y="8763"/>
                  </a:lnTo>
                  <a:lnTo>
                    <a:pt x="34422" y="7532"/>
                  </a:lnTo>
                  <a:lnTo>
                    <a:pt x="40314" y="5865"/>
                  </a:lnTo>
                  <a:lnTo>
                    <a:pt x="46782" y="3907"/>
                  </a:lnTo>
                  <a:lnTo>
                    <a:pt x="53634" y="2602"/>
                  </a:lnTo>
                  <a:lnTo>
                    <a:pt x="60742" y="1731"/>
                  </a:lnTo>
                  <a:lnTo>
                    <a:pt x="68021" y="1151"/>
                  </a:lnTo>
                  <a:lnTo>
                    <a:pt x="74566" y="764"/>
                  </a:lnTo>
                  <a:lnTo>
                    <a:pt x="86355" y="335"/>
                  </a:lnTo>
                  <a:lnTo>
                    <a:pt x="113804" y="59"/>
                  </a:lnTo>
                  <a:lnTo>
                    <a:pt x="143166" y="0"/>
                  </a:lnTo>
                  <a:lnTo>
                    <a:pt x="147523" y="844"/>
                  </a:lnTo>
                  <a:lnTo>
                    <a:pt x="152121" y="2253"/>
                  </a:lnTo>
                  <a:lnTo>
                    <a:pt x="156880" y="4039"/>
                  </a:lnTo>
                  <a:lnTo>
                    <a:pt x="160053" y="6076"/>
                  </a:lnTo>
                  <a:lnTo>
                    <a:pt x="162168" y="8281"/>
                  </a:lnTo>
                  <a:lnTo>
                    <a:pt x="163578" y="10598"/>
                  </a:lnTo>
                  <a:lnTo>
                    <a:pt x="163671" y="12989"/>
                  </a:lnTo>
                  <a:lnTo>
                    <a:pt x="162887" y="15430"/>
                  </a:lnTo>
                  <a:lnTo>
                    <a:pt x="159757" y="21246"/>
                  </a:lnTo>
                  <a:lnTo>
                    <a:pt x="155544" y="29475"/>
                  </a:lnTo>
                  <a:lnTo>
                    <a:pt x="152389" y="34041"/>
                  </a:lnTo>
                  <a:lnTo>
                    <a:pt x="148592" y="38777"/>
                  </a:lnTo>
                  <a:lnTo>
                    <a:pt x="144367" y="43629"/>
                  </a:lnTo>
                  <a:lnTo>
                    <a:pt x="139858" y="48556"/>
                  </a:lnTo>
                  <a:lnTo>
                    <a:pt x="130331" y="58547"/>
                  </a:lnTo>
                  <a:lnTo>
                    <a:pt x="124573" y="63581"/>
                  </a:lnTo>
                  <a:lnTo>
                    <a:pt x="118195" y="68631"/>
                  </a:lnTo>
                  <a:lnTo>
                    <a:pt x="111403" y="73691"/>
                  </a:lnTo>
                  <a:lnTo>
                    <a:pt x="105181" y="79605"/>
                  </a:lnTo>
                  <a:lnTo>
                    <a:pt x="99340" y="86087"/>
                  </a:lnTo>
                  <a:lnTo>
                    <a:pt x="93753" y="92948"/>
                  </a:lnTo>
                  <a:lnTo>
                    <a:pt x="87488" y="99216"/>
                  </a:lnTo>
                  <a:lnTo>
                    <a:pt x="80771" y="105087"/>
                  </a:lnTo>
                  <a:lnTo>
                    <a:pt x="73753" y="110695"/>
                  </a:lnTo>
                  <a:lnTo>
                    <a:pt x="66535" y="116127"/>
                  </a:lnTo>
                  <a:lnTo>
                    <a:pt x="51741" y="126678"/>
                  </a:lnTo>
                  <a:lnTo>
                    <a:pt x="45087" y="132709"/>
                  </a:lnTo>
                  <a:lnTo>
                    <a:pt x="38957" y="139270"/>
                  </a:lnTo>
                  <a:lnTo>
                    <a:pt x="33178" y="146183"/>
                  </a:lnTo>
                  <a:lnTo>
                    <a:pt x="26784" y="152486"/>
                  </a:lnTo>
                  <a:lnTo>
                    <a:pt x="19982" y="158381"/>
                  </a:lnTo>
                  <a:lnTo>
                    <a:pt x="12907" y="164004"/>
                  </a:lnTo>
                  <a:lnTo>
                    <a:pt x="8191" y="169447"/>
                  </a:lnTo>
                  <a:lnTo>
                    <a:pt x="5047" y="174768"/>
                  </a:lnTo>
                  <a:lnTo>
                    <a:pt x="2951" y="180009"/>
                  </a:lnTo>
                  <a:lnTo>
                    <a:pt x="1553" y="185196"/>
                  </a:lnTo>
                  <a:lnTo>
                    <a:pt x="621" y="190348"/>
                  </a:lnTo>
                  <a:lnTo>
                    <a:pt x="0" y="195476"/>
                  </a:lnTo>
                  <a:lnTo>
                    <a:pt x="1279" y="199741"/>
                  </a:lnTo>
                  <a:lnTo>
                    <a:pt x="3825" y="203431"/>
                  </a:lnTo>
                  <a:lnTo>
                    <a:pt x="11170" y="209789"/>
                  </a:lnTo>
                  <a:lnTo>
                    <a:pt x="15499" y="212670"/>
                  </a:lnTo>
                  <a:lnTo>
                    <a:pt x="20079" y="215437"/>
                  </a:lnTo>
                  <a:lnTo>
                    <a:pt x="24825" y="218128"/>
                  </a:lnTo>
                  <a:lnTo>
                    <a:pt x="34614" y="223376"/>
                  </a:lnTo>
                  <a:lnTo>
                    <a:pt x="41289" y="225961"/>
                  </a:lnTo>
                  <a:lnTo>
                    <a:pt x="49125" y="228531"/>
                  </a:lnTo>
                  <a:lnTo>
                    <a:pt x="57736" y="231091"/>
                  </a:lnTo>
                  <a:lnTo>
                    <a:pt x="66017" y="232798"/>
                  </a:lnTo>
                  <a:lnTo>
                    <a:pt x="74077" y="233936"/>
                  </a:lnTo>
                  <a:lnTo>
                    <a:pt x="81990" y="234694"/>
                  </a:lnTo>
                  <a:lnTo>
                    <a:pt x="90653" y="235200"/>
                  </a:lnTo>
                  <a:lnTo>
                    <a:pt x="109309" y="235762"/>
                  </a:lnTo>
                  <a:lnTo>
                    <a:pt x="178329" y="236185"/>
                  </a:lnTo>
                  <a:lnTo>
                    <a:pt x="215257" y="236208"/>
                  </a:lnTo>
                  <a:lnTo>
                    <a:pt x="220984" y="235362"/>
                  </a:lnTo>
                  <a:lnTo>
                    <a:pt x="226495" y="233952"/>
                  </a:lnTo>
                  <a:lnTo>
                    <a:pt x="231863" y="232165"/>
                  </a:lnTo>
                  <a:lnTo>
                    <a:pt x="236287" y="230974"/>
                  </a:lnTo>
                  <a:lnTo>
                    <a:pt x="240085" y="230180"/>
                  </a:lnTo>
                  <a:lnTo>
                    <a:pt x="250218" y="2285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SMARTInkAnnotation204"/>
            <p:cNvSpPr/>
            <p:nvPr/>
          </p:nvSpPr>
          <p:spPr>
            <a:xfrm>
              <a:off x="3665520" y="2089800"/>
              <a:ext cx="360" cy="57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5927">
                  <a:moveTo>
                    <a:pt x="0" y="592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SMARTInkAnnotation205"/>
            <p:cNvSpPr/>
            <p:nvPr/>
          </p:nvSpPr>
          <p:spPr>
            <a:xfrm>
              <a:off x="3642480" y="2158200"/>
              <a:ext cx="130320" cy="136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30538" h="13696">
                  <a:moveTo>
                    <a:pt x="0" y="13695"/>
                  </a:moveTo>
                  <a:lnTo>
                    <a:pt x="51507" y="13695"/>
                  </a:lnTo>
                  <a:lnTo>
                    <a:pt x="59738" y="12849"/>
                  </a:lnTo>
                  <a:lnTo>
                    <a:pt x="67766" y="11438"/>
                  </a:lnTo>
                  <a:lnTo>
                    <a:pt x="75658" y="9650"/>
                  </a:lnTo>
                  <a:lnTo>
                    <a:pt x="83459" y="8458"/>
                  </a:lnTo>
                  <a:lnTo>
                    <a:pt x="91199" y="7664"/>
                  </a:lnTo>
                  <a:lnTo>
                    <a:pt x="98900" y="7135"/>
                  </a:lnTo>
                  <a:lnTo>
                    <a:pt x="105726" y="5935"/>
                  </a:lnTo>
                  <a:lnTo>
                    <a:pt x="111971" y="4289"/>
                  </a:lnTo>
                  <a:lnTo>
                    <a:pt x="117828" y="2344"/>
                  </a:lnTo>
                  <a:lnTo>
                    <a:pt x="123426" y="1048"/>
                  </a:lnTo>
                  <a:lnTo>
                    <a:pt x="128851" y="184"/>
                  </a:lnTo>
                  <a:lnTo>
                    <a:pt x="1305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SMARTInkAnnotation206"/>
            <p:cNvSpPr/>
            <p:nvPr/>
          </p:nvSpPr>
          <p:spPr>
            <a:xfrm>
              <a:off x="922320" y="2484360"/>
              <a:ext cx="297000" cy="3960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297181" h="396241">
                  <a:moveTo>
                    <a:pt x="297180" y="0"/>
                  </a:moveTo>
                  <a:lnTo>
                    <a:pt x="297180" y="10606"/>
                  </a:lnTo>
                  <a:lnTo>
                    <a:pt x="293135" y="21957"/>
                  </a:lnTo>
                  <a:lnTo>
                    <a:pt x="288892" y="31208"/>
                  </a:lnTo>
                  <a:lnTo>
                    <a:pt x="286574" y="36045"/>
                  </a:lnTo>
                  <a:lnTo>
                    <a:pt x="282490" y="41810"/>
                  </a:lnTo>
                  <a:lnTo>
                    <a:pt x="277226" y="48194"/>
                  </a:lnTo>
                  <a:lnTo>
                    <a:pt x="271178" y="54989"/>
                  </a:lnTo>
                  <a:lnTo>
                    <a:pt x="265452" y="62906"/>
                  </a:lnTo>
                  <a:lnTo>
                    <a:pt x="259941" y="71571"/>
                  </a:lnTo>
                  <a:lnTo>
                    <a:pt x="254574" y="80734"/>
                  </a:lnTo>
                  <a:lnTo>
                    <a:pt x="248456" y="89383"/>
                  </a:lnTo>
                  <a:lnTo>
                    <a:pt x="241838" y="97688"/>
                  </a:lnTo>
                  <a:lnTo>
                    <a:pt x="234885" y="105766"/>
                  </a:lnTo>
                  <a:lnTo>
                    <a:pt x="227710" y="114537"/>
                  </a:lnTo>
                  <a:lnTo>
                    <a:pt x="186338" y="166971"/>
                  </a:lnTo>
                  <a:lnTo>
                    <a:pt x="175872" y="178201"/>
                  </a:lnTo>
                  <a:lnTo>
                    <a:pt x="164661" y="189074"/>
                  </a:lnTo>
                  <a:lnTo>
                    <a:pt x="152954" y="199709"/>
                  </a:lnTo>
                  <a:lnTo>
                    <a:pt x="141763" y="211880"/>
                  </a:lnTo>
                  <a:lnTo>
                    <a:pt x="130915" y="225073"/>
                  </a:lnTo>
                  <a:lnTo>
                    <a:pt x="99468" y="265655"/>
                  </a:lnTo>
                  <a:lnTo>
                    <a:pt x="70959" y="302233"/>
                  </a:lnTo>
                  <a:lnTo>
                    <a:pt x="62546" y="313249"/>
                  </a:lnTo>
                  <a:lnTo>
                    <a:pt x="54397" y="323132"/>
                  </a:lnTo>
                  <a:lnTo>
                    <a:pt x="46425" y="332262"/>
                  </a:lnTo>
                  <a:lnTo>
                    <a:pt x="38570" y="340888"/>
                  </a:lnTo>
                  <a:lnTo>
                    <a:pt x="31640" y="350025"/>
                  </a:lnTo>
                  <a:lnTo>
                    <a:pt x="25327" y="359504"/>
                  </a:lnTo>
                  <a:lnTo>
                    <a:pt x="19425" y="369209"/>
                  </a:lnTo>
                  <a:lnTo>
                    <a:pt x="14643" y="376526"/>
                  </a:lnTo>
                  <a:lnTo>
                    <a:pt x="10609" y="382251"/>
                  </a:lnTo>
                  <a:lnTo>
                    <a:pt x="0" y="396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SMARTInkAnnotation207"/>
            <p:cNvSpPr/>
            <p:nvPr/>
          </p:nvSpPr>
          <p:spPr>
            <a:xfrm>
              <a:off x="1274760" y="2552760"/>
              <a:ext cx="223920" cy="261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61360"/>
                <a:gd name="textAreaBottom" fmla="*/ 261720 h 261360"/>
              </a:gdLst>
              <a:ahLst/>
              <a:rect l="textAreaLeft" t="textAreaTop" r="textAreaRight" b="textAreaBottom"/>
              <a:pathLst>
                <a:path w="224126" h="261398">
                  <a:moveTo>
                    <a:pt x="74253" y="0"/>
                  </a:moveTo>
                  <a:lnTo>
                    <a:pt x="74253" y="10606"/>
                  </a:lnTo>
                  <a:lnTo>
                    <a:pt x="73407" y="14691"/>
                  </a:lnTo>
                  <a:lnTo>
                    <a:pt x="71995" y="19954"/>
                  </a:lnTo>
                  <a:lnTo>
                    <a:pt x="70208" y="26002"/>
                  </a:lnTo>
                  <a:lnTo>
                    <a:pt x="67323" y="33422"/>
                  </a:lnTo>
                  <a:lnTo>
                    <a:pt x="63706" y="41754"/>
                  </a:lnTo>
                  <a:lnTo>
                    <a:pt x="55172" y="60044"/>
                  </a:lnTo>
                  <a:lnTo>
                    <a:pt x="45735" y="79462"/>
                  </a:lnTo>
                  <a:lnTo>
                    <a:pt x="40848" y="90228"/>
                  </a:lnTo>
                  <a:lnTo>
                    <a:pt x="25879" y="124759"/>
                  </a:lnTo>
                  <a:lnTo>
                    <a:pt x="15782" y="146324"/>
                  </a:lnTo>
                  <a:lnTo>
                    <a:pt x="11566" y="156816"/>
                  </a:lnTo>
                  <a:lnTo>
                    <a:pt x="7909" y="167198"/>
                  </a:lnTo>
                  <a:lnTo>
                    <a:pt x="4623" y="177505"/>
                  </a:lnTo>
                  <a:lnTo>
                    <a:pt x="2433" y="187763"/>
                  </a:lnTo>
                  <a:lnTo>
                    <a:pt x="973" y="197989"/>
                  </a:lnTo>
                  <a:lnTo>
                    <a:pt x="0" y="208193"/>
                  </a:lnTo>
                  <a:lnTo>
                    <a:pt x="1044" y="216689"/>
                  </a:lnTo>
                  <a:lnTo>
                    <a:pt x="3434" y="224046"/>
                  </a:lnTo>
                  <a:lnTo>
                    <a:pt x="6720" y="230644"/>
                  </a:lnTo>
                  <a:lnTo>
                    <a:pt x="10605" y="236736"/>
                  </a:lnTo>
                  <a:lnTo>
                    <a:pt x="14887" y="242491"/>
                  </a:lnTo>
                  <a:lnTo>
                    <a:pt x="19436" y="248021"/>
                  </a:lnTo>
                  <a:lnTo>
                    <a:pt x="24162" y="252554"/>
                  </a:lnTo>
                  <a:lnTo>
                    <a:pt x="29006" y="256423"/>
                  </a:lnTo>
                  <a:lnTo>
                    <a:pt x="33928" y="259848"/>
                  </a:lnTo>
                  <a:lnTo>
                    <a:pt x="40597" y="261285"/>
                  </a:lnTo>
                  <a:lnTo>
                    <a:pt x="48429" y="261397"/>
                  </a:lnTo>
                  <a:lnTo>
                    <a:pt x="57037" y="260625"/>
                  </a:lnTo>
                  <a:lnTo>
                    <a:pt x="66162" y="259263"/>
                  </a:lnTo>
                  <a:lnTo>
                    <a:pt x="75633" y="257509"/>
                  </a:lnTo>
                  <a:lnTo>
                    <a:pt x="85333" y="255493"/>
                  </a:lnTo>
                  <a:lnTo>
                    <a:pt x="95186" y="251608"/>
                  </a:lnTo>
                  <a:lnTo>
                    <a:pt x="105142" y="246479"/>
                  </a:lnTo>
                  <a:lnTo>
                    <a:pt x="115166" y="240519"/>
                  </a:lnTo>
                  <a:lnTo>
                    <a:pt x="125235" y="234006"/>
                  </a:lnTo>
                  <a:lnTo>
                    <a:pt x="135334" y="227124"/>
                  </a:lnTo>
                  <a:lnTo>
                    <a:pt x="145454" y="219996"/>
                  </a:lnTo>
                  <a:lnTo>
                    <a:pt x="155587" y="211857"/>
                  </a:lnTo>
                  <a:lnTo>
                    <a:pt x="165729" y="203045"/>
                  </a:lnTo>
                  <a:lnTo>
                    <a:pt x="175877" y="193783"/>
                  </a:lnTo>
                  <a:lnTo>
                    <a:pt x="185182" y="184222"/>
                  </a:lnTo>
                  <a:lnTo>
                    <a:pt x="193926" y="174461"/>
                  </a:lnTo>
                  <a:lnTo>
                    <a:pt x="202295" y="164568"/>
                  </a:lnTo>
                  <a:lnTo>
                    <a:pt x="208721" y="154585"/>
                  </a:lnTo>
                  <a:lnTo>
                    <a:pt x="213852" y="144544"/>
                  </a:lnTo>
                  <a:lnTo>
                    <a:pt x="218119" y="134462"/>
                  </a:lnTo>
                  <a:lnTo>
                    <a:pt x="220964" y="124355"/>
                  </a:lnTo>
                  <a:lnTo>
                    <a:pt x="222860" y="114230"/>
                  </a:lnTo>
                  <a:lnTo>
                    <a:pt x="224125" y="104093"/>
                  </a:lnTo>
                  <a:lnTo>
                    <a:pt x="224121" y="94796"/>
                  </a:lnTo>
                  <a:lnTo>
                    <a:pt x="223271" y="86057"/>
                  </a:lnTo>
                  <a:lnTo>
                    <a:pt x="221859" y="77691"/>
                  </a:lnTo>
                  <a:lnTo>
                    <a:pt x="220917" y="70421"/>
                  </a:lnTo>
                  <a:lnTo>
                    <a:pt x="220289" y="63881"/>
                  </a:lnTo>
                  <a:lnTo>
                    <a:pt x="219870" y="57827"/>
                  </a:lnTo>
                  <a:lnTo>
                    <a:pt x="217051" y="52098"/>
                  </a:lnTo>
                  <a:lnTo>
                    <a:pt x="212632" y="46586"/>
                  </a:lnTo>
                  <a:lnTo>
                    <a:pt x="207146" y="41217"/>
                  </a:lnTo>
                  <a:lnTo>
                    <a:pt x="201795" y="36791"/>
                  </a:lnTo>
                  <a:lnTo>
                    <a:pt x="196534" y="32994"/>
                  </a:lnTo>
                  <a:lnTo>
                    <a:pt x="191334" y="29616"/>
                  </a:lnTo>
                  <a:lnTo>
                    <a:pt x="185327" y="27364"/>
                  </a:lnTo>
                  <a:lnTo>
                    <a:pt x="178783" y="25863"/>
                  </a:lnTo>
                  <a:lnTo>
                    <a:pt x="171879" y="24862"/>
                  </a:lnTo>
                  <a:lnTo>
                    <a:pt x="165584" y="25041"/>
                  </a:lnTo>
                  <a:lnTo>
                    <a:pt x="159694" y="26008"/>
                  </a:lnTo>
                  <a:lnTo>
                    <a:pt x="154074" y="27498"/>
                  </a:lnTo>
                  <a:lnTo>
                    <a:pt x="148633" y="29339"/>
                  </a:lnTo>
                  <a:lnTo>
                    <a:pt x="143314" y="31413"/>
                  </a:lnTo>
                  <a:lnTo>
                    <a:pt x="138073" y="33642"/>
                  </a:lnTo>
                  <a:lnTo>
                    <a:pt x="132887" y="36821"/>
                  </a:lnTo>
                  <a:lnTo>
                    <a:pt x="127735" y="40634"/>
                  </a:lnTo>
                  <a:lnTo>
                    <a:pt x="122608" y="44870"/>
                  </a:lnTo>
                  <a:lnTo>
                    <a:pt x="118343" y="50233"/>
                  </a:lnTo>
                  <a:lnTo>
                    <a:pt x="114653" y="56349"/>
                  </a:lnTo>
                  <a:lnTo>
                    <a:pt x="111346" y="62966"/>
                  </a:lnTo>
                  <a:lnTo>
                    <a:pt x="109142" y="69917"/>
                  </a:lnTo>
                  <a:lnTo>
                    <a:pt x="107673" y="77092"/>
                  </a:lnTo>
                  <a:lnTo>
                    <a:pt x="106693" y="84415"/>
                  </a:lnTo>
                  <a:lnTo>
                    <a:pt x="106886" y="90990"/>
                  </a:lnTo>
                  <a:lnTo>
                    <a:pt x="107862" y="97067"/>
                  </a:lnTo>
                  <a:lnTo>
                    <a:pt x="112353" y="114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MARTInkAnnotation208"/>
            <p:cNvSpPr/>
            <p:nvPr/>
          </p:nvSpPr>
          <p:spPr>
            <a:xfrm>
              <a:off x="1562400" y="2636640"/>
              <a:ext cx="220680" cy="243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0981" h="243841">
                  <a:moveTo>
                    <a:pt x="220980" y="0"/>
                  </a:moveTo>
                  <a:lnTo>
                    <a:pt x="210374" y="10606"/>
                  </a:lnTo>
                  <a:lnTo>
                    <a:pt x="207136" y="14691"/>
                  </a:lnTo>
                  <a:lnTo>
                    <a:pt x="203284" y="19954"/>
                  </a:lnTo>
                  <a:lnTo>
                    <a:pt x="194489" y="32575"/>
                  </a:lnTo>
                  <a:lnTo>
                    <a:pt x="184935" y="46651"/>
                  </a:lnTo>
                  <a:lnTo>
                    <a:pt x="179170" y="53961"/>
                  </a:lnTo>
                  <a:lnTo>
                    <a:pt x="172787" y="61374"/>
                  </a:lnTo>
                  <a:lnTo>
                    <a:pt x="165991" y="68856"/>
                  </a:lnTo>
                  <a:lnTo>
                    <a:pt x="158921" y="77231"/>
                  </a:lnTo>
                  <a:lnTo>
                    <a:pt x="144292" y="95567"/>
                  </a:lnTo>
                  <a:lnTo>
                    <a:pt x="121775" y="124930"/>
                  </a:lnTo>
                  <a:lnTo>
                    <a:pt x="114204" y="135780"/>
                  </a:lnTo>
                  <a:lnTo>
                    <a:pt x="106616" y="147247"/>
                  </a:lnTo>
                  <a:lnTo>
                    <a:pt x="99017" y="159125"/>
                  </a:lnTo>
                  <a:lnTo>
                    <a:pt x="90565" y="169583"/>
                  </a:lnTo>
                  <a:lnTo>
                    <a:pt x="81543" y="179096"/>
                  </a:lnTo>
                  <a:lnTo>
                    <a:pt x="72142" y="187977"/>
                  </a:lnTo>
                  <a:lnTo>
                    <a:pt x="63335" y="195592"/>
                  </a:lnTo>
                  <a:lnTo>
                    <a:pt x="54923" y="202361"/>
                  </a:lnTo>
                  <a:lnTo>
                    <a:pt x="46776" y="208568"/>
                  </a:lnTo>
                  <a:lnTo>
                    <a:pt x="30949" y="219979"/>
                  </a:lnTo>
                  <a:lnTo>
                    <a:pt x="23173" y="225393"/>
                  </a:lnTo>
                  <a:lnTo>
                    <a:pt x="17142" y="229848"/>
                  </a:lnTo>
                  <a:lnTo>
                    <a:pt x="12275" y="233666"/>
                  </a:lnTo>
                  <a:lnTo>
                    <a:pt x="0" y="2438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MARTInkAnnotation209"/>
            <p:cNvSpPr/>
            <p:nvPr/>
          </p:nvSpPr>
          <p:spPr>
            <a:xfrm>
              <a:off x="1539360" y="2667240"/>
              <a:ext cx="304560" cy="15984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04801" h="160021">
                  <a:moveTo>
                    <a:pt x="0" y="0"/>
                  </a:moveTo>
                  <a:lnTo>
                    <a:pt x="10606" y="0"/>
                  </a:lnTo>
                  <a:lnTo>
                    <a:pt x="12997" y="847"/>
                  </a:lnTo>
                  <a:lnTo>
                    <a:pt x="17912" y="4045"/>
                  </a:lnTo>
                  <a:lnTo>
                    <a:pt x="25177" y="6031"/>
                  </a:lnTo>
                  <a:lnTo>
                    <a:pt x="34050" y="7760"/>
                  </a:lnTo>
                  <a:lnTo>
                    <a:pt x="38787" y="9407"/>
                  </a:lnTo>
                  <a:lnTo>
                    <a:pt x="43638" y="11352"/>
                  </a:lnTo>
                  <a:lnTo>
                    <a:pt x="50258" y="14341"/>
                  </a:lnTo>
                  <a:lnTo>
                    <a:pt x="66646" y="22178"/>
                  </a:lnTo>
                  <a:lnTo>
                    <a:pt x="74911" y="26639"/>
                  </a:lnTo>
                  <a:lnTo>
                    <a:pt x="82960" y="31306"/>
                  </a:lnTo>
                  <a:lnTo>
                    <a:pt x="90867" y="36111"/>
                  </a:lnTo>
                  <a:lnTo>
                    <a:pt x="98678" y="41854"/>
                  </a:lnTo>
                  <a:lnTo>
                    <a:pt x="106425" y="48222"/>
                  </a:lnTo>
                  <a:lnTo>
                    <a:pt x="114130" y="55008"/>
                  </a:lnTo>
                  <a:lnTo>
                    <a:pt x="122654" y="62072"/>
                  </a:lnTo>
                  <a:lnTo>
                    <a:pt x="141155" y="76694"/>
                  </a:lnTo>
                  <a:lnTo>
                    <a:pt x="149983" y="84150"/>
                  </a:lnTo>
                  <a:lnTo>
                    <a:pt x="158409" y="91660"/>
                  </a:lnTo>
                  <a:lnTo>
                    <a:pt x="166566" y="99207"/>
                  </a:lnTo>
                  <a:lnTo>
                    <a:pt x="175391" y="105931"/>
                  </a:lnTo>
                  <a:lnTo>
                    <a:pt x="184660" y="112107"/>
                  </a:lnTo>
                  <a:lnTo>
                    <a:pt x="194227" y="117918"/>
                  </a:lnTo>
                  <a:lnTo>
                    <a:pt x="203992" y="123485"/>
                  </a:lnTo>
                  <a:lnTo>
                    <a:pt x="223872" y="134187"/>
                  </a:lnTo>
                  <a:lnTo>
                    <a:pt x="233915" y="138565"/>
                  </a:lnTo>
                  <a:lnTo>
                    <a:pt x="243996" y="142330"/>
                  </a:lnTo>
                  <a:lnTo>
                    <a:pt x="254104" y="145686"/>
                  </a:lnTo>
                  <a:lnTo>
                    <a:pt x="262536" y="148771"/>
                  </a:lnTo>
                  <a:lnTo>
                    <a:pt x="269851" y="151674"/>
                  </a:lnTo>
                  <a:lnTo>
                    <a:pt x="276421" y="154456"/>
                  </a:lnTo>
                  <a:lnTo>
                    <a:pt x="282494" y="156311"/>
                  </a:lnTo>
                  <a:lnTo>
                    <a:pt x="288236" y="157547"/>
                  </a:lnTo>
                  <a:lnTo>
                    <a:pt x="304800" y="1600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SMARTInkAnnotation210"/>
            <p:cNvSpPr/>
            <p:nvPr/>
          </p:nvSpPr>
          <p:spPr>
            <a:xfrm>
              <a:off x="2042280" y="2507040"/>
              <a:ext cx="37800" cy="273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38101" h="27432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5237" y="8607"/>
                  </a:lnTo>
                  <a:lnTo>
                    <a:pt x="6031" y="11665"/>
                  </a:lnTo>
                  <a:lnTo>
                    <a:pt x="6561" y="15397"/>
                  </a:lnTo>
                  <a:lnTo>
                    <a:pt x="7760" y="19578"/>
                  </a:lnTo>
                  <a:lnTo>
                    <a:pt x="9407" y="24059"/>
                  </a:lnTo>
                  <a:lnTo>
                    <a:pt x="11352" y="28739"/>
                  </a:lnTo>
                  <a:lnTo>
                    <a:pt x="12648" y="34399"/>
                  </a:lnTo>
                  <a:lnTo>
                    <a:pt x="13512" y="40713"/>
                  </a:lnTo>
                  <a:lnTo>
                    <a:pt x="14088" y="47462"/>
                  </a:lnTo>
                  <a:lnTo>
                    <a:pt x="14472" y="54501"/>
                  </a:lnTo>
                  <a:lnTo>
                    <a:pt x="14899" y="69096"/>
                  </a:lnTo>
                  <a:lnTo>
                    <a:pt x="15859" y="78237"/>
                  </a:lnTo>
                  <a:lnTo>
                    <a:pt x="17346" y="88565"/>
                  </a:lnTo>
                  <a:lnTo>
                    <a:pt x="19184" y="99683"/>
                  </a:lnTo>
                  <a:lnTo>
                    <a:pt x="20409" y="109636"/>
                  </a:lnTo>
                  <a:lnTo>
                    <a:pt x="21226" y="118810"/>
                  </a:lnTo>
                  <a:lnTo>
                    <a:pt x="21771" y="127467"/>
                  </a:lnTo>
                  <a:lnTo>
                    <a:pt x="22376" y="148374"/>
                  </a:lnTo>
                  <a:lnTo>
                    <a:pt x="22765" y="188200"/>
                  </a:lnTo>
                  <a:lnTo>
                    <a:pt x="23643" y="196587"/>
                  </a:lnTo>
                  <a:lnTo>
                    <a:pt x="25075" y="204718"/>
                  </a:lnTo>
                  <a:lnTo>
                    <a:pt x="26877" y="212679"/>
                  </a:lnTo>
                  <a:lnTo>
                    <a:pt x="28078" y="219679"/>
                  </a:lnTo>
                  <a:lnTo>
                    <a:pt x="28879" y="226039"/>
                  </a:lnTo>
                  <a:lnTo>
                    <a:pt x="29413" y="231973"/>
                  </a:lnTo>
                  <a:lnTo>
                    <a:pt x="30615" y="237622"/>
                  </a:lnTo>
                  <a:lnTo>
                    <a:pt x="32263" y="243081"/>
                  </a:lnTo>
                  <a:lnTo>
                    <a:pt x="34209" y="248414"/>
                  </a:lnTo>
                  <a:lnTo>
                    <a:pt x="35506" y="252816"/>
                  </a:lnTo>
                  <a:lnTo>
                    <a:pt x="36371" y="256598"/>
                  </a:lnTo>
                  <a:lnTo>
                    <a:pt x="37759" y="264705"/>
                  </a:lnTo>
                  <a:lnTo>
                    <a:pt x="37948" y="268071"/>
                  </a:lnTo>
                  <a:lnTo>
                    <a:pt x="38100" y="274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SMARTInkAnnotation211"/>
            <p:cNvSpPr/>
            <p:nvPr/>
          </p:nvSpPr>
          <p:spPr>
            <a:xfrm>
              <a:off x="1989000" y="2682360"/>
              <a:ext cx="342720" cy="72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342901" h="7307">
                  <a:moveTo>
                    <a:pt x="0" y="0"/>
                  </a:moveTo>
                  <a:lnTo>
                    <a:pt x="189168" y="0"/>
                  </a:lnTo>
                  <a:lnTo>
                    <a:pt x="200619" y="847"/>
                  </a:lnTo>
                  <a:lnTo>
                    <a:pt x="211639" y="2258"/>
                  </a:lnTo>
                  <a:lnTo>
                    <a:pt x="222373" y="4045"/>
                  </a:lnTo>
                  <a:lnTo>
                    <a:pt x="232069" y="5237"/>
                  </a:lnTo>
                  <a:lnTo>
                    <a:pt x="241073" y="6032"/>
                  </a:lnTo>
                  <a:lnTo>
                    <a:pt x="249615" y="6561"/>
                  </a:lnTo>
                  <a:lnTo>
                    <a:pt x="268138" y="7149"/>
                  </a:lnTo>
                  <a:lnTo>
                    <a:pt x="277819" y="7306"/>
                  </a:lnTo>
                  <a:lnTo>
                    <a:pt x="286813" y="6564"/>
                  </a:lnTo>
                  <a:lnTo>
                    <a:pt x="295348" y="5223"/>
                  </a:lnTo>
                  <a:lnTo>
                    <a:pt x="303579" y="3482"/>
                  </a:lnTo>
                  <a:lnTo>
                    <a:pt x="310759" y="2322"/>
                  </a:lnTo>
                  <a:lnTo>
                    <a:pt x="317240" y="1548"/>
                  </a:lnTo>
                  <a:lnTo>
                    <a:pt x="323253" y="1032"/>
                  </a:lnTo>
                  <a:lnTo>
                    <a:pt x="328109" y="688"/>
                  </a:lnTo>
                  <a:lnTo>
                    <a:pt x="3429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SMARTInkAnnotation212"/>
            <p:cNvSpPr/>
            <p:nvPr/>
          </p:nvSpPr>
          <p:spPr>
            <a:xfrm>
              <a:off x="2412720" y="2499480"/>
              <a:ext cx="299880" cy="2970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00211" h="297088">
                  <a:moveTo>
                    <a:pt x="102090" y="7527"/>
                  </a:moveTo>
                  <a:lnTo>
                    <a:pt x="94563" y="0"/>
                  </a:lnTo>
                  <a:lnTo>
                    <a:pt x="94498" y="3980"/>
                  </a:lnTo>
                  <a:lnTo>
                    <a:pt x="93642" y="6009"/>
                  </a:lnTo>
                  <a:lnTo>
                    <a:pt x="88392" y="13756"/>
                  </a:lnTo>
                  <a:lnTo>
                    <a:pt x="83867" y="21867"/>
                  </a:lnTo>
                  <a:lnTo>
                    <a:pt x="80628" y="27247"/>
                  </a:lnTo>
                  <a:lnTo>
                    <a:pt x="72514" y="39998"/>
                  </a:lnTo>
                  <a:lnTo>
                    <a:pt x="67979" y="47801"/>
                  </a:lnTo>
                  <a:lnTo>
                    <a:pt x="58425" y="65502"/>
                  </a:lnTo>
                  <a:lnTo>
                    <a:pt x="52660" y="74964"/>
                  </a:lnTo>
                  <a:lnTo>
                    <a:pt x="46277" y="84658"/>
                  </a:lnTo>
                  <a:lnTo>
                    <a:pt x="39481" y="94508"/>
                  </a:lnTo>
                  <a:lnTo>
                    <a:pt x="33258" y="105307"/>
                  </a:lnTo>
                  <a:lnTo>
                    <a:pt x="27415" y="116740"/>
                  </a:lnTo>
                  <a:lnTo>
                    <a:pt x="21826" y="128596"/>
                  </a:lnTo>
                  <a:lnTo>
                    <a:pt x="17255" y="139886"/>
                  </a:lnTo>
                  <a:lnTo>
                    <a:pt x="13360" y="150800"/>
                  </a:lnTo>
                  <a:lnTo>
                    <a:pt x="9916" y="161462"/>
                  </a:lnTo>
                  <a:lnTo>
                    <a:pt x="6774" y="172804"/>
                  </a:lnTo>
                  <a:lnTo>
                    <a:pt x="3833" y="184598"/>
                  </a:lnTo>
                  <a:lnTo>
                    <a:pt x="1025" y="196694"/>
                  </a:lnTo>
                  <a:lnTo>
                    <a:pt x="0" y="207298"/>
                  </a:lnTo>
                  <a:lnTo>
                    <a:pt x="163" y="216908"/>
                  </a:lnTo>
                  <a:lnTo>
                    <a:pt x="1119" y="225854"/>
                  </a:lnTo>
                  <a:lnTo>
                    <a:pt x="3449" y="234358"/>
                  </a:lnTo>
                  <a:lnTo>
                    <a:pt x="6696" y="242568"/>
                  </a:lnTo>
                  <a:lnTo>
                    <a:pt x="10555" y="250581"/>
                  </a:lnTo>
                  <a:lnTo>
                    <a:pt x="15666" y="258463"/>
                  </a:lnTo>
                  <a:lnTo>
                    <a:pt x="21614" y="266257"/>
                  </a:lnTo>
                  <a:lnTo>
                    <a:pt x="28120" y="273994"/>
                  </a:lnTo>
                  <a:lnTo>
                    <a:pt x="34996" y="279998"/>
                  </a:lnTo>
                  <a:lnTo>
                    <a:pt x="42121" y="284848"/>
                  </a:lnTo>
                  <a:lnTo>
                    <a:pt x="49411" y="288927"/>
                  </a:lnTo>
                  <a:lnTo>
                    <a:pt x="57657" y="291647"/>
                  </a:lnTo>
                  <a:lnTo>
                    <a:pt x="66542" y="293460"/>
                  </a:lnTo>
                  <a:lnTo>
                    <a:pt x="75851" y="294669"/>
                  </a:lnTo>
                  <a:lnTo>
                    <a:pt x="85444" y="295475"/>
                  </a:lnTo>
                  <a:lnTo>
                    <a:pt x="95226" y="296012"/>
                  </a:lnTo>
                  <a:lnTo>
                    <a:pt x="105134" y="296371"/>
                  </a:lnTo>
                  <a:lnTo>
                    <a:pt x="115973" y="295762"/>
                  </a:lnTo>
                  <a:lnTo>
                    <a:pt x="127432" y="294510"/>
                  </a:lnTo>
                  <a:lnTo>
                    <a:pt x="139305" y="292829"/>
                  </a:lnTo>
                  <a:lnTo>
                    <a:pt x="150606" y="290015"/>
                  </a:lnTo>
                  <a:lnTo>
                    <a:pt x="161527" y="286446"/>
                  </a:lnTo>
                  <a:lnTo>
                    <a:pt x="172195" y="282373"/>
                  </a:lnTo>
                  <a:lnTo>
                    <a:pt x="181847" y="277117"/>
                  </a:lnTo>
                  <a:lnTo>
                    <a:pt x="190821" y="271074"/>
                  </a:lnTo>
                  <a:lnTo>
                    <a:pt x="199344" y="264505"/>
                  </a:lnTo>
                  <a:lnTo>
                    <a:pt x="206719" y="257585"/>
                  </a:lnTo>
                  <a:lnTo>
                    <a:pt x="213330" y="250433"/>
                  </a:lnTo>
                  <a:lnTo>
                    <a:pt x="219430" y="243124"/>
                  </a:lnTo>
                  <a:lnTo>
                    <a:pt x="224343" y="235712"/>
                  </a:lnTo>
                  <a:lnTo>
                    <a:pt x="228465" y="228230"/>
                  </a:lnTo>
                  <a:lnTo>
                    <a:pt x="232061" y="220702"/>
                  </a:lnTo>
                  <a:lnTo>
                    <a:pt x="234457" y="213990"/>
                  </a:lnTo>
                  <a:lnTo>
                    <a:pt x="236055" y="207822"/>
                  </a:lnTo>
                  <a:lnTo>
                    <a:pt x="237120" y="202017"/>
                  </a:lnTo>
                  <a:lnTo>
                    <a:pt x="236984" y="197300"/>
                  </a:lnTo>
                  <a:lnTo>
                    <a:pt x="236046" y="193309"/>
                  </a:lnTo>
                  <a:lnTo>
                    <a:pt x="232746" y="186617"/>
                  </a:lnTo>
                  <a:lnTo>
                    <a:pt x="228457" y="180820"/>
                  </a:lnTo>
                  <a:lnTo>
                    <a:pt x="221471" y="175422"/>
                  </a:lnTo>
                  <a:lnTo>
                    <a:pt x="217237" y="172797"/>
                  </a:lnTo>
                  <a:lnTo>
                    <a:pt x="211875" y="171894"/>
                  </a:lnTo>
                  <a:lnTo>
                    <a:pt x="205760" y="172138"/>
                  </a:lnTo>
                  <a:lnTo>
                    <a:pt x="199144" y="173148"/>
                  </a:lnTo>
                  <a:lnTo>
                    <a:pt x="193039" y="174667"/>
                  </a:lnTo>
                  <a:lnTo>
                    <a:pt x="187276" y="176527"/>
                  </a:lnTo>
                  <a:lnTo>
                    <a:pt x="181741" y="178614"/>
                  </a:lnTo>
                  <a:lnTo>
                    <a:pt x="173333" y="183190"/>
                  </a:lnTo>
                  <a:lnTo>
                    <a:pt x="169905" y="185596"/>
                  </a:lnTo>
                  <a:lnTo>
                    <a:pt x="167620" y="188893"/>
                  </a:lnTo>
                  <a:lnTo>
                    <a:pt x="165081" y="197072"/>
                  </a:lnTo>
                  <a:lnTo>
                    <a:pt x="165251" y="201623"/>
                  </a:lnTo>
                  <a:lnTo>
                    <a:pt x="166211" y="206351"/>
                  </a:lnTo>
                  <a:lnTo>
                    <a:pt x="167697" y="211196"/>
                  </a:lnTo>
                  <a:lnTo>
                    <a:pt x="170382" y="216120"/>
                  </a:lnTo>
                  <a:lnTo>
                    <a:pt x="173865" y="221095"/>
                  </a:lnTo>
                  <a:lnTo>
                    <a:pt x="177880" y="226106"/>
                  </a:lnTo>
                  <a:lnTo>
                    <a:pt x="183097" y="231139"/>
                  </a:lnTo>
                  <a:lnTo>
                    <a:pt x="189115" y="236189"/>
                  </a:lnTo>
                  <a:lnTo>
                    <a:pt x="221068" y="260504"/>
                  </a:lnTo>
                  <a:lnTo>
                    <a:pt x="230515" y="265925"/>
                  </a:lnTo>
                  <a:lnTo>
                    <a:pt x="240201" y="270386"/>
                  </a:lnTo>
                  <a:lnTo>
                    <a:pt x="250044" y="274206"/>
                  </a:lnTo>
                  <a:lnTo>
                    <a:pt x="259993" y="278446"/>
                  </a:lnTo>
                  <a:lnTo>
                    <a:pt x="300210" y="2970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SMARTInkAnnotation213"/>
            <p:cNvSpPr/>
            <p:nvPr/>
          </p:nvSpPr>
          <p:spPr>
            <a:xfrm>
              <a:off x="4671360" y="2126160"/>
              <a:ext cx="289440" cy="151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9561" h="15213">
                  <a:moveTo>
                    <a:pt x="0" y="7620"/>
                  </a:moveTo>
                  <a:lnTo>
                    <a:pt x="15397" y="7620"/>
                  </a:lnTo>
                  <a:lnTo>
                    <a:pt x="18731" y="8467"/>
                  </a:lnTo>
                  <a:lnTo>
                    <a:pt x="21801" y="9878"/>
                  </a:lnTo>
                  <a:lnTo>
                    <a:pt x="24694" y="11665"/>
                  </a:lnTo>
                  <a:lnTo>
                    <a:pt x="28316" y="12857"/>
                  </a:lnTo>
                  <a:lnTo>
                    <a:pt x="32424" y="13651"/>
                  </a:lnTo>
                  <a:lnTo>
                    <a:pt x="36856" y="14181"/>
                  </a:lnTo>
                  <a:lnTo>
                    <a:pt x="42350" y="14534"/>
                  </a:lnTo>
                  <a:lnTo>
                    <a:pt x="48554" y="14769"/>
                  </a:lnTo>
                  <a:lnTo>
                    <a:pt x="69420" y="15101"/>
                  </a:lnTo>
                  <a:lnTo>
                    <a:pt x="99226" y="15212"/>
                  </a:lnTo>
                  <a:lnTo>
                    <a:pt x="107637" y="14375"/>
                  </a:lnTo>
                  <a:lnTo>
                    <a:pt x="116631" y="12970"/>
                  </a:lnTo>
                  <a:lnTo>
                    <a:pt x="126015" y="11187"/>
                  </a:lnTo>
                  <a:lnTo>
                    <a:pt x="135657" y="9998"/>
                  </a:lnTo>
                  <a:lnTo>
                    <a:pt x="145471" y="9205"/>
                  </a:lnTo>
                  <a:lnTo>
                    <a:pt x="155401" y="8677"/>
                  </a:lnTo>
                  <a:lnTo>
                    <a:pt x="175465" y="8090"/>
                  </a:lnTo>
                  <a:lnTo>
                    <a:pt x="215940" y="7713"/>
                  </a:lnTo>
                  <a:lnTo>
                    <a:pt x="226087" y="6835"/>
                  </a:lnTo>
                  <a:lnTo>
                    <a:pt x="236239" y="5403"/>
                  </a:lnTo>
                  <a:lnTo>
                    <a:pt x="246392" y="3602"/>
                  </a:lnTo>
                  <a:lnTo>
                    <a:pt x="255702" y="2402"/>
                  </a:lnTo>
                  <a:lnTo>
                    <a:pt x="264448" y="1601"/>
                  </a:lnTo>
                  <a:lnTo>
                    <a:pt x="2895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MARTInkAnnotation214"/>
            <p:cNvSpPr/>
            <p:nvPr/>
          </p:nvSpPr>
          <p:spPr>
            <a:xfrm>
              <a:off x="5105880" y="1973880"/>
              <a:ext cx="220320" cy="25884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0414" h="259081">
                  <a:moveTo>
                    <a:pt x="83456" y="0"/>
                  </a:moveTo>
                  <a:lnTo>
                    <a:pt x="79411" y="4045"/>
                  </a:lnTo>
                  <a:lnTo>
                    <a:pt x="78220" y="6930"/>
                  </a:lnTo>
                  <a:lnTo>
                    <a:pt x="76895" y="14651"/>
                  </a:lnTo>
                  <a:lnTo>
                    <a:pt x="75696" y="18234"/>
                  </a:lnTo>
                  <a:lnTo>
                    <a:pt x="72105" y="24473"/>
                  </a:lnTo>
                  <a:lnTo>
                    <a:pt x="65429" y="32326"/>
                  </a:lnTo>
                  <a:lnTo>
                    <a:pt x="61278" y="36791"/>
                  </a:lnTo>
                  <a:lnTo>
                    <a:pt x="57665" y="41460"/>
                  </a:lnTo>
                  <a:lnTo>
                    <a:pt x="54408" y="46267"/>
                  </a:lnTo>
                  <a:lnTo>
                    <a:pt x="51391" y="51165"/>
                  </a:lnTo>
                  <a:lnTo>
                    <a:pt x="39055" y="70193"/>
                  </a:lnTo>
                  <a:lnTo>
                    <a:pt x="34382" y="76429"/>
                  </a:lnTo>
                  <a:lnTo>
                    <a:pt x="29573" y="82279"/>
                  </a:lnTo>
                  <a:lnTo>
                    <a:pt x="24674" y="87873"/>
                  </a:lnTo>
                  <a:lnTo>
                    <a:pt x="20562" y="94142"/>
                  </a:lnTo>
                  <a:lnTo>
                    <a:pt x="16973" y="100861"/>
                  </a:lnTo>
                  <a:lnTo>
                    <a:pt x="13734" y="107881"/>
                  </a:lnTo>
                  <a:lnTo>
                    <a:pt x="11576" y="114254"/>
                  </a:lnTo>
                  <a:lnTo>
                    <a:pt x="10135" y="120196"/>
                  </a:lnTo>
                  <a:lnTo>
                    <a:pt x="9176" y="125851"/>
                  </a:lnTo>
                  <a:lnTo>
                    <a:pt x="7689" y="132160"/>
                  </a:lnTo>
                  <a:lnTo>
                    <a:pt x="5852" y="138907"/>
                  </a:lnTo>
                  <a:lnTo>
                    <a:pt x="3780" y="145945"/>
                  </a:lnTo>
                  <a:lnTo>
                    <a:pt x="2399" y="152330"/>
                  </a:lnTo>
                  <a:lnTo>
                    <a:pt x="1479" y="158280"/>
                  </a:lnTo>
                  <a:lnTo>
                    <a:pt x="865" y="163940"/>
                  </a:lnTo>
                  <a:lnTo>
                    <a:pt x="455" y="169407"/>
                  </a:lnTo>
                  <a:lnTo>
                    <a:pt x="182" y="174744"/>
                  </a:lnTo>
                  <a:lnTo>
                    <a:pt x="0" y="179996"/>
                  </a:lnTo>
                  <a:lnTo>
                    <a:pt x="726" y="185191"/>
                  </a:lnTo>
                  <a:lnTo>
                    <a:pt x="2056" y="190347"/>
                  </a:lnTo>
                  <a:lnTo>
                    <a:pt x="3789" y="195478"/>
                  </a:lnTo>
                  <a:lnTo>
                    <a:pt x="5792" y="200592"/>
                  </a:lnTo>
                  <a:lnTo>
                    <a:pt x="7973" y="205695"/>
                  </a:lnTo>
                  <a:lnTo>
                    <a:pt x="10275" y="210790"/>
                  </a:lnTo>
                  <a:lnTo>
                    <a:pt x="13502" y="215033"/>
                  </a:lnTo>
                  <a:lnTo>
                    <a:pt x="17347" y="218709"/>
                  </a:lnTo>
                  <a:lnTo>
                    <a:pt x="21603" y="222006"/>
                  </a:lnTo>
                  <a:lnTo>
                    <a:pt x="26134" y="225051"/>
                  </a:lnTo>
                  <a:lnTo>
                    <a:pt x="30848" y="227927"/>
                  </a:lnTo>
                  <a:lnTo>
                    <a:pt x="35685" y="230691"/>
                  </a:lnTo>
                  <a:lnTo>
                    <a:pt x="41448" y="232534"/>
                  </a:lnTo>
                  <a:lnTo>
                    <a:pt x="47831" y="233763"/>
                  </a:lnTo>
                  <a:lnTo>
                    <a:pt x="54626" y="234582"/>
                  </a:lnTo>
                  <a:lnTo>
                    <a:pt x="61696" y="235128"/>
                  </a:lnTo>
                  <a:lnTo>
                    <a:pt x="68950" y="235492"/>
                  </a:lnTo>
                  <a:lnTo>
                    <a:pt x="84629" y="235897"/>
                  </a:lnTo>
                  <a:lnTo>
                    <a:pt x="132205" y="236178"/>
                  </a:lnTo>
                  <a:lnTo>
                    <a:pt x="141356" y="235345"/>
                  </a:lnTo>
                  <a:lnTo>
                    <a:pt x="149995" y="233943"/>
                  </a:lnTo>
                  <a:lnTo>
                    <a:pt x="158296" y="232162"/>
                  </a:lnTo>
                  <a:lnTo>
                    <a:pt x="165523" y="230128"/>
                  </a:lnTo>
                  <a:lnTo>
                    <a:pt x="172034" y="227926"/>
                  </a:lnTo>
                  <a:lnTo>
                    <a:pt x="178068" y="225611"/>
                  </a:lnTo>
                  <a:lnTo>
                    <a:pt x="184630" y="222374"/>
                  </a:lnTo>
                  <a:lnTo>
                    <a:pt x="191546" y="218523"/>
                  </a:lnTo>
                  <a:lnTo>
                    <a:pt x="198696" y="214262"/>
                  </a:lnTo>
                  <a:lnTo>
                    <a:pt x="204310" y="210574"/>
                  </a:lnTo>
                  <a:lnTo>
                    <a:pt x="208898" y="207270"/>
                  </a:lnTo>
                  <a:lnTo>
                    <a:pt x="212804" y="204220"/>
                  </a:lnTo>
                  <a:lnTo>
                    <a:pt x="215408" y="201340"/>
                  </a:lnTo>
                  <a:lnTo>
                    <a:pt x="217144" y="198573"/>
                  </a:lnTo>
                  <a:lnTo>
                    <a:pt x="219073" y="193242"/>
                  </a:lnTo>
                  <a:lnTo>
                    <a:pt x="220159" y="185480"/>
                  </a:lnTo>
                  <a:lnTo>
                    <a:pt x="220413" y="180367"/>
                  </a:lnTo>
                  <a:lnTo>
                    <a:pt x="219633" y="177818"/>
                  </a:lnTo>
                  <a:lnTo>
                    <a:pt x="216511" y="172728"/>
                  </a:lnTo>
                  <a:lnTo>
                    <a:pt x="213646" y="171032"/>
                  </a:lnTo>
                  <a:lnTo>
                    <a:pt x="210043" y="169901"/>
                  </a:lnTo>
                  <a:lnTo>
                    <a:pt x="205947" y="169148"/>
                  </a:lnTo>
                  <a:lnTo>
                    <a:pt x="201524" y="167799"/>
                  </a:lnTo>
                  <a:lnTo>
                    <a:pt x="196881" y="166052"/>
                  </a:lnTo>
                  <a:lnTo>
                    <a:pt x="192093" y="164042"/>
                  </a:lnTo>
                  <a:lnTo>
                    <a:pt x="187207" y="162701"/>
                  </a:lnTo>
                  <a:lnTo>
                    <a:pt x="182257" y="161807"/>
                  </a:lnTo>
                  <a:lnTo>
                    <a:pt x="177263" y="161212"/>
                  </a:lnTo>
                  <a:lnTo>
                    <a:pt x="172241" y="161661"/>
                  </a:lnTo>
                  <a:lnTo>
                    <a:pt x="167199" y="162808"/>
                  </a:lnTo>
                  <a:lnTo>
                    <a:pt x="162145" y="164419"/>
                  </a:lnTo>
                  <a:lnTo>
                    <a:pt x="157082" y="165492"/>
                  </a:lnTo>
                  <a:lnTo>
                    <a:pt x="152014" y="166208"/>
                  </a:lnTo>
                  <a:lnTo>
                    <a:pt x="146941" y="166685"/>
                  </a:lnTo>
                  <a:lnTo>
                    <a:pt x="141866" y="168697"/>
                  </a:lnTo>
                  <a:lnTo>
                    <a:pt x="136790" y="171731"/>
                  </a:lnTo>
                  <a:lnTo>
                    <a:pt x="131712" y="175448"/>
                  </a:lnTo>
                  <a:lnTo>
                    <a:pt x="127480" y="178772"/>
                  </a:lnTo>
                  <a:lnTo>
                    <a:pt x="123813" y="181835"/>
                  </a:lnTo>
                  <a:lnTo>
                    <a:pt x="117479" y="187495"/>
                  </a:lnTo>
                  <a:lnTo>
                    <a:pt x="111842" y="192834"/>
                  </a:lnTo>
                  <a:lnTo>
                    <a:pt x="110000" y="195442"/>
                  </a:lnTo>
                  <a:lnTo>
                    <a:pt x="107953" y="200599"/>
                  </a:lnTo>
                  <a:lnTo>
                    <a:pt x="108254" y="204006"/>
                  </a:lnTo>
                  <a:lnTo>
                    <a:pt x="109302" y="207971"/>
                  </a:lnTo>
                  <a:lnTo>
                    <a:pt x="112723" y="216045"/>
                  </a:lnTo>
                  <a:lnTo>
                    <a:pt x="117066" y="222456"/>
                  </a:lnTo>
                  <a:lnTo>
                    <a:pt x="120256" y="225350"/>
                  </a:lnTo>
                  <a:lnTo>
                    <a:pt x="124076" y="228127"/>
                  </a:lnTo>
                  <a:lnTo>
                    <a:pt x="128316" y="230825"/>
                  </a:lnTo>
                  <a:lnTo>
                    <a:pt x="133683" y="233470"/>
                  </a:lnTo>
                  <a:lnTo>
                    <a:pt x="139800" y="236080"/>
                  </a:lnTo>
                  <a:lnTo>
                    <a:pt x="146419" y="238667"/>
                  </a:lnTo>
                  <a:lnTo>
                    <a:pt x="152524" y="241238"/>
                  </a:lnTo>
                  <a:lnTo>
                    <a:pt x="158289" y="243799"/>
                  </a:lnTo>
                  <a:lnTo>
                    <a:pt x="169208" y="248902"/>
                  </a:lnTo>
                  <a:lnTo>
                    <a:pt x="179706" y="253992"/>
                  </a:lnTo>
                  <a:lnTo>
                    <a:pt x="184876" y="255688"/>
                  </a:lnTo>
                  <a:lnTo>
                    <a:pt x="190016" y="256819"/>
                  </a:lnTo>
                  <a:lnTo>
                    <a:pt x="205376" y="2590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MARTInkAnnotation215"/>
            <p:cNvSpPr/>
            <p:nvPr/>
          </p:nvSpPr>
          <p:spPr>
            <a:xfrm>
              <a:off x="5387760" y="2095920"/>
              <a:ext cx="91080" cy="37800"/>
            </a:xfrm>
            <a:custGeom>
              <a:avLst/>
              <a:gdLst>
                <a:gd name="textAreaLeft" fmla="*/ 0 w 91080"/>
                <a:gd name="textAreaRight" fmla="*/ 91080 w 91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91328" h="37968">
                  <a:moveTo>
                    <a:pt x="91327" y="7490"/>
                  </a:moveTo>
                  <a:lnTo>
                    <a:pt x="84766" y="14051"/>
                  </a:lnTo>
                  <a:lnTo>
                    <a:pt x="81920" y="14639"/>
                  </a:lnTo>
                  <a:lnTo>
                    <a:pt x="79976" y="14796"/>
                  </a:lnTo>
                  <a:lnTo>
                    <a:pt x="77833" y="15748"/>
                  </a:lnTo>
                  <a:lnTo>
                    <a:pt x="75557" y="17228"/>
                  </a:lnTo>
                  <a:lnTo>
                    <a:pt x="73195" y="19062"/>
                  </a:lnTo>
                  <a:lnTo>
                    <a:pt x="69925" y="21131"/>
                  </a:lnTo>
                  <a:lnTo>
                    <a:pt x="66052" y="23358"/>
                  </a:lnTo>
                  <a:lnTo>
                    <a:pt x="61777" y="25689"/>
                  </a:lnTo>
                  <a:lnTo>
                    <a:pt x="58081" y="27243"/>
                  </a:lnTo>
                  <a:lnTo>
                    <a:pt x="54769" y="28279"/>
                  </a:lnTo>
                  <a:lnTo>
                    <a:pt x="51715" y="28969"/>
                  </a:lnTo>
                  <a:lnTo>
                    <a:pt x="48833" y="29429"/>
                  </a:lnTo>
                  <a:lnTo>
                    <a:pt x="46064" y="29736"/>
                  </a:lnTo>
                  <a:lnTo>
                    <a:pt x="43372" y="29941"/>
                  </a:lnTo>
                  <a:lnTo>
                    <a:pt x="40730" y="30924"/>
                  </a:lnTo>
                  <a:lnTo>
                    <a:pt x="38122" y="32426"/>
                  </a:lnTo>
                  <a:lnTo>
                    <a:pt x="35537" y="34274"/>
                  </a:lnTo>
                  <a:lnTo>
                    <a:pt x="32967" y="35506"/>
                  </a:lnTo>
                  <a:lnTo>
                    <a:pt x="30407" y="36327"/>
                  </a:lnTo>
                  <a:lnTo>
                    <a:pt x="27854" y="36875"/>
                  </a:lnTo>
                  <a:lnTo>
                    <a:pt x="25305" y="37240"/>
                  </a:lnTo>
                  <a:lnTo>
                    <a:pt x="22759" y="37483"/>
                  </a:lnTo>
                  <a:lnTo>
                    <a:pt x="20215" y="37646"/>
                  </a:lnTo>
                  <a:lnTo>
                    <a:pt x="17673" y="36907"/>
                  </a:lnTo>
                  <a:lnTo>
                    <a:pt x="15131" y="35568"/>
                  </a:lnTo>
                  <a:lnTo>
                    <a:pt x="9013" y="31381"/>
                  </a:lnTo>
                  <a:lnTo>
                    <a:pt x="8511" y="30191"/>
                  </a:lnTo>
                  <a:lnTo>
                    <a:pt x="8177" y="28551"/>
                  </a:lnTo>
                  <a:lnTo>
                    <a:pt x="7953" y="26610"/>
                  </a:lnTo>
                  <a:lnTo>
                    <a:pt x="8651" y="25317"/>
                  </a:lnTo>
                  <a:lnTo>
                    <a:pt x="9963" y="24455"/>
                  </a:lnTo>
                  <a:lnTo>
                    <a:pt x="11685" y="23880"/>
                  </a:lnTo>
                  <a:lnTo>
                    <a:pt x="13679" y="22650"/>
                  </a:lnTo>
                  <a:lnTo>
                    <a:pt x="15854" y="20983"/>
                  </a:lnTo>
                  <a:lnTo>
                    <a:pt x="18152" y="19026"/>
                  </a:lnTo>
                  <a:lnTo>
                    <a:pt x="20531" y="16874"/>
                  </a:lnTo>
                  <a:lnTo>
                    <a:pt x="25431" y="12225"/>
                  </a:lnTo>
                  <a:lnTo>
                    <a:pt x="28770" y="9800"/>
                  </a:lnTo>
                  <a:lnTo>
                    <a:pt x="32689" y="7337"/>
                  </a:lnTo>
                  <a:lnTo>
                    <a:pt x="36995" y="4848"/>
                  </a:lnTo>
                  <a:lnTo>
                    <a:pt x="40713" y="3188"/>
                  </a:lnTo>
                  <a:lnTo>
                    <a:pt x="44038" y="2083"/>
                  </a:lnTo>
                  <a:lnTo>
                    <a:pt x="51412" y="307"/>
                  </a:lnTo>
                  <a:lnTo>
                    <a:pt x="52864" y="161"/>
                  </a:lnTo>
                  <a:lnTo>
                    <a:pt x="54678" y="65"/>
                  </a:lnTo>
                  <a:lnTo>
                    <a:pt x="56734" y="0"/>
                  </a:lnTo>
                  <a:lnTo>
                    <a:pt x="58952" y="803"/>
                  </a:lnTo>
                  <a:lnTo>
                    <a:pt x="61277" y="2185"/>
                  </a:lnTo>
                  <a:lnTo>
                    <a:pt x="63674" y="3953"/>
                  </a:lnTo>
                  <a:lnTo>
                    <a:pt x="65272" y="5979"/>
                  </a:lnTo>
                  <a:lnTo>
                    <a:pt x="66337" y="8176"/>
                  </a:lnTo>
                  <a:lnTo>
                    <a:pt x="68046" y="13740"/>
                  </a:lnTo>
                  <a:lnTo>
                    <a:pt x="67340" y="15043"/>
                  </a:lnTo>
                  <a:lnTo>
                    <a:pt x="66022" y="16759"/>
                  </a:lnTo>
                  <a:lnTo>
                    <a:pt x="64298" y="18749"/>
                  </a:lnTo>
                  <a:lnTo>
                    <a:pt x="62301" y="20076"/>
                  </a:lnTo>
                  <a:lnTo>
                    <a:pt x="60123" y="20961"/>
                  </a:lnTo>
                  <a:lnTo>
                    <a:pt x="57824" y="21551"/>
                  </a:lnTo>
                  <a:lnTo>
                    <a:pt x="56292" y="22791"/>
                  </a:lnTo>
                  <a:lnTo>
                    <a:pt x="55270" y="24464"/>
                  </a:lnTo>
                  <a:lnTo>
                    <a:pt x="54590" y="26426"/>
                  </a:lnTo>
                  <a:lnTo>
                    <a:pt x="53289" y="28581"/>
                  </a:lnTo>
                  <a:lnTo>
                    <a:pt x="51575" y="30864"/>
                  </a:lnTo>
                  <a:lnTo>
                    <a:pt x="49585" y="33232"/>
                  </a:lnTo>
                  <a:lnTo>
                    <a:pt x="47413" y="34812"/>
                  </a:lnTo>
                  <a:lnTo>
                    <a:pt x="45118" y="35865"/>
                  </a:lnTo>
                  <a:lnTo>
                    <a:pt x="42741" y="36567"/>
                  </a:lnTo>
                  <a:lnTo>
                    <a:pt x="40309" y="37034"/>
                  </a:lnTo>
                  <a:lnTo>
                    <a:pt x="37842" y="37346"/>
                  </a:lnTo>
                  <a:lnTo>
                    <a:pt x="35350" y="37554"/>
                  </a:lnTo>
                  <a:lnTo>
                    <a:pt x="32843" y="37693"/>
                  </a:lnTo>
                  <a:lnTo>
                    <a:pt x="27799" y="37847"/>
                  </a:lnTo>
                  <a:lnTo>
                    <a:pt x="4221" y="37967"/>
                  </a:lnTo>
                  <a:lnTo>
                    <a:pt x="2776" y="37121"/>
                  </a:lnTo>
                  <a:lnTo>
                    <a:pt x="1813" y="35711"/>
                  </a:lnTo>
                  <a:lnTo>
                    <a:pt x="267" y="31409"/>
                  </a:lnTo>
                  <a:lnTo>
                    <a:pt x="141" y="30209"/>
                  </a:lnTo>
                  <a:lnTo>
                    <a:pt x="56" y="28563"/>
                  </a:lnTo>
                  <a:lnTo>
                    <a:pt x="0" y="26619"/>
                  </a:lnTo>
                  <a:lnTo>
                    <a:pt x="809" y="24476"/>
                  </a:lnTo>
                  <a:lnTo>
                    <a:pt x="2196" y="22201"/>
                  </a:lnTo>
                  <a:lnTo>
                    <a:pt x="6458" y="16511"/>
                  </a:lnTo>
                  <a:lnTo>
                    <a:pt x="8501" y="15197"/>
                  </a:lnTo>
                  <a:lnTo>
                    <a:pt x="11557" y="13475"/>
                  </a:lnTo>
                  <a:lnTo>
                    <a:pt x="15287" y="11480"/>
                  </a:lnTo>
                  <a:lnTo>
                    <a:pt x="17773" y="9303"/>
                  </a:lnTo>
                  <a:lnTo>
                    <a:pt x="19432" y="7006"/>
                  </a:lnTo>
                  <a:lnTo>
                    <a:pt x="20537" y="4627"/>
                  </a:lnTo>
                  <a:lnTo>
                    <a:pt x="22120" y="3042"/>
                  </a:lnTo>
                  <a:lnTo>
                    <a:pt x="24022" y="1984"/>
                  </a:lnTo>
                  <a:lnTo>
                    <a:pt x="29114" y="288"/>
                  </a:lnTo>
                  <a:lnTo>
                    <a:pt x="29532" y="995"/>
                  </a:lnTo>
                  <a:lnTo>
                    <a:pt x="29811" y="2314"/>
                  </a:lnTo>
                  <a:lnTo>
                    <a:pt x="30258" y="6468"/>
                  </a:lnTo>
                  <a:lnTo>
                    <a:pt x="29447" y="7655"/>
                  </a:lnTo>
                  <a:lnTo>
                    <a:pt x="28061" y="9293"/>
                  </a:lnTo>
                  <a:lnTo>
                    <a:pt x="23058" y="14770"/>
                  </a:lnTo>
                  <a:lnTo>
                    <a:pt x="22954" y="15730"/>
                  </a:lnTo>
                  <a:lnTo>
                    <a:pt x="22885" y="17217"/>
                  </a:lnTo>
                  <a:lnTo>
                    <a:pt x="22747" y="227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MARTInkAnnotation216"/>
            <p:cNvSpPr/>
            <p:nvPr/>
          </p:nvSpPr>
          <p:spPr>
            <a:xfrm>
              <a:off x="5585760" y="1989360"/>
              <a:ext cx="227160" cy="2890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27377" h="289217">
                  <a:moveTo>
                    <a:pt x="0" y="22516"/>
                  </a:moveTo>
                  <a:lnTo>
                    <a:pt x="17912" y="22516"/>
                  </a:lnTo>
                  <a:lnTo>
                    <a:pt x="21254" y="23363"/>
                  </a:lnTo>
                  <a:lnTo>
                    <a:pt x="25176" y="24774"/>
                  </a:lnTo>
                  <a:lnTo>
                    <a:pt x="29484" y="26561"/>
                  </a:lnTo>
                  <a:lnTo>
                    <a:pt x="34050" y="27753"/>
                  </a:lnTo>
                  <a:lnTo>
                    <a:pt x="38786" y="28547"/>
                  </a:lnTo>
                  <a:lnTo>
                    <a:pt x="43637" y="29077"/>
                  </a:lnTo>
                  <a:lnTo>
                    <a:pt x="48565" y="29430"/>
                  </a:lnTo>
                  <a:lnTo>
                    <a:pt x="53543" y="29665"/>
                  </a:lnTo>
                  <a:lnTo>
                    <a:pt x="64437" y="29927"/>
                  </a:lnTo>
                  <a:lnTo>
                    <a:pt x="77745" y="30043"/>
                  </a:lnTo>
                  <a:lnTo>
                    <a:pt x="84850" y="29227"/>
                  </a:lnTo>
                  <a:lnTo>
                    <a:pt x="92126" y="27837"/>
                  </a:lnTo>
                  <a:lnTo>
                    <a:pt x="99518" y="26063"/>
                  </a:lnTo>
                  <a:lnTo>
                    <a:pt x="106139" y="24881"/>
                  </a:lnTo>
                  <a:lnTo>
                    <a:pt x="112246" y="24093"/>
                  </a:lnTo>
                  <a:lnTo>
                    <a:pt x="118011" y="23567"/>
                  </a:lnTo>
                  <a:lnTo>
                    <a:pt x="124394" y="23217"/>
                  </a:lnTo>
                  <a:lnTo>
                    <a:pt x="138260" y="22828"/>
                  </a:lnTo>
                  <a:lnTo>
                    <a:pt x="144666" y="21877"/>
                  </a:lnTo>
                  <a:lnTo>
                    <a:pt x="150631" y="20397"/>
                  </a:lnTo>
                  <a:lnTo>
                    <a:pt x="156301" y="18563"/>
                  </a:lnTo>
                  <a:lnTo>
                    <a:pt x="162621" y="17341"/>
                  </a:lnTo>
                  <a:lnTo>
                    <a:pt x="169374" y="16526"/>
                  </a:lnTo>
                  <a:lnTo>
                    <a:pt x="176417" y="15983"/>
                  </a:lnTo>
                  <a:lnTo>
                    <a:pt x="181958" y="14774"/>
                  </a:lnTo>
                  <a:lnTo>
                    <a:pt x="186499" y="13121"/>
                  </a:lnTo>
                  <a:lnTo>
                    <a:pt x="190372" y="11173"/>
                  </a:lnTo>
                  <a:lnTo>
                    <a:pt x="194648" y="9874"/>
                  </a:lnTo>
                  <a:lnTo>
                    <a:pt x="199192" y="9008"/>
                  </a:lnTo>
                  <a:lnTo>
                    <a:pt x="203915" y="8431"/>
                  </a:lnTo>
                  <a:lnTo>
                    <a:pt x="207910" y="7199"/>
                  </a:lnTo>
                  <a:lnTo>
                    <a:pt x="214607" y="3573"/>
                  </a:lnTo>
                  <a:lnTo>
                    <a:pt x="219092" y="817"/>
                  </a:lnTo>
                  <a:lnTo>
                    <a:pt x="222399" y="172"/>
                  </a:lnTo>
                  <a:lnTo>
                    <a:pt x="224466" y="0"/>
                  </a:lnTo>
                  <a:lnTo>
                    <a:pt x="225845" y="732"/>
                  </a:lnTo>
                  <a:lnTo>
                    <a:pt x="226763" y="2067"/>
                  </a:lnTo>
                  <a:lnTo>
                    <a:pt x="227376" y="3803"/>
                  </a:lnTo>
                  <a:lnTo>
                    <a:pt x="226938" y="4961"/>
                  </a:lnTo>
                  <a:lnTo>
                    <a:pt x="225798" y="5733"/>
                  </a:lnTo>
                  <a:lnTo>
                    <a:pt x="224192" y="6247"/>
                  </a:lnTo>
                  <a:lnTo>
                    <a:pt x="223122" y="7437"/>
                  </a:lnTo>
                  <a:lnTo>
                    <a:pt x="222408" y="9076"/>
                  </a:lnTo>
                  <a:lnTo>
                    <a:pt x="221932" y="11016"/>
                  </a:lnTo>
                  <a:lnTo>
                    <a:pt x="219145" y="15430"/>
                  </a:lnTo>
                  <a:lnTo>
                    <a:pt x="215085" y="21060"/>
                  </a:lnTo>
                  <a:lnTo>
                    <a:pt x="210458" y="29207"/>
                  </a:lnTo>
                  <a:lnTo>
                    <a:pt x="205579" y="36214"/>
                  </a:lnTo>
                  <a:lnTo>
                    <a:pt x="203093" y="39268"/>
                  </a:lnTo>
                  <a:lnTo>
                    <a:pt x="200588" y="43844"/>
                  </a:lnTo>
                  <a:lnTo>
                    <a:pt x="198072" y="49435"/>
                  </a:lnTo>
                  <a:lnTo>
                    <a:pt x="195548" y="55702"/>
                  </a:lnTo>
                  <a:lnTo>
                    <a:pt x="193019" y="61573"/>
                  </a:lnTo>
                  <a:lnTo>
                    <a:pt x="187951" y="72612"/>
                  </a:lnTo>
                  <a:lnTo>
                    <a:pt x="184567" y="77927"/>
                  </a:lnTo>
                  <a:lnTo>
                    <a:pt x="180619" y="83163"/>
                  </a:lnTo>
                  <a:lnTo>
                    <a:pt x="176292" y="88348"/>
                  </a:lnTo>
                  <a:lnTo>
                    <a:pt x="171715" y="94344"/>
                  </a:lnTo>
                  <a:lnTo>
                    <a:pt x="166970" y="100881"/>
                  </a:lnTo>
                  <a:lnTo>
                    <a:pt x="157182" y="114918"/>
                  </a:lnTo>
                  <a:lnTo>
                    <a:pt x="147188" y="129624"/>
                  </a:lnTo>
                  <a:lnTo>
                    <a:pt x="142998" y="136255"/>
                  </a:lnTo>
                  <a:lnTo>
                    <a:pt x="139359" y="142368"/>
                  </a:lnTo>
                  <a:lnTo>
                    <a:pt x="136086" y="148138"/>
                  </a:lnTo>
                  <a:lnTo>
                    <a:pt x="132210" y="154524"/>
                  </a:lnTo>
                  <a:lnTo>
                    <a:pt x="123390" y="168393"/>
                  </a:lnTo>
                  <a:lnTo>
                    <a:pt x="119513" y="175647"/>
                  </a:lnTo>
                  <a:lnTo>
                    <a:pt x="116082" y="183024"/>
                  </a:lnTo>
                  <a:lnTo>
                    <a:pt x="112948" y="190481"/>
                  </a:lnTo>
                  <a:lnTo>
                    <a:pt x="109165" y="197146"/>
                  </a:lnTo>
                  <a:lnTo>
                    <a:pt x="104950" y="203283"/>
                  </a:lnTo>
                  <a:lnTo>
                    <a:pt x="100447" y="209067"/>
                  </a:lnTo>
                  <a:lnTo>
                    <a:pt x="96598" y="214617"/>
                  </a:lnTo>
                  <a:lnTo>
                    <a:pt x="93186" y="220010"/>
                  </a:lnTo>
                  <a:lnTo>
                    <a:pt x="90064" y="225299"/>
                  </a:lnTo>
                  <a:lnTo>
                    <a:pt x="87136" y="230518"/>
                  </a:lnTo>
                  <a:lnTo>
                    <a:pt x="81625" y="240832"/>
                  </a:lnTo>
                  <a:lnTo>
                    <a:pt x="73763" y="256159"/>
                  </a:lnTo>
                  <a:lnTo>
                    <a:pt x="68626" y="264082"/>
                  </a:lnTo>
                  <a:lnTo>
                    <a:pt x="63520" y="270425"/>
                  </a:lnTo>
                  <a:lnTo>
                    <a:pt x="58429" y="276067"/>
                  </a:lnTo>
                  <a:lnTo>
                    <a:pt x="56733" y="278756"/>
                  </a:lnTo>
                  <a:lnTo>
                    <a:pt x="53786" y="287671"/>
                  </a:lnTo>
                  <a:lnTo>
                    <a:pt x="53340" y="289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MARTInkAnnotation217"/>
            <p:cNvSpPr/>
            <p:nvPr/>
          </p:nvSpPr>
          <p:spPr>
            <a:xfrm>
              <a:off x="5578200" y="2171880"/>
              <a:ext cx="228600" cy="22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8601" h="22861">
                  <a:moveTo>
                    <a:pt x="0" y="22860"/>
                  </a:moveTo>
                  <a:lnTo>
                    <a:pt x="6560" y="16299"/>
                  </a:lnTo>
                  <a:lnTo>
                    <a:pt x="9407" y="15711"/>
                  </a:lnTo>
                  <a:lnTo>
                    <a:pt x="11351" y="15554"/>
                  </a:lnTo>
                  <a:lnTo>
                    <a:pt x="14340" y="14603"/>
                  </a:lnTo>
                  <a:lnTo>
                    <a:pt x="18027" y="13122"/>
                  </a:lnTo>
                  <a:lnTo>
                    <a:pt x="22178" y="11288"/>
                  </a:lnTo>
                  <a:lnTo>
                    <a:pt x="26638" y="10065"/>
                  </a:lnTo>
                  <a:lnTo>
                    <a:pt x="31305" y="9250"/>
                  </a:lnTo>
                  <a:lnTo>
                    <a:pt x="36110" y="8707"/>
                  </a:lnTo>
                  <a:lnTo>
                    <a:pt x="41853" y="8344"/>
                  </a:lnTo>
                  <a:lnTo>
                    <a:pt x="48222" y="8103"/>
                  </a:lnTo>
                  <a:lnTo>
                    <a:pt x="69321" y="7763"/>
                  </a:lnTo>
                  <a:lnTo>
                    <a:pt x="99206" y="7648"/>
                  </a:lnTo>
                  <a:lnTo>
                    <a:pt x="106777" y="6792"/>
                  </a:lnTo>
                  <a:lnTo>
                    <a:pt x="114365" y="5375"/>
                  </a:lnTo>
                  <a:lnTo>
                    <a:pt x="121963" y="3584"/>
                  </a:lnTo>
                  <a:lnTo>
                    <a:pt x="129568" y="2389"/>
                  </a:lnTo>
                  <a:lnTo>
                    <a:pt x="137179" y="1593"/>
                  </a:lnTo>
                  <a:lnTo>
                    <a:pt x="144793" y="1062"/>
                  </a:lnTo>
                  <a:lnTo>
                    <a:pt x="152408" y="708"/>
                  </a:lnTo>
                  <a:lnTo>
                    <a:pt x="167643" y="315"/>
                  </a:lnTo>
                  <a:lnTo>
                    <a:pt x="210904" y="12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MARTInkAnnotation218"/>
            <p:cNvSpPr/>
            <p:nvPr/>
          </p:nvSpPr>
          <p:spPr>
            <a:xfrm>
              <a:off x="5830200" y="2134800"/>
              <a:ext cx="304200" cy="12816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223" h="128312">
                  <a:moveTo>
                    <a:pt x="113722" y="21772"/>
                  </a:moveTo>
                  <a:lnTo>
                    <a:pt x="120283" y="21772"/>
                  </a:lnTo>
                  <a:lnTo>
                    <a:pt x="120636" y="20925"/>
                  </a:lnTo>
                  <a:lnTo>
                    <a:pt x="121028" y="17727"/>
                  </a:lnTo>
                  <a:lnTo>
                    <a:pt x="121980" y="16535"/>
                  </a:lnTo>
                  <a:lnTo>
                    <a:pt x="123461" y="15741"/>
                  </a:lnTo>
                  <a:lnTo>
                    <a:pt x="127875" y="14466"/>
                  </a:lnTo>
                  <a:lnTo>
                    <a:pt x="128238" y="13515"/>
                  </a:lnTo>
                  <a:lnTo>
                    <a:pt x="128640" y="10200"/>
                  </a:lnTo>
                  <a:lnTo>
                    <a:pt x="128867" y="7619"/>
                  </a:lnTo>
                  <a:lnTo>
                    <a:pt x="128052" y="7256"/>
                  </a:lnTo>
                  <a:lnTo>
                    <a:pt x="124888" y="6854"/>
                  </a:lnTo>
                  <a:lnTo>
                    <a:pt x="122860" y="5900"/>
                  </a:lnTo>
                  <a:lnTo>
                    <a:pt x="118347" y="2582"/>
                  </a:lnTo>
                  <a:lnTo>
                    <a:pt x="115093" y="0"/>
                  </a:lnTo>
                  <a:lnTo>
                    <a:pt x="109816" y="1653"/>
                  </a:lnTo>
                  <a:lnTo>
                    <a:pt x="106038" y="3280"/>
                  </a:lnTo>
                  <a:lnTo>
                    <a:pt x="97325" y="5087"/>
                  </a:lnTo>
                  <a:lnTo>
                    <a:pt x="92631" y="5569"/>
                  </a:lnTo>
                  <a:lnTo>
                    <a:pt x="87808" y="6736"/>
                  </a:lnTo>
                  <a:lnTo>
                    <a:pt x="82899" y="8362"/>
                  </a:lnTo>
                  <a:lnTo>
                    <a:pt x="77933" y="10292"/>
                  </a:lnTo>
                  <a:lnTo>
                    <a:pt x="72930" y="13272"/>
                  </a:lnTo>
                  <a:lnTo>
                    <a:pt x="67900" y="16952"/>
                  </a:lnTo>
                  <a:lnTo>
                    <a:pt x="62855" y="21099"/>
                  </a:lnTo>
                  <a:lnTo>
                    <a:pt x="57797" y="24710"/>
                  </a:lnTo>
                  <a:lnTo>
                    <a:pt x="52732" y="27964"/>
                  </a:lnTo>
                  <a:lnTo>
                    <a:pt x="47662" y="30980"/>
                  </a:lnTo>
                  <a:lnTo>
                    <a:pt x="42589" y="34684"/>
                  </a:lnTo>
                  <a:lnTo>
                    <a:pt x="37513" y="38847"/>
                  </a:lnTo>
                  <a:lnTo>
                    <a:pt x="32436" y="43315"/>
                  </a:lnTo>
                  <a:lnTo>
                    <a:pt x="27358" y="47141"/>
                  </a:lnTo>
                  <a:lnTo>
                    <a:pt x="22279" y="50538"/>
                  </a:lnTo>
                  <a:lnTo>
                    <a:pt x="17200" y="53649"/>
                  </a:lnTo>
                  <a:lnTo>
                    <a:pt x="12968" y="57417"/>
                  </a:lnTo>
                  <a:lnTo>
                    <a:pt x="9299" y="61622"/>
                  </a:lnTo>
                  <a:lnTo>
                    <a:pt x="6007" y="66119"/>
                  </a:lnTo>
                  <a:lnTo>
                    <a:pt x="3812" y="70810"/>
                  </a:lnTo>
                  <a:lnTo>
                    <a:pt x="2348" y="75630"/>
                  </a:lnTo>
                  <a:lnTo>
                    <a:pt x="1373" y="80538"/>
                  </a:lnTo>
                  <a:lnTo>
                    <a:pt x="723" y="84656"/>
                  </a:lnTo>
                  <a:lnTo>
                    <a:pt x="289" y="88248"/>
                  </a:lnTo>
                  <a:lnTo>
                    <a:pt x="0" y="91489"/>
                  </a:lnTo>
                  <a:lnTo>
                    <a:pt x="654" y="95343"/>
                  </a:lnTo>
                  <a:lnTo>
                    <a:pt x="1937" y="99606"/>
                  </a:lnTo>
                  <a:lnTo>
                    <a:pt x="3638" y="104141"/>
                  </a:lnTo>
                  <a:lnTo>
                    <a:pt x="5620" y="108011"/>
                  </a:lnTo>
                  <a:lnTo>
                    <a:pt x="7787" y="111438"/>
                  </a:lnTo>
                  <a:lnTo>
                    <a:pt x="10079" y="114569"/>
                  </a:lnTo>
                  <a:lnTo>
                    <a:pt x="13300" y="117504"/>
                  </a:lnTo>
                  <a:lnTo>
                    <a:pt x="17141" y="120306"/>
                  </a:lnTo>
                  <a:lnTo>
                    <a:pt x="21394" y="123021"/>
                  </a:lnTo>
                  <a:lnTo>
                    <a:pt x="30636" y="126038"/>
                  </a:lnTo>
                  <a:lnTo>
                    <a:pt x="35472" y="126843"/>
                  </a:lnTo>
                  <a:lnTo>
                    <a:pt x="40388" y="127379"/>
                  </a:lnTo>
                  <a:lnTo>
                    <a:pt x="45360" y="127737"/>
                  </a:lnTo>
                  <a:lnTo>
                    <a:pt x="50367" y="127975"/>
                  </a:lnTo>
                  <a:lnTo>
                    <a:pt x="60447" y="128240"/>
                  </a:lnTo>
                  <a:lnTo>
                    <a:pt x="65505" y="128311"/>
                  </a:lnTo>
                  <a:lnTo>
                    <a:pt x="70571" y="127511"/>
                  </a:lnTo>
                  <a:lnTo>
                    <a:pt x="75641" y="126131"/>
                  </a:lnTo>
                  <a:lnTo>
                    <a:pt x="80715" y="124365"/>
                  </a:lnTo>
                  <a:lnTo>
                    <a:pt x="85791" y="122341"/>
                  </a:lnTo>
                  <a:lnTo>
                    <a:pt x="90868" y="120144"/>
                  </a:lnTo>
                  <a:lnTo>
                    <a:pt x="95946" y="117833"/>
                  </a:lnTo>
                  <a:lnTo>
                    <a:pt x="101025" y="114600"/>
                  </a:lnTo>
                  <a:lnTo>
                    <a:pt x="106104" y="110751"/>
                  </a:lnTo>
                  <a:lnTo>
                    <a:pt x="111183" y="106491"/>
                  </a:lnTo>
                  <a:lnTo>
                    <a:pt x="115416" y="102804"/>
                  </a:lnTo>
                  <a:lnTo>
                    <a:pt x="122378" y="96451"/>
                  </a:lnTo>
                  <a:lnTo>
                    <a:pt x="124572" y="93571"/>
                  </a:lnTo>
                  <a:lnTo>
                    <a:pt x="126036" y="90805"/>
                  </a:lnTo>
                  <a:lnTo>
                    <a:pt x="127011" y="88114"/>
                  </a:lnTo>
                  <a:lnTo>
                    <a:pt x="128508" y="84627"/>
                  </a:lnTo>
                  <a:lnTo>
                    <a:pt x="132429" y="76236"/>
                  </a:lnTo>
                  <a:lnTo>
                    <a:pt x="133813" y="72475"/>
                  </a:lnTo>
                  <a:lnTo>
                    <a:pt x="134736" y="69121"/>
                  </a:lnTo>
                  <a:lnTo>
                    <a:pt x="135351" y="66038"/>
                  </a:lnTo>
                  <a:lnTo>
                    <a:pt x="136609" y="63982"/>
                  </a:lnTo>
                  <a:lnTo>
                    <a:pt x="138293" y="62612"/>
                  </a:lnTo>
                  <a:lnTo>
                    <a:pt x="140262" y="61699"/>
                  </a:lnTo>
                  <a:lnTo>
                    <a:pt x="141576" y="60243"/>
                  </a:lnTo>
                  <a:lnTo>
                    <a:pt x="142451" y="58426"/>
                  </a:lnTo>
                  <a:lnTo>
                    <a:pt x="144189" y="52299"/>
                  </a:lnTo>
                  <a:lnTo>
                    <a:pt x="144202" y="52255"/>
                  </a:lnTo>
                  <a:lnTo>
                    <a:pt x="168896" y="76946"/>
                  </a:lnTo>
                  <a:lnTo>
                    <a:pt x="172518" y="79721"/>
                  </a:lnTo>
                  <a:lnTo>
                    <a:pt x="176626" y="82418"/>
                  </a:lnTo>
                  <a:lnTo>
                    <a:pt x="181058" y="85063"/>
                  </a:lnTo>
                  <a:lnTo>
                    <a:pt x="185706" y="87673"/>
                  </a:lnTo>
                  <a:lnTo>
                    <a:pt x="195386" y="92830"/>
                  </a:lnTo>
                  <a:lnTo>
                    <a:pt x="200338" y="94544"/>
                  </a:lnTo>
                  <a:lnTo>
                    <a:pt x="205333" y="95686"/>
                  </a:lnTo>
                  <a:lnTo>
                    <a:pt x="210356" y="96448"/>
                  </a:lnTo>
                  <a:lnTo>
                    <a:pt x="216245" y="97803"/>
                  </a:lnTo>
                  <a:lnTo>
                    <a:pt x="222711" y="99552"/>
                  </a:lnTo>
                  <a:lnTo>
                    <a:pt x="229561" y="101566"/>
                  </a:lnTo>
                  <a:lnTo>
                    <a:pt x="235822" y="102908"/>
                  </a:lnTo>
                  <a:lnTo>
                    <a:pt x="241689" y="103802"/>
                  </a:lnTo>
                  <a:lnTo>
                    <a:pt x="247293" y="104399"/>
                  </a:lnTo>
                  <a:lnTo>
                    <a:pt x="252723" y="105643"/>
                  </a:lnTo>
                  <a:lnTo>
                    <a:pt x="258036" y="107319"/>
                  </a:lnTo>
                  <a:lnTo>
                    <a:pt x="263271" y="109284"/>
                  </a:lnTo>
                  <a:lnTo>
                    <a:pt x="271346" y="111466"/>
                  </a:lnTo>
                  <a:lnTo>
                    <a:pt x="278604" y="112436"/>
                  </a:lnTo>
                  <a:lnTo>
                    <a:pt x="287474" y="112867"/>
                  </a:lnTo>
                  <a:lnTo>
                    <a:pt x="304222" y="1132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MARTInkAnnotation219"/>
            <p:cNvSpPr/>
            <p:nvPr/>
          </p:nvSpPr>
          <p:spPr>
            <a:xfrm>
              <a:off x="6165000" y="214884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13">
                  <a:moveTo>
                    <a:pt x="0" y="7612"/>
                  </a:moveTo>
                  <a:lnTo>
                    <a:pt x="22178" y="7612"/>
                  </a:lnTo>
                  <a:lnTo>
                    <a:pt x="25792" y="6766"/>
                  </a:lnTo>
                  <a:lnTo>
                    <a:pt x="29048" y="5354"/>
                  </a:lnTo>
                  <a:lnTo>
                    <a:pt x="32065" y="3567"/>
                  </a:lnTo>
                  <a:lnTo>
                    <a:pt x="35771" y="2375"/>
                  </a:lnTo>
                  <a:lnTo>
                    <a:pt x="39933" y="1581"/>
                  </a:lnTo>
                  <a:lnTo>
                    <a:pt x="44402" y="1051"/>
                  </a:lnTo>
                  <a:lnTo>
                    <a:pt x="49921" y="698"/>
                  </a:lnTo>
                  <a:lnTo>
                    <a:pt x="56141" y="463"/>
                  </a:lnTo>
                  <a:lnTo>
                    <a:pt x="74772" y="132"/>
                  </a:lnTo>
                  <a:lnTo>
                    <a:pt x="115722" y="0"/>
                  </a:lnTo>
                  <a:lnTo>
                    <a:pt x="122021" y="844"/>
                  </a:lnTo>
                  <a:lnTo>
                    <a:pt x="127914" y="2253"/>
                  </a:lnTo>
                  <a:lnTo>
                    <a:pt x="133536" y="4040"/>
                  </a:lnTo>
                  <a:lnTo>
                    <a:pt x="138977" y="5230"/>
                  </a:lnTo>
                  <a:lnTo>
                    <a:pt x="144298" y="6024"/>
                  </a:lnTo>
                  <a:lnTo>
                    <a:pt x="149539" y="6554"/>
                  </a:lnTo>
                  <a:lnTo>
                    <a:pt x="155573" y="6906"/>
                  </a:lnTo>
                  <a:lnTo>
                    <a:pt x="169050" y="7298"/>
                  </a:lnTo>
                  <a:lnTo>
                    <a:pt x="189349" y="7571"/>
                  </a:lnTo>
                  <a:lnTo>
                    <a:pt x="228600" y="76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MARTInkAnnotation220"/>
            <p:cNvSpPr/>
            <p:nvPr/>
          </p:nvSpPr>
          <p:spPr>
            <a:xfrm>
              <a:off x="6515640" y="2034720"/>
              <a:ext cx="151920" cy="910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152048" h="91339">
                  <a:moveTo>
                    <a:pt x="45367" y="0"/>
                  </a:moveTo>
                  <a:lnTo>
                    <a:pt x="45367" y="14088"/>
                  </a:lnTo>
                  <a:lnTo>
                    <a:pt x="44521" y="15319"/>
                  </a:lnTo>
                  <a:lnTo>
                    <a:pt x="43109" y="16986"/>
                  </a:lnTo>
                  <a:lnTo>
                    <a:pt x="41322" y="18944"/>
                  </a:lnTo>
                  <a:lnTo>
                    <a:pt x="40131" y="21096"/>
                  </a:lnTo>
                  <a:lnTo>
                    <a:pt x="39335" y="23377"/>
                  </a:lnTo>
                  <a:lnTo>
                    <a:pt x="38807" y="25745"/>
                  </a:lnTo>
                  <a:lnTo>
                    <a:pt x="37607" y="28170"/>
                  </a:lnTo>
                  <a:lnTo>
                    <a:pt x="35960" y="30633"/>
                  </a:lnTo>
                  <a:lnTo>
                    <a:pt x="34016" y="33122"/>
                  </a:lnTo>
                  <a:lnTo>
                    <a:pt x="31873" y="35628"/>
                  </a:lnTo>
                  <a:lnTo>
                    <a:pt x="29598" y="38146"/>
                  </a:lnTo>
                  <a:lnTo>
                    <a:pt x="24812" y="43200"/>
                  </a:lnTo>
                  <a:lnTo>
                    <a:pt x="8763" y="59456"/>
                  </a:lnTo>
                  <a:lnTo>
                    <a:pt x="7418" y="61651"/>
                  </a:lnTo>
                  <a:lnTo>
                    <a:pt x="5674" y="64807"/>
                  </a:lnTo>
                  <a:lnTo>
                    <a:pt x="838" y="73950"/>
                  </a:lnTo>
                  <a:lnTo>
                    <a:pt x="442" y="75547"/>
                  </a:lnTo>
                  <a:lnTo>
                    <a:pt x="176" y="77458"/>
                  </a:lnTo>
                  <a:lnTo>
                    <a:pt x="0" y="79579"/>
                  </a:lnTo>
                  <a:lnTo>
                    <a:pt x="729" y="80992"/>
                  </a:lnTo>
                  <a:lnTo>
                    <a:pt x="2061" y="81935"/>
                  </a:lnTo>
                  <a:lnTo>
                    <a:pt x="3796" y="82564"/>
                  </a:lnTo>
                  <a:lnTo>
                    <a:pt x="4953" y="83829"/>
                  </a:lnTo>
                  <a:lnTo>
                    <a:pt x="5725" y="85519"/>
                  </a:lnTo>
                  <a:lnTo>
                    <a:pt x="6240" y="87493"/>
                  </a:lnTo>
                  <a:lnTo>
                    <a:pt x="8274" y="88809"/>
                  </a:lnTo>
                  <a:lnTo>
                    <a:pt x="11325" y="89686"/>
                  </a:lnTo>
                  <a:lnTo>
                    <a:pt x="15053" y="90271"/>
                  </a:lnTo>
                  <a:lnTo>
                    <a:pt x="18385" y="90661"/>
                  </a:lnTo>
                  <a:lnTo>
                    <a:pt x="21453" y="90920"/>
                  </a:lnTo>
                  <a:lnTo>
                    <a:pt x="24343" y="91094"/>
                  </a:lnTo>
                  <a:lnTo>
                    <a:pt x="32072" y="91286"/>
                  </a:lnTo>
                  <a:lnTo>
                    <a:pt x="36504" y="91338"/>
                  </a:lnTo>
                  <a:lnTo>
                    <a:pt x="41151" y="90525"/>
                  </a:lnTo>
                  <a:lnTo>
                    <a:pt x="45943" y="89137"/>
                  </a:lnTo>
                  <a:lnTo>
                    <a:pt x="50831" y="87365"/>
                  </a:lnTo>
                  <a:lnTo>
                    <a:pt x="55783" y="86183"/>
                  </a:lnTo>
                  <a:lnTo>
                    <a:pt x="60778" y="85396"/>
                  </a:lnTo>
                  <a:lnTo>
                    <a:pt x="65801" y="84870"/>
                  </a:lnTo>
                  <a:lnTo>
                    <a:pt x="70843" y="83674"/>
                  </a:lnTo>
                  <a:lnTo>
                    <a:pt x="75897" y="82029"/>
                  </a:lnTo>
                  <a:lnTo>
                    <a:pt x="80961" y="80086"/>
                  </a:lnTo>
                  <a:lnTo>
                    <a:pt x="86877" y="78791"/>
                  </a:lnTo>
                  <a:lnTo>
                    <a:pt x="93360" y="77927"/>
                  </a:lnTo>
                  <a:lnTo>
                    <a:pt x="100222" y="77351"/>
                  </a:lnTo>
                  <a:lnTo>
                    <a:pt x="106491" y="76121"/>
                  </a:lnTo>
                  <a:lnTo>
                    <a:pt x="112363" y="74454"/>
                  </a:lnTo>
                  <a:lnTo>
                    <a:pt x="117971" y="72496"/>
                  </a:lnTo>
                  <a:lnTo>
                    <a:pt x="122557" y="69498"/>
                  </a:lnTo>
                  <a:lnTo>
                    <a:pt x="126460" y="65805"/>
                  </a:lnTo>
                  <a:lnTo>
                    <a:pt x="129910" y="61650"/>
                  </a:lnTo>
                  <a:lnTo>
                    <a:pt x="133902" y="58880"/>
                  </a:lnTo>
                  <a:lnTo>
                    <a:pt x="138256" y="57034"/>
                  </a:lnTo>
                  <a:lnTo>
                    <a:pt x="142853" y="55802"/>
                  </a:lnTo>
                  <a:lnTo>
                    <a:pt x="145918" y="54135"/>
                  </a:lnTo>
                  <a:lnTo>
                    <a:pt x="147961" y="52177"/>
                  </a:lnTo>
                  <a:lnTo>
                    <a:pt x="152047" y="457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SMARTInkAnnotation221"/>
            <p:cNvSpPr/>
            <p:nvPr/>
          </p:nvSpPr>
          <p:spPr>
            <a:xfrm>
              <a:off x="6629760" y="1981440"/>
              <a:ext cx="75960" cy="312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76096" h="312421">
                  <a:moveTo>
                    <a:pt x="76095" y="0"/>
                  </a:moveTo>
                  <a:lnTo>
                    <a:pt x="72050" y="4045"/>
                  </a:lnTo>
                  <a:lnTo>
                    <a:pt x="70858" y="6084"/>
                  </a:lnTo>
                  <a:lnTo>
                    <a:pt x="69534" y="10606"/>
                  </a:lnTo>
                  <a:lnTo>
                    <a:pt x="68788" y="17912"/>
                  </a:lnTo>
                  <a:lnTo>
                    <a:pt x="67838" y="21255"/>
                  </a:lnTo>
                  <a:lnTo>
                    <a:pt x="66357" y="25177"/>
                  </a:lnTo>
                  <a:lnTo>
                    <a:pt x="64523" y="29485"/>
                  </a:lnTo>
                  <a:lnTo>
                    <a:pt x="62486" y="38787"/>
                  </a:lnTo>
                  <a:lnTo>
                    <a:pt x="61942" y="43638"/>
                  </a:lnTo>
                  <a:lnTo>
                    <a:pt x="60733" y="48565"/>
                  </a:lnTo>
                  <a:lnTo>
                    <a:pt x="59081" y="53544"/>
                  </a:lnTo>
                  <a:lnTo>
                    <a:pt x="57133" y="58556"/>
                  </a:lnTo>
                  <a:lnTo>
                    <a:pt x="52710" y="70898"/>
                  </a:lnTo>
                  <a:lnTo>
                    <a:pt x="50345" y="77745"/>
                  </a:lnTo>
                  <a:lnTo>
                    <a:pt x="47922" y="84004"/>
                  </a:lnTo>
                  <a:lnTo>
                    <a:pt x="45460" y="89869"/>
                  </a:lnTo>
                  <a:lnTo>
                    <a:pt x="42971" y="95473"/>
                  </a:lnTo>
                  <a:lnTo>
                    <a:pt x="41313" y="101749"/>
                  </a:lnTo>
                  <a:lnTo>
                    <a:pt x="40208" y="108473"/>
                  </a:lnTo>
                  <a:lnTo>
                    <a:pt x="39469" y="115495"/>
                  </a:lnTo>
                  <a:lnTo>
                    <a:pt x="38131" y="122717"/>
                  </a:lnTo>
                  <a:lnTo>
                    <a:pt x="36394" y="130071"/>
                  </a:lnTo>
                  <a:lnTo>
                    <a:pt x="34387" y="137514"/>
                  </a:lnTo>
                  <a:lnTo>
                    <a:pt x="29902" y="152557"/>
                  </a:lnTo>
                  <a:lnTo>
                    <a:pt x="20122" y="182911"/>
                  </a:lnTo>
                  <a:lnTo>
                    <a:pt x="17613" y="189674"/>
                  </a:lnTo>
                  <a:lnTo>
                    <a:pt x="15094" y="195876"/>
                  </a:lnTo>
                  <a:lnTo>
                    <a:pt x="12568" y="201704"/>
                  </a:lnTo>
                  <a:lnTo>
                    <a:pt x="10884" y="207283"/>
                  </a:lnTo>
                  <a:lnTo>
                    <a:pt x="9761" y="212695"/>
                  </a:lnTo>
                  <a:lnTo>
                    <a:pt x="9013" y="217997"/>
                  </a:lnTo>
                  <a:lnTo>
                    <a:pt x="7667" y="224071"/>
                  </a:lnTo>
                  <a:lnTo>
                    <a:pt x="5923" y="230661"/>
                  </a:lnTo>
                  <a:lnTo>
                    <a:pt x="3913" y="237594"/>
                  </a:lnTo>
                  <a:lnTo>
                    <a:pt x="2574" y="243910"/>
                  </a:lnTo>
                  <a:lnTo>
                    <a:pt x="1681" y="249813"/>
                  </a:lnTo>
                  <a:lnTo>
                    <a:pt x="1086" y="255442"/>
                  </a:lnTo>
                  <a:lnTo>
                    <a:pt x="690" y="260888"/>
                  </a:lnTo>
                  <a:lnTo>
                    <a:pt x="424" y="266212"/>
                  </a:lnTo>
                  <a:lnTo>
                    <a:pt x="52" y="279538"/>
                  </a:lnTo>
                  <a:lnTo>
                    <a:pt x="0" y="282879"/>
                  </a:lnTo>
                  <a:lnTo>
                    <a:pt x="2200" y="291106"/>
                  </a:lnTo>
                  <a:lnTo>
                    <a:pt x="3971" y="295671"/>
                  </a:lnTo>
                  <a:lnTo>
                    <a:pt x="6000" y="298714"/>
                  </a:lnTo>
                  <a:lnTo>
                    <a:pt x="8198" y="300743"/>
                  </a:lnTo>
                  <a:lnTo>
                    <a:pt x="10511" y="302096"/>
                  </a:lnTo>
                  <a:lnTo>
                    <a:pt x="12052" y="303844"/>
                  </a:lnTo>
                  <a:lnTo>
                    <a:pt x="13079" y="305856"/>
                  </a:lnTo>
                  <a:lnTo>
                    <a:pt x="15135" y="3124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SMARTInkAnnotation222"/>
            <p:cNvSpPr/>
            <p:nvPr/>
          </p:nvSpPr>
          <p:spPr>
            <a:xfrm>
              <a:off x="6789960" y="2133720"/>
              <a:ext cx="68040" cy="22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68169" h="22860">
                  <a:moveTo>
                    <a:pt x="60929" y="0"/>
                  </a:moveTo>
                  <a:lnTo>
                    <a:pt x="60929" y="6561"/>
                  </a:lnTo>
                  <a:lnTo>
                    <a:pt x="60083" y="6914"/>
                  </a:lnTo>
                  <a:lnTo>
                    <a:pt x="58671" y="7150"/>
                  </a:lnTo>
                  <a:lnTo>
                    <a:pt x="56884" y="7307"/>
                  </a:lnTo>
                  <a:lnTo>
                    <a:pt x="55692" y="8258"/>
                  </a:lnTo>
                  <a:lnTo>
                    <a:pt x="54898" y="9738"/>
                  </a:lnTo>
                  <a:lnTo>
                    <a:pt x="54368" y="11573"/>
                  </a:lnTo>
                  <a:lnTo>
                    <a:pt x="53168" y="12795"/>
                  </a:lnTo>
                  <a:lnTo>
                    <a:pt x="51522" y="13610"/>
                  </a:lnTo>
                  <a:lnTo>
                    <a:pt x="49577" y="14153"/>
                  </a:lnTo>
                  <a:lnTo>
                    <a:pt x="47435" y="15362"/>
                  </a:lnTo>
                  <a:lnTo>
                    <a:pt x="45160" y="17015"/>
                  </a:lnTo>
                  <a:lnTo>
                    <a:pt x="42796" y="18963"/>
                  </a:lnTo>
                  <a:lnTo>
                    <a:pt x="39527" y="20262"/>
                  </a:lnTo>
                  <a:lnTo>
                    <a:pt x="35655" y="21128"/>
                  </a:lnTo>
                  <a:lnTo>
                    <a:pt x="31379" y="21706"/>
                  </a:lnTo>
                  <a:lnTo>
                    <a:pt x="27683" y="22091"/>
                  </a:lnTo>
                  <a:lnTo>
                    <a:pt x="24371" y="22347"/>
                  </a:lnTo>
                  <a:lnTo>
                    <a:pt x="21317" y="22518"/>
                  </a:lnTo>
                  <a:lnTo>
                    <a:pt x="15666" y="22708"/>
                  </a:lnTo>
                  <a:lnTo>
                    <a:pt x="7806" y="22840"/>
                  </a:lnTo>
                  <a:lnTo>
                    <a:pt x="324" y="22859"/>
                  </a:lnTo>
                  <a:lnTo>
                    <a:pt x="206" y="22013"/>
                  </a:lnTo>
                  <a:lnTo>
                    <a:pt x="127" y="20602"/>
                  </a:lnTo>
                  <a:lnTo>
                    <a:pt x="0" y="16299"/>
                  </a:lnTo>
                  <a:lnTo>
                    <a:pt x="836" y="15100"/>
                  </a:lnTo>
                  <a:lnTo>
                    <a:pt x="2241" y="13453"/>
                  </a:lnTo>
                  <a:lnTo>
                    <a:pt x="4023" y="11509"/>
                  </a:lnTo>
                  <a:lnTo>
                    <a:pt x="6059" y="10212"/>
                  </a:lnTo>
                  <a:lnTo>
                    <a:pt x="8262" y="9348"/>
                  </a:lnTo>
                  <a:lnTo>
                    <a:pt x="10577" y="8772"/>
                  </a:lnTo>
                  <a:lnTo>
                    <a:pt x="13814" y="7541"/>
                  </a:lnTo>
                  <a:lnTo>
                    <a:pt x="17667" y="5874"/>
                  </a:lnTo>
                  <a:lnTo>
                    <a:pt x="21928" y="3916"/>
                  </a:lnTo>
                  <a:lnTo>
                    <a:pt x="25614" y="2611"/>
                  </a:lnTo>
                  <a:lnTo>
                    <a:pt x="28919" y="1741"/>
                  </a:lnTo>
                  <a:lnTo>
                    <a:pt x="31969" y="1160"/>
                  </a:lnTo>
                  <a:lnTo>
                    <a:pt x="34850" y="773"/>
                  </a:lnTo>
                  <a:lnTo>
                    <a:pt x="37616" y="516"/>
                  </a:lnTo>
                  <a:lnTo>
                    <a:pt x="40307" y="344"/>
                  </a:lnTo>
                  <a:lnTo>
                    <a:pt x="47812" y="153"/>
                  </a:lnTo>
                  <a:lnTo>
                    <a:pt x="58339" y="30"/>
                  </a:lnTo>
                  <a:lnTo>
                    <a:pt x="60049" y="867"/>
                  </a:lnTo>
                  <a:lnTo>
                    <a:pt x="62035" y="2271"/>
                  </a:lnTo>
                  <a:lnTo>
                    <a:pt x="68168" y="7307"/>
                  </a:lnTo>
                  <a:lnTo>
                    <a:pt x="66121" y="7481"/>
                  </a:lnTo>
                  <a:lnTo>
                    <a:pt x="64390" y="7527"/>
                  </a:lnTo>
                  <a:lnTo>
                    <a:pt x="62390" y="8405"/>
                  </a:lnTo>
                  <a:lnTo>
                    <a:pt x="60209" y="9837"/>
                  </a:lnTo>
                  <a:lnTo>
                    <a:pt x="54672" y="14173"/>
                  </a:lnTo>
                  <a:lnTo>
                    <a:pt x="53372" y="15375"/>
                  </a:lnTo>
                  <a:lnTo>
                    <a:pt x="49668" y="18969"/>
                  </a:lnTo>
                  <a:lnTo>
                    <a:pt x="47495" y="20266"/>
                  </a:lnTo>
                  <a:lnTo>
                    <a:pt x="45200" y="21131"/>
                  </a:lnTo>
                  <a:lnTo>
                    <a:pt x="42823" y="21707"/>
                  </a:lnTo>
                  <a:lnTo>
                    <a:pt x="40392" y="22092"/>
                  </a:lnTo>
                  <a:lnTo>
                    <a:pt x="37925" y="22347"/>
                  </a:lnTo>
                  <a:lnTo>
                    <a:pt x="35432" y="22518"/>
                  </a:lnTo>
                  <a:lnTo>
                    <a:pt x="32925" y="22632"/>
                  </a:lnTo>
                  <a:lnTo>
                    <a:pt x="22887" y="22859"/>
                  </a:lnTo>
                  <a:lnTo>
                    <a:pt x="22868" y="22859"/>
                  </a:lnTo>
                  <a:lnTo>
                    <a:pt x="22840" y="18815"/>
                  </a:lnTo>
                  <a:lnTo>
                    <a:pt x="23684" y="17623"/>
                  </a:lnTo>
                  <a:lnTo>
                    <a:pt x="25092" y="16829"/>
                  </a:lnTo>
                  <a:lnTo>
                    <a:pt x="26877" y="16299"/>
                  </a:lnTo>
                  <a:lnTo>
                    <a:pt x="28914" y="15100"/>
                  </a:lnTo>
                  <a:lnTo>
                    <a:pt x="31120" y="13453"/>
                  </a:lnTo>
                  <a:lnTo>
                    <a:pt x="36697" y="8772"/>
                  </a:lnTo>
                  <a:lnTo>
                    <a:pt x="38001" y="8388"/>
                  </a:lnTo>
                  <a:lnTo>
                    <a:pt x="39717" y="8132"/>
                  </a:lnTo>
                  <a:lnTo>
                    <a:pt x="45658" y="7623"/>
                  </a:lnTo>
                  <a:lnTo>
                    <a:pt x="45686" y="7620"/>
                  </a:lnTo>
                  <a:lnTo>
                    <a:pt x="38069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SMARTInkAnnotation223"/>
            <p:cNvSpPr/>
            <p:nvPr/>
          </p:nvSpPr>
          <p:spPr>
            <a:xfrm>
              <a:off x="6942600" y="1973880"/>
              <a:ext cx="212760" cy="3196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12886" h="320041">
                  <a:moveTo>
                    <a:pt x="83344" y="0"/>
                  </a:moveTo>
                  <a:lnTo>
                    <a:pt x="87390" y="0"/>
                  </a:lnTo>
                  <a:lnTo>
                    <a:pt x="87735" y="847"/>
                  </a:lnTo>
                  <a:lnTo>
                    <a:pt x="87118" y="2258"/>
                  </a:lnTo>
                  <a:lnTo>
                    <a:pt x="85861" y="4045"/>
                  </a:lnTo>
                  <a:lnTo>
                    <a:pt x="84462" y="8289"/>
                  </a:lnTo>
                  <a:lnTo>
                    <a:pt x="84089" y="10606"/>
                  </a:lnTo>
                  <a:lnTo>
                    <a:pt x="81418" y="15438"/>
                  </a:lnTo>
                  <a:lnTo>
                    <a:pt x="75154" y="22919"/>
                  </a:lnTo>
                  <a:lnTo>
                    <a:pt x="70391" y="28813"/>
                  </a:lnTo>
                  <a:lnTo>
                    <a:pt x="65452" y="37077"/>
                  </a:lnTo>
                  <a:lnTo>
                    <a:pt x="60435" y="46394"/>
                  </a:lnTo>
                  <a:lnTo>
                    <a:pt x="54536" y="56180"/>
                  </a:lnTo>
                  <a:lnTo>
                    <a:pt x="50592" y="61160"/>
                  </a:lnTo>
                  <a:lnTo>
                    <a:pt x="46269" y="66173"/>
                  </a:lnTo>
                  <a:lnTo>
                    <a:pt x="42541" y="72056"/>
                  </a:lnTo>
                  <a:lnTo>
                    <a:pt x="39208" y="78517"/>
                  </a:lnTo>
                  <a:lnTo>
                    <a:pt x="36141" y="85365"/>
                  </a:lnTo>
                  <a:lnTo>
                    <a:pt x="32402" y="91623"/>
                  </a:lnTo>
                  <a:lnTo>
                    <a:pt x="28216" y="97489"/>
                  </a:lnTo>
                  <a:lnTo>
                    <a:pt x="23733" y="103093"/>
                  </a:lnTo>
                  <a:lnTo>
                    <a:pt x="19896" y="109368"/>
                  </a:lnTo>
                  <a:lnTo>
                    <a:pt x="16493" y="116092"/>
                  </a:lnTo>
                  <a:lnTo>
                    <a:pt x="10452" y="129490"/>
                  </a:lnTo>
                  <a:lnTo>
                    <a:pt x="4945" y="141089"/>
                  </a:lnTo>
                  <a:lnTo>
                    <a:pt x="3138" y="147399"/>
                  </a:lnTo>
                  <a:lnTo>
                    <a:pt x="1934" y="154146"/>
                  </a:lnTo>
                  <a:lnTo>
                    <a:pt x="1131" y="161184"/>
                  </a:lnTo>
                  <a:lnTo>
                    <a:pt x="595" y="167570"/>
                  </a:lnTo>
                  <a:lnTo>
                    <a:pt x="238" y="173520"/>
                  </a:lnTo>
                  <a:lnTo>
                    <a:pt x="0" y="179180"/>
                  </a:lnTo>
                  <a:lnTo>
                    <a:pt x="688" y="184646"/>
                  </a:lnTo>
                  <a:lnTo>
                    <a:pt x="1993" y="189984"/>
                  </a:lnTo>
                  <a:lnTo>
                    <a:pt x="10172" y="214763"/>
                  </a:lnTo>
                  <a:lnTo>
                    <a:pt x="13396" y="221069"/>
                  </a:lnTo>
                  <a:lnTo>
                    <a:pt x="17238" y="226966"/>
                  </a:lnTo>
                  <a:lnTo>
                    <a:pt x="21494" y="232591"/>
                  </a:lnTo>
                  <a:lnTo>
                    <a:pt x="25177" y="238034"/>
                  </a:lnTo>
                  <a:lnTo>
                    <a:pt x="28480" y="243356"/>
                  </a:lnTo>
                  <a:lnTo>
                    <a:pt x="31528" y="248597"/>
                  </a:lnTo>
                  <a:lnTo>
                    <a:pt x="36100" y="253785"/>
                  </a:lnTo>
                  <a:lnTo>
                    <a:pt x="41688" y="258937"/>
                  </a:lnTo>
                  <a:lnTo>
                    <a:pt x="47954" y="264064"/>
                  </a:lnTo>
                  <a:lnTo>
                    <a:pt x="54671" y="268330"/>
                  </a:lnTo>
                  <a:lnTo>
                    <a:pt x="61688" y="272020"/>
                  </a:lnTo>
                  <a:lnTo>
                    <a:pt x="75413" y="278378"/>
                  </a:lnTo>
                  <a:lnTo>
                    <a:pt x="102537" y="291616"/>
                  </a:lnTo>
                  <a:lnTo>
                    <a:pt x="131914" y="306241"/>
                  </a:lnTo>
                  <a:lnTo>
                    <a:pt x="138584" y="309147"/>
                  </a:lnTo>
                  <a:lnTo>
                    <a:pt x="145572" y="311932"/>
                  </a:lnTo>
                  <a:lnTo>
                    <a:pt x="152769" y="314634"/>
                  </a:lnTo>
                  <a:lnTo>
                    <a:pt x="159261" y="316436"/>
                  </a:lnTo>
                  <a:lnTo>
                    <a:pt x="165282" y="317637"/>
                  </a:lnTo>
                  <a:lnTo>
                    <a:pt x="170989" y="318438"/>
                  </a:lnTo>
                  <a:lnTo>
                    <a:pt x="176488" y="318972"/>
                  </a:lnTo>
                  <a:lnTo>
                    <a:pt x="181846" y="319328"/>
                  </a:lnTo>
                  <a:lnTo>
                    <a:pt x="191470" y="319724"/>
                  </a:lnTo>
                  <a:lnTo>
                    <a:pt x="201647" y="319946"/>
                  </a:lnTo>
                  <a:lnTo>
                    <a:pt x="212885" y="3200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SMARTInkAnnotation224"/>
            <p:cNvSpPr/>
            <p:nvPr/>
          </p:nvSpPr>
          <p:spPr>
            <a:xfrm>
              <a:off x="7071840" y="210312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7620"/>
                  </a:moveTo>
                  <a:lnTo>
                    <a:pt x="82038" y="7620"/>
                  </a:lnTo>
                  <a:lnTo>
                    <a:pt x="86866" y="6773"/>
                  </a:lnTo>
                  <a:lnTo>
                    <a:pt x="91777" y="5362"/>
                  </a:lnTo>
                  <a:lnTo>
                    <a:pt x="96745" y="3575"/>
                  </a:lnTo>
                  <a:lnTo>
                    <a:pt x="100903" y="2383"/>
                  </a:lnTo>
                  <a:lnTo>
                    <a:pt x="104522" y="1589"/>
                  </a:lnTo>
                  <a:lnTo>
                    <a:pt x="107782" y="1059"/>
                  </a:lnTo>
                  <a:lnTo>
                    <a:pt x="110801" y="706"/>
                  </a:lnTo>
                  <a:lnTo>
                    <a:pt x="113661" y="471"/>
                  </a:lnTo>
                  <a:lnTo>
                    <a:pt x="116414" y="314"/>
                  </a:lnTo>
                  <a:lnTo>
                    <a:pt x="121730" y="140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MARTInkAnnotation225"/>
            <p:cNvSpPr/>
            <p:nvPr/>
          </p:nvSpPr>
          <p:spPr>
            <a:xfrm>
              <a:off x="7218000" y="2011680"/>
              <a:ext cx="165960" cy="205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66126" h="205741">
                  <a:moveTo>
                    <a:pt x="82305" y="0"/>
                  </a:moveTo>
                  <a:lnTo>
                    <a:pt x="82305" y="4045"/>
                  </a:lnTo>
                  <a:lnTo>
                    <a:pt x="81458" y="6084"/>
                  </a:lnTo>
                  <a:lnTo>
                    <a:pt x="78259" y="10606"/>
                  </a:lnTo>
                  <a:lnTo>
                    <a:pt x="74016" y="15438"/>
                  </a:lnTo>
                  <a:lnTo>
                    <a:pt x="69308" y="21255"/>
                  </a:lnTo>
                  <a:lnTo>
                    <a:pt x="66866" y="25177"/>
                  </a:lnTo>
                  <a:lnTo>
                    <a:pt x="64392" y="29485"/>
                  </a:lnTo>
                  <a:lnTo>
                    <a:pt x="61050" y="34050"/>
                  </a:lnTo>
                  <a:lnTo>
                    <a:pt x="57127" y="38787"/>
                  </a:lnTo>
                  <a:lnTo>
                    <a:pt x="52820" y="43638"/>
                  </a:lnTo>
                  <a:lnTo>
                    <a:pt x="43519" y="53544"/>
                  </a:lnTo>
                  <a:lnTo>
                    <a:pt x="38668" y="58555"/>
                  </a:lnTo>
                  <a:lnTo>
                    <a:pt x="34587" y="64437"/>
                  </a:lnTo>
                  <a:lnTo>
                    <a:pt x="31019" y="70898"/>
                  </a:lnTo>
                  <a:lnTo>
                    <a:pt x="21952" y="89869"/>
                  </a:lnTo>
                  <a:lnTo>
                    <a:pt x="3600" y="126908"/>
                  </a:lnTo>
                  <a:lnTo>
                    <a:pt x="1896" y="132019"/>
                  </a:lnTo>
                  <a:lnTo>
                    <a:pt x="758" y="137119"/>
                  </a:lnTo>
                  <a:lnTo>
                    <a:pt x="0" y="142213"/>
                  </a:lnTo>
                  <a:lnTo>
                    <a:pt x="342" y="146455"/>
                  </a:lnTo>
                  <a:lnTo>
                    <a:pt x="1415" y="150130"/>
                  </a:lnTo>
                  <a:lnTo>
                    <a:pt x="6972" y="161605"/>
                  </a:lnTo>
                  <a:lnTo>
                    <a:pt x="9223" y="166157"/>
                  </a:lnTo>
                  <a:lnTo>
                    <a:pt x="11570" y="170038"/>
                  </a:lnTo>
                  <a:lnTo>
                    <a:pt x="13981" y="173472"/>
                  </a:lnTo>
                  <a:lnTo>
                    <a:pt x="16437" y="176608"/>
                  </a:lnTo>
                  <a:lnTo>
                    <a:pt x="19765" y="179546"/>
                  </a:lnTo>
                  <a:lnTo>
                    <a:pt x="23678" y="182350"/>
                  </a:lnTo>
                  <a:lnTo>
                    <a:pt x="27980" y="185067"/>
                  </a:lnTo>
                  <a:lnTo>
                    <a:pt x="32543" y="186878"/>
                  </a:lnTo>
                  <a:lnTo>
                    <a:pt x="37276" y="188085"/>
                  </a:lnTo>
                  <a:lnTo>
                    <a:pt x="42126" y="188890"/>
                  </a:lnTo>
                  <a:lnTo>
                    <a:pt x="47898" y="189427"/>
                  </a:lnTo>
                  <a:lnTo>
                    <a:pt x="54287" y="189785"/>
                  </a:lnTo>
                  <a:lnTo>
                    <a:pt x="68159" y="190182"/>
                  </a:lnTo>
                  <a:lnTo>
                    <a:pt x="82791" y="190359"/>
                  </a:lnTo>
                  <a:lnTo>
                    <a:pt x="89402" y="189559"/>
                  </a:lnTo>
                  <a:lnTo>
                    <a:pt x="95503" y="188180"/>
                  </a:lnTo>
                  <a:lnTo>
                    <a:pt x="101264" y="186413"/>
                  </a:lnTo>
                  <a:lnTo>
                    <a:pt x="107643" y="185236"/>
                  </a:lnTo>
                  <a:lnTo>
                    <a:pt x="114438" y="184450"/>
                  </a:lnTo>
                  <a:lnTo>
                    <a:pt x="121507" y="183927"/>
                  </a:lnTo>
                  <a:lnTo>
                    <a:pt x="127913" y="182731"/>
                  </a:lnTo>
                  <a:lnTo>
                    <a:pt x="133877" y="181088"/>
                  </a:lnTo>
                  <a:lnTo>
                    <a:pt x="139545" y="179145"/>
                  </a:lnTo>
                  <a:lnTo>
                    <a:pt x="144173" y="177003"/>
                  </a:lnTo>
                  <a:lnTo>
                    <a:pt x="148103" y="174729"/>
                  </a:lnTo>
                  <a:lnTo>
                    <a:pt x="156450" y="169040"/>
                  </a:lnTo>
                  <a:lnTo>
                    <a:pt x="159849" y="166005"/>
                  </a:lnTo>
                  <a:lnTo>
                    <a:pt x="161941" y="164010"/>
                  </a:lnTo>
                  <a:lnTo>
                    <a:pt x="163335" y="161833"/>
                  </a:lnTo>
                  <a:lnTo>
                    <a:pt x="164885" y="157157"/>
                  </a:lnTo>
                  <a:lnTo>
                    <a:pt x="165574" y="152257"/>
                  </a:lnTo>
                  <a:lnTo>
                    <a:pt x="165758" y="149764"/>
                  </a:lnTo>
                  <a:lnTo>
                    <a:pt x="165034" y="148103"/>
                  </a:lnTo>
                  <a:lnTo>
                    <a:pt x="163704" y="146995"/>
                  </a:lnTo>
                  <a:lnTo>
                    <a:pt x="161971" y="146257"/>
                  </a:lnTo>
                  <a:lnTo>
                    <a:pt x="157786" y="145436"/>
                  </a:lnTo>
                  <a:lnTo>
                    <a:pt x="155486" y="145217"/>
                  </a:lnTo>
                  <a:lnTo>
                    <a:pt x="152260" y="144225"/>
                  </a:lnTo>
                  <a:lnTo>
                    <a:pt x="148415" y="142717"/>
                  </a:lnTo>
                  <a:lnTo>
                    <a:pt x="144158" y="140864"/>
                  </a:lnTo>
                  <a:lnTo>
                    <a:pt x="139627" y="139630"/>
                  </a:lnTo>
                  <a:lnTo>
                    <a:pt x="134913" y="138806"/>
                  </a:lnTo>
                  <a:lnTo>
                    <a:pt x="130076" y="138258"/>
                  </a:lnTo>
                  <a:lnTo>
                    <a:pt x="125160" y="138739"/>
                  </a:lnTo>
                  <a:lnTo>
                    <a:pt x="120188" y="139906"/>
                  </a:lnTo>
                  <a:lnTo>
                    <a:pt x="115179" y="141530"/>
                  </a:lnTo>
                  <a:lnTo>
                    <a:pt x="110149" y="142614"/>
                  </a:lnTo>
                  <a:lnTo>
                    <a:pt x="105101" y="143336"/>
                  </a:lnTo>
                  <a:lnTo>
                    <a:pt x="100041" y="143818"/>
                  </a:lnTo>
                  <a:lnTo>
                    <a:pt x="94976" y="144985"/>
                  </a:lnTo>
                  <a:lnTo>
                    <a:pt x="89906" y="146610"/>
                  </a:lnTo>
                  <a:lnTo>
                    <a:pt x="84832" y="148540"/>
                  </a:lnTo>
                  <a:lnTo>
                    <a:pt x="81450" y="150673"/>
                  </a:lnTo>
                  <a:lnTo>
                    <a:pt x="79196" y="152943"/>
                  </a:lnTo>
                  <a:lnTo>
                    <a:pt x="75842" y="157721"/>
                  </a:lnTo>
                  <a:lnTo>
                    <a:pt x="71531" y="162667"/>
                  </a:lnTo>
                  <a:lnTo>
                    <a:pt x="70043" y="165171"/>
                  </a:lnTo>
                  <a:lnTo>
                    <a:pt x="68388" y="170212"/>
                  </a:lnTo>
                  <a:lnTo>
                    <a:pt x="68794" y="172741"/>
                  </a:lnTo>
                  <a:lnTo>
                    <a:pt x="71501" y="177809"/>
                  </a:lnTo>
                  <a:lnTo>
                    <a:pt x="73410" y="179500"/>
                  </a:lnTo>
                  <a:lnTo>
                    <a:pt x="75528" y="180626"/>
                  </a:lnTo>
                  <a:lnTo>
                    <a:pt x="93102" y="186480"/>
                  </a:lnTo>
                  <a:lnTo>
                    <a:pt x="98816" y="188667"/>
                  </a:lnTo>
                  <a:lnTo>
                    <a:pt x="104320" y="190971"/>
                  </a:lnTo>
                  <a:lnTo>
                    <a:pt x="109680" y="193354"/>
                  </a:lnTo>
                  <a:lnTo>
                    <a:pt x="120154" y="198260"/>
                  </a:lnTo>
                  <a:lnTo>
                    <a:pt x="125318" y="200753"/>
                  </a:lnTo>
                  <a:lnTo>
                    <a:pt x="131299" y="202415"/>
                  </a:lnTo>
                  <a:lnTo>
                    <a:pt x="137829" y="203523"/>
                  </a:lnTo>
                  <a:lnTo>
                    <a:pt x="144721" y="204262"/>
                  </a:lnTo>
                  <a:lnTo>
                    <a:pt x="150162" y="204755"/>
                  </a:lnTo>
                  <a:lnTo>
                    <a:pt x="154637" y="205083"/>
                  </a:lnTo>
                  <a:lnTo>
                    <a:pt x="166125" y="2057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MARTInkAnnotation226"/>
            <p:cNvSpPr/>
            <p:nvPr/>
          </p:nvSpPr>
          <p:spPr>
            <a:xfrm>
              <a:off x="7414560" y="1912680"/>
              <a:ext cx="121320" cy="3884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121436" h="388621">
                  <a:moveTo>
                    <a:pt x="0" y="0"/>
                  </a:moveTo>
                  <a:lnTo>
                    <a:pt x="0" y="6561"/>
                  </a:lnTo>
                  <a:lnTo>
                    <a:pt x="2259" y="9407"/>
                  </a:lnTo>
                  <a:lnTo>
                    <a:pt x="4045" y="11351"/>
                  </a:lnTo>
                  <a:lnTo>
                    <a:pt x="6083" y="14341"/>
                  </a:lnTo>
                  <a:lnTo>
                    <a:pt x="8288" y="18027"/>
                  </a:lnTo>
                  <a:lnTo>
                    <a:pt x="10606" y="22178"/>
                  </a:lnTo>
                  <a:lnTo>
                    <a:pt x="12998" y="27485"/>
                  </a:lnTo>
                  <a:lnTo>
                    <a:pt x="15438" y="33564"/>
                  </a:lnTo>
                  <a:lnTo>
                    <a:pt x="17913" y="40156"/>
                  </a:lnTo>
                  <a:lnTo>
                    <a:pt x="21254" y="46244"/>
                  </a:lnTo>
                  <a:lnTo>
                    <a:pt x="25177" y="51996"/>
                  </a:lnTo>
                  <a:lnTo>
                    <a:pt x="29485" y="57524"/>
                  </a:lnTo>
                  <a:lnTo>
                    <a:pt x="34050" y="64596"/>
                  </a:lnTo>
                  <a:lnTo>
                    <a:pt x="38787" y="72697"/>
                  </a:lnTo>
                  <a:lnTo>
                    <a:pt x="43637" y="81485"/>
                  </a:lnTo>
                  <a:lnTo>
                    <a:pt x="47718" y="89883"/>
                  </a:lnTo>
                  <a:lnTo>
                    <a:pt x="51285" y="98022"/>
                  </a:lnTo>
                  <a:lnTo>
                    <a:pt x="54510" y="105988"/>
                  </a:lnTo>
                  <a:lnTo>
                    <a:pt x="58353" y="114685"/>
                  </a:lnTo>
                  <a:lnTo>
                    <a:pt x="67138" y="133380"/>
                  </a:lnTo>
                  <a:lnTo>
                    <a:pt x="71852" y="142260"/>
                  </a:lnTo>
                  <a:lnTo>
                    <a:pt x="76688" y="150720"/>
                  </a:lnTo>
                  <a:lnTo>
                    <a:pt x="81606" y="158900"/>
                  </a:lnTo>
                  <a:lnTo>
                    <a:pt x="86577" y="168587"/>
                  </a:lnTo>
                  <a:lnTo>
                    <a:pt x="91585" y="179278"/>
                  </a:lnTo>
                  <a:lnTo>
                    <a:pt x="96616" y="190639"/>
                  </a:lnTo>
                  <a:lnTo>
                    <a:pt x="100818" y="200752"/>
                  </a:lnTo>
                  <a:lnTo>
                    <a:pt x="104465" y="210035"/>
                  </a:lnTo>
                  <a:lnTo>
                    <a:pt x="107743" y="218763"/>
                  </a:lnTo>
                  <a:lnTo>
                    <a:pt x="110775" y="227969"/>
                  </a:lnTo>
                  <a:lnTo>
                    <a:pt x="113643" y="237493"/>
                  </a:lnTo>
                  <a:lnTo>
                    <a:pt x="116402" y="247228"/>
                  </a:lnTo>
                  <a:lnTo>
                    <a:pt x="118241" y="255412"/>
                  </a:lnTo>
                  <a:lnTo>
                    <a:pt x="119468" y="262562"/>
                  </a:lnTo>
                  <a:lnTo>
                    <a:pt x="120284" y="269021"/>
                  </a:lnTo>
                  <a:lnTo>
                    <a:pt x="120830" y="276714"/>
                  </a:lnTo>
                  <a:lnTo>
                    <a:pt x="121193" y="285229"/>
                  </a:lnTo>
                  <a:lnTo>
                    <a:pt x="121435" y="294293"/>
                  </a:lnTo>
                  <a:lnTo>
                    <a:pt x="120751" y="302029"/>
                  </a:lnTo>
                  <a:lnTo>
                    <a:pt x="119447" y="308879"/>
                  </a:lnTo>
                  <a:lnTo>
                    <a:pt x="115740" y="321006"/>
                  </a:lnTo>
                  <a:lnTo>
                    <a:pt x="113567" y="326611"/>
                  </a:lnTo>
                  <a:lnTo>
                    <a:pt x="111271" y="332040"/>
                  </a:lnTo>
                  <a:lnTo>
                    <a:pt x="108048" y="337354"/>
                  </a:lnTo>
                  <a:lnTo>
                    <a:pt x="104206" y="342589"/>
                  </a:lnTo>
                  <a:lnTo>
                    <a:pt x="99950" y="347773"/>
                  </a:lnTo>
                  <a:lnTo>
                    <a:pt x="96267" y="352075"/>
                  </a:lnTo>
                  <a:lnTo>
                    <a:pt x="92965" y="355790"/>
                  </a:lnTo>
                  <a:lnTo>
                    <a:pt x="89916" y="359113"/>
                  </a:lnTo>
                  <a:lnTo>
                    <a:pt x="86191" y="362176"/>
                  </a:lnTo>
                  <a:lnTo>
                    <a:pt x="82014" y="365064"/>
                  </a:lnTo>
                  <a:lnTo>
                    <a:pt x="77535" y="367836"/>
                  </a:lnTo>
                  <a:lnTo>
                    <a:pt x="73705" y="370531"/>
                  </a:lnTo>
                  <a:lnTo>
                    <a:pt x="70303" y="373174"/>
                  </a:lnTo>
                  <a:lnTo>
                    <a:pt x="67189" y="375782"/>
                  </a:lnTo>
                  <a:lnTo>
                    <a:pt x="63419" y="378368"/>
                  </a:lnTo>
                  <a:lnTo>
                    <a:pt x="59213" y="380939"/>
                  </a:lnTo>
                  <a:lnTo>
                    <a:pt x="54716" y="383499"/>
                  </a:lnTo>
                  <a:lnTo>
                    <a:pt x="50870" y="385206"/>
                  </a:lnTo>
                  <a:lnTo>
                    <a:pt x="47461" y="386344"/>
                  </a:lnTo>
                  <a:lnTo>
                    <a:pt x="38100" y="388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SMARTInkAnnotation227"/>
            <p:cNvSpPr/>
            <p:nvPr/>
          </p:nvSpPr>
          <p:spPr>
            <a:xfrm>
              <a:off x="4686480" y="2583360"/>
              <a:ext cx="251280" cy="75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1461" h="762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6083" y="6914"/>
                  </a:lnTo>
                  <a:lnTo>
                    <a:pt x="8289" y="7149"/>
                  </a:lnTo>
                  <a:lnTo>
                    <a:pt x="10606" y="7306"/>
                  </a:lnTo>
                  <a:lnTo>
                    <a:pt x="19954" y="7480"/>
                  </a:lnTo>
                  <a:lnTo>
                    <a:pt x="25146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SMARTInkAnnotation228"/>
            <p:cNvSpPr/>
            <p:nvPr/>
          </p:nvSpPr>
          <p:spPr>
            <a:xfrm>
              <a:off x="5107320" y="2491920"/>
              <a:ext cx="181080" cy="106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81283" h="106548">
                  <a:moveTo>
                    <a:pt x="66982" y="0"/>
                  </a:moveTo>
                  <a:lnTo>
                    <a:pt x="62937" y="4045"/>
                  </a:lnTo>
                  <a:lnTo>
                    <a:pt x="61745" y="6084"/>
                  </a:lnTo>
                  <a:lnTo>
                    <a:pt x="60951" y="8289"/>
                  </a:lnTo>
                  <a:lnTo>
                    <a:pt x="60421" y="10606"/>
                  </a:lnTo>
                  <a:lnTo>
                    <a:pt x="59222" y="12998"/>
                  </a:lnTo>
                  <a:lnTo>
                    <a:pt x="57575" y="15438"/>
                  </a:lnTo>
                  <a:lnTo>
                    <a:pt x="55631" y="17912"/>
                  </a:lnTo>
                  <a:lnTo>
                    <a:pt x="53487" y="20408"/>
                  </a:lnTo>
                  <a:lnTo>
                    <a:pt x="51212" y="22919"/>
                  </a:lnTo>
                  <a:lnTo>
                    <a:pt x="46427" y="27966"/>
                  </a:lnTo>
                  <a:lnTo>
                    <a:pt x="22288" y="52306"/>
                  </a:lnTo>
                  <a:lnTo>
                    <a:pt x="18559" y="56884"/>
                  </a:lnTo>
                  <a:lnTo>
                    <a:pt x="15227" y="61630"/>
                  </a:lnTo>
                  <a:lnTo>
                    <a:pt x="12158" y="66487"/>
                  </a:lnTo>
                  <a:lnTo>
                    <a:pt x="9266" y="70571"/>
                  </a:lnTo>
                  <a:lnTo>
                    <a:pt x="6492" y="74141"/>
                  </a:lnTo>
                  <a:lnTo>
                    <a:pt x="3795" y="77367"/>
                  </a:lnTo>
                  <a:lnTo>
                    <a:pt x="1998" y="80365"/>
                  </a:lnTo>
                  <a:lnTo>
                    <a:pt x="800" y="83210"/>
                  </a:lnTo>
                  <a:lnTo>
                    <a:pt x="0" y="85953"/>
                  </a:lnTo>
                  <a:lnTo>
                    <a:pt x="314" y="88629"/>
                  </a:lnTo>
                  <a:lnTo>
                    <a:pt x="1369" y="91259"/>
                  </a:lnTo>
                  <a:lnTo>
                    <a:pt x="2921" y="93860"/>
                  </a:lnTo>
                  <a:lnTo>
                    <a:pt x="4801" y="96440"/>
                  </a:lnTo>
                  <a:lnTo>
                    <a:pt x="6901" y="99007"/>
                  </a:lnTo>
                  <a:lnTo>
                    <a:pt x="9148" y="101564"/>
                  </a:lnTo>
                  <a:lnTo>
                    <a:pt x="13186" y="103270"/>
                  </a:lnTo>
                  <a:lnTo>
                    <a:pt x="18418" y="104407"/>
                  </a:lnTo>
                  <a:lnTo>
                    <a:pt x="24446" y="105164"/>
                  </a:lnTo>
                  <a:lnTo>
                    <a:pt x="31005" y="105670"/>
                  </a:lnTo>
                  <a:lnTo>
                    <a:pt x="37917" y="106006"/>
                  </a:lnTo>
                  <a:lnTo>
                    <a:pt x="45065" y="106231"/>
                  </a:lnTo>
                  <a:lnTo>
                    <a:pt x="75352" y="106547"/>
                  </a:lnTo>
                  <a:lnTo>
                    <a:pt x="86955" y="105745"/>
                  </a:lnTo>
                  <a:lnTo>
                    <a:pt x="98924" y="104363"/>
                  </a:lnTo>
                  <a:lnTo>
                    <a:pt x="111137" y="102596"/>
                  </a:lnTo>
                  <a:lnTo>
                    <a:pt x="135996" y="98374"/>
                  </a:lnTo>
                  <a:lnTo>
                    <a:pt x="148551" y="96063"/>
                  </a:lnTo>
                  <a:lnTo>
                    <a:pt x="157768" y="93675"/>
                  </a:lnTo>
                  <a:lnTo>
                    <a:pt x="164759" y="91237"/>
                  </a:lnTo>
                  <a:lnTo>
                    <a:pt x="181282" y="838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SMARTInkAnnotation229"/>
            <p:cNvSpPr/>
            <p:nvPr/>
          </p:nvSpPr>
          <p:spPr>
            <a:xfrm>
              <a:off x="5281200" y="2461320"/>
              <a:ext cx="83160" cy="29700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83466" h="297181">
                  <a:moveTo>
                    <a:pt x="83465" y="0"/>
                  </a:moveTo>
                  <a:lnTo>
                    <a:pt x="76159" y="0"/>
                  </a:lnTo>
                  <a:lnTo>
                    <a:pt x="75938" y="4045"/>
                  </a:lnTo>
                  <a:lnTo>
                    <a:pt x="75060" y="6084"/>
                  </a:lnTo>
                  <a:lnTo>
                    <a:pt x="73629" y="8289"/>
                  </a:lnTo>
                  <a:lnTo>
                    <a:pt x="71828" y="10606"/>
                  </a:lnTo>
                  <a:lnTo>
                    <a:pt x="69780" y="12998"/>
                  </a:lnTo>
                  <a:lnTo>
                    <a:pt x="67568" y="15438"/>
                  </a:lnTo>
                  <a:lnTo>
                    <a:pt x="65247" y="17912"/>
                  </a:lnTo>
                  <a:lnTo>
                    <a:pt x="62854" y="21255"/>
                  </a:lnTo>
                  <a:lnTo>
                    <a:pt x="60410" y="25177"/>
                  </a:lnTo>
                  <a:lnTo>
                    <a:pt x="57936" y="29484"/>
                  </a:lnTo>
                  <a:lnTo>
                    <a:pt x="55438" y="34896"/>
                  </a:lnTo>
                  <a:lnTo>
                    <a:pt x="52927" y="41044"/>
                  </a:lnTo>
                  <a:lnTo>
                    <a:pt x="50406" y="47683"/>
                  </a:lnTo>
                  <a:lnTo>
                    <a:pt x="47879" y="53802"/>
                  </a:lnTo>
                  <a:lnTo>
                    <a:pt x="45348" y="59575"/>
                  </a:lnTo>
                  <a:lnTo>
                    <a:pt x="42814" y="65116"/>
                  </a:lnTo>
                  <a:lnTo>
                    <a:pt x="31156" y="89097"/>
                  </a:lnTo>
                  <a:lnTo>
                    <a:pt x="27426" y="97498"/>
                  </a:lnTo>
                  <a:lnTo>
                    <a:pt x="24093" y="105639"/>
                  </a:lnTo>
                  <a:lnTo>
                    <a:pt x="21023" y="113606"/>
                  </a:lnTo>
                  <a:lnTo>
                    <a:pt x="15356" y="129231"/>
                  </a:lnTo>
                  <a:lnTo>
                    <a:pt x="12659" y="136954"/>
                  </a:lnTo>
                  <a:lnTo>
                    <a:pt x="10861" y="145490"/>
                  </a:lnTo>
                  <a:lnTo>
                    <a:pt x="9663" y="154566"/>
                  </a:lnTo>
                  <a:lnTo>
                    <a:pt x="8863" y="164004"/>
                  </a:lnTo>
                  <a:lnTo>
                    <a:pt x="7484" y="172836"/>
                  </a:lnTo>
                  <a:lnTo>
                    <a:pt x="5718" y="181265"/>
                  </a:lnTo>
                  <a:lnTo>
                    <a:pt x="3694" y="189423"/>
                  </a:lnTo>
                  <a:lnTo>
                    <a:pt x="2344" y="197402"/>
                  </a:lnTo>
                  <a:lnTo>
                    <a:pt x="1444" y="205261"/>
                  </a:lnTo>
                  <a:lnTo>
                    <a:pt x="845" y="213041"/>
                  </a:lnTo>
                  <a:lnTo>
                    <a:pt x="445" y="220767"/>
                  </a:lnTo>
                  <a:lnTo>
                    <a:pt x="0" y="236125"/>
                  </a:lnTo>
                  <a:lnTo>
                    <a:pt x="728" y="243777"/>
                  </a:lnTo>
                  <a:lnTo>
                    <a:pt x="2061" y="251418"/>
                  </a:lnTo>
                  <a:lnTo>
                    <a:pt x="3795" y="259052"/>
                  </a:lnTo>
                  <a:lnTo>
                    <a:pt x="5799" y="265835"/>
                  </a:lnTo>
                  <a:lnTo>
                    <a:pt x="7981" y="272050"/>
                  </a:lnTo>
                  <a:lnTo>
                    <a:pt x="10282" y="277887"/>
                  </a:lnTo>
                  <a:lnTo>
                    <a:pt x="12839" y="286629"/>
                  </a:lnTo>
                  <a:lnTo>
                    <a:pt x="14885" y="297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SMARTInkAnnotation230"/>
            <p:cNvSpPr/>
            <p:nvPr/>
          </p:nvSpPr>
          <p:spPr>
            <a:xfrm>
              <a:off x="5421960" y="2487600"/>
              <a:ext cx="232200" cy="277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232311" h="278060">
                  <a:moveTo>
                    <a:pt x="11329" y="42195"/>
                  </a:moveTo>
                  <a:lnTo>
                    <a:pt x="11329" y="35634"/>
                  </a:lnTo>
                  <a:lnTo>
                    <a:pt x="15374" y="30844"/>
                  </a:lnTo>
                  <a:lnTo>
                    <a:pt x="21876" y="26426"/>
                  </a:lnTo>
                  <a:lnTo>
                    <a:pt x="25981" y="24062"/>
                  </a:lnTo>
                  <a:lnTo>
                    <a:pt x="35056" y="19178"/>
                  </a:lnTo>
                  <a:lnTo>
                    <a:pt x="39847" y="16691"/>
                  </a:lnTo>
                  <a:lnTo>
                    <a:pt x="45581" y="14185"/>
                  </a:lnTo>
                  <a:lnTo>
                    <a:pt x="51944" y="11669"/>
                  </a:lnTo>
                  <a:lnTo>
                    <a:pt x="58726" y="9144"/>
                  </a:lnTo>
                  <a:lnTo>
                    <a:pt x="65787" y="7461"/>
                  </a:lnTo>
                  <a:lnTo>
                    <a:pt x="73034" y="6339"/>
                  </a:lnTo>
                  <a:lnTo>
                    <a:pt x="80406" y="5591"/>
                  </a:lnTo>
                  <a:lnTo>
                    <a:pt x="87013" y="4246"/>
                  </a:lnTo>
                  <a:lnTo>
                    <a:pt x="93112" y="2502"/>
                  </a:lnTo>
                  <a:lnTo>
                    <a:pt x="98871" y="493"/>
                  </a:lnTo>
                  <a:lnTo>
                    <a:pt x="105251" y="0"/>
                  </a:lnTo>
                  <a:lnTo>
                    <a:pt x="112043" y="518"/>
                  </a:lnTo>
                  <a:lnTo>
                    <a:pt x="119112" y="1711"/>
                  </a:lnTo>
                  <a:lnTo>
                    <a:pt x="125518" y="2506"/>
                  </a:lnTo>
                  <a:lnTo>
                    <a:pt x="131482" y="3035"/>
                  </a:lnTo>
                  <a:lnTo>
                    <a:pt x="137151" y="3389"/>
                  </a:lnTo>
                  <a:lnTo>
                    <a:pt x="142624" y="4471"/>
                  </a:lnTo>
                  <a:lnTo>
                    <a:pt x="147966" y="6039"/>
                  </a:lnTo>
                  <a:lnTo>
                    <a:pt x="153220" y="7931"/>
                  </a:lnTo>
                  <a:lnTo>
                    <a:pt x="158417" y="10886"/>
                  </a:lnTo>
                  <a:lnTo>
                    <a:pt x="163575" y="14549"/>
                  </a:lnTo>
                  <a:lnTo>
                    <a:pt x="168706" y="18684"/>
                  </a:lnTo>
                  <a:lnTo>
                    <a:pt x="172127" y="22288"/>
                  </a:lnTo>
                  <a:lnTo>
                    <a:pt x="175928" y="28550"/>
                  </a:lnTo>
                  <a:lnTo>
                    <a:pt x="177618" y="36413"/>
                  </a:lnTo>
                  <a:lnTo>
                    <a:pt x="178068" y="40880"/>
                  </a:lnTo>
                  <a:lnTo>
                    <a:pt x="177522" y="45552"/>
                  </a:lnTo>
                  <a:lnTo>
                    <a:pt x="176311" y="50359"/>
                  </a:lnTo>
                  <a:lnTo>
                    <a:pt x="174657" y="55258"/>
                  </a:lnTo>
                  <a:lnTo>
                    <a:pt x="171861" y="61064"/>
                  </a:lnTo>
                  <a:lnTo>
                    <a:pt x="168304" y="67474"/>
                  </a:lnTo>
                  <a:lnTo>
                    <a:pt x="164239" y="74288"/>
                  </a:lnTo>
                  <a:lnTo>
                    <a:pt x="160683" y="80524"/>
                  </a:lnTo>
                  <a:lnTo>
                    <a:pt x="154473" y="91968"/>
                  </a:lnTo>
                  <a:lnTo>
                    <a:pt x="149938" y="98237"/>
                  </a:lnTo>
                  <a:lnTo>
                    <a:pt x="144376" y="104956"/>
                  </a:lnTo>
                  <a:lnTo>
                    <a:pt x="138127" y="111976"/>
                  </a:lnTo>
                  <a:lnTo>
                    <a:pt x="124411" y="126549"/>
                  </a:lnTo>
                  <a:lnTo>
                    <a:pt x="117197" y="133991"/>
                  </a:lnTo>
                  <a:lnTo>
                    <a:pt x="110694" y="141492"/>
                  </a:lnTo>
                  <a:lnTo>
                    <a:pt x="104666" y="149033"/>
                  </a:lnTo>
                  <a:lnTo>
                    <a:pt x="98953" y="156600"/>
                  </a:lnTo>
                  <a:lnTo>
                    <a:pt x="92606" y="163339"/>
                  </a:lnTo>
                  <a:lnTo>
                    <a:pt x="85833" y="169524"/>
                  </a:lnTo>
                  <a:lnTo>
                    <a:pt x="78779" y="175341"/>
                  </a:lnTo>
                  <a:lnTo>
                    <a:pt x="71535" y="181759"/>
                  </a:lnTo>
                  <a:lnTo>
                    <a:pt x="56714" y="195663"/>
                  </a:lnTo>
                  <a:lnTo>
                    <a:pt x="49206" y="202081"/>
                  </a:lnTo>
                  <a:lnTo>
                    <a:pt x="41661" y="208052"/>
                  </a:lnTo>
                  <a:lnTo>
                    <a:pt x="34090" y="213726"/>
                  </a:lnTo>
                  <a:lnTo>
                    <a:pt x="27350" y="219203"/>
                  </a:lnTo>
                  <a:lnTo>
                    <a:pt x="21163" y="224547"/>
                  </a:lnTo>
                  <a:lnTo>
                    <a:pt x="15345" y="229803"/>
                  </a:lnTo>
                  <a:lnTo>
                    <a:pt x="11466" y="235000"/>
                  </a:lnTo>
                  <a:lnTo>
                    <a:pt x="8881" y="240159"/>
                  </a:lnTo>
                  <a:lnTo>
                    <a:pt x="7157" y="245291"/>
                  </a:lnTo>
                  <a:lnTo>
                    <a:pt x="2984" y="253251"/>
                  </a:lnTo>
                  <a:lnTo>
                    <a:pt x="686" y="256559"/>
                  </a:lnTo>
                  <a:lnTo>
                    <a:pt x="0" y="259611"/>
                  </a:lnTo>
                  <a:lnTo>
                    <a:pt x="390" y="262493"/>
                  </a:lnTo>
                  <a:lnTo>
                    <a:pt x="1496" y="265260"/>
                  </a:lnTo>
                  <a:lnTo>
                    <a:pt x="3080" y="267105"/>
                  </a:lnTo>
                  <a:lnTo>
                    <a:pt x="4984" y="268335"/>
                  </a:lnTo>
                  <a:lnTo>
                    <a:pt x="10202" y="270548"/>
                  </a:lnTo>
                  <a:lnTo>
                    <a:pt x="18166" y="274354"/>
                  </a:lnTo>
                  <a:lnTo>
                    <a:pt x="24354" y="275708"/>
                  </a:lnTo>
                  <a:lnTo>
                    <a:pt x="31866" y="276610"/>
                  </a:lnTo>
                  <a:lnTo>
                    <a:pt x="40261" y="277212"/>
                  </a:lnTo>
                  <a:lnTo>
                    <a:pt x="48396" y="277613"/>
                  </a:lnTo>
                  <a:lnTo>
                    <a:pt x="64210" y="278059"/>
                  </a:lnTo>
                  <a:lnTo>
                    <a:pt x="72830" y="277331"/>
                  </a:lnTo>
                  <a:lnTo>
                    <a:pt x="81963" y="275999"/>
                  </a:lnTo>
                  <a:lnTo>
                    <a:pt x="91438" y="274265"/>
                  </a:lnTo>
                  <a:lnTo>
                    <a:pt x="101142" y="273108"/>
                  </a:lnTo>
                  <a:lnTo>
                    <a:pt x="110998" y="272337"/>
                  </a:lnTo>
                  <a:lnTo>
                    <a:pt x="120955" y="271823"/>
                  </a:lnTo>
                  <a:lnTo>
                    <a:pt x="141050" y="271252"/>
                  </a:lnTo>
                  <a:lnTo>
                    <a:pt x="151150" y="271100"/>
                  </a:lnTo>
                  <a:lnTo>
                    <a:pt x="161269" y="270152"/>
                  </a:lnTo>
                  <a:lnTo>
                    <a:pt x="171403" y="268673"/>
                  </a:lnTo>
                  <a:lnTo>
                    <a:pt x="181545" y="266840"/>
                  </a:lnTo>
                  <a:lnTo>
                    <a:pt x="190000" y="265619"/>
                  </a:lnTo>
                  <a:lnTo>
                    <a:pt x="197330" y="264804"/>
                  </a:lnTo>
                  <a:lnTo>
                    <a:pt x="203910" y="264261"/>
                  </a:lnTo>
                  <a:lnTo>
                    <a:pt x="209143" y="263052"/>
                  </a:lnTo>
                  <a:lnTo>
                    <a:pt x="213479" y="261400"/>
                  </a:lnTo>
                  <a:lnTo>
                    <a:pt x="220553" y="258153"/>
                  </a:lnTo>
                  <a:lnTo>
                    <a:pt x="223626" y="257287"/>
                  </a:lnTo>
                  <a:lnTo>
                    <a:pt x="232310" y="2555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SMARTInkAnnotation231"/>
            <p:cNvSpPr/>
            <p:nvPr/>
          </p:nvSpPr>
          <p:spPr>
            <a:xfrm>
              <a:off x="5704560" y="2632320"/>
              <a:ext cx="353520" cy="12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353592" h="126230">
                  <a:moveTo>
                    <a:pt x="124991" y="27169"/>
                  </a:moveTo>
                  <a:lnTo>
                    <a:pt x="124991" y="8971"/>
                  </a:lnTo>
                  <a:lnTo>
                    <a:pt x="124145" y="7417"/>
                  </a:lnTo>
                  <a:lnTo>
                    <a:pt x="122733" y="6381"/>
                  </a:lnTo>
                  <a:lnTo>
                    <a:pt x="118908" y="5230"/>
                  </a:lnTo>
                  <a:lnTo>
                    <a:pt x="114385" y="4719"/>
                  </a:lnTo>
                  <a:lnTo>
                    <a:pt x="107295" y="2233"/>
                  </a:lnTo>
                  <a:lnTo>
                    <a:pt x="103034" y="385"/>
                  </a:lnTo>
                  <a:lnTo>
                    <a:pt x="98500" y="0"/>
                  </a:lnTo>
                  <a:lnTo>
                    <a:pt x="88946" y="1829"/>
                  </a:lnTo>
                  <a:lnTo>
                    <a:pt x="79056" y="3207"/>
                  </a:lnTo>
                  <a:lnTo>
                    <a:pt x="68169" y="4666"/>
                  </a:lnTo>
                  <a:lnTo>
                    <a:pt x="61709" y="6240"/>
                  </a:lnTo>
                  <a:lnTo>
                    <a:pt x="54863" y="8137"/>
                  </a:lnTo>
                  <a:lnTo>
                    <a:pt x="48606" y="10247"/>
                  </a:lnTo>
                  <a:lnTo>
                    <a:pt x="42741" y="12501"/>
                  </a:lnTo>
                  <a:lnTo>
                    <a:pt x="37137" y="14850"/>
                  </a:lnTo>
                  <a:lnTo>
                    <a:pt x="31709" y="18110"/>
                  </a:lnTo>
                  <a:lnTo>
                    <a:pt x="26397" y="21976"/>
                  </a:lnTo>
                  <a:lnTo>
                    <a:pt x="21161" y="26247"/>
                  </a:lnTo>
                  <a:lnTo>
                    <a:pt x="16825" y="30788"/>
                  </a:lnTo>
                  <a:lnTo>
                    <a:pt x="13087" y="35508"/>
                  </a:lnTo>
                  <a:lnTo>
                    <a:pt x="9748" y="40349"/>
                  </a:lnTo>
                  <a:lnTo>
                    <a:pt x="6676" y="44422"/>
                  </a:lnTo>
                  <a:lnTo>
                    <a:pt x="3781" y="47984"/>
                  </a:lnTo>
                  <a:lnTo>
                    <a:pt x="1004" y="51206"/>
                  </a:lnTo>
                  <a:lnTo>
                    <a:pt x="0" y="55047"/>
                  </a:lnTo>
                  <a:lnTo>
                    <a:pt x="177" y="59301"/>
                  </a:lnTo>
                  <a:lnTo>
                    <a:pt x="1142" y="63830"/>
                  </a:lnTo>
                  <a:lnTo>
                    <a:pt x="2632" y="67697"/>
                  </a:lnTo>
                  <a:lnTo>
                    <a:pt x="4472" y="71121"/>
                  </a:lnTo>
                  <a:lnTo>
                    <a:pt x="6545" y="74250"/>
                  </a:lnTo>
                  <a:lnTo>
                    <a:pt x="9620" y="77183"/>
                  </a:lnTo>
                  <a:lnTo>
                    <a:pt x="13364" y="79985"/>
                  </a:lnTo>
                  <a:lnTo>
                    <a:pt x="17553" y="82700"/>
                  </a:lnTo>
                  <a:lnTo>
                    <a:pt x="22039" y="85356"/>
                  </a:lnTo>
                  <a:lnTo>
                    <a:pt x="26723" y="87974"/>
                  </a:lnTo>
                  <a:lnTo>
                    <a:pt x="31539" y="90566"/>
                  </a:lnTo>
                  <a:lnTo>
                    <a:pt x="37290" y="92294"/>
                  </a:lnTo>
                  <a:lnTo>
                    <a:pt x="43663" y="93445"/>
                  </a:lnTo>
                  <a:lnTo>
                    <a:pt x="50453" y="94213"/>
                  </a:lnTo>
                  <a:lnTo>
                    <a:pt x="56672" y="94725"/>
                  </a:lnTo>
                  <a:lnTo>
                    <a:pt x="62512" y="95067"/>
                  </a:lnTo>
                  <a:lnTo>
                    <a:pt x="68098" y="95294"/>
                  </a:lnTo>
                  <a:lnTo>
                    <a:pt x="81078" y="95547"/>
                  </a:lnTo>
                  <a:lnTo>
                    <a:pt x="88096" y="95614"/>
                  </a:lnTo>
                  <a:lnTo>
                    <a:pt x="94468" y="94813"/>
                  </a:lnTo>
                  <a:lnTo>
                    <a:pt x="100409" y="93431"/>
                  </a:lnTo>
                  <a:lnTo>
                    <a:pt x="106063" y="91664"/>
                  </a:lnTo>
                  <a:lnTo>
                    <a:pt x="111526" y="89639"/>
                  </a:lnTo>
                  <a:lnTo>
                    <a:pt x="116861" y="87442"/>
                  </a:lnTo>
                  <a:lnTo>
                    <a:pt x="122111" y="85131"/>
                  </a:lnTo>
                  <a:lnTo>
                    <a:pt x="132460" y="80306"/>
                  </a:lnTo>
                  <a:lnTo>
                    <a:pt x="137591" y="77833"/>
                  </a:lnTo>
                  <a:lnTo>
                    <a:pt x="141857" y="75339"/>
                  </a:lnTo>
                  <a:lnTo>
                    <a:pt x="145549" y="72829"/>
                  </a:lnTo>
                  <a:lnTo>
                    <a:pt x="148856" y="70309"/>
                  </a:lnTo>
                  <a:lnTo>
                    <a:pt x="154789" y="67509"/>
                  </a:lnTo>
                  <a:lnTo>
                    <a:pt x="157557" y="66762"/>
                  </a:lnTo>
                  <a:lnTo>
                    <a:pt x="159401" y="65418"/>
                  </a:lnTo>
                  <a:lnTo>
                    <a:pt x="160631" y="63675"/>
                  </a:lnTo>
                  <a:lnTo>
                    <a:pt x="163079" y="57680"/>
                  </a:lnTo>
                  <a:lnTo>
                    <a:pt x="169651" y="57652"/>
                  </a:lnTo>
                  <a:lnTo>
                    <a:pt x="170005" y="58498"/>
                  </a:lnTo>
                  <a:lnTo>
                    <a:pt x="170397" y="61695"/>
                  </a:lnTo>
                  <a:lnTo>
                    <a:pt x="171349" y="63733"/>
                  </a:lnTo>
                  <a:lnTo>
                    <a:pt x="172830" y="65938"/>
                  </a:lnTo>
                  <a:lnTo>
                    <a:pt x="174663" y="68255"/>
                  </a:lnTo>
                  <a:lnTo>
                    <a:pt x="177579" y="71493"/>
                  </a:lnTo>
                  <a:lnTo>
                    <a:pt x="185335" y="79607"/>
                  </a:lnTo>
                  <a:lnTo>
                    <a:pt x="195176" y="89649"/>
                  </a:lnTo>
                  <a:lnTo>
                    <a:pt x="198874" y="92529"/>
                  </a:lnTo>
                  <a:lnTo>
                    <a:pt x="203034" y="95296"/>
                  </a:lnTo>
                  <a:lnTo>
                    <a:pt x="207499" y="97987"/>
                  </a:lnTo>
                  <a:lnTo>
                    <a:pt x="213016" y="100628"/>
                  </a:lnTo>
                  <a:lnTo>
                    <a:pt x="219234" y="103235"/>
                  </a:lnTo>
                  <a:lnTo>
                    <a:pt x="225920" y="105819"/>
                  </a:lnTo>
                  <a:lnTo>
                    <a:pt x="232071" y="108390"/>
                  </a:lnTo>
                  <a:lnTo>
                    <a:pt x="237864" y="110949"/>
                  </a:lnTo>
                  <a:lnTo>
                    <a:pt x="243420" y="113502"/>
                  </a:lnTo>
                  <a:lnTo>
                    <a:pt x="249663" y="116051"/>
                  </a:lnTo>
                  <a:lnTo>
                    <a:pt x="256367" y="118597"/>
                  </a:lnTo>
                  <a:lnTo>
                    <a:pt x="263375" y="121141"/>
                  </a:lnTo>
                  <a:lnTo>
                    <a:pt x="270587" y="122837"/>
                  </a:lnTo>
                  <a:lnTo>
                    <a:pt x="277935" y="123968"/>
                  </a:lnTo>
                  <a:lnTo>
                    <a:pt x="285373" y="124721"/>
                  </a:lnTo>
                  <a:lnTo>
                    <a:pt x="292026" y="125224"/>
                  </a:lnTo>
                  <a:lnTo>
                    <a:pt x="298155" y="125559"/>
                  </a:lnTo>
                  <a:lnTo>
                    <a:pt x="303933" y="125782"/>
                  </a:lnTo>
                  <a:lnTo>
                    <a:pt x="324202" y="126097"/>
                  </a:lnTo>
                  <a:lnTo>
                    <a:pt x="353591" y="1262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SMARTInkAnnotation232"/>
            <p:cNvSpPr/>
            <p:nvPr/>
          </p:nvSpPr>
          <p:spPr>
            <a:xfrm>
              <a:off x="6096240" y="2636640"/>
              <a:ext cx="243720" cy="15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3842" h="15241">
                  <a:moveTo>
                    <a:pt x="0" y="15240"/>
                  </a:moveTo>
                  <a:lnTo>
                    <a:pt x="0" y="7713"/>
                  </a:lnTo>
                  <a:lnTo>
                    <a:pt x="6561" y="7628"/>
                  </a:lnTo>
                  <a:lnTo>
                    <a:pt x="49978" y="7620"/>
                  </a:lnTo>
                  <a:lnTo>
                    <a:pt x="56179" y="6774"/>
                  </a:lnTo>
                  <a:lnTo>
                    <a:pt x="62853" y="5363"/>
                  </a:lnTo>
                  <a:lnTo>
                    <a:pt x="69842" y="3575"/>
                  </a:lnTo>
                  <a:lnTo>
                    <a:pt x="77888" y="2383"/>
                  </a:lnTo>
                  <a:lnTo>
                    <a:pt x="86639" y="1589"/>
                  </a:lnTo>
                  <a:lnTo>
                    <a:pt x="95860" y="1059"/>
                  </a:lnTo>
                  <a:lnTo>
                    <a:pt x="112877" y="471"/>
                  </a:lnTo>
                  <a:lnTo>
                    <a:pt x="140453" y="93"/>
                  </a:lnTo>
                  <a:lnTo>
                    <a:pt x="24384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SMARTInkAnnotation233"/>
            <p:cNvSpPr/>
            <p:nvPr/>
          </p:nvSpPr>
          <p:spPr>
            <a:xfrm>
              <a:off x="6225840" y="2567880"/>
              <a:ext cx="15120" cy="1825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5240" h="182881">
                  <a:moveTo>
                    <a:pt x="0" y="0"/>
                  </a:moveTo>
                  <a:lnTo>
                    <a:pt x="0" y="142241"/>
                  </a:lnTo>
                  <a:lnTo>
                    <a:pt x="846" y="147321"/>
                  </a:lnTo>
                  <a:lnTo>
                    <a:pt x="2257" y="152400"/>
                  </a:lnTo>
                  <a:lnTo>
                    <a:pt x="4044" y="157480"/>
                  </a:lnTo>
                  <a:lnTo>
                    <a:pt x="6083" y="161714"/>
                  </a:lnTo>
                  <a:lnTo>
                    <a:pt x="8288" y="165383"/>
                  </a:lnTo>
                  <a:lnTo>
                    <a:pt x="10605" y="168676"/>
                  </a:lnTo>
                  <a:lnTo>
                    <a:pt x="12150" y="171717"/>
                  </a:lnTo>
                  <a:lnTo>
                    <a:pt x="13179" y="174592"/>
                  </a:lnTo>
                  <a:lnTo>
                    <a:pt x="15239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SMARTInkAnnotation234"/>
            <p:cNvSpPr/>
            <p:nvPr/>
          </p:nvSpPr>
          <p:spPr>
            <a:xfrm>
              <a:off x="6515280" y="2514600"/>
              <a:ext cx="198000" cy="2433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98112" h="243667">
                  <a:moveTo>
                    <a:pt x="7611" y="60929"/>
                  </a:moveTo>
                  <a:lnTo>
                    <a:pt x="1050" y="54368"/>
                  </a:lnTo>
                  <a:lnTo>
                    <a:pt x="462" y="51522"/>
                  </a:lnTo>
                  <a:lnTo>
                    <a:pt x="32" y="43943"/>
                  </a:lnTo>
                  <a:lnTo>
                    <a:pt x="0" y="35184"/>
                  </a:lnTo>
                  <a:lnTo>
                    <a:pt x="843" y="32759"/>
                  </a:lnTo>
                  <a:lnTo>
                    <a:pt x="4039" y="27807"/>
                  </a:lnTo>
                  <a:lnTo>
                    <a:pt x="6076" y="26148"/>
                  </a:lnTo>
                  <a:lnTo>
                    <a:pt x="8280" y="25042"/>
                  </a:lnTo>
                  <a:lnTo>
                    <a:pt x="10597" y="24304"/>
                  </a:lnTo>
                  <a:lnTo>
                    <a:pt x="15430" y="21227"/>
                  </a:lnTo>
                  <a:lnTo>
                    <a:pt x="21246" y="17037"/>
                  </a:lnTo>
                  <a:lnTo>
                    <a:pt x="25168" y="14734"/>
                  </a:lnTo>
                  <a:lnTo>
                    <a:pt x="29476" y="12353"/>
                  </a:lnTo>
                  <a:lnTo>
                    <a:pt x="33194" y="10765"/>
                  </a:lnTo>
                  <a:lnTo>
                    <a:pt x="36520" y="9706"/>
                  </a:lnTo>
                  <a:lnTo>
                    <a:pt x="39583" y="9000"/>
                  </a:lnTo>
                  <a:lnTo>
                    <a:pt x="44166" y="7683"/>
                  </a:lnTo>
                  <a:lnTo>
                    <a:pt x="56031" y="3962"/>
                  </a:lnTo>
                  <a:lnTo>
                    <a:pt x="61904" y="2631"/>
                  </a:lnTo>
                  <a:lnTo>
                    <a:pt x="67513" y="1744"/>
                  </a:lnTo>
                  <a:lnTo>
                    <a:pt x="72946" y="1152"/>
                  </a:lnTo>
                  <a:lnTo>
                    <a:pt x="77414" y="758"/>
                  </a:lnTo>
                  <a:lnTo>
                    <a:pt x="81240" y="495"/>
                  </a:lnTo>
                  <a:lnTo>
                    <a:pt x="84636" y="320"/>
                  </a:lnTo>
                  <a:lnTo>
                    <a:pt x="92927" y="125"/>
                  </a:lnTo>
                  <a:lnTo>
                    <a:pt x="108001" y="0"/>
                  </a:lnTo>
                  <a:lnTo>
                    <a:pt x="110945" y="836"/>
                  </a:lnTo>
                  <a:lnTo>
                    <a:pt x="116473" y="4023"/>
                  </a:lnTo>
                  <a:lnTo>
                    <a:pt x="121684" y="7731"/>
                  </a:lnTo>
                  <a:lnTo>
                    <a:pt x="125479" y="11321"/>
                  </a:lnTo>
                  <a:lnTo>
                    <a:pt x="125983" y="14311"/>
                  </a:lnTo>
                  <a:lnTo>
                    <a:pt x="125472" y="17997"/>
                  </a:lnTo>
                  <a:lnTo>
                    <a:pt x="124285" y="22147"/>
                  </a:lnTo>
                  <a:lnTo>
                    <a:pt x="122648" y="26608"/>
                  </a:lnTo>
                  <a:lnTo>
                    <a:pt x="120708" y="31275"/>
                  </a:lnTo>
                  <a:lnTo>
                    <a:pt x="118569" y="36080"/>
                  </a:lnTo>
                  <a:lnTo>
                    <a:pt x="113935" y="45934"/>
                  </a:lnTo>
                  <a:lnTo>
                    <a:pt x="111514" y="50932"/>
                  </a:lnTo>
                  <a:lnTo>
                    <a:pt x="108206" y="55958"/>
                  </a:lnTo>
                  <a:lnTo>
                    <a:pt x="104308" y="61002"/>
                  </a:lnTo>
                  <a:lnTo>
                    <a:pt x="100016" y="66057"/>
                  </a:lnTo>
                  <a:lnTo>
                    <a:pt x="95460" y="71121"/>
                  </a:lnTo>
                  <a:lnTo>
                    <a:pt x="85883" y="81263"/>
                  </a:lnTo>
                  <a:lnTo>
                    <a:pt x="66927" y="100538"/>
                  </a:lnTo>
                  <a:lnTo>
                    <a:pt x="60702" y="107655"/>
                  </a:lnTo>
                  <a:lnTo>
                    <a:pt x="54858" y="114940"/>
                  </a:lnTo>
                  <a:lnTo>
                    <a:pt x="49269" y="122336"/>
                  </a:lnTo>
                  <a:lnTo>
                    <a:pt x="43850" y="128961"/>
                  </a:lnTo>
                  <a:lnTo>
                    <a:pt x="38543" y="135070"/>
                  </a:lnTo>
                  <a:lnTo>
                    <a:pt x="33313" y="140837"/>
                  </a:lnTo>
                  <a:lnTo>
                    <a:pt x="28132" y="147220"/>
                  </a:lnTo>
                  <a:lnTo>
                    <a:pt x="22984" y="154017"/>
                  </a:lnTo>
                  <a:lnTo>
                    <a:pt x="17860" y="161087"/>
                  </a:lnTo>
                  <a:lnTo>
                    <a:pt x="13597" y="167495"/>
                  </a:lnTo>
                  <a:lnTo>
                    <a:pt x="9908" y="173460"/>
                  </a:lnTo>
                  <a:lnTo>
                    <a:pt x="6603" y="179129"/>
                  </a:lnTo>
                  <a:lnTo>
                    <a:pt x="4399" y="183756"/>
                  </a:lnTo>
                  <a:lnTo>
                    <a:pt x="1950" y="191154"/>
                  </a:lnTo>
                  <a:lnTo>
                    <a:pt x="1297" y="195159"/>
                  </a:lnTo>
                  <a:lnTo>
                    <a:pt x="861" y="199522"/>
                  </a:lnTo>
                  <a:lnTo>
                    <a:pt x="572" y="204125"/>
                  </a:lnTo>
                  <a:lnTo>
                    <a:pt x="378" y="208886"/>
                  </a:lnTo>
                  <a:lnTo>
                    <a:pt x="162" y="218692"/>
                  </a:lnTo>
                  <a:lnTo>
                    <a:pt x="2646" y="222831"/>
                  </a:lnTo>
                  <a:lnTo>
                    <a:pt x="6840" y="226437"/>
                  </a:lnTo>
                  <a:lnTo>
                    <a:pt x="12177" y="229688"/>
                  </a:lnTo>
                  <a:lnTo>
                    <a:pt x="16581" y="232702"/>
                  </a:lnTo>
                  <a:lnTo>
                    <a:pt x="20365" y="235557"/>
                  </a:lnTo>
                  <a:lnTo>
                    <a:pt x="23733" y="238308"/>
                  </a:lnTo>
                  <a:lnTo>
                    <a:pt x="28519" y="240142"/>
                  </a:lnTo>
                  <a:lnTo>
                    <a:pt x="34249" y="241364"/>
                  </a:lnTo>
                  <a:lnTo>
                    <a:pt x="40610" y="242179"/>
                  </a:lnTo>
                  <a:lnTo>
                    <a:pt x="47390" y="242722"/>
                  </a:lnTo>
                  <a:lnTo>
                    <a:pt x="54450" y="243084"/>
                  </a:lnTo>
                  <a:lnTo>
                    <a:pt x="69069" y="243487"/>
                  </a:lnTo>
                  <a:lnTo>
                    <a:pt x="84032" y="243666"/>
                  </a:lnTo>
                  <a:lnTo>
                    <a:pt x="92425" y="242867"/>
                  </a:lnTo>
                  <a:lnTo>
                    <a:pt x="101407" y="241488"/>
                  </a:lnTo>
                  <a:lnTo>
                    <a:pt x="110782" y="239722"/>
                  </a:lnTo>
                  <a:lnTo>
                    <a:pt x="119571" y="237698"/>
                  </a:lnTo>
                  <a:lnTo>
                    <a:pt x="127971" y="235501"/>
                  </a:lnTo>
                  <a:lnTo>
                    <a:pt x="144924" y="230804"/>
                  </a:lnTo>
                  <a:lnTo>
                    <a:pt x="163748" y="225893"/>
                  </a:lnTo>
                  <a:lnTo>
                    <a:pt x="171816" y="223399"/>
                  </a:lnTo>
                  <a:lnTo>
                    <a:pt x="178888" y="220888"/>
                  </a:lnTo>
                  <a:lnTo>
                    <a:pt x="198111" y="2133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SMARTInkAnnotation235"/>
            <p:cNvSpPr/>
            <p:nvPr/>
          </p:nvSpPr>
          <p:spPr>
            <a:xfrm>
              <a:off x="6774840" y="2491920"/>
              <a:ext cx="205200" cy="14328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205380" h="143497">
                  <a:moveTo>
                    <a:pt x="68219" y="0"/>
                  </a:moveTo>
                  <a:lnTo>
                    <a:pt x="68219" y="4045"/>
                  </a:lnTo>
                  <a:lnTo>
                    <a:pt x="67372" y="6084"/>
                  </a:lnTo>
                  <a:lnTo>
                    <a:pt x="65961" y="8289"/>
                  </a:lnTo>
                  <a:lnTo>
                    <a:pt x="64173" y="10606"/>
                  </a:lnTo>
                  <a:lnTo>
                    <a:pt x="62135" y="13844"/>
                  </a:lnTo>
                  <a:lnTo>
                    <a:pt x="59929" y="17696"/>
                  </a:lnTo>
                  <a:lnTo>
                    <a:pt x="57613" y="21958"/>
                  </a:lnTo>
                  <a:lnTo>
                    <a:pt x="55222" y="25645"/>
                  </a:lnTo>
                  <a:lnTo>
                    <a:pt x="52780" y="28950"/>
                  </a:lnTo>
                  <a:lnTo>
                    <a:pt x="50307" y="32000"/>
                  </a:lnTo>
                  <a:lnTo>
                    <a:pt x="47811" y="34880"/>
                  </a:lnTo>
                  <a:lnTo>
                    <a:pt x="45300" y="37647"/>
                  </a:lnTo>
                  <a:lnTo>
                    <a:pt x="42780" y="40338"/>
                  </a:lnTo>
                  <a:lnTo>
                    <a:pt x="40252" y="43826"/>
                  </a:lnTo>
                  <a:lnTo>
                    <a:pt x="37721" y="47844"/>
                  </a:lnTo>
                  <a:lnTo>
                    <a:pt x="35188" y="52216"/>
                  </a:lnTo>
                  <a:lnTo>
                    <a:pt x="31805" y="56824"/>
                  </a:lnTo>
                  <a:lnTo>
                    <a:pt x="27856" y="61590"/>
                  </a:lnTo>
                  <a:lnTo>
                    <a:pt x="23530" y="66460"/>
                  </a:lnTo>
                  <a:lnTo>
                    <a:pt x="19800" y="71400"/>
                  </a:lnTo>
                  <a:lnTo>
                    <a:pt x="16466" y="76387"/>
                  </a:lnTo>
                  <a:lnTo>
                    <a:pt x="13397" y="81405"/>
                  </a:lnTo>
                  <a:lnTo>
                    <a:pt x="11351" y="85596"/>
                  </a:lnTo>
                  <a:lnTo>
                    <a:pt x="9988" y="89238"/>
                  </a:lnTo>
                  <a:lnTo>
                    <a:pt x="9077" y="92512"/>
                  </a:lnTo>
                  <a:lnTo>
                    <a:pt x="7625" y="95542"/>
                  </a:lnTo>
                  <a:lnTo>
                    <a:pt x="5809" y="98408"/>
                  </a:lnTo>
                  <a:lnTo>
                    <a:pt x="3752" y="101165"/>
                  </a:lnTo>
                  <a:lnTo>
                    <a:pt x="2382" y="103850"/>
                  </a:lnTo>
                  <a:lnTo>
                    <a:pt x="1467" y="106487"/>
                  </a:lnTo>
                  <a:lnTo>
                    <a:pt x="858" y="109092"/>
                  </a:lnTo>
                  <a:lnTo>
                    <a:pt x="452" y="111675"/>
                  </a:lnTo>
                  <a:lnTo>
                    <a:pt x="180" y="114243"/>
                  </a:lnTo>
                  <a:lnTo>
                    <a:pt x="0" y="116802"/>
                  </a:lnTo>
                  <a:lnTo>
                    <a:pt x="726" y="120202"/>
                  </a:lnTo>
                  <a:lnTo>
                    <a:pt x="2058" y="124161"/>
                  </a:lnTo>
                  <a:lnTo>
                    <a:pt x="3791" y="128494"/>
                  </a:lnTo>
                  <a:lnTo>
                    <a:pt x="5794" y="131383"/>
                  </a:lnTo>
                  <a:lnTo>
                    <a:pt x="7975" y="133309"/>
                  </a:lnTo>
                  <a:lnTo>
                    <a:pt x="12658" y="136295"/>
                  </a:lnTo>
                  <a:lnTo>
                    <a:pt x="17561" y="140445"/>
                  </a:lnTo>
                  <a:lnTo>
                    <a:pt x="20900" y="141890"/>
                  </a:lnTo>
                  <a:lnTo>
                    <a:pt x="24820" y="142854"/>
                  </a:lnTo>
                  <a:lnTo>
                    <a:pt x="29126" y="143496"/>
                  </a:lnTo>
                  <a:lnTo>
                    <a:pt x="34537" y="143077"/>
                  </a:lnTo>
                  <a:lnTo>
                    <a:pt x="40684" y="141952"/>
                  </a:lnTo>
                  <a:lnTo>
                    <a:pt x="47322" y="140355"/>
                  </a:lnTo>
                  <a:lnTo>
                    <a:pt x="53441" y="138443"/>
                  </a:lnTo>
                  <a:lnTo>
                    <a:pt x="59213" y="136322"/>
                  </a:lnTo>
                  <a:lnTo>
                    <a:pt x="64755" y="134062"/>
                  </a:lnTo>
                  <a:lnTo>
                    <a:pt x="70143" y="131708"/>
                  </a:lnTo>
                  <a:lnTo>
                    <a:pt x="80645" y="126835"/>
                  </a:lnTo>
                  <a:lnTo>
                    <a:pt x="86663" y="124350"/>
                  </a:lnTo>
                  <a:lnTo>
                    <a:pt x="93216" y="121847"/>
                  </a:lnTo>
                  <a:lnTo>
                    <a:pt x="100123" y="119331"/>
                  </a:lnTo>
                  <a:lnTo>
                    <a:pt x="107268" y="117654"/>
                  </a:lnTo>
                  <a:lnTo>
                    <a:pt x="114573" y="116536"/>
                  </a:lnTo>
                  <a:lnTo>
                    <a:pt x="121981" y="115791"/>
                  </a:lnTo>
                  <a:lnTo>
                    <a:pt x="128614" y="114447"/>
                  </a:lnTo>
                  <a:lnTo>
                    <a:pt x="134729" y="112705"/>
                  </a:lnTo>
                  <a:lnTo>
                    <a:pt x="140498" y="110697"/>
                  </a:lnTo>
                  <a:lnTo>
                    <a:pt x="146038" y="108512"/>
                  </a:lnTo>
                  <a:lnTo>
                    <a:pt x="151425" y="106208"/>
                  </a:lnTo>
                  <a:lnTo>
                    <a:pt x="161926" y="101390"/>
                  </a:lnTo>
                  <a:lnTo>
                    <a:pt x="172237" y="96427"/>
                  </a:lnTo>
                  <a:lnTo>
                    <a:pt x="176511" y="94765"/>
                  </a:lnTo>
                  <a:lnTo>
                    <a:pt x="180207" y="93657"/>
                  </a:lnTo>
                  <a:lnTo>
                    <a:pt x="183517" y="92918"/>
                  </a:lnTo>
                  <a:lnTo>
                    <a:pt x="189454" y="89839"/>
                  </a:lnTo>
                  <a:lnTo>
                    <a:pt x="194914" y="85649"/>
                  </a:lnTo>
                  <a:lnTo>
                    <a:pt x="197556" y="83346"/>
                  </a:lnTo>
                  <a:lnTo>
                    <a:pt x="205379" y="76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SMARTInkAnnotation236"/>
            <p:cNvSpPr/>
            <p:nvPr/>
          </p:nvSpPr>
          <p:spPr>
            <a:xfrm>
              <a:off x="6957360" y="2484360"/>
              <a:ext cx="45360" cy="281880"/>
            </a:xfrm>
            <a:custGeom>
              <a:avLst/>
              <a:gdLst>
                <a:gd name="textAreaLeft" fmla="*/ 0 w 45360"/>
                <a:gd name="textAreaRight" fmla="*/ 45360 w 453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45710" h="281941">
                  <a:moveTo>
                    <a:pt x="45709" y="0"/>
                  </a:moveTo>
                  <a:lnTo>
                    <a:pt x="39148" y="6561"/>
                  </a:lnTo>
                  <a:lnTo>
                    <a:pt x="38559" y="11665"/>
                  </a:lnTo>
                  <a:lnTo>
                    <a:pt x="38402" y="15397"/>
                  </a:lnTo>
                  <a:lnTo>
                    <a:pt x="37451" y="18731"/>
                  </a:lnTo>
                  <a:lnTo>
                    <a:pt x="35971" y="21800"/>
                  </a:lnTo>
                  <a:lnTo>
                    <a:pt x="34136" y="24694"/>
                  </a:lnTo>
                  <a:lnTo>
                    <a:pt x="32914" y="28316"/>
                  </a:lnTo>
                  <a:lnTo>
                    <a:pt x="31556" y="36856"/>
                  </a:lnTo>
                  <a:lnTo>
                    <a:pt x="30347" y="41504"/>
                  </a:lnTo>
                  <a:lnTo>
                    <a:pt x="28693" y="46296"/>
                  </a:lnTo>
                  <a:lnTo>
                    <a:pt x="26746" y="51184"/>
                  </a:lnTo>
                  <a:lnTo>
                    <a:pt x="25446" y="56136"/>
                  </a:lnTo>
                  <a:lnTo>
                    <a:pt x="24580" y="61130"/>
                  </a:lnTo>
                  <a:lnTo>
                    <a:pt x="24003" y="66154"/>
                  </a:lnTo>
                  <a:lnTo>
                    <a:pt x="22771" y="72043"/>
                  </a:lnTo>
                  <a:lnTo>
                    <a:pt x="21103" y="78508"/>
                  </a:lnTo>
                  <a:lnTo>
                    <a:pt x="19145" y="85359"/>
                  </a:lnTo>
                  <a:lnTo>
                    <a:pt x="17840" y="92466"/>
                  </a:lnTo>
                  <a:lnTo>
                    <a:pt x="16968" y="99744"/>
                  </a:lnTo>
                  <a:lnTo>
                    <a:pt x="16389" y="107136"/>
                  </a:lnTo>
                  <a:lnTo>
                    <a:pt x="15155" y="113757"/>
                  </a:lnTo>
                  <a:lnTo>
                    <a:pt x="13486" y="119865"/>
                  </a:lnTo>
                  <a:lnTo>
                    <a:pt x="4725" y="145879"/>
                  </a:lnTo>
                  <a:lnTo>
                    <a:pt x="3145" y="153133"/>
                  </a:lnTo>
                  <a:lnTo>
                    <a:pt x="2093" y="160509"/>
                  </a:lnTo>
                  <a:lnTo>
                    <a:pt x="1392" y="167966"/>
                  </a:lnTo>
                  <a:lnTo>
                    <a:pt x="924" y="174631"/>
                  </a:lnTo>
                  <a:lnTo>
                    <a:pt x="611" y="180767"/>
                  </a:lnTo>
                  <a:lnTo>
                    <a:pt x="404" y="186552"/>
                  </a:lnTo>
                  <a:lnTo>
                    <a:pt x="111" y="206828"/>
                  </a:lnTo>
                  <a:lnTo>
                    <a:pt x="0" y="240950"/>
                  </a:lnTo>
                  <a:lnTo>
                    <a:pt x="842" y="246147"/>
                  </a:lnTo>
                  <a:lnTo>
                    <a:pt x="2251" y="251305"/>
                  </a:lnTo>
                  <a:lnTo>
                    <a:pt x="4037" y="256436"/>
                  </a:lnTo>
                  <a:lnTo>
                    <a:pt x="6075" y="260704"/>
                  </a:lnTo>
                  <a:lnTo>
                    <a:pt x="8279" y="264396"/>
                  </a:lnTo>
                  <a:lnTo>
                    <a:pt x="10595" y="267704"/>
                  </a:lnTo>
                  <a:lnTo>
                    <a:pt x="12140" y="270756"/>
                  </a:lnTo>
                  <a:lnTo>
                    <a:pt x="13170" y="273637"/>
                  </a:lnTo>
                  <a:lnTo>
                    <a:pt x="15228" y="2819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MARTInkAnnotation237"/>
            <p:cNvSpPr/>
            <p:nvPr/>
          </p:nvSpPr>
          <p:spPr>
            <a:xfrm>
              <a:off x="1133280" y="4084200"/>
              <a:ext cx="276480" cy="2894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276563" h="289561">
                  <a:moveTo>
                    <a:pt x="108922" y="0"/>
                  </a:moveTo>
                  <a:lnTo>
                    <a:pt x="108922" y="4045"/>
                  </a:lnTo>
                  <a:lnTo>
                    <a:pt x="108075" y="5237"/>
                  </a:lnTo>
                  <a:lnTo>
                    <a:pt x="106664" y="6031"/>
                  </a:lnTo>
                  <a:lnTo>
                    <a:pt x="104877" y="6561"/>
                  </a:lnTo>
                  <a:lnTo>
                    <a:pt x="100633" y="9408"/>
                  </a:lnTo>
                  <a:lnTo>
                    <a:pt x="94231" y="15188"/>
                  </a:lnTo>
                  <a:lnTo>
                    <a:pt x="66316" y="42672"/>
                  </a:lnTo>
                  <a:lnTo>
                    <a:pt x="61045" y="48768"/>
                  </a:lnTo>
                  <a:lnTo>
                    <a:pt x="55837" y="55372"/>
                  </a:lnTo>
                  <a:lnTo>
                    <a:pt x="50672" y="62315"/>
                  </a:lnTo>
                  <a:lnTo>
                    <a:pt x="40418" y="76802"/>
                  </a:lnTo>
                  <a:lnTo>
                    <a:pt x="35313" y="84222"/>
                  </a:lnTo>
                  <a:lnTo>
                    <a:pt x="30216" y="92555"/>
                  </a:lnTo>
                  <a:lnTo>
                    <a:pt x="25125" y="101497"/>
                  </a:lnTo>
                  <a:lnTo>
                    <a:pt x="20037" y="110844"/>
                  </a:lnTo>
                  <a:lnTo>
                    <a:pt x="15799" y="119616"/>
                  </a:lnTo>
                  <a:lnTo>
                    <a:pt x="12127" y="128004"/>
                  </a:lnTo>
                  <a:lnTo>
                    <a:pt x="8832" y="136136"/>
                  </a:lnTo>
                  <a:lnTo>
                    <a:pt x="2913" y="151945"/>
                  </a:lnTo>
                  <a:lnTo>
                    <a:pt x="150" y="159717"/>
                  </a:lnTo>
                  <a:lnTo>
                    <a:pt x="0" y="167438"/>
                  </a:lnTo>
                  <a:lnTo>
                    <a:pt x="1594" y="175125"/>
                  </a:lnTo>
                  <a:lnTo>
                    <a:pt x="4350" y="182790"/>
                  </a:lnTo>
                  <a:lnTo>
                    <a:pt x="7881" y="190440"/>
                  </a:lnTo>
                  <a:lnTo>
                    <a:pt x="11928" y="198080"/>
                  </a:lnTo>
                  <a:lnTo>
                    <a:pt x="16319" y="205713"/>
                  </a:lnTo>
                  <a:lnTo>
                    <a:pt x="20940" y="212496"/>
                  </a:lnTo>
                  <a:lnTo>
                    <a:pt x="25714" y="218710"/>
                  </a:lnTo>
                  <a:lnTo>
                    <a:pt x="30590" y="224547"/>
                  </a:lnTo>
                  <a:lnTo>
                    <a:pt x="37227" y="230131"/>
                  </a:lnTo>
                  <a:lnTo>
                    <a:pt x="45039" y="235548"/>
                  </a:lnTo>
                  <a:lnTo>
                    <a:pt x="61903" y="246081"/>
                  </a:lnTo>
                  <a:lnTo>
                    <a:pt x="77865" y="256407"/>
                  </a:lnTo>
                  <a:lnTo>
                    <a:pt x="87371" y="259838"/>
                  </a:lnTo>
                  <a:lnTo>
                    <a:pt x="97941" y="262126"/>
                  </a:lnTo>
                  <a:lnTo>
                    <a:pt x="109221" y="263651"/>
                  </a:lnTo>
                  <a:lnTo>
                    <a:pt x="120975" y="264667"/>
                  </a:lnTo>
                  <a:lnTo>
                    <a:pt x="133044" y="265344"/>
                  </a:lnTo>
                  <a:lnTo>
                    <a:pt x="145323" y="265796"/>
                  </a:lnTo>
                  <a:lnTo>
                    <a:pt x="156896" y="265251"/>
                  </a:lnTo>
                  <a:lnTo>
                    <a:pt x="167998" y="264041"/>
                  </a:lnTo>
                  <a:lnTo>
                    <a:pt x="178786" y="262387"/>
                  </a:lnTo>
                  <a:lnTo>
                    <a:pt x="188518" y="260438"/>
                  </a:lnTo>
                  <a:lnTo>
                    <a:pt x="197546" y="258292"/>
                  </a:lnTo>
                  <a:lnTo>
                    <a:pt x="206105" y="256015"/>
                  </a:lnTo>
                  <a:lnTo>
                    <a:pt x="213504" y="252803"/>
                  </a:lnTo>
                  <a:lnTo>
                    <a:pt x="220130" y="248969"/>
                  </a:lnTo>
                  <a:lnTo>
                    <a:pt x="226241" y="244719"/>
                  </a:lnTo>
                  <a:lnTo>
                    <a:pt x="231161" y="240193"/>
                  </a:lnTo>
                  <a:lnTo>
                    <a:pt x="235288" y="235482"/>
                  </a:lnTo>
                  <a:lnTo>
                    <a:pt x="238886" y="230648"/>
                  </a:lnTo>
                  <a:lnTo>
                    <a:pt x="242131" y="225732"/>
                  </a:lnTo>
                  <a:lnTo>
                    <a:pt x="245142" y="220761"/>
                  </a:lnTo>
                  <a:lnTo>
                    <a:pt x="247995" y="215754"/>
                  </a:lnTo>
                  <a:lnTo>
                    <a:pt x="249051" y="209876"/>
                  </a:lnTo>
                  <a:lnTo>
                    <a:pt x="248908" y="203418"/>
                  </a:lnTo>
                  <a:lnTo>
                    <a:pt x="247966" y="196572"/>
                  </a:lnTo>
                  <a:lnTo>
                    <a:pt x="246491" y="191161"/>
                  </a:lnTo>
                  <a:lnTo>
                    <a:pt x="242595" y="182892"/>
                  </a:lnTo>
                  <a:lnTo>
                    <a:pt x="235783" y="174136"/>
                  </a:lnTo>
                  <a:lnTo>
                    <a:pt x="231596" y="169431"/>
                  </a:lnTo>
                  <a:lnTo>
                    <a:pt x="227112" y="166294"/>
                  </a:lnTo>
                  <a:lnTo>
                    <a:pt x="222428" y="164202"/>
                  </a:lnTo>
                  <a:lnTo>
                    <a:pt x="217613" y="162808"/>
                  </a:lnTo>
                  <a:lnTo>
                    <a:pt x="211863" y="161879"/>
                  </a:lnTo>
                  <a:lnTo>
                    <a:pt x="205489" y="161260"/>
                  </a:lnTo>
                  <a:lnTo>
                    <a:pt x="198700" y="160846"/>
                  </a:lnTo>
                  <a:lnTo>
                    <a:pt x="186641" y="160387"/>
                  </a:lnTo>
                  <a:lnTo>
                    <a:pt x="181055" y="160265"/>
                  </a:lnTo>
                  <a:lnTo>
                    <a:pt x="175637" y="161030"/>
                  </a:lnTo>
                  <a:lnTo>
                    <a:pt x="170332" y="162386"/>
                  </a:lnTo>
                  <a:lnTo>
                    <a:pt x="165102" y="164137"/>
                  </a:lnTo>
                  <a:lnTo>
                    <a:pt x="159922" y="166152"/>
                  </a:lnTo>
                  <a:lnTo>
                    <a:pt x="154775" y="168341"/>
                  </a:lnTo>
                  <a:lnTo>
                    <a:pt x="149651" y="170647"/>
                  </a:lnTo>
                  <a:lnTo>
                    <a:pt x="146235" y="173878"/>
                  </a:lnTo>
                  <a:lnTo>
                    <a:pt x="143957" y="177726"/>
                  </a:lnTo>
                  <a:lnTo>
                    <a:pt x="142439" y="181984"/>
                  </a:lnTo>
                  <a:lnTo>
                    <a:pt x="142273" y="186516"/>
                  </a:lnTo>
                  <a:lnTo>
                    <a:pt x="143010" y="191231"/>
                  </a:lnTo>
                  <a:lnTo>
                    <a:pt x="144347" y="196067"/>
                  </a:lnTo>
                  <a:lnTo>
                    <a:pt x="148091" y="208215"/>
                  </a:lnTo>
                  <a:lnTo>
                    <a:pt x="150275" y="215010"/>
                  </a:lnTo>
                  <a:lnTo>
                    <a:pt x="153424" y="221233"/>
                  </a:lnTo>
                  <a:lnTo>
                    <a:pt x="157216" y="227075"/>
                  </a:lnTo>
                  <a:lnTo>
                    <a:pt x="161439" y="232663"/>
                  </a:lnTo>
                  <a:lnTo>
                    <a:pt x="166793" y="238082"/>
                  </a:lnTo>
                  <a:lnTo>
                    <a:pt x="172903" y="243388"/>
                  </a:lnTo>
                  <a:lnTo>
                    <a:pt x="179516" y="248619"/>
                  </a:lnTo>
                  <a:lnTo>
                    <a:pt x="187311" y="253799"/>
                  </a:lnTo>
                  <a:lnTo>
                    <a:pt x="195895" y="258946"/>
                  </a:lnTo>
                  <a:lnTo>
                    <a:pt x="205004" y="264071"/>
                  </a:lnTo>
                  <a:lnTo>
                    <a:pt x="215310" y="268334"/>
                  </a:lnTo>
                  <a:lnTo>
                    <a:pt x="226414" y="272023"/>
                  </a:lnTo>
                  <a:lnTo>
                    <a:pt x="238050" y="275328"/>
                  </a:lnTo>
                  <a:lnTo>
                    <a:pt x="247501" y="278379"/>
                  </a:lnTo>
                  <a:lnTo>
                    <a:pt x="255495" y="281259"/>
                  </a:lnTo>
                  <a:lnTo>
                    <a:pt x="276562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MARTInkAnnotation238"/>
            <p:cNvSpPr/>
            <p:nvPr/>
          </p:nvSpPr>
          <p:spPr>
            <a:xfrm>
              <a:off x="1463040" y="4046760"/>
              <a:ext cx="303480" cy="28548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03662" h="285644">
                  <a:moveTo>
                    <a:pt x="0" y="68134"/>
                  </a:moveTo>
                  <a:lnTo>
                    <a:pt x="0" y="54046"/>
                  </a:lnTo>
                  <a:lnTo>
                    <a:pt x="8091" y="49190"/>
                  </a:lnTo>
                  <a:lnTo>
                    <a:pt x="17167" y="42389"/>
                  </a:lnTo>
                  <a:lnTo>
                    <a:pt x="21604" y="39964"/>
                  </a:lnTo>
                  <a:lnTo>
                    <a:pt x="27103" y="37501"/>
                  </a:lnTo>
                  <a:lnTo>
                    <a:pt x="33309" y="35012"/>
                  </a:lnTo>
                  <a:lnTo>
                    <a:pt x="39139" y="32506"/>
                  </a:lnTo>
                  <a:lnTo>
                    <a:pt x="50133" y="27464"/>
                  </a:lnTo>
                  <a:lnTo>
                    <a:pt x="57129" y="24934"/>
                  </a:lnTo>
                  <a:lnTo>
                    <a:pt x="65179" y="22401"/>
                  </a:lnTo>
                  <a:lnTo>
                    <a:pt x="82309" y="17328"/>
                  </a:lnTo>
                  <a:lnTo>
                    <a:pt x="98388" y="12251"/>
                  </a:lnTo>
                  <a:lnTo>
                    <a:pt x="107079" y="9712"/>
                  </a:lnTo>
                  <a:lnTo>
                    <a:pt x="125766" y="4633"/>
                  </a:lnTo>
                  <a:lnTo>
                    <a:pt x="133798" y="2940"/>
                  </a:lnTo>
                  <a:lnTo>
                    <a:pt x="140845" y="1811"/>
                  </a:lnTo>
                  <a:lnTo>
                    <a:pt x="147237" y="1059"/>
                  </a:lnTo>
                  <a:lnTo>
                    <a:pt x="154038" y="557"/>
                  </a:lnTo>
                  <a:lnTo>
                    <a:pt x="161112" y="223"/>
                  </a:lnTo>
                  <a:lnTo>
                    <a:pt x="168368" y="0"/>
                  </a:lnTo>
                  <a:lnTo>
                    <a:pt x="174052" y="698"/>
                  </a:lnTo>
                  <a:lnTo>
                    <a:pt x="182625" y="3731"/>
                  </a:lnTo>
                  <a:lnTo>
                    <a:pt x="191516" y="7902"/>
                  </a:lnTo>
                  <a:lnTo>
                    <a:pt x="196257" y="10199"/>
                  </a:lnTo>
                  <a:lnTo>
                    <a:pt x="199418" y="12577"/>
                  </a:lnTo>
                  <a:lnTo>
                    <a:pt x="201525" y="15009"/>
                  </a:lnTo>
                  <a:lnTo>
                    <a:pt x="202930" y="17478"/>
                  </a:lnTo>
                  <a:lnTo>
                    <a:pt x="203020" y="19969"/>
                  </a:lnTo>
                  <a:lnTo>
                    <a:pt x="202234" y="22478"/>
                  </a:lnTo>
                  <a:lnTo>
                    <a:pt x="199101" y="28369"/>
                  </a:lnTo>
                  <a:lnTo>
                    <a:pt x="194887" y="36632"/>
                  </a:lnTo>
                  <a:lnTo>
                    <a:pt x="191731" y="40359"/>
                  </a:lnTo>
                  <a:lnTo>
                    <a:pt x="183709" y="46759"/>
                  </a:lnTo>
                  <a:lnTo>
                    <a:pt x="165628" y="59167"/>
                  </a:lnTo>
                  <a:lnTo>
                    <a:pt x="144184" y="73567"/>
                  </a:lnTo>
                  <a:lnTo>
                    <a:pt x="137609" y="78530"/>
                  </a:lnTo>
                  <a:lnTo>
                    <a:pt x="131533" y="83531"/>
                  </a:lnTo>
                  <a:lnTo>
                    <a:pt x="125789" y="88559"/>
                  </a:lnTo>
                  <a:lnTo>
                    <a:pt x="120266" y="92757"/>
                  </a:lnTo>
                  <a:lnTo>
                    <a:pt x="114891" y="96402"/>
                  </a:lnTo>
                  <a:lnTo>
                    <a:pt x="109614" y="99680"/>
                  </a:lnTo>
                  <a:lnTo>
                    <a:pt x="101493" y="105579"/>
                  </a:lnTo>
                  <a:lnTo>
                    <a:pt x="92161" y="113660"/>
                  </a:lnTo>
                  <a:lnTo>
                    <a:pt x="89381" y="116265"/>
                  </a:lnTo>
                  <a:lnTo>
                    <a:pt x="88374" y="118848"/>
                  </a:lnTo>
                  <a:lnTo>
                    <a:pt x="88549" y="121416"/>
                  </a:lnTo>
                  <a:lnTo>
                    <a:pt x="89513" y="123976"/>
                  </a:lnTo>
                  <a:lnTo>
                    <a:pt x="91849" y="126528"/>
                  </a:lnTo>
                  <a:lnTo>
                    <a:pt x="98959" y="131623"/>
                  </a:lnTo>
                  <a:lnTo>
                    <a:pt x="104073" y="134166"/>
                  </a:lnTo>
                  <a:lnTo>
                    <a:pt x="110022" y="136709"/>
                  </a:lnTo>
                  <a:lnTo>
                    <a:pt x="116528" y="139251"/>
                  </a:lnTo>
                  <a:lnTo>
                    <a:pt x="124252" y="141792"/>
                  </a:lnTo>
                  <a:lnTo>
                    <a:pt x="132788" y="144332"/>
                  </a:lnTo>
                  <a:lnTo>
                    <a:pt x="141865" y="146873"/>
                  </a:lnTo>
                  <a:lnTo>
                    <a:pt x="152150" y="149413"/>
                  </a:lnTo>
                  <a:lnTo>
                    <a:pt x="174867" y="154494"/>
                  </a:lnTo>
                  <a:lnTo>
                    <a:pt x="186851" y="157881"/>
                  </a:lnTo>
                  <a:lnTo>
                    <a:pt x="199074" y="161832"/>
                  </a:lnTo>
                  <a:lnTo>
                    <a:pt x="241018" y="176295"/>
                  </a:lnTo>
                  <a:lnTo>
                    <a:pt x="250425" y="180035"/>
                  </a:lnTo>
                  <a:lnTo>
                    <a:pt x="260084" y="184221"/>
                  </a:lnTo>
                  <a:lnTo>
                    <a:pt x="269909" y="188705"/>
                  </a:lnTo>
                  <a:lnTo>
                    <a:pt x="278153" y="193388"/>
                  </a:lnTo>
                  <a:lnTo>
                    <a:pt x="285342" y="198204"/>
                  </a:lnTo>
                  <a:lnTo>
                    <a:pt x="291828" y="203107"/>
                  </a:lnTo>
                  <a:lnTo>
                    <a:pt x="299035" y="210813"/>
                  </a:lnTo>
                  <a:lnTo>
                    <a:pt x="300956" y="214053"/>
                  </a:lnTo>
                  <a:lnTo>
                    <a:pt x="303092" y="222169"/>
                  </a:lnTo>
                  <a:lnTo>
                    <a:pt x="303661" y="226705"/>
                  </a:lnTo>
                  <a:lnTo>
                    <a:pt x="303194" y="230574"/>
                  </a:lnTo>
                  <a:lnTo>
                    <a:pt x="302036" y="234001"/>
                  </a:lnTo>
                  <a:lnTo>
                    <a:pt x="300417" y="237132"/>
                  </a:lnTo>
                  <a:lnTo>
                    <a:pt x="294103" y="242869"/>
                  </a:lnTo>
                  <a:lnTo>
                    <a:pt x="272207" y="257496"/>
                  </a:lnTo>
                  <a:lnTo>
                    <a:pt x="265292" y="261262"/>
                  </a:lnTo>
                  <a:lnTo>
                    <a:pt x="258141" y="264619"/>
                  </a:lnTo>
                  <a:lnTo>
                    <a:pt x="250834" y="267704"/>
                  </a:lnTo>
                  <a:lnTo>
                    <a:pt x="243423" y="269761"/>
                  </a:lnTo>
                  <a:lnTo>
                    <a:pt x="235942" y="271132"/>
                  </a:lnTo>
                  <a:lnTo>
                    <a:pt x="228414" y="272046"/>
                  </a:lnTo>
                  <a:lnTo>
                    <a:pt x="220009" y="273502"/>
                  </a:lnTo>
                  <a:lnTo>
                    <a:pt x="211020" y="275319"/>
                  </a:lnTo>
                  <a:lnTo>
                    <a:pt x="201640" y="277377"/>
                  </a:lnTo>
                  <a:lnTo>
                    <a:pt x="192847" y="278749"/>
                  </a:lnTo>
                  <a:lnTo>
                    <a:pt x="184444" y="279665"/>
                  </a:lnTo>
                  <a:lnTo>
                    <a:pt x="176303" y="280275"/>
                  </a:lnTo>
                  <a:lnTo>
                    <a:pt x="169182" y="281528"/>
                  </a:lnTo>
                  <a:lnTo>
                    <a:pt x="162741" y="283210"/>
                  </a:lnTo>
                  <a:lnTo>
                    <a:pt x="156754" y="285178"/>
                  </a:lnTo>
                  <a:lnTo>
                    <a:pt x="151070" y="285643"/>
                  </a:lnTo>
                  <a:lnTo>
                    <a:pt x="145586" y="285107"/>
                  </a:lnTo>
                  <a:lnTo>
                    <a:pt x="140238" y="283903"/>
                  </a:lnTo>
                  <a:lnTo>
                    <a:pt x="134978" y="283100"/>
                  </a:lnTo>
                  <a:lnTo>
                    <a:pt x="129779" y="282564"/>
                  </a:lnTo>
                  <a:lnTo>
                    <a:pt x="124619" y="282207"/>
                  </a:lnTo>
                  <a:lnTo>
                    <a:pt x="119486" y="281123"/>
                  </a:lnTo>
                  <a:lnTo>
                    <a:pt x="114371" y="279554"/>
                  </a:lnTo>
                  <a:lnTo>
                    <a:pt x="105018" y="275552"/>
                  </a:lnTo>
                  <a:lnTo>
                    <a:pt x="98039" y="270951"/>
                  </a:lnTo>
                  <a:lnTo>
                    <a:pt x="89350" y="263601"/>
                  </a:lnTo>
                  <a:lnTo>
                    <a:pt x="83820" y="2586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MARTInkAnnotation239"/>
            <p:cNvSpPr/>
            <p:nvPr/>
          </p:nvSpPr>
          <p:spPr>
            <a:xfrm>
              <a:off x="1866960" y="4183560"/>
              <a:ext cx="190440" cy="14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0501" h="14919">
                  <a:moveTo>
                    <a:pt x="0" y="14918"/>
                  </a:moveTo>
                  <a:lnTo>
                    <a:pt x="4045" y="10873"/>
                  </a:lnTo>
                  <a:lnTo>
                    <a:pt x="6930" y="9681"/>
                  </a:lnTo>
                  <a:lnTo>
                    <a:pt x="10547" y="8887"/>
                  </a:lnTo>
                  <a:lnTo>
                    <a:pt x="14651" y="8357"/>
                  </a:lnTo>
                  <a:lnTo>
                    <a:pt x="19081" y="8004"/>
                  </a:lnTo>
                  <a:lnTo>
                    <a:pt x="23727" y="7769"/>
                  </a:lnTo>
                  <a:lnTo>
                    <a:pt x="28518" y="7612"/>
                  </a:lnTo>
                  <a:lnTo>
                    <a:pt x="32559" y="6661"/>
                  </a:lnTo>
                  <a:lnTo>
                    <a:pt x="36099" y="5180"/>
                  </a:lnTo>
                  <a:lnTo>
                    <a:pt x="39306" y="3346"/>
                  </a:lnTo>
                  <a:lnTo>
                    <a:pt x="43984" y="2123"/>
                  </a:lnTo>
                  <a:lnTo>
                    <a:pt x="49643" y="1308"/>
                  </a:lnTo>
                  <a:lnTo>
                    <a:pt x="55955" y="765"/>
                  </a:lnTo>
                  <a:lnTo>
                    <a:pt x="62704" y="403"/>
                  </a:lnTo>
                  <a:lnTo>
                    <a:pt x="76975" y="0"/>
                  </a:lnTo>
                  <a:lnTo>
                    <a:pt x="83490" y="739"/>
                  </a:lnTo>
                  <a:lnTo>
                    <a:pt x="89527" y="2079"/>
                  </a:lnTo>
                  <a:lnTo>
                    <a:pt x="95244" y="3819"/>
                  </a:lnTo>
                  <a:lnTo>
                    <a:pt x="101596" y="4978"/>
                  </a:lnTo>
                  <a:lnTo>
                    <a:pt x="108371" y="5752"/>
                  </a:lnTo>
                  <a:lnTo>
                    <a:pt x="115427" y="6267"/>
                  </a:lnTo>
                  <a:lnTo>
                    <a:pt x="121825" y="6611"/>
                  </a:lnTo>
                  <a:lnTo>
                    <a:pt x="133449" y="6993"/>
                  </a:lnTo>
                  <a:lnTo>
                    <a:pt x="170942" y="7281"/>
                  </a:lnTo>
                  <a:lnTo>
                    <a:pt x="190500" y="7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SMARTInkAnnotation240"/>
            <p:cNvSpPr/>
            <p:nvPr/>
          </p:nvSpPr>
          <p:spPr>
            <a:xfrm>
              <a:off x="2108160" y="4047480"/>
              <a:ext cx="208080" cy="3106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08106" h="311009">
                  <a:moveTo>
                    <a:pt x="193187" y="51928"/>
                  </a:moveTo>
                  <a:lnTo>
                    <a:pt x="197232" y="51928"/>
                  </a:lnTo>
                  <a:lnTo>
                    <a:pt x="198424" y="51082"/>
                  </a:lnTo>
                  <a:lnTo>
                    <a:pt x="199218" y="49671"/>
                  </a:lnTo>
                  <a:lnTo>
                    <a:pt x="200493" y="45367"/>
                  </a:lnTo>
                  <a:lnTo>
                    <a:pt x="204759" y="40577"/>
                  </a:lnTo>
                  <a:lnTo>
                    <a:pt x="205982" y="38434"/>
                  </a:lnTo>
                  <a:lnTo>
                    <a:pt x="207340" y="33796"/>
                  </a:lnTo>
                  <a:lnTo>
                    <a:pt x="208105" y="26423"/>
                  </a:lnTo>
                  <a:lnTo>
                    <a:pt x="207366" y="23918"/>
                  </a:lnTo>
                  <a:lnTo>
                    <a:pt x="204286" y="18877"/>
                  </a:lnTo>
                  <a:lnTo>
                    <a:pt x="202280" y="17194"/>
                  </a:lnTo>
                  <a:lnTo>
                    <a:pt x="200096" y="16072"/>
                  </a:lnTo>
                  <a:lnTo>
                    <a:pt x="197793" y="15324"/>
                  </a:lnTo>
                  <a:lnTo>
                    <a:pt x="192976" y="12235"/>
                  </a:lnTo>
                  <a:lnTo>
                    <a:pt x="190507" y="10226"/>
                  </a:lnTo>
                  <a:lnTo>
                    <a:pt x="186320" y="8040"/>
                  </a:lnTo>
                  <a:lnTo>
                    <a:pt x="180989" y="5736"/>
                  </a:lnTo>
                  <a:lnTo>
                    <a:pt x="174895" y="3353"/>
                  </a:lnTo>
                  <a:lnTo>
                    <a:pt x="167446" y="1765"/>
                  </a:lnTo>
                  <a:lnTo>
                    <a:pt x="159093" y="706"/>
                  </a:lnTo>
                  <a:lnTo>
                    <a:pt x="150137" y="0"/>
                  </a:lnTo>
                  <a:lnTo>
                    <a:pt x="140781" y="376"/>
                  </a:lnTo>
                  <a:lnTo>
                    <a:pt x="131156" y="1474"/>
                  </a:lnTo>
                  <a:lnTo>
                    <a:pt x="121353" y="3051"/>
                  </a:lnTo>
                  <a:lnTo>
                    <a:pt x="87330" y="9318"/>
                  </a:lnTo>
                  <a:lnTo>
                    <a:pt x="65142" y="14082"/>
                  </a:lnTo>
                  <a:lnTo>
                    <a:pt x="54484" y="16537"/>
                  </a:lnTo>
                  <a:lnTo>
                    <a:pt x="44838" y="19021"/>
                  </a:lnTo>
                  <a:lnTo>
                    <a:pt x="35868" y="21523"/>
                  </a:lnTo>
                  <a:lnTo>
                    <a:pt x="27347" y="24038"/>
                  </a:lnTo>
                  <a:lnTo>
                    <a:pt x="20821" y="26562"/>
                  </a:lnTo>
                  <a:lnTo>
                    <a:pt x="15623" y="29090"/>
                  </a:lnTo>
                  <a:lnTo>
                    <a:pt x="11311" y="31623"/>
                  </a:lnTo>
                  <a:lnTo>
                    <a:pt x="7590" y="34158"/>
                  </a:lnTo>
                  <a:lnTo>
                    <a:pt x="1197" y="39232"/>
                  </a:lnTo>
                  <a:lnTo>
                    <a:pt x="0" y="42618"/>
                  </a:lnTo>
                  <a:lnTo>
                    <a:pt x="49" y="46568"/>
                  </a:lnTo>
                  <a:lnTo>
                    <a:pt x="929" y="50895"/>
                  </a:lnTo>
                  <a:lnTo>
                    <a:pt x="4163" y="57960"/>
                  </a:lnTo>
                  <a:lnTo>
                    <a:pt x="6211" y="61029"/>
                  </a:lnTo>
                  <a:lnTo>
                    <a:pt x="10117" y="63075"/>
                  </a:lnTo>
                  <a:lnTo>
                    <a:pt x="15260" y="64439"/>
                  </a:lnTo>
                  <a:lnTo>
                    <a:pt x="21229" y="65350"/>
                  </a:lnTo>
                  <a:lnTo>
                    <a:pt x="28595" y="65956"/>
                  </a:lnTo>
                  <a:lnTo>
                    <a:pt x="36893" y="66359"/>
                  </a:lnTo>
                  <a:lnTo>
                    <a:pt x="55143" y="66809"/>
                  </a:lnTo>
                  <a:lnTo>
                    <a:pt x="104505" y="67121"/>
                  </a:lnTo>
                  <a:lnTo>
                    <a:pt x="113746" y="65443"/>
                  </a:lnTo>
                  <a:lnTo>
                    <a:pt x="122446" y="62631"/>
                  </a:lnTo>
                  <a:lnTo>
                    <a:pt x="130787" y="59064"/>
                  </a:lnTo>
                  <a:lnTo>
                    <a:pt x="138887" y="56685"/>
                  </a:lnTo>
                  <a:lnTo>
                    <a:pt x="146827" y="55099"/>
                  </a:lnTo>
                  <a:lnTo>
                    <a:pt x="154660" y="54042"/>
                  </a:lnTo>
                  <a:lnTo>
                    <a:pt x="161576" y="52491"/>
                  </a:lnTo>
                  <a:lnTo>
                    <a:pt x="167880" y="50610"/>
                  </a:lnTo>
                  <a:lnTo>
                    <a:pt x="182073" y="45553"/>
                  </a:lnTo>
                  <a:lnTo>
                    <a:pt x="186272" y="44861"/>
                  </a:lnTo>
                  <a:lnTo>
                    <a:pt x="192782" y="44340"/>
                  </a:lnTo>
                  <a:lnTo>
                    <a:pt x="189022" y="44318"/>
                  </a:lnTo>
                  <a:lnTo>
                    <a:pt x="187870" y="45161"/>
                  </a:lnTo>
                  <a:lnTo>
                    <a:pt x="187103" y="46570"/>
                  </a:lnTo>
                  <a:lnTo>
                    <a:pt x="183764" y="54856"/>
                  </a:lnTo>
                  <a:lnTo>
                    <a:pt x="177413" y="68036"/>
                  </a:lnTo>
                  <a:lnTo>
                    <a:pt x="175051" y="72827"/>
                  </a:lnTo>
                  <a:lnTo>
                    <a:pt x="171783" y="78560"/>
                  </a:lnTo>
                  <a:lnTo>
                    <a:pt x="167911" y="84923"/>
                  </a:lnTo>
                  <a:lnTo>
                    <a:pt x="163636" y="91705"/>
                  </a:lnTo>
                  <a:lnTo>
                    <a:pt x="159940" y="98766"/>
                  </a:lnTo>
                  <a:lnTo>
                    <a:pt x="156629" y="106013"/>
                  </a:lnTo>
                  <a:lnTo>
                    <a:pt x="153575" y="113385"/>
                  </a:lnTo>
                  <a:lnTo>
                    <a:pt x="150693" y="120839"/>
                  </a:lnTo>
                  <a:lnTo>
                    <a:pt x="145232" y="135895"/>
                  </a:lnTo>
                  <a:lnTo>
                    <a:pt x="137397" y="158652"/>
                  </a:lnTo>
                  <a:lnTo>
                    <a:pt x="134827" y="167104"/>
                  </a:lnTo>
                  <a:lnTo>
                    <a:pt x="129714" y="185526"/>
                  </a:lnTo>
                  <a:lnTo>
                    <a:pt x="128012" y="194333"/>
                  </a:lnTo>
                  <a:lnTo>
                    <a:pt x="126877" y="202745"/>
                  </a:lnTo>
                  <a:lnTo>
                    <a:pt x="126120" y="210893"/>
                  </a:lnTo>
                  <a:lnTo>
                    <a:pt x="125616" y="218865"/>
                  </a:lnTo>
                  <a:lnTo>
                    <a:pt x="125055" y="234495"/>
                  </a:lnTo>
                  <a:lnTo>
                    <a:pt x="124696" y="264380"/>
                  </a:lnTo>
                  <a:lnTo>
                    <a:pt x="124646" y="276455"/>
                  </a:lnTo>
                  <a:lnTo>
                    <a:pt x="125480" y="281200"/>
                  </a:lnTo>
                  <a:lnTo>
                    <a:pt x="128664" y="288729"/>
                  </a:lnTo>
                  <a:lnTo>
                    <a:pt x="130643" y="294898"/>
                  </a:lnTo>
                  <a:lnTo>
                    <a:pt x="131171" y="297728"/>
                  </a:lnTo>
                  <a:lnTo>
                    <a:pt x="132370" y="299614"/>
                  </a:lnTo>
                  <a:lnTo>
                    <a:pt x="134016" y="300872"/>
                  </a:lnTo>
                  <a:lnTo>
                    <a:pt x="135959" y="301711"/>
                  </a:lnTo>
                  <a:lnTo>
                    <a:pt x="137255" y="303116"/>
                  </a:lnTo>
                  <a:lnTo>
                    <a:pt x="138119" y="304900"/>
                  </a:lnTo>
                  <a:lnTo>
                    <a:pt x="138695" y="306936"/>
                  </a:lnTo>
                  <a:lnTo>
                    <a:pt x="139926" y="308293"/>
                  </a:lnTo>
                  <a:lnTo>
                    <a:pt x="141593" y="309199"/>
                  </a:lnTo>
                  <a:lnTo>
                    <a:pt x="147467" y="3110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MARTInkAnnotation241"/>
            <p:cNvSpPr/>
            <p:nvPr/>
          </p:nvSpPr>
          <p:spPr>
            <a:xfrm>
              <a:off x="2408040" y="4129920"/>
              <a:ext cx="174960" cy="2271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5261" h="227278">
                  <a:moveTo>
                    <a:pt x="0" y="53340"/>
                  </a:moveTo>
                  <a:lnTo>
                    <a:pt x="0" y="64692"/>
                  </a:lnTo>
                  <a:lnTo>
                    <a:pt x="847" y="65988"/>
                  </a:lnTo>
                  <a:lnTo>
                    <a:pt x="2258" y="66852"/>
                  </a:lnTo>
                  <a:lnTo>
                    <a:pt x="4046" y="67428"/>
                  </a:lnTo>
                  <a:lnTo>
                    <a:pt x="6084" y="69506"/>
                  </a:lnTo>
                  <a:lnTo>
                    <a:pt x="12997" y="79673"/>
                  </a:lnTo>
                  <a:lnTo>
                    <a:pt x="17912" y="85646"/>
                  </a:lnTo>
                  <a:lnTo>
                    <a:pt x="20408" y="89270"/>
                  </a:lnTo>
                  <a:lnTo>
                    <a:pt x="22919" y="93381"/>
                  </a:lnTo>
                  <a:lnTo>
                    <a:pt x="25439" y="97814"/>
                  </a:lnTo>
                  <a:lnTo>
                    <a:pt x="27120" y="101616"/>
                  </a:lnTo>
                  <a:lnTo>
                    <a:pt x="28986" y="108098"/>
                  </a:lnTo>
                  <a:lnTo>
                    <a:pt x="30331" y="111859"/>
                  </a:lnTo>
                  <a:lnTo>
                    <a:pt x="32074" y="116059"/>
                  </a:lnTo>
                  <a:lnTo>
                    <a:pt x="34083" y="120553"/>
                  </a:lnTo>
                  <a:lnTo>
                    <a:pt x="35422" y="125242"/>
                  </a:lnTo>
                  <a:lnTo>
                    <a:pt x="36315" y="130062"/>
                  </a:lnTo>
                  <a:lnTo>
                    <a:pt x="36910" y="134967"/>
                  </a:lnTo>
                  <a:lnTo>
                    <a:pt x="38153" y="139932"/>
                  </a:lnTo>
                  <a:lnTo>
                    <a:pt x="39829" y="144934"/>
                  </a:lnTo>
                  <a:lnTo>
                    <a:pt x="41793" y="149963"/>
                  </a:lnTo>
                  <a:lnTo>
                    <a:pt x="43948" y="155009"/>
                  </a:lnTo>
                  <a:lnTo>
                    <a:pt x="48602" y="165130"/>
                  </a:lnTo>
                  <a:lnTo>
                    <a:pt x="50181" y="170201"/>
                  </a:lnTo>
                  <a:lnTo>
                    <a:pt x="51234" y="175274"/>
                  </a:lnTo>
                  <a:lnTo>
                    <a:pt x="51936" y="180349"/>
                  </a:lnTo>
                  <a:lnTo>
                    <a:pt x="52404" y="185426"/>
                  </a:lnTo>
                  <a:lnTo>
                    <a:pt x="52716" y="190504"/>
                  </a:lnTo>
                  <a:lnTo>
                    <a:pt x="52924" y="195583"/>
                  </a:lnTo>
                  <a:lnTo>
                    <a:pt x="53910" y="200662"/>
                  </a:lnTo>
                  <a:lnTo>
                    <a:pt x="55413" y="205742"/>
                  </a:lnTo>
                  <a:lnTo>
                    <a:pt x="59864" y="217970"/>
                  </a:lnTo>
                  <a:lnTo>
                    <a:pt x="60635" y="224134"/>
                  </a:lnTo>
                  <a:lnTo>
                    <a:pt x="60864" y="227277"/>
                  </a:lnTo>
                  <a:lnTo>
                    <a:pt x="60049" y="226871"/>
                  </a:lnTo>
                  <a:lnTo>
                    <a:pt x="56887" y="224163"/>
                  </a:lnTo>
                  <a:lnTo>
                    <a:pt x="55704" y="222256"/>
                  </a:lnTo>
                  <a:lnTo>
                    <a:pt x="53194" y="214679"/>
                  </a:lnTo>
                  <a:lnTo>
                    <a:pt x="51550" y="210852"/>
                  </a:lnTo>
                  <a:lnTo>
                    <a:pt x="49607" y="206608"/>
                  </a:lnTo>
                  <a:lnTo>
                    <a:pt x="48311" y="202085"/>
                  </a:lnTo>
                  <a:lnTo>
                    <a:pt x="47448" y="197377"/>
                  </a:lnTo>
                  <a:lnTo>
                    <a:pt x="46872" y="192545"/>
                  </a:lnTo>
                  <a:lnTo>
                    <a:pt x="46488" y="186783"/>
                  </a:lnTo>
                  <a:lnTo>
                    <a:pt x="46232" y="180402"/>
                  </a:lnTo>
                  <a:lnTo>
                    <a:pt x="45948" y="166539"/>
                  </a:lnTo>
                  <a:lnTo>
                    <a:pt x="45821" y="151911"/>
                  </a:lnTo>
                  <a:lnTo>
                    <a:pt x="46634" y="143607"/>
                  </a:lnTo>
                  <a:lnTo>
                    <a:pt x="48023" y="134685"/>
                  </a:lnTo>
                  <a:lnTo>
                    <a:pt x="49795" y="125349"/>
                  </a:lnTo>
                  <a:lnTo>
                    <a:pt x="51824" y="116587"/>
                  </a:lnTo>
                  <a:lnTo>
                    <a:pt x="54023" y="108204"/>
                  </a:lnTo>
                  <a:lnTo>
                    <a:pt x="56335" y="100076"/>
                  </a:lnTo>
                  <a:lnTo>
                    <a:pt x="58723" y="92964"/>
                  </a:lnTo>
                  <a:lnTo>
                    <a:pt x="61162" y="86530"/>
                  </a:lnTo>
                  <a:lnTo>
                    <a:pt x="63635" y="80546"/>
                  </a:lnTo>
                  <a:lnTo>
                    <a:pt x="66977" y="74864"/>
                  </a:lnTo>
                  <a:lnTo>
                    <a:pt x="70897" y="69383"/>
                  </a:lnTo>
                  <a:lnTo>
                    <a:pt x="75205" y="64035"/>
                  </a:lnTo>
                  <a:lnTo>
                    <a:pt x="78923" y="58777"/>
                  </a:lnTo>
                  <a:lnTo>
                    <a:pt x="82249" y="53578"/>
                  </a:lnTo>
                  <a:lnTo>
                    <a:pt x="85313" y="48419"/>
                  </a:lnTo>
                  <a:lnTo>
                    <a:pt x="89048" y="43286"/>
                  </a:lnTo>
                  <a:lnTo>
                    <a:pt x="93232" y="38170"/>
                  </a:lnTo>
                  <a:lnTo>
                    <a:pt x="97715" y="33067"/>
                  </a:lnTo>
                  <a:lnTo>
                    <a:pt x="102397" y="28818"/>
                  </a:lnTo>
                  <a:lnTo>
                    <a:pt x="107211" y="25139"/>
                  </a:lnTo>
                  <a:lnTo>
                    <a:pt x="112114" y="21839"/>
                  </a:lnTo>
                  <a:lnTo>
                    <a:pt x="117076" y="18793"/>
                  </a:lnTo>
                  <a:lnTo>
                    <a:pt x="122077" y="15915"/>
                  </a:lnTo>
                  <a:lnTo>
                    <a:pt x="127105" y="13150"/>
                  </a:lnTo>
                  <a:lnTo>
                    <a:pt x="132150" y="11307"/>
                  </a:lnTo>
                  <a:lnTo>
                    <a:pt x="137206" y="10077"/>
                  </a:lnTo>
                  <a:lnTo>
                    <a:pt x="142271" y="9259"/>
                  </a:lnTo>
                  <a:lnTo>
                    <a:pt x="147341" y="7866"/>
                  </a:lnTo>
                  <a:lnTo>
                    <a:pt x="152414" y="6090"/>
                  </a:lnTo>
                  <a:lnTo>
                    <a:pt x="157489" y="4060"/>
                  </a:lnTo>
                  <a:lnTo>
                    <a:pt x="161719" y="2707"/>
                  </a:lnTo>
                  <a:lnTo>
                    <a:pt x="165386" y="1805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MARTInkAnnotation242"/>
            <p:cNvSpPr/>
            <p:nvPr/>
          </p:nvSpPr>
          <p:spPr>
            <a:xfrm>
              <a:off x="2141280" y="3276720"/>
              <a:ext cx="495000" cy="4341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495301" h="434310">
                  <a:moveTo>
                    <a:pt x="495300" y="320009"/>
                  </a:moveTo>
                  <a:lnTo>
                    <a:pt x="495300" y="315964"/>
                  </a:lnTo>
                  <a:lnTo>
                    <a:pt x="494454" y="313926"/>
                  </a:lnTo>
                  <a:lnTo>
                    <a:pt x="490064" y="307011"/>
                  </a:lnTo>
                  <a:lnTo>
                    <a:pt x="488739" y="302097"/>
                  </a:lnTo>
                  <a:lnTo>
                    <a:pt x="487043" y="291197"/>
                  </a:lnTo>
                  <a:lnTo>
                    <a:pt x="481659" y="278358"/>
                  </a:lnTo>
                  <a:lnTo>
                    <a:pt x="477102" y="268760"/>
                  </a:lnTo>
                  <a:lnTo>
                    <a:pt x="472254" y="256591"/>
                  </a:lnTo>
                  <a:lnTo>
                    <a:pt x="467278" y="243563"/>
                  </a:lnTo>
                  <a:lnTo>
                    <a:pt x="462244" y="232129"/>
                  </a:lnTo>
                  <a:lnTo>
                    <a:pt x="457184" y="221402"/>
                  </a:lnTo>
                  <a:lnTo>
                    <a:pt x="451266" y="210991"/>
                  </a:lnTo>
                  <a:lnTo>
                    <a:pt x="442992" y="200719"/>
                  </a:lnTo>
                  <a:lnTo>
                    <a:pt x="435928" y="188251"/>
                  </a:lnTo>
                  <a:lnTo>
                    <a:pt x="429119" y="175090"/>
                  </a:lnTo>
                  <a:lnTo>
                    <a:pt x="420449" y="163596"/>
                  </a:lnTo>
                  <a:lnTo>
                    <a:pt x="410951" y="152843"/>
                  </a:lnTo>
                  <a:lnTo>
                    <a:pt x="401085" y="142420"/>
                  </a:lnTo>
                  <a:lnTo>
                    <a:pt x="391056" y="132143"/>
                  </a:lnTo>
                  <a:lnTo>
                    <a:pt x="380954" y="119673"/>
                  </a:lnTo>
                  <a:lnTo>
                    <a:pt x="369973" y="106511"/>
                  </a:lnTo>
                  <a:lnTo>
                    <a:pt x="356626" y="95016"/>
                  </a:lnTo>
                  <a:lnTo>
                    <a:pt x="344485" y="84263"/>
                  </a:lnTo>
                  <a:lnTo>
                    <a:pt x="333445" y="74687"/>
                  </a:lnTo>
                  <a:lnTo>
                    <a:pt x="322894" y="67608"/>
                  </a:lnTo>
                  <a:lnTo>
                    <a:pt x="303388" y="54818"/>
                  </a:lnTo>
                  <a:lnTo>
                    <a:pt x="291190" y="47489"/>
                  </a:lnTo>
                  <a:lnTo>
                    <a:pt x="280125" y="40562"/>
                  </a:lnTo>
                  <a:lnTo>
                    <a:pt x="269562" y="31839"/>
                  </a:lnTo>
                  <a:lnTo>
                    <a:pt x="254096" y="21453"/>
                  </a:lnTo>
                  <a:lnTo>
                    <a:pt x="238789" y="13014"/>
                  </a:lnTo>
                  <a:lnTo>
                    <a:pt x="228613" y="10000"/>
                  </a:lnTo>
                  <a:lnTo>
                    <a:pt x="218446" y="7814"/>
                  </a:lnTo>
                  <a:lnTo>
                    <a:pt x="204048" y="2670"/>
                  </a:lnTo>
                  <a:lnTo>
                    <a:pt x="194044" y="769"/>
                  </a:lnTo>
                  <a:lnTo>
                    <a:pt x="184025" y="206"/>
                  </a:lnTo>
                  <a:lnTo>
                    <a:pt x="159638" y="0"/>
                  </a:lnTo>
                  <a:lnTo>
                    <a:pt x="156379" y="836"/>
                  </a:lnTo>
                  <a:lnTo>
                    <a:pt x="147746" y="5212"/>
                  </a:lnTo>
                  <a:lnTo>
                    <a:pt x="139827" y="7731"/>
                  </a:lnTo>
                  <a:lnTo>
                    <a:pt x="132117" y="13464"/>
                  </a:lnTo>
                  <a:lnTo>
                    <a:pt x="119385" y="25474"/>
                  </a:lnTo>
                  <a:lnTo>
                    <a:pt x="100650" y="38083"/>
                  </a:lnTo>
                  <a:lnTo>
                    <a:pt x="97580" y="40618"/>
                  </a:lnTo>
                  <a:lnTo>
                    <a:pt x="91911" y="47951"/>
                  </a:lnTo>
                  <a:lnTo>
                    <a:pt x="87416" y="56007"/>
                  </a:lnTo>
                  <a:lnTo>
                    <a:pt x="85419" y="62411"/>
                  </a:lnTo>
                  <a:lnTo>
                    <a:pt x="83192" y="65303"/>
                  </a:lnTo>
                  <a:lnTo>
                    <a:pt x="76204" y="70776"/>
                  </a:lnTo>
                  <a:lnTo>
                    <a:pt x="73662" y="74266"/>
                  </a:lnTo>
                  <a:lnTo>
                    <a:pt x="69239" y="87270"/>
                  </a:lnTo>
                  <a:lnTo>
                    <a:pt x="65205" y="96907"/>
                  </a:lnTo>
                  <a:lnTo>
                    <a:pt x="60589" y="106835"/>
                  </a:lnTo>
                  <a:lnTo>
                    <a:pt x="50727" y="127006"/>
                  </a:lnTo>
                  <a:lnTo>
                    <a:pt x="47945" y="137145"/>
                  </a:lnTo>
                  <a:lnTo>
                    <a:pt x="47204" y="142220"/>
                  </a:lnTo>
                  <a:lnTo>
                    <a:pt x="44122" y="150116"/>
                  </a:lnTo>
                  <a:lnTo>
                    <a:pt x="37627" y="161579"/>
                  </a:lnTo>
                  <a:lnTo>
                    <a:pt x="35245" y="166129"/>
                  </a:lnTo>
                  <a:lnTo>
                    <a:pt x="32598" y="175700"/>
                  </a:lnTo>
                  <a:lnTo>
                    <a:pt x="30575" y="185598"/>
                  </a:lnTo>
                  <a:lnTo>
                    <a:pt x="26853" y="195642"/>
                  </a:lnTo>
                  <a:lnTo>
                    <a:pt x="22377" y="205750"/>
                  </a:lnTo>
                  <a:lnTo>
                    <a:pt x="18412" y="215888"/>
                  </a:lnTo>
                  <a:lnTo>
                    <a:pt x="16650" y="226037"/>
                  </a:lnTo>
                  <a:lnTo>
                    <a:pt x="15867" y="236193"/>
                  </a:lnTo>
                  <a:lnTo>
                    <a:pt x="15519" y="246351"/>
                  </a:lnTo>
                  <a:lnTo>
                    <a:pt x="15364" y="256510"/>
                  </a:lnTo>
                  <a:lnTo>
                    <a:pt x="13037" y="266669"/>
                  </a:lnTo>
                  <a:lnTo>
                    <a:pt x="10028" y="276829"/>
                  </a:lnTo>
                  <a:lnTo>
                    <a:pt x="8690" y="286989"/>
                  </a:lnTo>
                  <a:lnTo>
                    <a:pt x="5838" y="294891"/>
                  </a:lnTo>
                  <a:lnTo>
                    <a:pt x="3892" y="298184"/>
                  </a:lnTo>
                  <a:lnTo>
                    <a:pt x="1730" y="306358"/>
                  </a:lnTo>
                  <a:lnTo>
                    <a:pt x="769" y="315635"/>
                  </a:lnTo>
                  <a:lnTo>
                    <a:pt x="342" y="325403"/>
                  </a:lnTo>
                  <a:lnTo>
                    <a:pt x="102" y="340422"/>
                  </a:lnTo>
                  <a:lnTo>
                    <a:pt x="0" y="4343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MARTInkAnnotation243"/>
            <p:cNvSpPr/>
            <p:nvPr/>
          </p:nvSpPr>
          <p:spPr>
            <a:xfrm>
              <a:off x="4785480" y="4253040"/>
              <a:ext cx="205560" cy="140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5741" h="14089">
                  <a:moveTo>
                    <a:pt x="0" y="14088"/>
                  </a:moveTo>
                  <a:lnTo>
                    <a:pt x="10606" y="14088"/>
                  </a:lnTo>
                  <a:lnTo>
                    <a:pt x="12997" y="13242"/>
                  </a:lnTo>
                  <a:lnTo>
                    <a:pt x="15438" y="11830"/>
                  </a:lnTo>
                  <a:lnTo>
                    <a:pt x="17912" y="10043"/>
                  </a:lnTo>
                  <a:lnTo>
                    <a:pt x="22102" y="8851"/>
                  </a:lnTo>
                  <a:lnTo>
                    <a:pt x="27435" y="8057"/>
                  </a:lnTo>
                  <a:lnTo>
                    <a:pt x="33530" y="7527"/>
                  </a:lnTo>
                  <a:lnTo>
                    <a:pt x="40133" y="6328"/>
                  </a:lnTo>
                  <a:lnTo>
                    <a:pt x="47075" y="4681"/>
                  </a:lnTo>
                  <a:lnTo>
                    <a:pt x="54244" y="2737"/>
                  </a:lnTo>
                  <a:lnTo>
                    <a:pt x="62409" y="1440"/>
                  </a:lnTo>
                  <a:lnTo>
                    <a:pt x="71239" y="576"/>
                  </a:lnTo>
                  <a:lnTo>
                    <a:pt x="80513" y="0"/>
                  </a:lnTo>
                  <a:lnTo>
                    <a:pt x="89235" y="463"/>
                  </a:lnTo>
                  <a:lnTo>
                    <a:pt x="97591" y="1618"/>
                  </a:lnTo>
                  <a:lnTo>
                    <a:pt x="105700" y="3235"/>
                  </a:lnTo>
                  <a:lnTo>
                    <a:pt x="114493" y="4312"/>
                  </a:lnTo>
                  <a:lnTo>
                    <a:pt x="123743" y="5031"/>
                  </a:lnTo>
                  <a:lnTo>
                    <a:pt x="133295" y="5510"/>
                  </a:lnTo>
                  <a:lnTo>
                    <a:pt x="155198" y="6042"/>
                  </a:lnTo>
                  <a:lnTo>
                    <a:pt x="205740" y="64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SMARTInkAnnotation244"/>
            <p:cNvSpPr/>
            <p:nvPr/>
          </p:nvSpPr>
          <p:spPr>
            <a:xfrm>
              <a:off x="5106240" y="4092120"/>
              <a:ext cx="204840" cy="2206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05048" h="220801">
                  <a:moveTo>
                    <a:pt x="67887" y="22824"/>
                  </a:moveTo>
                  <a:lnTo>
                    <a:pt x="71931" y="22824"/>
                  </a:lnTo>
                  <a:lnTo>
                    <a:pt x="73970" y="21978"/>
                  </a:lnTo>
                  <a:lnTo>
                    <a:pt x="80037" y="17587"/>
                  </a:lnTo>
                  <a:lnTo>
                    <a:pt x="81754" y="16263"/>
                  </a:lnTo>
                  <a:lnTo>
                    <a:pt x="87032" y="13417"/>
                  </a:lnTo>
                  <a:lnTo>
                    <a:pt x="90810" y="11473"/>
                  </a:lnTo>
                  <a:lnTo>
                    <a:pt x="95869" y="9329"/>
                  </a:lnTo>
                  <a:lnTo>
                    <a:pt x="101781" y="7054"/>
                  </a:lnTo>
                  <a:lnTo>
                    <a:pt x="108263" y="4691"/>
                  </a:lnTo>
                  <a:lnTo>
                    <a:pt x="114277" y="3116"/>
                  </a:lnTo>
                  <a:lnTo>
                    <a:pt x="119980" y="2065"/>
                  </a:lnTo>
                  <a:lnTo>
                    <a:pt x="125476" y="1365"/>
                  </a:lnTo>
                  <a:lnTo>
                    <a:pt x="130833" y="898"/>
                  </a:lnTo>
                  <a:lnTo>
                    <a:pt x="136097" y="587"/>
                  </a:lnTo>
                  <a:lnTo>
                    <a:pt x="141300" y="379"/>
                  </a:lnTo>
                  <a:lnTo>
                    <a:pt x="160759" y="87"/>
                  </a:lnTo>
                  <a:lnTo>
                    <a:pt x="174521" y="0"/>
                  </a:lnTo>
                  <a:lnTo>
                    <a:pt x="177923" y="835"/>
                  </a:lnTo>
                  <a:lnTo>
                    <a:pt x="183960" y="4020"/>
                  </a:lnTo>
                  <a:lnTo>
                    <a:pt x="189466" y="6000"/>
                  </a:lnTo>
                  <a:lnTo>
                    <a:pt x="192120" y="6528"/>
                  </a:lnTo>
                  <a:lnTo>
                    <a:pt x="193888" y="7727"/>
                  </a:lnTo>
                  <a:lnTo>
                    <a:pt x="195068" y="9372"/>
                  </a:lnTo>
                  <a:lnTo>
                    <a:pt x="195854" y="11316"/>
                  </a:lnTo>
                  <a:lnTo>
                    <a:pt x="195531" y="14306"/>
                  </a:lnTo>
                  <a:lnTo>
                    <a:pt x="194470" y="17992"/>
                  </a:lnTo>
                  <a:lnTo>
                    <a:pt x="192915" y="22143"/>
                  </a:lnTo>
                  <a:lnTo>
                    <a:pt x="190185" y="25756"/>
                  </a:lnTo>
                  <a:lnTo>
                    <a:pt x="186673" y="29012"/>
                  </a:lnTo>
                  <a:lnTo>
                    <a:pt x="182637" y="32030"/>
                  </a:lnTo>
                  <a:lnTo>
                    <a:pt x="178253" y="35734"/>
                  </a:lnTo>
                  <a:lnTo>
                    <a:pt x="173638" y="39897"/>
                  </a:lnTo>
                  <a:lnTo>
                    <a:pt x="168867" y="44366"/>
                  </a:lnTo>
                  <a:lnTo>
                    <a:pt x="162300" y="49039"/>
                  </a:lnTo>
                  <a:lnTo>
                    <a:pt x="154536" y="53847"/>
                  </a:lnTo>
                  <a:lnTo>
                    <a:pt x="145973" y="58746"/>
                  </a:lnTo>
                  <a:lnTo>
                    <a:pt x="137724" y="64552"/>
                  </a:lnTo>
                  <a:lnTo>
                    <a:pt x="129685" y="70963"/>
                  </a:lnTo>
                  <a:lnTo>
                    <a:pt x="121786" y="77776"/>
                  </a:lnTo>
                  <a:lnTo>
                    <a:pt x="113132" y="84013"/>
                  </a:lnTo>
                  <a:lnTo>
                    <a:pt x="103978" y="89863"/>
                  </a:lnTo>
                  <a:lnTo>
                    <a:pt x="94487" y="95456"/>
                  </a:lnTo>
                  <a:lnTo>
                    <a:pt x="84773" y="101726"/>
                  </a:lnTo>
                  <a:lnTo>
                    <a:pt x="74911" y="108446"/>
                  </a:lnTo>
                  <a:lnTo>
                    <a:pt x="64949" y="115465"/>
                  </a:lnTo>
                  <a:lnTo>
                    <a:pt x="56615" y="121838"/>
                  </a:lnTo>
                  <a:lnTo>
                    <a:pt x="49366" y="127780"/>
                  </a:lnTo>
                  <a:lnTo>
                    <a:pt x="42839" y="133435"/>
                  </a:lnTo>
                  <a:lnTo>
                    <a:pt x="35948" y="138898"/>
                  </a:lnTo>
                  <a:lnTo>
                    <a:pt x="28815" y="144233"/>
                  </a:lnTo>
                  <a:lnTo>
                    <a:pt x="21519" y="149483"/>
                  </a:lnTo>
                  <a:lnTo>
                    <a:pt x="15807" y="154677"/>
                  </a:lnTo>
                  <a:lnTo>
                    <a:pt x="11154" y="159833"/>
                  </a:lnTo>
                  <a:lnTo>
                    <a:pt x="7205" y="164963"/>
                  </a:lnTo>
                  <a:lnTo>
                    <a:pt x="4572" y="170077"/>
                  </a:lnTo>
                  <a:lnTo>
                    <a:pt x="2817" y="175180"/>
                  </a:lnTo>
                  <a:lnTo>
                    <a:pt x="1647" y="180274"/>
                  </a:lnTo>
                  <a:lnTo>
                    <a:pt x="866" y="185364"/>
                  </a:lnTo>
                  <a:lnTo>
                    <a:pt x="347" y="190451"/>
                  </a:lnTo>
                  <a:lnTo>
                    <a:pt x="0" y="195536"/>
                  </a:lnTo>
                  <a:lnTo>
                    <a:pt x="1462" y="199771"/>
                  </a:lnTo>
                  <a:lnTo>
                    <a:pt x="4131" y="203442"/>
                  </a:lnTo>
                  <a:lnTo>
                    <a:pt x="13718" y="212654"/>
                  </a:lnTo>
                  <a:lnTo>
                    <a:pt x="16534" y="215417"/>
                  </a:lnTo>
                  <a:lnTo>
                    <a:pt x="21798" y="217260"/>
                  </a:lnTo>
                  <a:lnTo>
                    <a:pt x="28695" y="218488"/>
                  </a:lnTo>
                  <a:lnTo>
                    <a:pt x="36678" y="219307"/>
                  </a:lnTo>
                  <a:lnTo>
                    <a:pt x="44540" y="219853"/>
                  </a:lnTo>
                  <a:lnTo>
                    <a:pt x="52323" y="220217"/>
                  </a:lnTo>
                  <a:lnTo>
                    <a:pt x="69436" y="220620"/>
                  </a:lnTo>
                  <a:lnTo>
                    <a:pt x="91153" y="220800"/>
                  </a:lnTo>
                  <a:lnTo>
                    <a:pt x="102871" y="220001"/>
                  </a:lnTo>
                  <a:lnTo>
                    <a:pt x="114916" y="218623"/>
                  </a:lnTo>
                  <a:lnTo>
                    <a:pt x="127180" y="216856"/>
                  </a:lnTo>
                  <a:lnTo>
                    <a:pt x="152095" y="212636"/>
                  </a:lnTo>
                  <a:lnTo>
                    <a:pt x="164665" y="210326"/>
                  </a:lnTo>
                  <a:lnTo>
                    <a:pt x="174739" y="207938"/>
                  </a:lnTo>
                  <a:lnTo>
                    <a:pt x="183148" y="205500"/>
                  </a:lnTo>
                  <a:lnTo>
                    <a:pt x="205047" y="1980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SMARTInkAnnotation245"/>
            <p:cNvSpPr/>
            <p:nvPr/>
          </p:nvSpPr>
          <p:spPr>
            <a:xfrm>
              <a:off x="5426280" y="4061520"/>
              <a:ext cx="197640" cy="1065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97731" h="106681">
                  <a:moveTo>
                    <a:pt x="83431" y="0"/>
                  </a:moveTo>
                  <a:lnTo>
                    <a:pt x="83431" y="4045"/>
                  </a:lnTo>
                  <a:lnTo>
                    <a:pt x="82584" y="5237"/>
                  </a:lnTo>
                  <a:lnTo>
                    <a:pt x="81173" y="6031"/>
                  </a:lnTo>
                  <a:lnTo>
                    <a:pt x="79386" y="6561"/>
                  </a:lnTo>
                  <a:lnTo>
                    <a:pt x="78194" y="7761"/>
                  </a:lnTo>
                  <a:lnTo>
                    <a:pt x="77399" y="9408"/>
                  </a:lnTo>
                  <a:lnTo>
                    <a:pt x="76869" y="11352"/>
                  </a:lnTo>
                  <a:lnTo>
                    <a:pt x="75669" y="14341"/>
                  </a:lnTo>
                  <a:lnTo>
                    <a:pt x="74023" y="18027"/>
                  </a:lnTo>
                  <a:lnTo>
                    <a:pt x="72079" y="22178"/>
                  </a:lnTo>
                  <a:lnTo>
                    <a:pt x="69936" y="25792"/>
                  </a:lnTo>
                  <a:lnTo>
                    <a:pt x="67661" y="29048"/>
                  </a:lnTo>
                  <a:lnTo>
                    <a:pt x="65298" y="32066"/>
                  </a:lnTo>
                  <a:lnTo>
                    <a:pt x="62028" y="34924"/>
                  </a:lnTo>
                  <a:lnTo>
                    <a:pt x="58156" y="37676"/>
                  </a:lnTo>
                  <a:lnTo>
                    <a:pt x="53880" y="40357"/>
                  </a:lnTo>
                  <a:lnTo>
                    <a:pt x="50184" y="43838"/>
                  </a:lnTo>
                  <a:lnTo>
                    <a:pt x="46873" y="47852"/>
                  </a:lnTo>
                  <a:lnTo>
                    <a:pt x="43819" y="52221"/>
                  </a:lnTo>
                  <a:lnTo>
                    <a:pt x="40089" y="56828"/>
                  </a:lnTo>
                  <a:lnTo>
                    <a:pt x="35910" y="61592"/>
                  </a:lnTo>
                  <a:lnTo>
                    <a:pt x="31430" y="66461"/>
                  </a:lnTo>
                  <a:lnTo>
                    <a:pt x="26750" y="70554"/>
                  </a:lnTo>
                  <a:lnTo>
                    <a:pt x="21937" y="74129"/>
                  </a:lnTo>
                  <a:lnTo>
                    <a:pt x="17035" y="77359"/>
                  </a:lnTo>
                  <a:lnTo>
                    <a:pt x="13767" y="80360"/>
                  </a:lnTo>
                  <a:lnTo>
                    <a:pt x="11588" y="83207"/>
                  </a:lnTo>
                  <a:lnTo>
                    <a:pt x="10135" y="85951"/>
                  </a:lnTo>
                  <a:lnTo>
                    <a:pt x="8321" y="88627"/>
                  </a:lnTo>
                  <a:lnTo>
                    <a:pt x="6264" y="91259"/>
                  </a:lnTo>
                  <a:lnTo>
                    <a:pt x="4046" y="93859"/>
                  </a:lnTo>
                  <a:lnTo>
                    <a:pt x="2568" y="96440"/>
                  </a:lnTo>
                  <a:lnTo>
                    <a:pt x="1582" y="99006"/>
                  </a:lnTo>
                  <a:lnTo>
                    <a:pt x="0" y="105165"/>
                  </a:lnTo>
                  <a:lnTo>
                    <a:pt x="717" y="105669"/>
                  </a:lnTo>
                  <a:lnTo>
                    <a:pt x="3771" y="106231"/>
                  </a:lnTo>
                  <a:lnTo>
                    <a:pt x="7950" y="106481"/>
                  </a:lnTo>
                  <a:lnTo>
                    <a:pt x="10251" y="106547"/>
                  </a:lnTo>
                  <a:lnTo>
                    <a:pt x="124541" y="106680"/>
                  </a:lnTo>
                  <a:lnTo>
                    <a:pt x="132850" y="105833"/>
                  </a:lnTo>
                  <a:lnTo>
                    <a:pt x="140084" y="104422"/>
                  </a:lnTo>
                  <a:lnTo>
                    <a:pt x="146600" y="102635"/>
                  </a:lnTo>
                  <a:lnTo>
                    <a:pt x="160612" y="98392"/>
                  </a:lnTo>
                  <a:lnTo>
                    <a:pt x="167905" y="96075"/>
                  </a:lnTo>
                  <a:lnTo>
                    <a:pt x="174460" y="94530"/>
                  </a:lnTo>
                  <a:lnTo>
                    <a:pt x="180523" y="93500"/>
                  </a:lnTo>
                  <a:lnTo>
                    <a:pt x="186259" y="92813"/>
                  </a:lnTo>
                  <a:lnTo>
                    <a:pt x="190083" y="91509"/>
                  </a:lnTo>
                  <a:lnTo>
                    <a:pt x="192632" y="89793"/>
                  </a:lnTo>
                  <a:lnTo>
                    <a:pt x="197730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MARTInkAnnotation246"/>
            <p:cNvSpPr/>
            <p:nvPr/>
          </p:nvSpPr>
          <p:spPr>
            <a:xfrm>
              <a:off x="5555160" y="4046040"/>
              <a:ext cx="75960" cy="273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76162" h="274321">
                  <a:moveTo>
                    <a:pt x="76161" y="0"/>
                  </a:moveTo>
                  <a:lnTo>
                    <a:pt x="76161" y="18133"/>
                  </a:lnTo>
                  <a:lnTo>
                    <a:pt x="73903" y="25275"/>
                  </a:lnTo>
                  <a:lnTo>
                    <a:pt x="72116" y="29550"/>
                  </a:lnTo>
                  <a:lnTo>
                    <a:pt x="70078" y="34940"/>
                  </a:lnTo>
                  <a:lnTo>
                    <a:pt x="65555" y="47702"/>
                  </a:lnTo>
                  <a:lnTo>
                    <a:pt x="50722" y="91614"/>
                  </a:lnTo>
                  <a:lnTo>
                    <a:pt x="47348" y="98329"/>
                  </a:lnTo>
                  <a:lnTo>
                    <a:pt x="43406" y="104500"/>
                  </a:lnTo>
                  <a:lnTo>
                    <a:pt x="39084" y="110307"/>
                  </a:lnTo>
                  <a:lnTo>
                    <a:pt x="35356" y="117565"/>
                  </a:lnTo>
                  <a:lnTo>
                    <a:pt x="32024" y="125790"/>
                  </a:lnTo>
                  <a:lnTo>
                    <a:pt x="28956" y="134660"/>
                  </a:lnTo>
                  <a:lnTo>
                    <a:pt x="26065" y="143960"/>
                  </a:lnTo>
                  <a:lnTo>
                    <a:pt x="15340" y="180962"/>
                  </a:lnTo>
                  <a:lnTo>
                    <a:pt x="12754" y="189221"/>
                  </a:lnTo>
                  <a:lnTo>
                    <a:pt x="10182" y="196421"/>
                  </a:lnTo>
                  <a:lnTo>
                    <a:pt x="7622" y="202914"/>
                  </a:lnTo>
                  <a:lnTo>
                    <a:pt x="5068" y="208937"/>
                  </a:lnTo>
                  <a:lnTo>
                    <a:pt x="3365" y="215491"/>
                  </a:lnTo>
                  <a:lnTo>
                    <a:pt x="2231" y="222401"/>
                  </a:lnTo>
                  <a:lnTo>
                    <a:pt x="1474" y="229547"/>
                  </a:lnTo>
                  <a:lnTo>
                    <a:pt x="970" y="236005"/>
                  </a:lnTo>
                  <a:lnTo>
                    <a:pt x="633" y="242004"/>
                  </a:lnTo>
                  <a:lnTo>
                    <a:pt x="160" y="256278"/>
                  </a:lnTo>
                  <a:lnTo>
                    <a:pt x="0" y="268686"/>
                  </a:lnTo>
                  <a:lnTo>
                    <a:pt x="833" y="270565"/>
                  </a:lnTo>
                  <a:lnTo>
                    <a:pt x="2236" y="271816"/>
                  </a:lnTo>
                  <a:lnTo>
                    <a:pt x="7581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MARTInkAnnotation247"/>
            <p:cNvSpPr/>
            <p:nvPr/>
          </p:nvSpPr>
          <p:spPr>
            <a:xfrm>
              <a:off x="5738040" y="4107240"/>
              <a:ext cx="266400" cy="2401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266701" h="240445">
                  <a:moveTo>
                    <a:pt x="0" y="22764"/>
                  </a:moveTo>
                  <a:lnTo>
                    <a:pt x="11351" y="11413"/>
                  </a:lnTo>
                  <a:lnTo>
                    <a:pt x="13494" y="10117"/>
                  </a:lnTo>
                  <a:lnTo>
                    <a:pt x="18133" y="8676"/>
                  </a:lnTo>
                  <a:lnTo>
                    <a:pt x="25275" y="8036"/>
                  </a:lnTo>
                  <a:lnTo>
                    <a:pt x="29550" y="7866"/>
                  </a:lnTo>
                  <a:lnTo>
                    <a:pt x="34094" y="6905"/>
                  </a:lnTo>
                  <a:lnTo>
                    <a:pt x="38816" y="5418"/>
                  </a:lnTo>
                  <a:lnTo>
                    <a:pt x="43657" y="3580"/>
                  </a:lnTo>
                  <a:lnTo>
                    <a:pt x="49425" y="2355"/>
                  </a:lnTo>
                  <a:lnTo>
                    <a:pt x="55810" y="1538"/>
                  </a:lnTo>
                  <a:lnTo>
                    <a:pt x="62606" y="993"/>
                  </a:lnTo>
                  <a:lnTo>
                    <a:pt x="68831" y="630"/>
                  </a:lnTo>
                  <a:lnTo>
                    <a:pt x="80262" y="227"/>
                  </a:lnTo>
                  <a:lnTo>
                    <a:pt x="100263" y="0"/>
                  </a:lnTo>
                  <a:lnTo>
                    <a:pt x="106636" y="815"/>
                  </a:lnTo>
                  <a:lnTo>
                    <a:pt x="112577" y="2205"/>
                  </a:lnTo>
                  <a:lnTo>
                    <a:pt x="118231" y="3978"/>
                  </a:lnTo>
                  <a:lnTo>
                    <a:pt x="123694" y="5160"/>
                  </a:lnTo>
                  <a:lnTo>
                    <a:pt x="129029" y="5948"/>
                  </a:lnTo>
                  <a:lnTo>
                    <a:pt x="134280" y="6473"/>
                  </a:lnTo>
                  <a:lnTo>
                    <a:pt x="140320" y="6824"/>
                  </a:lnTo>
                  <a:lnTo>
                    <a:pt x="153804" y="7212"/>
                  </a:lnTo>
                  <a:lnTo>
                    <a:pt x="159263" y="8163"/>
                  </a:lnTo>
                  <a:lnTo>
                    <a:pt x="167586" y="11477"/>
                  </a:lnTo>
                  <a:lnTo>
                    <a:pt x="171837" y="12700"/>
                  </a:lnTo>
                  <a:lnTo>
                    <a:pt x="176365" y="13514"/>
                  </a:lnTo>
                  <a:lnTo>
                    <a:pt x="181077" y="14058"/>
                  </a:lnTo>
                  <a:lnTo>
                    <a:pt x="188569" y="16919"/>
                  </a:lnTo>
                  <a:lnTo>
                    <a:pt x="191753" y="18867"/>
                  </a:lnTo>
                  <a:lnTo>
                    <a:pt x="193875" y="21013"/>
                  </a:lnTo>
                  <a:lnTo>
                    <a:pt x="195290" y="23290"/>
                  </a:lnTo>
                  <a:lnTo>
                    <a:pt x="196862" y="28078"/>
                  </a:lnTo>
                  <a:lnTo>
                    <a:pt x="197561" y="33028"/>
                  </a:lnTo>
                  <a:lnTo>
                    <a:pt x="196900" y="35534"/>
                  </a:lnTo>
                  <a:lnTo>
                    <a:pt x="193909" y="40575"/>
                  </a:lnTo>
                  <a:lnTo>
                    <a:pt x="189758" y="47896"/>
                  </a:lnTo>
                  <a:lnTo>
                    <a:pt x="187465" y="52219"/>
                  </a:lnTo>
                  <a:lnTo>
                    <a:pt x="182660" y="59279"/>
                  </a:lnTo>
                  <a:lnTo>
                    <a:pt x="176856" y="66087"/>
                  </a:lnTo>
                  <a:lnTo>
                    <a:pt x="168631" y="74756"/>
                  </a:lnTo>
                  <a:lnTo>
                    <a:pt x="154481" y="89157"/>
                  </a:lnTo>
                  <a:lnTo>
                    <a:pt x="148707" y="94120"/>
                  </a:lnTo>
                  <a:lnTo>
                    <a:pt x="142318" y="99121"/>
                  </a:lnTo>
                  <a:lnTo>
                    <a:pt x="135519" y="104149"/>
                  </a:lnTo>
                  <a:lnTo>
                    <a:pt x="129292" y="109194"/>
                  </a:lnTo>
                  <a:lnTo>
                    <a:pt x="123448" y="114250"/>
                  </a:lnTo>
                  <a:lnTo>
                    <a:pt x="117859" y="119315"/>
                  </a:lnTo>
                  <a:lnTo>
                    <a:pt x="111593" y="124385"/>
                  </a:lnTo>
                  <a:lnTo>
                    <a:pt x="104874" y="129458"/>
                  </a:lnTo>
                  <a:lnTo>
                    <a:pt x="97857" y="134533"/>
                  </a:lnTo>
                  <a:lnTo>
                    <a:pt x="91485" y="139610"/>
                  </a:lnTo>
                  <a:lnTo>
                    <a:pt x="85543" y="144688"/>
                  </a:lnTo>
                  <a:lnTo>
                    <a:pt x="79889" y="149767"/>
                  </a:lnTo>
                  <a:lnTo>
                    <a:pt x="69091" y="159926"/>
                  </a:lnTo>
                  <a:lnTo>
                    <a:pt x="63841" y="165005"/>
                  </a:lnTo>
                  <a:lnTo>
                    <a:pt x="58647" y="169238"/>
                  </a:lnTo>
                  <a:lnTo>
                    <a:pt x="53491" y="172907"/>
                  </a:lnTo>
                  <a:lnTo>
                    <a:pt x="48360" y="176199"/>
                  </a:lnTo>
                  <a:lnTo>
                    <a:pt x="44941" y="180087"/>
                  </a:lnTo>
                  <a:lnTo>
                    <a:pt x="42660" y="184373"/>
                  </a:lnTo>
                  <a:lnTo>
                    <a:pt x="41140" y="188924"/>
                  </a:lnTo>
                  <a:lnTo>
                    <a:pt x="39451" y="196237"/>
                  </a:lnTo>
                  <a:lnTo>
                    <a:pt x="38701" y="202310"/>
                  </a:lnTo>
                  <a:lnTo>
                    <a:pt x="38367" y="207831"/>
                  </a:lnTo>
                  <a:lnTo>
                    <a:pt x="40818" y="210489"/>
                  </a:lnTo>
                  <a:lnTo>
                    <a:pt x="44992" y="213107"/>
                  </a:lnTo>
                  <a:lnTo>
                    <a:pt x="65896" y="223393"/>
                  </a:lnTo>
                  <a:lnTo>
                    <a:pt x="71024" y="225097"/>
                  </a:lnTo>
                  <a:lnTo>
                    <a:pt x="76136" y="226232"/>
                  </a:lnTo>
                  <a:lnTo>
                    <a:pt x="81238" y="226990"/>
                  </a:lnTo>
                  <a:lnTo>
                    <a:pt x="87179" y="228341"/>
                  </a:lnTo>
                  <a:lnTo>
                    <a:pt x="93679" y="230089"/>
                  </a:lnTo>
                  <a:lnTo>
                    <a:pt x="100553" y="232101"/>
                  </a:lnTo>
                  <a:lnTo>
                    <a:pt x="108522" y="233441"/>
                  </a:lnTo>
                  <a:lnTo>
                    <a:pt x="117221" y="234336"/>
                  </a:lnTo>
                  <a:lnTo>
                    <a:pt x="126408" y="234931"/>
                  </a:lnTo>
                  <a:lnTo>
                    <a:pt x="135918" y="235329"/>
                  </a:lnTo>
                  <a:lnTo>
                    <a:pt x="155517" y="235771"/>
                  </a:lnTo>
                  <a:lnTo>
                    <a:pt x="165485" y="236735"/>
                  </a:lnTo>
                  <a:lnTo>
                    <a:pt x="175516" y="238224"/>
                  </a:lnTo>
                  <a:lnTo>
                    <a:pt x="185591" y="240064"/>
                  </a:lnTo>
                  <a:lnTo>
                    <a:pt x="194847" y="240444"/>
                  </a:lnTo>
                  <a:lnTo>
                    <a:pt x="203558" y="239851"/>
                  </a:lnTo>
                  <a:lnTo>
                    <a:pt x="211905" y="238608"/>
                  </a:lnTo>
                  <a:lnTo>
                    <a:pt x="220857" y="237780"/>
                  </a:lnTo>
                  <a:lnTo>
                    <a:pt x="230211" y="237228"/>
                  </a:lnTo>
                  <a:lnTo>
                    <a:pt x="252784" y="236451"/>
                  </a:lnTo>
                  <a:lnTo>
                    <a:pt x="266700" y="236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MARTInkAnnotation248"/>
            <p:cNvSpPr/>
            <p:nvPr/>
          </p:nvSpPr>
          <p:spPr>
            <a:xfrm>
              <a:off x="5776200" y="419868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15240"/>
                  </a:moveTo>
                  <a:lnTo>
                    <a:pt x="207815" y="15240"/>
                  </a:lnTo>
                  <a:lnTo>
                    <a:pt x="214743" y="14394"/>
                  </a:lnTo>
                  <a:lnTo>
                    <a:pt x="221902" y="12983"/>
                  </a:lnTo>
                  <a:lnTo>
                    <a:pt x="229215" y="11195"/>
                  </a:lnTo>
                  <a:lnTo>
                    <a:pt x="234936" y="10003"/>
                  </a:lnTo>
                  <a:lnTo>
                    <a:pt x="239598" y="9209"/>
                  </a:lnTo>
                  <a:lnTo>
                    <a:pt x="243552" y="8679"/>
                  </a:lnTo>
                  <a:lnTo>
                    <a:pt x="246188" y="7480"/>
                  </a:lnTo>
                  <a:lnTo>
                    <a:pt x="247946" y="5833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MARTInkAnnotation249"/>
            <p:cNvSpPr/>
            <p:nvPr/>
          </p:nvSpPr>
          <p:spPr>
            <a:xfrm>
              <a:off x="6210720" y="4084200"/>
              <a:ext cx="22680" cy="27396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2861" h="274321">
                  <a:moveTo>
                    <a:pt x="22860" y="0"/>
                  </a:moveTo>
                  <a:lnTo>
                    <a:pt x="22860" y="11352"/>
                  </a:lnTo>
                  <a:lnTo>
                    <a:pt x="22013" y="14341"/>
                  </a:lnTo>
                  <a:lnTo>
                    <a:pt x="20602" y="18027"/>
                  </a:lnTo>
                  <a:lnTo>
                    <a:pt x="18815" y="22178"/>
                  </a:lnTo>
                  <a:lnTo>
                    <a:pt x="17623" y="26639"/>
                  </a:lnTo>
                  <a:lnTo>
                    <a:pt x="16828" y="31306"/>
                  </a:lnTo>
                  <a:lnTo>
                    <a:pt x="16299" y="36111"/>
                  </a:lnTo>
                  <a:lnTo>
                    <a:pt x="15099" y="41854"/>
                  </a:lnTo>
                  <a:lnTo>
                    <a:pt x="13453" y="48223"/>
                  </a:lnTo>
                  <a:lnTo>
                    <a:pt x="11509" y="55009"/>
                  </a:lnTo>
                  <a:lnTo>
                    <a:pt x="10213" y="62072"/>
                  </a:lnTo>
                  <a:lnTo>
                    <a:pt x="9349" y="69322"/>
                  </a:lnTo>
                  <a:lnTo>
                    <a:pt x="8772" y="76695"/>
                  </a:lnTo>
                  <a:lnTo>
                    <a:pt x="8388" y="84150"/>
                  </a:lnTo>
                  <a:lnTo>
                    <a:pt x="7962" y="99207"/>
                  </a:lnTo>
                  <a:lnTo>
                    <a:pt x="7640" y="157645"/>
                  </a:lnTo>
                  <a:lnTo>
                    <a:pt x="7620" y="220887"/>
                  </a:lnTo>
                  <a:lnTo>
                    <a:pt x="6774" y="227692"/>
                  </a:lnTo>
                  <a:lnTo>
                    <a:pt x="5363" y="233921"/>
                  </a:lnTo>
                  <a:lnTo>
                    <a:pt x="3575" y="239767"/>
                  </a:lnTo>
                  <a:lnTo>
                    <a:pt x="2384" y="245358"/>
                  </a:lnTo>
                  <a:lnTo>
                    <a:pt x="1589" y="250779"/>
                  </a:lnTo>
                  <a:lnTo>
                    <a:pt x="1060" y="256086"/>
                  </a:lnTo>
                  <a:lnTo>
                    <a:pt x="471" y="264240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MARTInkAnnotation250"/>
            <p:cNvSpPr/>
            <p:nvPr/>
          </p:nvSpPr>
          <p:spPr>
            <a:xfrm>
              <a:off x="6157440" y="4191120"/>
              <a:ext cx="137160" cy="151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15240"/>
                  </a:moveTo>
                  <a:lnTo>
                    <a:pt x="4046" y="11195"/>
                  </a:lnTo>
                  <a:lnTo>
                    <a:pt x="6930" y="10003"/>
                  </a:lnTo>
                  <a:lnTo>
                    <a:pt x="10547" y="9209"/>
                  </a:lnTo>
                  <a:lnTo>
                    <a:pt x="20428" y="7934"/>
                  </a:lnTo>
                  <a:lnTo>
                    <a:pt x="23779" y="7830"/>
                  </a:lnTo>
                  <a:lnTo>
                    <a:pt x="71338" y="7632"/>
                  </a:lnTo>
                  <a:lnTo>
                    <a:pt x="105719" y="7623"/>
                  </a:lnTo>
                  <a:lnTo>
                    <a:pt x="112813" y="6775"/>
                  </a:lnTo>
                  <a:lnTo>
                    <a:pt x="119236" y="5364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MARTInkAnnotation251"/>
            <p:cNvSpPr/>
            <p:nvPr/>
          </p:nvSpPr>
          <p:spPr>
            <a:xfrm>
              <a:off x="6363360" y="3992760"/>
              <a:ext cx="220680" cy="1674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20820" h="167611">
                  <a:moveTo>
                    <a:pt x="83659" y="0"/>
                  </a:moveTo>
                  <a:lnTo>
                    <a:pt x="83659" y="33032"/>
                  </a:lnTo>
                  <a:lnTo>
                    <a:pt x="82813" y="36414"/>
                  </a:lnTo>
                  <a:lnTo>
                    <a:pt x="81402" y="40363"/>
                  </a:lnTo>
                  <a:lnTo>
                    <a:pt x="79614" y="44689"/>
                  </a:lnTo>
                  <a:lnTo>
                    <a:pt x="77576" y="49266"/>
                  </a:lnTo>
                  <a:lnTo>
                    <a:pt x="73054" y="58867"/>
                  </a:lnTo>
                  <a:lnTo>
                    <a:pt x="70662" y="62952"/>
                  </a:lnTo>
                  <a:lnTo>
                    <a:pt x="68221" y="66521"/>
                  </a:lnTo>
                  <a:lnTo>
                    <a:pt x="65747" y="69747"/>
                  </a:lnTo>
                  <a:lnTo>
                    <a:pt x="63251" y="73591"/>
                  </a:lnTo>
                  <a:lnTo>
                    <a:pt x="60741" y="77847"/>
                  </a:lnTo>
                  <a:lnTo>
                    <a:pt x="58220" y="82378"/>
                  </a:lnTo>
                  <a:lnTo>
                    <a:pt x="54846" y="87092"/>
                  </a:lnTo>
                  <a:lnTo>
                    <a:pt x="50904" y="91928"/>
                  </a:lnTo>
                  <a:lnTo>
                    <a:pt x="42855" y="100970"/>
                  </a:lnTo>
                  <a:lnTo>
                    <a:pt x="36455" y="107812"/>
                  </a:lnTo>
                  <a:lnTo>
                    <a:pt x="28092" y="116423"/>
                  </a:lnTo>
                  <a:lnTo>
                    <a:pt x="6006" y="138604"/>
                  </a:lnTo>
                  <a:lnTo>
                    <a:pt x="3951" y="141510"/>
                  </a:lnTo>
                  <a:lnTo>
                    <a:pt x="2581" y="144293"/>
                  </a:lnTo>
                  <a:lnTo>
                    <a:pt x="0" y="151926"/>
                  </a:lnTo>
                  <a:lnTo>
                    <a:pt x="3932" y="156304"/>
                  </a:lnTo>
                  <a:lnTo>
                    <a:pt x="5955" y="157543"/>
                  </a:lnTo>
                  <a:lnTo>
                    <a:pt x="10460" y="158919"/>
                  </a:lnTo>
                  <a:lnTo>
                    <a:pt x="14539" y="160133"/>
                  </a:lnTo>
                  <a:lnTo>
                    <a:pt x="25846" y="163739"/>
                  </a:lnTo>
                  <a:lnTo>
                    <a:pt x="32417" y="165039"/>
                  </a:lnTo>
                  <a:lnTo>
                    <a:pt x="39339" y="165906"/>
                  </a:lnTo>
                  <a:lnTo>
                    <a:pt x="46492" y="166484"/>
                  </a:lnTo>
                  <a:lnTo>
                    <a:pt x="53801" y="166869"/>
                  </a:lnTo>
                  <a:lnTo>
                    <a:pt x="68696" y="167297"/>
                  </a:lnTo>
                  <a:lnTo>
                    <a:pt x="131331" y="167610"/>
                  </a:lnTo>
                  <a:lnTo>
                    <a:pt x="140840" y="166773"/>
                  </a:lnTo>
                  <a:lnTo>
                    <a:pt x="149720" y="165369"/>
                  </a:lnTo>
                  <a:lnTo>
                    <a:pt x="158180" y="163586"/>
                  </a:lnTo>
                  <a:lnTo>
                    <a:pt x="166359" y="161551"/>
                  </a:lnTo>
                  <a:lnTo>
                    <a:pt x="174353" y="159347"/>
                  </a:lnTo>
                  <a:lnTo>
                    <a:pt x="182222" y="157031"/>
                  </a:lnTo>
                  <a:lnTo>
                    <a:pt x="190008" y="155488"/>
                  </a:lnTo>
                  <a:lnTo>
                    <a:pt x="197738" y="154458"/>
                  </a:lnTo>
                  <a:lnTo>
                    <a:pt x="205431" y="153772"/>
                  </a:lnTo>
                  <a:lnTo>
                    <a:pt x="210560" y="152469"/>
                  </a:lnTo>
                  <a:lnTo>
                    <a:pt x="213980" y="150752"/>
                  </a:lnTo>
                  <a:lnTo>
                    <a:pt x="220819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MARTInkAnnotation252"/>
            <p:cNvSpPr/>
            <p:nvPr/>
          </p:nvSpPr>
          <p:spPr>
            <a:xfrm>
              <a:off x="6500520" y="4023360"/>
              <a:ext cx="75600" cy="2818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75747" h="281941">
                  <a:moveTo>
                    <a:pt x="75746" y="0"/>
                  </a:moveTo>
                  <a:lnTo>
                    <a:pt x="75746" y="18199"/>
                  </a:lnTo>
                  <a:lnTo>
                    <a:pt x="73489" y="25304"/>
                  </a:lnTo>
                  <a:lnTo>
                    <a:pt x="71701" y="29569"/>
                  </a:lnTo>
                  <a:lnTo>
                    <a:pt x="69662" y="34106"/>
                  </a:lnTo>
                  <a:lnTo>
                    <a:pt x="65140" y="43663"/>
                  </a:lnTo>
                  <a:lnTo>
                    <a:pt x="57834" y="58563"/>
                  </a:lnTo>
                  <a:lnTo>
                    <a:pt x="55338" y="64442"/>
                  </a:lnTo>
                  <a:lnTo>
                    <a:pt x="52828" y="70902"/>
                  </a:lnTo>
                  <a:lnTo>
                    <a:pt x="47779" y="84852"/>
                  </a:lnTo>
                  <a:lnTo>
                    <a:pt x="42715" y="99519"/>
                  </a:lnTo>
                  <a:lnTo>
                    <a:pt x="39332" y="106986"/>
                  </a:lnTo>
                  <a:lnTo>
                    <a:pt x="35383" y="114504"/>
                  </a:lnTo>
                  <a:lnTo>
                    <a:pt x="31057" y="122056"/>
                  </a:lnTo>
                  <a:lnTo>
                    <a:pt x="27327" y="129631"/>
                  </a:lnTo>
                  <a:lnTo>
                    <a:pt x="23994" y="137221"/>
                  </a:lnTo>
                  <a:lnTo>
                    <a:pt x="20924" y="144820"/>
                  </a:lnTo>
                  <a:lnTo>
                    <a:pt x="18032" y="153273"/>
                  </a:lnTo>
                  <a:lnTo>
                    <a:pt x="15257" y="162296"/>
                  </a:lnTo>
                  <a:lnTo>
                    <a:pt x="9916" y="181352"/>
                  </a:lnTo>
                  <a:lnTo>
                    <a:pt x="4719" y="201110"/>
                  </a:lnTo>
                  <a:lnTo>
                    <a:pt x="2995" y="209426"/>
                  </a:lnTo>
                  <a:lnTo>
                    <a:pt x="1845" y="216665"/>
                  </a:lnTo>
                  <a:lnTo>
                    <a:pt x="1079" y="223183"/>
                  </a:lnTo>
                  <a:lnTo>
                    <a:pt x="568" y="230069"/>
                  </a:lnTo>
                  <a:lnTo>
                    <a:pt x="228" y="237199"/>
                  </a:lnTo>
                  <a:lnTo>
                    <a:pt x="0" y="244493"/>
                  </a:lnTo>
                  <a:lnTo>
                    <a:pt x="696" y="250202"/>
                  </a:lnTo>
                  <a:lnTo>
                    <a:pt x="2006" y="254855"/>
                  </a:lnTo>
                  <a:lnTo>
                    <a:pt x="3725" y="258803"/>
                  </a:lnTo>
                  <a:lnTo>
                    <a:pt x="4873" y="263129"/>
                  </a:lnTo>
                  <a:lnTo>
                    <a:pt x="5637" y="267706"/>
                  </a:lnTo>
                  <a:lnTo>
                    <a:pt x="7166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SMARTInkAnnotation253"/>
            <p:cNvSpPr/>
            <p:nvPr/>
          </p:nvSpPr>
          <p:spPr>
            <a:xfrm>
              <a:off x="6692400" y="4030920"/>
              <a:ext cx="178200" cy="33372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78356" h="334018">
                  <a:moveTo>
                    <a:pt x="82192" y="0"/>
                  </a:moveTo>
                  <a:lnTo>
                    <a:pt x="78147" y="0"/>
                  </a:lnTo>
                  <a:lnTo>
                    <a:pt x="76955" y="846"/>
                  </a:lnTo>
                  <a:lnTo>
                    <a:pt x="76161" y="2258"/>
                  </a:lnTo>
                  <a:lnTo>
                    <a:pt x="75631" y="4045"/>
                  </a:lnTo>
                  <a:lnTo>
                    <a:pt x="72785" y="8289"/>
                  </a:lnTo>
                  <a:lnTo>
                    <a:pt x="70841" y="10606"/>
                  </a:lnTo>
                  <a:lnTo>
                    <a:pt x="69545" y="13844"/>
                  </a:lnTo>
                  <a:lnTo>
                    <a:pt x="68105" y="21957"/>
                  </a:lnTo>
                  <a:lnTo>
                    <a:pt x="66027" y="27338"/>
                  </a:lnTo>
                  <a:lnTo>
                    <a:pt x="62949" y="33466"/>
                  </a:lnTo>
                  <a:lnTo>
                    <a:pt x="59204" y="40090"/>
                  </a:lnTo>
                  <a:lnTo>
                    <a:pt x="55860" y="47047"/>
                  </a:lnTo>
                  <a:lnTo>
                    <a:pt x="52784" y="54225"/>
                  </a:lnTo>
                  <a:lnTo>
                    <a:pt x="49887" y="61550"/>
                  </a:lnTo>
                  <a:lnTo>
                    <a:pt x="46262" y="69820"/>
                  </a:lnTo>
                  <a:lnTo>
                    <a:pt x="37719" y="88040"/>
                  </a:lnTo>
                  <a:lnTo>
                    <a:pt x="23390" y="117338"/>
                  </a:lnTo>
                  <a:lnTo>
                    <a:pt x="19284" y="128179"/>
                  </a:lnTo>
                  <a:lnTo>
                    <a:pt x="15700" y="139639"/>
                  </a:lnTo>
                  <a:lnTo>
                    <a:pt x="12464" y="151513"/>
                  </a:lnTo>
                  <a:lnTo>
                    <a:pt x="9460" y="163662"/>
                  </a:lnTo>
                  <a:lnTo>
                    <a:pt x="3865" y="188450"/>
                  </a:lnTo>
                  <a:lnTo>
                    <a:pt x="2034" y="199293"/>
                  </a:lnTo>
                  <a:lnTo>
                    <a:pt x="813" y="209062"/>
                  </a:lnTo>
                  <a:lnTo>
                    <a:pt x="0" y="218115"/>
                  </a:lnTo>
                  <a:lnTo>
                    <a:pt x="304" y="228383"/>
                  </a:lnTo>
                  <a:lnTo>
                    <a:pt x="1353" y="239462"/>
                  </a:lnTo>
                  <a:lnTo>
                    <a:pt x="2899" y="251081"/>
                  </a:lnTo>
                  <a:lnTo>
                    <a:pt x="3930" y="261368"/>
                  </a:lnTo>
                  <a:lnTo>
                    <a:pt x="4617" y="270765"/>
                  </a:lnTo>
                  <a:lnTo>
                    <a:pt x="5076" y="279570"/>
                  </a:lnTo>
                  <a:lnTo>
                    <a:pt x="7074" y="287133"/>
                  </a:lnTo>
                  <a:lnTo>
                    <a:pt x="10101" y="293869"/>
                  </a:lnTo>
                  <a:lnTo>
                    <a:pt x="13811" y="300053"/>
                  </a:lnTo>
                  <a:lnTo>
                    <a:pt x="22449" y="313697"/>
                  </a:lnTo>
                  <a:lnTo>
                    <a:pt x="27124" y="320891"/>
                  </a:lnTo>
                  <a:lnTo>
                    <a:pt x="32780" y="325687"/>
                  </a:lnTo>
                  <a:lnTo>
                    <a:pt x="39091" y="328885"/>
                  </a:lnTo>
                  <a:lnTo>
                    <a:pt x="45838" y="331017"/>
                  </a:lnTo>
                  <a:lnTo>
                    <a:pt x="52876" y="332438"/>
                  </a:lnTo>
                  <a:lnTo>
                    <a:pt x="60108" y="333385"/>
                  </a:lnTo>
                  <a:lnTo>
                    <a:pt x="67469" y="334017"/>
                  </a:lnTo>
                  <a:lnTo>
                    <a:pt x="74917" y="333591"/>
                  </a:lnTo>
                  <a:lnTo>
                    <a:pt x="82422" y="332461"/>
                  </a:lnTo>
                  <a:lnTo>
                    <a:pt x="89965" y="330861"/>
                  </a:lnTo>
                  <a:lnTo>
                    <a:pt x="98381" y="327254"/>
                  </a:lnTo>
                  <a:lnTo>
                    <a:pt x="107378" y="322309"/>
                  </a:lnTo>
                  <a:lnTo>
                    <a:pt x="116763" y="316473"/>
                  </a:lnTo>
                  <a:lnTo>
                    <a:pt x="124712" y="309195"/>
                  </a:lnTo>
                  <a:lnTo>
                    <a:pt x="131706" y="300957"/>
                  </a:lnTo>
                  <a:lnTo>
                    <a:pt x="138062" y="292078"/>
                  </a:lnTo>
                  <a:lnTo>
                    <a:pt x="143992" y="281925"/>
                  </a:lnTo>
                  <a:lnTo>
                    <a:pt x="149639" y="270923"/>
                  </a:lnTo>
                  <a:lnTo>
                    <a:pt x="155096" y="259356"/>
                  </a:lnTo>
                  <a:lnTo>
                    <a:pt x="165676" y="235213"/>
                  </a:lnTo>
                  <a:lnTo>
                    <a:pt x="170868" y="222849"/>
                  </a:lnTo>
                  <a:lnTo>
                    <a:pt x="174330" y="210373"/>
                  </a:lnTo>
                  <a:lnTo>
                    <a:pt x="176637" y="197822"/>
                  </a:lnTo>
                  <a:lnTo>
                    <a:pt x="178175" y="185221"/>
                  </a:lnTo>
                  <a:lnTo>
                    <a:pt x="178355" y="172587"/>
                  </a:lnTo>
                  <a:lnTo>
                    <a:pt x="177626" y="159932"/>
                  </a:lnTo>
                  <a:lnTo>
                    <a:pt x="176295" y="147261"/>
                  </a:lnTo>
                  <a:lnTo>
                    <a:pt x="173714" y="135428"/>
                  </a:lnTo>
                  <a:lnTo>
                    <a:pt x="170300" y="124152"/>
                  </a:lnTo>
                  <a:lnTo>
                    <a:pt x="166331" y="113248"/>
                  </a:lnTo>
                  <a:lnTo>
                    <a:pt x="161145" y="102592"/>
                  </a:lnTo>
                  <a:lnTo>
                    <a:pt x="155147" y="92101"/>
                  </a:lnTo>
                  <a:lnTo>
                    <a:pt x="148608" y="81721"/>
                  </a:lnTo>
                  <a:lnTo>
                    <a:pt x="141710" y="73107"/>
                  </a:lnTo>
                  <a:lnTo>
                    <a:pt x="134571" y="65671"/>
                  </a:lnTo>
                  <a:lnTo>
                    <a:pt x="127272" y="59021"/>
                  </a:lnTo>
                  <a:lnTo>
                    <a:pt x="119865" y="52894"/>
                  </a:lnTo>
                  <a:lnTo>
                    <a:pt x="112387" y="47116"/>
                  </a:lnTo>
                  <a:lnTo>
                    <a:pt x="104861" y="41571"/>
                  </a:lnTo>
                  <a:lnTo>
                    <a:pt x="98153" y="37027"/>
                  </a:lnTo>
                  <a:lnTo>
                    <a:pt x="91986" y="33151"/>
                  </a:lnTo>
                  <a:lnTo>
                    <a:pt x="86181" y="29721"/>
                  </a:lnTo>
                  <a:lnTo>
                    <a:pt x="80618" y="27434"/>
                  </a:lnTo>
                  <a:lnTo>
                    <a:pt x="75217" y="25909"/>
                  </a:lnTo>
                  <a:lnTo>
                    <a:pt x="59332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0" y="6094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ify each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304920" y="127944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9"/>
              <p:cNvSpPr txBox="1"/>
              <p:nvPr/>
            </p:nvSpPr>
            <p:spPr>
              <a:xfrm>
                <a:off x="1212840" y="1289160"/>
                <a:ext cx="1987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Group 13"/>
          <p:cNvGrpSpPr/>
          <p:nvPr/>
        </p:nvGrpSpPr>
        <p:grpSpPr>
          <a:xfrm>
            <a:off x="4495680" y="1324080"/>
            <a:ext cx="3052800" cy="552240"/>
            <a:chOff x="4495680" y="1324080"/>
            <a:chExt cx="3052800" cy="552240"/>
          </a:xfrm>
        </p:grpSpPr>
        <p:sp>
          <p:nvSpPr>
            <p:cNvPr id="440" name="Text Box 7"/>
            <p:cNvSpPr/>
            <p:nvPr/>
          </p:nvSpPr>
          <p:spPr>
            <a:xfrm>
              <a:off x="4495680" y="132408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6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5"/>
                <p:cNvSpPr txBox="1"/>
                <p:nvPr/>
              </p:nvSpPr>
              <p:spPr>
                <a:xfrm>
                  <a:off x="5334120" y="1355760"/>
                  <a:ext cx="221436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2" name="Group 15"/>
          <p:cNvGrpSpPr/>
          <p:nvPr/>
        </p:nvGrpSpPr>
        <p:grpSpPr>
          <a:xfrm>
            <a:off x="4572000" y="3276720"/>
            <a:ext cx="2868480" cy="1008000"/>
            <a:chOff x="4572000" y="3276720"/>
            <a:chExt cx="2868480" cy="1008000"/>
          </a:xfrm>
        </p:grpSpPr>
        <p:sp>
          <p:nvSpPr>
            <p:cNvPr id="443" name="Text Box 7"/>
            <p:cNvSpPr/>
            <p:nvPr/>
          </p:nvSpPr>
          <p:spPr>
            <a:xfrm>
              <a:off x="4572000" y="35053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8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4" name="Object 4"/>
                <p:cNvSpPr txBox="1"/>
                <p:nvPr/>
              </p:nvSpPr>
              <p:spPr>
                <a:xfrm>
                  <a:off x="5486400" y="3276720"/>
                  <a:ext cx="195408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5" name="Group 14"/>
          <p:cNvGrpSpPr/>
          <p:nvPr/>
        </p:nvGrpSpPr>
        <p:grpSpPr>
          <a:xfrm>
            <a:off x="304920" y="3260880"/>
            <a:ext cx="2674800" cy="1009440"/>
            <a:chOff x="304920" y="3260880"/>
            <a:chExt cx="2674800" cy="1009440"/>
          </a:xfrm>
        </p:grpSpPr>
        <p:sp>
          <p:nvSpPr>
            <p:cNvPr id="446" name="Text Box 7"/>
            <p:cNvSpPr/>
            <p:nvPr/>
          </p:nvSpPr>
          <p:spPr>
            <a:xfrm>
              <a:off x="304920" y="35053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7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Object 3"/>
                <p:cNvSpPr txBox="1"/>
                <p:nvPr/>
              </p:nvSpPr>
              <p:spPr>
                <a:xfrm>
                  <a:off x="1219320" y="3260880"/>
                  <a:ext cx="1760400" cy="100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Group 10295"/>
          <p:cNvGrpSpPr/>
          <p:nvPr/>
        </p:nvGrpSpPr>
        <p:grpSpPr>
          <a:xfrm>
            <a:off x="800280" y="1020600"/>
            <a:ext cx="6956280" cy="4664160"/>
            <a:chOff x="800280" y="1020600"/>
            <a:chExt cx="6956280" cy="4664160"/>
          </a:xfrm>
        </p:grpSpPr>
        <p:sp>
          <p:nvSpPr>
            <p:cNvPr id="449" name="SMARTInkAnnotation119"/>
            <p:cNvSpPr/>
            <p:nvPr/>
          </p:nvSpPr>
          <p:spPr>
            <a:xfrm>
              <a:off x="1250640" y="1931040"/>
              <a:ext cx="354600" cy="39960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354929" h="399797">
                  <a:moveTo>
                    <a:pt x="14153" y="103071"/>
                  </a:moveTo>
                  <a:lnTo>
                    <a:pt x="6847" y="103071"/>
                  </a:lnTo>
                  <a:lnTo>
                    <a:pt x="0" y="96510"/>
                  </a:lnTo>
                  <a:lnTo>
                    <a:pt x="484" y="95311"/>
                  </a:lnTo>
                  <a:lnTo>
                    <a:pt x="7345" y="87302"/>
                  </a:lnTo>
                  <a:lnTo>
                    <a:pt x="16853" y="77567"/>
                  </a:lnTo>
                  <a:lnTo>
                    <a:pt x="24102" y="72545"/>
                  </a:lnTo>
                  <a:lnTo>
                    <a:pt x="33815" y="66644"/>
                  </a:lnTo>
                  <a:lnTo>
                    <a:pt x="46598" y="58377"/>
                  </a:lnTo>
                  <a:lnTo>
                    <a:pt x="54410" y="54648"/>
                  </a:lnTo>
                  <a:lnTo>
                    <a:pt x="63004" y="51316"/>
                  </a:lnTo>
                  <a:lnTo>
                    <a:pt x="72121" y="48248"/>
                  </a:lnTo>
                  <a:lnTo>
                    <a:pt x="80738" y="44509"/>
                  </a:lnTo>
                  <a:lnTo>
                    <a:pt x="89023" y="40323"/>
                  </a:lnTo>
                  <a:lnTo>
                    <a:pt x="97087" y="35839"/>
                  </a:lnTo>
                  <a:lnTo>
                    <a:pt x="115077" y="26341"/>
                  </a:lnTo>
                  <a:lnTo>
                    <a:pt x="124616" y="21438"/>
                  </a:lnTo>
                  <a:lnTo>
                    <a:pt x="134361" y="17322"/>
                  </a:lnTo>
                  <a:lnTo>
                    <a:pt x="144245" y="13732"/>
                  </a:lnTo>
                  <a:lnTo>
                    <a:pt x="154221" y="10492"/>
                  </a:lnTo>
                  <a:lnTo>
                    <a:pt x="164259" y="8331"/>
                  </a:lnTo>
                  <a:lnTo>
                    <a:pt x="174337" y="6891"/>
                  </a:lnTo>
                  <a:lnTo>
                    <a:pt x="184442" y="5931"/>
                  </a:lnTo>
                  <a:lnTo>
                    <a:pt x="194566" y="4444"/>
                  </a:lnTo>
                  <a:lnTo>
                    <a:pt x="204702" y="2607"/>
                  </a:lnTo>
                  <a:lnTo>
                    <a:pt x="214845" y="535"/>
                  </a:lnTo>
                  <a:lnTo>
                    <a:pt x="223301" y="0"/>
                  </a:lnTo>
                  <a:lnTo>
                    <a:pt x="230632" y="490"/>
                  </a:lnTo>
                  <a:lnTo>
                    <a:pt x="237212" y="1664"/>
                  </a:lnTo>
                  <a:lnTo>
                    <a:pt x="246782" y="2968"/>
                  </a:lnTo>
                  <a:lnTo>
                    <a:pt x="250519" y="3315"/>
                  </a:lnTo>
                  <a:lnTo>
                    <a:pt x="253857" y="4394"/>
                  </a:lnTo>
                  <a:lnTo>
                    <a:pt x="259824" y="7850"/>
                  </a:lnTo>
                  <a:lnTo>
                    <a:pt x="261754" y="10804"/>
                  </a:lnTo>
                  <a:lnTo>
                    <a:pt x="263898" y="18601"/>
                  </a:lnTo>
                  <a:lnTo>
                    <a:pt x="262776" y="23051"/>
                  </a:lnTo>
                  <a:lnTo>
                    <a:pt x="257014" y="32511"/>
                  </a:lnTo>
                  <a:lnTo>
                    <a:pt x="244250" y="51402"/>
                  </a:lnTo>
                  <a:lnTo>
                    <a:pt x="238671" y="57619"/>
                  </a:lnTo>
                  <a:lnTo>
                    <a:pt x="232412" y="63456"/>
                  </a:lnTo>
                  <a:lnTo>
                    <a:pt x="225699" y="69041"/>
                  </a:lnTo>
                  <a:lnTo>
                    <a:pt x="218684" y="76151"/>
                  </a:lnTo>
                  <a:lnTo>
                    <a:pt x="211467" y="84278"/>
                  </a:lnTo>
                  <a:lnTo>
                    <a:pt x="204116" y="93082"/>
                  </a:lnTo>
                  <a:lnTo>
                    <a:pt x="196675" y="101492"/>
                  </a:lnTo>
                  <a:lnTo>
                    <a:pt x="181634" y="117609"/>
                  </a:lnTo>
                  <a:lnTo>
                    <a:pt x="174067" y="124617"/>
                  </a:lnTo>
                  <a:lnTo>
                    <a:pt x="166482" y="130981"/>
                  </a:lnTo>
                  <a:lnTo>
                    <a:pt x="158886" y="136918"/>
                  </a:lnTo>
                  <a:lnTo>
                    <a:pt x="151282" y="143416"/>
                  </a:lnTo>
                  <a:lnTo>
                    <a:pt x="143672" y="150288"/>
                  </a:lnTo>
                  <a:lnTo>
                    <a:pt x="136059" y="157409"/>
                  </a:lnTo>
                  <a:lnTo>
                    <a:pt x="125342" y="169836"/>
                  </a:lnTo>
                  <a:lnTo>
                    <a:pt x="117758" y="181005"/>
                  </a:lnTo>
                  <a:lnTo>
                    <a:pt x="111564" y="191613"/>
                  </a:lnTo>
                  <a:lnTo>
                    <a:pt x="110420" y="195965"/>
                  </a:lnTo>
                  <a:lnTo>
                    <a:pt x="110505" y="199714"/>
                  </a:lnTo>
                  <a:lnTo>
                    <a:pt x="111407" y="203060"/>
                  </a:lnTo>
                  <a:lnTo>
                    <a:pt x="113703" y="206137"/>
                  </a:lnTo>
                  <a:lnTo>
                    <a:pt x="120769" y="211814"/>
                  </a:lnTo>
                  <a:lnTo>
                    <a:pt x="131811" y="217159"/>
                  </a:lnTo>
                  <a:lnTo>
                    <a:pt x="138312" y="219769"/>
                  </a:lnTo>
                  <a:lnTo>
                    <a:pt x="146033" y="221510"/>
                  </a:lnTo>
                  <a:lnTo>
                    <a:pt x="154566" y="222670"/>
                  </a:lnTo>
                  <a:lnTo>
                    <a:pt x="163642" y="223444"/>
                  </a:lnTo>
                  <a:lnTo>
                    <a:pt x="173079" y="223960"/>
                  </a:lnTo>
                  <a:lnTo>
                    <a:pt x="192596" y="224533"/>
                  </a:lnTo>
                  <a:lnTo>
                    <a:pt x="226669" y="224855"/>
                  </a:lnTo>
                  <a:lnTo>
                    <a:pt x="237957" y="225747"/>
                  </a:lnTo>
                  <a:lnTo>
                    <a:pt x="248869" y="227189"/>
                  </a:lnTo>
                  <a:lnTo>
                    <a:pt x="259530" y="228996"/>
                  </a:lnTo>
                  <a:lnTo>
                    <a:pt x="270025" y="231048"/>
                  </a:lnTo>
                  <a:lnTo>
                    <a:pt x="290716" y="235585"/>
                  </a:lnTo>
                  <a:lnTo>
                    <a:pt x="300128" y="237981"/>
                  </a:lnTo>
                  <a:lnTo>
                    <a:pt x="308944" y="240424"/>
                  </a:lnTo>
                  <a:lnTo>
                    <a:pt x="317360" y="242900"/>
                  </a:lnTo>
                  <a:lnTo>
                    <a:pt x="324664" y="246243"/>
                  </a:lnTo>
                  <a:lnTo>
                    <a:pt x="331227" y="250166"/>
                  </a:lnTo>
                  <a:lnTo>
                    <a:pt x="342188" y="259040"/>
                  </a:lnTo>
                  <a:lnTo>
                    <a:pt x="349882" y="268628"/>
                  </a:lnTo>
                  <a:lnTo>
                    <a:pt x="353866" y="278534"/>
                  </a:lnTo>
                  <a:lnTo>
                    <a:pt x="354928" y="283547"/>
                  </a:lnTo>
                  <a:lnTo>
                    <a:pt x="353943" y="288582"/>
                  </a:lnTo>
                  <a:lnTo>
                    <a:pt x="348333" y="298691"/>
                  </a:lnTo>
                  <a:lnTo>
                    <a:pt x="340196" y="308829"/>
                  </a:lnTo>
                  <a:lnTo>
                    <a:pt x="330088" y="318979"/>
                  </a:lnTo>
                  <a:lnTo>
                    <a:pt x="323836" y="324056"/>
                  </a:lnTo>
                  <a:lnTo>
                    <a:pt x="317128" y="329135"/>
                  </a:lnTo>
                  <a:lnTo>
                    <a:pt x="309270" y="334214"/>
                  </a:lnTo>
                  <a:lnTo>
                    <a:pt x="300645" y="339292"/>
                  </a:lnTo>
                  <a:lnTo>
                    <a:pt x="291507" y="344372"/>
                  </a:lnTo>
                  <a:lnTo>
                    <a:pt x="282876" y="348605"/>
                  </a:lnTo>
                  <a:lnTo>
                    <a:pt x="274582" y="352274"/>
                  </a:lnTo>
                  <a:lnTo>
                    <a:pt x="234929" y="368291"/>
                  </a:lnTo>
                  <a:lnTo>
                    <a:pt x="223144" y="372171"/>
                  </a:lnTo>
                  <a:lnTo>
                    <a:pt x="211054" y="375604"/>
                  </a:lnTo>
                  <a:lnTo>
                    <a:pt x="165277" y="387198"/>
                  </a:lnTo>
                  <a:lnTo>
                    <a:pt x="141998" y="392474"/>
                  </a:lnTo>
                  <a:lnTo>
                    <a:pt x="129863" y="395067"/>
                  </a:lnTo>
                  <a:lnTo>
                    <a:pt x="119233" y="396795"/>
                  </a:lnTo>
                  <a:lnTo>
                    <a:pt x="109606" y="397947"/>
                  </a:lnTo>
                  <a:lnTo>
                    <a:pt x="100649" y="398715"/>
                  </a:lnTo>
                  <a:lnTo>
                    <a:pt x="91290" y="399227"/>
                  </a:lnTo>
                  <a:lnTo>
                    <a:pt x="71861" y="399796"/>
                  </a:lnTo>
                  <a:lnTo>
                    <a:pt x="64478" y="399101"/>
                  </a:lnTo>
                  <a:lnTo>
                    <a:pt x="54018" y="396071"/>
                  </a:lnTo>
                  <a:lnTo>
                    <a:pt x="44288" y="391902"/>
                  </a:lnTo>
                  <a:lnTo>
                    <a:pt x="39323" y="389605"/>
                  </a:lnTo>
                  <a:lnTo>
                    <a:pt x="36860" y="386381"/>
                  </a:lnTo>
                  <a:lnTo>
                    <a:pt x="36064" y="382538"/>
                  </a:lnTo>
                  <a:lnTo>
                    <a:pt x="36732" y="371296"/>
                  </a:lnTo>
                  <a:lnTo>
                    <a:pt x="37013" y="3621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MARTInkAnnotation120"/>
            <p:cNvSpPr/>
            <p:nvPr/>
          </p:nvSpPr>
          <p:spPr>
            <a:xfrm>
              <a:off x="1691640" y="2125800"/>
              <a:ext cx="322920" cy="3045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23185" h="304616">
                  <a:moveTo>
                    <a:pt x="0" y="37955"/>
                  </a:moveTo>
                  <a:lnTo>
                    <a:pt x="0" y="116261"/>
                  </a:lnTo>
                  <a:lnTo>
                    <a:pt x="1693" y="118946"/>
                  </a:lnTo>
                  <a:lnTo>
                    <a:pt x="11320" y="126769"/>
                  </a:lnTo>
                  <a:lnTo>
                    <a:pt x="17167" y="131897"/>
                  </a:lnTo>
                  <a:lnTo>
                    <a:pt x="21605" y="132757"/>
                  </a:lnTo>
                  <a:lnTo>
                    <a:pt x="27103" y="132482"/>
                  </a:lnTo>
                  <a:lnTo>
                    <a:pt x="33309" y="131453"/>
                  </a:lnTo>
                  <a:lnTo>
                    <a:pt x="39139" y="130767"/>
                  </a:lnTo>
                  <a:lnTo>
                    <a:pt x="44720" y="130310"/>
                  </a:lnTo>
                  <a:lnTo>
                    <a:pt x="50133" y="130005"/>
                  </a:lnTo>
                  <a:lnTo>
                    <a:pt x="55435" y="128108"/>
                  </a:lnTo>
                  <a:lnTo>
                    <a:pt x="60663" y="125151"/>
                  </a:lnTo>
                  <a:lnTo>
                    <a:pt x="65842" y="121485"/>
                  </a:lnTo>
                  <a:lnTo>
                    <a:pt x="71835" y="118195"/>
                  </a:lnTo>
                  <a:lnTo>
                    <a:pt x="78370" y="115155"/>
                  </a:lnTo>
                  <a:lnTo>
                    <a:pt x="85266" y="112282"/>
                  </a:lnTo>
                  <a:lnTo>
                    <a:pt x="91558" y="107826"/>
                  </a:lnTo>
                  <a:lnTo>
                    <a:pt x="97445" y="102316"/>
                  </a:lnTo>
                  <a:lnTo>
                    <a:pt x="103063" y="96102"/>
                  </a:lnTo>
                  <a:lnTo>
                    <a:pt x="107656" y="90266"/>
                  </a:lnTo>
                  <a:lnTo>
                    <a:pt x="111564" y="84683"/>
                  </a:lnTo>
                  <a:lnTo>
                    <a:pt x="123367" y="66476"/>
                  </a:lnTo>
                  <a:lnTo>
                    <a:pt x="127965" y="59509"/>
                  </a:lnTo>
                  <a:lnTo>
                    <a:pt x="131877" y="53171"/>
                  </a:lnTo>
                  <a:lnTo>
                    <a:pt x="135331" y="47252"/>
                  </a:lnTo>
                  <a:lnTo>
                    <a:pt x="138481" y="41613"/>
                  </a:lnTo>
                  <a:lnTo>
                    <a:pt x="140581" y="36160"/>
                  </a:lnTo>
                  <a:lnTo>
                    <a:pt x="141980" y="30832"/>
                  </a:lnTo>
                  <a:lnTo>
                    <a:pt x="142914" y="25586"/>
                  </a:lnTo>
                  <a:lnTo>
                    <a:pt x="146208" y="17500"/>
                  </a:lnTo>
                  <a:lnTo>
                    <a:pt x="149648" y="11084"/>
                  </a:lnTo>
                  <a:lnTo>
                    <a:pt x="151856" y="2324"/>
                  </a:lnTo>
                  <a:lnTo>
                    <a:pt x="152038" y="1501"/>
                  </a:lnTo>
                  <a:lnTo>
                    <a:pt x="153005" y="953"/>
                  </a:lnTo>
                  <a:lnTo>
                    <a:pt x="158929" y="0"/>
                  </a:lnTo>
                  <a:lnTo>
                    <a:pt x="159293" y="798"/>
                  </a:lnTo>
                  <a:lnTo>
                    <a:pt x="159876" y="8163"/>
                  </a:lnTo>
                  <a:lnTo>
                    <a:pt x="159924" y="10474"/>
                  </a:lnTo>
                  <a:lnTo>
                    <a:pt x="162235" y="17557"/>
                  </a:lnTo>
                  <a:lnTo>
                    <a:pt x="164037" y="21816"/>
                  </a:lnTo>
                  <a:lnTo>
                    <a:pt x="170554" y="31065"/>
                  </a:lnTo>
                  <a:lnTo>
                    <a:pt x="174663" y="35902"/>
                  </a:lnTo>
                  <a:lnTo>
                    <a:pt x="179095" y="40819"/>
                  </a:lnTo>
                  <a:lnTo>
                    <a:pt x="188536" y="50799"/>
                  </a:lnTo>
                  <a:lnTo>
                    <a:pt x="193424" y="56678"/>
                  </a:lnTo>
                  <a:lnTo>
                    <a:pt x="198376" y="63137"/>
                  </a:lnTo>
                  <a:lnTo>
                    <a:pt x="203371" y="69983"/>
                  </a:lnTo>
                  <a:lnTo>
                    <a:pt x="209240" y="76241"/>
                  </a:lnTo>
                  <a:lnTo>
                    <a:pt x="215693" y="82105"/>
                  </a:lnTo>
                  <a:lnTo>
                    <a:pt x="222536" y="87708"/>
                  </a:lnTo>
                  <a:lnTo>
                    <a:pt x="228790" y="93984"/>
                  </a:lnTo>
                  <a:lnTo>
                    <a:pt x="234654" y="100708"/>
                  </a:lnTo>
                  <a:lnTo>
                    <a:pt x="240256" y="107731"/>
                  </a:lnTo>
                  <a:lnTo>
                    <a:pt x="246530" y="114952"/>
                  </a:lnTo>
                  <a:lnTo>
                    <a:pt x="253254" y="122306"/>
                  </a:lnTo>
                  <a:lnTo>
                    <a:pt x="260276" y="129749"/>
                  </a:lnTo>
                  <a:lnTo>
                    <a:pt x="266651" y="137251"/>
                  </a:lnTo>
                  <a:lnTo>
                    <a:pt x="272594" y="144792"/>
                  </a:lnTo>
                  <a:lnTo>
                    <a:pt x="278249" y="152360"/>
                  </a:lnTo>
                  <a:lnTo>
                    <a:pt x="289048" y="167542"/>
                  </a:lnTo>
                  <a:lnTo>
                    <a:pt x="309779" y="197984"/>
                  </a:lnTo>
                  <a:lnTo>
                    <a:pt x="313199" y="205601"/>
                  </a:lnTo>
                  <a:lnTo>
                    <a:pt x="315479" y="213219"/>
                  </a:lnTo>
                  <a:lnTo>
                    <a:pt x="317000" y="220838"/>
                  </a:lnTo>
                  <a:lnTo>
                    <a:pt x="318860" y="227610"/>
                  </a:lnTo>
                  <a:lnTo>
                    <a:pt x="320946" y="233818"/>
                  </a:lnTo>
                  <a:lnTo>
                    <a:pt x="323184" y="239651"/>
                  </a:lnTo>
                  <a:lnTo>
                    <a:pt x="322983" y="245232"/>
                  </a:lnTo>
                  <a:lnTo>
                    <a:pt x="321156" y="250646"/>
                  </a:lnTo>
                  <a:lnTo>
                    <a:pt x="315456" y="261178"/>
                  </a:lnTo>
                  <a:lnTo>
                    <a:pt x="310100" y="271503"/>
                  </a:lnTo>
                  <a:lnTo>
                    <a:pt x="305794" y="275780"/>
                  </a:lnTo>
                  <a:lnTo>
                    <a:pt x="300382" y="279478"/>
                  </a:lnTo>
                  <a:lnTo>
                    <a:pt x="294235" y="282791"/>
                  </a:lnTo>
                  <a:lnTo>
                    <a:pt x="287597" y="285845"/>
                  </a:lnTo>
                  <a:lnTo>
                    <a:pt x="280631" y="288729"/>
                  </a:lnTo>
                  <a:lnTo>
                    <a:pt x="273447" y="291497"/>
                  </a:lnTo>
                  <a:lnTo>
                    <a:pt x="258692" y="296832"/>
                  </a:lnTo>
                  <a:lnTo>
                    <a:pt x="251202" y="299440"/>
                  </a:lnTo>
                  <a:lnTo>
                    <a:pt x="243668" y="301178"/>
                  </a:lnTo>
                  <a:lnTo>
                    <a:pt x="236105" y="302337"/>
                  </a:lnTo>
                  <a:lnTo>
                    <a:pt x="228524" y="303110"/>
                  </a:lnTo>
                  <a:lnTo>
                    <a:pt x="220082" y="303625"/>
                  </a:lnTo>
                  <a:lnTo>
                    <a:pt x="201672" y="304197"/>
                  </a:lnTo>
                  <a:lnTo>
                    <a:pt x="150196" y="304615"/>
                  </a:lnTo>
                  <a:lnTo>
                    <a:pt x="143311" y="303782"/>
                  </a:lnTo>
                  <a:lnTo>
                    <a:pt x="136180" y="302379"/>
                  </a:lnTo>
                  <a:lnTo>
                    <a:pt x="128887" y="300598"/>
                  </a:lnTo>
                  <a:lnTo>
                    <a:pt x="123178" y="299410"/>
                  </a:lnTo>
                  <a:lnTo>
                    <a:pt x="114577" y="298091"/>
                  </a:lnTo>
                  <a:lnTo>
                    <a:pt x="111945" y="296892"/>
                  </a:lnTo>
                  <a:lnTo>
                    <a:pt x="110190" y="295246"/>
                  </a:lnTo>
                  <a:lnTo>
                    <a:pt x="109020" y="293303"/>
                  </a:lnTo>
                  <a:lnTo>
                    <a:pt x="107393" y="292007"/>
                  </a:lnTo>
                  <a:lnTo>
                    <a:pt x="105462" y="291143"/>
                  </a:lnTo>
                  <a:lnTo>
                    <a:pt x="99060" y="2894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MARTInkAnnotation121"/>
            <p:cNvSpPr/>
            <p:nvPr/>
          </p:nvSpPr>
          <p:spPr>
            <a:xfrm>
              <a:off x="1371600" y="1127160"/>
              <a:ext cx="601560" cy="39600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601953" h="396105">
                  <a:moveTo>
                    <a:pt x="15212" y="396104"/>
                  </a:moveTo>
                  <a:lnTo>
                    <a:pt x="8651" y="389543"/>
                  </a:lnTo>
                  <a:lnTo>
                    <a:pt x="8063" y="386697"/>
                  </a:lnTo>
                  <a:lnTo>
                    <a:pt x="7654" y="375549"/>
                  </a:lnTo>
                  <a:lnTo>
                    <a:pt x="7620" y="370600"/>
                  </a:lnTo>
                  <a:lnTo>
                    <a:pt x="6764" y="368094"/>
                  </a:lnTo>
                  <a:lnTo>
                    <a:pt x="3555" y="363053"/>
                  </a:lnTo>
                  <a:lnTo>
                    <a:pt x="1564" y="355733"/>
                  </a:lnTo>
                  <a:lnTo>
                    <a:pt x="444" y="344349"/>
                  </a:lnTo>
                  <a:lnTo>
                    <a:pt x="112" y="333356"/>
                  </a:lnTo>
                  <a:lnTo>
                    <a:pt x="0" y="314471"/>
                  </a:lnTo>
                  <a:lnTo>
                    <a:pt x="2242" y="304507"/>
                  </a:lnTo>
                  <a:lnTo>
                    <a:pt x="5214" y="293588"/>
                  </a:lnTo>
                  <a:lnTo>
                    <a:pt x="6007" y="287120"/>
                  </a:lnTo>
                  <a:lnTo>
                    <a:pt x="6535" y="280268"/>
                  </a:lnTo>
                  <a:lnTo>
                    <a:pt x="7122" y="268139"/>
                  </a:lnTo>
                  <a:lnTo>
                    <a:pt x="8230" y="256257"/>
                  </a:lnTo>
                  <a:lnTo>
                    <a:pt x="9710" y="249533"/>
                  </a:lnTo>
                  <a:lnTo>
                    <a:pt x="11544" y="242510"/>
                  </a:lnTo>
                  <a:lnTo>
                    <a:pt x="13613" y="235288"/>
                  </a:lnTo>
                  <a:lnTo>
                    <a:pt x="18170" y="220490"/>
                  </a:lnTo>
                  <a:lnTo>
                    <a:pt x="21418" y="213835"/>
                  </a:lnTo>
                  <a:lnTo>
                    <a:pt x="29541" y="201925"/>
                  </a:lnTo>
                  <a:lnTo>
                    <a:pt x="33232" y="195531"/>
                  </a:lnTo>
                  <a:lnTo>
                    <a:pt x="36538" y="188729"/>
                  </a:lnTo>
                  <a:lnTo>
                    <a:pt x="39590" y="181654"/>
                  </a:lnTo>
                  <a:lnTo>
                    <a:pt x="44164" y="174397"/>
                  </a:lnTo>
                  <a:lnTo>
                    <a:pt x="49753" y="167020"/>
                  </a:lnTo>
                  <a:lnTo>
                    <a:pt x="56019" y="159561"/>
                  </a:lnTo>
                  <a:lnTo>
                    <a:pt x="62737" y="152895"/>
                  </a:lnTo>
                  <a:lnTo>
                    <a:pt x="84327" y="134577"/>
                  </a:lnTo>
                  <a:lnTo>
                    <a:pt x="91768" y="127773"/>
                  </a:lnTo>
                  <a:lnTo>
                    <a:pt x="106810" y="113439"/>
                  </a:lnTo>
                  <a:lnTo>
                    <a:pt x="121962" y="98602"/>
                  </a:lnTo>
                  <a:lnTo>
                    <a:pt x="129559" y="91936"/>
                  </a:lnTo>
                  <a:lnTo>
                    <a:pt x="144773" y="80014"/>
                  </a:lnTo>
                  <a:lnTo>
                    <a:pt x="160001" y="69071"/>
                  </a:lnTo>
                  <a:lnTo>
                    <a:pt x="190474" y="48248"/>
                  </a:lnTo>
                  <a:lnTo>
                    <a:pt x="207971" y="38019"/>
                  </a:lnTo>
                  <a:lnTo>
                    <a:pt x="226189" y="28675"/>
                  </a:lnTo>
                  <a:lnTo>
                    <a:pt x="242753" y="21700"/>
                  </a:lnTo>
                  <a:lnTo>
                    <a:pt x="258581" y="15778"/>
                  </a:lnTo>
                  <a:lnTo>
                    <a:pt x="289439" y="5077"/>
                  </a:lnTo>
                  <a:lnTo>
                    <a:pt x="304731" y="2181"/>
                  </a:lnTo>
                  <a:lnTo>
                    <a:pt x="319994" y="894"/>
                  </a:lnTo>
                  <a:lnTo>
                    <a:pt x="335244" y="322"/>
                  </a:lnTo>
                  <a:lnTo>
                    <a:pt x="362155" y="0"/>
                  </a:lnTo>
                  <a:lnTo>
                    <a:pt x="379382" y="2182"/>
                  </a:lnTo>
                  <a:lnTo>
                    <a:pt x="395505" y="5128"/>
                  </a:lnTo>
                  <a:lnTo>
                    <a:pt x="411138" y="6437"/>
                  </a:lnTo>
                  <a:lnTo>
                    <a:pt x="426552" y="11534"/>
                  </a:lnTo>
                  <a:lnTo>
                    <a:pt x="441870" y="18597"/>
                  </a:lnTo>
                  <a:lnTo>
                    <a:pt x="457144" y="24559"/>
                  </a:lnTo>
                  <a:lnTo>
                    <a:pt x="470142" y="32289"/>
                  </a:lnTo>
                  <a:lnTo>
                    <a:pt x="482410" y="41368"/>
                  </a:lnTo>
                  <a:lnTo>
                    <a:pt x="496329" y="51048"/>
                  </a:lnTo>
                  <a:lnTo>
                    <a:pt x="508724" y="60995"/>
                  </a:lnTo>
                  <a:lnTo>
                    <a:pt x="519877" y="71060"/>
                  </a:lnTo>
                  <a:lnTo>
                    <a:pt x="530479" y="81178"/>
                  </a:lnTo>
                  <a:lnTo>
                    <a:pt x="545967" y="96394"/>
                  </a:lnTo>
                  <a:lnTo>
                    <a:pt x="550236" y="102317"/>
                  </a:lnTo>
                  <a:lnTo>
                    <a:pt x="553928" y="108806"/>
                  </a:lnTo>
                  <a:lnTo>
                    <a:pt x="573877" y="149411"/>
                  </a:lnTo>
                  <a:lnTo>
                    <a:pt x="576774" y="159745"/>
                  </a:lnTo>
                  <a:lnTo>
                    <a:pt x="578909" y="169982"/>
                  </a:lnTo>
                  <a:lnTo>
                    <a:pt x="582679" y="180177"/>
                  </a:lnTo>
                  <a:lnTo>
                    <a:pt x="587177" y="190352"/>
                  </a:lnTo>
                  <a:lnTo>
                    <a:pt x="591152" y="199672"/>
                  </a:lnTo>
                  <a:lnTo>
                    <a:pt x="594237" y="210526"/>
                  </a:lnTo>
                  <a:lnTo>
                    <a:pt x="597959" y="219363"/>
                  </a:lnTo>
                  <a:lnTo>
                    <a:pt x="600769" y="229813"/>
                  </a:lnTo>
                  <a:lnTo>
                    <a:pt x="601718" y="240929"/>
                  </a:lnTo>
                  <a:lnTo>
                    <a:pt x="601952" y="2513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MARTInkAnnotation122"/>
            <p:cNvSpPr/>
            <p:nvPr/>
          </p:nvSpPr>
          <p:spPr>
            <a:xfrm>
              <a:off x="1440000" y="1119240"/>
              <a:ext cx="1211400" cy="411480"/>
            </a:xfrm>
            <a:custGeom>
              <a:avLst/>
              <a:gdLst>
                <a:gd name="textAreaLeft" fmla="*/ 0 w 1211400"/>
                <a:gd name="textAreaRight" fmla="*/ 1211760 w 121140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211581" h="411451">
                  <a:moveTo>
                    <a:pt x="0" y="411450"/>
                  </a:moveTo>
                  <a:lnTo>
                    <a:pt x="0" y="351497"/>
                  </a:lnTo>
                  <a:lnTo>
                    <a:pt x="847" y="347775"/>
                  </a:lnTo>
                  <a:lnTo>
                    <a:pt x="6031" y="335717"/>
                  </a:lnTo>
                  <a:lnTo>
                    <a:pt x="7761" y="329531"/>
                  </a:lnTo>
                  <a:lnTo>
                    <a:pt x="13494" y="317375"/>
                  </a:lnTo>
                  <a:lnTo>
                    <a:pt x="20555" y="307188"/>
                  </a:lnTo>
                  <a:lnTo>
                    <a:pt x="28010" y="294668"/>
                  </a:lnTo>
                  <a:lnTo>
                    <a:pt x="35581" y="284373"/>
                  </a:lnTo>
                  <a:lnTo>
                    <a:pt x="43186" y="271821"/>
                  </a:lnTo>
                  <a:lnTo>
                    <a:pt x="51649" y="261517"/>
                  </a:lnTo>
                  <a:lnTo>
                    <a:pt x="59926" y="252809"/>
                  </a:lnTo>
                  <a:lnTo>
                    <a:pt x="66992" y="243294"/>
                  </a:lnTo>
                  <a:lnTo>
                    <a:pt x="73801" y="233421"/>
                  </a:lnTo>
                  <a:lnTo>
                    <a:pt x="82472" y="223388"/>
                  </a:lnTo>
                  <a:lnTo>
                    <a:pt x="89712" y="213285"/>
                  </a:lnTo>
                  <a:lnTo>
                    <a:pt x="92828" y="208220"/>
                  </a:lnTo>
                  <a:lnTo>
                    <a:pt x="100806" y="200334"/>
                  </a:lnTo>
                  <a:lnTo>
                    <a:pt x="114818" y="188877"/>
                  </a:lnTo>
                  <a:lnTo>
                    <a:pt x="125537" y="179602"/>
                  </a:lnTo>
                  <a:lnTo>
                    <a:pt x="138768" y="169836"/>
                  </a:lnTo>
                  <a:lnTo>
                    <a:pt x="150857" y="159850"/>
                  </a:lnTo>
                  <a:lnTo>
                    <a:pt x="161874" y="150615"/>
                  </a:lnTo>
                  <a:lnTo>
                    <a:pt x="178444" y="139808"/>
                  </a:lnTo>
                  <a:lnTo>
                    <a:pt x="191915" y="130983"/>
                  </a:lnTo>
                  <a:lnTo>
                    <a:pt x="204111" y="121416"/>
                  </a:lnTo>
                  <a:lnTo>
                    <a:pt x="216023" y="111519"/>
                  </a:lnTo>
                  <a:lnTo>
                    <a:pt x="229784" y="101476"/>
                  </a:lnTo>
                  <a:lnTo>
                    <a:pt x="247766" y="90347"/>
                  </a:lnTo>
                  <a:lnTo>
                    <a:pt x="270706" y="78155"/>
                  </a:lnTo>
                  <a:lnTo>
                    <a:pt x="307732" y="59488"/>
                  </a:lnTo>
                  <a:lnTo>
                    <a:pt x="341096" y="48447"/>
                  </a:lnTo>
                  <a:lnTo>
                    <a:pt x="403790" y="27919"/>
                  </a:lnTo>
                  <a:lnTo>
                    <a:pt x="439563" y="18598"/>
                  </a:lnTo>
                  <a:lnTo>
                    <a:pt x="471967" y="13622"/>
                  </a:lnTo>
                  <a:lnTo>
                    <a:pt x="495160" y="9377"/>
                  </a:lnTo>
                  <a:lnTo>
                    <a:pt x="529797" y="3898"/>
                  </a:lnTo>
                  <a:lnTo>
                    <a:pt x="563168" y="746"/>
                  </a:lnTo>
                  <a:lnTo>
                    <a:pt x="594220" y="123"/>
                  </a:lnTo>
                  <a:lnTo>
                    <a:pt x="628858" y="0"/>
                  </a:lnTo>
                  <a:lnTo>
                    <a:pt x="670086" y="6005"/>
                  </a:lnTo>
                  <a:lnTo>
                    <a:pt x="704992" y="11322"/>
                  </a:lnTo>
                  <a:lnTo>
                    <a:pt x="738416" y="15289"/>
                  </a:lnTo>
                  <a:lnTo>
                    <a:pt x="769477" y="23347"/>
                  </a:lnTo>
                  <a:lnTo>
                    <a:pt x="802465" y="34752"/>
                  </a:lnTo>
                  <a:lnTo>
                    <a:pt x="838512" y="41678"/>
                  </a:lnTo>
                  <a:lnTo>
                    <a:pt x="861152" y="52592"/>
                  </a:lnTo>
                  <a:lnTo>
                    <a:pt x="890712" y="65366"/>
                  </a:lnTo>
                  <a:lnTo>
                    <a:pt x="915992" y="76043"/>
                  </a:lnTo>
                  <a:lnTo>
                    <a:pt x="941149" y="86305"/>
                  </a:lnTo>
                  <a:lnTo>
                    <a:pt x="963272" y="101722"/>
                  </a:lnTo>
                  <a:lnTo>
                    <a:pt x="988965" y="113798"/>
                  </a:lnTo>
                  <a:lnTo>
                    <a:pt x="1000033" y="119987"/>
                  </a:lnTo>
                  <a:lnTo>
                    <a:pt x="1015785" y="132145"/>
                  </a:lnTo>
                  <a:lnTo>
                    <a:pt x="1036278" y="144267"/>
                  </a:lnTo>
                  <a:lnTo>
                    <a:pt x="1056632" y="154815"/>
                  </a:lnTo>
                  <a:lnTo>
                    <a:pt x="1071878" y="166547"/>
                  </a:lnTo>
                  <a:lnTo>
                    <a:pt x="1082039" y="175886"/>
                  </a:lnTo>
                  <a:lnTo>
                    <a:pt x="1098315" y="191635"/>
                  </a:lnTo>
                  <a:lnTo>
                    <a:pt x="1118353" y="205529"/>
                  </a:lnTo>
                  <a:lnTo>
                    <a:pt x="1129488" y="213277"/>
                  </a:lnTo>
                  <a:lnTo>
                    <a:pt x="1141254" y="220934"/>
                  </a:lnTo>
                  <a:lnTo>
                    <a:pt x="1155470" y="233648"/>
                  </a:lnTo>
                  <a:lnTo>
                    <a:pt x="1164099" y="241270"/>
                  </a:lnTo>
                  <a:lnTo>
                    <a:pt x="1172415" y="246350"/>
                  </a:lnTo>
                  <a:lnTo>
                    <a:pt x="1175310" y="248890"/>
                  </a:lnTo>
                  <a:lnTo>
                    <a:pt x="1177240" y="251430"/>
                  </a:lnTo>
                  <a:lnTo>
                    <a:pt x="1180232" y="256510"/>
                  </a:lnTo>
                  <a:lnTo>
                    <a:pt x="1184383" y="261590"/>
                  </a:lnTo>
                  <a:lnTo>
                    <a:pt x="1186675" y="263283"/>
                  </a:lnTo>
                  <a:lnTo>
                    <a:pt x="1193947" y="266513"/>
                  </a:lnTo>
                  <a:lnTo>
                    <a:pt x="1202474" y="273099"/>
                  </a:lnTo>
                  <a:lnTo>
                    <a:pt x="1202970" y="274343"/>
                  </a:lnTo>
                  <a:lnTo>
                    <a:pt x="1203520" y="277982"/>
                  </a:lnTo>
                  <a:lnTo>
                    <a:pt x="1204513" y="280138"/>
                  </a:lnTo>
                  <a:lnTo>
                    <a:pt x="1211580" y="2895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MARTInkAnnotation123"/>
            <p:cNvSpPr/>
            <p:nvPr/>
          </p:nvSpPr>
          <p:spPr>
            <a:xfrm>
              <a:off x="2072520" y="2178720"/>
              <a:ext cx="182520" cy="4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82881" h="4888">
                  <a:moveTo>
                    <a:pt x="0" y="0"/>
                  </a:moveTo>
                  <a:lnTo>
                    <a:pt x="4046" y="0"/>
                  </a:lnTo>
                  <a:lnTo>
                    <a:pt x="6084" y="847"/>
                  </a:lnTo>
                  <a:lnTo>
                    <a:pt x="8289" y="2258"/>
                  </a:lnTo>
                  <a:lnTo>
                    <a:pt x="10606" y="4046"/>
                  </a:lnTo>
                  <a:lnTo>
                    <a:pt x="12998" y="4390"/>
                  </a:lnTo>
                  <a:lnTo>
                    <a:pt x="15439" y="3773"/>
                  </a:lnTo>
                  <a:lnTo>
                    <a:pt x="17913" y="2516"/>
                  </a:lnTo>
                  <a:lnTo>
                    <a:pt x="21255" y="2524"/>
                  </a:lnTo>
                  <a:lnTo>
                    <a:pt x="25177" y="3376"/>
                  </a:lnTo>
                  <a:lnTo>
                    <a:pt x="29485" y="4791"/>
                  </a:lnTo>
                  <a:lnTo>
                    <a:pt x="35743" y="4887"/>
                  </a:lnTo>
                  <a:lnTo>
                    <a:pt x="43302" y="4105"/>
                  </a:lnTo>
                  <a:lnTo>
                    <a:pt x="51728" y="2737"/>
                  </a:lnTo>
                  <a:lnTo>
                    <a:pt x="59886" y="1825"/>
                  </a:lnTo>
                  <a:lnTo>
                    <a:pt x="67864" y="1216"/>
                  </a:lnTo>
                  <a:lnTo>
                    <a:pt x="75723" y="811"/>
                  </a:lnTo>
                  <a:lnTo>
                    <a:pt x="93486" y="361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MARTInkAnnotation124"/>
            <p:cNvSpPr/>
            <p:nvPr/>
          </p:nvSpPr>
          <p:spPr>
            <a:xfrm>
              <a:off x="2445840" y="207972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481" h="220981">
                  <a:moveTo>
                    <a:pt x="0" y="0"/>
                  </a:moveTo>
                  <a:lnTo>
                    <a:pt x="0" y="138259"/>
                  </a:lnTo>
                  <a:lnTo>
                    <a:pt x="847" y="145512"/>
                  </a:lnTo>
                  <a:lnTo>
                    <a:pt x="2258" y="152888"/>
                  </a:lnTo>
                  <a:lnTo>
                    <a:pt x="4046" y="160345"/>
                  </a:lnTo>
                  <a:lnTo>
                    <a:pt x="5237" y="167010"/>
                  </a:lnTo>
                  <a:lnTo>
                    <a:pt x="6031" y="173147"/>
                  </a:lnTo>
                  <a:lnTo>
                    <a:pt x="6561" y="178931"/>
                  </a:lnTo>
                  <a:lnTo>
                    <a:pt x="8607" y="184481"/>
                  </a:lnTo>
                  <a:lnTo>
                    <a:pt x="11665" y="189874"/>
                  </a:lnTo>
                  <a:lnTo>
                    <a:pt x="15397" y="195162"/>
                  </a:lnTo>
                  <a:lnTo>
                    <a:pt x="17884" y="199535"/>
                  </a:lnTo>
                  <a:lnTo>
                    <a:pt x="19543" y="203297"/>
                  </a:lnTo>
                  <a:lnTo>
                    <a:pt x="20649" y="206651"/>
                  </a:lnTo>
                  <a:lnTo>
                    <a:pt x="22232" y="209734"/>
                  </a:lnTo>
                  <a:lnTo>
                    <a:pt x="24135" y="212636"/>
                  </a:lnTo>
                  <a:lnTo>
                    <a:pt x="3048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MARTInkAnnotation125"/>
            <p:cNvSpPr/>
            <p:nvPr/>
          </p:nvSpPr>
          <p:spPr>
            <a:xfrm>
              <a:off x="2590560" y="2026440"/>
              <a:ext cx="327600" cy="25128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327661" h="251329">
                  <a:moveTo>
                    <a:pt x="0" y="53208"/>
                  </a:moveTo>
                  <a:lnTo>
                    <a:pt x="0" y="49163"/>
                  </a:lnTo>
                  <a:lnTo>
                    <a:pt x="847" y="47971"/>
                  </a:lnTo>
                  <a:lnTo>
                    <a:pt x="2258" y="47177"/>
                  </a:lnTo>
                  <a:lnTo>
                    <a:pt x="4045" y="46647"/>
                  </a:lnTo>
                  <a:lnTo>
                    <a:pt x="5237" y="45448"/>
                  </a:lnTo>
                  <a:lnTo>
                    <a:pt x="6031" y="43801"/>
                  </a:lnTo>
                  <a:lnTo>
                    <a:pt x="6561" y="41857"/>
                  </a:lnTo>
                  <a:lnTo>
                    <a:pt x="9407" y="37439"/>
                  </a:lnTo>
                  <a:lnTo>
                    <a:pt x="11352" y="35075"/>
                  </a:lnTo>
                  <a:lnTo>
                    <a:pt x="13494" y="33500"/>
                  </a:lnTo>
                  <a:lnTo>
                    <a:pt x="29550" y="26718"/>
                  </a:lnTo>
                  <a:lnTo>
                    <a:pt x="53552" y="14964"/>
                  </a:lnTo>
                  <a:lnTo>
                    <a:pt x="58561" y="12472"/>
                  </a:lnTo>
                  <a:lnTo>
                    <a:pt x="64441" y="9964"/>
                  </a:lnTo>
                  <a:lnTo>
                    <a:pt x="70901" y="7446"/>
                  </a:lnTo>
                  <a:lnTo>
                    <a:pt x="77747" y="4920"/>
                  </a:lnTo>
                  <a:lnTo>
                    <a:pt x="84005" y="3236"/>
                  </a:lnTo>
                  <a:lnTo>
                    <a:pt x="89870" y="2113"/>
                  </a:lnTo>
                  <a:lnTo>
                    <a:pt x="95473" y="1365"/>
                  </a:lnTo>
                  <a:lnTo>
                    <a:pt x="100902" y="866"/>
                  </a:lnTo>
                  <a:lnTo>
                    <a:pt x="106215" y="533"/>
                  </a:lnTo>
                  <a:lnTo>
                    <a:pt x="111450" y="312"/>
                  </a:lnTo>
                  <a:lnTo>
                    <a:pt x="124040" y="65"/>
                  </a:lnTo>
                  <a:lnTo>
                    <a:pt x="130954" y="0"/>
                  </a:lnTo>
                  <a:lnTo>
                    <a:pt x="137256" y="802"/>
                  </a:lnTo>
                  <a:lnTo>
                    <a:pt x="143151" y="2184"/>
                  </a:lnTo>
                  <a:lnTo>
                    <a:pt x="148774" y="3952"/>
                  </a:lnTo>
                  <a:lnTo>
                    <a:pt x="154216" y="5131"/>
                  </a:lnTo>
                  <a:lnTo>
                    <a:pt x="159537" y="5917"/>
                  </a:lnTo>
                  <a:lnTo>
                    <a:pt x="164778" y="6441"/>
                  </a:lnTo>
                  <a:lnTo>
                    <a:pt x="172859" y="9280"/>
                  </a:lnTo>
                  <a:lnTo>
                    <a:pt x="176200" y="11223"/>
                  </a:lnTo>
                  <a:lnTo>
                    <a:pt x="178426" y="14211"/>
                  </a:lnTo>
                  <a:lnTo>
                    <a:pt x="179911" y="17897"/>
                  </a:lnTo>
                  <a:lnTo>
                    <a:pt x="180901" y="22048"/>
                  </a:lnTo>
                  <a:lnTo>
                    <a:pt x="182407" y="26508"/>
                  </a:lnTo>
                  <a:lnTo>
                    <a:pt x="184258" y="31175"/>
                  </a:lnTo>
                  <a:lnTo>
                    <a:pt x="186339" y="35979"/>
                  </a:lnTo>
                  <a:lnTo>
                    <a:pt x="186879" y="40875"/>
                  </a:lnTo>
                  <a:lnTo>
                    <a:pt x="186393" y="45833"/>
                  </a:lnTo>
                  <a:lnTo>
                    <a:pt x="185222" y="50832"/>
                  </a:lnTo>
                  <a:lnTo>
                    <a:pt x="184441" y="56704"/>
                  </a:lnTo>
                  <a:lnTo>
                    <a:pt x="183921" y="63159"/>
                  </a:lnTo>
                  <a:lnTo>
                    <a:pt x="183574" y="70002"/>
                  </a:lnTo>
                  <a:lnTo>
                    <a:pt x="182496" y="76257"/>
                  </a:lnTo>
                  <a:lnTo>
                    <a:pt x="180931" y="82121"/>
                  </a:lnTo>
                  <a:lnTo>
                    <a:pt x="179041" y="87723"/>
                  </a:lnTo>
                  <a:lnTo>
                    <a:pt x="176087" y="93998"/>
                  </a:lnTo>
                  <a:lnTo>
                    <a:pt x="172425" y="100722"/>
                  </a:lnTo>
                  <a:lnTo>
                    <a:pt x="168290" y="107744"/>
                  </a:lnTo>
                  <a:lnTo>
                    <a:pt x="164687" y="114965"/>
                  </a:lnTo>
                  <a:lnTo>
                    <a:pt x="161438" y="122320"/>
                  </a:lnTo>
                  <a:lnTo>
                    <a:pt x="158425" y="129763"/>
                  </a:lnTo>
                  <a:lnTo>
                    <a:pt x="154724" y="136418"/>
                  </a:lnTo>
                  <a:lnTo>
                    <a:pt x="150563" y="142548"/>
                  </a:lnTo>
                  <a:lnTo>
                    <a:pt x="146095" y="148328"/>
                  </a:lnTo>
                  <a:lnTo>
                    <a:pt x="140576" y="153875"/>
                  </a:lnTo>
                  <a:lnTo>
                    <a:pt x="134358" y="159266"/>
                  </a:lnTo>
                  <a:lnTo>
                    <a:pt x="127672" y="164553"/>
                  </a:lnTo>
                  <a:lnTo>
                    <a:pt x="122368" y="170618"/>
                  </a:lnTo>
                  <a:lnTo>
                    <a:pt x="117985" y="177202"/>
                  </a:lnTo>
                  <a:lnTo>
                    <a:pt x="114217" y="184130"/>
                  </a:lnTo>
                  <a:lnTo>
                    <a:pt x="110011" y="190443"/>
                  </a:lnTo>
                  <a:lnTo>
                    <a:pt x="105514" y="196345"/>
                  </a:lnTo>
                  <a:lnTo>
                    <a:pt x="100823" y="201973"/>
                  </a:lnTo>
                  <a:lnTo>
                    <a:pt x="96849" y="206571"/>
                  </a:lnTo>
                  <a:lnTo>
                    <a:pt x="90175" y="213939"/>
                  </a:lnTo>
                  <a:lnTo>
                    <a:pt x="84387" y="220035"/>
                  </a:lnTo>
                  <a:lnTo>
                    <a:pt x="70119" y="234536"/>
                  </a:lnTo>
                  <a:lnTo>
                    <a:pt x="69605" y="235900"/>
                  </a:lnTo>
                  <a:lnTo>
                    <a:pt x="68715" y="242513"/>
                  </a:lnTo>
                  <a:lnTo>
                    <a:pt x="69517" y="242911"/>
                  </a:lnTo>
                  <a:lnTo>
                    <a:pt x="74691" y="243472"/>
                  </a:lnTo>
                  <a:lnTo>
                    <a:pt x="82432" y="243638"/>
                  </a:lnTo>
                  <a:lnTo>
                    <a:pt x="261323" y="243708"/>
                  </a:lnTo>
                  <a:lnTo>
                    <a:pt x="270735" y="244555"/>
                  </a:lnTo>
                  <a:lnTo>
                    <a:pt x="279551" y="245966"/>
                  </a:lnTo>
                  <a:lnTo>
                    <a:pt x="287967" y="247754"/>
                  </a:lnTo>
                  <a:lnTo>
                    <a:pt x="295271" y="248945"/>
                  </a:lnTo>
                  <a:lnTo>
                    <a:pt x="301834" y="249739"/>
                  </a:lnTo>
                  <a:lnTo>
                    <a:pt x="307903" y="250269"/>
                  </a:lnTo>
                  <a:lnTo>
                    <a:pt x="316904" y="250858"/>
                  </a:lnTo>
                  <a:lnTo>
                    <a:pt x="327660" y="2513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MARTInkAnnotation126"/>
            <p:cNvSpPr/>
            <p:nvPr/>
          </p:nvSpPr>
          <p:spPr>
            <a:xfrm>
              <a:off x="5569920" y="1020600"/>
              <a:ext cx="1760040" cy="479880"/>
            </a:xfrm>
            <a:custGeom>
              <a:avLst/>
              <a:gdLst>
                <a:gd name="textAreaLeft" fmla="*/ 0 w 1760040"/>
                <a:gd name="textAreaRight" fmla="*/ 1760400 w 176004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760214" h="479928">
                  <a:moveTo>
                    <a:pt x="1737361" y="441827"/>
                  </a:moveTo>
                  <a:lnTo>
                    <a:pt x="1751514" y="427674"/>
                  </a:lnTo>
                  <a:lnTo>
                    <a:pt x="1752118" y="424812"/>
                  </a:lnTo>
                  <a:lnTo>
                    <a:pt x="1752280" y="422864"/>
                  </a:lnTo>
                  <a:lnTo>
                    <a:pt x="1753235" y="420718"/>
                  </a:lnTo>
                  <a:lnTo>
                    <a:pt x="1757775" y="413653"/>
                  </a:lnTo>
                  <a:lnTo>
                    <a:pt x="1759134" y="408703"/>
                  </a:lnTo>
                  <a:lnTo>
                    <a:pt x="1759899" y="397111"/>
                  </a:lnTo>
                  <a:lnTo>
                    <a:pt x="1760158" y="384107"/>
                  </a:lnTo>
                  <a:lnTo>
                    <a:pt x="1760213" y="366754"/>
                  </a:lnTo>
                  <a:lnTo>
                    <a:pt x="1759369" y="362992"/>
                  </a:lnTo>
                  <a:lnTo>
                    <a:pt x="1751932" y="348612"/>
                  </a:lnTo>
                  <a:lnTo>
                    <a:pt x="1746377" y="339438"/>
                  </a:lnTo>
                  <a:lnTo>
                    <a:pt x="1733730" y="324754"/>
                  </a:lnTo>
                  <a:lnTo>
                    <a:pt x="1724176" y="314723"/>
                  </a:lnTo>
                  <a:lnTo>
                    <a:pt x="1714286" y="302363"/>
                  </a:lnTo>
                  <a:lnTo>
                    <a:pt x="1703399" y="289250"/>
                  </a:lnTo>
                  <a:lnTo>
                    <a:pt x="1675714" y="264776"/>
                  </a:lnTo>
                  <a:lnTo>
                    <a:pt x="1660008" y="251378"/>
                  </a:lnTo>
                  <a:lnTo>
                    <a:pt x="1641740" y="239779"/>
                  </a:lnTo>
                  <a:lnTo>
                    <a:pt x="1624591" y="226721"/>
                  </a:lnTo>
                  <a:lnTo>
                    <a:pt x="1607654" y="212451"/>
                  </a:lnTo>
                  <a:lnTo>
                    <a:pt x="1588838" y="197642"/>
                  </a:lnTo>
                  <a:lnTo>
                    <a:pt x="1566929" y="184852"/>
                  </a:lnTo>
                  <a:lnTo>
                    <a:pt x="1543080" y="172676"/>
                  </a:lnTo>
                  <a:lnTo>
                    <a:pt x="1518370" y="158798"/>
                  </a:lnTo>
                  <a:lnTo>
                    <a:pt x="1480658" y="136704"/>
                  </a:lnTo>
                  <a:lnTo>
                    <a:pt x="1453090" y="123901"/>
                  </a:lnTo>
                  <a:lnTo>
                    <a:pt x="1423905" y="111720"/>
                  </a:lnTo>
                  <a:lnTo>
                    <a:pt x="1394001" y="97840"/>
                  </a:lnTo>
                  <a:lnTo>
                    <a:pt x="1363777" y="85462"/>
                  </a:lnTo>
                  <a:lnTo>
                    <a:pt x="1332563" y="74316"/>
                  </a:lnTo>
                  <a:lnTo>
                    <a:pt x="1298936" y="63718"/>
                  </a:lnTo>
                  <a:lnTo>
                    <a:pt x="1246683" y="48231"/>
                  </a:lnTo>
                  <a:lnTo>
                    <a:pt x="1197710" y="36963"/>
                  </a:lnTo>
                  <a:lnTo>
                    <a:pt x="1146982" y="28262"/>
                  </a:lnTo>
                  <a:lnTo>
                    <a:pt x="988032" y="4959"/>
                  </a:lnTo>
                  <a:lnTo>
                    <a:pt x="934712" y="1376"/>
                  </a:lnTo>
                  <a:lnTo>
                    <a:pt x="885424" y="314"/>
                  </a:lnTo>
                  <a:lnTo>
                    <a:pt x="834601" y="0"/>
                  </a:lnTo>
                  <a:lnTo>
                    <a:pt x="782007" y="3952"/>
                  </a:lnTo>
                  <a:lnTo>
                    <a:pt x="717222" y="7635"/>
                  </a:lnTo>
                  <a:lnTo>
                    <a:pt x="669993" y="13364"/>
                  </a:lnTo>
                  <a:lnTo>
                    <a:pt x="620533" y="20423"/>
                  </a:lnTo>
                  <a:lnTo>
                    <a:pt x="577468" y="28724"/>
                  </a:lnTo>
                  <a:lnTo>
                    <a:pt x="533758" y="40685"/>
                  </a:lnTo>
                  <a:lnTo>
                    <a:pt x="480633" y="54998"/>
                  </a:lnTo>
                  <a:lnTo>
                    <a:pt x="444388" y="68978"/>
                  </a:lnTo>
                  <a:lnTo>
                    <a:pt x="412200" y="83844"/>
                  </a:lnTo>
                  <a:lnTo>
                    <a:pt x="370982" y="104038"/>
                  </a:lnTo>
                  <a:lnTo>
                    <a:pt x="350584" y="116439"/>
                  </a:lnTo>
                  <a:lnTo>
                    <a:pt x="313938" y="141051"/>
                  </a:lnTo>
                  <a:lnTo>
                    <a:pt x="297855" y="154055"/>
                  </a:lnTo>
                  <a:lnTo>
                    <a:pt x="282240" y="167455"/>
                  </a:lnTo>
                  <a:lnTo>
                    <a:pt x="266834" y="179055"/>
                  </a:lnTo>
                  <a:lnTo>
                    <a:pt x="251520" y="192113"/>
                  </a:lnTo>
                  <a:lnTo>
                    <a:pt x="236247" y="206383"/>
                  </a:lnTo>
                  <a:lnTo>
                    <a:pt x="205745" y="236240"/>
                  </a:lnTo>
                  <a:lnTo>
                    <a:pt x="175261" y="266597"/>
                  </a:lnTo>
                  <a:lnTo>
                    <a:pt x="168488" y="274207"/>
                  </a:lnTo>
                  <a:lnTo>
                    <a:pt x="162279" y="281821"/>
                  </a:lnTo>
                  <a:lnTo>
                    <a:pt x="150864" y="296206"/>
                  </a:lnTo>
                  <a:lnTo>
                    <a:pt x="140147" y="308245"/>
                  </a:lnTo>
                  <a:lnTo>
                    <a:pt x="129739" y="321497"/>
                  </a:lnTo>
                  <a:lnTo>
                    <a:pt x="118622" y="335854"/>
                  </a:lnTo>
                  <a:lnTo>
                    <a:pt x="105215" y="350701"/>
                  </a:lnTo>
                  <a:lnTo>
                    <a:pt x="95304" y="363509"/>
                  </a:lnTo>
                  <a:lnTo>
                    <a:pt x="91476" y="369295"/>
                  </a:lnTo>
                  <a:lnTo>
                    <a:pt x="80450" y="380240"/>
                  </a:lnTo>
                  <a:lnTo>
                    <a:pt x="68775" y="390748"/>
                  </a:lnTo>
                  <a:lnTo>
                    <a:pt x="56597" y="406185"/>
                  </a:lnTo>
                  <a:lnTo>
                    <a:pt x="47450" y="416391"/>
                  </a:lnTo>
                  <a:lnTo>
                    <a:pt x="39998" y="426571"/>
                  </a:lnTo>
                  <a:lnTo>
                    <a:pt x="33017" y="436740"/>
                  </a:lnTo>
                  <a:lnTo>
                    <a:pt x="20414" y="451138"/>
                  </a:lnTo>
                  <a:lnTo>
                    <a:pt x="8140" y="464018"/>
                  </a:lnTo>
                  <a:lnTo>
                    <a:pt x="5427" y="466781"/>
                  </a:lnTo>
                  <a:lnTo>
                    <a:pt x="3618" y="469470"/>
                  </a:lnTo>
                  <a:lnTo>
                    <a:pt x="0" y="4799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MARTInkAnnotation127"/>
            <p:cNvSpPr/>
            <p:nvPr/>
          </p:nvSpPr>
          <p:spPr>
            <a:xfrm>
              <a:off x="6453720" y="1195560"/>
              <a:ext cx="776880" cy="320040"/>
            </a:xfrm>
            <a:custGeom>
              <a:avLst/>
              <a:gdLst>
                <a:gd name="textAreaLeft" fmla="*/ 0 w 776880"/>
                <a:gd name="textAreaRight" fmla="*/ 777240 w 7768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7240" h="320028">
                  <a:moveTo>
                    <a:pt x="777239" y="320027"/>
                  </a:moveTo>
                  <a:lnTo>
                    <a:pt x="777239" y="302115"/>
                  </a:lnTo>
                  <a:lnTo>
                    <a:pt x="774981" y="294850"/>
                  </a:lnTo>
                  <a:lnTo>
                    <a:pt x="772002" y="285978"/>
                  </a:lnTo>
                  <a:lnTo>
                    <a:pt x="770678" y="276390"/>
                  </a:lnTo>
                  <a:lnTo>
                    <a:pt x="767832" y="266484"/>
                  </a:lnTo>
                  <a:lnTo>
                    <a:pt x="763745" y="257283"/>
                  </a:lnTo>
                  <a:lnTo>
                    <a:pt x="759106" y="250372"/>
                  </a:lnTo>
                  <a:lnTo>
                    <a:pt x="756684" y="245650"/>
                  </a:lnTo>
                  <a:lnTo>
                    <a:pt x="754222" y="239963"/>
                  </a:lnTo>
                  <a:lnTo>
                    <a:pt x="751735" y="233631"/>
                  </a:lnTo>
                  <a:lnTo>
                    <a:pt x="749229" y="227716"/>
                  </a:lnTo>
                  <a:lnTo>
                    <a:pt x="744188" y="216629"/>
                  </a:lnTo>
                  <a:lnTo>
                    <a:pt x="740811" y="211302"/>
                  </a:lnTo>
                  <a:lnTo>
                    <a:pt x="736867" y="206057"/>
                  </a:lnTo>
                  <a:lnTo>
                    <a:pt x="732545" y="200867"/>
                  </a:lnTo>
                  <a:lnTo>
                    <a:pt x="727969" y="194867"/>
                  </a:lnTo>
                  <a:lnTo>
                    <a:pt x="723226" y="188327"/>
                  </a:lnTo>
                  <a:lnTo>
                    <a:pt x="718370" y="181427"/>
                  </a:lnTo>
                  <a:lnTo>
                    <a:pt x="713440" y="175134"/>
                  </a:lnTo>
                  <a:lnTo>
                    <a:pt x="708460" y="169245"/>
                  </a:lnTo>
                  <a:lnTo>
                    <a:pt x="703446" y="163626"/>
                  </a:lnTo>
                  <a:lnTo>
                    <a:pt x="693361" y="152866"/>
                  </a:lnTo>
                  <a:lnTo>
                    <a:pt x="669042" y="128117"/>
                  </a:lnTo>
                  <a:lnTo>
                    <a:pt x="661928" y="121813"/>
                  </a:lnTo>
                  <a:lnTo>
                    <a:pt x="654646" y="115918"/>
                  </a:lnTo>
                  <a:lnTo>
                    <a:pt x="647250" y="110294"/>
                  </a:lnTo>
                  <a:lnTo>
                    <a:pt x="632260" y="99530"/>
                  </a:lnTo>
                  <a:lnTo>
                    <a:pt x="601940" y="78823"/>
                  </a:lnTo>
                  <a:lnTo>
                    <a:pt x="593487" y="73711"/>
                  </a:lnTo>
                  <a:lnTo>
                    <a:pt x="584464" y="68610"/>
                  </a:lnTo>
                  <a:lnTo>
                    <a:pt x="575063" y="63515"/>
                  </a:lnTo>
                  <a:lnTo>
                    <a:pt x="566255" y="58426"/>
                  </a:lnTo>
                  <a:lnTo>
                    <a:pt x="549695" y="48255"/>
                  </a:lnTo>
                  <a:lnTo>
                    <a:pt x="531611" y="40349"/>
                  </a:lnTo>
                  <a:lnTo>
                    <a:pt x="513131" y="33166"/>
                  </a:lnTo>
                  <a:lnTo>
                    <a:pt x="496452" y="24329"/>
                  </a:lnTo>
                  <a:lnTo>
                    <a:pt x="478314" y="17015"/>
                  </a:lnTo>
                  <a:lnTo>
                    <a:pt x="443119" y="5420"/>
                  </a:lnTo>
                  <a:lnTo>
                    <a:pt x="424977" y="2402"/>
                  </a:lnTo>
                  <a:lnTo>
                    <a:pt x="406472" y="1060"/>
                  </a:lnTo>
                  <a:lnTo>
                    <a:pt x="389780" y="464"/>
                  </a:lnTo>
                  <a:lnTo>
                    <a:pt x="352285" y="81"/>
                  </a:lnTo>
                  <a:lnTo>
                    <a:pt x="306203" y="0"/>
                  </a:lnTo>
                  <a:lnTo>
                    <a:pt x="282355" y="4036"/>
                  </a:lnTo>
                  <a:lnTo>
                    <a:pt x="259202" y="10594"/>
                  </a:lnTo>
                  <a:lnTo>
                    <a:pt x="243894" y="17684"/>
                  </a:lnTo>
                  <a:lnTo>
                    <a:pt x="228623" y="25632"/>
                  </a:lnTo>
                  <a:lnTo>
                    <a:pt x="213371" y="31987"/>
                  </a:lnTo>
                  <a:lnTo>
                    <a:pt x="198124" y="39892"/>
                  </a:lnTo>
                  <a:lnTo>
                    <a:pt x="182882" y="49049"/>
                  </a:lnTo>
                  <a:lnTo>
                    <a:pt x="167640" y="58764"/>
                  </a:lnTo>
                  <a:lnTo>
                    <a:pt x="160020" y="64571"/>
                  </a:lnTo>
                  <a:lnTo>
                    <a:pt x="152400" y="70983"/>
                  </a:lnTo>
                  <a:lnTo>
                    <a:pt x="144780" y="77798"/>
                  </a:lnTo>
                  <a:lnTo>
                    <a:pt x="131797" y="89885"/>
                  </a:lnTo>
                  <a:lnTo>
                    <a:pt x="125964" y="95479"/>
                  </a:lnTo>
                  <a:lnTo>
                    <a:pt x="120383" y="101749"/>
                  </a:lnTo>
                  <a:lnTo>
                    <a:pt x="114969" y="108468"/>
                  </a:lnTo>
                  <a:lnTo>
                    <a:pt x="109665" y="115488"/>
                  </a:lnTo>
                  <a:lnTo>
                    <a:pt x="104437" y="121861"/>
                  </a:lnTo>
                  <a:lnTo>
                    <a:pt x="99258" y="127803"/>
                  </a:lnTo>
                  <a:lnTo>
                    <a:pt x="94112" y="133458"/>
                  </a:lnTo>
                  <a:lnTo>
                    <a:pt x="88988" y="139767"/>
                  </a:lnTo>
                  <a:lnTo>
                    <a:pt x="83878" y="146514"/>
                  </a:lnTo>
                  <a:lnTo>
                    <a:pt x="78778" y="153552"/>
                  </a:lnTo>
                  <a:lnTo>
                    <a:pt x="74532" y="160784"/>
                  </a:lnTo>
                  <a:lnTo>
                    <a:pt x="70855" y="168145"/>
                  </a:lnTo>
                  <a:lnTo>
                    <a:pt x="67556" y="175592"/>
                  </a:lnTo>
                  <a:lnTo>
                    <a:pt x="63664" y="182250"/>
                  </a:lnTo>
                  <a:lnTo>
                    <a:pt x="59377" y="188383"/>
                  </a:lnTo>
                  <a:lnTo>
                    <a:pt x="54824" y="194164"/>
                  </a:lnTo>
                  <a:lnTo>
                    <a:pt x="50943" y="200558"/>
                  </a:lnTo>
                  <a:lnTo>
                    <a:pt x="47507" y="207361"/>
                  </a:lnTo>
                  <a:lnTo>
                    <a:pt x="41434" y="220847"/>
                  </a:lnTo>
                  <a:lnTo>
                    <a:pt x="35913" y="232485"/>
                  </a:lnTo>
                  <a:lnTo>
                    <a:pt x="33255" y="238805"/>
                  </a:lnTo>
                  <a:lnTo>
                    <a:pt x="30637" y="245559"/>
                  </a:lnTo>
                  <a:lnTo>
                    <a:pt x="28044" y="252602"/>
                  </a:lnTo>
                  <a:lnTo>
                    <a:pt x="25469" y="258990"/>
                  </a:lnTo>
                  <a:lnTo>
                    <a:pt x="22906" y="264943"/>
                  </a:lnTo>
                  <a:lnTo>
                    <a:pt x="20350" y="270604"/>
                  </a:lnTo>
                  <a:lnTo>
                    <a:pt x="15254" y="279152"/>
                  </a:lnTo>
                  <a:lnTo>
                    <a:pt x="12709" y="282617"/>
                  </a:lnTo>
                  <a:lnTo>
                    <a:pt x="9882" y="290983"/>
                  </a:lnTo>
                  <a:lnTo>
                    <a:pt x="9128" y="295584"/>
                  </a:lnTo>
                  <a:lnTo>
                    <a:pt x="6033" y="302955"/>
                  </a:lnTo>
                  <a:lnTo>
                    <a:pt x="0" y="3124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MARTInkAnnotation128"/>
            <p:cNvSpPr/>
            <p:nvPr/>
          </p:nvSpPr>
          <p:spPr>
            <a:xfrm>
              <a:off x="4800240" y="2094840"/>
              <a:ext cx="297000" cy="151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7181" h="15233">
                  <a:moveTo>
                    <a:pt x="0" y="7620"/>
                  </a:moveTo>
                  <a:lnTo>
                    <a:pt x="4045" y="7620"/>
                  </a:lnTo>
                  <a:lnTo>
                    <a:pt x="5237" y="8467"/>
                  </a:lnTo>
                  <a:lnTo>
                    <a:pt x="6032" y="9878"/>
                  </a:lnTo>
                  <a:lnTo>
                    <a:pt x="6561" y="11665"/>
                  </a:lnTo>
                  <a:lnTo>
                    <a:pt x="7760" y="12857"/>
                  </a:lnTo>
                  <a:lnTo>
                    <a:pt x="9408" y="13651"/>
                  </a:lnTo>
                  <a:lnTo>
                    <a:pt x="11352" y="14181"/>
                  </a:lnTo>
                  <a:lnTo>
                    <a:pt x="14341" y="14534"/>
                  </a:lnTo>
                  <a:lnTo>
                    <a:pt x="22178" y="14926"/>
                  </a:lnTo>
                  <a:lnTo>
                    <a:pt x="40156" y="15147"/>
                  </a:lnTo>
                  <a:lnTo>
                    <a:pt x="90562" y="15232"/>
                  </a:lnTo>
                  <a:lnTo>
                    <a:pt x="100168" y="14388"/>
                  </a:lnTo>
                  <a:lnTo>
                    <a:pt x="110805" y="12978"/>
                  </a:lnTo>
                  <a:lnTo>
                    <a:pt x="122130" y="11192"/>
                  </a:lnTo>
                  <a:lnTo>
                    <a:pt x="133067" y="10002"/>
                  </a:lnTo>
                  <a:lnTo>
                    <a:pt x="143744" y="9208"/>
                  </a:lnTo>
                  <a:lnTo>
                    <a:pt x="154250" y="8679"/>
                  </a:lnTo>
                  <a:lnTo>
                    <a:pt x="177211" y="8090"/>
                  </a:lnTo>
                  <a:lnTo>
                    <a:pt x="189261" y="7934"/>
                  </a:lnTo>
                  <a:lnTo>
                    <a:pt x="200680" y="6982"/>
                  </a:lnTo>
                  <a:lnTo>
                    <a:pt x="211680" y="5502"/>
                  </a:lnTo>
                  <a:lnTo>
                    <a:pt x="222400" y="3668"/>
                  </a:lnTo>
                  <a:lnTo>
                    <a:pt x="232933" y="2445"/>
                  </a:lnTo>
                  <a:lnTo>
                    <a:pt x="243342" y="1630"/>
                  </a:lnTo>
                  <a:lnTo>
                    <a:pt x="253668" y="1087"/>
                  </a:lnTo>
                  <a:lnTo>
                    <a:pt x="271914" y="483"/>
                  </a:lnTo>
                  <a:lnTo>
                    <a:pt x="297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MARTInkAnnotation129"/>
            <p:cNvSpPr/>
            <p:nvPr/>
          </p:nvSpPr>
          <p:spPr>
            <a:xfrm>
              <a:off x="5175360" y="1957680"/>
              <a:ext cx="211680" cy="25740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1728" h="257402">
                  <a:moveTo>
                    <a:pt x="89806" y="0"/>
                  </a:moveTo>
                  <a:lnTo>
                    <a:pt x="85761" y="4045"/>
                  </a:lnTo>
                  <a:lnTo>
                    <a:pt x="84570" y="6084"/>
                  </a:lnTo>
                  <a:lnTo>
                    <a:pt x="83245" y="10606"/>
                  </a:lnTo>
                  <a:lnTo>
                    <a:pt x="81199" y="12998"/>
                  </a:lnTo>
                  <a:lnTo>
                    <a:pt x="78141" y="15438"/>
                  </a:lnTo>
                  <a:lnTo>
                    <a:pt x="74409" y="17912"/>
                  </a:lnTo>
                  <a:lnTo>
                    <a:pt x="71075" y="22102"/>
                  </a:lnTo>
                  <a:lnTo>
                    <a:pt x="68005" y="27434"/>
                  </a:lnTo>
                  <a:lnTo>
                    <a:pt x="65112" y="33530"/>
                  </a:lnTo>
                  <a:lnTo>
                    <a:pt x="61490" y="40133"/>
                  </a:lnTo>
                  <a:lnTo>
                    <a:pt x="57382" y="47075"/>
                  </a:lnTo>
                  <a:lnTo>
                    <a:pt x="52950" y="54244"/>
                  </a:lnTo>
                  <a:lnTo>
                    <a:pt x="48302" y="62409"/>
                  </a:lnTo>
                  <a:lnTo>
                    <a:pt x="38622" y="80513"/>
                  </a:lnTo>
                  <a:lnTo>
                    <a:pt x="33670" y="89235"/>
                  </a:lnTo>
                  <a:lnTo>
                    <a:pt x="28676" y="97590"/>
                  </a:lnTo>
                  <a:lnTo>
                    <a:pt x="23653" y="105700"/>
                  </a:lnTo>
                  <a:lnTo>
                    <a:pt x="19457" y="114494"/>
                  </a:lnTo>
                  <a:lnTo>
                    <a:pt x="15813" y="123742"/>
                  </a:lnTo>
                  <a:lnTo>
                    <a:pt x="12538" y="133295"/>
                  </a:lnTo>
                  <a:lnTo>
                    <a:pt x="9507" y="143050"/>
                  </a:lnTo>
                  <a:lnTo>
                    <a:pt x="3882" y="162920"/>
                  </a:lnTo>
                  <a:lnTo>
                    <a:pt x="2044" y="172113"/>
                  </a:lnTo>
                  <a:lnTo>
                    <a:pt x="818" y="180783"/>
                  </a:lnTo>
                  <a:lnTo>
                    <a:pt x="0" y="189102"/>
                  </a:lnTo>
                  <a:lnTo>
                    <a:pt x="302" y="197188"/>
                  </a:lnTo>
                  <a:lnTo>
                    <a:pt x="1350" y="205119"/>
                  </a:lnTo>
                  <a:lnTo>
                    <a:pt x="2896" y="212946"/>
                  </a:lnTo>
                  <a:lnTo>
                    <a:pt x="4772" y="219857"/>
                  </a:lnTo>
                  <a:lnTo>
                    <a:pt x="6870" y="226158"/>
                  </a:lnTo>
                  <a:lnTo>
                    <a:pt x="9116" y="232052"/>
                  </a:lnTo>
                  <a:lnTo>
                    <a:pt x="13153" y="236828"/>
                  </a:lnTo>
                  <a:lnTo>
                    <a:pt x="18383" y="240859"/>
                  </a:lnTo>
                  <a:lnTo>
                    <a:pt x="24411" y="244393"/>
                  </a:lnTo>
                  <a:lnTo>
                    <a:pt x="30969" y="247595"/>
                  </a:lnTo>
                  <a:lnTo>
                    <a:pt x="37882" y="250577"/>
                  </a:lnTo>
                  <a:lnTo>
                    <a:pt x="45030" y="253411"/>
                  </a:lnTo>
                  <a:lnTo>
                    <a:pt x="53182" y="255301"/>
                  </a:lnTo>
                  <a:lnTo>
                    <a:pt x="62004" y="256561"/>
                  </a:lnTo>
                  <a:lnTo>
                    <a:pt x="71271" y="257401"/>
                  </a:lnTo>
                  <a:lnTo>
                    <a:pt x="79990" y="257114"/>
                  </a:lnTo>
                  <a:lnTo>
                    <a:pt x="88342" y="256076"/>
                  </a:lnTo>
                  <a:lnTo>
                    <a:pt x="96450" y="254538"/>
                  </a:lnTo>
                  <a:lnTo>
                    <a:pt x="105242" y="253512"/>
                  </a:lnTo>
                  <a:lnTo>
                    <a:pt x="114491" y="252828"/>
                  </a:lnTo>
                  <a:lnTo>
                    <a:pt x="124042" y="252372"/>
                  </a:lnTo>
                  <a:lnTo>
                    <a:pt x="132104" y="250375"/>
                  </a:lnTo>
                  <a:lnTo>
                    <a:pt x="139171" y="247350"/>
                  </a:lnTo>
                  <a:lnTo>
                    <a:pt x="145576" y="243640"/>
                  </a:lnTo>
                  <a:lnTo>
                    <a:pt x="152386" y="239474"/>
                  </a:lnTo>
                  <a:lnTo>
                    <a:pt x="166727" y="230328"/>
                  </a:lnTo>
                  <a:lnTo>
                    <a:pt x="173260" y="225519"/>
                  </a:lnTo>
                  <a:lnTo>
                    <a:pt x="179309" y="220619"/>
                  </a:lnTo>
                  <a:lnTo>
                    <a:pt x="185034" y="215660"/>
                  </a:lnTo>
                  <a:lnTo>
                    <a:pt x="188852" y="210660"/>
                  </a:lnTo>
                  <a:lnTo>
                    <a:pt x="191397" y="205633"/>
                  </a:lnTo>
                  <a:lnTo>
                    <a:pt x="193094" y="200589"/>
                  </a:lnTo>
                  <a:lnTo>
                    <a:pt x="194225" y="195533"/>
                  </a:lnTo>
                  <a:lnTo>
                    <a:pt x="194978" y="190469"/>
                  </a:lnTo>
                  <a:lnTo>
                    <a:pt x="195481" y="185399"/>
                  </a:lnTo>
                  <a:lnTo>
                    <a:pt x="196040" y="177509"/>
                  </a:lnTo>
                  <a:lnTo>
                    <a:pt x="196188" y="174219"/>
                  </a:lnTo>
                  <a:lnTo>
                    <a:pt x="195441" y="172026"/>
                  </a:lnTo>
                  <a:lnTo>
                    <a:pt x="194095" y="170564"/>
                  </a:lnTo>
                  <a:lnTo>
                    <a:pt x="192353" y="169589"/>
                  </a:lnTo>
                  <a:lnTo>
                    <a:pt x="185900" y="168507"/>
                  </a:lnTo>
                  <a:lnTo>
                    <a:pt x="181809" y="168218"/>
                  </a:lnTo>
                  <a:lnTo>
                    <a:pt x="177388" y="168025"/>
                  </a:lnTo>
                  <a:lnTo>
                    <a:pt x="167960" y="167811"/>
                  </a:lnTo>
                  <a:lnTo>
                    <a:pt x="163076" y="168601"/>
                  </a:lnTo>
                  <a:lnTo>
                    <a:pt x="158126" y="169974"/>
                  </a:lnTo>
                  <a:lnTo>
                    <a:pt x="153133" y="171736"/>
                  </a:lnTo>
                  <a:lnTo>
                    <a:pt x="148110" y="173758"/>
                  </a:lnTo>
                  <a:lnTo>
                    <a:pt x="143069" y="175952"/>
                  </a:lnTo>
                  <a:lnTo>
                    <a:pt x="138015" y="178261"/>
                  </a:lnTo>
                  <a:lnTo>
                    <a:pt x="132952" y="181494"/>
                  </a:lnTo>
                  <a:lnTo>
                    <a:pt x="127884" y="185343"/>
                  </a:lnTo>
                  <a:lnTo>
                    <a:pt x="122811" y="189602"/>
                  </a:lnTo>
                  <a:lnTo>
                    <a:pt x="118583" y="194135"/>
                  </a:lnTo>
                  <a:lnTo>
                    <a:pt x="114917" y="198850"/>
                  </a:lnTo>
                  <a:lnTo>
                    <a:pt x="111627" y="203687"/>
                  </a:lnTo>
                  <a:lnTo>
                    <a:pt x="109434" y="208604"/>
                  </a:lnTo>
                  <a:lnTo>
                    <a:pt x="107971" y="213576"/>
                  </a:lnTo>
                  <a:lnTo>
                    <a:pt x="106997" y="218584"/>
                  </a:lnTo>
                  <a:lnTo>
                    <a:pt x="107193" y="222770"/>
                  </a:lnTo>
                  <a:lnTo>
                    <a:pt x="108170" y="226406"/>
                  </a:lnTo>
                  <a:lnTo>
                    <a:pt x="111515" y="232705"/>
                  </a:lnTo>
                  <a:lnTo>
                    <a:pt x="115823" y="238327"/>
                  </a:lnTo>
                  <a:lnTo>
                    <a:pt x="119851" y="241011"/>
                  </a:lnTo>
                  <a:lnTo>
                    <a:pt x="125076" y="243648"/>
                  </a:lnTo>
                  <a:lnTo>
                    <a:pt x="131099" y="246252"/>
                  </a:lnTo>
                  <a:lnTo>
                    <a:pt x="137655" y="247988"/>
                  </a:lnTo>
                  <a:lnTo>
                    <a:pt x="144566" y="249145"/>
                  </a:lnTo>
                  <a:lnTo>
                    <a:pt x="151712" y="249917"/>
                  </a:lnTo>
                  <a:lnTo>
                    <a:pt x="159864" y="250431"/>
                  </a:lnTo>
                  <a:lnTo>
                    <a:pt x="168685" y="250774"/>
                  </a:lnTo>
                  <a:lnTo>
                    <a:pt x="211727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MARTInkAnnotation130"/>
            <p:cNvSpPr/>
            <p:nvPr/>
          </p:nvSpPr>
          <p:spPr>
            <a:xfrm>
              <a:off x="5470920" y="2094840"/>
              <a:ext cx="327600" cy="15984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27661" h="160021">
                  <a:moveTo>
                    <a:pt x="0" y="0"/>
                  </a:moveTo>
                  <a:lnTo>
                    <a:pt x="7306" y="0"/>
                  </a:lnTo>
                  <a:lnTo>
                    <a:pt x="7527" y="4045"/>
                  </a:lnTo>
                  <a:lnTo>
                    <a:pt x="8405" y="6083"/>
                  </a:lnTo>
                  <a:lnTo>
                    <a:pt x="11637" y="10606"/>
                  </a:lnTo>
                  <a:lnTo>
                    <a:pt x="15897" y="15438"/>
                  </a:lnTo>
                  <a:lnTo>
                    <a:pt x="18217" y="17912"/>
                  </a:lnTo>
                  <a:lnTo>
                    <a:pt x="19765" y="20408"/>
                  </a:lnTo>
                  <a:lnTo>
                    <a:pt x="20797" y="22919"/>
                  </a:lnTo>
                  <a:lnTo>
                    <a:pt x="21484" y="25439"/>
                  </a:lnTo>
                  <a:lnTo>
                    <a:pt x="21943" y="28813"/>
                  </a:lnTo>
                  <a:lnTo>
                    <a:pt x="22248" y="32755"/>
                  </a:lnTo>
                  <a:lnTo>
                    <a:pt x="22452" y="37077"/>
                  </a:lnTo>
                  <a:lnTo>
                    <a:pt x="22679" y="46394"/>
                  </a:lnTo>
                  <a:lnTo>
                    <a:pt x="22860" y="118305"/>
                  </a:lnTo>
                  <a:lnTo>
                    <a:pt x="22860" y="114995"/>
                  </a:lnTo>
                  <a:lnTo>
                    <a:pt x="26904" y="110461"/>
                  </a:lnTo>
                  <a:lnTo>
                    <a:pt x="28943" y="107507"/>
                  </a:lnTo>
                  <a:lnTo>
                    <a:pt x="31149" y="103845"/>
                  </a:lnTo>
                  <a:lnTo>
                    <a:pt x="33466" y="99710"/>
                  </a:lnTo>
                  <a:lnTo>
                    <a:pt x="38298" y="90600"/>
                  </a:lnTo>
                  <a:lnTo>
                    <a:pt x="48298" y="70954"/>
                  </a:lnTo>
                  <a:lnTo>
                    <a:pt x="51673" y="65930"/>
                  </a:lnTo>
                  <a:lnTo>
                    <a:pt x="55615" y="60886"/>
                  </a:lnTo>
                  <a:lnTo>
                    <a:pt x="59937" y="55831"/>
                  </a:lnTo>
                  <a:lnTo>
                    <a:pt x="64511" y="50767"/>
                  </a:lnTo>
                  <a:lnTo>
                    <a:pt x="74110" y="40625"/>
                  </a:lnTo>
                  <a:lnTo>
                    <a:pt x="79040" y="36397"/>
                  </a:lnTo>
                  <a:lnTo>
                    <a:pt x="84020" y="32731"/>
                  </a:lnTo>
                  <a:lnTo>
                    <a:pt x="89033" y="29441"/>
                  </a:lnTo>
                  <a:lnTo>
                    <a:pt x="93222" y="26401"/>
                  </a:lnTo>
                  <a:lnTo>
                    <a:pt x="96862" y="23527"/>
                  </a:lnTo>
                  <a:lnTo>
                    <a:pt x="100135" y="20765"/>
                  </a:lnTo>
                  <a:lnTo>
                    <a:pt x="106029" y="17695"/>
                  </a:lnTo>
                  <a:lnTo>
                    <a:pt x="112317" y="16331"/>
                  </a:lnTo>
                  <a:lnTo>
                    <a:pt x="120757" y="15725"/>
                  </a:lnTo>
                  <a:lnTo>
                    <a:pt x="124531" y="16410"/>
                  </a:lnTo>
                  <a:lnTo>
                    <a:pt x="130983" y="19429"/>
                  </a:lnTo>
                  <a:lnTo>
                    <a:pt x="133042" y="21419"/>
                  </a:lnTo>
                  <a:lnTo>
                    <a:pt x="134415" y="23593"/>
                  </a:lnTo>
                  <a:lnTo>
                    <a:pt x="135330" y="25888"/>
                  </a:lnTo>
                  <a:lnTo>
                    <a:pt x="138605" y="30697"/>
                  </a:lnTo>
                  <a:lnTo>
                    <a:pt x="140663" y="33165"/>
                  </a:lnTo>
                  <a:lnTo>
                    <a:pt x="142036" y="36503"/>
                  </a:lnTo>
                  <a:lnTo>
                    <a:pt x="142951" y="40422"/>
                  </a:lnTo>
                  <a:lnTo>
                    <a:pt x="143560" y="44728"/>
                  </a:lnTo>
                  <a:lnTo>
                    <a:pt x="143967" y="49292"/>
                  </a:lnTo>
                  <a:lnTo>
                    <a:pt x="144238" y="54028"/>
                  </a:lnTo>
                  <a:lnTo>
                    <a:pt x="144539" y="63806"/>
                  </a:lnTo>
                  <a:lnTo>
                    <a:pt x="144766" y="90789"/>
                  </a:lnTo>
                  <a:lnTo>
                    <a:pt x="144780" y="113851"/>
                  </a:lnTo>
                  <a:lnTo>
                    <a:pt x="144780" y="110122"/>
                  </a:lnTo>
                  <a:lnTo>
                    <a:pt x="145626" y="108128"/>
                  </a:lnTo>
                  <a:lnTo>
                    <a:pt x="150863" y="100430"/>
                  </a:lnTo>
                  <a:lnTo>
                    <a:pt x="153069" y="96587"/>
                  </a:lnTo>
                  <a:lnTo>
                    <a:pt x="157778" y="87801"/>
                  </a:lnTo>
                  <a:lnTo>
                    <a:pt x="170219" y="63355"/>
                  </a:lnTo>
                  <a:lnTo>
                    <a:pt x="173593" y="58323"/>
                  </a:lnTo>
                  <a:lnTo>
                    <a:pt x="177535" y="53276"/>
                  </a:lnTo>
                  <a:lnTo>
                    <a:pt x="181857" y="48217"/>
                  </a:lnTo>
                  <a:lnTo>
                    <a:pt x="186431" y="43998"/>
                  </a:lnTo>
                  <a:lnTo>
                    <a:pt x="191174" y="40339"/>
                  </a:lnTo>
                  <a:lnTo>
                    <a:pt x="196030" y="37053"/>
                  </a:lnTo>
                  <a:lnTo>
                    <a:pt x="200960" y="34015"/>
                  </a:lnTo>
                  <a:lnTo>
                    <a:pt x="205940" y="31143"/>
                  </a:lnTo>
                  <a:lnTo>
                    <a:pt x="215989" y="25695"/>
                  </a:lnTo>
                  <a:lnTo>
                    <a:pt x="226099" y="20451"/>
                  </a:lnTo>
                  <a:lnTo>
                    <a:pt x="236237" y="17556"/>
                  </a:lnTo>
                  <a:lnTo>
                    <a:pt x="241312" y="16784"/>
                  </a:lnTo>
                  <a:lnTo>
                    <a:pt x="245541" y="17116"/>
                  </a:lnTo>
                  <a:lnTo>
                    <a:pt x="249208" y="18184"/>
                  </a:lnTo>
                  <a:lnTo>
                    <a:pt x="255539" y="21628"/>
                  </a:lnTo>
                  <a:lnTo>
                    <a:pt x="261175" y="25981"/>
                  </a:lnTo>
                  <a:lnTo>
                    <a:pt x="268760" y="30738"/>
                  </a:lnTo>
                  <a:lnTo>
                    <a:pt x="273154" y="33192"/>
                  </a:lnTo>
                  <a:lnTo>
                    <a:pt x="276929" y="36521"/>
                  </a:lnTo>
                  <a:lnTo>
                    <a:pt x="280293" y="40434"/>
                  </a:lnTo>
                  <a:lnTo>
                    <a:pt x="283382" y="44736"/>
                  </a:lnTo>
                  <a:lnTo>
                    <a:pt x="285442" y="49297"/>
                  </a:lnTo>
                  <a:lnTo>
                    <a:pt x="286815" y="54032"/>
                  </a:lnTo>
                  <a:lnTo>
                    <a:pt x="287730" y="58881"/>
                  </a:lnTo>
                  <a:lnTo>
                    <a:pt x="289186" y="63808"/>
                  </a:lnTo>
                  <a:lnTo>
                    <a:pt x="291004" y="68785"/>
                  </a:lnTo>
                  <a:lnTo>
                    <a:pt x="293063" y="73797"/>
                  </a:lnTo>
                  <a:lnTo>
                    <a:pt x="294435" y="79678"/>
                  </a:lnTo>
                  <a:lnTo>
                    <a:pt x="295351" y="86139"/>
                  </a:lnTo>
                  <a:lnTo>
                    <a:pt x="295960" y="92986"/>
                  </a:lnTo>
                  <a:lnTo>
                    <a:pt x="296367" y="99244"/>
                  </a:lnTo>
                  <a:lnTo>
                    <a:pt x="296819" y="110713"/>
                  </a:lnTo>
                  <a:lnTo>
                    <a:pt x="297786" y="116142"/>
                  </a:lnTo>
                  <a:lnTo>
                    <a:pt x="299277" y="121455"/>
                  </a:lnTo>
                  <a:lnTo>
                    <a:pt x="301118" y="126690"/>
                  </a:lnTo>
                  <a:lnTo>
                    <a:pt x="302346" y="131027"/>
                  </a:lnTo>
                  <a:lnTo>
                    <a:pt x="303164" y="134764"/>
                  </a:lnTo>
                  <a:lnTo>
                    <a:pt x="303710" y="138103"/>
                  </a:lnTo>
                  <a:lnTo>
                    <a:pt x="304920" y="141175"/>
                  </a:lnTo>
                  <a:lnTo>
                    <a:pt x="306573" y="144070"/>
                  </a:lnTo>
                  <a:lnTo>
                    <a:pt x="308522" y="146847"/>
                  </a:lnTo>
                  <a:lnTo>
                    <a:pt x="311515" y="149545"/>
                  </a:lnTo>
                  <a:lnTo>
                    <a:pt x="315203" y="152190"/>
                  </a:lnTo>
                  <a:lnTo>
                    <a:pt x="327660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MARTInkAnnotation131"/>
            <p:cNvSpPr/>
            <p:nvPr/>
          </p:nvSpPr>
          <p:spPr>
            <a:xfrm>
              <a:off x="5920560" y="211788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0" h="15239">
                  <a:moveTo>
                    <a:pt x="0" y="7620"/>
                  </a:moveTo>
                  <a:lnTo>
                    <a:pt x="0" y="11665"/>
                  </a:lnTo>
                  <a:lnTo>
                    <a:pt x="846" y="12857"/>
                  </a:lnTo>
                  <a:lnTo>
                    <a:pt x="2257" y="13651"/>
                  </a:lnTo>
                  <a:lnTo>
                    <a:pt x="4044" y="14181"/>
                  </a:lnTo>
                  <a:lnTo>
                    <a:pt x="6930" y="14534"/>
                  </a:lnTo>
                  <a:lnTo>
                    <a:pt x="10546" y="14769"/>
                  </a:lnTo>
                  <a:lnTo>
                    <a:pt x="18234" y="15031"/>
                  </a:lnTo>
                  <a:lnTo>
                    <a:pt x="28168" y="15178"/>
                  </a:lnTo>
                  <a:lnTo>
                    <a:pt x="79269" y="15238"/>
                  </a:lnTo>
                  <a:lnTo>
                    <a:pt x="85866" y="14392"/>
                  </a:lnTo>
                  <a:lnTo>
                    <a:pt x="92804" y="12981"/>
                  </a:lnTo>
                  <a:lnTo>
                    <a:pt x="99969" y="11194"/>
                  </a:lnTo>
                  <a:lnTo>
                    <a:pt x="107286" y="10003"/>
                  </a:lnTo>
                  <a:lnTo>
                    <a:pt x="114703" y="9209"/>
                  </a:lnTo>
                  <a:lnTo>
                    <a:pt x="122189" y="8679"/>
                  </a:lnTo>
                  <a:lnTo>
                    <a:pt x="129719" y="8326"/>
                  </a:lnTo>
                  <a:lnTo>
                    <a:pt x="144859" y="7934"/>
                  </a:lnTo>
                  <a:lnTo>
                    <a:pt x="186461" y="7648"/>
                  </a:lnTo>
                  <a:lnTo>
                    <a:pt x="191194" y="6792"/>
                  </a:lnTo>
                  <a:lnTo>
                    <a:pt x="195195" y="5375"/>
                  </a:lnTo>
                  <a:lnTo>
                    <a:pt x="198710" y="3583"/>
                  </a:lnTo>
                  <a:lnTo>
                    <a:pt x="201900" y="2389"/>
                  </a:lnTo>
                  <a:lnTo>
                    <a:pt x="204873" y="1593"/>
                  </a:lnTo>
                  <a:lnTo>
                    <a:pt x="21335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MARTInkAnnotation132"/>
            <p:cNvSpPr/>
            <p:nvPr/>
          </p:nvSpPr>
          <p:spPr>
            <a:xfrm>
              <a:off x="6263280" y="2011320"/>
              <a:ext cx="22680" cy="2512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22833" h="251461">
                  <a:moveTo>
                    <a:pt x="15212" y="0"/>
                  </a:moveTo>
                  <a:lnTo>
                    <a:pt x="15212" y="47462"/>
                  </a:lnTo>
                  <a:lnTo>
                    <a:pt x="14365" y="53655"/>
                  </a:lnTo>
                  <a:lnTo>
                    <a:pt x="12954" y="59477"/>
                  </a:lnTo>
                  <a:lnTo>
                    <a:pt x="11167" y="65051"/>
                  </a:lnTo>
                  <a:lnTo>
                    <a:pt x="9975" y="71308"/>
                  </a:lnTo>
                  <a:lnTo>
                    <a:pt x="9181" y="78019"/>
                  </a:lnTo>
                  <a:lnTo>
                    <a:pt x="8652" y="85032"/>
                  </a:lnTo>
                  <a:lnTo>
                    <a:pt x="8298" y="93095"/>
                  </a:lnTo>
                  <a:lnTo>
                    <a:pt x="7905" y="111085"/>
                  </a:lnTo>
                  <a:lnTo>
                    <a:pt x="6955" y="119777"/>
                  </a:lnTo>
                  <a:lnTo>
                    <a:pt x="5474" y="128111"/>
                  </a:lnTo>
                  <a:lnTo>
                    <a:pt x="3640" y="136208"/>
                  </a:lnTo>
                  <a:lnTo>
                    <a:pt x="2417" y="144145"/>
                  </a:lnTo>
                  <a:lnTo>
                    <a:pt x="1603" y="151977"/>
                  </a:lnTo>
                  <a:lnTo>
                    <a:pt x="1059" y="159738"/>
                  </a:lnTo>
                  <a:lnTo>
                    <a:pt x="697" y="167452"/>
                  </a:lnTo>
                  <a:lnTo>
                    <a:pt x="294" y="182797"/>
                  </a:lnTo>
                  <a:lnTo>
                    <a:pt x="0" y="224548"/>
                  </a:lnTo>
                  <a:lnTo>
                    <a:pt x="838" y="229286"/>
                  </a:lnTo>
                  <a:lnTo>
                    <a:pt x="2243" y="233290"/>
                  </a:lnTo>
                  <a:lnTo>
                    <a:pt x="4026" y="236807"/>
                  </a:lnTo>
                  <a:lnTo>
                    <a:pt x="6061" y="239998"/>
                  </a:lnTo>
                  <a:lnTo>
                    <a:pt x="8266" y="242972"/>
                  </a:lnTo>
                  <a:lnTo>
                    <a:pt x="10581" y="245802"/>
                  </a:lnTo>
                  <a:lnTo>
                    <a:pt x="12972" y="247688"/>
                  </a:lnTo>
                  <a:lnTo>
                    <a:pt x="15412" y="248945"/>
                  </a:lnTo>
                  <a:lnTo>
                    <a:pt x="22832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MARTInkAnnotation133"/>
            <p:cNvSpPr/>
            <p:nvPr/>
          </p:nvSpPr>
          <p:spPr>
            <a:xfrm>
              <a:off x="6415560" y="1988280"/>
              <a:ext cx="299880" cy="26604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300243" h="266319">
                  <a:moveTo>
                    <a:pt x="0" y="22830"/>
                  </a:moveTo>
                  <a:lnTo>
                    <a:pt x="0" y="16269"/>
                  </a:lnTo>
                  <a:lnTo>
                    <a:pt x="846" y="15916"/>
                  </a:lnTo>
                  <a:lnTo>
                    <a:pt x="6560" y="15303"/>
                  </a:lnTo>
                  <a:lnTo>
                    <a:pt x="24058" y="15222"/>
                  </a:lnTo>
                  <a:lnTo>
                    <a:pt x="28738" y="15218"/>
                  </a:lnTo>
                  <a:lnTo>
                    <a:pt x="33552" y="14369"/>
                  </a:lnTo>
                  <a:lnTo>
                    <a:pt x="38454" y="12956"/>
                  </a:lnTo>
                  <a:lnTo>
                    <a:pt x="43416" y="11167"/>
                  </a:lnTo>
                  <a:lnTo>
                    <a:pt x="50110" y="9975"/>
                  </a:lnTo>
                  <a:lnTo>
                    <a:pt x="57960" y="9180"/>
                  </a:lnTo>
                  <a:lnTo>
                    <a:pt x="66580" y="8650"/>
                  </a:lnTo>
                  <a:lnTo>
                    <a:pt x="74866" y="7450"/>
                  </a:lnTo>
                  <a:lnTo>
                    <a:pt x="82931" y="5803"/>
                  </a:lnTo>
                  <a:lnTo>
                    <a:pt x="90847" y="3859"/>
                  </a:lnTo>
                  <a:lnTo>
                    <a:pt x="99511" y="2563"/>
                  </a:lnTo>
                  <a:lnTo>
                    <a:pt x="108674" y="1698"/>
                  </a:lnTo>
                  <a:lnTo>
                    <a:pt x="118169" y="1123"/>
                  </a:lnTo>
                  <a:lnTo>
                    <a:pt x="137750" y="482"/>
                  </a:lnTo>
                  <a:lnTo>
                    <a:pt x="183851" y="15"/>
                  </a:lnTo>
                  <a:lnTo>
                    <a:pt x="191147" y="0"/>
                  </a:lnTo>
                  <a:lnTo>
                    <a:pt x="197704" y="837"/>
                  </a:lnTo>
                  <a:lnTo>
                    <a:pt x="203769" y="2241"/>
                  </a:lnTo>
                  <a:lnTo>
                    <a:pt x="217580" y="6534"/>
                  </a:lnTo>
                  <a:lnTo>
                    <a:pt x="224017" y="7277"/>
                  </a:lnTo>
                  <a:lnTo>
                    <a:pt x="224697" y="8228"/>
                  </a:lnTo>
                  <a:lnTo>
                    <a:pt x="224305" y="9709"/>
                  </a:lnTo>
                  <a:lnTo>
                    <a:pt x="223196" y="11543"/>
                  </a:lnTo>
                  <a:lnTo>
                    <a:pt x="221965" y="15838"/>
                  </a:lnTo>
                  <a:lnTo>
                    <a:pt x="221637" y="18169"/>
                  </a:lnTo>
                  <a:lnTo>
                    <a:pt x="219725" y="20569"/>
                  </a:lnTo>
                  <a:lnTo>
                    <a:pt x="213084" y="25494"/>
                  </a:lnTo>
                  <a:lnTo>
                    <a:pt x="204488" y="30505"/>
                  </a:lnTo>
                  <a:lnTo>
                    <a:pt x="199825" y="33027"/>
                  </a:lnTo>
                  <a:lnTo>
                    <a:pt x="194177" y="36402"/>
                  </a:lnTo>
                  <a:lnTo>
                    <a:pt x="181127" y="44666"/>
                  </a:lnTo>
                  <a:lnTo>
                    <a:pt x="137006" y="73763"/>
                  </a:lnTo>
                  <a:lnTo>
                    <a:pt x="131130" y="77952"/>
                  </a:lnTo>
                  <a:lnTo>
                    <a:pt x="122344" y="84865"/>
                  </a:lnTo>
                  <a:lnTo>
                    <a:pt x="115618" y="93017"/>
                  </a:lnTo>
                  <a:lnTo>
                    <a:pt x="112638" y="97561"/>
                  </a:lnTo>
                  <a:lnTo>
                    <a:pt x="110652" y="102284"/>
                  </a:lnTo>
                  <a:lnTo>
                    <a:pt x="109327" y="107126"/>
                  </a:lnTo>
                  <a:lnTo>
                    <a:pt x="108444" y="112048"/>
                  </a:lnTo>
                  <a:lnTo>
                    <a:pt x="107464" y="119774"/>
                  </a:lnTo>
                  <a:lnTo>
                    <a:pt x="107203" y="123019"/>
                  </a:lnTo>
                  <a:lnTo>
                    <a:pt x="108722" y="126876"/>
                  </a:lnTo>
                  <a:lnTo>
                    <a:pt x="111428" y="131141"/>
                  </a:lnTo>
                  <a:lnTo>
                    <a:pt x="114925" y="135677"/>
                  </a:lnTo>
                  <a:lnTo>
                    <a:pt x="123327" y="142976"/>
                  </a:lnTo>
                  <a:lnTo>
                    <a:pt x="127938" y="146107"/>
                  </a:lnTo>
                  <a:lnTo>
                    <a:pt x="134398" y="149888"/>
                  </a:lnTo>
                  <a:lnTo>
                    <a:pt x="142092" y="154102"/>
                  </a:lnTo>
                  <a:lnTo>
                    <a:pt x="150608" y="158605"/>
                  </a:lnTo>
                  <a:lnTo>
                    <a:pt x="158825" y="162453"/>
                  </a:lnTo>
                  <a:lnTo>
                    <a:pt x="166843" y="165866"/>
                  </a:lnTo>
                  <a:lnTo>
                    <a:pt x="174728" y="168987"/>
                  </a:lnTo>
                  <a:lnTo>
                    <a:pt x="190264" y="174713"/>
                  </a:lnTo>
                  <a:lnTo>
                    <a:pt x="228569" y="187862"/>
                  </a:lnTo>
                  <a:lnTo>
                    <a:pt x="243825" y="192980"/>
                  </a:lnTo>
                  <a:lnTo>
                    <a:pt x="250603" y="195530"/>
                  </a:lnTo>
                  <a:lnTo>
                    <a:pt x="256815" y="198077"/>
                  </a:lnTo>
                  <a:lnTo>
                    <a:pt x="262650" y="200621"/>
                  </a:lnTo>
                  <a:lnTo>
                    <a:pt x="268233" y="202318"/>
                  </a:lnTo>
                  <a:lnTo>
                    <a:pt x="273648" y="203449"/>
                  </a:lnTo>
                  <a:lnTo>
                    <a:pt x="278952" y="204202"/>
                  </a:lnTo>
                  <a:lnTo>
                    <a:pt x="287103" y="207298"/>
                  </a:lnTo>
                  <a:lnTo>
                    <a:pt x="296452" y="213801"/>
                  </a:lnTo>
                  <a:lnTo>
                    <a:pt x="299234" y="216184"/>
                  </a:lnTo>
                  <a:lnTo>
                    <a:pt x="300242" y="219466"/>
                  </a:lnTo>
                  <a:lnTo>
                    <a:pt x="300068" y="223347"/>
                  </a:lnTo>
                  <a:lnTo>
                    <a:pt x="299106" y="227628"/>
                  </a:lnTo>
                  <a:lnTo>
                    <a:pt x="297617" y="230482"/>
                  </a:lnTo>
                  <a:lnTo>
                    <a:pt x="295778" y="232385"/>
                  </a:lnTo>
                  <a:lnTo>
                    <a:pt x="291476" y="235346"/>
                  </a:lnTo>
                  <a:lnTo>
                    <a:pt x="286743" y="239484"/>
                  </a:lnTo>
                  <a:lnTo>
                    <a:pt x="282601" y="241773"/>
                  </a:lnTo>
                  <a:lnTo>
                    <a:pt x="277301" y="244145"/>
                  </a:lnTo>
                  <a:lnTo>
                    <a:pt x="271227" y="246574"/>
                  </a:lnTo>
                  <a:lnTo>
                    <a:pt x="257704" y="251530"/>
                  </a:lnTo>
                  <a:lnTo>
                    <a:pt x="250543" y="254036"/>
                  </a:lnTo>
                  <a:lnTo>
                    <a:pt x="243228" y="255708"/>
                  </a:lnTo>
                  <a:lnTo>
                    <a:pt x="235813" y="256822"/>
                  </a:lnTo>
                  <a:lnTo>
                    <a:pt x="228329" y="257565"/>
                  </a:lnTo>
                  <a:lnTo>
                    <a:pt x="220799" y="258907"/>
                  </a:lnTo>
                  <a:lnTo>
                    <a:pt x="213238" y="260648"/>
                  </a:lnTo>
                  <a:lnTo>
                    <a:pt x="205659" y="262655"/>
                  </a:lnTo>
                  <a:lnTo>
                    <a:pt x="198066" y="263994"/>
                  </a:lnTo>
                  <a:lnTo>
                    <a:pt x="190464" y="264886"/>
                  </a:lnTo>
                  <a:lnTo>
                    <a:pt x="182855" y="265481"/>
                  </a:lnTo>
                  <a:lnTo>
                    <a:pt x="174397" y="265877"/>
                  </a:lnTo>
                  <a:lnTo>
                    <a:pt x="155967" y="266318"/>
                  </a:lnTo>
                  <a:lnTo>
                    <a:pt x="146311" y="265589"/>
                  </a:lnTo>
                  <a:lnTo>
                    <a:pt x="136488" y="264256"/>
                  </a:lnTo>
                  <a:lnTo>
                    <a:pt x="126551" y="262521"/>
                  </a:lnTo>
                  <a:lnTo>
                    <a:pt x="118234" y="261364"/>
                  </a:lnTo>
                  <a:lnTo>
                    <a:pt x="110995" y="260593"/>
                  </a:lnTo>
                  <a:lnTo>
                    <a:pt x="104476" y="260079"/>
                  </a:lnTo>
                  <a:lnTo>
                    <a:pt x="98437" y="259736"/>
                  </a:lnTo>
                  <a:lnTo>
                    <a:pt x="87212" y="259355"/>
                  </a:lnTo>
                  <a:lnTo>
                    <a:pt x="82694" y="258407"/>
                  </a:lnTo>
                  <a:lnTo>
                    <a:pt x="75417" y="255095"/>
                  </a:lnTo>
                  <a:lnTo>
                    <a:pt x="68579" y="2514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MARTInkAnnotation134"/>
            <p:cNvSpPr/>
            <p:nvPr/>
          </p:nvSpPr>
          <p:spPr>
            <a:xfrm>
              <a:off x="1158480" y="4299120"/>
              <a:ext cx="312120" cy="3560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312317" h="356012">
                  <a:moveTo>
                    <a:pt x="22756" y="166093"/>
                  </a:moveTo>
                  <a:lnTo>
                    <a:pt x="18711" y="166093"/>
                  </a:lnTo>
                  <a:lnTo>
                    <a:pt x="16673" y="165247"/>
                  </a:lnTo>
                  <a:lnTo>
                    <a:pt x="8889" y="159532"/>
                  </a:lnTo>
                  <a:lnTo>
                    <a:pt x="3878" y="154742"/>
                  </a:lnTo>
                  <a:lnTo>
                    <a:pt x="2551" y="151752"/>
                  </a:lnTo>
                  <a:lnTo>
                    <a:pt x="1076" y="143915"/>
                  </a:lnTo>
                  <a:lnTo>
                    <a:pt x="246" y="134028"/>
                  </a:lnTo>
                  <a:lnTo>
                    <a:pt x="0" y="125736"/>
                  </a:lnTo>
                  <a:lnTo>
                    <a:pt x="2200" y="118241"/>
                  </a:lnTo>
                  <a:lnTo>
                    <a:pt x="3972" y="113872"/>
                  </a:lnTo>
                  <a:lnTo>
                    <a:pt x="10456" y="104502"/>
                  </a:lnTo>
                  <a:lnTo>
                    <a:pt x="19830" y="94692"/>
                  </a:lnTo>
                  <a:lnTo>
                    <a:pt x="25885" y="89706"/>
                  </a:lnTo>
                  <a:lnTo>
                    <a:pt x="32462" y="84688"/>
                  </a:lnTo>
                  <a:lnTo>
                    <a:pt x="39387" y="78803"/>
                  </a:lnTo>
                  <a:lnTo>
                    <a:pt x="46543" y="72340"/>
                  </a:lnTo>
                  <a:lnTo>
                    <a:pt x="53854" y="65491"/>
                  </a:lnTo>
                  <a:lnTo>
                    <a:pt x="62115" y="59232"/>
                  </a:lnTo>
                  <a:lnTo>
                    <a:pt x="71009" y="53365"/>
                  </a:lnTo>
                  <a:lnTo>
                    <a:pt x="80325" y="47761"/>
                  </a:lnTo>
                  <a:lnTo>
                    <a:pt x="89922" y="42332"/>
                  </a:lnTo>
                  <a:lnTo>
                    <a:pt x="109616" y="31784"/>
                  </a:lnTo>
                  <a:lnTo>
                    <a:pt x="119610" y="27447"/>
                  </a:lnTo>
                  <a:lnTo>
                    <a:pt x="129658" y="23709"/>
                  </a:lnTo>
                  <a:lnTo>
                    <a:pt x="139744" y="20371"/>
                  </a:lnTo>
                  <a:lnTo>
                    <a:pt x="149855" y="17298"/>
                  </a:lnTo>
                  <a:lnTo>
                    <a:pt x="170120" y="11626"/>
                  </a:lnTo>
                  <a:lnTo>
                    <a:pt x="200569" y="3673"/>
                  </a:lnTo>
                  <a:lnTo>
                    <a:pt x="210725" y="1934"/>
                  </a:lnTo>
                  <a:lnTo>
                    <a:pt x="220882" y="773"/>
                  </a:lnTo>
                  <a:lnTo>
                    <a:pt x="231040" y="0"/>
                  </a:lnTo>
                  <a:lnTo>
                    <a:pt x="239506" y="331"/>
                  </a:lnTo>
                  <a:lnTo>
                    <a:pt x="246842" y="1398"/>
                  </a:lnTo>
                  <a:lnTo>
                    <a:pt x="253427" y="2957"/>
                  </a:lnTo>
                  <a:lnTo>
                    <a:pt x="259510" y="3996"/>
                  </a:lnTo>
                  <a:lnTo>
                    <a:pt x="265259" y="4688"/>
                  </a:lnTo>
                  <a:lnTo>
                    <a:pt x="270784" y="5150"/>
                  </a:lnTo>
                  <a:lnTo>
                    <a:pt x="274469" y="7151"/>
                  </a:lnTo>
                  <a:lnTo>
                    <a:pt x="276924" y="10179"/>
                  </a:lnTo>
                  <a:lnTo>
                    <a:pt x="278562" y="13890"/>
                  </a:lnTo>
                  <a:lnTo>
                    <a:pt x="278807" y="18058"/>
                  </a:lnTo>
                  <a:lnTo>
                    <a:pt x="276821" y="27204"/>
                  </a:lnTo>
                  <a:lnTo>
                    <a:pt x="273116" y="36914"/>
                  </a:lnTo>
                  <a:lnTo>
                    <a:pt x="270943" y="41873"/>
                  </a:lnTo>
                  <a:lnTo>
                    <a:pt x="266954" y="48567"/>
                  </a:lnTo>
                  <a:lnTo>
                    <a:pt x="261754" y="56416"/>
                  </a:lnTo>
                  <a:lnTo>
                    <a:pt x="255748" y="65035"/>
                  </a:lnTo>
                  <a:lnTo>
                    <a:pt x="248358" y="73321"/>
                  </a:lnTo>
                  <a:lnTo>
                    <a:pt x="240044" y="81385"/>
                  </a:lnTo>
                  <a:lnTo>
                    <a:pt x="231115" y="89301"/>
                  </a:lnTo>
                  <a:lnTo>
                    <a:pt x="212162" y="107128"/>
                  </a:lnTo>
                  <a:lnTo>
                    <a:pt x="172400" y="146168"/>
                  </a:lnTo>
                  <a:lnTo>
                    <a:pt x="163159" y="156196"/>
                  </a:lnTo>
                  <a:lnTo>
                    <a:pt x="154458" y="166269"/>
                  </a:lnTo>
                  <a:lnTo>
                    <a:pt x="146117" y="176370"/>
                  </a:lnTo>
                  <a:lnTo>
                    <a:pt x="130077" y="196625"/>
                  </a:lnTo>
                  <a:lnTo>
                    <a:pt x="122243" y="206768"/>
                  </a:lnTo>
                  <a:lnTo>
                    <a:pt x="116174" y="216069"/>
                  </a:lnTo>
                  <a:lnTo>
                    <a:pt x="111282" y="224811"/>
                  </a:lnTo>
                  <a:lnTo>
                    <a:pt x="107173" y="233179"/>
                  </a:lnTo>
                  <a:lnTo>
                    <a:pt x="103588" y="242143"/>
                  </a:lnTo>
                  <a:lnTo>
                    <a:pt x="100351" y="251507"/>
                  </a:lnTo>
                  <a:lnTo>
                    <a:pt x="97346" y="261135"/>
                  </a:lnTo>
                  <a:lnTo>
                    <a:pt x="96189" y="270095"/>
                  </a:lnTo>
                  <a:lnTo>
                    <a:pt x="96265" y="278608"/>
                  </a:lnTo>
                  <a:lnTo>
                    <a:pt x="97162" y="286823"/>
                  </a:lnTo>
                  <a:lnTo>
                    <a:pt x="98607" y="293993"/>
                  </a:lnTo>
                  <a:lnTo>
                    <a:pt x="100416" y="300467"/>
                  </a:lnTo>
                  <a:lnTo>
                    <a:pt x="102470" y="306476"/>
                  </a:lnTo>
                  <a:lnTo>
                    <a:pt x="105532" y="312174"/>
                  </a:lnTo>
                  <a:lnTo>
                    <a:pt x="113450" y="323023"/>
                  </a:lnTo>
                  <a:lnTo>
                    <a:pt x="119626" y="328286"/>
                  </a:lnTo>
                  <a:lnTo>
                    <a:pt x="127129" y="333489"/>
                  </a:lnTo>
                  <a:lnTo>
                    <a:pt x="135518" y="338650"/>
                  </a:lnTo>
                  <a:lnTo>
                    <a:pt x="144497" y="342938"/>
                  </a:lnTo>
                  <a:lnTo>
                    <a:pt x="153870" y="346643"/>
                  </a:lnTo>
                  <a:lnTo>
                    <a:pt x="163506" y="349960"/>
                  </a:lnTo>
                  <a:lnTo>
                    <a:pt x="174162" y="352170"/>
                  </a:lnTo>
                  <a:lnTo>
                    <a:pt x="185500" y="353645"/>
                  </a:lnTo>
                  <a:lnTo>
                    <a:pt x="197292" y="354628"/>
                  </a:lnTo>
                  <a:lnTo>
                    <a:pt x="208540" y="355283"/>
                  </a:lnTo>
                  <a:lnTo>
                    <a:pt x="230069" y="356011"/>
                  </a:lnTo>
                  <a:lnTo>
                    <a:pt x="242245" y="355359"/>
                  </a:lnTo>
                  <a:lnTo>
                    <a:pt x="255442" y="354077"/>
                  </a:lnTo>
                  <a:lnTo>
                    <a:pt x="269320" y="352376"/>
                  </a:lnTo>
                  <a:lnTo>
                    <a:pt x="280265" y="351241"/>
                  </a:lnTo>
                  <a:lnTo>
                    <a:pt x="289256" y="350486"/>
                  </a:lnTo>
                  <a:lnTo>
                    <a:pt x="312316" y="34897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MARTInkAnnotation135"/>
            <p:cNvSpPr/>
            <p:nvPr/>
          </p:nvSpPr>
          <p:spPr>
            <a:xfrm>
              <a:off x="1744920" y="4328280"/>
              <a:ext cx="30240" cy="258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0481" h="259081">
                  <a:moveTo>
                    <a:pt x="0" y="0"/>
                  </a:moveTo>
                  <a:lnTo>
                    <a:pt x="0" y="11352"/>
                  </a:lnTo>
                  <a:lnTo>
                    <a:pt x="847" y="13495"/>
                  </a:lnTo>
                  <a:lnTo>
                    <a:pt x="2258" y="15770"/>
                  </a:lnTo>
                  <a:lnTo>
                    <a:pt x="4046" y="18133"/>
                  </a:lnTo>
                  <a:lnTo>
                    <a:pt x="5237" y="21402"/>
                  </a:lnTo>
                  <a:lnTo>
                    <a:pt x="6032" y="25275"/>
                  </a:lnTo>
                  <a:lnTo>
                    <a:pt x="6561" y="29550"/>
                  </a:lnTo>
                  <a:lnTo>
                    <a:pt x="6914" y="34094"/>
                  </a:lnTo>
                  <a:lnTo>
                    <a:pt x="7150" y="38816"/>
                  </a:lnTo>
                  <a:lnTo>
                    <a:pt x="7411" y="48578"/>
                  </a:lnTo>
                  <a:lnTo>
                    <a:pt x="7592" y="77747"/>
                  </a:lnTo>
                  <a:lnTo>
                    <a:pt x="8449" y="85698"/>
                  </a:lnTo>
                  <a:lnTo>
                    <a:pt x="9866" y="94385"/>
                  </a:lnTo>
                  <a:lnTo>
                    <a:pt x="11657" y="103564"/>
                  </a:lnTo>
                  <a:lnTo>
                    <a:pt x="12852" y="112222"/>
                  </a:lnTo>
                  <a:lnTo>
                    <a:pt x="13648" y="120535"/>
                  </a:lnTo>
                  <a:lnTo>
                    <a:pt x="14179" y="128617"/>
                  </a:lnTo>
                  <a:lnTo>
                    <a:pt x="14532" y="137391"/>
                  </a:lnTo>
                  <a:lnTo>
                    <a:pt x="15031" y="165074"/>
                  </a:lnTo>
                  <a:lnTo>
                    <a:pt x="15147" y="181740"/>
                  </a:lnTo>
                  <a:lnTo>
                    <a:pt x="16025" y="189740"/>
                  </a:lnTo>
                  <a:lnTo>
                    <a:pt x="17457" y="197613"/>
                  </a:lnTo>
                  <a:lnTo>
                    <a:pt x="19257" y="205402"/>
                  </a:lnTo>
                  <a:lnTo>
                    <a:pt x="20459" y="213135"/>
                  </a:lnTo>
                  <a:lnTo>
                    <a:pt x="21259" y="220830"/>
                  </a:lnTo>
                  <a:lnTo>
                    <a:pt x="21793" y="228500"/>
                  </a:lnTo>
                  <a:lnTo>
                    <a:pt x="22995" y="234460"/>
                  </a:lnTo>
                  <a:lnTo>
                    <a:pt x="24644" y="239280"/>
                  </a:lnTo>
                  <a:lnTo>
                    <a:pt x="26589" y="243340"/>
                  </a:lnTo>
                  <a:lnTo>
                    <a:pt x="27886" y="246893"/>
                  </a:lnTo>
                  <a:lnTo>
                    <a:pt x="28751" y="250109"/>
                  </a:lnTo>
                  <a:lnTo>
                    <a:pt x="30480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MARTInkAnnotation136"/>
            <p:cNvSpPr/>
            <p:nvPr/>
          </p:nvSpPr>
          <p:spPr>
            <a:xfrm>
              <a:off x="1691640" y="4450320"/>
              <a:ext cx="205560" cy="226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05741" h="22862">
                  <a:moveTo>
                    <a:pt x="0" y="22861"/>
                  </a:moveTo>
                  <a:lnTo>
                    <a:pt x="40090" y="22861"/>
                  </a:lnTo>
                  <a:lnTo>
                    <a:pt x="47893" y="22014"/>
                  </a:lnTo>
                  <a:lnTo>
                    <a:pt x="56482" y="20603"/>
                  </a:lnTo>
                  <a:lnTo>
                    <a:pt x="65595" y="18815"/>
                  </a:lnTo>
                  <a:lnTo>
                    <a:pt x="75057" y="17624"/>
                  </a:lnTo>
                  <a:lnTo>
                    <a:pt x="84751" y="16829"/>
                  </a:lnTo>
                  <a:lnTo>
                    <a:pt x="94601" y="16299"/>
                  </a:lnTo>
                  <a:lnTo>
                    <a:pt x="104554" y="15100"/>
                  </a:lnTo>
                  <a:lnTo>
                    <a:pt x="114576" y="13453"/>
                  </a:lnTo>
                  <a:lnTo>
                    <a:pt x="124644" y="11509"/>
                  </a:lnTo>
                  <a:lnTo>
                    <a:pt x="133896" y="10213"/>
                  </a:lnTo>
                  <a:lnTo>
                    <a:pt x="142604" y="9349"/>
                  </a:lnTo>
                  <a:lnTo>
                    <a:pt x="150949" y="8772"/>
                  </a:lnTo>
                  <a:lnTo>
                    <a:pt x="158206" y="7542"/>
                  </a:lnTo>
                  <a:lnTo>
                    <a:pt x="164737" y="5874"/>
                  </a:lnTo>
                  <a:lnTo>
                    <a:pt x="170785" y="3916"/>
                  </a:lnTo>
                  <a:lnTo>
                    <a:pt x="177357" y="2611"/>
                  </a:lnTo>
                  <a:lnTo>
                    <a:pt x="184278" y="1741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SMARTInkAnnotation137"/>
            <p:cNvSpPr/>
            <p:nvPr/>
          </p:nvSpPr>
          <p:spPr>
            <a:xfrm>
              <a:off x="2026800" y="4267440"/>
              <a:ext cx="238320" cy="3031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238581" h="303349">
                  <a:moveTo>
                    <a:pt x="0" y="53309"/>
                  </a:moveTo>
                  <a:lnTo>
                    <a:pt x="0" y="41958"/>
                  </a:lnTo>
                  <a:lnTo>
                    <a:pt x="847" y="39815"/>
                  </a:lnTo>
                  <a:lnTo>
                    <a:pt x="4045" y="35176"/>
                  </a:lnTo>
                  <a:lnTo>
                    <a:pt x="10547" y="30292"/>
                  </a:lnTo>
                  <a:lnTo>
                    <a:pt x="14652" y="27805"/>
                  </a:lnTo>
                  <a:lnTo>
                    <a:pt x="19081" y="25299"/>
                  </a:lnTo>
                  <a:lnTo>
                    <a:pt x="28518" y="20258"/>
                  </a:lnTo>
                  <a:lnTo>
                    <a:pt x="35099" y="17728"/>
                  </a:lnTo>
                  <a:lnTo>
                    <a:pt x="42873" y="15196"/>
                  </a:lnTo>
                  <a:lnTo>
                    <a:pt x="51442" y="12660"/>
                  </a:lnTo>
                  <a:lnTo>
                    <a:pt x="59694" y="10970"/>
                  </a:lnTo>
                  <a:lnTo>
                    <a:pt x="67737" y="9843"/>
                  </a:lnTo>
                  <a:lnTo>
                    <a:pt x="75638" y="9092"/>
                  </a:lnTo>
                  <a:lnTo>
                    <a:pt x="84292" y="7744"/>
                  </a:lnTo>
                  <a:lnTo>
                    <a:pt x="93448" y="5999"/>
                  </a:lnTo>
                  <a:lnTo>
                    <a:pt x="102939" y="3990"/>
                  </a:lnTo>
                  <a:lnTo>
                    <a:pt x="112653" y="2649"/>
                  </a:lnTo>
                  <a:lnTo>
                    <a:pt x="122515" y="1756"/>
                  </a:lnTo>
                  <a:lnTo>
                    <a:pt x="132477" y="1160"/>
                  </a:lnTo>
                  <a:lnTo>
                    <a:pt x="152576" y="499"/>
                  </a:lnTo>
                  <a:lnTo>
                    <a:pt x="202829" y="16"/>
                  </a:lnTo>
                  <a:lnTo>
                    <a:pt x="208879" y="0"/>
                  </a:lnTo>
                  <a:lnTo>
                    <a:pt x="214606" y="836"/>
                  </a:lnTo>
                  <a:lnTo>
                    <a:pt x="220118" y="2241"/>
                  </a:lnTo>
                  <a:lnTo>
                    <a:pt x="225485" y="4024"/>
                  </a:lnTo>
                  <a:lnTo>
                    <a:pt x="229910" y="6059"/>
                  </a:lnTo>
                  <a:lnTo>
                    <a:pt x="237084" y="10578"/>
                  </a:lnTo>
                  <a:lnTo>
                    <a:pt x="238490" y="12968"/>
                  </a:lnTo>
                  <a:lnTo>
                    <a:pt x="238580" y="15408"/>
                  </a:lnTo>
                  <a:lnTo>
                    <a:pt x="237793" y="17882"/>
                  </a:lnTo>
                  <a:lnTo>
                    <a:pt x="235576" y="20378"/>
                  </a:lnTo>
                  <a:lnTo>
                    <a:pt x="228596" y="25409"/>
                  </a:lnTo>
                  <a:lnTo>
                    <a:pt x="224364" y="27936"/>
                  </a:lnTo>
                  <a:lnTo>
                    <a:pt x="219849" y="30466"/>
                  </a:lnTo>
                  <a:lnTo>
                    <a:pt x="215146" y="33001"/>
                  </a:lnTo>
                  <a:lnTo>
                    <a:pt x="209471" y="36384"/>
                  </a:lnTo>
                  <a:lnTo>
                    <a:pt x="196392" y="44658"/>
                  </a:lnTo>
                  <a:lnTo>
                    <a:pt x="189348" y="48388"/>
                  </a:lnTo>
                  <a:lnTo>
                    <a:pt x="182112" y="51722"/>
                  </a:lnTo>
                  <a:lnTo>
                    <a:pt x="174748" y="54791"/>
                  </a:lnTo>
                  <a:lnTo>
                    <a:pt x="166452" y="59377"/>
                  </a:lnTo>
                  <a:lnTo>
                    <a:pt x="157535" y="64974"/>
                  </a:lnTo>
                  <a:lnTo>
                    <a:pt x="148203" y="71246"/>
                  </a:lnTo>
                  <a:lnTo>
                    <a:pt x="139442" y="76274"/>
                  </a:lnTo>
                  <a:lnTo>
                    <a:pt x="131061" y="80472"/>
                  </a:lnTo>
                  <a:lnTo>
                    <a:pt x="122934" y="84118"/>
                  </a:lnTo>
                  <a:lnTo>
                    <a:pt x="116670" y="88242"/>
                  </a:lnTo>
                  <a:lnTo>
                    <a:pt x="111647" y="92684"/>
                  </a:lnTo>
                  <a:lnTo>
                    <a:pt x="107451" y="97339"/>
                  </a:lnTo>
                  <a:lnTo>
                    <a:pt x="98274" y="107027"/>
                  </a:lnTo>
                  <a:lnTo>
                    <a:pt x="93456" y="111981"/>
                  </a:lnTo>
                  <a:lnTo>
                    <a:pt x="88103" y="119743"/>
                  </a:lnTo>
                  <a:lnTo>
                    <a:pt x="86675" y="122999"/>
                  </a:lnTo>
                  <a:lnTo>
                    <a:pt x="86570" y="126862"/>
                  </a:lnTo>
                  <a:lnTo>
                    <a:pt x="88711" y="135670"/>
                  </a:lnTo>
                  <a:lnTo>
                    <a:pt x="91314" y="140390"/>
                  </a:lnTo>
                  <a:lnTo>
                    <a:pt x="94743" y="145230"/>
                  </a:lnTo>
                  <a:lnTo>
                    <a:pt x="98722" y="150149"/>
                  </a:lnTo>
                  <a:lnTo>
                    <a:pt x="103915" y="154276"/>
                  </a:lnTo>
                  <a:lnTo>
                    <a:pt x="109916" y="157874"/>
                  </a:lnTo>
                  <a:lnTo>
                    <a:pt x="116458" y="161119"/>
                  </a:lnTo>
                  <a:lnTo>
                    <a:pt x="123358" y="164976"/>
                  </a:lnTo>
                  <a:lnTo>
                    <a:pt x="130499" y="169240"/>
                  </a:lnTo>
                  <a:lnTo>
                    <a:pt x="137799" y="173776"/>
                  </a:lnTo>
                  <a:lnTo>
                    <a:pt x="146053" y="178494"/>
                  </a:lnTo>
                  <a:lnTo>
                    <a:pt x="164255" y="188251"/>
                  </a:lnTo>
                  <a:lnTo>
                    <a:pt x="173003" y="193224"/>
                  </a:lnTo>
                  <a:lnTo>
                    <a:pt x="181375" y="198232"/>
                  </a:lnTo>
                  <a:lnTo>
                    <a:pt x="189497" y="203265"/>
                  </a:lnTo>
                  <a:lnTo>
                    <a:pt x="196605" y="207466"/>
                  </a:lnTo>
                  <a:lnTo>
                    <a:pt x="203037" y="211113"/>
                  </a:lnTo>
                  <a:lnTo>
                    <a:pt x="209018" y="214392"/>
                  </a:lnTo>
                  <a:lnTo>
                    <a:pt x="214699" y="218271"/>
                  </a:lnTo>
                  <a:lnTo>
                    <a:pt x="220179" y="222551"/>
                  </a:lnTo>
                  <a:lnTo>
                    <a:pt x="225526" y="227097"/>
                  </a:lnTo>
                  <a:lnTo>
                    <a:pt x="229091" y="231820"/>
                  </a:lnTo>
                  <a:lnTo>
                    <a:pt x="231468" y="236664"/>
                  </a:lnTo>
                  <a:lnTo>
                    <a:pt x="233052" y="241586"/>
                  </a:lnTo>
                  <a:lnTo>
                    <a:pt x="233261" y="245713"/>
                  </a:lnTo>
                  <a:lnTo>
                    <a:pt x="232554" y="249312"/>
                  </a:lnTo>
                  <a:lnTo>
                    <a:pt x="229511" y="255569"/>
                  </a:lnTo>
                  <a:lnTo>
                    <a:pt x="225336" y="261171"/>
                  </a:lnTo>
                  <a:lnTo>
                    <a:pt x="221344" y="264697"/>
                  </a:lnTo>
                  <a:lnTo>
                    <a:pt x="216143" y="268741"/>
                  </a:lnTo>
                  <a:lnTo>
                    <a:pt x="210135" y="273131"/>
                  </a:lnTo>
                  <a:lnTo>
                    <a:pt x="203590" y="276903"/>
                  </a:lnTo>
                  <a:lnTo>
                    <a:pt x="196687" y="280266"/>
                  </a:lnTo>
                  <a:lnTo>
                    <a:pt x="189545" y="283353"/>
                  </a:lnTo>
                  <a:lnTo>
                    <a:pt x="182243" y="285412"/>
                  </a:lnTo>
                  <a:lnTo>
                    <a:pt x="174835" y="286784"/>
                  </a:lnTo>
                  <a:lnTo>
                    <a:pt x="167357" y="287699"/>
                  </a:lnTo>
                  <a:lnTo>
                    <a:pt x="159831" y="289156"/>
                  </a:lnTo>
                  <a:lnTo>
                    <a:pt x="152274" y="290974"/>
                  </a:lnTo>
                  <a:lnTo>
                    <a:pt x="144696" y="293033"/>
                  </a:lnTo>
                  <a:lnTo>
                    <a:pt x="129503" y="297577"/>
                  </a:lnTo>
                  <a:lnTo>
                    <a:pt x="121895" y="299974"/>
                  </a:lnTo>
                  <a:lnTo>
                    <a:pt x="114284" y="301573"/>
                  </a:lnTo>
                  <a:lnTo>
                    <a:pt x="106669" y="302638"/>
                  </a:lnTo>
                  <a:lnTo>
                    <a:pt x="99053" y="303348"/>
                  </a:lnTo>
                  <a:lnTo>
                    <a:pt x="92282" y="302975"/>
                  </a:lnTo>
                  <a:lnTo>
                    <a:pt x="86075" y="301880"/>
                  </a:lnTo>
                  <a:lnTo>
                    <a:pt x="80243" y="300303"/>
                  </a:lnTo>
                  <a:lnTo>
                    <a:pt x="75509" y="299252"/>
                  </a:lnTo>
                  <a:lnTo>
                    <a:pt x="71506" y="298551"/>
                  </a:lnTo>
                  <a:lnTo>
                    <a:pt x="67991" y="298083"/>
                  </a:lnTo>
                  <a:lnTo>
                    <a:pt x="64801" y="296925"/>
                  </a:lnTo>
                  <a:lnTo>
                    <a:pt x="58998" y="293381"/>
                  </a:lnTo>
                  <a:lnTo>
                    <a:pt x="57112" y="290404"/>
                  </a:lnTo>
                  <a:lnTo>
                    <a:pt x="55016" y="282580"/>
                  </a:lnTo>
                  <a:lnTo>
                    <a:pt x="53340" y="2742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MARTInkAnnotation138"/>
            <p:cNvSpPr/>
            <p:nvPr/>
          </p:nvSpPr>
          <p:spPr>
            <a:xfrm>
              <a:off x="2343600" y="4328640"/>
              <a:ext cx="231840" cy="2660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231924" h="266319">
                  <a:moveTo>
                    <a:pt x="94763" y="75818"/>
                  </a:moveTo>
                  <a:lnTo>
                    <a:pt x="94763" y="83430"/>
                  </a:lnTo>
                  <a:lnTo>
                    <a:pt x="98808" y="83436"/>
                  </a:lnTo>
                  <a:lnTo>
                    <a:pt x="100000" y="82590"/>
                  </a:lnTo>
                  <a:lnTo>
                    <a:pt x="100794" y="81180"/>
                  </a:lnTo>
                  <a:lnTo>
                    <a:pt x="102070" y="76877"/>
                  </a:lnTo>
                  <a:lnTo>
                    <a:pt x="102244" y="71773"/>
                  </a:lnTo>
                  <a:lnTo>
                    <a:pt x="102381" y="36299"/>
                  </a:lnTo>
                  <a:lnTo>
                    <a:pt x="101535" y="33386"/>
                  </a:lnTo>
                  <a:lnTo>
                    <a:pt x="98337" y="27891"/>
                  </a:lnTo>
                  <a:lnTo>
                    <a:pt x="96352" y="20368"/>
                  </a:lnTo>
                  <a:lnTo>
                    <a:pt x="95822" y="15992"/>
                  </a:lnTo>
                  <a:lnTo>
                    <a:pt x="94623" y="13074"/>
                  </a:lnTo>
                  <a:lnTo>
                    <a:pt x="92976" y="11128"/>
                  </a:lnTo>
                  <a:lnTo>
                    <a:pt x="86614" y="6133"/>
                  </a:lnTo>
                  <a:lnTo>
                    <a:pt x="84250" y="3962"/>
                  </a:lnTo>
                  <a:lnTo>
                    <a:pt x="81828" y="2514"/>
                  </a:lnTo>
                  <a:lnTo>
                    <a:pt x="76879" y="905"/>
                  </a:lnTo>
                  <a:lnTo>
                    <a:pt x="71856" y="190"/>
                  </a:lnTo>
                  <a:lnTo>
                    <a:pt x="69332" y="0"/>
                  </a:lnTo>
                  <a:lnTo>
                    <a:pt x="65956" y="719"/>
                  </a:lnTo>
                  <a:lnTo>
                    <a:pt x="62012" y="2046"/>
                  </a:lnTo>
                  <a:lnTo>
                    <a:pt x="57689" y="3776"/>
                  </a:lnTo>
                  <a:lnTo>
                    <a:pt x="53960" y="6624"/>
                  </a:lnTo>
                  <a:lnTo>
                    <a:pt x="47560" y="14303"/>
                  </a:lnTo>
                  <a:lnTo>
                    <a:pt x="44667" y="18721"/>
                  </a:lnTo>
                  <a:lnTo>
                    <a:pt x="41893" y="23361"/>
                  </a:lnTo>
                  <a:lnTo>
                    <a:pt x="39196" y="28146"/>
                  </a:lnTo>
                  <a:lnTo>
                    <a:pt x="35705" y="33877"/>
                  </a:lnTo>
                  <a:lnTo>
                    <a:pt x="27311" y="47018"/>
                  </a:lnTo>
                  <a:lnTo>
                    <a:pt x="23548" y="53231"/>
                  </a:lnTo>
                  <a:lnTo>
                    <a:pt x="20193" y="59067"/>
                  </a:lnTo>
                  <a:lnTo>
                    <a:pt x="17110" y="64650"/>
                  </a:lnTo>
                  <a:lnTo>
                    <a:pt x="14207" y="70913"/>
                  </a:lnTo>
                  <a:lnTo>
                    <a:pt x="11426" y="77629"/>
                  </a:lnTo>
                  <a:lnTo>
                    <a:pt x="8725" y="84644"/>
                  </a:lnTo>
                  <a:lnTo>
                    <a:pt x="3466" y="99214"/>
                  </a:lnTo>
                  <a:lnTo>
                    <a:pt x="878" y="106656"/>
                  </a:lnTo>
                  <a:lnTo>
                    <a:pt x="0" y="114157"/>
                  </a:lnTo>
                  <a:lnTo>
                    <a:pt x="261" y="121697"/>
                  </a:lnTo>
                  <a:lnTo>
                    <a:pt x="1282" y="129264"/>
                  </a:lnTo>
                  <a:lnTo>
                    <a:pt x="2809" y="137695"/>
                  </a:lnTo>
                  <a:lnTo>
                    <a:pt x="4674" y="146703"/>
                  </a:lnTo>
                  <a:lnTo>
                    <a:pt x="6764" y="156095"/>
                  </a:lnTo>
                  <a:lnTo>
                    <a:pt x="9850" y="164049"/>
                  </a:lnTo>
                  <a:lnTo>
                    <a:pt x="13601" y="171045"/>
                  </a:lnTo>
                  <a:lnTo>
                    <a:pt x="31788" y="198486"/>
                  </a:lnTo>
                  <a:lnTo>
                    <a:pt x="38386" y="205010"/>
                  </a:lnTo>
                  <a:lnTo>
                    <a:pt x="46172" y="211053"/>
                  </a:lnTo>
                  <a:lnTo>
                    <a:pt x="54749" y="216775"/>
                  </a:lnTo>
                  <a:lnTo>
                    <a:pt x="63854" y="222283"/>
                  </a:lnTo>
                  <a:lnTo>
                    <a:pt x="73310" y="227647"/>
                  </a:lnTo>
                  <a:lnTo>
                    <a:pt x="83001" y="232918"/>
                  </a:lnTo>
                  <a:lnTo>
                    <a:pt x="93695" y="238125"/>
                  </a:lnTo>
                  <a:lnTo>
                    <a:pt x="105058" y="243289"/>
                  </a:lnTo>
                  <a:lnTo>
                    <a:pt x="116866" y="248425"/>
                  </a:lnTo>
                  <a:lnTo>
                    <a:pt x="129819" y="251850"/>
                  </a:lnTo>
                  <a:lnTo>
                    <a:pt x="143533" y="254133"/>
                  </a:lnTo>
                  <a:lnTo>
                    <a:pt x="157757" y="255654"/>
                  </a:lnTo>
                  <a:lnTo>
                    <a:pt x="169779" y="257515"/>
                  </a:lnTo>
                  <a:lnTo>
                    <a:pt x="180334" y="259604"/>
                  </a:lnTo>
                  <a:lnTo>
                    <a:pt x="189910" y="261842"/>
                  </a:lnTo>
                  <a:lnTo>
                    <a:pt x="198835" y="263334"/>
                  </a:lnTo>
                  <a:lnTo>
                    <a:pt x="207324" y="264329"/>
                  </a:lnTo>
                  <a:lnTo>
                    <a:pt x="231923" y="2663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SMARTInkAnnotation139"/>
            <p:cNvSpPr/>
            <p:nvPr/>
          </p:nvSpPr>
          <p:spPr>
            <a:xfrm>
              <a:off x="1371600" y="3081600"/>
              <a:ext cx="409680" cy="3776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09871" h="377681">
                  <a:moveTo>
                    <a:pt x="0" y="171940"/>
                  </a:moveTo>
                  <a:lnTo>
                    <a:pt x="0" y="134863"/>
                  </a:lnTo>
                  <a:lnTo>
                    <a:pt x="2258" y="125546"/>
                  </a:lnTo>
                  <a:lnTo>
                    <a:pt x="5237" y="115760"/>
                  </a:lnTo>
                  <a:lnTo>
                    <a:pt x="6561" y="105767"/>
                  </a:lnTo>
                  <a:lnTo>
                    <a:pt x="9407" y="97939"/>
                  </a:lnTo>
                  <a:lnTo>
                    <a:pt x="15769" y="86514"/>
                  </a:lnTo>
                  <a:lnTo>
                    <a:pt x="19708" y="78093"/>
                  </a:lnTo>
                  <a:lnTo>
                    <a:pt x="22773" y="67745"/>
                  </a:lnTo>
                  <a:lnTo>
                    <a:pt x="26490" y="59027"/>
                  </a:lnTo>
                  <a:lnTo>
                    <a:pt x="33343" y="48644"/>
                  </a:lnTo>
                  <a:lnTo>
                    <a:pt x="38244" y="40660"/>
                  </a:lnTo>
                  <a:lnTo>
                    <a:pt x="40736" y="36160"/>
                  </a:lnTo>
                  <a:lnTo>
                    <a:pt x="48020" y="28903"/>
                  </a:lnTo>
                  <a:lnTo>
                    <a:pt x="59384" y="20057"/>
                  </a:lnTo>
                  <a:lnTo>
                    <a:pt x="66186" y="14689"/>
                  </a:lnTo>
                  <a:lnTo>
                    <a:pt x="74854" y="9482"/>
                  </a:lnTo>
                  <a:lnTo>
                    <a:pt x="84351" y="6603"/>
                  </a:lnTo>
                  <a:lnTo>
                    <a:pt x="95063" y="5324"/>
                  </a:lnTo>
                  <a:lnTo>
                    <a:pt x="101475" y="4983"/>
                  </a:lnTo>
                  <a:lnTo>
                    <a:pt x="108290" y="4755"/>
                  </a:lnTo>
                  <a:lnTo>
                    <a:pt x="115373" y="3757"/>
                  </a:lnTo>
                  <a:lnTo>
                    <a:pt x="122635" y="2245"/>
                  </a:lnTo>
                  <a:lnTo>
                    <a:pt x="130017" y="390"/>
                  </a:lnTo>
                  <a:lnTo>
                    <a:pt x="137478" y="0"/>
                  </a:lnTo>
                  <a:lnTo>
                    <a:pt x="144992" y="587"/>
                  </a:lnTo>
                  <a:lnTo>
                    <a:pt x="152542" y="1825"/>
                  </a:lnTo>
                  <a:lnTo>
                    <a:pt x="160114" y="2650"/>
                  </a:lnTo>
                  <a:lnTo>
                    <a:pt x="167703" y="3200"/>
                  </a:lnTo>
                  <a:lnTo>
                    <a:pt x="175302" y="3567"/>
                  </a:lnTo>
                  <a:lnTo>
                    <a:pt x="182908" y="4658"/>
                  </a:lnTo>
                  <a:lnTo>
                    <a:pt x="190519" y="6232"/>
                  </a:lnTo>
                  <a:lnTo>
                    <a:pt x="198132" y="8128"/>
                  </a:lnTo>
                  <a:lnTo>
                    <a:pt x="205748" y="9392"/>
                  </a:lnTo>
                  <a:lnTo>
                    <a:pt x="213365" y="10235"/>
                  </a:lnTo>
                  <a:lnTo>
                    <a:pt x="220984" y="10797"/>
                  </a:lnTo>
                  <a:lnTo>
                    <a:pt x="227756" y="12864"/>
                  </a:lnTo>
                  <a:lnTo>
                    <a:pt x="239796" y="19678"/>
                  </a:lnTo>
                  <a:lnTo>
                    <a:pt x="246224" y="23018"/>
                  </a:lnTo>
                  <a:lnTo>
                    <a:pt x="253049" y="26092"/>
                  </a:lnTo>
                  <a:lnTo>
                    <a:pt x="260139" y="28988"/>
                  </a:lnTo>
                  <a:lnTo>
                    <a:pt x="272533" y="34464"/>
                  </a:lnTo>
                  <a:lnTo>
                    <a:pt x="284532" y="40566"/>
                  </a:lnTo>
                  <a:lnTo>
                    <a:pt x="291288" y="44564"/>
                  </a:lnTo>
                  <a:lnTo>
                    <a:pt x="298332" y="48923"/>
                  </a:lnTo>
                  <a:lnTo>
                    <a:pt x="310674" y="60539"/>
                  </a:lnTo>
                  <a:lnTo>
                    <a:pt x="316336" y="67193"/>
                  </a:lnTo>
                  <a:lnTo>
                    <a:pt x="321804" y="73322"/>
                  </a:lnTo>
                  <a:lnTo>
                    <a:pt x="332395" y="84648"/>
                  </a:lnTo>
                  <a:lnTo>
                    <a:pt x="337590" y="90885"/>
                  </a:lnTo>
                  <a:lnTo>
                    <a:pt x="342747" y="97583"/>
                  </a:lnTo>
                  <a:lnTo>
                    <a:pt x="347878" y="104589"/>
                  </a:lnTo>
                  <a:lnTo>
                    <a:pt x="358094" y="119146"/>
                  </a:lnTo>
                  <a:lnTo>
                    <a:pt x="363189" y="126584"/>
                  </a:lnTo>
                  <a:lnTo>
                    <a:pt x="367433" y="134083"/>
                  </a:lnTo>
                  <a:lnTo>
                    <a:pt x="371109" y="141622"/>
                  </a:lnTo>
                  <a:lnTo>
                    <a:pt x="374406" y="149188"/>
                  </a:lnTo>
                  <a:lnTo>
                    <a:pt x="378297" y="156772"/>
                  </a:lnTo>
                  <a:lnTo>
                    <a:pt x="382585" y="164368"/>
                  </a:lnTo>
                  <a:lnTo>
                    <a:pt x="387137" y="171972"/>
                  </a:lnTo>
                  <a:lnTo>
                    <a:pt x="391018" y="179582"/>
                  </a:lnTo>
                  <a:lnTo>
                    <a:pt x="394452" y="187194"/>
                  </a:lnTo>
                  <a:lnTo>
                    <a:pt x="397588" y="194810"/>
                  </a:lnTo>
                  <a:lnTo>
                    <a:pt x="400525" y="202426"/>
                  </a:lnTo>
                  <a:lnTo>
                    <a:pt x="406047" y="217663"/>
                  </a:lnTo>
                  <a:lnTo>
                    <a:pt x="407858" y="225282"/>
                  </a:lnTo>
                  <a:lnTo>
                    <a:pt x="409065" y="232901"/>
                  </a:lnTo>
                  <a:lnTo>
                    <a:pt x="409870" y="240521"/>
                  </a:lnTo>
                  <a:lnTo>
                    <a:pt x="409560" y="248141"/>
                  </a:lnTo>
                  <a:lnTo>
                    <a:pt x="408507" y="255761"/>
                  </a:lnTo>
                  <a:lnTo>
                    <a:pt x="406958" y="263380"/>
                  </a:lnTo>
                  <a:lnTo>
                    <a:pt x="405078" y="271000"/>
                  </a:lnTo>
                  <a:lnTo>
                    <a:pt x="402979" y="278620"/>
                  </a:lnTo>
                  <a:lnTo>
                    <a:pt x="400733" y="286241"/>
                  </a:lnTo>
                  <a:lnTo>
                    <a:pt x="398388" y="293014"/>
                  </a:lnTo>
                  <a:lnTo>
                    <a:pt x="395979" y="299223"/>
                  </a:lnTo>
                  <a:lnTo>
                    <a:pt x="393526" y="305055"/>
                  </a:lnTo>
                  <a:lnTo>
                    <a:pt x="391891" y="311483"/>
                  </a:lnTo>
                  <a:lnTo>
                    <a:pt x="390800" y="318309"/>
                  </a:lnTo>
                  <a:lnTo>
                    <a:pt x="390074" y="325399"/>
                  </a:lnTo>
                  <a:lnTo>
                    <a:pt x="388742" y="331820"/>
                  </a:lnTo>
                  <a:lnTo>
                    <a:pt x="385005" y="343469"/>
                  </a:lnTo>
                  <a:lnTo>
                    <a:pt x="382780" y="354291"/>
                  </a:lnTo>
                  <a:lnTo>
                    <a:pt x="382187" y="359547"/>
                  </a:lnTo>
                  <a:lnTo>
                    <a:pt x="379270" y="367645"/>
                  </a:lnTo>
                  <a:lnTo>
                    <a:pt x="373380" y="3776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MARTInkAnnotation140"/>
            <p:cNvSpPr/>
            <p:nvPr/>
          </p:nvSpPr>
          <p:spPr>
            <a:xfrm>
              <a:off x="1386720" y="3101400"/>
              <a:ext cx="1043640" cy="433800"/>
            </a:xfrm>
            <a:custGeom>
              <a:avLst/>
              <a:gdLst>
                <a:gd name="textAreaLeft" fmla="*/ 0 w 1043640"/>
                <a:gd name="textAreaRight" fmla="*/ 1044000 w 1043640"/>
                <a:gd name="textAreaTop" fmla="*/ 0 h 433800"/>
                <a:gd name="textAreaBottom" fmla="*/ 434160 h 433800"/>
              </a:gdLst>
              <a:ahLst/>
              <a:rect l="textAreaLeft" t="textAreaTop" r="textAreaRight" b="textAreaBottom"/>
              <a:pathLst>
                <a:path w="1043941" h="433957">
                  <a:moveTo>
                    <a:pt x="0" y="281556"/>
                  </a:moveTo>
                  <a:lnTo>
                    <a:pt x="6561" y="268435"/>
                  </a:lnTo>
                  <a:lnTo>
                    <a:pt x="7306" y="258853"/>
                  </a:lnTo>
                  <a:lnTo>
                    <a:pt x="9738" y="247760"/>
                  </a:lnTo>
                  <a:lnTo>
                    <a:pt x="11572" y="241245"/>
                  </a:lnTo>
                  <a:lnTo>
                    <a:pt x="18125" y="229491"/>
                  </a:lnTo>
                  <a:lnTo>
                    <a:pt x="25836" y="218623"/>
                  </a:lnTo>
                  <a:lnTo>
                    <a:pt x="32085" y="208148"/>
                  </a:lnTo>
                  <a:lnTo>
                    <a:pt x="39942" y="197848"/>
                  </a:lnTo>
                  <a:lnTo>
                    <a:pt x="49079" y="186780"/>
                  </a:lnTo>
                  <a:lnTo>
                    <a:pt x="58784" y="173393"/>
                  </a:lnTo>
                  <a:lnTo>
                    <a:pt x="68742" y="161235"/>
                  </a:lnTo>
                  <a:lnTo>
                    <a:pt x="80505" y="149340"/>
                  </a:lnTo>
                  <a:lnTo>
                    <a:pt x="88383" y="142612"/>
                  </a:lnTo>
                  <a:lnTo>
                    <a:pt x="105321" y="129210"/>
                  </a:lnTo>
                  <a:lnTo>
                    <a:pt x="121316" y="117609"/>
                  </a:lnTo>
                  <a:lnTo>
                    <a:pt x="144601" y="101558"/>
                  </a:lnTo>
                  <a:lnTo>
                    <a:pt x="167587" y="86077"/>
                  </a:lnTo>
                  <a:lnTo>
                    <a:pt x="185114" y="75861"/>
                  </a:lnTo>
                  <a:lnTo>
                    <a:pt x="205040" y="65676"/>
                  </a:lnTo>
                  <a:lnTo>
                    <a:pt x="250067" y="45340"/>
                  </a:lnTo>
                  <a:lnTo>
                    <a:pt x="281527" y="32355"/>
                  </a:lnTo>
                  <a:lnTo>
                    <a:pt x="302923" y="25173"/>
                  </a:lnTo>
                  <a:lnTo>
                    <a:pt x="326544" y="16337"/>
                  </a:lnTo>
                  <a:lnTo>
                    <a:pt x="351153" y="11281"/>
                  </a:lnTo>
                  <a:lnTo>
                    <a:pt x="376201" y="8187"/>
                  </a:lnTo>
                  <a:lnTo>
                    <a:pt x="401445" y="3990"/>
                  </a:lnTo>
                  <a:lnTo>
                    <a:pt x="426776" y="1560"/>
                  </a:lnTo>
                  <a:lnTo>
                    <a:pt x="452991" y="480"/>
                  </a:lnTo>
                  <a:lnTo>
                    <a:pt x="481576" y="0"/>
                  </a:lnTo>
                  <a:lnTo>
                    <a:pt x="511214" y="2044"/>
                  </a:lnTo>
                  <a:lnTo>
                    <a:pt x="540473" y="4929"/>
                  </a:lnTo>
                  <a:lnTo>
                    <a:pt x="567588" y="6211"/>
                  </a:lnTo>
                  <a:lnTo>
                    <a:pt x="596008" y="9038"/>
                  </a:lnTo>
                  <a:lnTo>
                    <a:pt x="625572" y="13964"/>
                  </a:lnTo>
                  <a:lnTo>
                    <a:pt x="655645" y="21797"/>
                  </a:lnTo>
                  <a:lnTo>
                    <a:pt x="683687" y="30923"/>
                  </a:lnTo>
                  <a:lnTo>
                    <a:pt x="710261" y="40624"/>
                  </a:lnTo>
                  <a:lnTo>
                    <a:pt x="736183" y="50579"/>
                  </a:lnTo>
                  <a:lnTo>
                    <a:pt x="764072" y="62906"/>
                  </a:lnTo>
                  <a:lnTo>
                    <a:pt x="803818" y="81869"/>
                  </a:lnTo>
                  <a:lnTo>
                    <a:pt x="826306" y="94593"/>
                  </a:lnTo>
                  <a:lnTo>
                    <a:pt x="837044" y="102727"/>
                  </a:lnTo>
                  <a:lnTo>
                    <a:pt x="847589" y="111537"/>
                  </a:lnTo>
                  <a:lnTo>
                    <a:pt x="868337" y="128099"/>
                  </a:lnTo>
                  <a:lnTo>
                    <a:pt x="909252" y="159427"/>
                  </a:lnTo>
                  <a:lnTo>
                    <a:pt x="918588" y="167964"/>
                  </a:lnTo>
                  <a:lnTo>
                    <a:pt x="927352" y="177041"/>
                  </a:lnTo>
                  <a:lnTo>
                    <a:pt x="935735" y="186480"/>
                  </a:lnTo>
                  <a:lnTo>
                    <a:pt x="943017" y="196158"/>
                  </a:lnTo>
                  <a:lnTo>
                    <a:pt x="949564" y="205997"/>
                  </a:lnTo>
                  <a:lnTo>
                    <a:pt x="955623" y="215944"/>
                  </a:lnTo>
                  <a:lnTo>
                    <a:pt x="962202" y="225114"/>
                  </a:lnTo>
                  <a:lnTo>
                    <a:pt x="969128" y="233768"/>
                  </a:lnTo>
                  <a:lnTo>
                    <a:pt x="976285" y="242078"/>
                  </a:lnTo>
                  <a:lnTo>
                    <a:pt x="982750" y="251004"/>
                  </a:lnTo>
                  <a:lnTo>
                    <a:pt x="988754" y="260341"/>
                  </a:lnTo>
                  <a:lnTo>
                    <a:pt x="994449" y="269953"/>
                  </a:lnTo>
                  <a:lnTo>
                    <a:pt x="999093" y="278901"/>
                  </a:lnTo>
                  <a:lnTo>
                    <a:pt x="1003035" y="287406"/>
                  </a:lnTo>
                  <a:lnTo>
                    <a:pt x="1006510" y="295616"/>
                  </a:lnTo>
                  <a:lnTo>
                    <a:pt x="1009674" y="304476"/>
                  </a:lnTo>
                  <a:lnTo>
                    <a:pt x="1012629" y="313769"/>
                  </a:lnTo>
                  <a:lnTo>
                    <a:pt x="1018171" y="332280"/>
                  </a:lnTo>
                  <a:lnTo>
                    <a:pt x="1031191" y="372652"/>
                  </a:lnTo>
                  <a:lnTo>
                    <a:pt x="1032901" y="380386"/>
                  </a:lnTo>
                  <a:lnTo>
                    <a:pt x="1034041" y="388083"/>
                  </a:lnTo>
                  <a:lnTo>
                    <a:pt x="1034800" y="395754"/>
                  </a:lnTo>
                  <a:lnTo>
                    <a:pt x="1037902" y="408793"/>
                  </a:lnTo>
                  <a:lnTo>
                    <a:pt x="1041257" y="419386"/>
                  </a:lnTo>
                  <a:lnTo>
                    <a:pt x="1042151" y="423396"/>
                  </a:lnTo>
                  <a:lnTo>
                    <a:pt x="1043940" y="4339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MARTInkAnnotation141"/>
            <p:cNvSpPr/>
            <p:nvPr/>
          </p:nvSpPr>
          <p:spPr>
            <a:xfrm>
              <a:off x="868680" y="4777920"/>
              <a:ext cx="30240" cy="190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0481" h="190501">
                  <a:moveTo>
                    <a:pt x="30480" y="0"/>
                  </a:moveTo>
                  <a:lnTo>
                    <a:pt x="30480" y="43637"/>
                  </a:lnTo>
                  <a:lnTo>
                    <a:pt x="29634" y="48565"/>
                  </a:lnTo>
                  <a:lnTo>
                    <a:pt x="28222" y="53543"/>
                  </a:lnTo>
                  <a:lnTo>
                    <a:pt x="26435" y="58555"/>
                  </a:lnTo>
                  <a:lnTo>
                    <a:pt x="24397" y="63590"/>
                  </a:lnTo>
                  <a:lnTo>
                    <a:pt x="22191" y="68641"/>
                  </a:lnTo>
                  <a:lnTo>
                    <a:pt x="19874" y="73700"/>
                  </a:lnTo>
                  <a:lnTo>
                    <a:pt x="18330" y="78767"/>
                  </a:lnTo>
                  <a:lnTo>
                    <a:pt x="17300" y="83838"/>
                  </a:lnTo>
                  <a:lnTo>
                    <a:pt x="16613" y="88912"/>
                  </a:lnTo>
                  <a:lnTo>
                    <a:pt x="15309" y="94835"/>
                  </a:lnTo>
                  <a:lnTo>
                    <a:pt x="13593" y="101323"/>
                  </a:lnTo>
                  <a:lnTo>
                    <a:pt x="11602" y="108189"/>
                  </a:lnTo>
                  <a:lnTo>
                    <a:pt x="10275" y="114459"/>
                  </a:lnTo>
                  <a:lnTo>
                    <a:pt x="9390" y="120333"/>
                  </a:lnTo>
                  <a:lnTo>
                    <a:pt x="8800" y="125942"/>
                  </a:lnTo>
                  <a:lnTo>
                    <a:pt x="7560" y="131375"/>
                  </a:lnTo>
                  <a:lnTo>
                    <a:pt x="5887" y="136690"/>
                  </a:lnTo>
                  <a:lnTo>
                    <a:pt x="3925" y="141927"/>
                  </a:lnTo>
                  <a:lnTo>
                    <a:pt x="2616" y="147111"/>
                  </a:lnTo>
                  <a:lnTo>
                    <a:pt x="1744" y="152261"/>
                  </a:lnTo>
                  <a:lnTo>
                    <a:pt x="1163" y="157387"/>
                  </a:lnTo>
                  <a:lnTo>
                    <a:pt x="775" y="161652"/>
                  </a:lnTo>
                  <a:lnTo>
                    <a:pt x="517" y="165341"/>
                  </a:lnTo>
                  <a:lnTo>
                    <a:pt x="345" y="168648"/>
                  </a:lnTo>
                  <a:lnTo>
                    <a:pt x="153" y="174579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MARTInkAnnotation142"/>
            <p:cNvSpPr/>
            <p:nvPr/>
          </p:nvSpPr>
          <p:spPr>
            <a:xfrm>
              <a:off x="800280" y="4861800"/>
              <a:ext cx="289440" cy="2286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9561" h="228601">
                  <a:moveTo>
                    <a:pt x="289560" y="0"/>
                  </a:moveTo>
                  <a:lnTo>
                    <a:pt x="282999" y="6561"/>
                  </a:lnTo>
                  <a:lnTo>
                    <a:pt x="282411" y="9407"/>
                  </a:lnTo>
                  <a:lnTo>
                    <a:pt x="282254" y="11351"/>
                  </a:lnTo>
                  <a:lnTo>
                    <a:pt x="281303" y="13494"/>
                  </a:lnTo>
                  <a:lnTo>
                    <a:pt x="276766" y="20556"/>
                  </a:lnTo>
                  <a:lnTo>
                    <a:pt x="275407" y="25505"/>
                  </a:lnTo>
                  <a:lnTo>
                    <a:pt x="274198" y="27163"/>
                  </a:lnTo>
                  <a:lnTo>
                    <a:pt x="272546" y="28268"/>
                  </a:lnTo>
                  <a:lnTo>
                    <a:pt x="270597" y="29005"/>
                  </a:lnTo>
                  <a:lnTo>
                    <a:pt x="268451" y="31191"/>
                  </a:lnTo>
                  <a:lnTo>
                    <a:pt x="261387" y="41509"/>
                  </a:lnTo>
                  <a:lnTo>
                    <a:pt x="256437" y="47517"/>
                  </a:lnTo>
                  <a:lnTo>
                    <a:pt x="249156" y="53010"/>
                  </a:lnTo>
                  <a:lnTo>
                    <a:pt x="240276" y="59119"/>
                  </a:lnTo>
                  <a:lnTo>
                    <a:pt x="235537" y="63120"/>
                  </a:lnTo>
                  <a:lnTo>
                    <a:pt x="226604" y="71233"/>
                  </a:lnTo>
                  <a:lnTo>
                    <a:pt x="219811" y="77662"/>
                  </a:lnTo>
                  <a:lnTo>
                    <a:pt x="207181" y="90085"/>
                  </a:lnTo>
                  <a:lnTo>
                    <a:pt x="201621" y="93924"/>
                  </a:lnTo>
                  <a:lnTo>
                    <a:pt x="195374" y="97329"/>
                  </a:lnTo>
                  <a:lnTo>
                    <a:pt x="188669" y="100446"/>
                  </a:lnTo>
                  <a:lnTo>
                    <a:pt x="182506" y="104217"/>
                  </a:lnTo>
                  <a:lnTo>
                    <a:pt x="176704" y="108425"/>
                  </a:lnTo>
                  <a:lnTo>
                    <a:pt x="171143" y="112923"/>
                  </a:lnTo>
                  <a:lnTo>
                    <a:pt x="164895" y="116769"/>
                  </a:lnTo>
                  <a:lnTo>
                    <a:pt x="158190" y="120179"/>
                  </a:lnTo>
                  <a:lnTo>
                    <a:pt x="151180" y="123299"/>
                  </a:lnTo>
                  <a:lnTo>
                    <a:pt x="143967" y="127073"/>
                  </a:lnTo>
                  <a:lnTo>
                    <a:pt x="136618" y="131282"/>
                  </a:lnTo>
                  <a:lnTo>
                    <a:pt x="129179" y="135781"/>
                  </a:lnTo>
                  <a:lnTo>
                    <a:pt x="122526" y="139628"/>
                  </a:lnTo>
                  <a:lnTo>
                    <a:pt x="110618" y="146159"/>
                  </a:lnTo>
                  <a:lnTo>
                    <a:pt x="105072" y="149933"/>
                  </a:lnTo>
                  <a:lnTo>
                    <a:pt x="99681" y="154142"/>
                  </a:lnTo>
                  <a:lnTo>
                    <a:pt x="94394" y="158641"/>
                  </a:lnTo>
                  <a:lnTo>
                    <a:pt x="89176" y="162487"/>
                  </a:lnTo>
                  <a:lnTo>
                    <a:pt x="84004" y="165898"/>
                  </a:lnTo>
                  <a:lnTo>
                    <a:pt x="78863" y="169019"/>
                  </a:lnTo>
                  <a:lnTo>
                    <a:pt x="73742" y="172793"/>
                  </a:lnTo>
                  <a:lnTo>
                    <a:pt x="68635" y="177002"/>
                  </a:lnTo>
                  <a:lnTo>
                    <a:pt x="63536" y="181501"/>
                  </a:lnTo>
                  <a:lnTo>
                    <a:pt x="57598" y="185347"/>
                  </a:lnTo>
                  <a:lnTo>
                    <a:pt x="51099" y="188758"/>
                  </a:lnTo>
                  <a:lnTo>
                    <a:pt x="44226" y="191879"/>
                  </a:lnTo>
                  <a:lnTo>
                    <a:pt x="38797" y="194806"/>
                  </a:lnTo>
                  <a:lnTo>
                    <a:pt x="30508" y="200316"/>
                  </a:lnTo>
                  <a:lnTo>
                    <a:pt x="27112" y="203817"/>
                  </a:lnTo>
                  <a:lnTo>
                    <a:pt x="24001" y="207845"/>
                  </a:lnTo>
                  <a:lnTo>
                    <a:pt x="21081" y="212223"/>
                  </a:lnTo>
                  <a:lnTo>
                    <a:pt x="18287" y="215142"/>
                  </a:lnTo>
                  <a:lnTo>
                    <a:pt x="15578" y="217088"/>
                  </a:lnTo>
                  <a:lnTo>
                    <a:pt x="12925" y="218385"/>
                  </a:lnTo>
                  <a:lnTo>
                    <a:pt x="11157" y="220097"/>
                  </a:lnTo>
                  <a:lnTo>
                    <a:pt x="9978" y="222084"/>
                  </a:lnTo>
                  <a:lnTo>
                    <a:pt x="9192" y="224256"/>
                  </a:lnTo>
                  <a:lnTo>
                    <a:pt x="7821" y="225704"/>
                  </a:lnTo>
                  <a:lnTo>
                    <a:pt x="6061" y="226669"/>
                  </a:lnTo>
                  <a:lnTo>
                    <a:pt x="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MARTInkAnnotation143"/>
            <p:cNvSpPr/>
            <p:nvPr/>
          </p:nvSpPr>
          <p:spPr>
            <a:xfrm>
              <a:off x="952560" y="5006520"/>
              <a:ext cx="129240" cy="83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29502" h="83725">
                  <a:moveTo>
                    <a:pt x="60921" y="0"/>
                  </a:moveTo>
                  <a:lnTo>
                    <a:pt x="49349" y="11572"/>
                  </a:lnTo>
                  <a:lnTo>
                    <a:pt x="48126" y="13642"/>
                  </a:lnTo>
                  <a:lnTo>
                    <a:pt x="47311" y="15867"/>
                  </a:lnTo>
                  <a:lnTo>
                    <a:pt x="46768" y="18199"/>
                  </a:lnTo>
                  <a:lnTo>
                    <a:pt x="44712" y="19752"/>
                  </a:lnTo>
                  <a:lnTo>
                    <a:pt x="41648" y="20788"/>
                  </a:lnTo>
                  <a:lnTo>
                    <a:pt x="37913" y="21479"/>
                  </a:lnTo>
                  <a:lnTo>
                    <a:pt x="34576" y="22786"/>
                  </a:lnTo>
                  <a:lnTo>
                    <a:pt x="31504" y="24504"/>
                  </a:lnTo>
                  <a:lnTo>
                    <a:pt x="28610" y="26496"/>
                  </a:lnTo>
                  <a:lnTo>
                    <a:pt x="26680" y="28670"/>
                  </a:lnTo>
                  <a:lnTo>
                    <a:pt x="25394" y="30967"/>
                  </a:lnTo>
                  <a:lnTo>
                    <a:pt x="24536" y="33345"/>
                  </a:lnTo>
                  <a:lnTo>
                    <a:pt x="23118" y="35777"/>
                  </a:lnTo>
                  <a:lnTo>
                    <a:pt x="21325" y="38244"/>
                  </a:lnTo>
                  <a:lnTo>
                    <a:pt x="19284" y="40736"/>
                  </a:lnTo>
                  <a:lnTo>
                    <a:pt x="17076" y="43244"/>
                  </a:lnTo>
                  <a:lnTo>
                    <a:pt x="14758" y="45763"/>
                  </a:lnTo>
                  <a:lnTo>
                    <a:pt x="9924" y="50819"/>
                  </a:lnTo>
                  <a:lnTo>
                    <a:pt x="1440" y="59457"/>
                  </a:lnTo>
                  <a:lnTo>
                    <a:pt x="947" y="60805"/>
                  </a:lnTo>
                  <a:lnTo>
                    <a:pt x="618" y="62550"/>
                  </a:lnTo>
                  <a:lnTo>
                    <a:pt x="91" y="67389"/>
                  </a:lnTo>
                  <a:lnTo>
                    <a:pt x="48" y="68632"/>
                  </a:lnTo>
                  <a:lnTo>
                    <a:pt x="0" y="72272"/>
                  </a:lnTo>
                  <a:lnTo>
                    <a:pt x="833" y="73582"/>
                  </a:lnTo>
                  <a:lnTo>
                    <a:pt x="2236" y="74454"/>
                  </a:lnTo>
                  <a:lnTo>
                    <a:pt x="6052" y="75424"/>
                  </a:lnTo>
                  <a:lnTo>
                    <a:pt x="8255" y="75683"/>
                  </a:lnTo>
                  <a:lnTo>
                    <a:pt x="10570" y="75855"/>
                  </a:lnTo>
                  <a:lnTo>
                    <a:pt x="13807" y="76817"/>
                  </a:lnTo>
                  <a:lnTo>
                    <a:pt x="17659" y="78305"/>
                  </a:lnTo>
                  <a:lnTo>
                    <a:pt x="21919" y="80143"/>
                  </a:lnTo>
                  <a:lnTo>
                    <a:pt x="26453" y="81368"/>
                  </a:lnTo>
                  <a:lnTo>
                    <a:pt x="31169" y="82186"/>
                  </a:lnTo>
                  <a:lnTo>
                    <a:pt x="36007" y="82730"/>
                  </a:lnTo>
                  <a:lnTo>
                    <a:pt x="40925" y="83094"/>
                  </a:lnTo>
                  <a:lnTo>
                    <a:pt x="45897" y="83336"/>
                  </a:lnTo>
                  <a:lnTo>
                    <a:pt x="58727" y="83677"/>
                  </a:lnTo>
                  <a:lnTo>
                    <a:pt x="61998" y="83724"/>
                  </a:lnTo>
                  <a:lnTo>
                    <a:pt x="65873" y="82909"/>
                  </a:lnTo>
                  <a:lnTo>
                    <a:pt x="70149" y="81520"/>
                  </a:lnTo>
                  <a:lnTo>
                    <a:pt x="74693" y="79746"/>
                  </a:lnTo>
                  <a:lnTo>
                    <a:pt x="79416" y="78564"/>
                  </a:lnTo>
                  <a:lnTo>
                    <a:pt x="84258" y="77776"/>
                  </a:lnTo>
                  <a:lnTo>
                    <a:pt x="89179" y="77251"/>
                  </a:lnTo>
                  <a:lnTo>
                    <a:pt x="93306" y="76900"/>
                  </a:lnTo>
                  <a:lnTo>
                    <a:pt x="96904" y="76667"/>
                  </a:lnTo>
                  <a:lnTo>
                    <a:pt x="100150" y="76512"/>
                  </a:lnTo>
                  <a:lnTo>
                    <a:pt x="103160" y="75561"/>
                  </a:lnTo>
                  <a:lnTo>
                    <a:pt x="106014" y="74081"/>
                  </a:lnTo>
                  <a:lnTo>
                    <a:pt x="108763" y="72247"/>
                  </a:lnTo>
                  <a:lnTo>
                    <a:pt x="111442" y="71025"/>
                  </a:lnTo>
                  <a:lnTo>
                    <a:pt x="114075" y="70210"/>
                  </a:lnTo>
                  <a:lnTo>
                    <a:pt x="116677" y="69666"/>
                  </a:lnTo>
                  <a:lnTo>
                    <a:pt x="119258" y="69304"/>
                  </a:lnTo>
                  <a:lnTo>
                    <a:pt x="121826" y="69063"/>
                  </a:lnTo>
                  <a:lnTo>
                    <a:pt x="129501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MARTInkAnnotation144"/>
            <p:cNvSpPr/>
            <p:nvPr/>
          </p:nvSpPr>
          <p:spPr>
            <a:xfrm>
              <a:off x="1059120" y="5022000"/>
              <a:ext cx="83520" cy="159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83821" h="160021">
                  <a:moveTo>
                    <a:pt x="83820" y="0"/>
                  </a:moveTo>
                  <a:lnTo>
                    <a:pt x="79775" y="4045"/>
                  </a:lnTo>
                  <a:lnTo>
                    <a:pt x="77737" y="5237"/>
                  </a:lnTo>
                  <a:lnTo>
                    <a:pt x="75532" y="6032"/>
                  </a:lnTo>
                  <a:lnTo>
                    <a:pt x="73214" y="6562"/>
                  </a:lnTo>
                  <a:lnTo>
                    <a:pt x="70823" y="7761"/>
                  </a:lnTo>
                  <a:lnTo>
                    <a:pt x="68382" y="9408"/>
                  </a:lnTo>
                  <a:lnTo>
                    <a:pt x="65908" y="11352"/>
                  </a:lnTo>
                  <a:lnTo>
                    <a:pt x="63412" y="13495"/>
                  </a:lnTo>
                  <a:lnTo>
                    <a:pt x="60902" y="15770"/>
                  </a:lnTo>
                  <a:lnTo>
                    <a:pt x="58381" y="18133"/>
                  </a:lnTo>
                  <a:lnTo>
                    <a:pt x="55854" y="21402"/>
                  </a:lnTo>
                  <a:lnTo>
                    <a:pt x="53323" y="25275"/>
                  </a:lnTo>
                  <a:lnTo>
                    <a:pt x="50789" y="29550"/>
                  </a:lnTo>
                  <a:lnTo>
                    <a:pt x="48252" y="33247"/>
                  </a:lnTo>
                  <a:lnTo>
                    <a:pt x="45715" y="36558"/>
                  </a:lnTo>
                  <a:lnTo>
                    <a:pt x="43177" y="39612"/>
                  </a:lnTo>
                  <a:lnTo>
                    <a:pt x="40638" y="43341"/>
                  </a:lnTo>
                  <a:lnTo>
                    <a:pt x="38099" y="47521"/>
                  </a:lnTo>
                  <a:lnTo>
                    <a:pt x="35559" y="52001"/>
                  </a:lnTo>
                  <a:lnTo>
                    <a:pt x="33020" y="55834"/>
                  </a:lnTo>
                  <a:lnTo>
                    <a:pt x="30480" y="59236"/>
                  </a:lnTo>
                  <a:lnTo>
                    <a:pt x="27940" y="62351"/>
                  </a:lnTo>
                  <a:lnTo>
                    <a:pt x="25400" y="66121"/>
                  </a:lnTo>
                  <a:lnTo>
                    <a:pt x="22860" y="70327"/>
                  </a:lnTo>
                  <a:lnTo>
                    <a:pt x="20320" y="74825"/>
                  </a:lnTo>
                  <a:lnTo>
                    <a:pt x="15240" y="84338"/>
                  </a:lnTo>
                  <a:lnTo>
                    <a:pt x="5080" y="104243"/>
                  </a:lnTo>
                  <a:lnTo>
                    <a:pt x="3387" y="108442"/>
                  </a:lnTo>
                  <a:lnTo>
                    <a:pt x="2258" y="112088"/>
                  </a:lnTo>
                  <a:lnTo>
                    <a:pt x="1505" y="115365"/>
                  </a:lnTo>
                  <a:lnTo>
                    <a:pt x="1004" y="119244"/>
                  </a:lnTo>
                  <a:lnTo>
                    <a:pt x="669" y="123523"/>
                  </a:lnTo>
                  <a:lnTo>
                    <a:pt x="298" y="131946"/>
                  </a:lnTo>
                  <a:lnTo>
                    <a:pt x="88" y="141448"/>
                  </a:lnTo>
                  <a:lnTo>
                    <a:pt x="0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MARTInkAnnotation145"/>
            <p:cNvSpPr/>
            <p:nvPr/>
          </p:nvSpPr>
          <p:spPr>
            <a:xfrm>
              <a:off x="1226880" y="4961880"/>
              <a:ext cx="45360" cy="367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5701" h="37002">
                  <a:moveTo>
                    <a:pt x="-27447" y="14171"/>
                  </a:moveTo>
                  <a:lnTo>
                    <a:pt x="23477" y="21477"/>
                  </a:lnTo>
                  <a:lnTo>
                    <a:pt x="22421" y="21582"/>
                  </a:lnTo>
                  <a:lnTo>
                    <a:pt x="20870" y="21651"/>
                  </a:lnTo>
                  <a:lnTo>
                    <a:pt x="16343" y="21764"/>
                  </a:lnTo>
                  <a:lnTo>
                    <a:pt x="11514" y="21783"/>
                  </a:lnTo>
                  <a:lnTo>
                    <a:pt x="9366" y="20939"/>
                  </a:lnTo>
                  <a:lnTo>
                    <a:pt x="7087" y="19530"/>
                  </a:lnTo>
                  <a:lnTo>
                    <a:pt x="26" y="14199"/>
                  </a:lnTo>
                  <a:lnTo>
                    <a:pt x="0" y="14179"/>
                  </a:lnTo>
                  <a:lnTo>
                    <a:pt x="4037" y="10128"/>
                  </a:lnTo>
                  <a:lnTo>
                    <a:pt x="6075" y="8936"/>
                  </a:lnTo>
                  <a:lnTo>
                    <a:pt x="8280" y="8141"/>
                  </a:lnTo>
                  <a:lnTo>
                    <a:pt x="13856" y="6866"/>
                  </a:lnTo>
                  <a:lnTo>
                    <a:pt x="15161" y="6761"/>
                  </a:lnTo>
                  <a:lnTo>
                    <a:pt x="16877" y="6691"/>
                  </a:lnTo>
                  <a:lnTo>
                    <a:pt x="21041" y="6614"/>
                  </a:lnTo>
                  <a:lnTo>
                    <a:pt x="-20180" y="6552"/>
                  </a:lnTo>
                  <a:lnTo>
                    <a:pt x="-20062" y="7398"/>
                  </a:lnTo>
                  <a:lnTo>
                    <a:pt x="-19984" y="8809"/>
                  </a:lnTo>
                  <a:lnTo>
                    <a:pt x="-19836" y="13857"/>
                  </a:lnTo>
                  <a:lnTo>
                    <a:pt x="-20680" y="14808"/>
                  </a:lnTo>
                  <a:lnTo>
                    <a:pt x="-26388" y="20705"/>
                  </a:lnTo>
                  <a:lnTo>
                    <a:pt x="-26742" y="21913"/>
                  </a:lnTo>
                  <a:lnTo>
                    <a:pt x="-26976" y="23566"/>
                  </a:lnTo>
                  <a:lnTo>
                    <a:pt x="-27133" y="25514"/>
                  </a:lnTo>
                  <a:lnTo>
                    <a:pt x="-28931" y="26813"/>
                  </a:lnTo>
                  <a:lnTo>
                    <a:pt x="-31823" y="27679"/>
                  </a:lnTo>
                  <a:lnTo>
                    <a:pt x="30092" y="28257"/>
                  </a:lnTo>
                  <a:lnTo>
                    <a:pt x="27678" y="29488"/>
                  </a:lnTo>
                  <a:lnTo>
                    <a:pt x="26068" y="31155"/>
                  </a:lnTo>
                  <a:lnTo>
                    <a:pt x="24995" y="-32422"/>
                  </a:lnTo>
                  <a:lnTo>
                    <a:pt x="23433" y="-31116"/>
                  </a:lnTo>
                  <a:lnTo>
                    <a:pt x="21545" y="-30246"/>
                  </a:lnTo>
                  <a:lnTo>
                    <a:pt x="16477" y="-28849"/>
                  </a:lnTo>
                  <a:lnTo>
                    <a:pt x="15214" y="-28734"/>
                  </a:lnTo>
                  <a:lnTo>
                    <a:pt x="13526" y="-28658"/>
                  </a:lnTo>
                  <a:lnTo>
                    <a:pt x="8778" y="-28535"/>
                  </a:lnTo>
                  <a:lnTo>
                    <a:pt x="8388" y="-29372"/>
                  </a:lnTo>
                  <a:lnTo>
                    <a:pt x="8129" y="-30776"/>
                  </a:lnTo>
                  <a:lnTo>
                    <a:pt x="7955" y="-32559"/>
                  </a:lnTo>
                  <a:lnTo>
                    <a:pt x="7840" y="30942"/>
                  </a:lnTo>
                  <a:lnTo>
                    <a:pt x="7640" y="23164"/>
                  </a:lnTo>
                  <a:lnTo>
                    <a:pt x="7618" y="18153"/>
                  </a:lnTo>
                  <a:lnTo>
                    <a:pt x="8462" y="16826"/>
                  </a:lnTo>
                  <a:lnTo>
                    <a:pt x="9871" y="15940"/>
                  </a:lnTo>
                  <a:lnTo>
                    <a:pt x="11657" y="15351"/>
                  </a:lnTo>
                  <a:lnTo>
                    <a:pt x="12847" y="14111"/>
                  </a:lnTo>
                  <a:lnTo>
                    <a:pt x="13641" y="12438"/>
                  </a:lnTo>
                  <a:lnTo>
                    <a:pt x="14915" y="7714"/>
                  </a:lnTo>
                  <a:lnTo>
                    <a:pt x="15867" y="7326"/>
                  </a:lnTo>
                  <a:lnTo>
                    <a:pt x="17347" y="7068"/>
                  </a:lnTo>
                  <a:lnTo>
                    <a:pt x="21762" y="6653"/>
                  </a:lnTo>
                  <a:lnTo>
                    <a:pt x="22125" y="5773"/>
                  </a:lnTo>
                  <a:lnTo>
                    <a:pt x="22366" y="4339"/>
                  </a:lnTo>
                  <a:lnTo>
                    <a:pt x="22754" y="0"/>
                  </a:lnTo>
                  <a:lnTo>
                    <a:pt x="22785" y="490"/>
                  </a:lnTo>
                  <a:lnTo>
                    <a:pt x="22849" y="65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MARTInkAnnotation146"/>
            <p:cNvSpPr/>
            <p:nvPr/>
          </p:nvSpPr>
          <p:spPr>
            <a:xfrm>
              <a:off x="1334880" y="4823640"/>
              <a:ext cx="120240" cy="106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20358" h="106545">
                  <a:moveTo>
                    <a:pt x="97509" y="15239"/>
                  </a:moveTo>
                  <a:lnTo>
                    <a:pt x="97509" y="321"/>
                  </a:lnTo>
                  <a:lnTo>
                    <a:pt x="95251" y="142"/>
                  </a:lnTo>
                  <a:lnTo>
                    <a:pt x="90948" y="28"/>
                  </a:lnTo>
                  <a:lnTo>
                    <a:pt x="67959" y="0"/>
                  </a:lnTo>
                  <a:lnTo>
                    <a:pt x="62569" y="847"/>
                  </a:lnTo>
                  <a:lnTo>
                    <a:pt x="56436" y="2257"/>
                  </a:lnTo>
                  <a:lnTo>
                    <a:pt x="49807" y="4044"/>
                  </a:lnTo>
                  <a:lnTo>
                    <a:pt x="43694" y="6083"/>
                  </a:lnTo>
                  <a:lnTo>
                    <a:pt x="37926" y="8288"/>
                  </a:lnTo>
                  <a:lnTo>
                    <a:pt x="32387" y="10605"/>
                  </a:lnTo>
                  <a:lnTo>
                    <a:pt x="27848" y="12997"/>
                  </a:lnTo>
                  <a:lnTo>
                    <a:pt x="23975" y="15437"/>
                  </a:lnTo>
                  <a:lnTo>
                    <a:pt x="20546" y="17911"/>
                  </a:lnTo>
                  <a:lnTo>
                    <a:pt x="17414" y="21254"/>
                  </a:lnTo>
                  <a:lnTo>
                    <a:pt x="14479" y="25176"/>
                  </a:lnTo>
                  <a:lnTo>
                    <a:pt x="11676" y="29483"/>
                  </a:lnTo>
                  <a:lnTo>
                    <a:pt x="8960" y="33202"/>
                  </a:lnTo>
                  <a:lnTo>
                    <a:pt x="6303" y="36528"/>
                  </a:lnTo>
                  <a:lnTo>
                    <a:pt x="3685" y="39592"/>
                  </a:lnTo>
                  <a:lnTo>
                    <a:pt x="1940" y="42481"/>
                  </a:lnTo>
                  <a:lnTo>
                    <a:pt x="776" y="45253"/>
                  </a:lnTo>
                  <a:lnTo>
                    <a:pt x="0" y="47949"/>
                  </a:lnTo>
                  <a:lnTo>
                    <a:pt x="330" y="51439"/>
                  </a:lnTo>
                  <a:lnTo>
                    <a:pt x="1396" y="55459"/>
                  </a:lnTo>
                  <a:lnTo>
                    <a:pt x="2954" y="59832"/>
                  </a:lnTo>
                  <a:lnTo>
                    <a:pt x="4839" y="64441"/>
                  </a:lnTo>
                  <a:lnTo>
                    <a:pt x="6943" y="69207"/>
                  </a:lnTo>
                  <a:lnTo>
                    <a:pt x="9191" y="74078"/>
                  </a:lnTo>
                  <a:lnTo>
                    <a:pt x="11537" y="78172"/>
                  </a:lnTo>
                  <a:lnTo>
                    <a:pt x="13948" y="81748"/>
                  </a:lnTo>
                  <a:lnTo>
                    <a:pt x="16402" y="84978"/>
                  </a:lnTo>
                  <a:lnTo>
                    <a:pt x="19731" y="87979"/>
                  </a:lnTo>
                  <a:lnTo>
                    <a:pt x="23643" y="90825"/>
                  </a:lnTo>
                  <a:lnTo>
                    <a:pt x="27946" y="93570"/>
                  </a:lnTo>
                  <a:lnTo>
                    <a:pt x="33353" y="96246"/>
                  </a:lnTo>
                  <a:lnTo>
                    <a:pt x="39499" y="98877"/>
                  </a:lnTo>
                  <a:lnTo>
                    <a:pt x="46136" y="101478"/>
                  </a:lnTo>
                  <a:lnTo>
                    <a:pt x="51407" y="103212"/>
                  </a:lnTo>
                  <a:lnTo>
                    <a:pt x="55767" y="104367"/>
                  </a:lnTo>
                  <a:lnTo>
                    <a:pt x="59521" y="105138"/>
                  </a:lnTo>
                  <a:lnTo>
                    <a:pt x="63717" y="105652"/>
                  </a:lnTo>
                  <a:lnTo>
                    <a:pt x="68208" y="105994"/>
                  </a:lnTo>
                  <a:lnTo>
                    <a:pt x="72895" y="106223"/>
                  </a:lnTo>
                  <a:lnTo>
                    <a:pt x="82618" y="106476"/>
                  </a:lnTo>
                  <a:lnTo>
                    <a:pt x="87582" y="106544"/>
                  </a:lnTo>
                  <a:lnTo>
                    <a:pt x="91738" y="105743"/>
                  </a:lnTo>
                  <a:lnTo>
                    <a:pt x="95355" y="104361"/>
                  </a:lnTo>
                  <a:lnTo>
                    <a:pt x="98613" y="102594"/>
                  </a:lnTo>
                  <a:lnTo>
                    <a:pt x="101632" y="100569"/>
                  </a:lnTo>
                  <a:lnTo>
                    <a:pt x="104491" y="98373"/>
                  </a:lnTo>
                  <a:lnTo>
                    <a:pt x="107244" y="96061"/>
                  </a:lnTo>
                  <a:lnTo>
                    <a:pt x="109925" y="93674"/>
                  </a:lnTo>
                  <a:lnTo>
                    <a:pt x="115163" y="88764"/>
                  </a:lnTo>
                  <a:lnTo>
                    <a:pt x="116898" y="86269"/>
                  </a:lnTo>
                  <a:lnTo>
                    <a:pt x="118055" y="83759"/>
                  </a:lnTo>
                  <a:lnTo>
                    <a:pt x="118827" y="81239"/>
                  </a:lnTo>
                  <a:lnTo>
                    <a:pt x="119341" y="78713"/>
                  </a:lnTo>
                  <a:lnTo>
                    <a:pt x="119684" y="76182"/>
                  </a:lnTo>
                  <a:lnTo>
                    <a:pt x="119912" y="73647"/>
                  </a:lnTo>
                  <a:lnTo>
                    <a:pt x="120065" y="71111"/>
                  </a:lnTo>
                  <a:lnTo>
                    <a:pt x="120234" y="66036"/>
                  </a:lnTo>
                  <a:lnTo>
                    <a:pt x="120342" y="55878"/>
                  </a:lnTo>
                  <a:lnTo>
                    <a:pt x="120357" y="50799"/>
                  </a:lnTo>
                  <a:lnTo>
                    <a:pt x="119514" y="49106"/>
                  </a:lnTo>
                  <a:lnTo>
                    <a:pt x="118106" y="47977"/>
                  </a:lnTo>
                  <a:lnTo>
                    <a:pt x="116321" y="47224"/>
                  </a:lnTo>
                  <a:lnTo>
                    <a:pt x="114283" y="45876"/>
                  </a:lnTo>
                  <a:lnTo>
                    <a:pt x="112078" y="44130"/>
                  </a:lnTo>
                  <a:lnTo>
                    <a:pt x="106502" y="39291"/>
                  </a:lnTo>
                  <a:lnTo>
                    <a:pt x="103482" y="38629"/>
                  </a:lnTo>
                  <a:lnTo>
                    <a:pt x="97509" y="380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SMARTInkAnnotation147"/>
            <p:cNvSpPr/>
            <p:nvPr/>
          </p:nvSpPr>
          <p:spPr>
            <a:xfrm>
              <a:off x="1349280" y="4907520"/>
              <a:ext cx="127440" cy="1141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27713" h="114169">
                  <a:moveTo>
                    <a:pt x="60363" y="45720"/>
                  </a:moveTo>
                  <a:lnTo>
                    <a:pt x="79242" y="45720"/>
                  </a:lnTo>
                  <a:lnTo>
                    <a:pt x="81415" y="44874"/>
                  </a:lnTo>
                  <a:lnTo>
                    <a:pt x="83711" y="43463"/>
                  </a:lnTo>
                  <a:lnTo>
                    <a:pt x="90426" y="38414"/>
                  </a:lnTo>
                  <a:lnTo>
                    <a:pt x="92915" y="38240"/>
                  </a:lnTo>
                  <a:lnTo>
                    <a:pt x="97367" y="38127"/>
                  </a:lnTo>
                  <a:lnTo>
                    <a:pt x="94093" y="38109"/>
                  </a:lnTo>
                  <a:lnTo>
                    <a:pt x="76277" y="38101"/>
                  </a:lnTo>
                  <a:lnTo>
                    <a:pt x="71819" y="38947"/>
                  </a:lnTo>
                  <a:lnTo>
                    <a:pt x="67154" y="40358"/>
                  </a:lnTo>
                  <a:lnTo>
                    <a:pt x="62350" y="42146"/>
                  </a:lnTo>
                  <a:lnTo>
                    <a:pt x="58301" y="44184"/>
                  </a:lnTo>
                  <a:lnTo>
                    <a:pt x="54755" y="46389"/>
                  </a:lnTo>
                  <a:lnTo>
                    <a:pt x="51545" y="48706"/>
                  </a:lnTo>
                  <a:lnTo>
                    <a:pt x="46864" y="50251"/>
                  </a:lnTo>
                  <a:lnTo>
                    <a:pt x="41204" y="51281"/>
                  </a:lnTo>
                  <a:lnTo>
                    <a:pt x="34890" y="51967"/>
                  </a:lnTo>
                  <a:lnTo>
                    <a:pt x="28988" y="53271"/>
                  </a:lnTo>
                  <a:lnTo>
                    <a:pt x="23360" y="54988"/>
                  </a:lnTo>
                  <a:lnTo>
                    <a:pt x="17914" y="56979"/>
                  </a:lnTo>
                  <a:lnTo>
                    <a:pt x="13437" y="59153"/>
                  </a:lnTo>
                  <a:lnTo>
                    <a:pt x="9606" y="61449"/>
                  </a:lnTo>
                  <a:lnTo>
                    <a:pt x="6205" y="63826"/>
                  </a:lnTo>
                  <a:lnTo>
                    <a:pt x="3938" y="66257"/>
                  </a:lnTo>
                  <a:lnTo>
                    <a:pt x="2426" y="68725"/>
                  </a:lnTo>
                  <a:lnTo>
                    <a:pt x="1418" y="71217"/>
                  </a:lnTo>
                  <a:lnTo>
                    <a:pt x="747" y="73725"/>
                  </a:lnTo>
                  <a:lnTo>
                    <a:pt x="299" y="76243"/>
                  </a:lnTo>
                  <a:lnTo>
                    <a:pt x="0" y="78769"/>
                  </a:lnTo>
                  <a:lnTo>
                    <a:pt x="648" y="81299"/>
                  </a:lnTo>
                  <a:lnTo>
                    <a:pt x="1926" y="83834"/>
                  </a:lnTo>
                  <a:lnTo>
                    <a:pt x="3625" y="86369"/>
                  </a:lnTo>
                  <a:lnTo>
                    <a:pt x="5605" y="88906"/>
                  </a:lnTo>
                  <a:lnTo>
                    <a:pt x="7771" y="91444"/>
                  </a:lnTo>
                  <a:lnTo>
                    <a:pt x="10061" y="93983"/>
                  </a:lnTo>
                  <a:lnTo>
                    <a:pt x="13282" y="96522"/>
                  </a:lnTo>
                  <a:lnTo>
                    <a:pt x="17122" y="99062"/>
                  </a:lnTo>
                  <a:lnTo>
                    <a:pt x="21376" y="101601"/>
                  </a:lnTo>
                  <a:lnTo>
                    <a:pt x="25905" y="104141"/>
                  </a:lnTo>
                  <a:lnTo>
                    <a:pt x="35453" y="109221"/>
                  </a:lnTo>
                  <a:lnTo>
                    <a:pt x="41216" y="110914"/>
                  </a:lnTo>
                  <a:lnTo>
                    <a:pt x="47599" y="112043"/>
                  </a:lnTo>
                  <a:lnTo>
                    <a:pt x="54394" y="112795"/>
                  </a:lnTo>
                  <a:lnTo>
                    <a:pt x="60616" y="113297"/>
                  </a:lnTo>
                  <a:lnTo>
                    <a:pt x="66459" y="113631"/>
                  </a:lnTo>
                  <a:lnTo>
                    <a:pt x="77466" y="114003"/>
                  </a:lnTo>
                  <a:lnTo>
                    <a:pt x="88002" y="114168"/>
                  </a:lnTo>
                  <a:lnTo>
                    <a:pt x="93182" y="113365"/>
                  </a:lnTo>
                  <a:lnTo>
                    <a:pt x="98329" y="111984"/>
                  </a:lnTo>
                  <a:lnTo>
                    <a:pt x="103454" y="110216"/>
                  </a:lnTo>
                  <a:lnTo>
                    <a:pt x="107717" y="107344"/>
                  </a:lnTo>
                  <a:lnTo>
                    <a:pt x="111406" y="103736"/>
                  </a:lnTo>
                  <a:lnTo>
                    <a:pt x="114712" y="99638"/>
                  </a:lnTo>
                  <a:lnTo>
                    <a:pt x="116915" y="95212"/>
                  </a:lnTo>
                  <a:lnTo>
                    <a:pt x="118385" y="90568"/>
                  </a:lnTo>
                  <a:lnTo>
                    <a:pt x="119364" y="85779"/>
                  </a:lnTo>
                  <a:lnTo>
                    <a:pt x="120864" y="81740"/>
                  </a:lnTo>
                  <a:lnTo>
                    <a:pt x="122710" y="78199"/>
                  </a:lnTo>
                  <a:lnTo>
                    <a:pt x="124788" y="74993"/>
                  </a:lnTo>
                  <a:lnTo>
                    <a:pt x="126173" y="71162"/>
                  </a:lnTo>
                  <a:lnTo>
                    <a:pt x="127097" y="66915"/>
                  </a:lnTo>
                  <a:lnTo>
                    <a:pt x="127712" y="62390"/>
                  </a:lnTo>
                  <a:lnTo>
                    <a:pt x="127276" y="57680"/>
                  </a:lnTo>
                  <a:lnTo>
                    <a:pt x="126138" y="52847"/>
                  </a:lnTo>
                  <a:lnTo>
                    <a:pt x="124533" y="47931"/>
                  </a:lnTo>
                  <a:lnTo>
                    <a:pt x="122617" y="42961"/>
                  </a:lnTo>
                  <a:lnTo>
                    <a:pt x="120492" y="37954"/>
                  </a:lnTo>
                  <a:lnTo>
                    <a:pt x="115874" y="27875"/>
                  </a:lnTo>
                  <a:lnTo>
                    <a:pt x="110999" y="17752"/>
                  </a:lnTo>
                  <a:lnTo>
                    <a:pt x="107667" y="13528"/>
                  </a:lnTo>
                  <a:lnTo>
                    <a:pt x="103752" y="9865"/>
                  </a:lnTo>
                  <a:lnTo>
                    <a:pt x="9084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SMARTInkAnnotation148"/>
            <p:cNvSpPr/>
            <p:nvPr/>
          </p:nvSpPr>
          <p:spPr>
            <a:xfrm>
              <a:off x="1668600" y="4884480"/>
              <a:ext cx="121680" cy="151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1921" h="15241">
                  <a:moveTo>
                    <a:pt x="0" y="15240"/>
                  </a:moveTo>
                  <a:lnTo>
                    <a:pt x="4046" y="11195"/>
                  </a:lnTo>
                  <a:lnTo>
                    <a:pt x="6084" y="10003"/>
                  </a:lnTo>
                  <a:lnTo>
                    <a:pt x="8289" y="9209"/>
                  </a:lnTo>
                  <a:lnTo>
                    <a:pt x="10606" y="8679"/>
                  </a:lnTo>
                  <a:lnTo>
                    <a:pt x="12997" y="8326"/>
                  </a:lnTo>
                  <a:lnTo>
                    <a:pt x="15439" y="8091"/>
                  </a:lnTo>
                  <a:lnTo>
                    <a:pt x="17912" y="7934"/>
                  </a:lnTo>
                  <a:lnTo>
                    <a:pt x="25177" y="7760"/>
                  </a:lnTo>
                  <a:lnTo>
                    <a:pt x="62601" y="7628"/>
                  </a:lnTo>
                  <a:lnTo>
                    <a:pt x="68827" y="6779"/>
                  </a:lnTo>
                  <a:lnTo>
                    <a:pt x="74672" y="5366"/>
                  </a:lnTo>
                  <a:lnTo>
                    <a:pt x="80261" y="3578"/>
                  </a:lnTo>
                  <a:lnTo>
                    <a:pt x="85681" y="2385"/>
                  </a:lnTo>
                  <a:lnTo>
                    <a:pt x="90987" y="1590"/>
                  </a:lnTo>
                  <a:lnTo>
                    <a:pt x="96218" y="1060"/>
                  </a:lnTo>
                  <a:lnTo>
                    <a:pt x="101399" y="707"/>
                  </a:lnTo>
                  <a:lnTo>
                    <a:pt x="106546" y="471"/>
                  </a:ln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SMARTInkAnnotation149"/>
            <p:cNvSpPr/>
            <p:nvPr/>
          </p:nvSpPr>
          <p:spPr>
            <a:xfrm>
              <a:off x="1622880" y="495324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621">
                  <a:moveTo>
                    <a:pt x="0" y="0"/>
                  </a:moveTo>
                  <a:lnTo>
                    <a:pt x="0" y="7307"/>
                  </a:lnTo>
                  <a:lnTo>
                    <a:pt x="847" y="6565"/>
                  </a:lnTo>
                  <a:lnTo>
                    <a:pt x="4045" y="3482"/>
                  </a:lnTo>
                  <a:lnTo>
                    <a:pt x="6930" y="2322"/>
                  </a:lnTo>
                  <a:lnTo>
                    <a:pt x="10547" y="1548"/>
                  </a:lnTo>
                  <a:lnTo>
                    <a:pt x="14651" y="1032"/>
                  </a:lnTo>
                  <a:lnTo>
                    <a:pt x="19081" y="688"/>
                  </a:lnTo>
                  <a:lnTo>
                    <a:pt x="23727" y="458"/>
                  </a:lnTo>
                  <a:lnTo>
                    <a:pt x="28518" y="306"/>
                  </a:lnTo>
                  <a:lnTo>
                    <a:pt x="53611" y="60"/>
                  </a:lnTo>
                  <a:lnTo>
                    <a:pt x="149830" y="0"/>
                  </a:lnTo>
                  <a:lnTo>
                    <a:pt x="154920" y="846"/>
                  </a:lnTo>
                  <a:lnTo>
                    <a:pt x="160007" y="2258"/>
                  </a:lnTo>
                  <a:lnTo>
                    <a:pt x="1752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MARTInkAnnotation150"/>
            <p:cNvSpPr/>
            <p:nvPr/>
          </p:nvSpPr>
          <p:spPr>
            <a:xfrm>
              <a:off x="1943640" y="4701600"/>
              <a:ext cx="134640" cy="1054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34970" h="105460">
                  <a:moveTo>
                    <a:pt x="121341" y="0"/>
                  </a:moveTo>
                  <a:lnTo>
                    <a:pt x="96647" y="0"/>
                  </a:lnTo>
                  <a:lnTo>
                    <a:pt x="92179" y="847"/>
                  </a:lnTo>
                  <a:lnTo>
                    <a:pt x="86660" y="2258"/>
                  </a:lnTo>
                  <a:lnTo>
                    <a:pt x="80440" y="4045"/>
                  </a:lnTo>
                  <a:lnTo>
                    <a:pt x="74600" y="5237"/>
                  </a:lnTo>
                  <a:lnTo>
                    <a:pt x="69014" y="6031"/>
                  </a:lnTo>
                  <a:lnTo>
                    <a:pt x="63596" y="6561"/>
                  </a:lnTo>
                  <a:lnTo>
                    <a:pt x="58291" y="8607"/>
                  </a:lnTo>
                  <a:lnTo>
                    <a:pt x="53061" y="11665"/>
                  </a:lnTo>
                  <a:lnTo>
                    <a:pt x="47881" y="15397"/>
                  </a:lnTo>
                  <a:lnTo>
                    <a:pt x="42735" y="18731"/>
                  </a:lnTo>
                  <a:lnTo>
                    <a:pt x="37610" y="21801"/>
                  </a:lnTo>
                  <a:lnTo>
                    <a:pt x="32500" y="24694"/>
                  </a:lnTo>
                  <a:lnTo>
                    <a:pt x="27401" y="28316"/>
                  </a:lnTo>
                  <a:lnTo>
                    <a:pt x="22307" y="32424"/>
                  </a:lnTo>
                  <a:lnTo>
                    <a:pt x="17219" y="36856"/>
                  </a:lnTo>
                  <a:lnTo>
                    <a:pt x="9306" y="44038"/>
                  </a:lnTo>
                  <a:lnTo>
                    <a:pt x="6011" y="47139"/>
                  </a:lnTo>
                  <a:lnTo>
                    <a:pt x="3815" y="50899"/>
                  </a:lnTo>
                  <a:lnTo>
                    <a:pt x="2350" y="55100"/>
                  </a:lnTo>
                  <a:lnTo>
                    <a:pt x="1374" y="59593"/>
                  </a:lnTo>
                  <a:lnTo>
                    <a:pt x="723" y="63435"/>
                  </a:lnTo>
                  <a:lnTo>
                    <a:pt x="289" y="66844"/>
                  </a:lnTo>
                  <a:lnTo>
                    <a:pt x="0" y="69962"/>
                  </a:lnTo>
                  <a:lnTo>
                    <a:pt x="653" y="73735"/>
                  </a:lnTo>
                  <a:lnTo>
                    <a:pt x="1936" y="77943"/>
                  </a:lnTo>
                  <a:lnTo>
                    <a:pt x="3638" y="82442"/>
                  </a:lnTo>
                  <a:lnTo>
                    <a:pt x="6466" y="86288"/>
                  </a:lnTo>
                  <a:lnTo>
                    <a:pt x="10044" y="89699"/>
                  </a:lnTo>
                  <a:lnTo>
                    <a:pt x="14123" y="92819"/>
                  </a:lnTo>
                  <a:lnTo>
                    <a:pt x="19383" y="94899"/>
                  </a:lnTo>
                  <a:lnTo>
                    <a:pt x="25429" y="96286"/>
                  </a:lnTo>
                  <a:lnTo>
                    <a:pt x="31999" y="97211"/>
                  </a:lnTo>
                  <a:lnTo>
                    <a:pt x="38073" y="98674"/>
                  </a:lnTo>
                  <a:lnTo>
                    <a:pt x="43816" y="100496"/>
                  </a:lnTo>
                  <a:lnTo>
                    <a:pt x="49338" y="102557"/>
                  </a:lnTo>
                  <a:lnTo>
                    <a:pt x="55559" y="103931"/>
                  </a:lnTo>
                  <a:lnTo>
                    <a:pt x="62246" y="104848"/>
                  </a:lnTo>
                  <a:lnTo>
                    <a:pt x="69245" y="105459"/>
                  </a:lnTo>
                  <a:lnTo>
                    <a:pt x="75603" y="105019"/>
                  </a:lnTo>
                  <a:lnTo>
                    <a:pt x="81536" y="103879"/>
                  </a:lnTo>
                  <a:lnTo>
                    <a:pt x="87184" y="102273"/>
                  </a:lnTo>
                  <a:lnTo>
                    <a:pt x="91797" y="100355"/>
                  </a:lnTo>
                  <a:lnTo>
                    <a:pt x="95718" y="98230"/>
                  </a:lnTo>
                  <a:lnTo>
                    <a:pt x="99179" y="95967"/>
                  </a:lnTo>
                  <a:lnTo>
                    <a:pt x="103180" y="93611"/>
                  </a:lnTo>
                  <a:lnTo>
                    <a:pt x="107540" y="91194"/>
                  </a:lnTo>
                  <a:lnTo>
                    <a:pt x="112140" y="88736"/>
                  </a:lnTo>
                  <a:lnTo>
                    <a:pt x="116054" y="86251"/>
                  </a:lnTo>
                  <a:lnTo>
                    <a:pt x="119510" y="83747"/>
                  </a:lnTo>
                  <a:lnTo>
                    <a:pt x="122660" y="81231"/>
                  </a:lnTo>
                  <a:lnTo>
                    <a:pt x="125607" y="78708"/>
                  </a:lnTo>
                  <a:lnTo>
                    <a:pt x="128419" y="76179"/>
                  </a:lnTo>
                  <a:lnTo>
                    <a:pt x="131139" y="73646"/>
                  </a:lnTo>
                  <a:lnTo>
                    <a:pt x="132953" y="71111"/>
                  </a:lnTo>
                  <a:lnTo>
                    <a:pt x="134163" y="68574"/>
                  </a:lnTo>
                  <a:lnTo>
                    <a:pt x="134969" y="66036"/>
                  </a:lnTo>
                  <a:lnTo>
                    <a:pt x="134660" y="63497"/>
                  </a:lnTo>
                  <a:lnTo>
                    <a:pt x="133607" y="60958"/>
                  </a:lnTo>
                  <a:lnTo>
                    <a:pt x="132058" y="58419"/>
                  </a:lnTo>
                  <a:lnTo>
                    <a:pt x="130179" y="55879"/>
                  </a:lnTo>
                  <a:lnTo>
                    <a:pt x="128080" y="53340"/>
                  </a:lnTo>
                  <a:lnTo>
                    <a:pt x="122672" y="47225"/>
                  </a:lnTo>
                  <a:lnTo>
                    <a:pt x="122229" y="45877"/>
                  </a:lnTo>
                  <a:lnTo>
                    <a:pt x="121933" y="44131"/>
                  </a:lnTo>
                  <a:lnTo>
                    <a:pt x="121341" y="38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SMARTInkAnnotation151"/>
            <p:cNvSpPr/>
            <p:nvPr/>
          </p:nvSpPr>
          <p:spPr>
            <a:xfrm>
              <a:off x="1910160" y="4793040"/>
              <a:ext cx="131400" cy="907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31500" h="90995">
                  <a:moveTo>
                    <a:pt x="101496" y="30481"/>
                  </a:moveTo>
                  <a:lnTo>
                    <a:pt x="101496" y="18908"/>
                  </a:lnTo>
                  <a:lnTo>
                    <a:pt x="100649" y="17685"/>
                  </a:lnTo>
                  <a:lnTo>
                    <a:pt x="99238" y="16871"/>
                  </a:lnTo>
                  <a:lnTo>
                    <a:pt x="94935" y="15562"/>
                  </a:lnTo>
                  <a:lnTo>
                    <a:pt x="92889" y="16302"/>
                  </a:lnTo>
                  <a:lnTo>
                    <a:pt x="89831" y="17641"/>
                  </a:lnTo>
                  <a:lnTo>
                    <a:pt x="86100" y="19381"/>
                  </a:lnTo>
                  <a:lnTo>
                    <a:pt x="81918" y="20541"/>
                  </a:lnTo>
                  <a:lnTo>
                    <a:pt x="77438" y="21314"/>
                  </a:lnTo>
                  <a:lnTo>
                    <a:pt x="72757" y="21829"/>
                  </a:lnTo>
                  <a:lnTo>
                    <a:pt x="67944" y="23020"/>
                  </a:lnTo>
                  <a:lnTo>
                    <a:pt x="63041" y="24660"/>
                  </a:lnTo>
                  <a:lnTo>
                    <a:pt x="58079" y="26600"/>
                  </a:lnTo>
                  <a:lnTo>
                    <a:pt x="53078" y="27894"/>
                  </a:lnTo>
                  <a:lnTo>
                    <a:pt x="48051" y="28756"/>
                  </a:lnTo>
                  <a:lnTo>
                    <a:pt x="43006" y="29331"/>
                  </a:lnTo>
                  <a:lnTo>
                    <a:pt x="37949" y="30560"/>
                  </a:lnTo>
                  <a:lnTo>
                    <a:pt x="32885" y="32227"/>
                  </a:lnTo>
                  <a:lnTo>
                    <a:pt x="27815" y="34185"/>
                  </a:lnTo>
                  <a:lnTo>
                    <a:pt x="22742" y="37183"/>
                  </a:lnTo>
                  <a:lnTo>
                    <a:pt x="17667" y="40876"/>
                  </a:lnTo>
                  <a:lnTo>
                    <a:pt x="12590" y="45031"/>
                  </a:lnTo>
                  <a:lnTo>
                    <a:pt x="8358" y="48648"/>
                  </a:lnTo>
                  <a:lnTo>
                    <a:pt x="4691" y="51906"/>
                  </a:lnTo>
                  <a:lnTo>
                    <a:pt x="1399" y="54924"/>
                  </a:lnTo>
                  <a:lnTo>
                    <a:pt x="51" y="57783"/>
                  </a:lnTo>
                  <a:lnTo>
                    <a:pt x="0" y="60535"/>
                  </a:lnTo>
                  <a:lnTo>
                    <a:pt x="812" y="63217"/>
                  </a:lnTo>
                  <a:lnTo>
                    <a:pt x="1353" y="65852"/>
                  </a:lnTo>
                  <a:lnTo>
                    <a:pt x="1714" y="68455"/>
                  </a:lnTo>
                  <a:lnTo>
                    <a:pt x="1955" y="71037"/>
                  </a:lnTo>
                  <a:lnTo>
                    <a:pt x="3808" y="73605"/>
                  </a:lnTo>
                  <a:lnTo>
                    <a:pt x="6738" y="76163"/>
                  </a:lnTo>
                  <a:lnTo>
                    <a:pt x="10384" y="78716"/>
                  </a:lnTo>
                  <a:lnTo>
                    <a:pt x="14508" y="81264"/>
                  </a:lnTo>
                  <a:lnTo>
                    <a:pt x="18950" y="83810"/>
                  </a:lnTo>
                  <a:lnTo>
                    <a:pt x="23606" y="86353"/>
                  </a:lnTo>
                  <a:lnTo>
                    <a:pt x="28402" y="88050"/>
                  </a:lnTo>
                  <a:lnTo>
                    <a:pt x="33293" y="89180"/>
                  </a:lnTo>
                  <a:lnTo>
                    <a:pt x="38248" y="89934"/>
                  </a:lnTo>
                  <a:lnTo>
                    <a:pt x="43244" y="90436"/>
                  </a:lnTo>
                  <a:lnTo>
                    <a:pt x="48268" y="90771"/>
                  </a:lnTo>
                  <a:lnTo>
                    <a:pt x="53310" y="90994"/>
                  </a:lnTo>
                  <a:lnTo>
                    <a:pt x="58366" y="90297"/>
                  </a:lnTo>
                  <a:lnTo>
                    <a:pt x="63429" y="88985"/>
                  </a:lnTo>
                  <a:lnTo>
                    <a:pt x="68498" y="87264"/>
                  </a:lnTo>
                  <a:lnTo>
                    <a:pt x="73571" y="85269"/>
                  </a:lnTo>
                  <a:lnTo>
                    <a:pt x="78646" y="83094"/>
                  </a:lnTo>
                  <a:lnTo>
                    <a:pt x="83722" y="80796"/>
                  </a:lnTo>
                  <a:lnTo>
                    <a:pt x="87954" y="78418"/>
                  </a:lnTo>
                  <a:lnTo>
                    <a:pt x="91621" y="75986"/>
                  </a:lnTo>
                  <a:lnTo>
                    <a:pt x="94913" y="73517"/>
                  </a:lnTo>
                  <a:lnTo>
                    <a:pt x="98800" y="70179"/>
                  </a:lnTo>
                  <a:lnTo>
                    <a:pt x="103086" y="66259"/>
                  </a:lnTo>
                  <a:lnTo>
                    <a:pt x="114949" y="54910"/>
                  </a:lnTo>
                  <a:lnTo>
                    <a:pt x="118085" y="51848"/>
                  </a:lnTo>
                  <a:lnTo>
                    <a:pt x="121022" y="48112"/>
                  </a:lnTo>
                  <a:lnTo>
                    <a:pt x="123827" y="43928"/>
                  </a:lnTo>
                  <a:lnTo>
                    <a:pt x="126543" y="39446"/>
                  </a:lnTo>
                  <a:lnTo>
                    <a:pt x="128354" y="35611"/>
                  </a:lnTo>
                  <a:lnTo>
                    <a:pt x="129562" y="32207"/>
                  </a:lnTo>
                  <a:lnTo>
                    <a:pt x="130366" y="29092"/>
                  </a:lnTo>
                  <a:lnTo>
                    <a:pt x="130903" y="26168"/>
                  </a:lnTo>
                  <a:lnTo>
                    <a:pt x="131261" y="23372"/>
                  </a:lnTo>
                  <a:lnTo>
                    <a:pt x="131499" y="20661"/>
                  </a:lnTo>
                  <a:lnTo>
                    <a:pt x="130811" y="18008"/>
                  </a:lnTo>
                  <a:lnTo>
                    <a:pt x="129507" y="15392"/>
                  </a:lnTo>
                  <a:lnTo>
                    <a:pt x="127790" y="12801"/>
                  </a:lnTo>
                  <a:lnTo>
                    <a:pt x="126645" y="10228"/>
                  </a:lnTo>
                  <a:lnTo>
                    <a:pt x="125882" y="7666"/>
                  </a:lnTo>
                  <a:lnTo>
                    <a:pt x="1243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MARTInkAnnotation152"/>
            <p:cNvSpPr/>
            <p:nvPr/>
          </p:nvSpPr>
          <p:spPr>
            <a:xfrm>
              <a:off x="1889640" y="4861800"/>
              <a:ext cx="411120" cy="14472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411481" h="144781">
                  <a:moveTo>
                    <a:pt x="411480" y="0"/>
                  </a:moveTo>
                  <a:lnTo>
                    <a:pt x="404174" y="0"/>
                  </a:lnTo>
                  <a:lnTo>
                    <a:pt x="395863" y="4045"/>
                  </a:lnTo>
                  <a:lnTo>
                    <a:pt x="389581" y="6031"/>
                  </a:lnTo>
                  <a:lnTo>
                    <a:pt x="386721" y="6561"/>
                  </a:lnTo>
                  <a:lnTo>
                    <a:pt x="381285" y="9407"/>
                  </a:lnTo>
                  <a:lnTo>
                    <a:pt x="378650" y="11351"/>
                  </a:lnTo>
                  <a:lnTo>
                    <a:pt x="371207" y="13512"/>
                  </a:lnTo>
                  <a:lnTo>
                    <a:pt x="361408" y="15319"/>
                  </a:lnTo>
                  <a:lnTo>
                    <a:pt x="348586" y="18944"/>
                  </a:lnTo>
                  <a:lnTo>
                    <a:pt x="327087" y="25745"/>
                  </a:lnTo>
                  <a:lnTo>
                    <a:pt x="304630" y="33122"/>
                  </a:lnTo>
                  <a:lnTo>
                    <a:pt x="296220" y="35628"/>
                  </a:lnTo>
                  <a:lnTo>
                    <a:pt x="277845" y="40671"/>
                  </a:lnTo>
                  <a:lnTo>
                    <a:pt x="248459" y="48269"/>
                  </a:lnTo>
                  <a:lnTo>
                    <a:pt x="238453" y="51653"/>
                  </a:lnTo>
                  <a:lnTo>
                    <a:pt x="228395" y="55601"/>
                  </a:lnTo>
                  <a:lnTo>
                    <a:pt x="218303" y="59928"/>
                  </a:lnTo>
                  <a:lnTo>
                    <a:pt x="208189" y="63658"/>
                  </a:lnTo>
                  <a:lnTo>
                    <a:pt x="198059" y="66993"/>
                  </a:lnTo>
                  <a:lnTo>
                    <a:pt x="187920" y="70062"/>
                  </a:lnTo>
                  <a:lnTo>
                    <a:pt x="167622" y="75729"/>
                  </a:lnTo>
                  <a:lnTo>
                    <a:pt x="157468" y="78426"/>
                  </a:lnTo>
                  <a:lnTo>
                    <a:pt x="147312" y="81917"/>
                  </a:lnTo>
                  <a:lnTo>
                    <a:pt x="137155" y="85938"/>
                  </a:lnTo>
                  <a:lnTo>
                    <a:pt x="126997" y="90312"/>
                  </a:lnTo>
                  <a:lnTo>
                    <a:pt x="116837" y="94075"/>
                  </a:lnTo>
                  <a:lnTo>
                    <a:pt x="106678" y="97430"/>
                  </a:lnTo>
                  <a:lnTo>
                    <a:pt x="78457" y="106197"/>
                  </a:lnTo>
                  <a:lnTo>
                    <a:pt x="70085" y="108898"/>
                  </a:lnTo>
                  <a:lnTo>
                    <a:pt x="62810" y="112392"/>
                  </a:lnTo>
                  <a:lnTo>
                    <a:pt x="56267" y="116414"/>
                  </a:lnTo>
                  <a:lnTo>
                    <a:pt x="50211" y="120789"/>
                  </a:lnTo>
                  <a:lnTo>
                    <a:pt x="43634" y="124553"/>
                  </a:lnTo>
                  <a:lnTo>
                    <a:pt x="36709" y="127908"/>
                  </a:lnTo>
                  <a:lnTo>
                    <a:pt x="29553" y="130992"/>
                  </a:lnTo>
                  <a:lnTo>
                    <a:pt x="19343" y="134419"/>
                  </a:lnTo>
                  <a:lnTo>
                    <a:pt x="15436" y="135333"/>
                  </a:lnTo>
                  <a:lnTo>
                    <a:pt x="8836" y="138605"/>
                  </a:lnTo>
                  <a:lnTo>
                    <a:pt x="0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SMARTInkAnnotation153"/>
            <p:cNvSpPr/>
            <p:nvPr/>
          </p:nvSpPr>
          <p:spPr>
            <a:xfrm>
              <a:off x="2019600" y="4976280"/>
              <a:ext cx="151920" cy="990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2056" h="99061">
                  <a:moveTo>
                    <a:pt x="75855" y="0"/>
                  </a:moveTo>
                  <a:lnTo>
                    <a:pt x="71810" y="0"/>
                  </a:lnTo>
                  <a:lnTo>
                    <a:pt x="70618" y="846"/>
                  </a:lnTo>
                  <a:lnTo>
                    <a:pt x="69824" y="2257"/>
                  </a:lnTo>
                  <a:lnTo>
                    <a:pt x="69294" y="4045"/>
                  </a:lnTo>
                  <a:lnTo>
                    <a:pt x="68095" y="5237"/>
                  </a:lnTo>
                  <a:lnTo>
                    <a:pt x="66448" y="6031"/>
                  </a:lnTo>
                  <a:lnTo>
                    <a:pt x="64504" y="6561"/>
                  </a:lnTo>
                  <a:lnTo>
                    <a:pt x="63207" y="7760"/>
                  </a:lnTo>
                  <a:lnTo>
                    <a:pt x="62343" y="9407"/>
                  </a:lnTo>
                  <a:lnTo>
                    <a:pt x="61767" y="11351"/>
                  </a:lnTo>
                  <a:lnTo>
                    <a:pt x="60536" y="12648"/>
                  </a:lnTo>
                  <a:lnTo>
                    <a:pt x="58869" y="13512"/>
                  </a:lnTo>
                  <a:lnTo>
                    <a:pt x="56911" y="14088"/>
                  </a:lnTo>
                  <a:lnTo>
                    <a:pt x="52478" y="16986"/>
                  </a:lnTo>
                  <a:lnTo>
                    <a:pt x="46778" y="21700"/>
                  </a:lnTo>
                  <a:lnTo>
                    <a:pt x="43741" y="24602"/>
                  </a:lnTo>
                  <a:lnTo>
                    <a:pt x="41745" y="26562"/>
                  </a:lnTo>
                  <a:lnTo>
                    <a:pt x="39569" y="27868"/>
                  </a:lnTo>
                  <a:lnTo>
                    <a:pt x="34892" y="29319"/>
                  </a:lnTo>
                  <a:lnTo>
                    <a:pt x="32460" y="30553"/>
                  </a:lnTo>
                  <a:lnTo>
                    <a:pt x="29992" y="32222"/>
                  </a:lnTo>
                  <a:lnTo>
                    <a:pt x="27500" y="34181"/>
                  </a:lnTo>
                  <a:lnTo>
                    <a:pt x="24991" y="35488"/>
                  </a:lnTo>
                  <a:lnTo>
                    <a:pt x="22473" y="36358"/>
                  </a:lnTo>
                  <a:lnTo>
                    <a:pt x="19947" y="36939"/>
                  </a:lnTo>
                  <a:lnTo>
                    <a:pt x="18263" y="38173"/>
                  </a:lnTo>
                  <a:lnTo>
                    <a:pt x="17140" y="39842"/>
                  </a:lnTo>
                  <a:lnTo>
                    <a:pt x="16392" y="41801"/>
                  </a:lnTo>
                  <a:lnTo>
                    <a:pt x="15046" y="43954"/>
                  </a:lnTo>
                  <a:lnTo>
                    <a:pt x="13303" y="46236"/>
                  </a:lnTo>
                  <a:lnTo>
                    <a:pt x="8466" y="51937"/>
                  </a:lnTo>
                  <a:lnTo>
                    <a:pt x="5546" y="54974"/>
                  </a:lnTo>
                  <a:lnTo>
                    <a:pt x="819" y="59778"/>
                  </a:lnTo>
                  <a:lnTo>
                    <a:pt x="431" y="61019"/>
                  </a:lnTo>
                  <a:lnTo>
                    <a:pt x="172" y="62692"/>
                  </a:lnTo>
                  <a:lnTo>
                    <a:pt x="0" y="64655"/>
                  </a:lnTo>
                  <a:lnTo>
                    <a:pt x="731" y="66810"/>
                  </a:lnTo>
                  <a:lnTo>
                    <a:pt x="2066" y="69093"/>
                  </a:lnTo>
                  <a:lnTo>
                    <a:pt x="6246" y="74796"/>
                  </a:lnTo>
                  <a:lnTo>
                    <a:pt x="8282" y="76111"/>
                  </a:lnTo>
                  <a:lnTo>
                    <a:pt x="11333" y="77834"/>
                  </a:lnTo>
                  <a:lnTo>
                    <a:pt x="15061" y="79829"/>
                  </a:lnTo>
                  <a:lnTo>
                    <a:pt x="19239" y="81160"/>
                  </a:lnTo>
                  <a:lnTo>
                    <a:pt x="23717" y="82047"/>
                  </a:lnTo>
                  <a:lnTo>
                    <a:pt x="28396" y="82638"/>
                  </a:lnTo>
                  <a:lnTo>
                    <a:pt x="32363" y="83879"/>
                  </a:lnTo>
                  <a:lnTo>
                    <a:pt x="35854" y="85552"/>
                  </a:lnTo>
                  <a:lnTo>
                    <a:pt x="39027" y="87515"/>
                  </a:lnTo>
                  <a:lnTo>
                    <a:pt x="43683" y="88824"/>
                  </a:lnTo>
                  <a:lnTo>
                    <a:pt x="49328" y="89696"/>
                  </a:lnTo>
                  <a:lnTo>
                    <a:pt x="55630" y="90277"/>
                  </a:lnTo>
                  <a:lnTo>
                    <a:pt x="60678" y="90665"/>
                  </a:lnTo>
                  <a:lnTo>
                    <a:pt x="64891" y="90924"/>
                  </a:lnTo>
                  <a:lnTo>
                    <a:pt x="68546" y="91096"/>
                  </a:lnTo>
                  <a:lnTo>
                    <a:pt x="77122" y="91287"/>
                  </a:lnTo>
                  <a:lnTo>
                    <a:pt x="135394" y="91440"/>
                  </a:lnTo>
                  <a:lnTo>
                    <a:pt x="138441" y="93698"/>
                  </a:lnTo>
                  <a:lnTo>
                    <a:pt x="143251" y="98001"/>
                  </a:lnTo>
                  <a:lnTo>
                    <a:pt x="146167" y="98590"/>
                  </a:lnTo>
                  <a:lnTo>
                    <a:pt x="152055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SMARTInkAnnotation154"/>
            <p:cNvSpPr/>
            <p:nvPr/>
          </p:nvSpPr>
          <p:spPr>
            <a:xfrm>
              <a:off x="2118240" y="4983840"/>
              <a:ext cx="114120" cy="198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14301" h="198121">
                  <a:moveTo>
                    <a:pt x="114300" y="0"/>
                  </a:moveTo>
                  <a:lnTo>
                    <a:pt x="114300" y="6562"/>
                  </a:lnTo>
                  <a:lnTo>
                    <a:pt x="113453" y="6914"/>
                  </a:lnTo>
                  <a:lnTo>
                    <a:pt x="110255" y="7306"/>
                  </a:lnTo>
                  <a:lnTo>
                    <a:pt x="107739" y="7527"/>
                  </a:lnTo>
                  <a:lnTo>
                    <a:pt x="104893" y="9837"/>
                  </a:lnTo>
                  <a:lnTo>
                    <a:pt x="102949" y="11638"/>
                  </a:lnTo>
                  <a:lnTo>
                    <a:pt x="96167" y="18218"/>
                  </a:lnTo>
                  <a:lnTo>
                    <a:pt x="69606" y="44697"/>
                  </a:lnTo>
                  <a:lnTo>
                    <a:pt x="65877" y="49271"/>
                  </a:lnTo>
                  <a:lnTo>
                    <a:pt x="62545" y="54015"/>
                  </a:lnTo>
                  <a:lnTo>
                    <a:pt x="59477" y="58870"/>
                  </a:lnTo>
                  <a:lnTo>
                    <a:pt x="55738" y="63800"/>
                  </a:lnTo>
                  <a:lnTo>
                    <a:pt x="51552" y="68780"/>
                  </a:lnTo>
                  <a:lnTo>
                    <a:pt x="47068" y="73793"/>
                  </a:lnTo>
                  <a:lnTo>
                    <a:pt x="37570" y="83880"/>
                  </a:lnTo>
                  <a:lnTo>
                    <a:pt x="32667" y="88940"/>
                  </a:lnTo>
                  <a:lnTo>
                    <a:pt x="28551" y="94007"/>
                  </a:lnTo>
                  <a:lnTo>
                    <a:pt x="24961" y="99078"/>
                  </a:lnTo>
                  <a:lnTo>
                    <a:pt x="21721" y="104152"/>
                  </a:lnTo>
                  <a:lnTo>
                    <a:pt x="19560" y="110075"/>
                  </a:lnTo>
                  <a:lnTo>
                    <a:pt x="18120" y="116564"/>
                  </a:lnTo>
                  <a:lnTo>
                    <a:pt x="17160" y="123429"/>
                  </a:lnTo>
                  <a:lnTo>
                    <a:pt x="15674" y="129699"/>
                  </a:lnTo>
                  <a:lnTo>
                    <a:pt x="13836" y="135573"/>
                  </a:lnTo>
                  <a:lnTo>
                    <a:pt x="11764" y="141182"/>
                  </a:lnTo>
                  <a:lnTo>
                    <a:pt x="10383" y="147462"/>
                  </a:lnTo>
                  <a:lnTo>
                    <a:pt x="9462" y="154188"/>
                  </a:lnTo>
                  <a:lnTo>
                    <a:pt x="8848" y="161212"/>
                  </a:lnTo>
                  <a:lnTo>
                    <a:pt x="7592" y="167589"/>
                  </a:lnTo>
                  <a:lnTo>
                    <a:pt x="5908" y="173532"/>
                  </a:lnTo>
                  <a:lnTo>
                    <a:pt x="3939" y="179189"/>
                  </a:lnTo>
                  <a:lnTo>
                    <a:pt x="2626" y="183806"/>
                  </a:lnTo>
                  <a:lnTo>
                    <a:pt x="1751" y="187730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SMARTInkAnnotation155"/>
            <p:cNvSpPr/>
            <p:nvPr/>
          </p:nvSpPr>
          <p:spPr>
            <a:xfrm>
              <a:off x="2445840" y="4907520"/>
              <a:ext cx="228240" cy="30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8601" h="30481">
                  <a:moveTo>
                    <a:pt x="0" y="30480"/>
                  </a:moveTo>
                  <a:lnTo>
                    <a:pt x="4046" y="30480"/>
                  </a:lnTo>
                  <a:lnTo>
                    <a:pt x="6084" y="29634"/>
                  </a:lnTo>
                  <a:lnTo>
                    <a:pt x="8289" y="28223"/>
                  </a:lnTo>
                  <a:lnTo>
                    <a:pt x="10606" y="26436"/>
                  </a:lnTo>
                  <a:lnTo>
                    <a:pt x="13844" y="25243"/>
                  </a:lnTo>
                  <a:lnTo>
                    <a:pt x="17696" y="24449"/>
                  </a:lnTo>
                  <a:lnTo>
                    <a:pt x="21957" y="23919"/>
                  </a:lnTo>
                  <a:lnTo>
                    <a:pt x="26492" y="23566"/>
                  </a:lnTo>
                  <a:lnTo>
                    <a:pt x="31208" y="23331"/>
                  </a:lnTo>
                  <a:lnTo>
                    <a:pt x="40963" y="23070"/>
                  </a:lnTo>
                  <a:lnTo>
                    <a:pt x="50944" y="22954"/>
                  </a:lnTo>
                  <a:lnTo>
                    <a:pt x="56823" y="22076"/>
                  </a:lnTo>
                  <a:lnTo>
                    <a:pt x="63282" y="20644"/>
                  </a:lnTo>
                  <a:lnTo>
                    <a:pt x="70128" y="18843"/>
                  </a:lnTo>
                  <a:lnTo>
                    <a:pt x="77232" y="16795"/>
                  </a:lnTo>
                  <a:lnTo>
                    <a:pt x="91899" y="12263"/>
                  </a:lnTo>
                  <a:lnTo>
                    <a:pt x="99366" y="10715"/>
                  </a:lnTo>
                  <a:lnTo>
                    <a:pt x="106884" y="9683"/>
                  </a:lnTo>
                  <a:lnTo>
                    <a:pt x="114436" y="8996"/>
                  </a:lnTo>
                  <a:lnTo>
                    <a:pt x="122011" y="8537"/>
                  </a:lnTo>
                  <a:lnTo>
                    <a:pt x="137200" y="8028"/>
                  </a:lnTo>
                  <a:lnTo>
                    <a:pt x="160032" y="7741"/>
                  </a:lnTo>
                  <a:lnTo>
                    <a:pt x="166801" y="6855"/>
                  </a:lnTo>
                  <a:lnTo>
                    <a:pt x="173008" y="5416"/>
                  </a:lnTo>
                  <a:lnTo>
                    <a:pt x="178838" y="3611"/>
                  </a:lnTo>
                  <a:lnTo>
                    <a:pt x="184419" y="2407"/>
                  </a:lnTo>
                  <a:lnTo>
                    <a:pt x="189832" y="1605"/>
                  </a:lnTo>
                  <a:lnTo>
                    <a:pt x="195135" y="1070"/>
                  </a:lnTo>
                  <a:lnTo>
                    <a:pt x="200363" y="713"/>
                  </a:lnTo>
                  <a:lnTo>
                    <a:pt x="205542" y="476"/>
                  </a:lnTo>
                  <a:lnTo>
                    <a:pt x="218664" y="141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MARTInkAnnotation156"/>
            <p:cNvSpPr/>
            <p:nvPr/>
          </p:nvSpPr>
          <p:spPr>
            <a:xfrm>
              <a:off x="2392560" y="499896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15240"/>
                  </a:moveTo>
                  <a:lnTo>
                    <a:pt x="21957" y="15240"/>
                  </a:lnTo>
                  <a:lnTo>
                    <a:pt x="27338" y="14393"/>
                  </a:lnTo>
                  <a:lnTo>
                    <a:pt x="33465" y="12983"/>
                  </a:lnTo>
                  <a:lnTo>
                    <a:pt x="40090" y="11195"/>
                  </a:lnTo>
                  <a:lnTo>
                    <a:pt x="46200" y="10003"/>
                  </a:lnTo>
                  <a:lnTo>
                    <a:pt x="51967" y="9209"/>
                  </a:lnTo>
                  <a:lnTo>
                    <a:pt x="57505" y="8679"/>
                  </a:lnTo>
                  <a:lnTo>
                    <a:pt x="63736" y="8326"/>
                  </a:lnTo>
                  <a:lnTo>
                    <a:pt x="77434" y="7934"/>
                  </a:lnTo>
                  <a:lnTo>
                    <a:pt x="99425" y="7713"/>
                  </a:lnTo>
                  <a:lnTo>
                    <a:pt x="106924" y="6835"/>
                  </a:lnTo>
                  <a:lnTo>
                    <a:pt x="114463" y="5404"/>
                  </a:lnTo>
                  <a:lnTo>
                    <a:pt x="122028" y="3603"/>
                  </a:lnTo>
                  <a:lnTo>
                    <a:pt x="128766" y="2402"/>
                  </a:lnTo>
                  <a:lnTo>
                    <a:pt x="134951" y="1602"/>
                  </a:lnTo>
                  <a:lnTo>
                    <a:pt x="140767" y="1068"/>
                  </a:lnTo>
                  <a:lnTo>
                    <a:pt x="147185" y="712"/>
                  </a:lnTo>
                  <a:lnTo>
                    <a:pt x="161089" y="317"/>
                  </a:lnTo>
                  <a:lnTo>
                    <a:pt x="179391" y="63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MARTInkAnnotation157"/>
            <p:cNvSpPr/>
            <p:nvPr/>
          </p:nvSpPr>
          <p:spPr>
            <a:xfrm>
              <a:off x="2773440" y="4777920"/>
              <a:ext cx="266400" cy="2653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66701" h="265498">
                  <a:moveTo>
                    <a:pt x="0" y="45711"/>
                  </a:moveTo>
                  <a:lnTo>
                    <a:pt x="10606" y="35105"/>
                  </a:lnTo>
                  <a:lnTo>
                    <a:pt x="12997" y="33561"/>
                  </a:lnTo>
                  <a:lnTo>
                    <a:pt x="25176" y="28824"/>
                  </a:lnTo>
                  <a:lnTo>
                    <a:pt x="29484" y="26833"/>
                  </a:lnTo>
                  <a:lnTo>
                    <a:pt x="34896" y="24659"/>
                  </a:lnTo>
                  <a:lnTo>
                    <a:pt x="47683" y="19986"/>
                  </a:lnTo>
                  <a:lnTo>
                    <a:pt x="53802" y="17554"/>
                  </a:lnTo>
                  <a:lnTo>
                    <a:pt x="59575" y="15086"/>
                  </a:lnTo>
                  <a:lnTo>
                    <a:pt x="65116" y="12595"/>
                  </a:lnTo>
                  <a:lnTo>
                    <a:pt x="71351" y="10934"/>
                  </a:lnTo>
                  <a:lnTo>
                    <a:pt x="78047" y="9826"/>
                  </a:lnTo>
                  <a:lnTo>
                    <a:pt x="85051" y="9088"/>
                  </a:lnTo>
                  <a:lnTo>
                    <a:pt x="92261" y="7749"/>
                  </a:lnTo>
                  <a:lnTo>
                    <a:pt x="99608" y="6009"/>
                  </a:lnTo>
                  <a:lnTo>
                    <a:pt x="107045" y="4003"/>
                  </a:lnTo>
                  <a:lnTo>
                    <a:pt x="114544" y="2666"/>
                  </a:lnTo>
                  <a:lnTo>
                    <a:pt x="122082" y="1774"/>
                  </a:lnTo>
                  <a:lnTo>
                    <a:pt x="129648" y="1180"/>
                  </a:lnTo>
                  <a:lnTo>
                    <a:pt x="137232" y="784"/>
                  </a:lnTo>
                  <a:lnTo>
                    <a:pt x="152432" y="343"/>
                  </a:lnTo>
                  <a:lnTo>
                    <a:pt x="186661" y="12"/>
                  </a:lnTo>
                  <a:lnTo>
                    <a:pt x="192463" y="0"/>
                  </a:lnTo>
                  <a:lnTo>
                    <a:pt x="194349" y="843"/>
                  </a:lnTo>
                  <a:lnTo>
                    <a:pt x="195606" y="2253"/>
                  </a:lnTo>
                  <a:lnTo>
                    <a:pt x="197624" y="6552"/>
                  </a:lnTo>
                  <a:lnTo>
                    <a:pt x="196942" y="7752"/>
                  </a:lnTo>
                  <a:lnTo>
                    <a:pt x="193928" y="11343"/>
                  </a:lnTo>
                  <a:lnTo>
                    <a:pt x="192786" y="13486"/>
                  </a:lnTo>
                  <a:lnTo>
                    <a:pt x="191516" y="18124"/>
                  </a:lnTo>
                  <a:lnTo>
                    <a:pt x="189484" y="20546"/>
                  </a:lnTo>
                  <a:lnTo>
                    <a:pt x="178534" y="28848"/>
                  </a:lnTo>
                  <a:lnTo>
                    <a:pt x="174056" y="32776"/>
                  </a:lnTo>
                  <a:lnTo>
                    <a:pt x="169377" y="37087"/>
                  </a:lnTo>
                  <a:lnTo>
                    <a:pt x="159663" y="46394"/>
                  </a:lnTo>
                  <a:lnTo>
                    <a:pt x="154702" y="51247"/>
                  </a:lnTo>
                  <a:lnTo>
                    <a:pt x="148855" y="55328"/>
                  </a:lnTo>
                  <a:lnTo>
                    <a:pt x="142417" y="58895"/>
                  </a:lnTo>
                  <a:lnTo>
                    <a:pt x="135584" y="62121"/>
                  </a:lnTo>
                  <a:lnTo>
                    <a:pt x="129336" y="66811"/>
                  </a:lnTo>
                  <a:lnTo>
                    <a:pt x="123477" y="72477"/>
                  </a:lnTo>
                  <a:lnTo>
                    <a:pt x="117878" y="78795"/>
                  </a:lnTo>
                  <a:lnTo>
                    <a:pt x="107142" y="90331"/>
                  </a:lnTo>
                  <a:lnTo>
                    <a:pt x="86451" y="111534"/>
                  </a:lnTo>
                  <a:lnTo>
                    <a:pt x="81341" y="117533"/>
                  </a:lnTo>
                  <a:lnTo>
                    <a:pt x="76240" y="124072"/>
                  </a:lnTo>
                  <a:lnTo>
                    <a:pt x="71147" y="130972"/>
                  </a:lnTo>
                  <a:lnTo>
                    <a:pt x="66905" y="137265"/>
                  </a:lnTo>
                  <a:lnTo>
                    <a:pt x="63230" y="143154"/>
                  </a:lnTo>
                  <a:lnTo>
                    <a:pt x="59933" y="148773"/>
                  </a:lnTo>
                  <a:lnTo>
                    <a:pt x="56889" y="154213"/>
                  </a:lnTo>
                  <a:lnTo>
                    <a:pt x="51249" y="164772"/>
                  </a:lnTo>
                  <a:lnTo>
                    <a:pt x="49406" y="170805"/>
                  </a:lnTo>
                  <a:lnTo>
                    <a:pt x="48177" y="177367"/>
                  </a:lnTo>
                  <a:lnTo>
                    <a:pt x="47358" y="184282"/>
                  </a:lnTo>
                  <a:lnTo>
                    <a:pt x="46812" y="190585"/>
                  </a:lnTo>
                  <a:lnTo>
                    <a:pt x="46448" y="196480"/>
                  </a:lnTo>
                  <a:lnTo>
                    <a:pt x="46043" y="206699"/>
                  </a:lnTo>
                  <a:lnTo>
                    <a:pt x="45864" y="214064"/>
                  </a:lnTo>
                  <a:lnTo>
                    <a:pt x="45733" y="237531"/>
                  </a:lnTo>
                  <a:lnTo>
                    <a:pt x="46575" y="240478"/>
                  </a:lnTo>
                  <a:lnTo>
                    <a:pt x="50959" y="248670"/>
                  </a:lnTo>
                  <a:lnTo>
                    <a:pt x="52282" y="253884"/>
                  </a:lnTo>
                  <a:lnTo>
                    <a:pt x="54328" y="255614"/>
                  </a:lnTo>
                  <a:lnTo>
                    <a:pt x="57386" y="256766"/>
                  </a:lnTo>
                  <a:lnTo>
                    <a:pt x="61117" y="257534"/>
                  </a:lnTo>
                  <a:lnTo>
                    <a:pt x="67521" y="260646"/>
                  </a:lnTo>
                  <a:lnTo>
                    <a:pt x="70414" y="262661"/>
                  </a:lnTo>
                  <a:lnTo>
                    <a:pt x="75886" y="264899"/>
                  </a:lnTo>
                  <a:lnTo>
                    <a:pt x="78531" y="265497"/>
                  </a:lnTo>
                  <a:lnTo>
                    <a:pt x="81987" y="265048"/>
                  </a:lnTo>
                  <a:lnTo>
                    <a:pt x="85985" y="263903"/>
                  </a:lnTo>
                  <a:lnTo>
                    <a:pt x="90343" y="262292"/>
                  </a:lnTo>
                  <a:lnTo>
                    <a:pt x="94942" y="261218"/>
                  </a:lnTo>
                  <a:lnTo>
                    <a:pt x="99701" y="260503"/>
                  </a:lnTo>
                  <a:lnTo>
                    <a:pt x="104568" y="260025"/>
                  </a:lnTo>
                  <a:lnTo>
                    <a:pt x="109505" y="258861"/>
                  </a:lnTo>
                  <a:lnTo>
                    <a:pt x="114490" y="257238"/>
                  </a:lnTo>
                  <a:lnTo>
                    <a:pt x="119507" y="255309"/>
                  </a:lnTo>
                  <a:lnTo>
                    <a:pt x="124544" y="253176"/>
                  </a:lnTo>
                  <a:lnTo>
                    <a:pt x="134658" y="248549"/>
                  </a:lnTo>
                  <a:lnTo>
                    <a:pt x="154947" y="238680"/>
                  </a:lnTo>
                  <a:lnTo>
                    <a:pt x="180341" y="226042"/>
                  </a:lnTo>
                  <a:lnTo>
                    <a:pt x="188243" y="223225"/>
                  </a:lnTo>
                  <a:lnTo>
                    <a:pt x="191536" y="222474"/>
                  </a:lnTo>
                  <a:lnTo>
                    <a:pt x="197451" y="219381"/>
                  </a:lnTo>
                  <a:lnTo>
                    <a:pt x="200214" y="217372"/>
                  </a:lnTo>
                  <a:lnTo>
                    <a:pt x="205542" y="215138"/>
                  </a:lnTo>
                  <a:lnTo>
                    <a:pt x="208148" y="214542"/>
                  </a:lnTo>
                  <a:lnTo>
                    <a:pt x="213302" y="211623"/>
                  </a:lnTo>
                  <a:lnTo>
                    <a:pt x="215861" y="209659"/>
                  </a:lnTo>
                  <a:lnTo>
                    <a:pt x="220963" y="207477"/>
                  </a:lnTo>
                  <a:lnTo>
                    <a:pt x="228595" y="206248"/>
                  </a:lnTo>
                  <a:lnTo>
                    <a:pt x="236218" y="205884"/>
                  </a:lnTo>
                  <a:lnTo>
                    <a:pt x="242335" y="205761"/>
                  </a:lnTo>
                  <a:lnTo>
                    <a:pt x="245429" y="208002"/>
                  </a:lnTo>
                  <a:lnTo>
                    <a:pt x="247440" y="209785"/>
                  </a:lnTo>
                  <a:lnTo>
                    <a:pt x="249627" y="210974"/>
                  </a:lnTo>
                  <a:lnTo>
                    <a:pt x="254314" y="212295"/>
                  </a:lnTo>
                  <a:lnTo>
                    <a:pt x="261713" y="213038"/>
                  </a:lnTo>
                  <a:lnTo>
                    <a:pt x="266700" y="2133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MARTInkAnnotation158"/>
            <p:cNvSpPr/>
            <p:nvPr/>
          </p:nvSpPr>
          <p:spPr>
            <a:xfrm>
              <a:off x="2529720" y="3306960"/>
              <a:ext cx="950400" cy="838080"/>
            </a:xfrm>
            <a:custGeom>
              <a:avLst/>
              <a:gdLst>
                <a:gd name="textAreaLeft" fmla="*/ 0 w 950400"/>
                <a:gd name="textAreaRight" fmla="*/ 950760 w 9504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950536" h="838066">
                  <a:moveTo>
                    <a:pt x="0" y="175125"/>
                  </a:moveTo>
                  <a:lnTo>
                    <a:pt x="29485" y="145641"/>
                  </a:lnTo>
                  <a:lnTo>
                    <a:pt x="59575" y="121582"/>
                  </a:lnTo>
                  <a:lnTo>
                    <a:pt x="85052" y="101425"/>
                  </a:lnTo>
                  <a:lnTo>
                    <a:pt x="114544" y="81137"/>
                  </a:lnTo>
                  <a:lnTo>
                    <a:pt x="138079" y="65902"/>
                  </a:lnTo>
                  <a:lnTo>
                    <a:pt x="166125" y="51511"/>
                  </a:lnTo>
                  <a:lnTo>
                    <a:pt x="195884" y="40662"/>
                  </a:lnTo>
                  <a:lnTo>
                    <a:pt x="216035" y="31825"/>
                  </a:lnTo>
                  <a:lnTo>
                    <a:pt x="236280" y="24512"/>
                  </a:lnTo>
                  <a:lnTo>
                    <a:pt x="257414" y="18439"/>
                  </a:lnTo>
                  <a:lnTo>
                    <a:pt x="280918" y="12918"/>
                  </a:lnTo>
                  <a:lnTo>
                    <a:pt x="317950" y="5049"/>
                  </a:lnTo>
                  <a:lnTo>
                    <a:pt x="343100" y="2169"/>
                  </a:lnTo>
                  <a:lnTo>
                    <a:pt x="368389" y="889"/>
                  </a:lnTo>
                  <a:lnTo>
                    <a:pt x="393740" y="320"/>
                  </a:lnTo>
                  <a:lnTo>
                    <a:pt x="431812" y="0"/>
                  </a:lnTo>
                  <a:lnTo>
                    <a:pt x="459463" y="2183"/>
                  </a:lnTo>
                  <a:lnTo>
                    <a:pt x="487839" y="5129"/>
                  </a:lnTo>
                  <a:lnTo>
                    <a:pt x="514562" y="6438"/>
                  </a:lnTo>
                  <a:lnTo>
                    <a:pt x="542808" y="9278"/>
                  </a:lnTo>
                  <a:lnTo>
                    <a:pt x="571448" y="14208"/>
                  </a:lnTo>
                  <a:lnTo>
                    <a:pt x="598288" y="22044"/>
                  </a:lnTo>
                  <a:lnTo>
                    <a:pt x="624328" y="31172"/>
                  </a:lnTo>
                  <a:lnTo>
                    <a:pt x="650859" y="40872"/>
                  </a:lnTo>
                  <a:lnTo>
                    <a:pt x="679584" y="50828"/>
                  </a:lnTo>
                  <a:lnTo>
                    <a:pt x="707026" y="63156"/>
                  </a:lnTo>
                  <a:lnTo>
                    <a:pt x="733334" y="77101"/>
                  </a:lnTo>
                  <a:lnTo>
                    <a:pt x="759138" y="91765"/>
                  </a:lnTo>
                  <a:lnTo>
                    <a:pt x="797465" y="114301"/>
                  </a:lnTo>
                  <a:lnTo>
                    <a:pt x="820660" y="131724"/>
                  </a:lnTo>
                  <a:lnTo>
                    <a:pt x="841411" y="150755"/>
                  </a:lnTo>
                  <a:lnTo>
                    <a:pt x="859101" y="170503"/>
                  </a:lnTo>
                  <a:lnTo>
                    <a:pt x="875429" y="190568"/>
                  </a:lnTo>
                  <a:lnTo>
                    <a:pt x="898902" y="220905"/>
                  </a:lnTo>
                  <a:lnTo>
                    <a:pt x="913439" y="241192"/>
                  </a:lnTo>
                  <a:lnTo>
                    <a:pt x="925544" y="261497"/>
                  </a:lnTo>
                  <a:lnTo>
                    <a:pt x="934311" y="281810"/>
                  </a:lnTo>
                  <a:lnTo>
                    <a:pt x="941029" y="302127"/>
                  </a:lnTo>
                  <a:lnTo>
                    <a:pt x="946838" y="322446"/>
                  </a:lnTo>
                  <a:lnTo>
                    <a:pt x="949983" y="342765"/>
                  </a:lnTo>
                  <a:lnTo>
                    <a:pt x="950535" y="363085"/>
                  </a:lnTo>
                  <a:lnTo>
                    <a:pt x="947958" y="383405"/>
                  </a:lnTo>
                  <a:lnTo>
                    <a:pt x="943990" y="403725"/>
                  </a:lnTo>
                  <a:lnTo>
                    <a:pt x="941747" y="413885"/>
                  </a:lnTo>
                  <a:lnTo>
                    <a:pt x="932481" y="434205"/>
                  </a:lnTo>
                  <a:lnTo>
                    <a:pt x="920742" y="453678"/>
                  </a:lnTo>
                  <a:lnTo>
                    <a:pt x="903768" y="478921"/>
                  </a:lnTo>
                  <a:lnTo>
                    <a:pt x="882181" y="502488"/>
                  </a:lnTo>
                  <a:lnTo>
                    <a:pt x="855559" y="525557"/>
                  </a:lnTo>
                  <a:lnTo>
                    <a:pt x="829515" y="547632"/>
                  </a:lnTo>
                  <a:lnTo>
                    <a:pt x="807529" y="559688"/>
                  </a:lnTo>
                  <a:lnTo>
                    <a:pt x="775396" y="575995"/>
                  </a:lnTo>
                  <a:lnTo>
                    <a:pt x="754689" y="588663"/>
                  </a:lnTo>
                  <a:lnTo>
                    <a:pt x="734198" y="601913"/>
                  </a:lnTo>
                  <a:lnTo>
                    <a:pt x="704467" y="618893"/>
                  </a:lnTo>
                  <a:lnTo>
                    <a:pt x="678349" y="634648"/>
                  </a:lnTo>
                  <a:lnTo>
                    <a:pt x="650384" y="650041"/>
                  </a:lnTo>
                  <a:lnTo>
                    <a:pt x="625636" y="665326"/>
                  </a:lnTo>
                  <a:lnTo>
                    <a:pt x="603909" y="680579"/>
                  </a:lnTo>
                  <a:lnTo>
                    <a:pt x="594936" y="690743"/>
                  </a:lnTo>
                  <a:lnTo>
                    <a:pt x="581429" y="710218"/>
                  </a:lnTo>
                  <a:lnTo>
                    <a:pt x="572809" y="717180"/>
                  </a:lnTo>
                  <a:lnTo>
                    <a:pt x="569832" y="721068"/>
                  </a:lnTo>
                  <a:lnTo>
                    <a:pt x="567848" y="725354"/>
                  </a:lnTo>
                  <a:lnTo>
                    <a:pt x="565644" y="734631"/>
                  </a:lnTo>
                  <a:lnTo>
                    <a:pt x="564664" y="744399"/>
                  </a:lnTo>
                  <a:lnTo>
                    <a:pt x="566096" y="749374"/>
                  </a:lnTo>
                  <a:lnTo>
                    <a:pt x="572203" y="759418"/>
                  </a:lnTo>
                  <a:lnTo>
                    <a:pt x="581116" y="770547"/>
                  </a:lnTo>
                  <a:lnTo>
                    <a:pt x="604835" y="786788"/>
                  </a:lnTo>
                  <a:lnTo>
                    <a:pt x="633024" y="805453"/>
                  </a:lnTo>
                  <a:lnTo>
                    <a:pt x="659533" y="816361"/>
                  </a:lnTo>
                  <a:lnTo>
                    <a:pt x="686271" y="830263"/>
                  </a:lnTo>
                  <a:lnTo>
                    <a:pt x="701040" y="8380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MARTInkAnnotation159"/>
            <p:cNvSpPr/>
            <p:nvPr/>
          </p:nvSpPr>
          <p:spPr>
            <a:xfrm>
              <a:off x="3283920" y="4053960"/>
              <a:ext cx="7560" cy="3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622" h="1">
                  <a:moveTo>
                    <a:pt x="7621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MARTInkAnnotation160"/>
            <p:cNvSpPr/>
            <p:nvPr/>
          </p:nvSpPr>
          <p:spPr>
            <a:xfrm>
              <a:off x="3116520" y="4000320"/>
              <a:ext cx="190080" cy="2131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90431" h="213349">
                  <a:moveTo>
                    <a:pt x="121878" y="7618"/>
                  </a:moveTo>
                  <a:lnTo>
                    <a:pt x="114572" y="7618"/>
                  </a:lnTo>
                  <a:lnTo>
                    <a:pt x="109083" y="2381"/>
                  </a:lnTo>
                  <a:lnTo>
                    <a:pt x="106641" y="0"/>
                  </a:lnTo>
                  <a:lnTo>
                    <a:pt x="106639" y="4044"/>
                  </a:lnTo>
                  <a:lnTo>
                    <a:pt x="108896" y="10545"/>
                  </a:lnTo>
                  <a:lnTo>
                    <a:pt x="110684" y="14649"/>
                  </a:lnTo>
                  <a:lnTo>
                    <a:pt x="111875" y="19079"/>
                  </a:lnTo>
                  <a:lnTo>
                    <a:pt x="112670" y="23726"/>
                  </a:lnTo>
                  <a:lnTo>
                    <a:pt x="113199" y="28516"/>
                  </a:lnTo>
                  <a:lnTo>
                    <a:pt x="114399" y="33403"/>
                  </a:lnTo>
                  <a:lnTo>
                    <a:pt x="116046" y="38355"/>
                  </a:lnTo>
                  <a:lnTo>
                    <a:pt x="117990" y="43349"/>
                  </a:lnTo>
                  <a:lnTo>
                    <a:pt x="120133" y="47526"/>
                  </a:lnTo>
                  <a:lnTo>
                    <a:pt x="122408" y="51157"/>
                  </a:lnTo>
                  <a:lnTo>
                    <a:pt x="124771" y="54424"/>
                  </a:lnTo>
                  <a:lnTo>
                    <a:pt x="127194" y="58295"/>
                  </a:lnTo>
                  <a:lnTo>
                    <a:pt x="129656" y="62570"/>
                  </a:lnTo>
                  <a:lnTo>
                    <a:pt x="134649" y="71834"/>
                  </a:lnTo>
                  <a:lnTo>
                    <a:pt x="147288" y="96612"/>
                  </a:lnTo>
                  <a:lnTo>
                    <a:pt x="148978" y="101661"/>
                  </a:lnTo>
                  <a:lnTo>
                    <a:pt x="150105" y="106720"/>
                  </a:lnTo>
                  <a:lnTo>
                    <a:pt x="150856" y="111786"/>
                  </a:lnTo>
                  <a:lnTo>
                    <a:pt x="152204" y="117704"/>
                  </a:lnTo>
                  <a:lnTo>
                    <a:pt x="153949" y="124188"/>
                  </a:lnTo>
                  <a:lnTo>
                    <a:pt x="155958" y="131052"/>
                  </a:lnTo>
                  <a:lnTo>
                    <a:pt x="158145" y="137320"/>
                  </a:lnTo>
                  <a:lnTo>
                    <a:pt x="160450" y="143193"/>
                  </a:lnTo>
                  <a:lnTo>
                    <a:pt x="162833" y="148802"/>
                  </a:lnTo>
                  <a:lnTo>
                    <a:pt x="165268" y="153387"/>
                  </a:lnTo>
                  <a:lnTo>
                    <a:pt x="167738" y="157291"/>
                  </a:lnTo>
                  <a:lnTo>
                    <a:pt x="170232" y="160740"/>
                  </a:lnTo>
                  <a:lnTo>
                    <a:pt x="172740" y="164733"/>
                  </a:lnTo>
                  <a:lnTo>
                    <a:pt x="175260" y="169088"/>
                  </a:lnTo>
                  <a:lnTo>
                    <a:pt x="177786" y="173685"/>
                  </a:lnTo>
                  <a:lnTo>
                    <a:pt x="179470" y="177596"/>
                  </a:lnTo>
                  <a:lnTo>
                    <a:pt x="181341" y="184199"/>
                  </a:lnTo>
                  <a:lnTo>
                    <a:pt x="181841" y="187992"/>
                  </a:lnTo>
                  <a:lnTo>
                    <a:pt x="182174" y="192214"/>
                  </a:lnTo>
                  <a:lnTo>
                    <a:pt x="182395" y="196722"/>
                  </a:lnTo>
                  <a:lnTo>
                    <a:pt x="183390" y="199727"/>
                  </a:lnTo>
                  <a:lnTo>
                    <a:pt x="184899" y="201731"/>
                  </a:lnTo>
                  <a:lnTo>
                    <a:pt x="186752" y="203067"/>
                  </a:lnTo>
                  <a:lnTo>
                    <a:pt x="187988" y="204804"/>
                  </a:lnTo>
                  <a:lnTo>
                    <a:pt x="189971" y="211418"/>
                  </a:lnTo>
                  <a:lnTo>
                    <a:pt x="190430" y="213245"/>
                  </a:lnTo>
                  <a:lnTo>
                    <a:pt x="185216" y="213336"/>
                  </a:lnTo>
                  <a:lnTo>
                    <a:pt x="183895" y="213348"/>
                  </a:lnTo>
                  <a:lnTo>
                    <a:pt x="179107" y="209310"/>
                  </a:lnTo>
                  <a:lnTo>
                    <a:pt x="176117" y="207273"/>
                  </a:lnTo>
                  <a:lnTo>
                    <a:pt x="172431" y="205068"/>
                  </a:lnTo>
                  <a:lnTo>
                    <a:pt x="168280" y="202751"/>
                  </a:lnTo>
                  <a:lnTo>
                    <a:pt x="164666" y="201207"/>
                  </a:lnTo>
                  <a:lnTo>
                    <a:pt x="161410" y="200177"/>
                  </a:lnTo>
                  <a:lnTo>
                    <a:pt x="158393" y="199491"/>
                  </a:lnTo>
                  <a:lnTo>
                    <a:pt x="154688" y="198186"/>
                  </a:lnTo>
                  <a:lnTo>
                    <a:pt x="150525" y="196471"/>
                  </a:lnTo>
                  <a:lnTo>
                    <a:pt x="146056" y="194480"/>
                  </a:lnTo>
                  <a:lnTo>
                    <a:pt x="141384" y="193152"/>
                  </a:lnTo>
                  <a:lnTo>
                    <a:pt x="136575" y="192268"/>
                  </a:lnTo>
                  <a:lnTo>
                    <a:pt x="131676" y="191678"/>
                  </a:lnTo>
                  <a:lnTo>
                    <a:pt x="126717" y="190438"/>
                  </a:lnTo>
                  <a:lnTo>
                    <a:pt x="121717" y="188765"/>
                  </a:lnTo>
                  <a:lnTo>
                    <a:pt x="116691" y="186802"/>
                  </a:lnTo>
                  <a:lnTo>
                    <a:pt x="111647" y="185494"/>
                  </a:lnTo>
                  <a:lnTo>
                    <a:pt x="106591" y="184622"/>
                  </a:lnTo>
                  <a:lnTo>
                    <a:pt x="101527" y="184041"/>
                  </a:lnTo>
                  <a:lnTo>
                    <a:pt x="96457" y="183653"/>
                  </a:lnTo>
                  <a:lnTo>
                    <a:pt x="91384" y="183395"/>
                  </a:lnTo>
                  <a:lnTo>
                    <a:pt x="86309" y="183222"/>
                  </a:lnTo>
                  <a:lnTo>
                    <a:pt x="80385" y="182261"/>
                  </a:lnTo>
                  <a:lnTo>
                    <a:pt x="73896" y="180773"/>
                  </a:lnTo>
                  <a:lnTo>
                    <a:pt x="67030" y="178935"/>
                  </a:lnTo>
                  <a:lnTo>
                    <a:pt x="60760" y="177710"/>
                  </a:lnTo>
                  <a:lnTo>
                    <a:pt x="54886" y="176892"/>
                  </a:lnTo>
                  <a:lnTo>
                    <a:pt x="49277" y="176348"/>
                  </a:lnTo>
                  <a:lnTo>
                    <a:pt x="44690" y="175985"/>
                  </a:lnTo>
                  <a:lnTo>
                    <a:pt x="40786" y="175742"/>
                  </a:lnTo>
                  <a:lnTo>
                    <a:pt x="37337" y="175581"/>
                  </a:lnTo>
                  <a:lnTo>
                    <a:pt x="33344" y="174626"/>
                  </a:lnTo>
                  <a:lnTo>
                    <a:pt x="28989" y="173144"/>
                  </a:lnTo>
                  <a:lnTo>
                    <a:pt x="24392" y="171308"/>
                  </a:lnTo>
                  <a:lnTo>
                    <a:pt x="20481" y="170085"/>
                  </a:lnTo>
                  <a:lnTo>
                    <a:pt x="17027" y="169269"/>
                  </a:lnTo>
                  <a:lnTo>
                    <a:pt x="13877" y="168725"/>
                  </a:lnTo>
                  <a:lnTo>
                    <a:pt x="8120" y="168121"/>
                  </a:lnTo>
                  <a:lnTo>
                    <a:pt x="1570" y="167733"/>
                  </a:lnTo>
                  <a:lnTo>
                    <a:pt x="1033" y="166855"/>
                  </a:lnTo>
                  <a:lnTo>
                    <a:pt x="100" y="161085"/>
                  </a:lnTo>
                  <a:lnTo>
                    <a:pt x="0" y="156289"/>
                  </a:lnTo>
                  <a:lnTo>
                    <a:pt x="1679" y="154146"/>
                  </a:lnTo>
                  <a:lnTo>
                    <a:pt x="4492" y="151870"/>
                  </a:lnTo>
                  <a:lnTo>
                    <a:pt x="8061" y="149506"/>
                  </a:lnTo>
                  <a:lnTo>
                    <a:pt x="11286" y="147083"/>
                  </a:lnTo>
                  <a:lnTo>
                    <a:pt x="17129" y="142134"/>
                  </a:lnTo>
                  <a:lnTo>
                    <a:pt x="20718" y="139629"/>
                  </a:lnTo>
                  <a:lnTo>
                    <a:pt x="24805" y="137112"/>
                  </a:lnTo>
                  <a:lnTo>
                    <a:pt x="29223" y="134587"/>
                  </a:lnTo>
                  <a:lnTo>
                    <a:pt x="38647" y="129525"/>
                  </a:lnTo>
                  <a:lnTo>
                    <a:pt x="58495" y="119376"/>
                  </a:lnTo>
                  <a:lnTo>
                    <a:pt x="62689" y="115990"/>
                  </a:lnTo>
                  <a:lnTo>
                    <a:pt x="66332" y="112039"/>
                  </a:lnTo>
                  <a:lnTo>
                    <a:pt x="69608" y="107712"/>
                  </a:lnTo>
                  <a:lnTo>
                    <a:pt x="73484" y="103980"/>
                  </a:lnTo>
                  <a:lnTo>
                    <a:pt x="77762" y="100647"/>
                  </a:lnTo>
                  <a:lnTo>
                    <a:pt x="82308" y="97577"/>
                  </a:lnTo>
                  <a:lnTo>
                    <a:pt x="86185" y="94684"/>
                  </a:lnTo>
                  <a:lnTo>
                    <a:pt x="89616" y="91909"/>
                  </a:lnTo>
                  <a:lnTo>
                    <a:pt x="92750" y="89212"/>
                  </a:lnTo>
                  <a:lnTo>
                    <a:pt x="94840" y="86567"/>
                  </a:lnTo>
                  <a:lnTo>
                    <a:pt x="97161" y="81371"/>
                  </a:lnTo>
                  <a:lnTo>
                    <a:pt x="98193" y="76239"/>
                  </a:lnTo>
                  <a:lnTo>
                    <a:pt x="98651" y="71137"/>
                  </a:lnTo>
                  <a:lnTo>
                    <a:pt x="98855" y="66046"/>
                  </a:lnTo>
                  <a:lnTo>
                    <a:pt x="99014" y="53784"/>
                  </a:lnTo>
                  <a:lnTo>
                    <a:pt x="96758" y="51279"/>
                  </a:lnTo>
                  <a:lnTo>
                    <a:pt x="91398" y="457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MARTInkAnnotation161"/>
            <p:cNvSpPr/>
            <p:nvPr/>
          </p:nvSpPr>
          <p:spPr>
            <a:xfrm>
              <a:off x="3314520" y="4320720"/>
              <a:ext cx="360" cy="144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" h="144781">
                  <a:moveTo>
                    <a:pt x="0" y="0"/>
                  </a:moveTo>
                  <a:lnTo>
                    <a:pt x="0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MARTInkAnnotation162"/>
            <p:cNvSpPr/>
            <p:nvPr/>
          </p:nvSpPr>
          <p:spPr>
            <a:xfrm>
              <a:off x="3207960" y="4396680"/>
              <a:ext cx="319680" cy="16740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0040" h="167641">
                  <a:moveTo>
                    <a:pt x="320039" y="0"/>
                  </a:moveTo>
                  <a:lnTo>
                    <a:pt x="315995" y="0"/>
                  </a:lnTo>
                  <a:lnTo>
                    <a:pt x="313956" y="847"/>
                  </a:lnTo>
                  <a:lnTo>
                    <a:pt x="309434" y="4045"/>
                  </a:lnTo>
                  <a:lnTo>
                    <a:pt x="307889" y="6084"/>
                  </a:lnTo>
                  <a:lnTo>
                    <a:pt x="306859" y="8289"/>
                  </a:lnTo>
                  <a:lnTo>
                    <a:pt x="306172" y="10606"/>
                  </a:lnTo>
                  <a:lnTo>
                    <a:pt x="303153" y="15438"/>
                  </a:lnTo>
                  <a:lnTo>
                    <a:pt x="298988" y="20408"/>
                  </a:lnTo>
                  <a:lnTo>
                    <a:pt x="294314" y="25439"/>
                  </a:lnTo>
                  <a:lnTo>
                    <a:pt x="287157" y="30497"/>
                  </a:lnTo>
                  <a:lnTo>
                    <a:pt x="278332" y="35568"/>
                  </a:lnTo>
                  <a:lnTo>
                    <a:pt x="268765" y="40643"/>
                  </a:lnTo>
                  <a:lnTo>
                    <a:pt x="264690" y="44029"/>
                  </a:lnTo>
                  <a:lnTo>
                    <a:pt x="261126" y="47979"/>
                  </a:lnTo>
                  <a:lnTo>
                    <a:pt x="257904" y="52306"/>
                  </a:lnTo>
                  <a:lnTo>
                    <a:pt x="254063" y="56037"/>
                  </a:lnTo>
                  <a:lnTo>
                    <a:pt x="249808" y="59372"/>
                  </a:lnTo>
                  <a:lnTo>
                    <a:pt x="245279" y="62441"/>
                  </a:lnTo>
                  <a:lnTo>
                    <a:pt x="239719" y="65334"/>
                  </a:lnTo>
                  <a:lnTo>
                    <a:pt x="233472" y="68110"/>
                  </a:lnTo>
                  <a:lnTo>
                    <a:pt x="226768" y="70806"/>
                  </a:lnTo>
                  <a:lnTo>
                    <a:pt x="220605" y="73451"/>
                  </a:lnTo>
                  <a:lnTo>
                    <a:pt x="209242" y="78647"/>
                  </a:lnTo>
                  <a:lnTo>
                    <a:pt x="203841" y="82065"/>
                  </a:lnTo>
                  <a:lnTo>
                    <a:pt x="198548" y="86036"/>
                  </a:lnTo>
                  <a:lnTo>
                    <a:pt x="193325" y="90378"/>
                  </a:lnTo>
                  <a:lnTo>
                    <a:pt x="186457" y="94118"/>
                  </a:lnTo>
                  <a:lnTo>
                    <a:pt x="178492" y="97459"/>
                  </a:lnTo>
                  <a:lnTo>
                    <a:pt x="169794" y="100532"/>
                  </a:lnTo>
                  <a:lnTo>
                    <a:pt x="161456" y="104275"/>
                  </a:lnTo>
                  <a:lnTo>
                    <a:pt x="153358" y="108464"/>
                  </a:lnTo>
                  <a:lnTo>
                    <a:pt x="145418" y="112949"/>
                  </a:lnTo>
                  <a:lnTo>
                    <a:pt x="137585" y="116786"/>
                  </a:lnTo>
                  <a:lnTo>
                    <a:pt x="129824" y="120191"/>
                  </a:lnTo>
                  <a:lnTo>
                    <a:pt x="122109" y="123307"/>
                  </a:lnTo>
                  <a:lnTo>
                    <a:pt x="113580" y="126231"/>
                  </a:lnTo>
                  <a:lnTo>
                    <a:pt x="104506" y="129028"/>
                  </a:lnTo>
                  <a:lnTo>
                    <a:pt x="95071" y="131739"/>
                  </a:lnTo>
                  <a:lnTo>
                    <a:pt x="87087" y="134392"/>
                  </a:lnTo>
                  <a:lnTo>
                    <a:pt x="80072" y="137008"/>
                  </a:lnTo>
                  <a:lnTo>
                    <a:pt x="73701" y="139599"/>
                  </a:lnTo>
                  <a:lnTo>
                    <a:pt x="67761" y="142173"/>
                  </a:lnTo>
                  <a:lnTo>
                    <a:pt x="56645" y="147290"/>
                  </a:lnTo>
                  <a:lnTo>
                    <a:pt x="50464" y="149840"/>
                  </a:lnTo>
                  <a:lnTo>
                    <a:pt x="43802" y="152387"/>
                  </a:lnTo>
                  <a:lnTo>
                    <a:pt x="36822" y="154931"/>
                  </a:lnTo>
                  <a:lnTo>
                    <a:pt x="31321" y="156628"/>
                  </a:lnTo>
                  <a:lnTo>
                    <a:pt x="22952" y="158512"/>
                  </a:lnTo>
                  <a:lnTo>
                    <a:pt x="16410" y="161607"/>
                  </a:lnTo>
                  <a:lnTo>
                    <a:pt x="13480" y="163618"/>
                  </a:lnTo>
                  <a:lnTo>
                    <a:pt x="7967" y="165852"/>
                  </a:lnTo>
                  <a:lnTo>
                    <a:pt x="0" y="1676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MARTInkAnnotation163"/>
            <p:cNvSpPr/>
            <p:nvPr/>
          </p:nvSpPr>
          <p:spPr>
            <a:xfrm>
              <a:off x="3360240" y="4541760"/>
              <a:ext cx="136800" cy="608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37130" h="60930">
                  <a:moveTo>
                    <a:pt x="68549" y="0"/>
                  </a:moveTo>
                  <a:lnTo>
                    <a:pt x="57197" y="0"/>
                  </a:lnTo>
                  <a:lnTo>
                    <a:pt x="55054" y="847"/>
                  </a:lnTo>
                  <a:lnTo>
                    <a:pt x="52779" y="2258"/>
                  </a:lnTo>
                  <a:lnTo>
                    <a:pt x="50416" y="4045"/>
                  </a:lnTo>
                  <a:lnTo>
                    <a:pt x="47993" y="5237"/>
                  </a:lnTo>
                  <a:lnTo>
                    <a:pt x="45531" y="6031"/>
                  </a:lnTo>
                  <a:lnTo>
                    <a:pt x="43044" y="6561"/>
                  </a:lnTo>
                  <a:lnTo>
                    <a:pt x="39692" y="7760"/>
                  </a:lnTo>
                  <a:lnTo>
                    <a:pt x="35765" y="9408"/>
                  </a:lnTo>
                  <a:lnTo>
                    <a:pt x="31453" y="11351"/>
                  </a:lnTo>
                  <a:lnTo>
                    <a:pt x="27731" y="12648"/>
                  </a:lnTo>
                  <a:lnTo>
                    <a:pt x="24404" y="13512"/>
                  </a:lnTo>
                  <a:lnTo>
                    <a:pt x="21339" y="14088"/>
                  </a:lnTo>
                  <a:lnTo>
                    <a:pt x="18449" y="15319"/>
                  </a:lnTo>
                  <a:lnTo>
                    <a:pt x="15676" y="16986"/>
                  </a:lnTo>
                  <a:lnTo>
                    <a:pt x="9187" y="21700"/>
                  </a:lnTo>
                  <a:lnTo>
                    <a:pt x="7807" y="22933"/>
                  </a:lnTo>
                  <a:lnTo>
                    <a:pt x="1169" y="29319"/>
                  </a:lnTo>
                  <a:lnTo>
                    <a:pt x="769" y="30552"/>
                  </a:lnTo>
                  <a:lnTo>
                    <a:pt x="502" y="32222"/>
                  </a:lnTo>
                  <a:lnTo>
                    <a:pt x="324" y="34181"/>
                  </a:lnTo>
                  <a:lnTo>
                    <a:pt x="206" y="36334"/>
                  </a:lnTo>
                  <a:lnTo>
                    <a:pt x="0" y="44316"/>
                  </a:lnTo>
                  <a:lnTo>
                    <a:pt x="836" y="44784"/>
                  </a:lnTo>
                  <a:lnTo>
                    <a:pt x="4023" y="45304"/>
                  </a:lnTo>
                  <a:lnTo>
                    <a:pt x="6905" y="46289"/>
                  </a:lnTo>
                  <a:lnTo>
                    <a:pt x="10520" y="47793"/>
                  </a:lnTo>
                  <a:lnTo>
                    <a:pt x="14623" y="49642"/>
                  </a:lnTo>
                  <a:lnTo>
                    <a:pt x="19052" y="50874"/>
                  </a:lnTo>
                  <a:lnTo>
                    <a:pt x="23697" y="51696"/>
                  </a:lnTo>
                  <a:lnTo>
                    <a:pt x="28488" y="52244"/>
                  </a:lnTo>
                  <a:lnTo>
                    <a:pt x="33375" y="53456"/>
                  </a:lnTo>
                  <a:lnTo>
                    <a:pt x="38326" y="55110"/>
                  </a:lnTo>
                  <a:lnTo>
                    <a:pt x="43320" y="57060"/>
                  </a:lnTo>
                  <a:lnTo>
                    <a:pt x="48343" y="58360"/>
                  </a:lnTo>
                  <a:lnTo>
                    <a:pt x="53385" y="59227"/>
                  </a:lnTo>
                  <a:lnTo>
                    <a:pt x="58440" y="59804"/>
                  </a:lnTo>
                  <a:lnTo>
                    <a:pt x="62656" y="60190"/>
                  </a:lnTo>
                  <a:lnTo>
                    <a:pt x="66314" y="60446"/>
                  </a:lnTo>
                  <a:lnTo>
                    <a:pt x="69599" y="60618"/>
                  </a:lnTo>
                  <a:lnTo>
                    <a:pt x="80022" y="60808"/>
                  </a:lnTo>
                  <a:lnTo>
                    <a:pt x="99319" y="60929"/>
                  </a:lnTo>
                  <a:lnTo>
                    <a:pt x="102609" y="60093"/>
                  </a:lnTo>
                  <a:lnTo>
                    <a:pt x="105649" y="58688"/>
                  </a:lnTo>
                  <a:lnTo>
                    <a:pt x="108522" y="56906"/>
                  </a:lnTo>
                  <a:lnTo>
                    <a:pt x="111284" y="54870"/>
                  </a:lnTo>
                  <a:lnTo>
                    <a:pt x="113973" y="52667"/>
                  </a:lnTo>
                  <a:lnTo>
                    <a:pt x="116611" y="50351"/>
                  </a:lnTo>
                  <a:lnTo>
                    <a:pt x="119217" y="48808"/>
                  </a:lnTo>
                  <a:lnTo>
                    <a:pt x="121801" y="47779"/>
                  </a:lnTo>
                  <a:lnTo>
                    <a:pt x="124370" y="47093"/>
                  </a:lnTo>
                  <a:lnTo>
                    <a:pt x="126930" y="46635"/>
                  </a:lnTo>
                  <a:lnTo>
                    <a:pt x="129482" y="46330"/>
                  </a:lnTo>
                  <a:lnTo>
                    <a:pt x="137129" y="45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MARTInkAnnotation164"/>
            <p:cNvSpPr/>
            <p:nvPr/>
          </p:nvSpPr>
          <p:spPr>
            <a:xfrm>
              <a:off x="3474720" y="4534200"/>
              <a:ext cx="68400" cy="1904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8572" h="190501">
                  <a:moveTo>
                    <a:pt x="68571" y="0"/>
                  </a:moveTo>
                  <a:lnTo>
                    <a:pt x="64527" y="0"/>
                  </a:lnTo>
                  <a:lnTo>
                    <a:pt x="63334" y="846"/>
                  </a:lnTo>
                  <a:lnTo>
                    <a:pt x="62540" y="2258"/>
                  </a:lnTo>
                  <a:lnTo>
                    <a:pt x="62011" y="4045"/>
                  </a:lnTo>
                  <a:lnTo>
                    <a:pt x="60811" y="6083"/>
                  </a:lnTo>
                  <a:lnTo>
                    <a:pt x="59164" y="8289"/>
                  </a:lnTo>
                  <a:lnTo>
                    <a:pt x="57220" y="10606"/>
                  </a:lnTo>
                  <a:lnTo>
                    <a:pt x="55076" y="12997"/>
                  </a:lnTo>
                  <a:lnTo>
                    <a:pt x="50438" y="17912"/>
                  </a:lnTo>
                  <a:lnTo>
                    <a:pt x="43066" y="25439"/>
                  </a:lnTo>
                  <a:lnTo>
                    <a:pt x="40561" y="28813"/>
                  </a:lnTo>
                  <a:lnTo>
                    <a:pt x="38045" y="32755"/>
                  </a:lnTo>
                  <a:lnTo>
                    <a:pt x="35520" y="37077"/>
                  </a:lnTo>
                  <a:lnTo>
                    <a:pt x="32991" y="41651"/>
                  </a:lnTo>
                  <a:lnTo>
                    <a:pt x="27922" y="51250"/>
                  </a:lnTo>
                  <a:lnTo>
                    <a:pt x="12690" y="81319"/>
                  </a:lnTo>
                  <a:lnTo>
                    <a:pt x="10997" y="86387"/>
                  </a:lnTo>
                  <a:lnTo>
                    <a:pt x="9868" y="91457"/>
                  </a:lnTo>
                  <a:lnTo>
                    <a:pt x="9116" y="96532"/>
                  </a:lnTo>
                  <a:lnTo>
                    <a:pt x="7768" y="101608"/>
                  </a:lnTo>
                  <a:lnTo>
                    <a:pt x="6022" y="106685"/>
                  </a:lnTo>
                  <a:lnTo>
                    <a:pt x="4012" y="111763"/>
                  </a:lnTo>
                  <a:lnTo>
                    <a:pt x="2672" y="116842"/>
                  </a:lnTo>
                  <a:lnTo>
                    <a:pt x="1778" y="121922"/>
                  </a:lnTo>
                  <a:lnTo>
                    <a:pt x="1182" y="127002"/>
                  </a:lnTo>
                  <a:lnTo>
                    <a:pt x="785" y="132927"/>
                  </a:lnTo>
                  <a:lnTo>
                    <a:pt x="521" y="139419"/>
                  </a:lnTo>
                  <a:lnTo>
                    <a:pt x="96" y="159996"/>
                  </a:lnTo>
                  <a:lnTo>
                    <a:pt x="0" y="184136"/>
                  </a:lnTo>
                  <a:lnTo>
                    <a:pt x="844" y="186257"/>
                  </a:lnTo>
                  <a:lnTo>
                    <a:pt x="2253" y="187671"/>
                  </a:lnTo>
                  <a:lnTo>
                    <a:pt x="7612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MARTInkAnnotation165"/>
            <p:cNvSpPr/>
            <p:nvPr/>
          </p:nvSpPr>
          <p:spPr>
            <a:xfrm>
              <a:off x="3630240" y="4511160"/>
              <a:ext cx="63720" cy="151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3924" h="15241">
                  <a:moveTo>
                    <a:pt x="-23281" y="15240"/>
                  </a:moveTo>
                  <a:lnTo>
                    <a:pt x="5344" y="15240"/>
                  </a:lnTo>
                  <a:lnTo>
                    <a:pt x="4101" y="14393"/>
                  </a:lnTo>
                  <a:lnTo>
                    <a:pt x="2426" y="12983"/>
                  </a:lnTo>
                  <a:lnTo>
                    <a:pt x="463" y="11195"/>
                  </a:lnTo>
                  <a:lnTo>
                    <a:pt x="0" y="10003"/>
                  </a:lnTo>
                  <a:lnTo>
                    <a:pt x="538" y="9209"/>
                  </a:lnTo>
                  <a:lnTo>
                    <a:pt x="1744" y="8679"/>
                  </a:lnTo>
                  <a:lnTo>
                    <a:pt x="3394" y="8326"/>
                  </a:lnTo>
                  <a:lnTo>
                    <a:pt x="5341" y="8091"/>
                  </a:lnTo>
                  <a:lnTo>
                    <a:pt x="7486" y="7934"/>
                  </a:lnTo>
                  <a:lnTo>
                    <a:pt x="8916" y="6983"/>
                  </a:lnTo>
                  <a:lnTo>
                    <a:pt x="9869" y="5502"/>
                  </a:lnTo>
                  <a:lnTo>
                    <a:pt x="10504" y="3668"/>
                  </a:lnTo>
                  <a:lnTo>
                    <a:pt x="12621" y="2445"/>
                  </a:lnTo>
                  <a:lnTo>
                    <a:pt x="15725" y="1630"/>
                  </a:lnTo>
                  <a:lnTo>
                    <a:pt x="19489" y="1087"/>
                  </a:lnTo>
                  <a:lnTo>
                    <a:pt x="22844" y="725"/>
                  </a:lnTo>
                  <a:lnTo>
                    <a:pt x="25927" y="483"/>
                  </a:lnTo>
                  <a:lnTo>
                    <a:pt x="28830" y="322"/>
                  </a:lnTo>
                  <a:lnTo>
                    <a:pt x="-31223" y="143"/>
                  </a:lnTo>
                  <a:lnTo>
                    <a:pt x="-20805" y="28"/>
                  </a:lnTo>
                  <a:lnTo>
                    <a:pt x="-1613" y="1"/>
                  </a:lnTo>
                  <a:lnTo>
                    <a:pt x="-14518" y="0"/>
                  </a:lnTo>
                  <a:lnTo>
                    <a:pt x="-15746" y="847"/>
                  </a:lnTo>
                  <a:lnTo>
                    <a:pt x="-17411" y="2258"/>
                  </a:lnTo>
                  <a:lnTo>
                    <a:pt x="-2328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SMARTInkAnnotation166"/>
            <p:cNvSpPr/>
            <p:nvPr/>
          </p:nvSpPr>
          <p:spPr>
            <a:xfrm>
              <a:off x="3809880" y="4358880"/>
              <a:ext cx="15120" cy="205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5241" h="205741">
                  <a:moveTo>
                    <a:pt x="15240" y="0"/>
                  </a:moveTo>
                  <a:lnTo>
                    <a:pt x="11195" y="4045"/>
                  </a:lnTo>
                  <a:lnTo>
                    <a:pt x="10003" y="6084"/>
                  </a:lnTo>
                  <a:lnTo>
                    <a:pt x="9209" y="8289"/>
                  </a:lnTo>
                  <a:lnTo>
                    <a:pt x="8679" y="10606"/>
                  </a:lnTo>
                  <a:lnTo>
                    <a:pt x="8326" y="12997"/>
                  </a:lnTo>
                  <a:lnTo>
                    <a:pt x="7934" y="17912"/>
                  </a:lnTo>
                  <a:lnTo>
                    <a:pt x="6983" y="22102"/>
                  </a:lnTo>
                  <a:lnTo>
                    <a:pt x="5502" y="27435"/>
                  </a:lnTo>
                  <a:lnTo>
                    <a:pt x="3668" y="33530"/>
                  </a:lnTo>
                  <a:lnTo>
                    <a:pt x="2445" y="39287"/>
                  </a:lnTo>
                  <a:lnTo>
                    <a:pt x="1630" y="44818"/>
                  </a:lnTo>
                  <a:lnTo>
                    <a:pt x="1087" y="50198"/>
                  </a:lnTo>
                  <a:lnTo>
                    <a:pt x="725" y="55479"/>
                  </a:lnTo>
                  <a:lnTo>
                    <a:pt x="483" y="60693"/>
                  </a:lnTo>
                  <a:lnTo>
                    <a:pt x="215" y="71848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MARTInkAnnotation167"/>
            <p:cNvSpPr/>
            <p:nvPr/>
          </p:nvSpPr>
          <p:spPr>
            <a:xfrm>
              <a:off x="3901320" y="4313160"/>
              <a:ext cx="159840" cy="2588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60020" h="258939">
                  <a:moveTo>
                    <a:pt x="0" y="68438"/>
                  </a:moveTo>
                  <a:lnTo>
                    <a:pt x="4044" y="64393"/>
                  </a:lnTo>
                  <a:lnTo>
                    <a:pt x="5236" y="61508"/>
                  </a:lnTo>
                  <a:lnTo>
                    <a:pt x="6560" y="53787"/>
                  </a:lnTo>
                  <a:lnTo>
                    <a:pt x="7760" y="51051"/>
                  </a:lnTo>
                  <a:lnTo>
                    <a:pt x="9407" y="49226"/>
                  </a:lnTo>
                  <a:lnTo>
                    <a:pt x="11351" y="48011"/>
                  </a:lnTo>
                  <a:lnTo>
                    <a:pt x="15769" y="42143"/>
                  </a:lnTo>
                  <a:lnTo>
                    <a:pt x="18133" y="38208"/>
                  </a:lnTo>
                  <a:lnTo>
                    <a:pt x="21401" y="33891"/>
                  </a:lnTo>
                  <a:lnTo>
                    <a:pt x="25274" y="29321"/>
                  </a:lnTo>
                  <a:lnTo>
                    <a:pt x="33246" y="20572"/>
                  </a:lnTo>
                  <a:lnTo>
                    <a:pt x="39611" y="13862"/>
                  </a:lnTo>
                  <a:lnTo>
                    <a:pt x="43340" y="10888"/>
                  </a:lnTo>
                  <a:lnTo>
                    <a:pt x="47520" y="8058"/>
                  </a:lnTo>
                  <a:lnTo>
                    <a:pt x="51999" y="5324"/>
                  </a:lnTo>
                  <a:lnTo>
                    <a:pt x="56680" y="3502"/>
                  </a:lnTo>
                  <a:lnTo>
                    <a:pt x="61493" y="2288"/>
                  </a:lnTo>
                  <a:lnTo>
                    <a:pt x="66395" y="1478"/>
                  </a:lnTo>
                  <a:lnTo>
                    <a:pt x="71356" y="938"/>
                  </a:lnTo>
                  <a:lnTo>
                    <a:pt x="76358" y="578"/>
                  </a:lnTo>
                  <a:lnTo>
                    <a:pt x="81385" y="338"/>
                  </a:lnTo>
                  <a:lnTo>
                    <a:pt x="91485" y="72"/>
                  </a:lnTo>
                  <a:lnTo>
                    <a:pt x="96550" y="0"/>
                  </a:lnTo>
                  <a:lnTo>
                    <a:pt x="101620" y="799"/>
                  </a:lnTo>
                  <a:lnTo>
                    <a:pt x="106693" y="2179"/>
                  </a:lnTo>
                  <a:lnTo>
                    <a:pt x="111768" y="3945"/>
                  </a:lnTo>
                  <a:lnTo>
                    <a:pt x="116845" y="5970"/>
                  </a:lnTo>
                  <a:lnTo>
                    <a:pt x="121923" y="8165"/>
                  </a:lnTo>
                  <a:lnTo>
                    <a:pt x="127001" y="10476"/>
                  </a:lnTo>
                  <a:lnTo>
                    <a:pt x="131234" y="12864"/>
                  </a:lnTo>
                  <a:lnTo>
                    <a:pt x="134902" y="15302"/>
                  </a:lnTo>
                  <a:lnTo>
                    <a:pt x="138195" y="17774"/>
                  </a:lnTo>
                  <a:lnTo>
                    <a:pt x="141236" y="20269"/>
                  </a:lnTo>
                  <a:lnTo>
                    <a:pt x="144111" y="22778"/>
                  </a:lnTo>
                  <a:lnTo>
                    <a:pt x="146874" y="25299"/>
                  </a:lnTo>
                  <a:lnTo>
                    <a:pt x="149562" y="28672"/>
                  </a:lnTo>
                  <a:lnTo>
                    <a:pt x="152201" y="32614"/>
                  </a:lnTo>
                  <a:lnTo>
                    <a:pt x="154806" y="36935"/>
                  </a:lnTo>
                  <a:lnTo>
                    <a:pt x="156544" y="41509"/>
                  </a:lnTo>
                  <a:lnTo>
                    <a:pt x="157703" y="46253"/>
                  </a:lnTo>
                  <a:lnTo>
                    <a:pt x="158475" y="51108"/>
                  </a:lnTo>
                  <a:lnTo>
                    <a:pt x="158989" y="56038"/>
                  </a:lnTo>
                  <a:lnTo>
                    <a:pt x="159332" y="61018"/>
                  </a:lnTo>
                  <a:lnTo>
                    <a:pt x="159561" y="66031"/>
                  </a:lnTo>
                  <a:lnTo>
                    <a:pt x="158867" y="71067"/>
                  </a:lnTo>
                  <a:lnTo>
                    <a:pt x="157558" y="76117"/>
                  </a:lnTo>
                  <a:lnTo>
                    <a:pt x="155838" y="81177"/>
                  </a:lnTo>
                  <a:lnTo>
                    <a:pt x="153845" y="86244"/>
                  </a:lnTo>
                  <a:lnTo>
                    <a:pt x="151670" y="91316"/>
                  </a:lnTo>
                  <a:lnTo>
                    <a:pt x="149372" y="96390"/>
                  </a:lnTo>
                  <a:lnTo>
                    <a:pt x="146148" y="101466"/>
                  </a:lnTo>
                  <a:lnTo>
                    <a:pt x="142305" y="106543"/>
                  </a:lnTo>
                  <a:lnTo>
                    <a:pt x="138049" y="111621"/>
                  </a:lnTo>
                  <a:lnTo>
                    <a:pt x="133519" y="116700"/>
                  </a:lnTo>
                  <a:lnTo>
                    <a:pt x="123971" y="126859"/>
                  </a:lnTo>
                  <a:lnTo>
                    <a:pt x="119053" y="132785"/>
                  </a:lnTo>
                  <a:lnTo>
                    <a:pt x="114082" y="139277"/>
                  </a:lnTo>
                  <a:lnTo>
                    <a:pt x="109074" y="146144"/>
                  </a:lnTo>
                  <a:lnTo>
                    <a:pt x="104042" y="152415"/>
                  </a:lnTo>
                  <a:lnTo>
                    <a:pt x="98995" y="158289"/>
                  </a:lnTo>
                  <a:lnTo>
                    <a:pt x="93936" y="163899"/>
                  </a:lnTo>
                  <a:lnTo>
                    <a:pt x="88024" y="169332"/>
                  </a:lnTo>
                  <a:lnTo>
                    <a:pt x="81542" y="174648"/>
                  </a:lnTo>
                  <a:lnTo>
                    <a:pt x="74681" y="179885"/>
                  </a:lnTo>
                  <a:lnTo>
                    <a:pt x="68414" y="185068"/>
                  </a:lnTo>
                  <a:lnTo>
                    <a:pt x="62542" y="190219"/>
                  </a:lnTo>
                  <a:lnTo>
                    <a:pt x="56934" y="195345"/>
                  </a:lnTo>
                  <a:lnTo>
                    <a:pt x="46189" y="205557"/>
                  </a:lnTo>
                  <a:lnTo>
                    <a:pt x="29538" y="221865"/>
                  </a:lnTo>
                  <a:lnTo>
                    <a:pt x="25618" y="224909"/>
                  </a:lnTo>
                  <a:lnTo>
                    <a:pt x="21312" y="227786"/>
                  </a:lnTo>
                  <a:lnTo>
                    <a:pt x="16748" y="230549"/>
                  </a:lnTo>
                  <a:lnTo>
                    <a:pt x="13705" y="233240"/>
                  </a:lnTo>
                  <a:lnTo>
                    <a:pt x="11677" y="235879"/>
                  </a:lnTo>
                  <a:lnTo>
                    <a:pt x="8421" y="242153"/>
                  </a:lnTo>
                  <a:lnTo>
                    <a:pt x="7857" y="247286"/>
                  </a:lnTo>
                  <a:lnTo>
                    <a:pt x="8624" y="248630"/>
                  </a:lnTo>
                  <a:lnTo>
                    <a:pt x="9983" y="249526"/>
                  </a:lnTo>
                  <a:lnTo>
                    <a:pt x="13749" y="250521"/>
                  </a:lnTo>
                  <a:lnTo>
                    <a:pt x="18246" y="250964"/>
                  </a:lnTo>
                  <a:lnTo>
                    <a:pt x="21477" y="251929"/>
                  </a:lnTo>
                  <a:lnTo>
                    <a:pt x="25324" y="253419"/>
                  </a:lnTo>
                  <a:lnTo>
                    <a:pt x="29582" y="255258"/>
                  </a:lnTo>
                  <a:lnTo>
                    <a:pt x="34115" y="256485"/>
                  </a:lnTo>
                  <a:lnTo>
                    <a:pt x="38830" y="257303"/>
                  </a:lnTo>
                  <a:lnTo>
                    <a:pt x="43667" y="257848"/>
                  </a:lnTo>
                  <a:lnTo>
                    <a:pt x="49431" y="258211"/>
                  </a:lnTo>
                  <a:lnTo>
                    <a:pt x="55813" y="258454"/>
                  </a:lnTo>
                  <a:lnTo>
                    <a:pt x="74674" y="258795"/>
                  </a:lnTo>
                  <a:lnTo>
                    <a:pt x="160019" y="2589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SMARTInkAnnotation168"/>
            <p:cNvSpPr/>
            <p:nvPr/>
          </p:nvSpPr>
          <p:spPr>
            <a:xfrm>
              <a:off x="4183200" y="4442400"/>
              <a:ext cx="205560" cy="3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5741" h="1">
                  <a:moveTo>
                    <a:pt x="0" y="0"/>
                  </a:move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SMARTInkAnnotation169"/>
            <p:cNvSpPr/>
            <p:nvPr/>
          </p:nvSpPr>
          <p:spPr>
            <a:xfrm>
              <a:off x="4145040" y="452628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14">
                  <a:moveTo>
                    <a:pt x="0" y="7620"/>
                  </a:moveTo>
                  <a:lnTo>
                    <a:pt x="11572" y="7620"/>
                  </a:lnTo>
                  <a:lnTo>
                    <a:pt x="15335" y="8467"/>
                  </a:lnTo>
                  <a:lnTo>
                    <a:pt x="20384" y="9878"/>
                  </a:lnTo>
                  <a:lnTo>
                    <a:pt x="26289" y="11665"/>
                  </a:lnTo>
                  <a:lnTo>
                    <a:pt x="31920" y="12857"/>
                  </a:lnTo>
                  <a:lnTo>
                    <a:pt x="37366" y="13652"/>
                  </a:lnTo>
                  <a:lnTo>
                    <a:pt x="42691" y="14182"/>
                  </a:lnTo>
                  <a:lnTo>
                    <a:pt x="47934" y="14535"/>
                  </a:lnTo>
                  <a:lnTo>
                    <a:pt x="53122" y="14770"/>
                  </a:lnTo>
                  <a:lnTo>
                    <a:pt x="58275" y="14927"/>
                  </a:lnTo>
                  <a:lnTo>
                    <a:pt x="102009" y="15213"/>
                  </a:lnTo>
                  <a:lnTo>
                    <a:pt x="108646" y="14375"/>
                  </a:lnTo>
                  <a:lnTo>
                    <a:pt x="115611" y="12970"/>
                  </a:lnTo>
                  <a:lnTo>
                    <a:pt x="122794" y="11187"/>
                  </a:lnTo>
                  <a:lnTo>
                    <a:pt x="128429" y="9998"/>
                  </a:lnTo>
                  <a:lnTo>
                    <a:pt x="133033" y="9206"/>
                  </a:lnTo>
                  <a:lnTo>
                    <a:pt x="136949" y="8677"/>
                  </a:lnTo>
                  <a:lnTo>
                    <a:pt x="141253" y="8325"/>
                  </a:lnTo>
                  <a:lnTo>
                    <a:pt x="145815" y="8090"/>
                  </a:lnTo>
                  <a:lnTo>
                    <a:pt x="158069" y="7760"/>
                  </a:lnTo>
                  <a:lnTo>
                    <a:pt x="173840" y="7648"/>
                  </a:lnTo>
                  <a:lnTo>
                    <a:pt x="177700" y="6792"/>
                  </a:lnTo>
                  <a:lnTo>
                    <a:pt x="181121" y="5375"/>
                  </a:lnTo>
                  <a:lnTo>
                    <a:pt x="188647" y="1062"/>
                  </a:lnTo>
                  <a:lnTo>
                    <a:pt x="190111" y="708"/>
                  </a:lnTo>
                  <a:lnTo>
                    <a:pt x="191934" y="472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MARTInkAnnotation170"/>
            <p:cNvSpPr/>
            <p:nvPr/>
          </p:nvSpPr>
          <p:spPr>
            <a:xfrm>
              <a:off x="4556520" y="4053960"/>
              <a:ext cx="45360" cy="1904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5589" h="190501">
                  <a:moveTo>
                    <a:pt x="45588" y="0"/>
                  </a:moveTo>
                  <a:lnTo>
                    <a:pt x="45588" y="25505"/>
                  </a:lnTo>
                  <a:lnTo>
                    <a:pt x="44741" y="28857"/>
                  </a:lnTo>
                  <a:lnTo>
                    <a:pt x="43330" y="32785"/>
                  </a:lnTo>
                  <a:lnTo>
                    <a:pt x="41543" y="37096"/>
                  </a:lnTo>
                  <a:lnTo>
                    <a:pt x="40351" y="41664"/>
                  </a:lnTo>
                  <a:lnTo>
                    <a:pt x="39557" y="46403"/>
                  </a:lnTo>
                  <a:lnTo>
                    <a:pt x="39027" y="51256"/>
                  </a:lnTo>
                  <a:lnTo>
                    <a:pt x="37828" y="56184"/>
                  </a:lnTo>
                  <a:lnTo>
                    <a:pt x="36181" y="61162"/>
                  </a:lnTo>
                  <a:lnTo>
                    <a:pt x="34237" y="66175"/>
                  </a:lnTo>
                  <a:lnTo>
                    <a:pt x="32940" y="71210"/>
                  </a:lnTo>
                  <a:lnTo>
                    <a:pt x="32077" y="76260"/>
                  </a:lnTo>
                  <a:lnTo>
                    <a:pt x="31500" y="81320"/>
                  </a:lnTo>
                  <a:lnTo>
                    <a:pt x="30269" y="86387"/>
                  </a:lnTo>
                  <a:lnTo>
                    <a:pt x="28603" y="91458"/>
                  </a:lnTo>
                  <a:lnTo>
                    <a:pt x="26645" y="96532"/>
                  </a:lnTo>
                  <a:lnTo>
                    <a:pt x="22211" y="108943"/>
                  </a:lnTo>
                  <a:lnTo>
                    <a:pt x="19843" y="115809"/>
                  </a:lnTo>
                  <a:lnTo>
                    <a:pt x="17418" y="121233"/>
                  </a:lnTo>
                  <a:lnTo>
                    <a:pt x="14955" y="125695"/>
                  </a:lnTo>
                  <a:lnTo>
                    <a:pt x="12466" y="129517"/>
                  </a:lnTo>
                  <a:lnTo>
                    <a:pt x="9959" y="133758"/>
                  </a:lnTo>
                  <a:lnTo>
                    <a:pt x="7442" y="138278"/>
                  </a:lnTo>
                  <a:lnTo>
                    <a:pt x="4918" y="142986"/>
                  </a:lnTo>
                  <a:lnTo>
                    <a:pt x="3234" y="147817"/>
                  </a:lnTo>
                  <a:lnTo>
                    <a:pt x="2112" y="152731"/>
                  </a:lnTo>
                  <a:lnTo>
                    <a:pt x="1364" y="157701"/>
                  </a:lnTo>
                  <a:lnTo>
                    <a:pt x="865" y="161860"/>
                  </a:lnTo>
                  <a:lnTo>
                    <a:pt x="533" y="165480"/>
                  </a:lnTo>
                  <a:lnTo>
                    <a:pt x="311" y="168741"/>
                  </a:lnTo>
                  <a:lnTo>
                    <a:pt x="164" y="172607"/>
                  </a:lnTo>
                  <a:lnTo>
                    <a:pt x="0" y="181418"/>
                  </a:lnTo>
                  <a:lnTo>
                    <a:pt x="802" y="184445"/>
                  </a:lnTo>
                  <a:lnTo>
                    <a:pt x="2184" y="186464"/>
                  </a:lnTo>
                  <a:lnTo>
                    <a:pt x="7488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MARTInkAnnotation171"/>
            <p:cNvSpPr/>
            <p:nvPr/>
          </p:nvSpPr>
          <p:spPr>
            <a:xfrm>
              <a:off x="4647960" y="4015800"/>
              <a:ext cx="158040" cy="22716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58314" h="227278">
                  <a:moveTo>
                    <a:pt x="22695" y="60827"/>
                  </a:moveTo>
                  <a:lnTo>
                    <a:pt x="36562" y="46960"/>
                  </a:lnTo>
                  <a:lnTo>
                    <a:pt x="39582" y="41682"/>
                  </a:lnTo>
                  <a:lnTo>
                    <a:pt x="41574" y="37903"/>
                  </a:lnTo>
                  <a:lnTo>
                    <a:pt x="46044" y="31447"/>
                  </a:lnTo>
                  <a:lnTo>
                    <a:pt x="48420" y="28541"/>
                  </a:lnTo>
                  <a:lnTo>
                    <a:pt x="51699" y="25756"/>
                  </a:lnTo>
                  <a:lnTo>
                    <a:pt x="55577" y="23053"/>
                  </a:lnTo>
                  <a:lnTo>
                    <a:pt x="59857" y="20404"/>
                  </a:lnTo>
                  <a:lnTo>
                    <a:pt x="64403" y="17792"/>
                  </a:lnTo>
                  <a:lnTo>
                    <a:pt x="73970" y="12631"/>
                  </a:lnTo>
                  <a:lnTo>
                    <a:pt x="88876" y="4966"/>
                  </a:lnTo>
                  <a:lnTo>
                    <a:pt x="93062" y="3267"/>
                  </a:lnTo>
                  <a:lnTo>
                    <a:pt x="96700" y="2133"/>
                  </a:lnTo>
                  <a:lnTo>
                    <a:pt x="99972" y="1378"/>
                  </a:lnTo>
                  <a:lnTo>
                    <a:pt x="103846" y="874"/>
                  </a:lnTo>
                  <a:lnTo>
                    <a:pt x="108122" y="539"/>
                  </a:lnTo>
                  <a:lnTo>
                    <a:pt x="112667" y="314"/>
                  </a:lnTo>
                  <a:lnTo>
                    <a:pt x="122231" y="66"/>
                  </a:lnTo>
                  <a:lnTo>
                    <a:pt x="127152" y="0"/>
                  </a:lnTo>
                  <a:lnTo>
                    <a:pt x="131280" y="802"/>
                  </a:lnTo>
                  <a:lnTo>
                    <a:pt x="134878" y="2184"/>
                  </a:lnTo>
                  <a:lnTo>
                    <a:pt x="138124" y="3951"/>
                  </a:lnTo>
                  <a:lnTo>
                    <a:pt x="141134" y="5130"/>
                  </a:lnTo>
                  <a:lnTo>
                    <a:pt x="143988" y="5916"/>
                  </a:lnTo>
                  <a:lnTo>
                    <a:pt x="146736" y="6440"/>
                  </a:lnTo>
                  <a:lnTo>
                    <a:pt x="149416" y="7635"/>
                  </a:lnTo>
                  <a:lnTo>
                    <a:pt x="152049" y="9279"/>
                  </a:lnTo>
                  <a:lnTo>
                    <a:pt x="154651" y="11222"/>
                  </a:lnTo>
                  <a:lnTo>
                    <a:pt x="156386" y="14210"/>
                  </a:lnTo>
                  <a:lnTo>
                    <a:pt x="157542" y="17896"/>
                  </a:lnTo>
                  <a:lnTo>
                    <a:pt x="158313" y="22046"/>
                  </a:lnTo>
                  <a:lnTo>
                    <a:pt x="157981" y="25660"/>
                  </a:lnTo>
                  <a:lnTo>
                    <a:pt x="156912" y="28915"/>
                  </a:lnTo>
                  <a:lnTo>
                    <a:pt x="153467" y="34791"/>
                  </a:lnTo>
                  <a:lnTo>
                    <a:pt x="149114" y="40224"/>
                  </a:lnTo>
                  <a:lnTo>
                    <a:pt x="146767" y="43705"/>
                  </a:lnTo>
                  <a:lnTo>
                    <a:pt x="144356" y="47719"/>
                  </a:lnTo>
                  <a:lnTo>
                    <a:pt x="141903" y="52088"/>
                  </a:lnTo>
                  <a:lnTo>
                    <a:pt x="136918" y="61459"/>
                  </a:lnTo>
                  <a:lnTo>
                    <a:pt x="134404" y="66328"/>
                  </a:lnTo>
                  <a:lnTo>
                    <a:pt x="130188" y="70421"/>
                  </a:lnTo>
                  <a:lnTo>
                    <a:pt x="124837" y="73996"/>
                  </a:lnTo>
                  <a:lnTo>
                    <a:pt x="118730" y="77226"/>
                  </a:lnTo>
                  <a:lnTo>
                    <a:pt x="112965" y="81073"/>
                  </a:lnTo>
                  <a:lnTo>
                    <a:pt x="107428" y="85331"/>
                  </a:lnTo>
                  <a:lnTo>
                    <a:pt x="102043" y="89863"/>
                  </a:lnTo>
                  <a:lnTo>
                    <a:pt x="95914" y="94578"/>
                  </a:lnTo>
                  <a:lnTo>
                    <a:pt x="89288" y="99414"/>
                  </a:lnTo>
                  <a:lnTo>
                    <a:pt x="82330" y="104332"/>
                  </a:lnTo>
                  <a:lnTo>
                    <a:pt x="75998" y="108457"/>
                  </a:lnTo>
                  <a:lnTo>
                    <a:pt x="70084" y="112054"/>
                  </a:lnTo>
                  <a:lnTo>
                    <a:pt x="64448" y="115298"/>
                  </a:lnTo>
                  <a:lnTo>
                    <a:pt x="58150" y="119155"/>
                  </a:lnTo>
                  <a:lnTo>
                    <a:pt x="44380" y="127955"/>
                  </a:lnTo>
                  <a:lnTo>
                    <a:pt x="38845" y="131825"/>
                  </a:lnTo>
                  <a:lnTo>
                    <a:pt x="34308" y="135253"/>
                  </a:lnTo>
                  <a:lnTo>
                    <a:pt x="30437" y="138384"/>
                  </a:lnTo>
                  <a:lnTo>
                    <a:pt x="26163" y="141319"/>
                  </a:lnTo>
                  <a:lnTo>
                    <a:pt x="21620" y="144121"/>
                  </a:lnTo>
                  <a:lnTo>
                    <a:pt x="16899" y="146837"/>
                  </a:lnTo>
                  <a:lnTo>
                    <a:pt x="12904" y="150340"/>
                  </a:lnTo>
                  <a:lnTo>
                    <a:pt x="9395" y="154369"/>
                  </a:lnTo>
                  <a:lnTo>
                    <a:pt x="6208" y="158748"/>
                  </a:lnTo>
                  <a:lnTo>
                    <a:pt x="4084" y="162514"/>
                  </a:lnTo>
                  <a:lnTo>
                    <a:pt x="1723" y="168958"/>
                  </a:lnTo>
                  <a:lnTo>
                    <a:pt x="674" y="174643"/>
                  </a:lnTo>
                  <a:lnTo>
                    <a:pt x="208" y="180838"/>
                  </a:lnTo>
                  <a:lnTo>
                    <a:pt x="0" y="189237"/>
                  </a:lnTo>
                  <a:lnTo>
                    <a:pt x="792" y="192154"/>
                  </a:lnTo>
                  <a:lnTo>
                    <a:pt x="2166" y="194098"/>
                  </a:lnTo>
                  <a:lnTo>
                    <a:pt x="5951" y="197105"/>
                  </a:lnTo>
                  <a:lnTo>
                    <a:pt x="10456" y="201264"/>
                  </a:lnTo>
                  <a:lnTo>
                    <a:pt x="13689" y="203558"/>
                  </a:lnTo>
                  <a:lnTo>
                    <a:pt x="17537" y="205934"/>
                  </a:lnTo>
                  <a:lnTo>
                    <a:pt x="21796" y="208366"/>
                  </a:lnTo>
                  <a:lnTo>
                    <a:pt x="25483" y="210833"/>
                  </a:lnTo>
                  <a:lnTo>
                    <a:pt x="28787" y="213325"/>
                  </a:lnTo>
                  <a:lnTo>
                    <a:pt x="31837" y="215832"/>
                  </a:lnTo>
                  <a:lnTo>
                    <a:pt x="35563" y="217503"/>
                  </a:lnTo>
                  <a:lnTo>
                    <a:pt x="39740" y="218618"/>
                  </a:lnTo>
                  <a:lnTo>
                    <a:pt x="44218" y="219362"/>
                  </a:lnTo>
                  <a:lnTo>
                    <a:pt x="48897" y="220703"/>
                  </a:lnTo>
                  <a:lnTo>
                    <a:pt x="53710" y="222445"/>
                  </a:lnTo>
                  <a:lnTo>
                    <a:pt x="58612" y="224452"/>
                  </a:lnTo>
                  <a:lnTo>
                    <a:pt x="62727" y="225791"/>
                  </a:lnTo>
                  <a:lnTo>
                    <a:pt x="66315" y="226683"/>
                  </a:lnTo>
                  <a:lnTo>
                    <a:pt x="69555" y="227277"/>
                  </a:lnTo>
                  <a:lnTo>
                    <a:pt x="73409" y="226827"/>
                  </a:lnTo>
                  <a:lnTo>
                    <a:pt x="77671" y="225681"/>
                  </a:lnTo>
                  <a:lnTo>
                    <a:pt x="82206" y="224070"/>
                  </a:lnTo>
                  <a:lnTo>
                    <a:pt x="86922" y="222995"/>
                  </a:lnTo>
                  <a:lnTo>
                    <a:pt x="91760" y="222279"/>
                  </a:lnTo>
                  <a:lnTo>
                    <a:pt x="106515" y="2208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SMARTInkAnnotation172"/>
            <p:cNvSpPr/>
            <p:nvPr/>
          </p:nvSpPr>
          <p:spPr>
            <a:xfrm>
              <a:off x="4548960" y="4084200"/>
              <a:ext cx="426600" cy="40392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426720" h="403861">
                  <a:moveTo>
                    <a:pt x="426719" y="0"/>
                  </a:moveTo>
                  <a:lnTo>
                    <a:pt x="420158" y="0"/>
                  </a:lnTo>
                  <a:lnTo>
                    <a:pt x="413225" y="6084"/>
                  </a:lnTo>
                  <a:lnTo>
                    <a:pt x="401214" y="17912"/>
                  </a:lnTo>
                  <a:lnTo>
                    <a:pt x="393668" y="29485"/>
                  </a:lnTo>
                  <a:lnTo>
                    <a:pt x="386347" y="36528"/>
                  </a:lnTo>
                  <a:lnTo>
                    <a:pt x="376603" y="44175"/>
                  </a:lnTo>
                  <a:lnTo>
                    <a:pt x="363805" y="56040"/>
                  </a:lnTo>
                  <a:lnTo>
                    <a:pt x="356836" y="61914"/>
                  </a:lnTo>
                  <a:lnTo>
                    <a:pt x="349651" y="67522"/>
                  </a:lnTo>
                  <a:lnTo>
                    <a:pt x="342321" y="72955"/>
                  </a:lnTo>
                  <a:lnTo>
                    <a:pt x="334893" y="79117"/>
                  </a:lnTo>
                  <a:lnTo>
                    <a:pt x="327402" y="85764"/>
                  </a:lnTo>
                  <a:lnTo>
                    <a:pt x="312305" y="99925"/>
                  </a:lnTo>
                  <a:lnTo>
                    <a:pt x="297128" y="114684"/>
                  </a:lnTo>
                  <a:lnTo>
                    <a:pt x="288679" y="122176"/>
                  </a:lnTo>
                  <a:lnTo>
                    <a:pt x="279659" y="129711"/>
                  </a:lnTo>
                  <a:lnTo>
                    <a:pt x="260605" y="144856"/>
                  </a:lnTo>
                  <a:lnTo>
                    <a:pt x="210686" y="182890"/>
                  </a:lnTo>
                  <a:lnTo>
                    <a:pt x="200571" y="191354"/>
                  </a:lnTo>
                  <a:lnTo>
                    <a:pt x="190440" y="200382"/>
                  </a:lnTo>
                  <a:lnTo>
                    <a:pt x="180300" y="209788"/>
                  </a:lnTo>
                  <a:lnTo>
                    <a:pt x="170153" y="218599"/>
                  </a:lnTo>
                  <a:lnTo>
                    <a:pt x="160002" y="227013"/>
                  </a:lnTo>
                  <a:lnTo>
                    <a:pt x="149848" y="235162"/>
                  </a:lnTo>
                  <a:lnTo>
                    <a:pt x="140538" y="243134"/>
                  </a:lnTo>
                  <a:lnTo>
                    <a:pt x="131792" y="250990"/>
                  </a:lnTo>
                  <a:lnTo>
                    <a:pt x="115301" y="266491"/>
                  </a:lnTo>
                  <a:lnTo>
                    <a:pt x="99504" y="281847"/>
                  </a:lnTo>
                  <a:lnTo>
                    <a:pt x="91736" y="288651"/>
                  </a:lnTo>
                  <a:lnTo>
                    <a:pt x="84018" y="294881"/>
                  </a:lnTo>
                  <a:lnTo>
                    <a:pt x="76332" y="300727"/>
                  </a:lnTo>
                  <a:lnTo>
                    <a:pt x="69514" y="307165"/>
                  </a:lnTo>
                  <a:lnTo>
                    <a:pt x="63275" y="313997"/>
                  </a:lnTo>
                  <a:lnTo>
                    <a:pt x="57424" y="321091"/>
                  </a:lnTo>
                  <a:lnTo>
                    <a:pt x="46406" y="333489"/>
                  </a:lnTo>
                  <a:lnTo>
                    <a:pt x="32941" y="347731"/>
                  </a:lnTo>
                  <a:lnTo>
                    <a:pt x="9424" y="371547"/>
                  </a:lnTo>
                  <a:lnTo>
                    <a:pt x="6283" y="374698"/>
                  </a:lnTo>
                  <a:lnTo>
                    <a:pt x="4188" y="377645"/>
                  </a:lnTo>
                  <a:lnTo>
                    <a:pt x="1861" y="383178"/>
                  </a:lnTo>
                  <a:lnTo>
                    <a:pt x="551" y="391053"/>
                  </a:lnTo>
                  <a:lnTo>
                    <a:pt x="72" y="401588"/>
                  </a:lnTo>
                  <a:lnTo>
                    <a:pt x="0" y="403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MARTInkAnnotation173"/>
            <p:cNvSpPr/>
            <p:nvPr/>
          </p:nvSpPr>
          <p:spPr>
            <a:xfrm>
              <a:off x="4724280" y="4313160"/>
              <a:ext cx="159840" cy="914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9988" h="91440">
                  <a:moveTo>
                    <a:pt x="83787" y="0"/>
                  </a:moveTo>
                  <a:lnTo>
                    <a:pt x="77226" y="0"/>
                  </a:lnTo>
                  <a:lnTo>
                    <a:pt x="76873" y="847"/>
                  </a:lnTo>
                  <a:lnTo>
                    <a:pt x="76638" y="2258"/>
                  </a:lnTo>
                  <a:lnTo>
                    <a:pt x="76260" y="6561"/>
                  </a:lnTo>
                  <a:lnTo>
                    <a:pt x="73951" y="9408"/>
                  </a:lnTo>
                  <a:lnTo>
                    <a:pt x="72149" y="11352"/>
                  </a:lnTo>
                  <a:lnTo>
                    <a:pt x="70949" y="13495"/>
                  </a:lnTo>
                  <a:lnTo>
                    <a:pt x="70148" y="15770"/>
                  </a:lnTo>
                  <a:lnTo>
                    <a:pt x="69615" y="18133"/>
                  </a:lnTo>
                  <a:lnTo>
                    <a:pt x="68412" y="20555"/>
                  </a:lnTo>
                  <a:lnTo>
                    <a:pt x="66764" y="23018"/>
                  </a:lnTo>
                  <a:lnTo>
                    <a:pt x="64818" y="25505"/>
                  </a:lnTo>
                  <a:lnTo>
                    <a:pt x="62674" y="28010"/>
                  </a:lnTo>
                  <a:lnTo>
                    <a:pt x="60399" y="30527"/>
                  </a:lnTo>
                  <a:lnTo>
                    <a:pt x="55612" y="35581"/>
                  </a:lnTo>
                  <a:lnTo>
                    <a:pt x="50662" y="40649"/>
                  </a:lnTo>
                  <a:lnTo>
                    <a:pt x="47311" y="43186"/>
                  </a:lnTo>
                  <a:lnTo>
                    <a:pt x="43383" y="45724"/>
                  </a:lnTo>
                  <a:lnTo>
                    <a:pt x="39070" y="48263"/>
                  </a:lnTo>
                  <a:lnTo>
                    <a:pt x="35350" y="50802"/>
                  </a:lnTo>
                  <a:lnTo>
                    <a:pt x="32022" y="53341"/>
                  </a:lnTo>
                  <a:lnTo>
                    <a:pt x="28957" y="55881"/>
                  </a:lnTo>
                  <a:lnTo>
                    <a:pt x="25220" y="58421"/>
                  </a:lnTo>
                  <a:lnTo>
                    <a:pt x="21035" y="60960"/>
                  </a:lnTo>
                  <a:lnTo>
                    <a:pt x="10244" y="67075"/>
                  </a:lnTo>
                  <a:lnTo>
                    <a:pt x="8511" y="68423"/>
                  </a:lnTo>
                  <a:lnTo>
                    <a:pt x="6510" y="70168"/>
                  </a:lnTo>
                  <a:lnTo>
                    <a:pt x="4329" y="72179"/>
                  </a:lnTo>
                  <a:lnTo>
                    <a:pt x="2875" y="74366"/>
                  </a:lnTo>
                  <a:lnTo>
                    <a:pt x="1905" y="76670"/>
                  </a:lnTo>
                  <a:lnTo>
                    <a:pt x="0" y="83695"/>
                  </a:lnTo>
                  <a:lnTo>
                    <a:pt x="4022" y="83783"/>
                  </a:lnTo>
                  <a:lnTo>
                    <a:pt x="14621" y="83809"/>
                  </a:lnTo>
                  <a:lnTo>
                    <a:pt x="19050" y="84659"/>
                  </a:lnTo>
                  <a:lnTo>
                    <a:pt x="23696" y="86073"/>
                  </a:lnTo>
                  <a:lnTo>
                    <a:pt x="28486" y="87862"/>
                  </a:lnTo>
                  <a:lnTo>
                    <a:pt x="33373" y="89054"/>
                  </a:lnTo>
                  <a:lnTo>
                    <a:pt x="38325" y="89849"/>
                  </a:lnTo>
                  <a:lnTo>
                    <a:pt x="43319" y="90379"/>
                  </a:lnTo>
                  <a:lnTo>
                    <a:pt x="48341" y="90733"/>
                  </a:lnTo>
                  <a:lnTo>
                    <a:pt x="53383" y="90969"/>
                  </a:lnTo>
                  <a:lnTo>
                    <a:pt x="64348" y="91230"/>
                  </a:lnTo>
                  <a:lnTo>
                    <a:pt x="145867" y="91439"/>
                  </a:lnTo>
                  <a:lnTo>
                    <a:pt x="148880" y="90593"/>
                  </a:lnTo>
                  <a:lnTo>
                    <a:pt x="151736" y="89181"/>
                  </a:lnTo>
                  <a:lnTo>
                    <a:pt x="159987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MARTInkAnnotation174"/>
            <p:cNvSpPr/>
            <p:nvPr/>
          </p:nvSpPr>
          <p:spPr>
            <a:xfrm>
              <a:off x="4815720" y="4328280"/>
              <a:ext cx="114120" cy="205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14300" h="205741">
                  <a:moveTo>
                    <a:pt x="114299" y="0"/>
                  </a:moveTo>
                  <a:lnTo>
                    <a:pt x="107738" y="0"/>
                  </a:lnTo>
                  <a:lnTo>
                    <a:pt x="107385" y="847"/>
                  </a:lnTo>
                  <a:lnTo>
                    <a:pt x="106993" y="4045"/>
                  </a:lnTo>
                  <a:lnTo>
                    <a:pt x="106042" y="5237"/>
                  </a:lnTo>
                  <a:lnTo>
                    <a:pt x="104561" y="6031"/>
                  </a:lnTo>
                  <a:lnTo>
                    <a:pt x="102727" y="6561"/>
                  </a:lnTo>
                  <a:lnTo>
                    <a:pt x="100658" y="7761"/>
                  </a:lnTo>
                  <a:lnTo>
                    <a:pt x="98431" y="9408"/>
                  </a:lnTo>
                  <a:lnTo>
                    <a:pt x="96101" y="11352"/>
                  </a:lnTo>
                  <a:lnTo>
                    <a:pt x="93700" y="13495"/>
                  </a:lnTo>
                  <a:lnTo>
                    <a:pt x="88775" y="18133"/>
                  </a:lnTo>
                  <a:lnTo>
                    <a:pt x="86276" y="21402"/>
                  </a:lnTo>
                  <a:lnTo>
                    <a:pt x="83765" y="25275"/>
                  </a:lnTo>
                  <a:lnTo>
                    <a:pt x="81242" y="29550"/>
                  </a:lnTo>
                  <a:lnTo>
                    <a:pt x="78715" y="33247"/>
                  </a:lnTo>
                  <a:lnTo>
                    <a:pt x="76183" y="36558"/>
                  </a:lnTo>
                  <a:lnTo>
                    <a:pt x="73649" y="39612"/>
                  </a:lnTo>
                  <a:lnTo>
                    <a:pt x="71112" y="42495"/>
                  </a:lnTo>
                  <a:lnTo>
                    <a:pt x="66036" y="47956"/>
                  </a:lnTo>
                  <a:lnTo>
                    <a:pt x="63497" y="51444"/>
                  </a:lnTo>
                  <a:lnTo>
                    <a:pt x="60957" y="55463"/>
                  </a:lnTo>
                  <a:lnTo>
                    <a:pt x="58418" y="59835"/>
                  </a:lnTo>
                  <a:lnTo>
                    <a:pt x="55032" y="64444"/>
                  </a:lnTo>
                  <a:lnTo>
                    <a:pt x="51081" y="69209"/>
                  </a:lnTo>
                  <a:lnTo>
                    <a:pt x="46753" y="74079"/>
                  </a:lnTo>
                  <a:lnTo>
                    <a:pt x="43022" y="79020"/>
                  </a:lnTo>
                  <a:lnTo>
                    <a:pt x="39688" y="84007"/>
                  </a:lnTo>
                  <a:lnTo>
                    <a:pt x="36619" y="89024"/>
                  </a:lnTo>
                  <a:lnTo>
                    <a:pt x="33726" y="94063"/>
                  </a:lnTo>
                  <a:lnTo>
                    <a:pt x="28254" y="104177"/>
                  </a:lnTo>
                  <a:lnTo>
                    <a:pt x="15281" y="129545"/>
                  </a:lnTo>
                  <a:lnTo>
                    <a:pt x="5088" y="149861"/>
                  </a:lnTo>
                  <a:lnTo>
                    <a:pt x="3392" y="154094"/>
                  </a:lnTo>
                  <a:lnTo>
                    <a:pt x="2260" y="157763"/>
                  </a:lnTo>
                  <a:lnTo>
                    <a:pt x="1507" y="161056"/>
                  </a:lnTo>
                  <a:lnTo>
                    <a:pt x="1005" y="164944"/>
                  </a:lnTo>
                  <a:lnTo>
                    <a:pt x="670" y="169229"/>
                  </a:lnTo>
                  <a:lnTo>
                    <a:pt x="297" y="177660"/>
                  </a:lnTo>
                  <a:lnTo>
                    <a:pt x="88" y="187166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MARTInkAnnotation175"/>
            <p:cNvSpPr/>
            <p:nvPr/>
          </p:nvSpPr>
          <p:spPr>
            <a:xfrm>
              <a:off x="5074560" y="4374360"/>
              <a:ext cx="182520" cy="72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82881" h="7307">
                  <a:moveTo>
                    <a:pt x="0" y="7306"/>
                  </a:moveTo>
                  <a:lnTo>
                    <a:pt x="46651" y="7306"/>
                  </a:lnTo>
                  <a:lnTo>
                    <a:pt x="53961" y="6460"/>
                  </a:lnTo>
                  <a:lnTo>
                    <a:pt x="61374" y="5049"/>
                  </a:lnTo>
                  <a:lnTo>
                    <a:pt x="68856" y="3261"/>
                  </a:lnTo>
                  <a:lnTo>
                    <a:pt x="76384" y="2069"/>
                  </a:lnTo>
                  <a:lnTo>
                    <a:pt x="83943" y="1275"/>
                  </a:lnTo>
                  <a:lnTo>
                    <a:pt x="91522" y="745"/>
                  </a:lnTo>
                  <a:lnTo>
                    <a:pt x="98268" y="392"/>
                  </a:lnTo>
                  <a:lnTo>
                    <a:pt x="110279" y="0"/>
                  </a:lnTo>
                  <a:lnTo>
                    <a:pt x="116700" y="742"/>
                  </a:lnTo>
                  <a:lnTo>
                    <a:pt x="123520" y="2083"/>
                  </a:lnTo>
                  <a:lnTo>
                    <a:pt x="130607" y="3825"/>
                  </a:lnTo>
                  <a:lnTo>
                    <a:pt x="136178" y="4985"/>
                  </a:lnTo>
                  <a:lnTo>
                    <a:pt x="140738" y="5759"/>
                  </a:lnTo>
                  <a:lnTo>
                    <a:pt x="144626" y="6275"/>
                  </a:lnTo>
                  <a:lnTo>
                    <a:pt x="148911" y="6618"/>
                  </a:lnTo>
                  <a:lnTo>
                    <a:pt x="153461" y="6848"/>
                  </a:lnTo>
                  <a:lnTo>
                    <a:pt x="165697" y="7171"/>
                  </a:lnTo>
                  <a:lnTo>
                    <a:pt x="182880" y="73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MARTInkAnnotation176"/>
            <p:cNvSpPr/>
            <p:nvPr/>
          </p:nvSpPr>
          <p:spPr>
            <a:xfrm>
              <a:off x="5047560" y="4473000"/>
              <a:ext cx="179640" cy="75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9651" h="7613">
                  <a:moveTo>
                    <a:pt x="4390" y="0"/>
                  </a:moveTo>
                  <a:lnTo>
                    <a:pt x="0" y="0"/>
                  </a:lnTo>
                  <a:lnTo>
                    <a:pt x="3645" y="0"/>
                  </a:lnTo>
                  <a:lnTo>
                    <a:pt x="3894" y="847"/>
                  </a:lnTo>
                  <a:lnTo>
                    <a:pt x="4059" y="2258"/>
                  </a:lnTo>
                  <a:lnTo>
                    <a:pt x="4169" y="4045"/>
                  </a:lnTo>
                  <a:lnTo>
                    <a:pt x="5089" y="5237"/>
                  </a:lnTo>
                  <a:lnTo>
                    <a:pt x="6550" y="6032"/>
                  </a:lnTo>
                  <a:lnTo>
                    <a:pt x="8370" y="6561"/>
                  </a:lnTo>
                  <a:lnTo>
                    <a:pt x="11277" y="6914"/>
                  </a:lnTo>
                  <a:lnTo>
                    <a:pt x="14907" y="7149"/>
                  </a:lnTo>
                  <a:lnTo>
                    <a:pt x="22611" y="7411"/>
                  </a:lnTo>
                  <a:lnTo>
                    <a:pt x="32555" y="7559"/>
                  </a:lnTo>
                  <a:lnTo>
                    <a:pt x="59599" y="7612"/>
                  </a:lnTo>
                  <a:lnTo>
                    <a:pt x="65750" y="6768"/>
                  </a:lnTo>
                  <a:lnTo>
                    <a:pt x="71543" y="5359"/>
                  </a:lnTo>
                  <a:lnTo>
                    <a:pt x="77099" y="3573"/>
                  </a:lnTo>
                  <a:lnTo>
                    <a:pt x="82496" y="2382"/>
                  </a:lnTo>
                  <a:lnTo>
                    <a:pt x="87787" y="1588"/>
                  </a:lnTo>
                  <a:lnTo>
                    <a:pt x="93008" y="1059"/>
                  </a:lnTo>
                  <a:lnTo>
                    <a:pt x="98182" y="706"/>
                  </a:lnTo>
                  <a:lnTo>
                    <a:pt x="103325" y="471"/>
                  </a:lnTo>
                  <a:lnTo>
                    <a:pt x="113554" y="209"/>
                  </a:lnTo>
                  <a:lnTo>
                    <a:pt x="1796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MARTInkAnnotation177"/>
            <p:cNvSpPr/>
            <p:nvPr/>
          </p:nvSpPr>
          <p:spPr>
            <a:xfrm>
              <a:off x="5333760" y="4251960"/>
              <a:ext cx="234360" cy="236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34575" h="236198">
                  <a:moveTo>
                    <a:pt x="30480" y="22849"/>
                  </a:moveTo>
                  <a:lnTo>
                    <a:pt x="30480" y="18804"/>
                  </a:lnTo>
                  <a:lnTo>
                    <a:pt x="31326" y="17613"/>
                  </a:lnTo>
                  <a:lnTo>
                    <a:pt x="32738" y="16818"/>
                  </a:lnTo>
                  <a:lnTo>
                    <a:pt x="39088" y="14592"/>
                  </a:lnTo>
                  <a:lnTo>
                    <a:pt x="59219" y="4651"/>
                  </a:lnTo>
                  <a:lnTo>
                    <a:pt x="64033" y="3097"/>
                  </a:lnTo>
                  <a:lnTo>
                    <a:pt x="68935" y="2061"/>
                  </a:lnTo>
                  <a:lnTo>
                    <a:pt x="73897" y="1371"/>
                  </a:lnTo>
                  <a:lnTo>
                    <a:pt x="79745" y="910"/>
                  </a:lnTo>
                  <a:lnTo>
                    <a:pt x="86183" y="603"/>
                  </a:lnTo>
                  <a:lnTo>
                    <a:pt x="100110" y="262"/>
                  </a:lnTo>
                  <a:lnTo>
                    <a:pt x="156016" y="0"/>
                  </a:lnTo>
                  <a:lnTo>
                    <a:pt x="162431" y="843"/>
                  </a:lnTo>
                  <a:lnTo>
                    <a:pt x="169247" y="2252"/>
                  </a:lnTo>
                  <a:lnTo>
                    <a:pt x="176331" y="4038"/>
                  </a:lnTo>
                  <a:lnTo>
                    <a:pt x="182748" y="6075"/>
                  </a:lnTo>
                  <a:lnTo>
                    <a:pt x="188718" y="8280"/>
                  </a:lnTo>
                  <a:lnTo>
                    <a:pt x="194392" y="10597"/>
                  </a:lnTo>
                  <a:lnTo>
                    <a:pt x="199868" y="12987"/>
                  </a:lnTo>
                  <a:lnTo>
                    <a:pt x="210469" y="17901"/>
                  </a:lnTo>
                  <a:lnTo>
                    <a:pt x="214819" y="20398"/>
                  </a:lnTo>
                  <a:lnTo>
                    <a:pt x="221911" y="25428"/>
                  </a:lnTo>
                  <a:lnTo>
                    <a:pt x="227885" y="30486"/>
                  </a:lnTo>
                  <a:lnTo>
                    <a:pt x="230663" y="33021"/>
                  </a:lnTo>
                  <a:lnTo>
                    <a:pt x="232516" y="35557"/>
                  </a:lnTo>
                  <a:lnTo>
                    <a:pt x="234574" y="40632"/>
                  </a:lnTo>
                  <a:lnTo>
                    <a:pt x="234276" y="43171"/>
                  </a:lnTo>
                  <a:lnTo>
                    <a:pt x="233230" y="45711"/>
                  </a:lnTo>
                  <a:lnTo>
                    <a:pt x="231688" y="48250"/>
                  </a:lnTo>
                  <a:lnTo>
                    <a:pt x="225457" y="53329"/>
                  </a:lnTo>
                  <a:lnTo>
                    <a:pt x="221424" y="55870"/>
                  </a:lnTo>
                  <a:lnTo>
                    <a:pt x="216196" y="57563"/>
                  </a:lnTo>
                  <a:lnTo>
                    <a:pt x="210171" y="58691"/>
                  </a:lnTo>
                  <a:lnTo>
                    <a:pt x="203614" y="59444"/>
                  </a:lnTo>
                  <a:lnTo>
                    <a:pt x="196702" y="60792"/>
                  </a:lnTo>
                  <a:lnTo>
                    <a:pt x="189555" y="62538"/>
                  </a:lnTo>
                  <a:lnTo>
                    <a:pt x="173994" y="66735"/>
                  </a:lnTo>
                  <a:lnTo>
                    <a:pt x="155789" y="71423"/>
                  </a:lnTo>
                  <a:lnTo>
                    <a:pt x="147039" y="73858"/>
                  </a:lnTo>
                  <a:lnTo>
                    <a:pt x="130544" y="78822"/>
                  </a:lnTo>
                  <a:lnTo>
                    <a:pt x="123436" y="80484"/>
                  </a:lnTo>
                  <a:lnTo>
                    <a:pt x="117004" y="81593"/>
                  </a:lnTo>
                  <a:lnTo>
                    <a:pt x="111023" y="82331"/>
                  </a:lnTo>
                  <a:lnTo>
                    <a:pt x="105342" y="83671"/>
                  </a:lnTo>
                  <a:lnTo>
                    <a:pt x="99862" y="85410"/>
                  </a:lnTo>
                  <a:lnTo>
                    <a:pt x="94515" y="87416"/>
                  </a:lnTo>
                  <a:lnTo>
                    <a:pt x="90103" y="89601"/>
                  </a:lnTo>
                  <a:lnTo>
                    <a:pt x="82944" y="94286"/>
                  </a:lnTo>
                  <a:lnTo>
                    <a:pt x="80695" y="96720"/>
                  </a:lnTo>
                  <a:lnTo>
                    <a:pt x="79197" y="99189"/>
                  </a:lnTo>
                  <a:lnTo>
                    <a:pt x="77532" y="104191"/>
                  </a:lnTo>
                  <a:lnTo>
                    <a:pt x="76792" y="109237"/>
                  </a:lnTo>
                  <a:lnTo>
                    <a:pt x="77441" y="111768"/>
                  </a:lnTo>
                  <a:lnTo>
                    <a:pt x="80421" y="116837"/>
                  </a:lnTo>
                  <a:lnTo>
                    <a:pt x="86825" y="121913"/>
                  </a:lnTo>
                  <a:lnTo>
                    <a:pt x="90904" y="124452"/>
                  </a:lnTo>
                  <a:lnTo>
                    <a:pt x="95316" y="126991"/>
                  </a:lnTo>
                  <a:lnTo>
                    <a:pt x="104734" y="132070"/>
                  </a:lnTo>
                  <a:lnTo>
                    <a:pt x="110463" y="135456"/>
                  </a:lnTo>
                  <a:lnTo>
                    <a:pt x="123601" y="143734"/>
                  </a:lnTo>
                  <a:lnTo>
                    <a:pt x="129814" y="147466"/>
                  </a:lnTo>
                  <a:lnTo>
                    <a:pt x="135650" y="150800"/>
                  </a:lnTo>
                  <a:lnTo>
                    <a:pt x="141233" y="153870"/>
                  </a:lnTo>
                  <a:lnTo>
                    <a:pt x="147496" y="157610"/>
                  </a:lnTo>
                  <a:lnTo>
                    <a:pt x="161227" y="166280"/>
                  </a:lnTo>
                  <a:lnTo>
                    <a:pt x="167599" y="170963"/>
                  </a:lnTo>
                  <a:lnTo>
                    <a:pt x="173539" y="175779"/>
                  </a:lnTo>
                  <a:lnTo>
                    <a:pt x="183809" y="184798"/>
                  </a:lnTo>
                  <a:lnTo>
                    <a:pt x="191195" y="191628"/>
                  </a:lnTo>
                  <a:lnTo>
                    <a:pt x="193503" y="195482"/>
                  </a:lnTo>
                  <a:lnTo>
                    <a:pt x="195042" y="199744"/>
                  </a:lnTo>
                  <a:lnTo>
                    <a:pt x="196069" y="204279"/>
                  </a:lnTo>
                  <a:lnTo>
                    <a:pt x="195906" y="208149"/>
                  </a:lnTo>
                  <a:lnTo>
                    <a:pt x="194951" y="211576"/>
                  </a:lnTo>
                  <a:lnTo>
                    <a:pt x="191632" y="217641"/>
                  </a:lnTo>
                  <a:lnTo>
                    <a:pt x="187334" y="223159"/>
                  </a:lnTo>
                  <a:lnTo>
                    <a:pt x="183309" y="225816"/>
                  </a:lnTo>
                  <a:lnTo>
                    <a:pt x="178086" y="228433"/>
                  </a:lnTo>
                  <a:lnTo>
                    <a:pt x="172064" y="231025"/>
                  </a:lnTo>
                  <a:lnTo>
                    <a:pt x="166356" y="232753"/>
                  </a:lnTo>
                  <a:lnTo>
                    <a:pt x="160858" y="233905"/>
                  </a:lnTo>
                  <a:lnTo>
                    <a:pt x="155498" y="234673"/>
                  </a:lnTo>
                  <a:lnTo>
                    <a:pt x="149386" y="235185"/>
                  </a:lnTo>
                  <a:lnTo>
                    <a:pt x="142771" y="235526"/>
                  </a:lnTo>
                  <a:lnTo>
                    <a:pt x="128648" y="235906"/>
                  </a:lnTo>
                  <a:lnTo>
                    <a:pt x="68545" y="236197"/>
                  </a:lnTo>
                  <a:lnTo>
                    <a:pt x="61783" y="235355"/>
                  </a:lnTo>
                  <a:lnTo>
                    <a:pt x="55582" y="233946"/>
                  </a:lnTo>
                  <a:lnTo>
                    <a:pt x="49755" y="232160"/>
                  </a:lnTo>
                  <a:lnTo>
                    <a:pt x="44177" y="230123"/>
                  </a:lnTo>
                  <a:lnTo>
                    <a:pt x="38765" y="227918"/>
                  </a:lnTo>
                  <a:lnTo>
                    <a:pt x="33463" y="225602"/>
                  </a:lnTo>
                  <a:lnTo>
                    <a:pt x="28235" y="224058"/>
                  </a:lnTo>
                  <a:lnTo>
                    <a:pt x="23057" y="223028"/>
                  </a:lnTo>
                  <a:lnTo>
                    <a:pt x="17911" y="222342"/>
                  </a:lnTo>
                  <a:lnTo>
                    <a:pt x="13634" y="221037"/>
                  </a:lnTo>
                  <a:lnTo>
                    <a:pt x="9937" y="219322"/>
                  </a:lnTo>
                  <a:lnTo>
                    <a:pt x="0" y="2133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SMARTInkAnnotation178"/>
            <p:cNvSpPr/>
            <p:nvPr/>
          </p:nvSpPr>
          <p:spPr>
            <a:xfrm>
              <a:off x="1516320" y="5334480"/>
              <a:ext cx="350280" cy="3502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350280"/>
                <a:gd name="textAreaBottom" fmla="*/ 350280 h 350280"/>
              </a:gdLst>
              <a:ahLst/>
              <a:rect l="textAreaLeft" t="textAreaTop" r="textAreaRight" b="textAreaBottom"/>
              <a:pathLst>
                <a:path w="350521" h="350500">
                  <a:moveTo>
                    <a:pt x="15240" y="198107"/>
                  </a:moveTo>
                  <a:lnTo>
                    <a:pt x="1373" y="198107"/>
                  </a:lnTo>
                  <a:lnTo>
                    <a:pt x="915" y="197261"/>
                  </a:lnTo>
                  <a:lnTo>
                    <a:pt x="35" y="190801"/>
                  </a:lnTo>
                  <a:lnTo>
                    <a:pt x="0" y="157456"/>
                  </a:lnTo>
                  <a:lnTo>
                    <a:pt x="847" y="154920"/>
                  </a:lnTo>
                  <a:lnTo>
                    <a:pt x="4046" y="149844"/>
                  </a:lnTo>
                  <a:lnTo>
                    <a:pt x="6031" y="142508"/>
                  </a:lnTo>
                  <a:lnTo>
                    <a:pt x="6561" y="138181"/>
                  </a:lnTo>
                  <a:lnTo>
                    <a:pt x="7761" y="134449"/>
                  </a:lnTo>
                  <a:lnTo>
                    <a:pt x="11351" y="128046"/>
                  </a:lnTo>
                  <a:lnTo>
                    <a:pt x="18027" y="120120"/>
                  </a:lnTo>
                  <a:lnTo>
                    <a:pt x="25792" y="111800"/>
                  </a:lnTo>
                  <a:lnTo>
                    <a:pt x="34924" y="101509"/>
                  </a:lnTo>
                  <a:lnTo>
                    <a:pt x="40357" y="92803"/>
                  </a:lnTo>
                  <a:lnTo>
                    <a:pt x="50110" y="83290"/>
                  </a:lnTo>
                  <a:lnTo>
                    <a:pt x="56267" y="78382"/>
                  </a:lnTo>
                  <a:lnTo>
                    <a:pt x="62064" y="73417"/>
                  </a:lnTo>
                  <a:lnTo>
                    <a:pt x="67623" y="68413"/>
                  </a:lnTo>
                  <a:lnTo>
                    <a:pt x="78315" y="58339"/>
                  </a:lnTo>
                  <a:lnTo>
                    <a:pt x="88711" y="48217"/>
                  </a:lnTo>
                  <a:lnTo>
                    <a:pt x="95547" y="43994"/>
                  </a:lnTo>
                  <a:lnTo>
                    <a:pt x="103492" y="40332"/>
                  </a:lnTo>
                  <a:lnTo>
                    <a:pt x="112174" y="37044"/>
                  </a:lnTo>
                  <a:lnTo>
                    <a:pt x="120503" y="33158"/>
                  </a:lnTo>
                  <a:lnTo>
                    <a:pt x="128595" y="28874"/>
                  </a:lnTo>
                  <a:lnTo>
                    <a:pt x="136531" y="24325"/>
                  </a:lnTo>
                  <a:lnTo>
                    <a:pt x="144360" y="20446"/>
                  </a:lnTo>
                  <a:lnTo>
                    <a:pt x="152120" y="17013"/>
                  </a:lnTo>
                  <a:lnTo>
                    <a:pt x="159834" y="13878"/>
                  </a:lnTo>
                  <a:lnTo>
                    <a:pt x="166669" y="10941"/>
                  </a:lnTo>
                  <a:lnTo>
                    <a:pt x="178780" y="5420"/>
                  </a:lnTo>
                  <a:lnTo>
                    <a:pt x="185226" y="3609"/>
                  </a:lnTo>
                  <a:lnTo>
                    <a:pt x="192064" y="2402"/>
                  </a:lnTo>
                  <a:lnTo>
                    <a:pt x="199163" y="1597"/>
                  </a:lnTo>
                  <a:lnTo>
                    <a:pt x="205589" y="1061"/>
                  </a:lnTo>
                  <a:lnTo>
                    <a:pt x="211566" y="703"/>
                  </a:lnTo>
                  <a:lnTo>
                    <a:pt x="221876" y="306"/>
                  </a:lnTo>
                  <a:lnTo>
                    <a:pt x="229281" y="129"/>
                  </a:lnTo>
                  <a:lnTo>
                    <a:pt x="252778" y="0"/>
                  </a:lnTo>
                  <a:lnTo>
                    <a:pt x="255725" y="842"/>
                  </a:lnTo>
                  <a:lnTo>
                    <a:pt x="264765" y="6073"/>
                  </a:lnTo>
                  <a:lnTo>
                    <a:pt x="273178" y="10594"/>
                  </a:lnTo>
                  <a:lnTo>
                    <a:pt x="276099" y="13832"/>
                  </a:lnTo>
                  <a:lnTo>
                    <a:pt x="278046" y="17684"/>
                  </a:lnTo>
                  <a:lnTo>
                    <a:pt x="281056" y="25632"/>
                  </a:lnTo>
                  <a:lnTo>
                    <a:pt x="287511" y="35714"/>
                  </a:lnTo>
                  <a:lnTo>
                    <a:pt x="292318" y="44370"/>
                  </a:lnTo>
                  <a:lnTo>
                    <a:pt x="295019" y="53862"/>
                  </a:lnTo>
                  <a:lnTo>
                    <a:pt x="296220" y="63725"/>
                  </a:lnTo>
                  <a:lnTo>
                    <a:pt x="296753" y="73753"/>
                  </a:lnTo>
                  <a:lnTo>
                    <a:pt x="296991" y="86112"/>
                  </a:lnTo>
                  <a:lnTo>
                    <a:pt x="297053" y="92963"/>
                  </a:lnTo>
                  <a:lnTo>
                    <a:pt x="296249" y="99225"/>
                  </a:lnTo>
                  <a:lnTo>
                    <a:pt x="294866" y="105092"/>
                  </a:lnTo>
                  <a:lnTo>
                    <a:pt x="293097" y="110697"/>
                  </a:lnTo>
                  <a:lnTo>
                    <a:pt x="291918" y="116974"/>
                  </a:lnTo>
                  <a:lnTo>
                    <a:pt x="291132" y="123698"/>
                  </a:lnTo>
                  <a:lnTo>
                    <a:pt x="290608" y="130721"/>
                  </a:lnTo>
                  <a:lnTo>
                    <a:pt x="289412" y="137944"/>
                  </a:lnTo>
                  <a:lnTo>
                    <a:pt x="287768" y="145298"/>
                  </a:lnTo>
                  <a:lnTo>
                    <a:pt x="285825" y="152741"/>
                  </a:lnTo>
                  <a:lnTo>
                    <a:pt x="282837" y="160243"/>
                  </a:lnTo>
                  <a:lnTo>
                    <a:pt x="279151" y="167784"/>
                  </a:lnTo>
                  <a:lnTo>
                    <a:pt x="275001" y="175352"/>
                  </a:lnTo>
                  <a:lnTo>
                    <a:pt x="270541" y="182937"/>
                  </a:lnTo>
                  <a:lnTo>
                    <a:pt x="261069" y="198138"/>
                  </a:lnTo>
                  <a:lnTo>
                    <a:pt x="256173" y="204901"/>
                  </a:lnTo>
                  <a:lnTo>
                    <a:pt x="251215" y="211103"/>
                  </a:lnTo>
                  <a:lnTo>
                    <a:pt x="246217" y="216931"/>
                  </a:lnTo>
                  <a:lnTo>
                    <a:pt x="240345" y="223356"/>
                  </a:lnTo>
                  <a:lnTo>
                    <a:pt x="227047" y="237269"/>
                  </a:lnTo>
                  <a:lnTo>
                    <a:pt x="193350" y="271415"/>
                  </a:lnTo>
                  <a:lnTo>
                    <a:pt x="187320" y="276612"/>
                  </a:lnTo>
                  <a:lnTo>
                    <a:pt x="180760" y="281771"/>
                  </a:lnTo>
                  <a:lnTo>
                    <a:pt x="173847" y="286902"/>
                  </a:lnTo>
                  <a:lnTo>
                    <a:pt x="166698" y="291171"/>
                  </a:lnTo>
                  <a:lnTo>
                    <a:pt x="159392" y="294863"/>
                  </a:lnTo>
                  <a:lnTo>
                    <a:pt x="151981" y="298171"/>
                  </a:lnTo>
                  <a:lnTo>
                    <a:pt x="145347" y="302070"/>
                  </a:lnTo>
                  <a:lnTo>
                    <a:pt x="139232" y="306362"/>
                  </a:lnTo>
                  <a:lnTo>
                    <a:pt x="133461" y="310917"/>
                  </a:lnTo>
                  <a:lnTo>
                    <a:pt x="127074" y="314800"/>
                  </a:lnTo>
                  <a:lnTo>
                    <a:pt x="120276" y="318236"/>
                  </a:lnTo>
                  <a:lnTo>
                    <a:pt x="113204" y="321373"/>
                  </a:lnTo>
                  <a:lnTo>
                    <a:pt x="103089" y="327117"/>
                  </a:lnTo>
                  <a:lnTo>
                    <a:pt x="94924" y="332491"/>
                  </a:lnTo>
                  <a:lnTo>
                    <a:pt x="85651" y="337702"/>
                  </a:lnTo>
                  <a:lnTo>
                    <a:pt x="79000" y="341351"/>
                  </a:lnTo>
                  <a:lnTo>
                    <a:pt x="75187" y="342204"/>
                  </a:lnTo>
                  <a:lnTo>
                    <a:pt x="72985" y="342431"/>
                  </a:lnTo>
                  <a:lnTo>
                    <a:pt x="71516" y="343430"/>
                  </a:lnTo>
                  <a:lnTo>
                    <a:pt x="70537" y="344943"/>
                  </a:lnTo>
                  <a:lnTo>
                    <a:pt x="69885" y="346797"/>
                  </a:lnTo>
                  <a:lnTo>
                    <a:pt x="68603" y="348034"/>
                  </a:lnTo>
                  <a:lnTo>
                    <a:pt x="66902" y="348858"/>
                  </a:lnTo>
                  <a:lnTo>
                    <a:pt x="61063" y="350478"/>
                  </a:lnTo>
                  <a:lnTo>
                    <a:pt x="65036" y="350499"/>
                  </a:lnTo>
                  <a:lnTo>
                    <a:pt x="75620" y="346459"/>
                  </a:lnTo>
                  <a:lnTo>
                    <a:pt x="80893" y="345268"/>
                  </a:lnTo>
                  <a:lnTo>
                    <a:pt x="86949" y="344475"/>
                  </a:lnTo>
                  <a:lnTo>
                    <a:pt x="93526" y="343945"/>
                  </a:lnTo>
                  <a:lnTo>
                    <a:pt x="101297" y="342746"/>
                  </a:lnTo>
                  <a:lnTo>
                    <a:pt x="109865" y="341099"/>
                  </a:lnTo>
                  <a:lnTo>
                    <a:pt x="118963" y="339155"/>
                  </a:lnTo>
                  <a:lnTo>
                    <a:pt x="129262" y="337859"/>
                  </a:lnTo>
                  <a:lnTo>
                    <a:pt x="140362" y="336995"/>
                  </a:lnTo>
                  <a:lnTo>
                    <a:pt x="162290" y="336035"/>
                  </a:lnTo>
                  <a:lnTo>
                    <a:pt x="180502" y="335608"/>
                  </a:lnTo>
                  <a:lnTo>
                    <a:pt x="209081" y="335368"/>
                  </a:lnTo>
                  <a:lnTo>
                    <a:pt x="218127" y="334488"/>
                  </a:lnTo>
                  <a:lnTo>
                    <a:pt x="226698" y="333054"/>
                  </a:lnTo>
                  <a:lnTo>
                    <a:pt x="234952" y="331252"/>
                  </a:lnTo>
                  <a:lnTo>
                    <a:pt x="243841" y="330050"/>
                  </a:lnTo>
                  <a:lnTo>
                    <a:pt x="253154" y="329249"/>
                  </a:lnTo>
                  <a:lnTo>
                    <a:pt x="262750" y="328715"/>
                  </a:lnTo>
                  <a:lnTo>
                    <a:pt x="270840" y="329206"/>
                  </a:lnTo>
                  <a:lnTo>
                    <a:pt x="277927" y="330380"/>
                  </a:lnTo>
                  <a:lnTo>
                    <a:pt x="284344" y="332009"/>
                  </a:lnTo>
                  <a:lnTo>
                    <a:pt x="290317" y="333095"/>
                  </a:lnTo>
                  <a:lnTo>
                    <a:pt x="295991" y="333819"/>
                  </a:lnTo>
                  <a:lnTo>
                    <a:pt x="306811" y="334623"/>
                  </a:lnTo>
                  <a:lnTo>
                    <a:pt x="317265" y="334981"/>
                  </a:lnTo>
                  <a:lnTo>
                    <a:pt x="331690" y="335211"/>
                  </a:lnTo>
                  <a:lnTo>
                    <a:pt x="342756" y="335267"/>
                  </a:lnTo>
                  <a:lnTo>
                    <a:pt x="342887" y="341828"/>
                  </a:lnTo>
                  <a:lnTo>
                    <a:pt x="343738" y="342181"/>
                  </a:lnTo>
                  <a:lnTo>
                    <a:pt x="350520" y="3428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SMARTInkAnnotation179"/>
            <p:cNvSpPr/>
            <p:nvPr/>
          </p:nvSpPr>
          <p:spPr>
            <a:xfrm>
              <a:off x="2049840" y="5303880"/>
              <a:ext cx="45360" cy="3045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45721" h="304801">
                  <a:moveTo>
                    <a:pt x="45720" y="0"/>
                  </a:moveTo>
                  <a:lnTo>
                    <a:pt x="45720" y="36332"/>
                  </a:lnTo>
                  <a:lnTo>
                    <a:pt x="44874" y="41155"/>
                  </a:lnTo>
                  <a:lnTo>
                    <a:pt x="43462" y="46063"/>
                  </a:lnTo>
                  <a:lnTo>
                    <a:pt x="41675" y="51029"/>
                  </a:lnTo>
                  <a:lnTo>
                    <a:pt x="40483" y="56879"/>
                  </a:lnTo>
                  <a:lnTo>
                    <a:pt x="39689" y="63320"/>
                  </a:lnTo>
                  <a:lnTo>
                    <a:pt x="39159" y="70153"/>
                  </a:lnTo>
                  <a:lnTo>
                    <a:pt x="38806" y="77249"/>
                  </a:lnTo>
                  <a:lnTo>
                    <a:pt x="38414" y="91906"/>
                  </a:lnTo>
                  <a:lnTo>
                    <a:pt x="37463" y="99371"/>
                  </a:lnTo>
                  <a:lnTo>
                    <a:pt x="35982" y="106887"/>
                  </a:lnTo>
                  <a:lnTo>
                    <a:pt x="27521" y="141247"/>
                  </a:lnTo>
                  <a:lnTo>
                    <a:pt x="25121" y="150045"/>
                  </a:lnTo>
                  <a:lnTo>
                    <a:pt x="20196" y="166593"/>
                  </a:lnTo>
                  <a:lnTo>
                    <a:pt x="18544" y="176255"/>
                  </a:lnTo>
                  <a:lnTo>
                    <a:pt x="17443" y="186931"/>
                  </a:lnTo>
                  <a:lnTo>
                    <a:pt x="16709" y="198281"/>
                  </a:lnTo>
                  <a:lnTo>
                    <a:pt x="15372" y="209233"/>
                  </a:lnTo>
                  <a:lnTo>
                    <a:pt x="13635" y="219922"/>
                  </a:lnTo>
                  <a:lnTo>
                    <a:pt x="11630" y="230435"/>
                  </a:lnTo>
                  <a:lnTo>
                    <a:pt x="7144" y="251147"/>
                  </a:lnTo>
                  <a:lnTo>
                    <a:pt x="4763" y="261412"/>
                  </a:lnTo>
                  <a:lnTo>
                    <a:pt x="3176" y="269101"/>
                  </a:lnTo>
                  <a:lnTo>
                    <a:pt x="2117" y="275074"/>
                  </a:lnTo>
                  <a:lnTo>
                    <a:pt x="1411" y="279903"/>
                  </a:lnTo>
                  <a:lnTo>
                    <a:pt x="941" y="284816"/>
                  </a:lnTo>
                  <a:lnTo>
                    <a:pt x="627" y="289783"/>
                  </a:lnTo>
                  <a:lnTo>
                    <a:pt x="0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SMARTInkAnnotation180"/>
            <p:cNvSpPr/>
            <p:nvPr/>
          </p:nvSpPr>
          <p:spPr>
            <a:xfrm>
              <a:off x="1965960" y="5471640"/>
              <a:ext cx="182520" cy="75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82881" h="76201">
                  <a:moveTo>
                    <a:pt x="0" y="0"/>
                  </a:moveTo>
                  <a:lnTo>
                    <a:pt x="10606" y="0"/>
                  </a:lnTo>
                  <a:lnTo>
                    <a:pt x="13844" y="1694"/>
                  </a:lnTo>
                  <a:lnTo>
                    <a:pt x="17696" y="4515"/>
                  </a:lnTo>
                  <a:lnTo>
                    <a:pt x="21957" y="8090"/>
                  </a:lnTo>
                  <a:lnTo>
                    <a:pt x="27338" y="11320"/>
                  </a:lnTo>
                  <a:lnTo>
                    <a:pt x="33465" y="14320"/>
                  </a:lnTo>
                  <a:lnTo>
                    <a:pt x="40090" y="17167"/>
                  </a:lnTo>
                  <a:lnTo>
                    <a:pt x="47047" y="19911"/>
                  </a:lnTo>
                  <a:lnTo>
                    <a:pt x="61550" y="25218"/>
                  </a:lnTo>
                  <a:lnTo>
                    <a:pt x="68973" y="28665"/>
                  </a:lnTo>
                  <a:lnTo>
                    <a:pt x="76462" y="32657"/>
                  </a:lnTo>
                  <a:lnTo>
                    <a:pt x="83995" y="37011"/>
                  </a:lnTo>
                  <a:lnTo>
                    <a:pt x="91557" y="40761"/>
                  </a:lnTo>
                  <a:lnTo>
                    <a:pt x="99138" y="44107"/>
                  </a:lnTo>
                  <a:lnTo>
                    <a:pt x="106732" y="47185"/>
                  </a:lnTo>
                  <a:lnTo>
                    <a:pt x="121943" y="52862"/>
                  </a:lnTo>
                  <a:lnTo>
                    <a:pt x="152405" y="63405"/>
                  </a:lnTo>
                  <a:lnTo>
                    <a:pt x="159177" y="65976"/>
                  </a:lnTo>
                  <a:lnTo>
                    <a:pt x="165385" y="68538"/>
                  </a:lnTo>
                  <a:lnTo>
                    <a:pt x="182880" y="76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SMARTInkAnnotation181"/>
            <p:cNvSpPr/>
            <p:nvPr/>
          </p:nvSpPr>
          <p:spPr>
            <a:xfrm>
              <a:off x="2301120" y="5311440"/>
              <a:ext cx="7560" cy="3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621" h="1">
                  <a:moveTo>
                    <a:pt x="76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SMARTInkAnnotation182"/>
            <p:cNvSpPr/>
            <p:nvPr/>
          </p:nvSpPr>
          <p:spPr>
            <a:xfrm>
              <a:off x="2301120" y="5296320"/>
              <a:ext cx="250560" cy="26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50840" h="266640">
                  <a:moveTo>
                    <a:pt x="0" y="15210"/>
                  </a:moveTo>
                  <a:lnTo>
                    <a:pt x="8091" y="11165"/>
                  </a:lnTo>
                  <a:lnTo>
                    <a:pt x="12167" y="9973"/>
                  </a:lnTo>
                  <a:lnTo>
                    <a:pt x="16578" y="9179"/>
                  </a:lnTo>
                  <a:lnTo>
                    <a:pt x="21212" y="8649"/>
                  </a:lnTo>
                  <a:lnTo>
                    <a:pt x="25995" y="7450"/>
                  </a:lnTo>
                  <a:lnTo>
                    <a:pt x="30877" y="5803"/>
                  </a:lnTo>
                  <a:lnTo>
                    <a:pt x="35825" y="3859"/>
                  </a:lnTo>
                  <a:lnTo>
                    <a:pt x="41663" y="2563"/>
                  </a:lnTo>
                  <a:lnTo>
                    <a:pt x="48095" y="1698"/>
                  </a:lnTo>
                  <a:lnTo>
                    <a:pt x="54924" y="1122"/>
                  </a:lnTo>
                  <a:lnTo>
                    <a:pt x="62016" y="738"/>
                  </a:lnTo>
                  <a:lnTo>
                    <a:pt x="76670" y="312"/>
                  </a:lnTo>
                  <a:lnTo>
                    <a:pt x="132567" y="0"/>
                  </a:lnTo>
                  <a:lnTo>
                    <a:pt x="142565" y="837"/>
                  </a:lnTo>
                  <a:lnTo>
                    <a:pt x="152617" y="2242"/>
                  </a:lnTo>
                  <a:lnTo>
                    <a:pt x="162704" y="4024"/>
                  </a:lnTo>
                  <a:lnTo>
                    <a:pt x="171970" y="5213"/>
                  </a:lnTo>
                  <a:lnTo>
                    <a:pt x="180687" y="6006"/>
                  </a:lnTo>
                  <a:lnTo>
                    <a:pt x="189038" y="6534"/>
                  </a:lnTo>
                  <a:lnTo>
                    <a:pt x="197145" y="7732"/>
                  </a:lnTo>
                  <a:lnTo>
                    <a:pt x="205090" y="9379"/>
                  </a:lnTo>
                  <a:lnTo>
                    <a:pt x="212927" y="11323"/>
                  </a:lnTo>
                  <a:lnTo>
                    <a:pt x="219845" y="13465"/>
                  </a:lnTo>
                  <a:lnTo>
                    <a:pt x="226150" y="15740"/>
                  </a:lnTo>
                  <a:lnTo>
                    <a:pt x="232047" y="18104"/>
                  </a:lnTo>
                  <a:lnTo>
                    <a:pt x="236824" y="19679"/>
                  </a:lnTo>
                  <a:lnTo>
                    <a:pt x="244391" y="21430"/>
                  </a:lnTo>
                  <a:lnTo>
                    <a:pt x="246747" y="22743"/>
                  </a:lnTo>
                  <a:lnTo>
                    <a:pt x="248318" y="24465"/>
                  </a:lnTo>
                  <a:lnTo>
                    <a:pt x="249366" y="26461"/>
                  </a:lnTo>
                  <a:lnTo>
                    <a:pt x="250529" y="30935"/>
                  </a:lnTo>
                  <a:lnTo>
                    <a:pt x="250839" y="33313"/>
                  </a:lnTo>
                  <a:lnTo>
                    <a:pt x="250200" y="35746"/>
                  </a:lnTo>
                  <a:lnTo>
                    <a:pt x="247231" y="40706"/>
                  </a:lnTo>
                  <a:lnTo>
                    <a:pt x="240832" y="45733"/>
                  </a:lnTo>
                  <a:lnTo>
                    <a:pt x="236755" y="48258"/>
                  </a:lnTo>
                  <a:lnTo>
                    <a:pt x="231496" y="50789"/>
                  </a:lnTo>
                  <a:lnTo>
                    <a:pt x="225451" y="53323"/>
                  </a:lnTo>
                  <a:lnTo>
                    <a:pt x="218881" y="55859"/>
                  </a:lnTo>
                  <a:lnTo>
                    <a:pt x="211960" y="57549"/>
                  </a:lnTo>
                  <a:lnTo>
                    <a:pt x="204807" y="58676"/>
                  </a:lnTo>
                  <a:lnTo>
                    <a:pt x="197498" y="59427"/>
                  </a:lnTo>
                  <a:lnTo>
                    <a:pt x="190086" y="60776"/>
                  </a:lnTo>
                  <a:lnTo>
                    <a:pt x="182604" y="62520"/>
                  </a:lnTo>
                  <a:lnTo>
                    <a:pt x="175076" y="64530"/>
                  </a:lnTo>
                  <a:lnTo>
                    <a:pt x="159938" y="69022"/>
                  </a:lnTo>
                  <a:lnTo>
                    <a:pt x="152346" y="71404"/>
                  </a:lnTo>
                  <a:lnTo>
                    <a:pt x="145590" y="73840"/>
                  </a:lnTo>
                  <a:lnTo>
                    <a:pt x="139394" y="76310"/>
                  </a:lnTo>
                  <a:lnTo>
                    <a:pt x="133569" y="78804"/>
                  </a:lnTo>
                  <a:lnTo>
                    <a:pt x="122582" y="83832"/>
                  </a:lnTo>
                  <a:lnTo>
                    <a:pt x="117282" y="86358"/>
                  </a:lnTo>
                  <a:lnTo>
                    <a:pt x="112901" y="88888"/>
                  </a:lnTo>
                  <a:lnTo>
                    <a:pt x="105776" y="93958"/>
                  </a:lnTo>
                  <a:lnTo>
                    <a:pt x="99787" y="99034"/>
                  </a:lnTo>
                  <a:lnTo>
                    <a:pt x="97005" y="101573"/>
                  </a:lnTo>
                  <a:lnTo>
                    <a:pt x="95997" y="103265"/>
                  </a:lnTo>
                  <a:lnTo>
                    <a:pt x="96171" y="104394"/>
                  </a:lnTo>
                  <a:lnTo>
                    <a:pt x="102535" y="110249"/>
                  </a:lnTo>
                  <a:lnTo>
                    <a:pt x="107096" y="116999"/>
                  </a:lnTo>
                  <a:lnTo>
                    <a:pt x="109497" y="121170"/>
                  </a:lnTo>
                  <a:lnTo>
                    <a:pt x="116681" y="128061"/>
                  </a:lnTo>
                  <a:lnTo>
                    <a:pt x="120967" y="131084"/>
                  </a:lnTo>
                  <a:lnTo>
                    <a:pt x="126365" y="133946"/>
                  </a:lnTo>
                  <a:lnTo>
                    <a:pt x="132503" y="136701"/>
                  </a:lnTo>
                  <a:lnTo>
                    <a:pt x="139136" y="139384"/>
                  </a:lnTo>
                  <a:lnTo>
                    <a:pt x="146097" y="142866"/>
                  </a:lnTo>
                  <a:lnTo>
                    <a:pt x="153278" y="146880"/>
                  </a:lnTo>
                  <a:lnTo>
                    <a:pt x="160605" y="151250"/>
                  </a:lnTo>
                  <a:lnTo>
                    <a:pt x="167184" y="155857"/>
                  </a:lnTo>
                  <a:lnTo>
                    <a:pt x="173262" y="160621"/>
                  </a:lnTo>
                  <a:lnTo>
                    <a:pt x="179009" y="165491"/>
                  </a:lnTo>
                  <a:lnTo>
                    <a:pt x="184533" y="170431"/>
                  </a:lnTo>
                  <a:lnTo>
                    <a:pt x="195186" y="180435"/>
                  </a:lnTo>
                  <a:lnTo>
                    <a:pt x="199551" y="185473"/>
                  </a:lnTo>
                  <a:lnTo>
                    <a:pt x="203307" y="190525"/>
                  </a:lnTo>
                  <a:lnTo>
                    <a:pt x="206658" y="195587"/>
                  </a:lnTo>
                  <a:lnTo>
                    <a:pt x="212639" y="203469"/>
                  </a:lnTo>
                  <a:lnTo>
                    <a:pt x="215420" y="206755"/>
                  </a:lnTo>
                  <a:lnTo>
                    <a:pt x="217273" y="210640"/>
                  </a:lnTo>
                  <a:lnTo>
                    <a:pt x="218509" y="214924"/>
                  </a:lnTo>
                  <a:lnTo>
                    <a:pt x="219333" y="219472"/>
                  </a:lnTo>
                  <a:lnTo>
                    <a:pt x="219035" y="223352"/>
                  </a:lnTo>
                  <a:lnTo>
                    <a:pt x="217990" y="226785"/>
                  </a:lnTo>
                  <a:lnTo>
                    <a:pt x="214571" y="232856"/>
                  </a:lnTo>
                  <a:lnTo>
                    <a:pt x="210229" y="238378"/>
                  </a:lnTo>
                  <a:lnTo>
                    <a:pt x="203220" y="243654"/>
                  </a:lnTo>
                  <a:lnTo>
                    <a:pt x="198980" y="246246"/>
                  </a:lnTo>
                  <a:lnTo>
                    <a:pt x="193613" y="248821"/>
                  </a:lnTo>
                  <a:lnTo>
                    <a:pt x="187496" y="251383"/>
                  </a:lnTo>
                  <a:lnTo>
                    <a:pt x="180877" y="253939"/>
                  </a:lnTo>
                  <a:lnTo>
                    <a:pt x="174772" y="255643"/>
                  </a:lnTo>
                  <a:lnTo>
                    <a:pt x="169008" y="256778"/>
                  </a:lnTo>
                  <a:lnTo>
                    <a:pt x="163472" y="257536"/>
                  </a:lnTo>
                  <a:lnTo>
                    <a:pt x="156395" y="258887"/>
                  </a:lnTo>
                  <a:lnTo>
                    <a:pt x="139500" y="262647"/>
                  </a:lnTo>
                  <a:lnTo>
                    <a:pt x="131100" y="263987"/>
                  </a:lnTo>
                  <a:lnTo>
                    <a:pt x="122960" y="264882"/>
                  </a:lnTo>
                  <a:lnTo>
                    <a:pt x="114993" y="265477"/>
                  </a:lnTo>
                  <a:lnTo>
                    <a:pt x="107143" y="265875"/>
                  </a:lnTo>
                  <a:lnTo>
                    <a:pt x="91646" y="266317"/>
                  </a:lnTo>
                  <a:lnTo>
                    <a:pt x="49784" y="266639"/>
                  </a:lnTo>
                  <a:lnTo>
                    <a:pt x="44196" y="265803"/>
                  </a:lnTo>
                  <a:lnTo>
                    <a:pt x="38777" y="264398"/>
                  </a:lnTo>
                  <a:lnTo>
                    <a:pt x="26004" y="260106"/>
                  </a:lnTo>
                  <a:lnTo>
                    <a:pt x="22000" y="257262"/>
                  </a:lnTo>
                  <a:lnTo>
                    <a:pt x="15240" y="2514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SMARTInkAnnotation183"/>
            <p:cNvSpPr/>
            <p:nvPr/>
          </p:nvSpPr>
          <p:spPr>
            <a:xfrm>
              <a:off x="2598840" y="5365080"/>
              <a:ext cx="174600" cy="288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74783" h="288806">
                  <a:moveTo>
                    <a:pt x="98582" y="7486"/>
                  </a:moveTo>
                  <a:lnTo>
                    <a:pt x="105143" y="7486"/>
                  </a:lnTo>
                  <a:lnTo>
                    <a:pt x="109933" y="11531"/>
                  </a:lnTo>
                  <a:lnTo>
                    <a:pt x="112076" y="12723"/>
                  </a:lnTo>
                  <a:lnTo>
                    <a:pt x="116715" y="14047"/>
                  </a:lnTo>
                  <a:lnTo>
                    <a:pt x="118291" y="15246"/>
                  </a:lnTo>
                  <a:lnTo>
                    <a:pt x="119341" y="16894"/>
                  </a:lnTo>
                  <a:lnTo>
                    <a:pt x="120508" y="20981"/>
                  </a:lnTo>
                  <a:lnTo>
                    <a:pt x="121319" y="28945"/>
                  </a:lnTo>
                  <a:lnTo>
                    <a:pt x="126655" y="36153"/>
                  </a:lnTo>
                  <a:lnTo>
                    <a:pt x="127992" y="40829"/>
                  </a:lnTo>
                  <a:lnTo>
                    <a:pt x="128745" y="48222"/>
                  </a:lnTo>
                  <a:lnTo>
                    <a:pt x="129034" y="56813"/>
                  </a:lnTo>
                  <a:lnTo>
                    <a:pt x="129061" y="67282"/>
                  </a:lnTo>
                  <a:lnTo>
                    <a:pt x="129062" y="61783"/>
                  </a:lnTo>
                  <a:lnTo>
                    <a:pt x="134299" y="54932"/>
                  </a:lnTo>
                  <a:lnTo>
                    <a:pt x="135623" y="50304"/>
                  </a:lnTo>
                  <a:lnTo>
                    <a:pt x="136368" y="42939"/>
                  </a:lnTo>
                  <a:lnTo>
                    <a:pt x="136543" y="35661"/>
                  </a:lnTo>
                  <a:lnTo>
                    <a:pt x="136589" y="31349"/>
                  </a:lnTo>
                  <a:lnTo>
                    <a:pt x="135773" y="27628"/>
                  </a:lnTo>
                  <a:lnTo>
                    <a:pt x="132609" y="21236"/>
                  </a:lnTo>
                  <a:lnTo>
                    <a:pt x="128381" y="15573"/>
                  </a:lnTo>
                  <a:lnTo>
                    <a:pt x="126068" y="12878"/>
                  </a:lnTo>
                  <a:lnTo>
                    <a:pt x="122833" y="10234"/>
                  </a:lnTo>
                  <a:lnTo>
                    <a:pt x="118982" y="7625"/>
                  </a:lnTo>
                  <a:lnTo>
                    <a:pt x="114722" y="5038"/>
                  </a:lnTo>
                  <a:lnTo>
                    <a:pt x="109342" y="3314"/>
                  </a:lnTo>
                  <a:lnTo>
                    <a:pt x="103216" y="2165"/>
                  </a:lnTo>
                  <a:lnTo>
                    <a:pt x="96591" y="1398"/>
                  </a:lnTo>
                  <a:lnTo>
                    <a:pt x="91328" y="888"/>
                  </a:lnTo>
                  <a:lnTo>
                    <a:pt x="86973" y="547"/>
                  </a:lnTo>
                  <a:lnTo>
                    <a:pt x="83223" y="321"/>
                  </a:lnTo>
                  <a:lnTo>
                    <a:pt x="72282" y="68"/>
                  </a:lnTo>
                  <a:lnTo>
                    <a:pt x="65809" y="0"/>
                  </a:lnTo>
                  <a:lnTo>
                    <a:pt x="59800" y="1649"/>
                  </a:lnTo>
                  <a:lnTo>
                    <a:pt x="54101" y="4441"/>
                  </a:lnTo>
                  <a:lnTo>
                    <a:pt x="48608" y="7996"/>
                  </a:lnTo>
                  <a:lnTo>
                    <a:pt x="44099" y="11213"/>
                  </a:lnTo>
                  <a:lnTo>
                    <a:pt x="40247" y="14204"/>
                  </a:lnTo>
                  <a:lnTo>
                    <a:pt x="36832" y="17045"/>
                  </a:lnTo>
                  <a:lnTo>
                    <a:pt x="32862" y="21479"/>
                  </a:lnTo>
                  <a:lnTo>
                    <a:pt x="28522" y="26974"/>
                  </a:lnTo>
                  <a:lnTo>
                    <a:pt x="23936" y="33178"/>
                  </a:lnTo>
                  <a:lnTo>
                    <a:pt x="20031" y="39854"/>
                  </a:lnTo>
                  <a:lnTo>
                    <a:pt x="16582" y="46845"/>
                  </a:lnTo>
                  <a:lnTo>
                    <a:pt x="13435" y="54045"/>
                  </a:lnTo>
                  <a:lnTo>
                    <a:pt x="10491" y="61386"/>
                  </a:lnTo>
                  <a:lnTo>
                    <a:pt x="4962" y="76315"/>
                  </a:lnTo>
                  <a:lnTo>
                    <a:pt x="3149" y="84699"/>
                  </a:lnTo>
                  <a:lnTo>
                    <a:pt x="1940" y="93674"/>
                  </a:lnTo>
                  <a:lnTo>
                    <a:pt x="1134" y="103045"/>
                  </a:lnTo>
                  <a:lnTo>
                    <a:pt x="597" y="113526"/>
                  </a:lnTo>
                  <a:lnTo>
                    <a:pt x="0" y="136459"/>
                  </a:lnTo>
                  <a:lnTo>
                    <a:pt x="1534" y="147655"/>
                  </a:lnTo>
                  <a:lnTo>
                    <a:pt x="4250" y="158505"/>
                  </a:lnTo>
                  <a:lnTo>
                    <a:pt x="7754" y="169125"/>
                  </a:lnTo>
                  <a:lnTo>
                    <a:pt x="11784" y="179593"/>
                  </a:lnTo>
                  <a:lnTo>
                    <a:pt x="16163" y="189957"/>
                  </a:lnTo>
                  <a:lnTo>
                    <a:pt x="20776" y="200253"/>
                  </a:lnTo>
                  <a:lnTo>
                    <a:pt x="24698" y="209657"/>
                  </a:lnTo>
                  <a:lnTo>
                    <a:pt x="28160" y="218467"/>
                  </a:lnTo>
                  <a:lnTo>
                    <a:pt x="31314" y="226880"/>
                  </a:lnTo>
                  <a:lnTo>
                    <a:pt x="35957" y="235028"/>
                  </a:lnTo>
                  <a:lnTo>
                    <a:pt x="41592" y="243001"/>
                  </a:lnTo>
                  <a:lnTo>
                    <a:pt x="47889" y="250856"/>
                  </a:lnTo>
                  <a:lnTo>
                    <a:pt x="54626" y="257786"/>
                  </a:lnTo>
                  <a:lnTo>
                    <a:pt x="61658" y="264099"/>
                  </a:lnTo>
                  <a:lnTo>
                    <a:pt x="68886" y="270002"/>
                  </a:lnTo>
                  <a:lnTo>
                    <a:pt x="77938" y="274784"/>
                  </a:lnTo>
                  <a:lnTo>
                    <a:pt x="88206" y="278817"/>
                  </a:lnTo>
                  <a:lnTo>
                    <a:pt x="99285" y="282354"/>
                  </a:lnTo>
                  <a:lnTo>
                    <a:pt x="109211" y="284711"/>
                  </a:lnTo>
                  <a:lnTo>
                    <a:pt x="118368" y="286283"/>
                  </a:lnTo>
                  <a:lnTo>
                    <a:pt x="127013" y="287331"/>
                  </a:lnTo>
                  <a:lnTo>
                    <a:pt x="135316" y="288029"/>
                  </a:lnTo>
                  <a:lnTo>
                    <a:pt x="143392" y="288494"/>
                  </a:lnTo>
                  <a:lnTo>
                    <a:pt x="151315" y="288805"/>
                  </a:lnTo>
                  <a:lnTo>
                    <a:pt x="157444" y="288165"/>
                  </a:lnTo>
                  <a:lnTo>
                    <a:pt x="162377" y="286892"/>
                  </a:lnTo>
                  <a:lnTo>
                    <a:pt x="174782" y="2818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SMARTInkAnnotation184"/>
            <p:cNvSpPr/>
            <p:nvPr/>
          </p:nvSpPr>
          <p:spPr>
            <a:xfrm>
              <a:off x="6539400" y="4183560"/>
              <a:ext cx="188640" cy="2894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8833" h="289561">
                  <a:moveTo>
                    <a:pt x="135492" y="0"/>
                  </a:moveTo>
                  <a:lnTo>
                    <a:pt x="131447" y="0"/>
                  </a:lnTo>
                  <a:lnTo>
                    <a:pt x="130256" y="846"/>
                  </a:lnTo>
                  <a:lnTo>
                    <a:pt x="129460" y="2258"/>
                  </a:lnTo>
                  <a:lnTo>
                    <a:pt x="128932" y="4045"/>
                  </a:lnTo>
                  <a:lnTo>
                    <a:pt x="126085" y="8289"/>
                  </a:lnTo>
                  <a:lnTo>
                    <a:pt x="124141" y="10606"/>
                  </a:lnTo>
                  <a:lnTo>
                    <a:pt x="121151" y="12997"/>
                  </a:lnTo>
                  <a:lnTo>
                    <a:pt x="117465" y="15438"/>
                  </a:lnTo>
                  <a:lnTo>
                    <a:pt x="113314" y="17912"/>
                  </a:lnTo>
                  <a:lnTo>
                    <a:pt x="108854" y="21254"/>
                  </a:lnTo>
                  <a:lnTo>
                    <a:pt x="104186" y="25176"/>
                  </a:lnTo>
                  <a:lnTo>
                    <a:pt x="99381" y="29484"/>
                  </a:lnTo>
                  <a:lnTo>
                    <a:pt x="87269" y="41044"/>
                  </a:lnTo>
                  <a:lnTo>
                    <a:pt x="80483" y="47683"/>
                  </a:lnTo>
                  <a:lnTo>
                    <a:pt x="74267" y="54648"/>
                  </a:lnTo>
                  <a:lnTo>
                    <a:pt x="68428" y="61833"/>
                  </a:lnTo>
                  <a:lnTo>
                    <a:pt x="62843" y="69161"/>
                  </a:lnTo>
                  <a:lnTo>
                    <a:pt x="56579" y="76588"/>
                  </a:lnTo>
                  <a:lnTo>
                    <a:pt x="49864" y="84079"/>
                  </a:lnTo>
                  <a:lnTo>
                    <a:pt x="42847" y="91612"/>
                  </a:lnTo>
                  <a:lnTo>
                    <a:pt x="36475" y="100021"/>
                  </a:lnTo>
                  <a:lnTo>
                    <a:pt x="30535" y="109015"/>
                  </a:lnTo>
                  <a:lnTo>
                    <a:pt x="24881" y="118397"/>
                  </a:lnTo>
                  <a:lnTo>
                    <a:pt x="20264" y="127191"/>
                  </a:lnTo>
                  <a:lnTo>
                    <a:pt x="16340" y="135594"/>
                  </a:lnTo>
                  <a:lnTo>
                    <a:pt x="12878" y="143736"/>
                  </a:lnTo>
                  <a:lnTo>
                    <a:pt x="9723" y="152551"/>
                  </a:lnTo>
                  <a:lnTo>
                    <a:pt x="6772" y="161814"/>
                  </a:lnTo>
                  <a:lnTo>
                    <a:pt x="3959" y="171376"/>
                  </a:lnTo>
                  <a:lnTo>
                    <a:pt x="2084" y="180290"/>
                  </a:lnTo>
                  <a:lnTo>
                    <a:pt x="833" y="188774"/>
                  </a:lnTo>
                  <a:lnTo>
                    <a:pt x="0" y="196969"/>
                  </a:lnTo>
                  <a:lnTo>
                    <a:pt x="291" y="204973"/>
                  </a:lnTo>
                  <a:lnTo>
                    <a:pt x="1331" y="212849"/>
                  </a:lnTo>
                  <a:lnTo>
                    <a:pt x="2871" y="220639"/>
                  </a:lnTo>
                  <a:lnTo>
                    <a:pt x="5592" y="227526"/>
                  </a:lnTo>
                  <a:lnTo>
                    <a:pt x="9098" y="233811"/>
                  </a:lnTo>
                  <a:lnTo>
                    <a:pt x="13129" y="239694"/>
                  </a:lnTo>
                  <a:lnTo>
                    <a:pt x="18357" y="245309"/>
                  </a:lnTo>
                  <a:lnTo>
                    <a:pt x="24382" y="250746"/>
                  </a:lnTo>
                  <a:lnTo>
                    <a:pt x="30938" y="256064"/>
                  </a:lnTo>
                  <a:lnTo>
                    <a:pt x="38697" y="260456"/>
                  </a:lnTo>
                  <a:lnTo>
                    <a:pt x="47255" y="264231"/>
                  </a:lnTo>
                  <a:lnTo>
                    <a:pt x="56348" y="267594"/>
                  </a:lnTo>
                  <a:lnTo>
                    <a:pt x="65796" y="269836"/>
                  </a:lnTo>
                  <a:lnTo>
                    <a:pt x="75481" y="271331"/>
                  </a:lnTo>
                  <a:lnTo>
                    <a:pt x="85325" y="272327"/>
                  </a:lnTo>
                  <a:lnTo>
                    <a:pt x="94427" y="272145"/>
                  </a:lnTo>
                  <a:lnTo>
                    <a:pt x="103036" y="271176"/>
                  </a:lnTo>
                  <a:lnTo>
                    <a:pt x="111314" y="269685"/>
                  </a:lnTo>
                  <a:lnTo>
                    <a:pt x="119374" y="267843"/>
                  </a:lnTo>
                  <a:lnTo>
                    <a:pt x="127286" y="265769"/>
                  </a:lnTo>
                  <a:lnTo>
                    <a:pt x="135102" y="263539"/>
                  </a:lnTo>
                  <a:lnTo>
                    <a:pt x="142852" y="260360"/>
                  </a:lnTo>
                  <a:lnTo>
                    <a:pt x="150558" y="256546"/>
                  </a:lnTo>
                  <a:lnTo>
                    <a:pt x="158237" y="252311"/>
                  </a:lnTo>
                  <a:lnTo>
                    <a:pt x="165048" y="247794"/>
                  </a:lnTo>
                  <a:lnTo>
                    <a:pt x="171283" y="243089"/>
                  </a:lnTo>
                  <a:lnTo>
                    <a:pt x="177133" y="238259"/>
                  </a:lnTo>
                  <a:lnTo>
                    <a:pt x="181032" y="233346"/>
                  </a:lnTo>
                  <a:lnTo>
                    <a:pt x="183632" y="228378"/>
                  </a:lnTo>
                  <a:lnTo>
                    <a:pt x="185365" y="223372"/>
                  </a:lnTo>
                  <a:lnTo>
                    <a:pt x="186521" y="218341"/>
                  </a:lnTo>
                  <a:lnTo>
                    <a:pt x="187292" y="213295"/>
                  </a:lnTo>
                  <a:lnTo>
                    <a:pt x="187805" y="208236"/>
                  </a:lnTo>
                  <a:lnTo>
                    <a:pt x="186454" y="203171"/>
                  </a:lnTo>
                  <a:lnTo>
                    <a:pt x="183860" y="198101"/>
                  </a:lnTo>
                  <a:lnTo>
                    <a:pt x="180438" y="193027"/>
                  </a:lnTo>
                  <a:lnTo>
                    <a:pt x="176463" y="188798"/>
                  </a:lnTo>
                  <a:lnTo>
                    <a:pt x="172119" y="185132"/>
                  </a:lnTo>
                  <a:lnTo>
                    <a:pt x="167529" y="181842"/>
                  </a:lnTo>
                  <a:lnTo>
                    <a:pt x="163623" y="179647"/>
                  </a:lnTo>
                  <a:lnTo>
                    <a:pt x="160173" y="178185"/>
                  </a:lnTo>
                  <a:lnTo>
                    <a:pt x="157027" y="177210"/>
                  </a:lnTo>
                  <a:lnTo>
                    <a:pt x="152388" y="176560"/>
                  </a:lnTo>
                  <a:lnTo>
                    <a:pt x="146756" y="176126"/>
                  </a:lnTo>
                  <a:lnTo>
                    <a:pt x="134572" y="175645"/>
                  </a:lnTo>
                  <a:lnTo>
                    <a:pt x="123512" y="175431"/>
                  </a:lnTo>
                  <a:lnTo>
                    <a:pt x="118193" y="177067"/>
                  </a:lnTo>
                  <a:lnTo>
                    <a:pt x="112952" y="179852"/>
                  </a:lnTo>
                  <a:lnTo>
                    <a:pt x="107765" y="183402"/>
                  </a:lnTo>
                  <a:lnTo>
                    <a:pt x="102614" y="186614"/>
                  </a:lnTo>
                  <a:lnTo>
                    <a:pt x="97487" y="189603"/>
                  </a:lnTo>
                  <a:lnTo>
                    <a:pt x="92376" y="192442"/>
                  </a:lnTo>
                  <a:lnTo>
                    <a:pt x="88121" y="196028"/>
                  </a:lnTo>
                  <a:lnTo>
                    <a:pt x="84438" y="200112"/>
                  </a:lnTo>
                  <a:lnTo>
                    <a:pt x="81136" y="204528"/>
                  </a:lnTo>
                  <a:lnTo>
                    <a:pt x="79781" y="209165"/>
                  </a:lnTo>
                  <a:lnTo>
                    <a:pt x="79725" y="213950"/>
                  </a:lnTo>
                  <a:lnTo>
                    <a:pt x="80535" y="218834"/>
                  </a:lnTo>
                  <a:lnTo>
                    <a:pt x="81921" y="223782"/>
                  </a:lnTo>
                  <a:lnTo>
                    <a:pt x="83691" y="228775"/>
                  </a:lnTo>
                  <a:lnTo>
                    <a:pt x="85718" y="233797"/>
                  </a:lnTo>
                  <a:lnTo>
                    <a:pt x="89609" y="238838"/>
                  </a:lnTo>
                  <a:lnTo>
                    <a:pt x="94744" y="243892"/>
                  </a:lnTo>
                  <a:lnTo>
                    <a:pt x="100707" y="248954"/>
                  </a:lnTo>
                  <a:lnTo>
                    <a:pt x="106375" y="254023"/>
                  </a:lnTo>
                  <a:lnTo>
                    <a:pt x="117189" y="264171"/>
                  </a:lnTo>
                  <a:lnTo>
                    <a:pt x="124137" y="268401"/>
                  </a:lnTo>
                  <a:lnTo>
                    <a:pt x="132155" y="272067"/>
                  </a:lnTo>
                  <a:lnTo>
                    <a:pt x="140887" y="275358"/>
                  </a:lnTo>
                  <a:lnTo>
                    <a:pt x="148403" y="278399"/>
                  </a:lnTo>
                  <a:lnTo>
                    <a:pt x="155105" y="281272"/>
                  </a:lnTo>
                  <a:lnTo>
                    <a:pt x="161267" y="284035"/>
                  </a:lnTo>
                  <a:lnTo>
                    <a:pt x="167069" y="285877"/>
                  </a:lnTo>
                  <a:lnTo>
                    <a:pt x="172630" y="287104"/>
                  </a:lnTo>
                  <a:lnTo>
                    <a:pt x="188832" y="2895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SMARTInkAnnotation185"/>
            <p:cNvSpPr/>
            <p:nvPr/>
          </p:nvSpPr>
          <p:spPr>
            <a:xfrm>
              <a:off x="6788880" y="4297680"/>
              <a:ext cx="242640" cy="1828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42662" h="182881">
                  <a:moveTo>
                    <a:pt x="220980" y="0"/>
                  </a:moveTo>
                  <a:lnTo>
                    <a:pt x="231586" y="0"/>
                  </a:lnTo>
                  <a:lnTo>
                    <a:pt x="233131" y="846"/>
                  </a:lnTo>
                  <a:lnTo>
                    <a:pt x="234161" y="2258"/>
                  </a:lnTo>
                  <a:lnTo>
                    <a:pt x="234847" y="4045"/>
                  </a:lnTo>
                  <a:lnTo>
                    <a:pt x="237868" y="8289"/>
                  </a:lnTo>
                  <a:lnTo>
                    <a:pt x="239859" y="10606"/>
                  </a:lnTo>
                  <a:lnTo>
                    <a:pt x="241186" y="12997"/>
                  </a:lnTo>
                  <a:lnTo>
                    <a:pt x="242661" y="17912"/>
                  </a:lnTo>
                  <a:lnTo>
                    <a:pt x="242207" y="20408"/>
                  </a:lnTo>
                  <a:lnTo>
                    <a:pt x="239445" y="25439"/>
                  </a:lnTo>
                  <a:lnTo>
                    <a:pt x="233137" y="30497"/>
                  </a:lnTo>
                  <a:lnTo>
                    <a:pt x="229085" y="33032"/>
                  </a:lnTo>
                  <a:lnTo>
                    <a:pt x="224691" y="36415"/>
                  </a:lnTo>
                  <a:lnTo>
                    <a:pt x="220067" y="40363"/>
                  </a:lnTo>
                  <a:lnTo>
                    <a:pt x="215291" y="44689"/>
                  </a:lnTo>
                  <a:lnTo>
                    <a:pt x="209568" y="49266"/>
                  </a:lnTo>
                  <a:lnTo>
                    <a:pt x="203212" y="54011"/>
                  </a:lnTo>
                  <a:lnTo>
                    <a:pt x="189377" y="63798"/>
                  </a:lnTo>
                  <a:lnTo>
                    <a:pt x="174760" y="73793"/>
                  </a:lnTo>
                  <a:lnTo>
                    <a:pt x="157540" y="86137"/>
                  </a:lnTo>
                  <a:lnTo>
                    <a:pt x="148207" y="92985"/>
                  </a:lnTo>
                  <a:lnTo>
                    <a:pt x="137752" y="99243"/>
                  </a:lnTo>
                  <a:lnTo>
                    <a:pt x="126548" y="105109"/>
                  </a:lnTo>
                  <a:lnTo>
                    <a:pt x="114845" y="110713"/>
                  </a:lnTo>
                  <a:lnTo>
                    <a:pt x="103657" y="116988"/>
                  </a:lnTo>
                  <a:lnTo>
                    <a:pt x="92811" y="123712"/>
                  </a:lnTo>
                  <a:lnTo>
                    <a:pt x="55116" y="148709"/>
                  </a:lnTo>
                  <a:lnTo>
                    <a:pt x="46905" y="153326"/>
                  </a:lnTo>
                  <a:lnTo>
                    <a:pt x="38890" y="157250"/>
                  </a:lnTo>
                  <a:lnTo>
                    <a:pt x="31007" y="160714"/>
                  </a:lnTo>
                  <a:lnTo>
                    <a:pt x="24904" y="163869"/>
                  </a:lnTo>
                  <a:lnTo>
                    <a:pt x="19990" y="166820"/>
                  </a:lnTo>
                  <a:lnTo>
                    <a:pt x="15866" y="169633"/>
                  </a:lnTo>
                  <a:lnTo>
                    <a:pt x="9028" y="175017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SMARTInkAnnotation186"/>
            <p:cNvSpPr/>
            <p:nvPr/>
          </p:nvSpPr>
          <p:spPr>
            <a:xfrm>
              <a:off x="6880320" y="4290120"/>
              <a:ext cx="174960" cy="2512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75261" h="251461">
                  <a:moveTo>
                    <a:pt x="0" y="0"/>
                  </a:moveTo>
                  <a:lnTo>
                    <a:pt x="0" y="36791"/>
                  </a:lnTo>
                  <a:lnTo>
                    <a:pt x="846" y="42307"/>
                  </a:lnTo>
                  <a:lnTo>
                    <a:pt x="2259" y="48525"/>
                  </a:lnTo>
                  <a:lnTo>
                    <a:pt x="4045" y="55210"/>
                  </a:lnTo>
                  <a:lnTo>
                    <a:pt x="5237" y="62207"/>
                  </a:lnTo>
                  <a:lnTo>
                    <a:pt x="6031" y="69411"/>
                  </a:lnTo>
                  <a:lnTo>
                    <a:pt x="6561" y="76754"/>
                  </a:lnTo>
                  <a:lnTo>
                    <a:pt x="8608" y="84189"/>
                  </a:lnTo>
                  <a:lnTo>
                    <a:pt x="11664" y="91686"/>
                  </a:lnTo>
                  <a:lnTo>
                    <a:pt x="28738" y="126014"/>
                  </a:lnTo>
                  <a:lnTo>
                    <a:pt x="34399" y="134809"/>
                  </a:lnTo>
                  <a:lnTo>
                    <a:pt x="40713" y="143213"/>
                  </a:lnTo>
                  <a:lnTo>
                    <a:pt x="47462" y="151355"/>
                  </a:lnTo>
                  <a:lnTo>
                    <a:pt x="54501" y="159324"/>
                  </a:lnTo>
                  <a:lnTo>
                    <a:pt x="69096" y="174951"/>
                  </a:lnTo>
                  <a:lnTo>
                    <a:pt x="91593" y="198029"/>
                  </a:lnTo>
                  <a:lnTo>
                    <a:pt x="100009" y="204833"/>
                  </a:lnTo>
                  <a:lnTo>
                    <a:pt x="109006" y="211062"/>
                  </a:lnTo>
                  <a:lnTo>
                    <a:pt x="127187" y="222499"/>
                  </a:lnTo>
                  <a:lnTo>
                    <a:pt x="143734" y="233227"/>
                  </a:lnTo>
                  <a:lnTo>
                    <a:pt x="150857" y="237611"/>
                  </a:lnTo>
                  <a:lnTo>
                    <a:pt x="157298" y="241381"/>
                  </a:lnTo>
                  <a:lnTo>
                    <a:pt x="175260" y="2514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MARTInkAnnotation187"/>
            <p:cNvSpPr/>
            <p:nvPr/>
          </p:nvSpPr>
          <p:spPr>
            <a:xfrm>
              <a:off x="7071120" y="4343400"/>
              <a:ext cx="182520" cy="45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2881" h="45721">
                  <a:moveTo>
                    <a:pt x="0" y="45720"/>
                  </a:moveTo>
                  <a:lnTo>
                    <a:pt x="0" y="41675"/>
                  </a:lnTo>
                  <a:lnTo>
                    <a:pt x="846" y="40483"/>
                  </a:lnTo>
                  <a:lnTo>
                    <a:pt x="2259" y="39689"/>
                  </a:lnTo>
                  <a:lnTo>
                    <a:pt x="6561" y="38414"/>
                  </a:lnTo>
                  <a:lnTo>
                    <a:pt x="11664" y="38240"/>
                  </a:lnTo>
                  <a:lnTo>
                    <a:pt x="15397" y="38193"/>
                  </a:lnTo>
                  <a:lnTo>
                    <a:pt x="19578" y="37316"/>
                  </a:lnTo>
                  <a:lnTo>
                    <a:pt x="24058" y="35884"/>
                  </a:lnTo>
                  <a:lnTo>
                    <a:pt x="28739" y="34083"/>
                  </a:lnTo>
                  <a:lnTo>
                    <a:pt x="34399" y="32882"/>
                  </a:lnTo>
                  <a:lnTo>
                    <a:pt x="40713" y="32081"/>
                  </a:lnTo>
                  <a:lnTo>
                    <a:pt x="47462" y="31547"/>
                  </a:lnTo>
                  <a:lnTo>
                    <a:pt x="53655" y="31192"/>
                  </a:lnTo>
                  <a:lnTo>
                    <a:pt x="65051" y="30796"/>
                  </a:lnTo>
                  <a:lnTo>
                    <a:pt x="70461" y="29844"/>
                  </a:lnTo>
                  <a:lnTo>
                    <a:pt x="75760" y="28363"/>
                  </a:lnTo>
                  <a:lnTo>
                    <a:pt x="80987" y="26529"/>
                  </a:lnTo>
                  <a:lnTo>
                    <a:pt x="87012" y="25306"/>
                  </a:lnTo>
                  <a:lnTo>
                    <a:pt x="93568" y="24491"/>
                  </a:lnTo>
                  <a:lnTo>
                    <a:pt x="100479" y="23947"/>
                  </a:lnTo>
                  <a:lnTo>
                    <a:pt x="106779" y="22738"/>
                  </a:lnTo>
                  <a:lnTo>
                    <a:pt x="112674" y="21085"/>
                  </a:lnTo>
                  <a:lnTo>
                    <a:pt x="118296" y="19137"/>
                  </a:lnTo>
                  <a:lnTo>
                    <a:pt x="124584" y="17838"/>
                  </a:lnTo>
                  <a:lnTo>
                    <a:pt x="131316" y="16972"/>
                  </a:lnTo>
                  <a:lnTo>
                    <a:pt x="138344" y="16394"/>
                  </a:lnTo>
                  <a:lnTo>
                    <a:pt x="144723" y="15163"/>
                  </a:lnTo>
                  <a:lnTo>
                    <a:pt x="150669" y="13496"/>
                  </a:lnTo>
                  <a:lnTo>
                    <a:pt x="156326" y="11537"/>
                  </a:lnTo>
                  <a:lnTo>
                    <a:pt x="160944" y="10232"/>
                  </a:lnTo>
                  <a:lnTo>
                    <a:pt x="164870" y="9361"/>
                  </a:lnTo>
                  <a:lnTo>
                    <a:pt x="168333" y="8781"/>
                  </a:lnTo>
                  <a:lnTo>
                    <a:pt x="171489" y="7547"/>
                  </a:lnTo>
                  <a:lnTo>
                    <a:pt x="174439" y="5878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SMARTInkAnnotation188"/>
            <p:cNvSpPr/>
            <p:nvPr/>
          </p:nvSpPr>
          <p:spPr>
            <a:xfrm>
              <a:off x="7368480" y="4191120"/>
              <a:ext cx="37440" cy="2437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37757" h="243841">
                  <a:moveTo>
                    <a:pt x="37756" y="0"/>
                  </a:moveTo>
                  <a:lnTo>
                    <a:pt x="33711" y="4045"/>
                  </a:lnTo>
                  <a:lnTo>
                    <a:pt x="32519" y="6083"/>
                  </a:lnTo>
                  <a:lnTo>
                    <a:pt x="31725" y="8289"/>
                  </a:lnTo>
                  <a:lnTo>
                    <a:pt x="30607" y="15439"/>
                  </a:lnTo>
                  <a:lnTo>
                    <a:pt x="30346" y="22101"/>
                  </a:lnTo>
                  <a:lnTo>
                    <a:pt x="30229" y="33530"/>
                  </a:lnTo>
                  <a:lnTo>
                    <a:pt x="29352" y="39286"/>
                  </a:lnTo>
                  <a:lnTo>
                    <a:pt x="27920" y="44818"/>
                  </a:lnTo>
                  <a:lnTo>
                    <a:pt x="26119" y="50198"/>
                  </a:lnTo>
                  <a:lnTo>
                    <a:pt x="24918" y="56326"/>
                  </a:lnTo>
                  <a:lnTo>
                    <a:pt x="24117" y="62951"/>
                  </a:lnTo>
                  <a:lnTo>
                    <a:pt x="23583" y="69907"/>
                  </a:lnTo>
                  <a:lnTo>
                    <a:pt x="22381" y="76238"/>
                  </a:lnTo>
                  <a:lnTo>
                    <a:pt x="20733" y="82152"/>
                  </a:lnTo>
                  <a:lnTo>
                    <a:pt x="18787" y="87788"/>
                  </a:lnTo>
                  <a:lnTo>
                    <a:pt x="17491" y="94085"/>
                  </a:lnTo>
                  <a:lnTo>
                    <a:pt x="16626" y="100824"/>
                  </a:lnTo>
                  <a:lnTo>
                    <a:pt x="16050" y="107856"/>
                  </a:lnTo>
                  <a:lnTo>
                    <a:pt x="14818" y="115084"/>
                  </a:lnTo>
                  <a:lnTo>
                    <a:pt x="13151" y="122443"/>
                  </a:lnTo>
                  <a:lnTo>
                    <a:pt x="11193" y="129889"/>
                  </a:lnTo>
                  <a:lnTo>
                    <a:pt x="9887" y="137392"/>
                  </a:lnTo>
                  <a:lnTo>
                    <a:pt x="9017" y="144935"/>
                  </a:lnTo>
                  <a:lnTo>
                    <a:pt x="8436" y="152503"/>
                  </a:lnTo>
                  <a:lnTo>
                    <a:pt x="7203" y="160089"/>
                  </a:lnTo>
                  <a:lnTo>
                    <a:pt x="5535" y="167686"/>
                  </a:lnTo>
                  <a:lnTo>
                    <a:pt x="3575" y="175291"/>
                  </a:lnTo>
                  <a:lnTo>
                    <a:pt x="2268" y="182054"/>
                  </a:lnTo>
                  <a:lnTo>
                    <a:pt x="1398" y="188256"/>
                  </a:lnTo>
                  <a:lnTo>
                    <a:pt x="817" y="194084"/>
                  </a:lnTo>
                  <a:lnTo>
                    <a:pt x="431" y="200509"/>
                  </a:lnTo>
                  <a:lnTo>
                    <a:pt x="0" y="214422"/>
                  </a:lnTo>
                  <a:lnTo>
                    <a:pt x="733" y="220842"/>
                  </a:lnTo>
                  <a:lnTo>
                    <a:pt x="2068" y="226814"/>
                  </a:lnTo>
                  <a:lnTo>
                    <a:pt x="7277" y="2438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SMARTInkAnnotation189"/>
            <p:cNvSpPr/>
            <p:nvPr/>
          </p:nvSpPr>
          <p:spPr>
            <a:xfrm>
              <a:off x="7467480" y="4221360"/>
              <a:ext cx="218880" cy="243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218981" h="243386">
                  <a:moveTo>
                    <a:pt x="83372" y="0"/>
                  </a:moveTo>
                  <a:lnTo>
                    <a:pt x="90678" y="0"/>
                  </a:lnTo>
                  <a:lnTo>
                    <a:pt x="86853" y="0"/>
                  </a:lnTo>
                  <a:lnTo>
                    <a:pt x="85693" y="846"/>
                  </a:lnTo>
                  <a:lnTo>
                    <a:pt x="84920" y="2258"/>
                  </a:lnTo>
                  <a:lnTo>
                    <a:pt x="84403" y="4045"/>
                  </a:lnTo>
                  <a:lnTo>
                    <a:pt x="83213" y="5237"/>
                  </a:lnTo>
                  <a:lnTo>
                    <a:pt x="81573" y="6031"/>
                  </a:lnTo>
                  <a:lnTo>
                    <a:pt x="79632" y="6561"/>
                  </a:lnTo>
                  <a:lnTo>
                    <a:pt x="77492" y="8608"/>
                  </a:lnTo>
                  <a:lnTo>
                    <a:pt x="72856" y="15397"/>
                  </a:lnTo>
                  <a:lnTo>
                    <a:pt x="69589" y="18731"/>
                  </a:lnTo>
                  <a:lnTo>
                    <a:pt x="65716" y="21801"/>
                  </a:lnTo>
                  <a:lnTo>
                    <a:pt x="61440" y="24694"/>
                  </a:lnTo>
                  <a:lnTo>
                    <a:pt x="57745" y="27470"/>
                  </a:lnTo>
                  <a:lnTo>
                    <a:pt x="51381" y="32811"/>
                  </a:lnTo>
                  <a:lnTo>
                    <a:pt x="47651" y="36267"/>
                  </a:lnTo>
                  <a:lnTo>
                    <a:pt x="35158" y="48375"/>
                  </a:lnTo>
                  <a:lnTo>
                    <a:pt x="0" y="83372"/>
                  </a:lnTo>
                  <a:lnTo>
                    <a:pt x="2009" y="83621"/>
                  </a:lnTo>
                  <a:lnTo>
                    <a:pt x="7338" y="83794"/>
                  </a:lnTo>
                  <a:lnTo>
                    <a:pt x="25057" y="83819"/>
                  </a:lnTo>
                  <a:lnTo>
                    <a:pt x="29256" y="82973"/>
                  </a:lnTo>
                  <a:lnTo>
                    <a:pt x="34594" y="81562"/>
                  </a:lnTo>
                  <a:lnTo>
                    <a:pt x="40693" y="79774"/>
                  </a:lnTo>
                  <a:lnTo>
                    <a:pt x="46453" y="77736"/>
                  </a:lnTo>
                  <a:lnTo>
                    <a:pt x="51985" y="75531"/>
                  </a:lnTo>
                  <a:lnTo>
                    <a:pt x="57368" y="73214"/>
                  </a:lnTo>
                  <a:lnTo>
                    <a:pt x="62650" y="71669"/>
                  </a:lnTo>
                  <a:lnTo>
                    <a:pt x="67863" y="70639"/>
                  </a:lnTo>
                  <a:lnTo>
                    <a:pt x="73033" y="69953"/>
                  </a:lnTo>
                  <a:lnTo>
                    <a:pt x="79018" y="68649"/>
                  </a:lnTo>
                  <a:lnTo>
                    <a:pt x="85549" y="66933"/>
                  </a:lnTo>
                  <a:lnTo>
                    <a:pt x="92443" y="64942"/>
                  </a:lnTo>
                  <a:lnTo>
                    <a:pt x="99580" y="63614"/>
                  </a:lnTo>
                  <a:lnTo>
                    <a:pt x="106876" y="62730"/>
                  </a:lnTo>
                  <a:lnTo>
                    <a:pt x="114281" y="62140"/>
                  </a:lnTo>
                  <a:lnTo>
                    <a:pt x="120911" y="62593"/>
                  </a:lnTo>
                  <a:lnTo>
                    <a:pt x="127025" y="63742"/>
                  </a:lnTo>
                  <a:lnTo>
                    <a:pt x="132794" y="65355"/>
                  </a:lnTo>
                  <a:lnTo>
                    <a:pt x="138333" y="67276"/>
                  </a:lnTo>
                  <a:lnTo>
                    <a:pt x="143719" y="69404"/>
                  </a:lnTo>
                  <a:lnTo>
                    <a:pt x="149003" y="71670"/>
                  </a:lnTo>
                  <a:lnTo>
                    <a:pt x="155067" y="74026"/>
                  </a:lnTo>
                  <a:lnTo>
                    <a:pt x="168576" y="78903"/>
                  </a:lnTo>
                  <a:lnTo>
                    <a:pt x="174889" y="82236"/>
                  </a:lnTo>
                  <a:lnTo>
                    <a:pt x="180789" y="86150"/>
                  </a:lnTo>
                  <a:lnTo>
                    <a:pt x="186417" y="90454"/>
                  </a:lnTo>
                  <a:lnTo>
                    <a:pt x="191014" y="94169"/>
                  </a:lnTo>
                  <a:lnTo>
                    <a:pt x="194928" y="97493"/>
                  </a:lnTo>
                  <a:lnTo>
                    <a:pt x="201532" y="104290"/>
                  </a:lnTo>
                  <a:lnTo>
                    <a:pt x="204478" y="108474"/>
                  </a:lnTo>
                  <a:lnTo>
                    <a:pt x="207290" y="112955"/>
                  </a:lnTo>
                  <a:lnTo>
                    <a:pt x="210010" y="117637"/>
                  </a:lnTo>
                  <a:lnTo>
                    <a:pt x="215292" y="127355"/>
                  </a:lnTo>
                  <a:lnTo>
                    <a:pt x="217038" y="133163"/>
                  </a:lnTo>
                  <a:lnTo>
                    <a:pt x="218203" y="139575"/>
                  </a:lnTo>
                  <a:lnTo>
                    <a:pt x="218980" y="146391"/>
                  </a:lnTo>
                  <a:lnTo>
                    <a:pt x="218649" y="152627"/>
                  </a:lnTo>
                  <a:lnTo>
                    <a:pt x="217584" y="158478"/>
                  </a:lnTo>
                  <a:lnTo>
                    <a:pt x="216026" y="164072"/>
                  </a:lnTo>
                  <a:lnTo>
                    <a:pt x="212038" y="177061"/>
                  </a:lnTo>
                  <a:lnTo>
                    <a:pt x="209790" y="184081"/>
                  </a:lnTo>
                  <a:lnTo>
                    <a:pt x="207443" y="189607"/>
                  </a:lnTo>
                  <a:lnTo>
                    <a:pt x="205033" y="194138"/>
                  </a:lnTo>
                  <a:lnTo>
                    <a:pt x="202580" y="198005"/>
                  </a:lnTo>
                  <a:lnTo>
                    <a:pt x="199251" y="202277"/>
                  </a:lnTo>
                  <a:lnTo>
                    <a:pt x="195338" y="206818"/>
                  </a:lnTo>
                  <a:lnTo>
                    <a:pt x="191036" y="211539"/>
                  </a:lnTo>
                  <a:lnTo>
                    <a:pt x="186475" y="215533"/>
                  </a:lnTo>
                  <a:lnTo>
                    <a:pt x="181740" y="219042"/>
                  </a:lnTo>
                  <a:lnTo>
                    <a:pt x="176891" y="222228"/>
                  </a:lnTo>
                  <a:lnTo>
                    <a:pt x="171964" y="225199"/>
                  </a:lnTo>
                  <a:lnTo>
                    <a:pt x="166988" y="228026"/>
                  </a:lnTo>
                  <a:lnTo>
                    <a:pt x="156941" y="233425"/>
                  </a:lnTo>
                  <a:lnTo>
                    <a:pt x="146831" y="238647"/>
                  </a:lnTo>
                  <a:lnTo>
                    <a:pt x="140919" y="240378"/>
                  </a:lnTo>
                  <a:lnTo>
                    <a:pt x="134436" y="241532"/>
                  </a:lnTo>
                  <a:lnTo>
                    <a:pt x="127575" y="242302"/>
                  </a:lnTo>
                  <a:lnTo>
                    <a:pt x="121307" y="242815"/>
                  </a:lnTo>
                  <a:lnTo>
                    <a:pt x="115435" y="243157"/>
                  </a:lnTo>
                  <a:lnTo>
                    <a:pt x="109827" y="243385"/>
                  </a:lnTo>
                  <a:lnTo>
                    <a:pt x="104396" y="241843"/>
                  </a:lnTo>
                  <a:lnTo>
                    <a:pt x="99080" y="239122"/>
                  </a:lnTo>
                  <a:lnTo>
                    <a:pt x="93845" y="235615"/>
                  </a:lnTo>
                  <a:lnTo>
                    <a:pt x="88660" y="232430"/>
                  </a:lnTo>
                  <a:lnTo>
                    <a:pt x="83510" y="229460"/>
                  </a:lnTo>
                  <a:lnTo>
                    <a:pt x="71170" y="222656"/>
                  </a:lnTo>
                  <a:lnTo>
                    <a:pt x="67224" y="219468"/>
                  </a:lnTo>
                  <a:lnTo>
                    <a:pt x="60512" y="2133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MARTInkAnnotation190"/>
            <p:cNvSpPr/>
            <p:nvPr/>
          </p:nvSpPr>
          <p:spPr>
            <a:xfrm>
              <a:off x="7607520" y="4213800"/>
              <a:ext cx="149040" cy="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49171" h="1">
                  <a:moveTo>
                    <a:pt x="4390" y="0"/>
                  </a:moveTo>
                  <a:lnTo>
                    <a:pt x="0" y="0"/>
                  </a:lnTo>
                  <a:lnTo>
                    <a:pt x="14917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ing Lik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3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solidFill>
            <a:srgbClr val="99cc00">
              <a:alpha val="62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533520" y="747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umber, a variable, or any product of the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9"/>
              <p:cNvSpPr txBox="1"/>
              <p:nvPr/>
            </p:nvSpPr>
            <p:spPr>
              <a:xfrm>
                <a:off x="3398760" y="1219320"/>
                <a:ext cx="35910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Text Box 7"/>
          <p:cNvSpPr/>
          <p:nvPr/>
        </p:nvSpPr>
        <p:spPr>
          <a:xfrm>
            <a:off x="1752480" y="1295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32"/>
          <p:cNvGrpSpPr/>
          <p:nvPr/>
        </p:nvGrpSpPr>
        <p:grpSpPr>
          <a:xfrm>
            <a:off x="457200" y="2514600"/>
            <a:ext cx="8229600" cy="609480"/>
            <a:chOff x="457200" y="2514600"/>
            <a:chExt cx="8229600" cy="609480"/>
          </a:xfrm>
        </p:grpSpPr>
        <p:sp>
          <p:nvSpPr>
            <p:cNvPr id="528" name="Rectangle 13"/>
            <p:cNvSpPr/>
            <p:nvPr/>
          </p:nvSpPr>
          <p:spPr>
            <a:xfrm>
              <a:off x="457200" y="2514600"/>
              <a:ext cx="8229600" cy="60948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9"/>
            <p:cNvSpPr/>
            <p:nvPr/>
          </p:nvSpPr>
          <p:spPr>
            <a:xfrm>
              <a:off x="533520" y="257652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ke Terms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erms with the exact same variable factor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9"/>
          <p:cNvSpPr/>
          <p:nvPr/>
        </p:nvSpPr>
        <p:spPr>
          <a:xfrm>
            <a:off x="380880" y="1905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 an expression, terms are separated by a + or -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33"/>
          <p:cNvGrpSpPr/>
          <p:nvPr/>
        </p:nvGrpSpPr>
        <p:grpSpPr>
          <a:xfrm>
            <a:off x="762120" y="3352680"/>
            <a:ext cx="7086600" cy="459720"/>
            <a:chOff x="762120" y="3352680"/>
            <a:chExt cx="7086600" cy="459720"/>
          </a:xfrm>
        </p:grpSpPr>
        <p:sp>
          <p:nvSpPr>
            <p:cNvPr id="532" name="Text Box 9"/>
            <p:cNvSpPr/>
            <p:nvPr/>
          </p:nvSpPr>
          <p:spPr>
            <a:xfrm>
              <a:off x="762120" y="3352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Like Ter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5486400" y="33526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Not Like Ter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4" name="Object 26"/>
              <p:cNvSpPr txBox="1"/>
              <p:nvPr/>
            </p:nvSpPr>
            <p:spPr>
              <a:xfrm>
                <a:off x="3124080" y="4495680"/>
                <a:ext cx="18259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27"/>
              <p:cNvSpPr txBox="1"/>
              <p:nvPr/>
            </p:nvSpPr>
            <p:spPr>
              <a:xfrm>
                <a:off x="3527280" y="5486400"/>
                <a:ext cx="15732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28"/>
              <p:cNvSpPr txBox="1"/>
              <p:nvPr/>
            </p:nvSpPr>
            <p:spPr>
              <a:xfrm>
                <a:off x="3352680" y="4038480"/>
                <a:ext cx="18874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nd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9"/>
              <p:cNvSpPr txBox="1"/>
              <p:nvPr/>
            </p:nvSpPr>
            <p:spPr>
              <a:xfrm>
                <a:off x="3124080" y="3657600"/>
                <a:ext cx="1605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30"/>
              <p:cNvSpPr txBox="1"/>
              <p:nvPr/>
            </p:nvSpPr>
            <p:spPr>
              <a:xfrm>
                <a:off x="3048120" y="3581280"/>
                <a:ext cx="2139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1"/>
              <p:cNvSpPr txBox="1"/>
              <p:nvPr/>
            </p:nvSpPr>
            <p:spPr>
              <a:xfrm>
                <a:off x="3048120" y="4038480"/>
                <a:ext cx="18889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20231E-007 L -0.27482 -0.06543 E">
                                      <p:cBhvr>
                                        <p:cTn id="87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5723E-006 L 0.26406 -0.05896 E">
                                      <p:cBhvr>
                                        <p:cTn id="96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96532E-006 L 0.28021 0.003 E">
                                      <p:cBhvr>
                                        <p:cTn id="105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271 0.00116 E">
                                      <p:cBhvr>
                                        <p:cTn id="114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5723E-006 L -0.26701 0.10752 E">
                                      <p:cBhvr>
                                        <p:cTn id="123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13873E-006 L 0.28003 0.08994 E">
                                      <p:cBhvr>
                                        <p:cTn id="132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ng Lik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0" y="6094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ify each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28600" y="114300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9"/>
              <p:cNvSpPr txBox="1"/>
              <p:nvPr/>
            </p:nvSpPr>
            <p:spPr>
              <a:xfrm>
                <a:off x="1143000" y="1155600"/>
                <a:ext cx="1303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Group 13"/>
          <p:cNvGrpSpPr/>
          <p:nvPr/>
        </p:nvGrpSpPr>
        <p:grpSpPr>
          <a:xfrm>
            <a:off x="4495680" y="1143000"/>
            <a:ext cx="3020760" cy="521640"/>
            <a:chOff x="4495680" y="1143000"/>
            <a:chExt cx="3020760" cy="521640"/>
          </a:xfrm>
        </p:grpSpPr>
        <p:sp>
          <p:nvSpPr>
            <p:cNvPr id="546" name="Text Box 7"/>
            <p:cNvSpPr/>
            <p:nvPr/>
          </p:nvSpPr>
          <p:spPr>
            <a:xfrm>
              <a:off x="4495680" y="117468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0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Object 5"/>
                <p:cNvSpPr txBox="1"/>
                <p:nvPr/>
              </p:nvSpPr>
              <p:spPr>
                <a:xfrm>
                  <a:off x="5562360" y="1143000"/>
                  <a:ext cx="195408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9</m:t>
                      </m:r>
                      <m:sSup>
                        <m:e>
                          <m:r>
                            <m:t xml:space="preserve">w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w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Group 15"/>
          <p:cNvGrpSpPr/>
          <p:nvPr/>
        </p:nvGrpSpPr>
        <p:grpSpPr>
          <a:xfrm>
            <a:off x="4419720" y="3276720"/>
            <a:ext cx="3886200" cy="1008000"/>
            <a:chOff x="4419720" y="3276720"/>
            <a:chExt cx="3886200" cy="1008000"/>
          </a:xfrm>
        </p:grpSpPr>
        <p:sp>
          <p:nvSpPr>
            <p:cNvPr id="549" name="Text Box 7"/>
            <p:cNvSpPr/>
            <p:nvPr/>
          </p:nvSpPr>
          <p:spPr>
            <a:xfrm>
              <a:off x="4419720" y="350496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2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Object 4"/>
                <p:cNvSpPr txBox="1"/>
                <p:nvPr/>
              </p:nvSpPr>
              <p:spPr>
                <a:xfrm>
                  <a:off x="5440320" y="3276720"/>
                  <a:ext cx="286560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14"/>
          <p:cNvGrpSpPr/>
          <p:nvPr/>
        </p:nvGrpSpPr>
        <p:grpSpPr>
          <a:xfrm>
            <a:off x="255600" y="3562200"/>
            <a:ext cx="3657600" cy="489960"/>
            <a:chOff x="255600" y="3562200"/>
            <a:chExt cx="3657600" cy="489960"/>
          </a:xfrm>
        </p:grpSpPr>
        <p:sp>
          <p:nvSpPr>
            <p:cNvPr id="552" name="Text Box 7"/>
            <p:cNvSpPr/>
            <p:nvPr/>
          </p:nvSpPr>
          <p:spPr>
            <a:xfrm>
              <a:off x="255600" y="3562200"/>
              <a:ext cx="1295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1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3"/>
                <p:cNvSpPr txBox="1"/>
                <p:nvPr/>
              </p:nvSpPr>
              <p:spPr>
                <a:xfrm>
                  <a:off x="1305000" y="3593880"/>
                  <a:ext cx="260820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4" name="SMARTInkAnnotation88"/>
          <p:cNvSpPr/>
          <p:nvPr/>
        </p:nvSpPr>
        <p:spPr>
          <a:xfrm>
            <a:off x="1127160" y="1722600"/>
            <a:ext cx="206280" cy="236520"/>
          </a:xfrm>
          <a:custGeom>
            <a:avLst/>
            <a:gdLst>
              <a:gd name="textAreaLeft" fmla="*/ 0 w 206280"/>
              <a:gd name="textAreaRight" fmla="*/ 206640 w 206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05741" h="236221">
                <a:moveTo>
                  <a:pt x="205740" y="0"/>
                </a:moveTo>
                <a:lnTo>
                  <a:pt x="201695" y="0"/>
                </a:lnTo>
                <a:lnTo>
                  <a:pt x="199657" y="1693"/>
                </a:lnTo>
                <a:lnTo>
                  <a:pt x="195134" y="8090"/>
                </a:lnTo>
                <a:lnTo>
                  <a:pt x="190302" y="14320"/>
                </a:lnTo>
                <a:lnTo>
                  <a:pt x="184485" y="20758"/>
                </a:lnTo>
                <a:lnTo>
                  <a:pt x="171691" y="33902"/>
                </a:lnTo>
                <a:lnTo>
                  <a:pt x="162103" y="43572"/>
                </a:lnTo>
                <a:lnTo>
                  <a:pt x="157175" y="49368"/>
                </a:lnTo>
                <a:lnTo>
                  <a:pt x="152197" y="55772"/>
                </a:lnTo>
                <a:lnTo>
                  <a:pt x="147185" y="62581"/>
                </a:lnTo>
                <a:lnTo>
                  <a:pt x="141303" y="69661"/>
                </a:lnTo>
                <a:lnTo>
                  <a:pt x="134842" y="76921"/>
                </a:lnTo>
                <a:lnTo>
                  <a:pt x="120890" y="91760"/>
                </a:lnTo>
                <a:lnTo>
                  <a:pt x="83684" y="129582"/>
                </a:lnTo>
                <a:lnTo>
                  <a:pt x="76956" y="137188"/>
                </a:lnTo>
                <a:lnTo>
                  <a:pt x="70778" y="144799"/>
                </a:lnTo>
                <a:lnTo>
                  <a:pt x="64965" y="152413"/>
                </a:lnTo>
                <a:lnTo>
                  <a:pt x="58550" y="160028"/>
                </a:lnTo>
                <a:lnTo>
                  <a:pt x="51734" y="167646"/>
                </a:lnTo>
                <a:lnTo>
                  <a:pt x="44649" y="175264"/>
                </a:lnTo>
                <a:lnTo>
                  <a:pt x="39079" y="182883"/>
                </a:lnTo>
                <a:lnTo>
                  <a:pt x="34520" y="190502"/>
                </a:lnTo>
                <a:lnTo>
                  <a:pt x="30633" y="198121"/>
                </a:lnTo>
                <a:lnTo>
                  <a:pt x="26349" y="204894"/>
                </a:lnTo>
                <a:lnTo>
                  <a:pt x="21799" y="211103"/>
                </a:lnTo>
                <a:lnTo>
                  <a:pt x="17073" y="216935"/>
                </a:lnTo>
                <a:lnTo>
                  <a:pt x="13075" y="221670"/>
                </a:lnTo>
                <a:lnTo>
                  <a:pt x="9564" y="225674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InkAnnotation89"/>
          <p:cNvSpPr/>
          <p:nvPr/>
        </p:nvSpPr>
        <p:spPr>
          <a:xfrm>
            <a:off x="1393920" y="1722600"/>
            <a:ext cx="236520" cy="280800"/>
          </a:xfrm>
          <a:custGeom>
            <a:avLst/>
            <a:gdLst>
              <a:gd name="textAreaLeft" fmla="*/ 0 w 236520"/>
              <a:gd name="textAreaRight" fmla="*/ 236880 w 23652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35724" h="280735">
                <a:moveTo>
                  <a:pt x="60960" y="15228"/>
                </a:moveTo>
                <a:lnTo>
                  <a:pt x="56915" y="19273"/>
                </a:lnTo>
                <a:lnTo>
                  <a:pt x="54877" y="20465"/>
                </a:lnTo>
                <a:lnTo>
                  <a:pt x="47780" y="22377"/>
                </a:lnTo>
                <a:lnTo>
                  <a:pt x="47093" y="22534"/>
                </a:lnTo>
                <a:lnTo>
                  <a:pt x="46635" y="23486"/>
                </a:lnTo>
                <a:lnTo>
                  <a:pt x="45991" y="27176"/>
                </a:lnTo>
                <a:lnTo>
                  <a:pt x="45841" y="25336"/>
                </a:lnTo>
                <a:lnTo>
                  <a:pt x="47494" y="24507"/>
                </a:lnTo>
                <a:lnTo>
                  <a:pt x="53846" y="23585"/>
                </a:lnTo>
                <a:lnTo>
                  <a:pt x="58757" y="22493"/>
                </a:lnTo>
                <a:lnTo>
                  <a:pt x="64572" y="20918"/>
                </a:lnTo>
                <a:lnTo>
                  <a:pt x="77805" y="16910"/>
                </a:lnTo>
                <a:lnTo>
                  <a:pt x="92154" y="12307"/>
                </a:lnTo>
                <a:lnTo>
                  <a:pt x="100382" y="9894"/>
                </a:lnTo>
                <a:lnTo>
                  <a:pt x="118557" y="4955"/>
                </a:lnTo>
                <a:lnTo>
                  <a:pt x="127298" y="3300"/>
                </a:lnTo>
                <a:lnTo>
                  <a:pt x="135665" y="2196"/>
                </a:lnTo>
                <a:lnTo>
                  <a:pt x="143783" y="1460"/>
                </a:lnTo>
                <a:lnTo>
                  <a:pt x="151736" y="969"/>
                </a:lnTo>
                <a:lnTo>
                  <a:pt x="167345" y="424"/>
                </a:lnTo>
                <a:lnTo>
                  <a:pt x="191978" y="74"/>
                </a:lnTo>
                <a:lnTo>
                  <a:pt x="214255" y="0"/>
                </a:lnTo>
                <a:lnTo>
                  <a:pt x="216497" y="842"/>
                </a:lnTo>
                <a:lnTo>
                  <a:pt x="217991" y="2251"/>
                </a:lnTo>
                <a:lnTo>
                  <a:pt x="218987" y="4037"/>
                </a:lnTo>
                <a:lnTo>
                  <a:pt x="220095" y="8278"/>
                </a:lnTo>
                <a:lnTo>
                  <a:pt x="220390" y="10595"/>
                </a:lnTo>
                <a:lnTo>
                  <a:pt x="218893" y="12986"/>
                </a:lnTo>
                <a:lnTo>
                  <a:pt x="212715" y="17901"/>
                </a:lnTo>
                <a:lnTo>
                  <a:pt x="208696" y="21243"/>
                </a:lnTo>
                <a:lnTo>
                  <a:pt x="204324" y="25165"/>
                </a:lnTo>
                <a:lnTo>
                  <a:pt x="199716" y="29473"/>
                </a:lnTo>
                <a:lnTo>
                  <a:pt x="194104" y="34038"/>
                </a:lnTo>
                <a:lnTo>
                  <a:pt x="187823" y="38774"/>
                </a:lnTo>
                <a:lnTo>
                  <a:pt x="174070" y="48553"/>
                </a:lnTo>
                <a:lnTo>
                  <a:pt x="121850" y="83826"/>
                </a:lnTo>
                <a:lnTo>
                  <a:pt x="114254" y="88900"/>
                </a:lnTo>
                <a:lnTo>
                  <a:pt x="107496" y="93976"/>
                </a:lnTo>
                <a:lnTo>
                  <a:pt x="101297" y="99053"/>
                </a:lnTo>
                <a:lnTo>
                  <a:pt x="95471" y="104132"/>
                </a:lnTo>
                <a:lnTo>
                  <a:pt x="89894" y="108364"/>
                </a:lnTo>
                <a:lnTo>
                  <a:pt x="84483" y="112032"/>
                </a:lnTo>
                <a:lnTo>
                  <a:pt x="79182" y="115324"/>
                </a:lnTo>
                <a:lnTo>
                  <a:pt x="75648" y="118365"/>
                </a:lnTo>
                <a:lnTo>
                  <a:pt x="73292" y="121240"/>
                </a:lnTo>
                <a:lnTo>
                  <a:pt x="71722" y="124002"/>
                </a:lnTo>
                <a:lnTo>
                  <a:pt x="71521" y="126691"/>
                </a:lnTo>
                <a:lnTo>
                  <a:pt x="72234" y="129330"/>
                </a:lnTo>
                <a:lnTo>
                  <a:pt x="73556" y="131936"/>
                </a:lnTo>
                <a:lnTo>
                  <a:pt x="79540" y="137089"/>
                </a:lnTo>
                <a:lnTo>
                  <a:pt x="83507" y="139649"/>
                </a:lnTo>
                <a:lnTo>
                  <a:pt x="87845" y="141355"/>
                </a:lnTo>
                <a:lnTo>
                  <a:pt x="92430" y="142493"/>
                </a:lnTo>
                <a:lnTo>
                  <a:pt x="97180" y="143251"/>
                </a:lnTo>
                <a:lnTo>
                  <a:pt x="102886" y="143757"/>
                </a:lnTo>
                <a:lnTo>
                  <a:pt x="109231" y="144094"/>
                </a:lnTo>
                <a:lnTo>
                  <a:pt x="116001" y="144319"/>
                </a:lnTo>
                <a:lnTo>
                  <a:pt x="123901" y="145315"/>
                </a:lnTo>
                <a:lnTo>
                  <a:pt x="132553" y="146826"/>
                </a:lnTo>
                <a:lnTo>
                  <a:pt x="141709" y="148680"/>
                </a:lnTo>
                <a:lnTo>
                  <a:pt x="150353" y="150763"/>
                </a:lnTo>
                <a:lnTo>
                  <a:pt x="158655" y="152998"/>
                </a:lnTo>
                <a:lnTo>
                  <a:pt x="166730" y="155335"/>
                </a:lnTo>
                <a:lnTo>
                  <a:pt x="174653" y="156892"/>
                </a:lnTo>
                <a:lnTo>
                  <a:pt x="182476" y="157931"/>
                </a:lnTo>
                <a:lnTo>
                  <a:pt x="190230" y="158623"/>
                </a:lnTo>
                <a:lnTo>
                  <a:pt x="197094" y="159932"/>
                </a:lnTo>
                <a:lnTo>
                  <a:pt x="203362" y="161650"/>
                </a:lnTo>
                <a:lnTo>
                  <a:pt x="209235" y="163643"/>
                </a:lnTo>
                <a:lnTo>
                  <a:pt x="213997" y="166665"/>
                </a:lnTo>
                <a:lnTo>
                  <a:pt x="218018" y="170372"/>
                </a:lnTo>
                <a:lnTo>
                  <a:pt x="224744" y="178161"/>
                </a:lnTo>
                <a:lnTo>
                  <a:pt x="230555" y="184445"/>
                </a:lnTo>
                <a:lnTo>
                  <a:pt x="232443" y="187306"/>
                </a:lnTo>
                <a:lnTo>
                  <a:pt x="234542" y="192743"/>
                </a:lnTo>
                <a:lnTo>
                  <a:pt x="235723" y="200563"/>
                </a:lnTo>
                <a:lnTo>
                  <a:pt x="233741" y="207948"/>
                </a:lnTo>
                <a:lnTo>
                  <a:pt x="230038" y="216028"/>
                </a:lnTo>
                <a:lnTo>
                  <a:pt x="225570" y="222441"/>
                </a:lnTo>
                <a:lnTo>
                  <a:pt x="218505" y="228114"/>
                </a:lnTo>
                <a:lnTo>
                  <a:pt x="208873" y="234304"/>
                </a:lnTo>
                <a:lnTo>
                  <a:pt x="196126" y="242699"/>
                </a:lnTo>
                <a:lnTo>
                  <a:pt x="190017" y="246462"/>
                </a:lnTo>
                <a:lnTo>
                  <a:pt x="184252" y="249817"/>
                </a:lnTo>
                <a:lnTo>
                  <a:pt x="178714" y="252901"/>
                </a:lnTo>
                <a:lnTo>
                  <a:pt x="171636" y="255803"/>
                </a:lnTo>
                <a:lnTo>
                  <a:pt x="163531" y="258585"/>
                </a:lnTo>
                <a:lnTo>
                  <a:pt x="138200" y="266545"/>
                </a:lnTo>
                <a:lnTo>
                  <a:pt x="130234" y="269133"/>
                </a:lnTo>
                <a:lnTo>
                  <a:pt x="122382" y="270858"/>
                </a:lnTo>
                <a:lnTo>
                  <a:pt x="114608" y="272008"/>
                </a:lnTo>
                <a:lnTo>
                  <a:pt x="106886" y="272775"/>
                </a:lnTo>
                <a:lnTo>
                  <a:pt x="99197" y="274132"/>
                </a:lnTo>
                <a:lnTo>
                  <a:pt x="91531" y="275884"/>
                </a:lnTo>
                <a:lnTo>
                  <a:pt x="83881" y="277899"/>
                </a:lnTo>
                <a:lnTo>
                  <a:pt x="76241" y="279242"/>
                </a:lnTo>
                <a:lnTo>
                  <a:pt x="68607" y="280137"/>
                </a:lnTo>
                <a:lnTo>
                  <a:pt x="60978" y="280734"/>
                </a:lnTo>
                <a:lnTo>
                  <a:pt x="53352" y="280286"/>
                </a:lnTo>
                <a:lnTo>
                  <a:pt x="45728" y="279140"/>
                </a:lnTo>
                <a:lnTo>
                  <a:pt x="38105" y="277529"/>
                </a:lnTo>
                <a:lnTo>
                  <a:pt x="31330" y="275609"/>
                </a:lnTo>
                <a:lnTo>
                  <a:pt x="25120" y="273482"/>
                </a:lnTo>
                <a:lnTo>
                  <a:pt x="11077" y="268030"/>
                </a:lnTo>
                <a:lnTo>
                  <a:pt x="6899" y="267284"/>
                </a:lnTo>
                <a:lnTo>
                  <a:pt x="0" y="2666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InkAnnotation90"/>
          <p:cNvSpPr/>
          <p:nvPr/>
        </p:nvSpPr>
        <p:spPr>
          <a:xfrm>
            <a:off x="1706400" y="1882800"/>
            <a:ext cx="387360" cy="272880"/>
          </a:xfrm>
          <a:custGeom>
            <a:avLst/>
            <a:gdLst>
              <a:gd name="textAreaLeft" fmla="*/ 0 w 387360"/>
              <a:gd name="textAreaRight" fmla="*/ 387720 w 3873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387496" h="273727">
                <a:moveTo>
                  <a:pt x="7527" y="7484"/>
                </a:moveTo>
                <a:lnTo>
                  <a:pt x="7527" y="25617"/>
                </a:lnTo>
                <a:lnTo>
                  <a:pt x="5269" y="32759"/>
                </a:lnTo>
                <a:lnTo>
                  <a:pt x="3482" y="37034"/>
                </a:lnTo>
                <a:lnTo>
                  <a:pt x="2290" y="41577"/>
                </a:lnTo>
                <a:lnTo>
                  <a:pt x="1496" y="46299"/>
                </a:lnTo>
                <a:lnTo>
                  <a:pt x="967" y="51141"/>
                </a:lnTo>
                <a:lnTo>
                  <a:pt x="613" y="56062"/>
                </a:lnTo>
                <a:lnTo>
                  <a:pt x="378" y="61036"/>
                </a:lnTo>
                <a:lnTo>
                  <a:pt x="117" y="71078"/>
                </a:lnTo>
                <a:lnTo>
                  <a:pt x="0" y="81186"/>
                </a:lnTo>
                <a:lnTo>
                  <a:pt x="816" y="85405"/>
                </a:lnTo>
                <a:lnTo>
                  <a:pt x="3980" y="92351"/>
                </a:lnTo>
                <a:lnTo>
                  <a:pt x="10466" y="98261"/>
                </a:lnTo>
                <a:lnTo>
                  <a:pt x="18994" y="104556"/>
                </a:lnTo>
                <a:lnTo>
                  <a:pt x="28428" y="112999"/>
                </a:lnTo>
                <a:lnTo>
                  <a:pt x="34161" y="115927"/>
                </a:lnTo>
                <a:lnTo>
                  <a:pt x="40523" y="117879"/>
                </a:lnTo>
                <a:lnTo>
                  <a:pt x="47304" y="119181"/>
                </a:lnTo>
                <a:lnTo>
                  <a:pt x="54365" y="119202"/>
                </a:lnTo>
                <a:lnTo>
                  <a:pt x="61612" y="118370"/>
                </a:lnTo>
                <a:lnTo>
                  <a:pt x="68984" y="116968"/>
                </a:lnTo>
                <a:lnTo>
                  <a:pt x="76439" y="115187"/>
                </a:lnTo>
                <a:lnTo>
                  <a:pt x="83948" y="113152"/>
                </a:lnTo>
                <a:lnTo>
                  <a:pt x="91494" y="110950"/>
                </a:lnTo>
                <a:lnTo>
                  <a:pt x="118296" y="103804"/>
                </a:lnTo>
                <a:lnTo>
                  <a:pt x="126246" y="100484"/>
                </a:lnTo>
                <a:lnTo>
                  <a:pt x="133240" y="96577"/>
                </a:lnTo>
                <a:lnTo>
                  <a:pt x="139596" y="92280"/>
                </a:lnTo>
                <a:lnTo>
                  <a:pt x="145526" y="87721"/>
                </a:lnTo>
                <a:lnTo>
                  <a:pt x="151173" y="82989"/>
                </a:lnTo>
                <a:lnTo>
                  <a:pt x="156631" y="78141"/>
                </a:lnTo>
                <a:lnTo>
                  <a:pt x="167211" y="68238"/>
                </a:lnTo>
                <a:lnTo>
                  <a:pt x="172403" y="63227"/>
                </a:lnTo>
                <a:lnTo>
                  <a:pt x="176711" y="58193"/>
                </a:lnTo>
                <a:lnTo>
                  <a:pt x="180430" y="53143"/>
                </a:lnTo>
                <a:lnTo>
                  <a:pt x="183756" y="48083"/>
                </a:lnTo>
                <a:lnTo>
                  <a:pt x="185973" y="43017"/>
                </a:lnTo>
                <a:lnTo>
                  <a:pt x="187451" y="37946"/>
                </a:lnTo>
                <a:lnTo>
                  <a:pt x="188437" y="32872"/>
                </a:lnTo>
                <a:lnTo>
                  <a:pt x="191789" y="24977"/>
                </a:lnTo>
                <a:lnTo>
                  <a:pt x="195255" y="18645"/>
                </a:lnTo>
                <a:lnTo>
                  <a:pt x="196795" y="13009"/>
                </a:lnTo>
                <a:lnTo>
                  <a:pt x="197662" y="5076"/>
                </a:lnTo>
                <a:lnTo>
                  <a:pt x="198018" y="0"/>
                </a:lnTo>
                <a:lnTo>
                  <a:pt x="198024" y="3949"/>
                </a:lnTo>
                <a:lnTo>
                  <a:pt x="198872" y="5974"/>
                </a:lnTo>
                <a:lnTo>
                  <a:pt x="202072" y="10482"/>
                </a:lnTo>
                <a:lnTo>
                  <a:pt x="203264" y="13716"/>
                </a:lnTo>
                <a:lnTo>
                  <a:pt x="204588" y="21825"/>
                </a:lnTo>
                <a:lnTo>
                  <a:pt x="207481" y="26358"/>
                </a:lnTo>
                <a:lnTo>
                  <a:pt x="211950" y="31073"/>
                </a:lnTo>
                <a:lnTo>
                  <a:pt x="217469" y="35910"/>
                </a:lnTo>
                <a:lnTo>
                  <a:pt x="222842" y="40828"/>
                </a:lnTo>
                <a:lnTo>
                  <a:pt x="233327" y="50808"/>
                </a:lnTo>
                <a:lnTo>
                  <a:pt x="240187" y="56687"/>
                </a:lnTo>
                <a:lnTo>
                  <a:pt x="248147" y="63146"/>
                </a:lnTo>
                <a:lnTo>
                  <a:pt x="256841" y="69992"/>
                </a:lnTo>
                <a:lnTo>
                  <a:pt x="265176" y="77096"/>
                </a:lnTo>
                <a:lnTo>
                  <a:pt x="273273" y="84372"/>
                </a:lnTo>
                <a:lnTo>
                  <a:pt x="281211" y="91763"/>
                </a:lnTo>
                <a:lnTo>
                  <a:pt x="289890" y="99230"/>
                </a:lnTo>
                <a:lnTo>
                  <a:pt x="299062" y="106748"/>
                </a:lnTo>
                <a:lnTo>
                  <a:pt x="308564" y="114300"/>
                </a:lnTo>
                <a:lnTo>
                  <a:pt x="317438" y="121875"/>
                </a:lnTo>
                <a:lnTo>
                  <a:pt x="325895" y="129465"/>
                </a:lnTo>
                <a:lnTo>
                  <a:pt x="342064" y="144671"/>
                </a:lnTo>
                <a:lnTo>
                  <a:pt x="357717" y="159896"/>
                </a:lnTo>
                <a:lnTo>
                  <a:pt x="364600" y="167512"/>
                </a:lnTo>
                <a:lnTo>
                  <a:pt x="370883" y="175130"/>
                </a:lnTo>
                <a:lnTo>
                  <a:pt x="376764" y="182748"/>
                </a:lnTo>
                <a:lnTo>
                  <a:pt x="380685" y="190366"/>
                </a:lnTo>
                <a:lnTo>
                  <a:pt x="383299" y="197986"/>
                </a:lnTo>
                <a:lnTo>
                  <a:pt x="385042" y="205605"/>
                </a:lnTo>
                <a:lnTo>
                  <a:pt x="386204" y="212378"/>
                </a:lnTo>
                <a:lnTo>
                  <a:pt x="386978" y="218587"/>
                </a:lnTo>
                <a:lnTo>
                  <a:pt x="387495" y="224419"/>
                </a:lnTo>
                <a:lnTo>
                  <a:pt x="386992" y="230001"/>
                </a:lnTo>
                <a:lnTo>
                  <a:pt x="385811" y="235415"/>
                </a:lnTo>
                <a:lnTo>
                  <a:pt x="384176" y="240718"/>
                </a:lnTo>
                <a:lnTo>
                  <a:pt x="381393" y="245100"/>
                </a:lnTo>
                <a:lnTo>
                  <a:pt x="373785" y="252227"/>
                </a:lnTo>
                <a:lnTo>
                  <a:pt x="362502" y="258217"/>
                </a:lnTo>
                <a:lnTo>
                  <a:pt x="355937" y="260999"/>
                </a:lnTo>
                <a:lnTo>
                  <a:pt x="347327" y="263701"/>
                </a:lnTo>
                <a:lnTo>
                  <a:pt x="337354" y="266349"/>
                </a:lnTo>
                <a:lnTo>
                  <a:pt x="326472" y="268961"/>
                </a:lnTo>
                <a:lnTo>
                  <a:pt x="315830" y="270702"/>
                </a:lnTo>
                <a:lnTo>
                  <a:pt x="305349" y="271862"/>
                </a:lnTo>
                <a:lnTo>
                  <a:pt x="294975" y="272636"/>
                </a:lnTo>
                <a:lnTo>
                  <a:pt x="282979" y="273153"/>
                </a:lnTo>
                <a:lnTo>
                  <a:pt x="256103" y="273726"/>
                </a:lnTo>
                <a:lnTo>
                  <a:pt x="243518" y="273032"/>
                </a:lnTo>
                <a:lnTo>
                  <a:pt x="231741" y="271723"/>
                </a:lnTo>
                <a:lnTo>
                  <a:pt x="220503" y="270003"/>
                </a:lnTo>
                <a:lnTo>
                  <a:pt x="209624" y="268010"/>
                </a:lnTo>
                <a:lnTo>
                  <a:pt x="188506" y="263538"/>
                </a:lnTo>
                <a:lnTo>
                  <a:pt x="178980" y="262007"/>
                </a:lnTo>
                <a:lnTo>
                  <a:pt x="170089" y="260986"/>
                </a:lnTo>
                <a:lnTo>
                  <a:pt x="161622" y="260305"/>
                </a:lnTo>
                <a:lnTo>
                  <a:pt x="154284" y="259005"/>
                </a:lnTo>
                <a:lnTo>
                  <a:pt x="147698" y="257291"/>
                </a:lnTo>
                <a:lnTo>
                  <a:pt x="129447" y="2513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InkAnnotation91"/>
          <p:cNvSpPr/>
          <p:nvPr/>
        </p:nvSpPr>
        <p:spPr>
          <a:xfrm>
            <a:off x="5203800" y="1920960"/>
            <a:ext cx="222120" cy="22320"/>
          </a:xfrm>
          <a:custGeom>
            <a:avLst/>
            <a:gdLst>
              <a:gd name="textAreaLeft" fmla="*/ 0 w 222120"/>
              <a:gd name="textAreaRight" fmla="*/ 222480 w 2221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0982" h="22861">
                <a:moveTo>
                  <a:pt x="0" y="22860"/>
                </a:moveTo>
                <a:lnTo>
                  <a:pt x="33530" y="22860"/>
                </a:lnTo>
                <a:lnTo>
                  <a:pt x="40133" y="22013"/>
                </a:lnTo>
                <a:lnTo>
                  <a:pt x="47075" y="20602"/>
                </a:lnTo>
                <a:lnTo>
                  <a:pt x="54244" y="18815"/>
                </a:lnTo>
                <a:lnTo>
                  <a:pt x="61562" y="17623"/>
                </a:lnTo>
                <a:lnTo>
                  <a:pt x="68982" y="16829"/>
                </a:lnTo>
                <a:lnTo>
                  <a:pt x="76468" y="16299"/>
                </a:lnTo>
                <a:lnTo>
                  <a:pt x="84845" y="15100"/>
                </a:lnTo>
                <a:lnTo>
                  <a:pt x="93817" y="13453"/>
                </a:lnTo>
                <a:lnTo>
                  <a:pt x="103184" y="11509"/>
                </a:lnTo>
                <a:lnTo>
                  <a:pt x="113663" y="10213"/>
                </a:lnTo>
                <a:lnTo>
                  <a:pt x="124883" y="9348"/>
                </a:lnTo>
                <a:lnTo>
                  <a:pt x="136595" y="8772"/>
                </a:lnTo>
                <a:lnTo>
                  <a:pt x="149483" y="7542"/>
                </a:lnTo>
                <a:lnTo>
                  <a:pt x="163155" y="5875"/>
                </a:lnTo>
                <a:lnTo>
                  <a:pt x="177351" y="3916"/>
                </a:lnTo>
                <a:lnTo>
                  <a:pt x="188507" y="2611"/>
                </a:lnTo>
                <a:lnTo>
                  <a:pt x="197638" y="1741"/>
                </a:lnTo>
                <a:lnTo>
                  <a:pt x="2209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InkAnnotation92"/>
          <p:cNvSpPr/>
          <p:nvPr/>
        </p:nvSpPr>
        <p:spPr>
          <a:xfrm>
            <a:off x="5638680" y="1806480"/>
            <a:ext cx="76320" cy="266760"/>
          </a:xfrm>
          <a:custGeom>
            <a:avLst/>
            <a:gdLst>
              <a:gd name="textAreaLeft" fmla="*/ 0 w 76320"/>
              <a:gd name="textAreaRight" fmla="*/ 76320 w 763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76201" h="266701">
                <a:moveTo>
                  <a:pt x="76200" y="0"/>
                </a:moveTo>
                <a:lnTo>
                  <a:pt x="72155" y="4045"/>
                </a:lnTo>
                <a:lnTo>
                  <a:pt x="70963" y="6084"/>
                </a:lnTo>
                <a:lnTo>
                  <a:pt x="69639" y="10606"/>
                </a:lnTo>
                <a:lnTo>
                  <a:pt x="68894" y="17912"/>
                </a:lnTo>
                <a:lnTo>
                  <a:pt x="67943" y="21255"/>
                </a:lnTo>
                <a:lnTo>
                  <a:pt x="66462" y="25177"/>
                </a:lnTo>
                <a:lnTo>
                  <a:pt x="64628" y="29485"/>
                </a:lnTo>
                <a:lnTo>
                  <a:pt x="62559" y="34896"/>
                </a:lnTo>
                <a:lnTo>
                  <a:pt x="58002" y="47683"/>
                </a:lnTo>
                <a:lnTo>
                  <a:pt x="54754" y="54649"/>
                </a:lnTo>
                <a:lnTo>
                  <a:pt x="50897" y="61832"/>
                </a:lnTo>
                <a:lnTo>
                  <a:pt x="46631" y="69162"/>
                </a:lnTo>
                <a:lnTo>
                  <a:pt x="42941" y="76588"/>
                </a:lnTo>
                <a:lnTo>
                  <a:pt x="39634" y="84078"/>
                </a:lnTo>
                <a:lnTo>
                  <a:pt x="36583" y="91612"/>
                </a:lnTo>
                <a:lnTo>
                  <a:pt x="33702" y="100021"/>
                </a:lnTo>
                <a:lnTo>
                  <a:pt x="30935" y="109014"/>
                </a:lnTo>
                <a:lnTo>
                  <a:pt x="25603" y="128038"/>
                </a:lnTo>
                <a:lnTo>
                  <a:pt x="12727" y="177937"/>
                </a:lnTo>
                <a:lnTo>
                  <a:pt x="10178" y="186358"/>
                </a:lnTo>
                <a:lnTo>
                  <a:pt x="7632" y="193665"/>
                </a:lnTo>
                <a:lnTo>
                  <a:pt x="5088" y="200230"/>
                </a:lnTo>
                <a:lnTo>
                  <a:pt x="3392" y="207147"/>
                </a:lnTo>
                <a:lnTo>
                  <a:pt x="2261" y="214298"/>
                </a:lnTo>
                <a:lnTo>
                  <a:pt x="1508" y="221605"/>
                </a:lnTo>
                <a:lnTo>
                  <a:pt x="1005" y="228170"/>
                </a:lnTo>
                <a:lnTo>
                  <a:pt x="671" y="234240"/>
                </a:lnTo>
                <a:lnTo>
                  <a:pt x="298" y="245500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InkAnnotation93"/>
          <p:cNvSpPr/>
          <p:nvPr/>
        </p:nvSpPr>
        <p:spPr>
          <a:xfrm>
            <a:off x="5829480" y="1793880"/>
            <a:ext cx="142560" cy="271440"/>
          </a:xfrm>
          <a:custGeom>
            <a:avLst/>
            <a:gdLst>
              <a:gd name="textAreaLeft" fmla="*/ 0 w 142560"/>
              <a:gd name="textAreaRight" fmla="*/ 142920 w 1425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42551" h="270715">
                <a:moveTo>
                  <a:pt x="7036" y="34636"/>
                </a:moveTo>
                <a:lnTo>
                  <a:pt x="7036" y="23285"/>
                </a:lnTo>
                <a:lnTo>
                  <a:pt x="7883" y="21142"/>
                </a:lnTo>
                <a:lnTo>
                  <a:pt x="11081" y="16503"/>
                </a:lnTo>
                <a:lnTo>
                  <a:pt x="13120" y="14928"/>
                </a:lnTo>
                <a:lnTo>
                  <a:pt x="15325" y="13877"/>
                </a:lnTo>
                <a:lnTo>
                  <a:pt x="17642" y="13177"/>
                </a:lnTo>
                <a:lnTo>
                  <a:pt x="20880" y="11863"/>
                </a:lnTo>
                <a:lnTo>
                  <a:pt x="24732" y="10141"/>
                </a:lnTo>
                <a:lnTo>
                  <a:pt x="28994" y="8146"/>
                </a:lnTo>
                <a:lnTo>
                  <a:pt x="34375" y="6816"/>
                </a:lnTo>
                <a:lnTo>
                  <a:pt x="40502" y="5929"/>
                </a:lnTo>
                <a:lnTo>
                  <a:pt x="47127" y="5338"/>
                </a:lnTo>
                <a:lnTo>
                  <a:pt x="53237" y="4098"/>
                </a:lnTo>
                <a:lnTo>
                  <a:pt x="59003" y="2424"/>
                </a:lnTo>
                <a:lnTo>
                  <a:pt x="64541" y="461"/>
                </a:lnTo>
                <a:lnTo>
                  <a:pt x="70772" y="0"/>
                </a:lnTo>
                <a:lnTo>
                  <a:pt x="77467" y="538"/>
                </a:lnTo>
                <a:lnTo>
                  <a:pt x="84470" y="1744"/>
                </a:lnTo>
                <a:lnTo>
                  <a:pt x="90832" y="2548"/>
                </a:lnTo>
                <a:lnTo>
                  <a:pt x="96766" y="3084"/>
                </a:lnTo>
                <a:lnTo>
                  <a:pt x="102417" y="3441"/>
                </a:lnTo>
                <a:lnTo>
                  <a:pt x="107877" y="4526"/>
                </a:lnTo>
                <a:lnTo>
                  <a:pt x="113210" y="6096"/>
                </a:lnTo>
                <a:lnTo>
                  <a:pt x="118459" y="7990"/>
                </a:lnTo>
                <a:lnTo>
                  <a:pt x="122805" y="10098"/>
                </a:lnTo>
                <a:lnTo>
                  <a:pt x="126549" y="12351"/>
                </a:lnTo>
                <a:lnTo>
                  <a:pt x="129891" y="14699"/>
                </a:lnTo>
                <a:lnTo>
                  <a:pt x="132966" y="17111"/>
                </a:lnTo>
                <a:lnTo>
                  <a:pt x="135862" y="19566"/>
                </a:lnTo>
                <a:lnTo>
                  <a:pt x="138641" y="22050"/>
                </a:lnTo>
                <a:lnTo>
                  <a:pt x="140492" y="24552"/>
                </a:lnTo>
                <a:lnTo>
                  <a:pt x="142550" y="29590"/>
                </a:lnTo>
                <a:lnTo>
                  <a:pt x="142252" y="32965"/>
                </a:lnTo>
                <a:lnTo>
                  <a:pt x="139664" y="41231"/>
                </a:lnTo>
                <a:lnTo>
                  <a:pt x="138634" y="45806"/>
                </a:lnTo>
                <a:lnTo>
                  <a:pt x="137948" y="50550"/>
                </a:lnTo>
                <a:lnTo>
                  <a:pt x="137491" y="55405"/>
                </a:lnTo>
                <a:lnTo>
                  <a:pt x="135492" y="61182"/>
                </a:lnTo>
                <a:lnTo>
                  <a:pt x="132467" y="67573"/>
                </a:lnTo>
                <a:lnTo>
                  <a:pt x="128757" y="74374"/>
                </a:lnTo>
                <a:lnTo>
                  <a:pt x="123744" y="81448"/>
                </a:lnTo>
                <a:lnTo>
                  <a:pt x="117861" y="88704"/>
                </a:lnTo>
                <a:lnTo>
                  <a:pt x="111399" y="96081"/>
                </a:lnTo>
                <a:lnTo>
                  <a:pt x="105398" y="103540"/>
                </a:lnTo>
                <a:lnTo>
                  <a:pt x="99704" y="111052"/>
                </a:lnTo>
                <a:lnTo>
                  <a:pt x="94215" y="118600"/>
                </a:lnTo>
                <a:lnTo>
                  <a:pt x="87169" y="126172"/>
                </a:lnTo>
                <a:lnTo>
                  <a:pt x="79085" y="133760"/>
                </a:lnTo>
                <a:lnTo>
                  <a:pt x="70309" y="141359"/>
                </a:lnTo>
                <a:lnTo>
                  <a:pt x="62764" y="148964"/>
                </a:lnTo>
                <a:lnTo>
                  <a:pt x="56041" y="156575"/>
                </a:lnTo>
                <a:lnTo>
                  <a:pt x="49867" y="164189"/>
                </a:lnTo>
                <a:lnTo>
                  <a:pt x="44056" y="170958"/>
                </a:lnTo>
                <a:lnTo>
                  <a:pt x="38490" y="177164"/>
                </a:lnTo>
                <a:lnTo>
                  <a:pt x="33085" y="182995"/>
                </a:lnTo>
                <a:lnTo>
                  <a:pt x="27789" y="189422"/>
                </a:lnTo>
                <a:lnTo>
                  <a:pt x="22565" y="196247"/>
                </a:lnTo>
                <a:lnTo>
                  <a:pt x="17389" y="203336"/>
                </a:lnTo>
                <a:lnTo>
                  <a:pt x="13091" y="209756"/>
                </a:lnTo>
                <a:lnTo>
                  <a:pt x="9380" y="215729"/>
                </a:lnTo>
                <a:lnTo>
                  <a:pt x="6058" y="221405"/>
                </a:lnTo>
                <a:lnTo>
                  <a:pt x="3844" y="226035"/>
                </a:lnTo>
                <a:lnTo>
                  <a:pt x="1385" y="233438"/>
                </a:lnTo>
                <a:lnTo>
                  <a:pt x="291" y="241808"/>
                </a:lnTo>
                <a:lnTo>
                  <a:pt x="0" y="246410"/>
                </a:lnTo>
                <a:lnTo>
                  <a:pt x="651" y="250326"/>
                </a:lnTo>
                <a:lnTo>
                  <a:pt x="3634" y="256934"/>
                </a:lnTo>
                <a:lnTo>
                  <a:pt x="7308" y="259881"/>
                </a:lnTo>
                <a:lnTo>
                  <a:pt x="12298" y="262693"/>
                </a:lnTo>
                <a:lnTo>
                  <a:pt x="18164" y="265414"/>
                </a:lnTo>
                <a:lnTo>
                  <a:pt x="23768" y="267228"/>
                </a:lnTo>
                <a:lnTo>
                  <a:pt x="29198" y="268437"/>
                </a:lnTo>
                <a:lnTo>
                  <a:pt x="34510" y="269244"/>
                </a:lnTo>
                <a:lnTo>
                  <a:pt x="40593" y="269781"/>
                </a:lnTo>
                <a:lnTo>
                  <a:pt x="47188" y="270139"/>
                </a:lnTo>
                <a:lnTo>
                  <a:pt x="54124" y="270378"/>
                </a:lnTo>
                <a:lnTo>
                  <a:pt x="80067" y="270714"/>
                </a:lnTo>
                <a:lnTo>
                  <a:pt x="89590" y="269915"/>
                </a:lnTo>
                <a:lnTo>
                  <a:pt x="99326" y="268535"/>
                </a:lnTo>
                <a:lnTo>
                  <a:pt x="109202" y="266769"/>
                </a:lnTo>
                <a:lnTo>
                  <a:pt x="116634" y="265591"/>
                </a:lnTo>
                <a:lnTo>
                  <a:pt x="122434" y="264806"/>
                </a:lnTo>
                <a:lnTo>
                  <a:pt x="136576" y="2632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InkAnnotation94"/>
          <p:cNvSpPr/>
          <p:nvPr/>
        </p:nvSpPr>
        <p:spPr>
          <a:xfrm>
            <a:off x="6095880" y="1943280"/>
            <a:ext cx="362160" cy="129960"/>
          </a:xfrm>
          <a:custGeom>
            <a:avLst/>
            <a:gdLst>
              <a:gd name="textAreaLeft" fmla="*/ 0 w 362160"/>
              <a:gd name="textAreaRight" fmla="*/ 362520 w 36216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1975" h="129436">
                <a:moveTo>
                  <a:pt x="7527" y="60960"/>
                </a:moveTo>
                <a:lnTo>
                  <a:pt x="7527" y="65005"/>
                </a:lnTo>
                <a:lnTo>
                  <a:pt x="6681" y="66197"/>
                </a:lnTo>
                <a:lnTo>
                  <a:pt x="5269" y="66991"/>
                </a:lnTo>
                <a:lnTo>
                  <a:pt x="3482" y="67521"/>
                </a:lnTo>
                <a:lnTo>
                  <a:pt x="2291" y="69567"/>
                </a:lnTo>
                <a:lnTo>
                  <a:pt x="1495" y="72625"/>
                </a:lnTo>
                <a:lnTo>
                  <a:pt x="966" y="76357"/>
                </a:lnTo>
                <a:lnTo>
                  <a:pt x="614" y="79691"/>
                </a:lnTo>
                <a:lnTo>
                  <a:pt x="378" y="82761"/>
                </a:lnTo>
                <a:lnTo>
                  <a:pt x="221" y="85654"/>
                </a:lnTo>
                <a:lnTo>
                  <a:pt x="47" y="91126"/>
                </a:lnTo>
                <a:lnTo>
                  <a:pt x="0" y="93771"/>
                </a:lnTo>
                <a:lnTo>
                  <a:pt x="816" y="97227"/>
                </a:lnTo>
                <a:lnTo>
                  <a:pt x="2207" y="101225"/>
                </a:lnTo>
                <a:lnTo>
                  <a:pt x="3980" y="105583"/>
                </a:lnTo>
                <a:lnTo>
                  <a:pt x="6009" y="108489"/>
                </a:lnTo>
                <a:lnTo>
                  <a:pt x="8208" y="110426"/>
                </a:lnTo>
                <a:lnTo>
                  <a:pt x="13757" y="113425"/>
                </a:lnTo>
                <a:lnTo>
                  <a:pt x="35953" y="124679"/>
                </a:lnTo>
                <a:lnTo>
                  <a:pt x="45843" y="127380"/>
                </a:lnTo>
                <a:lnTo>
                  <a:pt x="50851" y="128100"/>
                </a:lnTo>
                <a:lnTo>
                  <a:pt x="56730" y="127733"/>
                </a:lnTo>
                <a:lnTo>
                  <a:pt x="63189" y="126642"/>
                </a:lnTo>
                <a:lnTo>
                  <a:pt x="70035" y="125068"/>
                </a:lnTo>
                <a:lnTo>
                  <a:pt x="76293" y="124019"/>
                </a:lnTo>
                <a:lnTo>
                  <a:pt x="82157" y="123319"/>
                </a:lnTo>
                <a:lnTo>
                  <a:pt x="93189" y="121695"/>
                </a:lnTo>
                <a:lnTo>
                  <a:pt x="103737" y="118151"/>
                </a:lnTo>
                <a:lnTo>
                  <a:pt x="108073" y="116021"/>
                </a:lnTo>
                <a:lnTo>
                  <a:pt x="111812" y="113754"/>
                </a:lnTo>
                <a:lnTo>
                  <a:pt x="115150" y="111396"/>
                </a:lnTo>
                <a:lnTo>
                  <a:pt x="118223" y="108977"/>
                </a:lnTo>
                <a:lnTo>
                  <a:pt x="121118" y="106518"/>
                </a:lnTo>
                <a:lnTo>
                  <a:pt x="123894" y="104032"/>
                </a:lnTo>
                <a:lnTo>
                  <a:pt x="125745" y="101528"/>
                </a:lnTo>
                <a:lnTo>
                  <a:pt x="126979" y="99012"/>
                </a:lnTo>
                <a:lnTo>
                  <a:pt x="127802" y="96488"/>
                </a:lnTo>
                <a:lnTo>
                  <a:pt x="128350" y="93959"/>
                </a:lnTo>
                <a:lnTo>
                  <a:pt x="128716" y="91426"/>
                </a:lnTo>
                <a:lnTo>
                  <a:pt x="128960" y="88891"/>
                </a:lnTo>
                <a:lnTo>
                  <a:pt x="129123" y="86354"/>
                </a:lnTo>
                <a:lnTo>
                  <a:pt x="129303" y="81277"/>
                </a:lnTo>
                <a:lnTo>
                  <a:pt x="129435" y="70085"/>
                </a:lnTo>
                <a:lnTo>
                  <a:pt x="128592" y="69583"/>
                </a:lnTo>
                <a:lnTo>
                  <a:pt x="125399" y="69026"/>
                </a:lnTo>
                <a:lnTo>
                  <a:pt x="124208" y="69724"/>
                </a:lnTo>
                <a:lnTo>
                  <a:pt x="123415" y="71036"/>
                </a:lnTo>
                <a:lnTo>
                  <a:pt x="122886" y="72757"/>
                </a:lnTo>
                <a:lnTo>
                  <a:pt x="123379" y="73905"/>
                </a:lnTo>
                <a:lnTo>
                  <a:pt x="124556" y="74670"/>
                </a:lnTo>
                <a:lnTo>
                  <a:pt x="126186" y="75180"/>
                </a:lnTo>
                <a:lnTo>
                  <a:pt x="130256" y="78004"/>
                </a:lnTo>
                <a:lnTo>
                  <a:pt x="132526" y="79943"/>
                </a:lnTo>
                <a:lnTo>
                  <a:pt x="135734" y="82082"/>
                </a:lnTo>
                <a:lnTo>
                  <a:pt x="139564" y="84355"/>
                </a:lnTo>
                <a:lnTo>
                  <a:pt x="143812" y="86716"/>
                </a:lnTo>
                <a:lnTo>
                  <a:pt x="148337" y="89984"/>
                </a:lnTo>
                <a:lnTo>
                  <a:pt x="153047" y="93856"/>
                </a:lnTo>
                <a:lnTo>
                  <a:pt x="157880" y="98131"/>
                </a:lnTo>
                <a:lnTo>
                  <a:pt x="163643" y="101827"/>
                </a:lnTo>
                <a:lnTo>
                  <a:pt x="170025" y="105138"/>
                </a:lnTo>
                <a:lnTo>
                  <a:pt x="176819" y="108192"/>
                </a:lnTo>
                <a:lnTo>
                  <a:pt x="184735" y="111075"/>
                </a:lnTo>
                <a:lnTo>
                  <a:pt x="193398" y="113843"/>
                </a:lnTo>
                <a:lnTo>
                  <a:pt x="202561" y="116536"/>
                </a:lnTo>
                <a:lnTo>
                  <a:pt x="212056" y="118330"/>
                </a:lnTo>
                <a:lnTo>
                  <a:pt x="221773" y="119527"/>
                </a:lnTo>
                <a:lnTo>
                  <a:pt x="231638" y="120325"/>
                </a:lnTo>
                <a:lnTo>
                  <a:pt x="241602" y="121703"/>
                </a:lnTo>
                <a:lnTo>
                  <a:pt x="251630" y="123469"/>
                </a:lnTo>
                <a:lnTo>
                  <a:pt x="261703" y="125492"/>
                </a:lnTo>
                <a:lnTo>
                  <a:pt x="271804" y="126842"/>
                </a:lnTo>
                <a:lnTo>
                  <a:pt x="281925" y="127741"/>
                </a:lnTo>
                <a:lnTo>
                  <a:pt x="300508" y="128741"/>
                </a:lnTo>
                <a:lnTo>
                  <a:pt x="314412" y="129185"/>
                </a:lnTo>
                <a:lnTo>
                  <a:pt x="335805" y="129435"/>
                </a:lnTo>
                <a:lnTo>
                  <a:pt x="341526" y="127777"/>
                </a:lnTo>
                <a:lnTo>
                  <a:pt x="346186" y="124977"/>
                </a:lnTo>
                <a:lnTo>
                  <a:pt x="350139" y="121418"/>
                </a:lnTo>
                <a:lnTo>
                  <a:pt x="352775" y="118199"/>
                </a:lnTo>
                <a:lnTo>
                  <a:pt x="354533" y="115206"/>
                </a:lnTo>
                <a:lnTo>
                  <a:pt x="355704" y="112364"/>
                </a:lnTo>
                <a:lnTo>
                  <a:pt x="357332" y="108776"/>
                </a:lnTo>
                <a:lnTo>
                  <a:pt x="361398" y="100274"/>
                </a:lnTo>
                <a:lnTo>
                  <a:pt x="361974" y="94789"/>
                </a:lnTo>
                <a:lnTo>
                  <a:pt x="361512" y="88593"/>
                </a:lnTo>
                <a:lnTo>
                  <a:pt x="360357" y="81922"/>
                </a:lnTo>
                <a:lnTo>
                  <a:pt x="358741" y="75781"/>
                </a:lnTo>
                <a:lnTo>
                  <a:pt x="356816" y="69994"/>
                </a:lnTo>
                <a:lnTo>
                  <a:pt x="354686" y="64443"/>
                </a:lnTo>
                <a:lnTo>
                  <a:pt x="352420" y="59049"/>
                </a:lnTo>
                <a:lnTo>
                  <a:pt x="350063" y="53759"/>
                </a:lnTo>
                <a:lnTo>
                  <a:pt x="347644" y="48539"/>
                </a:lnTo>
                <a:lnTo>
                  <a:pt x="344338" y="43366"/>
                </a:lnTo>
                <a:lnTo>
                  <a:pt x="340441" y="38224"/>
                </a:lnTo>
                <a:lnTo>
                  <a:pt x="336150" y="33103"/>
                </a:lnTo>
                <a:lnTo>
                  <a:pt x="332443" y="28842"/>
                </a:lnTo>
                <a:lnTo>
                  <a:pt x="326065" y="21850"/>
                </a:lnTo>
                <a:lnTo>
                  <a:pt x="320409" y="15920"/>
                </a:lnTo>
                <a:lnTo>
                  <a:pt x="317714" y="13153"/>
                </a:lnTo>
                <a:lnTo>
                  <a:pt x="315919" y="10462"/>
                </a:lnTo>
                <a:lnTo>
                  <a:pt x="314721" y="7822"/>
                </a:lnTo>
                <a:lnTo>
                  <a:pt x="3123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InkAnnotation95"/>
          <p:cNvSpPr/>
          <p:nvPr/>
        </p:nvSpPr>
        <p:spPr>
          <a:xfrm>
            <a:off x="6431040" y="1722600"/>
            <a:ext cx="296640" cy="198360"/>
          </a:xfrm>
          <a:custGeom>
            <a:avLst/>
            <a:gdLst>
              <a:gd name="textAreaLeft" fmla="*/ 0 w 296640"/>
              <a:gd name="textAreaRight" fmla="*/ 297000 w 2966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96867" h="197768">
                <a:moveTo>
                  <a:pt x="7306" y="45367"/>
                </a:moveTo>
                <a:lnTo>
                  <a:pt x="745" y="38806"/>
                </a:lnTo>
                <a:lnTo>
                  <a:pt x="157" y="35960"/>
                </a:lnTo>
                <a:lnTo>
                  <a:pt x="0" y="34016"/>
                </a:lnTo>
                <a:lnTo>
                  <a:pt x="742" y="31873"/>
                </a:lnTo>
                <a:lnTo>
                  <a:pt x="3824" y="27234"/>
                </a:lnTo>
                <a:lnTo>
                  <a:pt x="10274" y="22350"/>
                </a:lnTo>
                <a:lnTo>
                  <a:pt x="18785" y="17357"/>
                </a:lnTo>
                <a:lnTo>
                  <a:pt x="28212" y="12316"/>
                </a:lnTo>
                <a:lnTo>
                  <a:pt x="33944" y="10633"/>
                </a:lnTo>
                <a:lnTo>
                  <a:pt x="40305" y="9511"/>
                </a:lnTo>
                <a:lnTo>
                  <a:pt x="47085" y="8763"/>
                </a:lnTo>
                <a:lnTo>
                  <a:pt x="54146" y="7418"/>
                </a:lnTo>
                <a:lnTo>
                  <a:pt x="61393" y="5674"/>
                </a:lnTo>
                <a:lnTo>
                  <a:pt x="68763" y="3665"/>
                </a:lnTo>
                <a:lnTo>
                  <a:pt x="77065" y="2326"/>
                </a:lnTo>
                <a:lnTo>
                  <a:pt x="85985" y="1433"/>
                </a:lnTo>
                <a:lnTo>
                  <a:pt x="95318" y="838"/>
                </a:lnTo>
                <a:lnTo>
                  <a:pt x="112463" y="176"/>
                </a:lnTo>
                <a:lnTo>
                  <a:pt x="120591" y="0"/>
                </a:lnTo>
                <a:lnTo>
                  <a:pt x="129395" y="729"/>
                </a:lnTo>
                <a:lnTo>
                  <a:pt x="138652" y="2061"/>
                </a:lnTo>
                <a:lnTo>
                  <a:pt x="148211" y="3797"/>
                </a:lnTo>
                <a:lnTo>
                  <a:pt x="156276" y="5800"/>
                </a:lnTo>
                <a:lnTo>
                  <a:pt x="163346" y="7983"/>
                </a:lnTo>
                <a:lnTo>
                  <a:pt x="169752" y="10284"/>
                </a:lnTo>
                <a:lnTo>
                  <a:pt x="175717" y="11818"/>
                </a:lnTo>
                <a:lnTo>
                  <a:pt x="181388" y="12841"/>
                </a:lnTo>
                <a:lnTo>
                  <a:pt x="186860" y="13523"/>
                </a:lnTo>
                <a:lnTo>
                  <a:pt x="191355" y="15671"/>
                </a:lnTo>
                <a:lnTo>
                  <a:pt x="195199" y="18796"/>
                </a:lnTo>
                <a:lnTo>
                  <a:pt x="198608" y="22573"/>
                </a:lnTo>
                <a:lnTo>
                  <a:pt x="200880" y="25938"/>
                </a:lnTo>
                <a:lnTo>
                  <a:pt x="203406" y="31934"/>
                </a:lnTo>
                <a:lnTo>
                  <a:pt x="203233" y="35565"/>
                </a:lnTo>
                <a:lnTo>
                  <a:pt x="202270" y="39679"/>
                </a:lnTo>
                <a:lnTo>
                  <a:pt x="200782" y="44115"/>
                </a:lnTo>
                <a:lnTo>
                  <a:pt x="198097" y="48766"/>
                </a:lnTo>
                <a:lnTo>
                  <a:pt x="194613" y="53559"/>
                </a:lnTo>
                <a:lnTo>
                  <a:pt x="190597" y="58449"/>
                </a:lnTo>
                <a:lnTo>
                  <a:pt x="186227" y="62555"/>
                </a:lnTo>
                <a:lnTo>
                  <a:pt x="181620" y="66139"/>
                </a:lnTo>
                <a:lnTo>
                  <a:pt x="176855" y="69375"/>
                </a:lnTo>
                <a:lnTo>
                  <a:pt x="171139" y="74072"/>
                </a:lnTo>
                <a:lnTo>
                  <a:pt x="164788" y="79744"/>
                </a:lnTo>
                <a:lnTo>
                  <a:pt x="158013" y="86065"/>
                </a:lnTo>
                <a:lnTo>
                  <a:pt x="150958" y="91126"/>
                </a:lnTo>
                <a:lnTo>
                  <a:pt x="143714" y="95346"/>
                </a:lnTo>
                <a:lnTo>
                  <a:pt x="136344" y="99006"/>
                </a:lnTo>
                <a:lnTo>
                  <a:pt x="129738" y="103140"/>
                </a:lnTo>
                <a:lnTo>
                  <a:pt x="123641" y="107589"/>
                </a:lnTo>
                <a:lnTo>
                  <a:pt x="117883" y="112249"/>
                </a:lnTo>
                <a:lnTo>
                  <a:pt x="112350" y="116201"/>
                </a:lnTo>
                <a:lnTo>
                  <a:pt x="106969" y="119683"/>
                </a:lnTo>
                <a:lnTo>
                  <a:pt x="101688" y="122851"/>
                </a:lnTo>
                <a:lnTo>
                  <a:pt x="93563" y="128629"/>
                </a:lnTo>
                <a:lnTo>
                  <a:pt x="90210" y="131355"/>
                </a:lnTo>
                <a:lnTo>
                  <a:pt x="88823" y="134866"/>
                </a:lnTo>
                <a:lnTo>
                  <a:pt x="88744" y="138899"/>
                </a:lnTo>
                <a:lnTo>
                  <a:pt x="89537" y="143282"/>
                </a:lnTo>
                <a:lnTo>
                  <a:pt x="91761" y="147050"/>
                </a:lnTo>
                <a:lnTo>
                  <a:pt x="94936" y="150409"/>
                </a:lnTo>
                <a:lnTo>
                  <a:pt x="98746" y="153495"/>
                </a:lnTo>
                <a:lnTo>
                  <a:pt x="103826" y="157246"/>
                </a:lnTo>
                <a:lnTo>
                  <a:pt x="116244" y="165929"/>
                </a:lnTo>
                <a:lnTo>
                  <a:pt x="123959" y="169768"/>
                </a:lnTo>
                <a:lnTo>
                  <a:pt x="132488" y="173175"/>
                </a:lnTo>
                <a:lnTo>
                  <a:pt x="141561" y="176292"/>
                </a:lnTo>
                <a:lnTo>
                  <a:pt x="151842" y="178370"/>
                </a:lnTo>
                <a:lnTo>
                  <a:pt x="162930" y="179756"/>
                </a:lnTo>
                <a:lnTo>
                  <a:pt x="174555" y="180680"/>
                </a:lnTo>
                <a:lnTo>
                  <a:pt x="185693" y="182142"/>
                </a:lnTo>
                <a:lnTo>
                  <a:pt x="196504" y="183964"/>
                </a:lnTo>
                <a:lnTo>
                  <a:pt x="207098" y="186025"/>
                </a:lnTo>
                <a:lnTo>
                  <a:pt x="217547" y="187399"/>
                </a:lnTo>
                <a:lnTo>
                  <a:pt x="227900" y="188315"/>
                </a:lnTo>
                <a:lnTo>
                  <a:pt x="246742" y="189333"/>
                </a:lnTo>
                <a:lnTo>
                  <a:pt x="260760" y="189785"/>
                </a:lnTo>
                <a:lnTo>
                  <a:pt x="266868" y="190753"/>
                </a:lnTo>
                <a:lnTo>
                  <a:pt x="272634" y="192244"/>
                </a:lnTo>
                <a:lnTo>
                  <a:pt x="278172" y="194085"/>
                </a:lnTo>
                <a:lnTo>
                  <a:pt x="286582" y="196131"/>
                </a:lnTo>
                <a:lnTo>
                  <a:pt x="296866" y="1977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InkAnnotation96"/>
          <p:cNvSpPr/>
          <p:nvPr/>
        </p:nvSpPr>
        <p:spPr>
          <a:xfrm>
            <a:off x="1135080" y="4191120"/>
            <a:ext cx="249120" cy="330120"/>
          </a:xfrm>
          <a:custGeom>
            <a:avLst/>
            <a:gdLst>
              <a:gd name="textAreaLeft" fmla="*/ 0 w 249120"/>
              <a:gd name="textAreaRight" fmla="*/ 249480 w 2491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48373" h="330661">
                <a:moveTo>
                  <a:pt x="60607" y="0"/>
                </a:moveTo>
                <a:lnTo>
                  <a:pt x="60607" y="4045"/>
                </a:lnTo>
                <a:lnTo>
                  <a:pt x="59760" y="6083"/>
                </a:lnTo>
                <a:lnTo>
                  <a:pt x="54523" y="12997"/>
                </a:lnTo>
                <a:lnTo>
                  <a:pt x="47610" y="21255"/>
                </a:lnTo>
                <a:lnTo>
                  <a:pt x="42695" y="29484"/>
                </a:lnTo>
                <a:lnTo>
                  <a:pt x="39946" y="38786"/>
                </a:lnTo>
                <a:lnTo>
                  <a:pt x="37878" y="48565"/>
                </a:lnTo>
                <a:lnTo>
                  <a:pt x="34136" y="58556"/>
                </a:lnTo>
                <a:lnTo>
                  <a:pt x="29651" y="66382"/>
                </a:lnTo>
                <a:lnTo>
                  <a:pt x="24835" y="73530"/>
                </a:lnTo>
                <a:lnTo>
                  <a:pt x="19873" y="82351"/>
                </a:lnTo>
                <a:lnTo>
                  <a:pt x="14845" y="89658"/>
                </a:lnTo>
                <a:lnTo>
                  <a:pt x="12319" y="92792"/>
                </a:lnTo>
                <a:lnTo>
                  <a:pt x="9512" y="98532"/>
                </a:lnTo>
                <a:lnTo>
                  <a:pt x="8764" y="101248"/>
                </a:lnTo>
                <a:lnTo>
                  <a:pt x="5674" y="106524"/>
                </a:lnTo>
                <a:lnTo>
                  <a:pt x="3665" y="109116"/>
                </a:lnTo>
                <a:lnTo>
                  <a:pt x="1433" y="114253"/>
                </a:lnTo>
                <a:lnTo>
                  <a:pt x="0" y="120406"/>
                </a:lnTo>
                <a:lnTo>
                  <a:pt x="729" y="120910"/>
                </a:lnTo>
                <a:lnTo>
                  <a:pt x="3797" y="121472"/>
                </a:lnTo>
                <a:lnTo>
                  <a:pt x="5800" y="120774"/>
                </a:lnTo>
                <a:lnTo>
                  <a:pt x="12665" y="116595"/>
                </a:lnTo>
                <a:lnTo>
                  <a:pt x="17568" y="115320"/>
                </a:lnTo>
                <a:lnTo>
                  <a:pt x="21754" y="114133"/>
                </a:lnTo>
                <a:lnTo>
                  <a:pt x="33179" y="110557"/>
                </a:lnTo>
                <a:lnTo>
                  <a:pt x="39782" y="109265"/>
                </a:lnTo>
                <a:lnTo>
                  <a:pt x="46724" y="108403"/>
                </a:lnTo>
                <a:lnTo>
                  <a:pt x="53891" y="107829"/>
                </a:lnTo>
                <a:lnTo>
                  <a:pt x="62057" y="106599"/>
                </a:lnTo>
                <a:lnTo>
                  <a:pt x="70886" y="104933"/>
                </a:lnTo>
                <a:lnTo>
                  <a:pt x="80160" y="102975"/>
                </a:lnTo>
                <a:lnTo>
                  <a:pt x="89729" y="101671"/>
                </a:lnTo>
                <a:lnTo>
                  <a:pt x="99495" y="100800"/>
                </a:lnTo>
                <a:lnTo>
                  <a:pt x="109392" y="100220"/>
                </a:lnTo>
                <a:lnTo>
                  <a:pt x="119377" y="100680"/>
                </a:lnTo>
                <a:lnTo>
                  <a:pt x="129420" y="101833"/>
                </a:lnTo>
                <a:lnTo>
                  <a:pt x="139503" y="103449"/>
                </a:lnTo>
                <a:lnTo>
                  <a:pt x="148764" y="105373"/>
                </a:lnTo>
                <a:lnTo>
                  <a:pt x="157478" y="107502"/>
                </a:lnTo>
                <a:lnTo>
                  <a:pt x="165828" y="109768"/>
                </a:lnTo>
                <a:lnTo>
                  <a:pt x="181879" y="114544"/>
                </a:lnTo>
                <a:lnTo>
                  <a:pt x="189715" y="117002"/>
                </a:lnTo>
                <a:lnTo>
                  <a:pt x="197479" y="120335"/>
                </a:lnTo>
                <a:lnTo>
                  <a:pt x="205195" y="124251"/>
                </a:lnTo>
                <a:lnTo>
                  <a:pt x="212879" y="128554"/>
                </a:lnTo>
                <a:lnTo>
                  <a:pt x="218848" y="133962"/>
                </a:lnTo>
                <a:lnTo>
                  <a:pt x="223674" y="140109"/>
                </a:lnTo>
                <a:lnTo>
                  <a:pt x="227739" y="146746"/>
                </a:lnTo>
                <a:lnTo>
                  <a:pt x="241549" y="168222"/>
                </a:lnTo>
                <a:lnTo>
                  <a:pt x="244735" y="175649"/>
                </a:lnTo>
                <a:lnTo>
                  <a:pt x="246859" y="183139"/>
                </a:lnTo>
                <a:lnTo>
                  <a:pt x="248275" y="190673"/>
                </a:lnTo>
                <a:lnTo>
                  <a:pt x="248372" y="199082"/>
                </a:lnTo>
                <a:lnTo>
                  <a:pt x="247591" y="208075"/>
                </a:lnTo>
                <a:lnTo>
                  <a:pt x="246223" y="217456"/>
                </a:lnTo>
                <a:lnTo>
                  <a:pt x="244464" y="226251"/>
                </a:lnTo>
                <a:lnTo>
                  <a:pt x="242445" y="234654"/>
                </a:lnTo>
                <a:lnTo>
                  <a:pt x="240252" y="242796"/>
                </a:lnTo>
                <a:lnTo>
                  <a:pt x="237097" y="250765"/>
                </a:lnTo>
                <a:lnTo>
                  <a:pt x="233301" y="258617"/>
                </a:lnTo>
                <a:lnTo>
                  <a:pt x="229076" y="266391"/>
                </a:lnTo>
                <a:lnTo>
                  <a:pt x="223720" y="274114"/>
                </a:lnTo>
                <a:lnTo>
                  <a:pt x="217609" y="281803"/>
                </a:lnTo>
                <a:lnTo>
                  <a:pt x="210995" y="289468"/>
                </a:lnTo>
                <a:lnTo>
                  <a:pt x="204046" y="296273"/>
                </a:lnTo>
                <a:lnTo>
                  <a:pt x="196873" y="302502"/>
                </a:lnTo>
                <a:lnTo>
                  <a:pt x="189551" y="308348"/>
                </a:lnTo>
                <a:lnTo>
                  <a:pt x="182976" y="313092"/>
                </a:lnTo>
                <a:lnTo>
                  <a:pt x="176900" y="317102"/>
                </a:lnTo>
                <a:lnTo>
                  <a:pt x="171156" y="320621"/>
                </a:lnTo>
                <a:lnTo>
                  <a:pt x="163939" y="323814"/>
                </a:lnTo>
                <a:lnTo>
                  <a:pt x="155742" y="326789"/>
                </a:lnTo>
                <a:lnTo>
                  <a:pt x="146890" y="329619"/>
                </a:lnTo>
                <a:lnTo>
                  <a:pt x="138449" y="330660"/>
                </a:lnTo>
                <a:lnTo>
                  <a:pt x="130282" y="330507"/>
                </a:lnTo>
                <a:lnTo>
                  <a:pt x="122297" y="329558"/>
                </a:lnTo>
                <a:lnTo>
                  <a:pt x="114434" y="327232"/>
                </a:lnTo>
                <a:lnTo>
                  <a:pt x="106651" y="323988"/>
                </a:lnTo>
                <a:lnTo>
                  <a:pt x="98923" y="320132"/>
                </a:lnTo>
                <a:lnTo>
                  <a:pt x="92078" y="315868"/>
                </a:lnTo>
                <a:lnTo>
                  <a:pt x="85821" y="311332"/>
                </a:lnTo>
                <a:lnTo>
                  <a:pt x="79956" y="306615"/>
                </a:lnTo>
                <a:lnTo>
                  <a:pt x="73507" y="300930"/>
                </a:lnTo>
                <a:lnTo>
                  <a:pt x="59567" y="287841"/>
                </a:lnTo>
                <a:lnTo>
                  <a:pt x="53987" y="281640"/>
                </a:lnTo>
                <a:lnTo>
                  <a:pt x="49420" y="275813"/>
                </a:lnTo>
                <a:lnTo>
                  <a:pt x="37747" y="2590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InkAnnotation97"/>
          <p:cNvSpPr/>
          <p:nvPr/>
        </p:nvSpPr>
        <p:spPr>
          <a:xfrm>
            <a:off x="1197000" y="4199040"/>
            <a:ext cx="250920" cy="21960"/>
          </a:xfrm>
          <a:custGeom>
            <a:avLst/>
            <a:gdLst>
              <a:gd name="textAreaLeft" fmla="*/ 0 w 250920"/>
              <a:gd name="textAreaRight" fmla="*/ 251280 w 2509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51461" h="22861">
                <a:moveTo>
                  <a:pt x="0" y="0"/>
                </a:moveTo>
                <a:lnTo>
                  <a:pt x="6561" y="0"/>
                </a:lnTo>
                <a:lnTo>
                  <a:pt x="7760" y="847"/>
                </a:lnTo>
                <a:lnTo>
                  <a:pt x="9407" y="2257"/>
                </a:lnTo>
                <a:lnTo>
                  <a:pt x="11351" y="4044"/>
                </a:lnTo>
                <a:lnTo>
                  <a:pt x="13494" y="5237"/>
                </a:lnTo>
                <a:lnTo>
                  <a:pt x="15769" y="6031"/>
                </a:lnTo>
                <a:lnTo>
                  <a:pt x="18133" y="6561"/>
                </a:lnTo>
                <a:lnTo>
                  <a:pt x="25274" y="7149"/>
                </a:lnTo>
                <a:lnTo>
                  <a:pt x="29550" y="7306"/>
                </a:lnTo>
                <a:lnTo>
                  <a:pt x="34940" y="8257"/>
                </a:lnTo>
                <a:lnTo>
                  <a:pt x="41073" y="9738"/>
                </a:lnTo>
                <a:lnTo>
                  <a:pt x="47702" y="11572"/>
                </a:lnTo>
                <a:lnTo>
                  <a:pt x="54661" y="12795"/>
                </a:lnTo>
                <a:lnTo>
                  <a:pt x="61841" y="13609"/>
                </a:lnTo>
                <a:lnTo>
                  <a:pt x="69168" y="14153"/>
                </a:lnTo>
                <a:lnTo>
                  <a:pt x="77438" y="15362"/>
                </a:lnTo>
                <a:lnTo>
                  <a:pt x="86339" y="17014"/>
                </a:lnTo>
                <a:lnTo>
                  <a:pt x="95659" y="18962"/>
                </a:lnTo>
                <a:lnTo>
                  <a:pt x="106106" y="20262"/>
                </a:lnTo>
                <a:lnTo>
                  <a:pt x="117304" y="21127"/>
                </a:lnTo>
                <a:lnTo>
                  <a:pt x="129003" y="21705"/>
                </a:lnTo>
                <a:lnTo>
                  <a:pt x="153290" y="22346"/>
                </a:lnTo>
                <a:lnTo>
                  <a:pt x="251460" y="228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InkAnnotation98"/>
          <p:cNvSpPr/>
          <p:nvPr/>
        </p:nvSpPr>
        <p:spPr>
          <a:xfrm>
            <a:off x="1479600" y="4321080"/>
            <a:ext cx="357120" cy="166680"/>
          </a:xfrm>
          <a:custGeom>
            <a:avLst/>
            <a:gdLst>
              <a:gd name="textAreaLeft" fmla="*/ 0 w 357120"/>
              <a:gd name="textAreaRight" fmla="*/ 357480 w 357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57315" h="167540">
                <a:moveTo>
                  <a:pt x="121094" y="22759"/>
                </a:moveTo>
                <a:lnTo>
                  <a:pt x="128400" y="15453"/>
                </a:lnTo>
                <a:lnTo>
                  <a:pt x="132666" y="15232"/>
                </a:lnTo>
                <a:lnTo>
                  <a:pt x="133889" y="14355"/>
                </a:lnTo>
                <a:lnTo>
                  <a:pt x="134704" y="12923"/>
                </a:lnTo>
                <a:lnTo>
                  <a:pt x="136012" y="8587"/>
                </a:lnTo>
                <a:lnTo>
                  <a:pt x="133933" y="5736"/>
                </a:lnTo>
                <a:lnTo>
                  <a:pt x="129745" y="1052"/>
                </a:lnTo>
                <a:lnTo>
                  <a:pt x="128555" y="668"/>
                </a:lnTo>
                <a:lnTo>
                  <a:pt x="118303" y="51"/>
                </a:lnTo>
                <a:lnTo>
                  <a:pt x="114153" y="0"/>
                </a:lnTo>
                <a:lnTo>
                  <a:pt x="105027" y="2202"/>
                </a:lnTo>
                <a:lnTo>
                  <a:pt x="95326" y="6002"/>
                </a:lnTo>
                <a:lnTo>
                  <a:pt x="85371" y="10514"/>
                </a:lnTo>
                <a:lnTo>
                  <a:pt x="70246" y="17814"/>
                </a:lnTo>
                <a:lnTo>
                  <a:pt x="65182" y="21156"/>
                </a:lnTo>
                <a:lnTo>
                  <a:pt x="60113" y="25077"/>
                </a:lnTo>
                <a:lnTo>
                  <a:pt x="55040" y="29384"/>
                </a:lnTo>
                <a:lnTo>
                  <a:pt x="49118" y="33949"/>
                </a:lnTo>
                <a:lnTo>
                  <a:pt x="42630" y="38686"/>
                </a:lnTo>
                <a:lnTo>
                  <a:pt x="35765" y="43537"/>
                </a:lnTo>
                <a:lnTo>
                  <a:pt x="30341" y="48464"/>
                </a:lnTo>
                <a:lnTo>
                  <a:pt x="25879" y="53442"/>
                </a:lnTo>
                <a:lnTo>
                  <a:pt x="22057" y="58454"/>
                </a:lnTo>
                <a:lnTo>
                  <a:pt x="17816" y="63489"/>
                </a:lnTo>
                <a:lnTo>
                  <a:pt x="13295" y="68540"/>
                </a:lnTo>
                <a:lnTo>
                  <a:pt x="8588" y="73599"/>
                </a:lnTo>
                <a:lnTo>
                  <a:pt x="5450" y="78666"/>
                </a:lnTo>
                <a:lnTo>
                  <a:pt x="3358" y="83737"/>
                </a:lnTo>
                <a:lnTo>
                  <a:pt x="1963" y="88811"/>
                </a:lnTo>
                <a:lnTo>
                  <a:pt x="1034" y="93887"/>
                </a:lnTo>
                <a:lnTo>
                  <a:pt x="414" y="98965"/>
                </a:lnTo>
                <a:lnTo>
                  <a:pt x="0" y="104042"/>
                </a:lnTo>
                <a:lnTo>
                  <a:pt x="572" y="108275"/>
                </a:lnTo>
                <a:lnTo>
                  <a:pt x="1799" y="111943"/>
                </a:lnTo>
                <a:lnTo>
                  <a:pt x="3464" y="115235"/>
                </a:lnTo>
                <a:lnTo>
                  <a:pt x="5421" y="118276"/>
                </a:lnTo>
                <a:lnTo>
                  <a:pt x="7572" y="121151"/>
                </a:lnTo>
                <a:lnTo>
                  <a:pt x="9853" y="123913"/>
                </a:lnTo>
                <a:lnTo>
                  <a:pt x="13066" y="126602"/>
                </a:lnTo>
                <a:lnTo>
                  <a:pt x="16902" y="129241"/>
                </a:lnTo>
                <a:lnTo>
                  <a:pt x="21153" y="131847"/>
                </a:lnTo>
                <a:lnTo>
                  <a:pt x="25680" y="132738"/>
                </a:lnTo>
                <a:lnTo>
                  <a:pt x="30391" y="132484"/>
                </a:lnTo>
                <a:lnTo>
                  <a:pt x="40988" y="130792"/>
                </a:lnTo>
                <a:lnTo>
                  <a:pt x="47370" y="130341"/>
                </a:lnTo>
                <a:lnTo>
                  <a:pt x="54165" y="130041"/>
                </a:lnTo>
                <a:lnTo>
                  <a:pt x="60388" y="128994"/>
                </a:lnTo>
                <a:lnTo>
                  <a:pt x="66230" y="127448"/>
                </a:lnTo>
                <a:lnTo>
                  <a:pt x="71818" y="125572"/>
                </a:lnTo>
                <a:lnTo>
                  <a:pt x="78083" y="122628"/>
                </a:lnTo>
                <a:lnTo>
                  <a:pt x="84800" y="118971"/>
                </a:lnTo>
                <a:lnTo>
                  <a:pt x="91818" y="114841"/>
                </a:lnTo>
                <a:lnTo>
                  <a:pt x="97343" y="111240"/>
                </a:lnTo>
                <a:lnTo>
                  <a:pt x="101874" y="107993"/>
                </a:lnTo>
                <a:lnTo>
                  <a:pt x="105740" y="104982"/>
                </a:lnTo>
                <a:lnTo>
                  <a:pt x="110012" y="101281"/>
                </a:lnTo>
                <a:lnTo>
                  <a:pt x="114552" y="97120"/>
                </a:lnTo>
                <a:lnTo>
                  <a:pt x="119273" y="92653"/>
                </a:lnTo>
                <a:lnTo>
                  <a:pt x="122420" y="87982"/>
                </a:lnTo>
                <a:lnTo>
                  <a:pt x="124518" y="83174"/>
                </a:lnTo>
                <a:lnTo>
                  <a:pt x="125917" y="78276"/>
                </a:lnTo>
                <a:lnTo>
                  <a:pt x="127696" y="73317"/>
                </a:lnTo>
                <a:lnTo>
                  <a:pt x="129729" y="68317"/>
                </a:lnTo>
                <a:lnTo>
                  <a:pt x="131930" y="63291"/>
                </a:lnTo>
                <a:lnTo>
                  <a:pt x="133398" y="59094"/>
                </a:lnTo>
                <a:lnTo>
                  <a:pt x="134377" y="55449"/>
                </a:lnTo>
                <a:lnTo>
                  <a:pt x="135029" y="52172"/>
                </a:lnTo>
                <a:lnTo>
                  <a:pt x="135464" y="49141"/>
                </a:lnTo>
                <a:lnTo>
                  <a:pt x="135754" y="46274"/>
                </a:lnTo>
                <a:lnTo>
                  <a:pt x="136220" y="39634"/>
                </a:lnTo>
                <a:lnTo>
                  <a:pt x="136311" y="33932"/>
                </a:lnTo>
                <a:lnTo>
                  <a:pt x="136332" y="38377"/>
                </a:lnTo>
                <a:lnTo>
                  <a:pt x="136333" y="41836"/>
                </a:lnTo>
                <a:lnTo>
                  <a:pt x="137180" y="44790"/>
                </a:lnTo>
                <a:lnTo>
                  <a:pt x="138592" y="48453"/>
                </a:lnTo>
                <a:lnTo>
                  <a:pt x="140379" y="52589"/>
                </a:lnTo>
                <a:lnTo>
                  <a:pt x="143264" y="56192"/>
                </a:lnTo>
                <a:lnTo>
                  <a:pt x="146881" y="59441"/>
                </a:lnTo>
                <a:lnTo>
                  <a:pt x="150985" y="62454"/>
                </a:lnTo>
                <a:lnTo>
                  <a:pt x="155415" y="66156"/>
                </a:lnTo>
                <a:lnTo>
                  <a:pt x="160061" y="70317"/>
                </a:lnTo>
                <a:lnTo>
                  <a:pt x="169740" y="79456"/>
                </a:lnTo>
                <a:lnTo>
                  <a:pt x="179686" y="89162"/>
                </a:lnTo>
                <a:lnTo>
                  <a:pt x="185555" y="94121"/>
                </a:lnTo>
                <a:lnTo>
                  <a:pt x="192008" y="99121"/>
                </a:lnTo>
                <a:lnTo>
                  <a:pt x="198850" y="104147"/>
                </a:lnTo>
                <a:lnTo>
                  <a:pt x="213225" y="114247"/>
                </a:lnTo>
                <a:lnTo>
                  <a:pt x="220615" y="119311"/>
                </a:lnTo>
                <a:lnTo>
                  <a:pt x="228081" y="123534"/>
                </a:lnTo>
                <a:lnTo>
                  <a:pt x="235599" y="127195"/>
                </a:lnTo>
                <a:lnTo>
                  <a:pt x="243151" y="130483"/>
                </a:lnTo>
                <a:lnTo>
                  <a:pt x="250725" y="134368"/>
                </a:lnTo>
                <a:lnTo>
                  <a:pt x="258315" y="138652"/>
                </a:lnTo>
                <a:lnTo>
                  <a:pt x="265914" y="143201"/>
                </a:lnTo>
                <a:lnTo>
                  <a:pt x="273521" y="147080"/>
                </a:lnTo>
                <a:lnTo>
                  <a:pt x="281132" y="150513"/>
                </a:lnTo>
                <a:lnTo>
                  <a:pt x="288746" y="153648"/>
                </a:lnTo>
                <a:lnTo>
                  <a:pt x="296362" y="156585"/>
                </a:lnTo>
                <a:lnTo>
                  <a:pt x="311598" y="162106"/>
                </a:lnTo>
                <a:lnTo>
                  <a:pt x="318370" y="163917"/>
                </a:lnTo>
                <a:lnTo>
                  <a:pt x="324578" y="165124"/>
                </a:lnTo>
                <a:lnTo>
                  <a:pt x="335145" y="166466"/>
                </a:lnTo>
                <a:lnTo>
                  <a:pt x="345853" y="167221"/>
                </a:lnTo>
                <a:lnTo>
                  <a:pt x="357314" y="1675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InkAnnotation99"/>
          <p:cNvSpPr/>
          <p:nvPr/>
        </p:nvSpPr>
        <p:spPr>
          <a:xfrm>
            <a:off x="2027160" y="4237200"/>
            <a:ext cx="14400" cy="212400"/>
          </a:xfrm>
          <a:custGeom>
            <a:avLst/>
            <a:gdLst>
              <a:gd name="textAreaLeft" fmla="*/ 0 w 14400"/>
              <a:gd name="textAreaRight" fmla="*/ 14760 w 144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15241" h="213361">
                <a:moveTo>
                  <a:pt x="0" y="0"/>
                </a:moveTo>
                <a:lnTo>
                  <a:pt x="0" y="107064"/>
                </a:lnTo>
                <a:lnTo>
                  <a:pt x="847" y="113709"/>
                </a:lnTo>
                <a:lnTo>
                  <a:pt x="2258" y="119833"/>
                </a:lnTo>
                <a:lnTo>
                  <a:pt x="4045" y="125608"/>
                </a:lnTo>
                <a:lnTo>
                  <a:pt x="5237" y="131999"/>
                </a:lnTo>
                <a:lnTo>
                  <a:pt x="6031" y="138799"/>
                </a:lnTo>
                <a:lnTo>
                  <a:pt x="6561" y="145873"/>
                </a:lnTo>
                <a:lnTo>
                  <a:pt x="6914" y="152281"/>
                </a:lnTo>
                <a:lnTo>
                  <a:pt x="7306" y="163918"/>
                </a:lnTo>
                <a:lnTo>
                  <a:pt x="7527" y="184035"/>
                </a:lnTo>
                <a:lnTo>
                  <a:pt x="8405" y="189576"/>
                </a:lnTo>
                <a:lnTo>
                  <a:pt x="9837" y="194117"/>
                </a:lnTo>
                <a:lnTo>
                  <a:pt x="11638" y="197991"/>
                </a:lnTo>
                <a:lnTo>
                  <a:pt x="12839" y="201421"/>
                </a:lnTo>
                <a:lnTo>
                  <a:pt x="13639" y="204554"/>
                </a:lnTo>
                <a:lnTo>
                  <a:pt x="15240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InkAnnotation100"/>
          <p:cNvSpPr/>
          <p:nvPr/>
        </p:nvSpPr>
        <p:spPr>
          <a:xfrm>
            <a:off x="1927080" y="4321080"/>
            <a:ext cx="214560" cy="22320"/>
          </a:xfrm>
          <a:custGeom>
            <a:avLst/>
            <a:gdLst>
              <a:gd name="textAreaLeft" fmla="*/ 0 w 214560"/>
              <a:gd name="textAreaRight" fmla="*/ 214920 w 2145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13361" h="22861">
                <a:moveTo>
                  <a:pt x="0" y="22860"/>
                </a:moveTo>
                <a:lnTo>
                  <a:pt x="6561" y="22860"/>
                </a:lnTo>
                <a:lnTo>
                  <a:pt x="6914" y="22014"/>
                </a:lnTo>
                <a:lnTo>
                  <a:pt x="7150" y="20602"/>
                </a:lnTo>
                <a:lnTo>
                  <a:pt x="7306" y="18815"/>
                </a:lnTo>
                <a:lnTo>
                  <a:pt x="9104" y="17623"/>
                </a:lnTo>
                <a:lnTo>
                  <a:pt x="11996" y="16829"/>
                </a:lnTo>
                <a:lnTo>
                  <a:pt x="15617" y="16299"/>
                </a:lnTo>
                <a:lnTo>
                  <a:pt x="21899" y="15711"/>
                </a:lnTo>
                <a:lnTo>
                  <a:pt x="24759" y="15554"/>
                </a:lnTo>
                <a:lnTo>
                  <a:pt x="34711" y="15379"/>
                </a:lnTo>
                <a:lnTo>
                  <a:pt x="152341" y="15240"/>
                </a:lnTo>
                <a:lnTo>
                  <a:pt x="159134" y="14393"/>
                </a:lnTo>
                <a:lnTo>
                  <a:pt x="165356" y="12982"/>
                </a:lnTo>
                <a:lnTo>
                  <a:pt x="177632" y="9157"/>
                </a:lnTo>
                <a:lnTo>
                  <a:pt x="191554" y="4634"/>
                </a:lnTo>
                <a:lnTo>
                  <a:pt x="197130" y="3090"/>
                </a:lnTo>
                <a:lnTo>
                  <a:pt x="201693" y="2059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InkAnnotation101"/>
          <p:cNvSpPr/>
          <p:nvPr/>
        </p:nvSpPr>
        <p:spPr>
          <a:xfrm>
            <a:off x="2239920" y="4221000"/>
            <a:ext cx="236520" cy="289080"/>
          </a:xfrm>
          <a:custGeom>
            <a:avLst/>
            <a:gdLst>
              <a:gd name="textAreaLeft" fmla="*/ 0 w 236520"/>
              <a:gd name="textAreaRight" fmla="*/ 236880 w 236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36046" h="289082">
                <a:moveTo>
                  <a:pt x="38097" y="0"/>
                </a:moveTo>
                <a:lnTo>
                  <a:pt x="38097" y="25505"/>
                </a:lnTo>
                <a:lnTo>
                  <a:pt x="35839" y="32784"/>
                </a:lnTo>
                <a:lnTo>
                  <a:pt x="32860" y="40818"/>
                </a:lnTo>
                <a:lnTo>
                  <a:pt x="31536" y="47210"/>
                </a:lnTo>
                <a:lnTo>
                  <a:pt x="28690" y="52873"/>
                </a:lnTo>
                <a:lnTo>
                  <a:pt x="24603" y="59059"/>
                </a:lnTo>
                <a:lnTo>
                  <a:pt x="19964" y="67453"/>
                </a:lnTo>
                <a:lnTo>
                  <a:pt x="15080" y="74571"/>
                </a:lnTo>
                <a:lnTo>
                  <a:pt x="12592" y="77653"/>
                </a:lnTo>
                <a:lnTo>
                  <a:pt x="9828" y="83337"/>
                </a:lnTo>
                <a:lnTo>
                  <a:pt x="9091" y="86038"/>
                </a:lnTo>
                <a:lnTo>
                  <a:pt x="7753" y="87839"/>
                </a:lnTo>
                <a:lnTo>
                  <a:pt x="6015" y="89039"/>
                </a:lnTo>
                <a:lnTo>
                  <a:pt x="4009" y="89840"/>
                </a:lnTo>
                <a:lnTo>
                  <a:pt x="2672" y="91220"/>
                </a:lnTo>
                <a:lnTo>
                  <a:pt x="1780" y="92986"/>
                </a:lnTo>
                <a:lnTo>
                  <a:pt x="0" y="99051"/>
                </a:lnTo>
                <a:lnTo>
                  <a:pt x="4043" y="95012"/>
                </a:lnTo>
                <a:lnTo>
                  <a:pt x="6928" y="93821"/>
                </a:lnTo>
                <a:lnTo>
                  <a:pt x="10545" y="93028"/>
                </a:lnTo>
                <a:lnTo>
                  <a:pt x="14649" y="92499"/>
                </a:lnTo>
                <a:lnTo>
                  <a:pt x="19078" y="90452"/>
                </a:lnTo>
                <a:lnTo>
                  <a:pt x="23724" y="87395"/>
                </a:lnTo>
                <a:lnTo>
                  <a:pt x="28516" y="83663"/>
                </a:lnTo>
                <a:lnTo>
                  <a:pt x="34249" y="81176"/>
                </a:lnTo>
                <a:lnTo>
                  <a:pt x="40612" y="79517"/>
                </a:lnTo>
                <a:lnTo>
                  <a:pt x="47394" y="78411"/>
                </a:lnTo>
                <a:lnTo>
                  <a:pt x="55301" y="76827"/>
                </a:lnTo>
                <a:lnTo>
                  <a:pt x="73119" y="72810"/>
                </a:lnTo>
                <a:lnTo>
                  <a:pt x="81765" y="71400"/>
                </a:lnTo>
                <a:lnTo>
                  <a:pt x="90069" y="70460"/>
                </a:lnTo>
                <a:lnTo>
                  <a:pt x="98145" y="69834"/>
                </a:lnTo>
                <a:lnTo>
                  <a:pt x="106069" y="69416"/>
                </a:lnTo>
                <a:lnTo>
                  <a:pt x="121647" y="68952"/>
                </a:lnTo>
                <a:lnTo>
                  <a:pt x="129357" y="69674"/>
                </a:lnTo>
                <a:lnTo>
                  <a:pt x="137037" y="71003"/>
                </a:lnTo>
                <a:lnTo>
                  <a:pt x="144697" y="72736"/>
                </a:lnTo>
                <a:lnTo>
                  <a:pt x="152344" y="73890"/>
                </a:lnTo>
                <a:lnTo>
                  <a:pt x="159982" y="74660"/>
                </a:lnTo>
                <a:lnTo>
                  <a:pt x="167614" y="75174"/>
                </a:lnTo>
                <a:lnTo>
                  <a:pt x="174395" y="76362"/>
                </a:lnTo>
                <a:lnTo>
                  <a:pt x="180609" y="78002"/>
                </a:lnTo>
                <a:lnTo>
                  <a:pt x="186445" y="79941"/>
                </a:lnTo>
                <a:lnTo>
                  <a:pt x="192029" y="82927"/>
                </a:lnTo>
                <a:lnTo>
                  <a:pt x="197445" y="86612"/>
                </a:lnTo>
                <a:lnTo>
                  <a:pt x="202749" y="90761"/>
                </a:lnTo>
                <a:lnTo>
                  <a:pt x="207979" y="95221"/>
                </a:lnTo>
                <a:lnTo>
                  <a:pt x="213158" y="99888"/>
                </a:lnTo>
                <a:lnTo>
                  <a:pt x="218305" y="104691"/>
                </a:lnTo>
                <a:lnTo>
                  <a:pt x="222582" y="109588"/>
                </a:lnTo>
                <a:lnTo>
                  <a:pt x="226280" y="114545"/>
                </a:lnTo>
                <a:lnTo>
                  <a:pt x="229593" y="119543"/>
                </a:lnTo>
                <a:lnTo>
                  <a:pt x="231801" y="124569"/>
                </a:lnTo>
                <a:lnTo>
                  <a:pt x="233273" y="129613"/>
                </a:lnTo>
                <a:lnTo>
                  <a:pt x="234254" y="134668"/>
                </a:lnTo>
                <a:lnTo>
                  <a:pt x="234909" y="140579"/>
                </a:lnTo>
                <a:lnTo>
                  <a:pt x="235345" y="147059"/>
                </a:lnTo>
                <a:lnTo>
                  <a:pt x="235636" y="153920"/>
                </a:lnTo>
                <a:lnTo>
                  <a:pt x="235959" y="168315"/>
                </a:lnTo>
                <a:lnTo>
                  <a:pt x="236045" y="175710"/>
                </a:lnTo>
                <a:lnTo>
                  <a:pt x="235256" y="183180"/>
                </a:lnTo>
                <a:lnTo>
                  <a:pt x="233883" y="190700"/>
                </a:lnTo>
                <a:lnTo>
                  <a:pt x="232121" y="198254"/>
                </a:lnTo>
                <a:lnTo>
                  <a:pt x="229253" y="204982"/>
                </a:lnTo>
                <a:lnTo>
                  <a:pt x="225648" y="211161"/>
                </a:lnTo>
                <a:lnTo>
                  <a:pt x="221551" y="216975"/>
                </a:lnTo>
                <a:lnTo>
                  <a:pt x="217973" y="223390"/>
                </a:lnTo>
                <a:lnTo>
                  <a:pt x="214741" y="230206"/>
                </a:lnTo>
                <a:lnTo>
                  <a:pt x="211740" y="237291"/>
                </a:lnTo>
                <a:lnTo>
                  <a:pt x="208046" y="242861"/>
                </a:lnTo>
                <a:lnTo>
                  <a:pt x="203890" y="247421"/>
                </a:lnTo>
                <a:lnTo>
                  <a:pt x="199425" y="251307"/>
                </a:lnTo>
                <a:lnTo>
                  <a:pt x="194756" y="255592"/>
                </a:lnTo>
                <a:lnTo>
                  <a:pt x="185052" y="264867"/>
                </a:lnTo>
                <a:lnTo>
                  <a:pt x="180094" y="268865"/>
                </a:lnTo>
                <a:lnTo>
                  <a:pt x="175095" y="272377"/>
                </a:lnTo>
                <a:lnTo>
                  <a:pt x="170069" y="275565"/>
                </a:lnTo>
                <a:lnTo>
                  <a:pt x="165025" y="278536"/>
                </a:lnTo>
                <a:lnTo>
                  <a:pt x="159969" y="281365"/>
                </a:lnTo>
                <a:lnTo>
                  <a:pt x="154905" y="284096"/>
                </a:lnTo>
                <a:lnTo>
                  <a:pt x="149836" y="285918"/>
                </a:lnTo>
                <a:lnTo>
                  <a:pt x="144763" y="287132"/>
                </a:lnTo>
                <a:lnTo>
                  <a:pt x="139688" y="287941"/>
                </a:lnTo>
                <a:lnTo>
                  <a:pt x="134611" y="288481"/>
                </a:lnTo>
                <a:lnTo>
                  <a:pt x="129533" y="288841"/>
                </a:lnTo>
                <a:lnTo>
                  <a:pt x="124454" y="289081"/>
                </a:lnTo>
                <a:lnTo>
                  <a:pt x="119375" y="288394"/>
                </a:lnTo>
                <a:lnTo>
                  <a:pt x="114296" y="287089"/>
                </a:lnTo>
                <a:lnTo>
                  <a:pt x="109217" y="285373"/>
                </a:lnTo>
                <a:lnTo>
                  <a:pt x="104983" y="282536"/>
                </a:lnTo>
                <a:lnTo>
                  <a:pt x="98022" y="274867"/>
                </a:lnTo>
                <a:lnTo>
                  <a:pt x="92106" y="268072"/>
                </a:lnTo>
                <a:lnTo>
                  <a:pt x="83817" y="2590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InkAnnotation102"/>
          <p:cNvSpPr/>
          <p:nvPr/>
        </p:nvSpPr>
        <p:spPr>
          <a:xfrm>
            <a:off x="2232000" y="4183200"/>
            <a:ext cx="252360" cy="23760"/>
          </a:xfrm>
          <a:custGeom>
            <a:avLst/>
            <a:gdLst>
              <a:gd name="textAreaLeft" fmla="*/ 0 w 252360"/>
              <a:gd name="textAreaRight" fmla="*/ 252720 w 2523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51461" h="22861">
                <a:moveTo>
                  <a:pt x="0" y="22860"/>
                </a:moveTo>
                <a:lnTo>
                  <a:pt x="0" y="16299"/>
                </a:lnTo>
                <a:lnTo>
                  <a:pt x="847" y="15946"/>
                </a:lnTo>
                <a:lnTo>
                  <a:pt x="4045" y="15554"/>
                </a:lnTo>
                <a:lnTo>
                  <a:pt x="6930" y="14603"/>
                </a:lnTo>
                <a:lnTo>
                  <a:pt x="10547" y="13122"/>
                </a:lnTo>
                <a:lnTo>
                  <a:pt x="14651" y="11288"/>
                </a:lnTo>
                <a:lnTo>
                  <a:pt x="19081" y="10065"/>
                </a:lnTo>
                <a:lnTo>
                  <a:pt x="23727" y="9250"/>
                </a:lnTo>
                <a:lnTo>
                  <a:pt x="28518" y="8707"/>
                </a:lnTo>
                <a:lnTo>
                  <a:pt x="34252" y="8345"/>
                </a:lnTo>
                <a:lnTo>
                  <a:pt x="40615" y="8103"/>
                </a:lnTo>
                <a:lnTo>
                  <a:pt x="55304" y="7834"/>
                </a:lnTo>
                <a:lnTo>
                  <a:pt x="98148" y="7648"/>
                </a:lnTo>
                <a:lnTo>
                  <a:pt x="106919" y="6792"/>
                </a:lnTo>
                <a:lnTo>
                  <a:pt x="116152" y="5374"/>
                </a:lnTo>
                <a:lnTo>
                  <a:pt x="125695" y="3583"/>
                </a:lnTo>
                <a:lnTo>
                  <a:pt x="134597" y="2389"/>
                </a:lnTo>
                <a:lnTo>
                  <a:pt x="143072" y="1592"/>
                </a:lnTo>
                <a:lnTo>
                  <a:pt x="151261" y="1062"/>
                </a:lnTo>
                <a:lnTo>
                  <a:pt x="159261" y="708"/>
                </a:lnTo>
                <a:lnTo>
                  <a:pt x="174923" y="314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InkAnnotation103"/>
          <p:cNvSpPr/>
          <p:nvPr/>
        </p:nvSpPr>
        <p:spPr>
          <a:xfrm>
            <a:off x="5105520" y="4335480"/>
            <a:ext cx="21960" cy="198360"/>
          </a:xfrm>
          <a:custGeom>
            <a:avLst/>
            <a:gdLst>
              <a:gd name="textAreaLeft" fmla="*/ 0 w 21960"/>
              <a:gd name="textAreaRight" fmla="*/ 22320 w 219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2850" h="198121">
                <a:moveTo>
                  <a:pt x="22849" y="0"/>
                </a:moveTo>
                <a:lnTo>
                  <a:pt x="18804" y="4045"/>
                </a:lnTo>
                <a:lnTo>
                  <a:pt x="17612" y="6930"/>
                </a:lnTo>
                <a:lnTo>
                  <a:pt x="16818" y="10546"/>
                </a:lnTo>
                <a:lnTo>
                  <a:pt x="16288" y="14651"/>
                </a:lnTo>
                <a:lnTo>
                  <a:pt x="15935" y="18234"/>
                </a:lnTo>
                <a:lnTo>
                  <a:pt x="15700" y="21470"/>
                </a:lnTo>
                <a:lnTo>
                  <a:pt x="15543" y="24473"/>
                </a:lnTo>
                <a:lnTo>
                  <a:pt x="14592" y="28168"/>
                </a:lnTo>
                <a:lnTo>
                  <a:pt x="13111" y="32326"/>
                </a:lnTo>
                <a:lnTo>
                  <a:pt x="11277" y="36791"/>
                </a:lnTo>
                <a:lnTo>
                  <a:pt x="9208" y="42307"/>
                </a:lnTo>
                <a:lnTo>
                  <a:pt x="4651" y="55210"/>
                </a:lnTo>
                <a:lnTo>
                  <a:pt x="3097" y="62207"/>
                </a:lnTo>
                <a:lnTo>
                  <a:pt x="2061" y="69411"/>
                </a:lnTo>
                <a:lnTo>
                  <a:pt x="1370" y="76754"/>
                </a:lnTo>
                <a:lnTo>
                  <a:pt x="910" y="84189"/>
                </a:lnTo>
                <a:lnTo>
                  <a:pt x="398" y="99224"/>
                </a:lnTo>
                <a:lnTo>
                  <a:pt x="43" y="134924"/>
                </a:lnTo>
                <a:lnTo>
                  <a:pt x="0" y="157039"/>
                </a:lnTo>
                <a:lnTo>
                  <a:pt x="843" y="163112"/>
                </a:lnTo>
                <a:lnTo>
                  <a:pt x="2252" y="169701"/>
                </a:lnTo>
                <a:lnTo>
                  <a:pt x="4038" y="176634"/>
                </a:lnTo>
                <a:lnTo>
                  <a:pt x="5228" y="182103"/>
                </a:lnTo>
                <a:lnTo>
                  <a:pt x="6022" y="186595"/>
                </a:lnTo>
                <a:lnTo>
                  <a:pt x="7609" y="198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InkAnnotation104"/>
          <p:cNvSpPr/>
          <p:nvPr/>
        </p:nvSpPr>
        <p:spPr>
          <a:xfrm>
            <a:off x="4861080" y="4602240"/>
            <a:ext cx="434880" cy="52200"/>
          </a:xfrm>
          <a:custGeom>
            <a:avLst/>
            <a:gdLst>
              <a:gd name="textAreaLeft" fmla="*/ 0 w 434880"/>
              <a:gd name="textAreaRight" fmla="*/ 435240 w 4348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4341" h="52189">
                <a:moveTo>
                  <a:pt x="0" y="38100"/>
                </a:moveTo>
                <a:lnTo>
                  <a:pt x="4045" y="38100"/>
                </a:lnTo>
                <a:lnTo>
                  <a:pt x="6083" y="38946"/>
                </a:lnTo>
                <a:lnTo>
                  <a:pt x="8288" y="40358"/>
                </a:lnTo>
                <a:lnTo>
                  <a:pt x="10606" y="42145"/>
                </a:lnTo>
                <a:lnTo>
                  <a:pt x="13844" y="43337"/>
                </a:lnTo>
                <a:lnTo>
                  <a:pt x="21957" y="44661"/>
                </a:lnTo>
                <a:lnTo>
                  <a:pt x="27338" y="45861"/>
                </a:lnTo>
                <a:lnTo>
                  <a:pt x="33466" y="47507"/>
                </a:lnTo>
                <a:lnTo>
                  <a:pt x="40090" y="49452"/>
                </a:lnTo>
                <a:lnTo>
                  <a:pt x="47047" y="50748"/>
                </a:lnTo>
                <a:lnTo>
                  <a:pt x="54224" y="51612"/>
                </a:lnTo>
                <a:lnTo>
                  <a:pt x="61550" y="52188"/>
                </a:lnTo>
                <a:lnTo>
                  <a:pt x="69820" y="51725"/>
                </a:lnTo>
                <a:lnTo>
                  <a:pt x="78720" y="50570"/>
                </a:lnTo>
                <a:lnTo>
                  <a:pt x="88040" y="48954"/>
                </a:lnTo>
                <a:lnTo>
                  <a:pt x="98486" y="47876"/>
                </a:lnTo>
                <a:lnTo>
                  <a:pt x="109684" y="47157"/>
                </a:lnTo>
                <a:lnTo>
                  <a:pt x="121382" y="46678"/>
                </a:lnTo>
                <a:lnTo>
                  <a:pt x="133415" y="45512"/>
                </a:lnTo>
                <a:lnTo>
                  <a:pt x="145670" y="43888"/>
                </a:lnTo>
                <a:lnTo>
                  <a:pt x="158073" y="41959"/>
                </a:lnTo>
                <a:lnTo>
                  <a:pt x="169728" y="40673"/>
                </a:lnTo>
                <a:lnTo>
                  <a:pt x="180886" y="39815"/>
                </a:lnTo>
                <a:lnTo>
                  <a:pt x="191711" y="39244"/>
                </a:lnTo>
                <a:lnTo>
                  <a:pt x="203161" y="38016"/>
                </a:lnTo>
                <a:lnTo>
                  <a:pt x="215027" y="36351"/>
                </a:lnTo>
                <a:lnTo>
                  <a:pt x="227171" y="34394"/>
                </a:lnTo>
                <a:lnTo>
                  <a:pt x="239501" y="33089"/>
                </a:lnTo>
                <a:lnTo>
                  <a:pt x="251954" y="32220"/>
                </a:lnTo>
                <a:lnTo>
                  <a:pt x="264490" y="31639"/>
                </a:lnTo>
                <a:lnTo>
                  <a:pt x="276233" y="30407"/>
                </a:lnTo>
                <a:lnTo>
                  <a:pt x="287449" y="28737"/>
                </a:lnTo>
                <a:lnTo>
                  <a:pt x="298313" y="26779"/>
                </a:lnTo>
                <a:lnTo>
                  <a:pt x="308942" y="25472"/>
                </a:lnTo>
                <a:lnTo>
                  <a:pt x="319414" y="24602"/>
                </a:lnTo>
                <a:lnTo>
                  <a:pt x="329783" y="24021"/>
                </a:lnTo>
                <a:lnTo>
                  <a:pt x="339235" y="22788"/>
                </a:lnTo>
                <a:lnTo>
                  <a:pt x="348077" y="21118"/>
                </a:lnTo>
                <a:lnTo>
                  <a:pt x="356511" y="19159"/>
                </a:lnTo>
                <a:lnTo>
                  <a:pt x="364674" y="17852"/>
                </a:lnTo>
                <a:lnTo>
                  <a:pt x="372656" y="16982"/>
                </a:lnTo>
                <a:lnTo>
                  <a:pt x="380518" y="16401"/>
                </a:lnTo>
                <a:lnTo>
                  <a:pt x="387452" y="15168"/>
                </a:lnTo>
                <a:lnTo>
                  <a:pt x="393768" y="13498"/>
                </a:lnTo>
                <a:lnTo>
                  <a:pt x="399672" y="11539"/>
                </a:lnTo>
                <a:lnTo>
                  <a:pt x="405301" y="10233"/>
                </a:lnTo>
                <a:lnTo>
                  <a:pt x="416072" y="8782"/>
                </a:lnTo>
                <a:lnTo>
                  <a:pt x="420468" y="7548"/>
                </a:lnTo>
                <a:lnTo>
                  <a:pt x="424245" y="5878"/>
                </a:lnTo>
                <a:lnTo>
                  <a:pt x="4343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InkAnnotation105"/>
          <p:cNvSpPr/>
          <p:nvPr/>
        </p:nvSpPr>
        <p:spPr>
          <a:xfrm>
            <a:off x="5045040" y="4694400"/>
            <a:ext cx="158760" cy="128520"/>
          </a:xfrm>
          <a:custGeom>
            <a:avLst/>
            <a:gdLst>
              <a:gd name="textAreaLeft" fmla="*/ 0 w 158760"/>
              <a:gd name="textAreaRight" fmla="*/ 159120 w 1587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9221" h="129026">
                <a:moveTo>
                  <a:pt x="151693" y="45367"/>
                </a:moveTo>
                <a:lnTo>
                  <a:pt x="158254" y="38806"/>
                </a:lnTo>
                <a:lnTo>
                  <a:pt x="158842" y="35960"/>
                </a:lnTo>
                <a:lnTo>
                  <a:pt x="158999" y="34016"/>
                </a:lnTo>
                <a:lnTo>
                  <a:pt x="159104" y="31873"/>
                </a:lnTo>
                <a:lnTo>
                  <a:pt x="159220" y="27234"/>
                </a:lnTo>
                <a:lnTo>
                  <a:pt x="158404" y="24811"/>
                </a:lnTo>
                <a:lnTo>
                  <a:pt x="157014" y="22350"/>
                </a:lnTo>
                <a:lnTo>
                  <a:pt x="155240" y="19862"/>
                </a:lnTo>
                <a:lnTo>
                  <a:pt x="154058" y="17357"/>
                </a:lnTo>
                <a:lnTo>
                  <a:pt x="153269" y="14841"/>
                </a:lnTo>
                <a:lnTo>
                  <a:pt x="152744" y="12316"/>
                </a:lnTo>
                <a:lnTo>
                  <a:pt x="151547" y="10633"/>
                </a:lnTo>
                <a:lnTo>
                  <a:pt x="149902" y="9511"/>
                </a:lnTo>
                <a:lnTo>
                  <a:pt x="147959" y="8763"/>
                </a:lnTo>
                <a:lnTo>
                  <a:pt x="143542" y="5674"/>
                </a:lnTo>
                <a:lnTo>
                  <a:pt x="141179" y="3665"/>
                </a:lnTo>
                <a:lnTo>
                  <a:pt x="137910" y="2326"/>
                </a:lnTo>
                <a:lnTo>
                  <a:pt x="134038" y="1433"/>
                </a:lnTo>
                <a:lnTo>
                  <a:pt x="129763" y="838"/>
                </a:lnTo>
                <a:lnTo>
                  <a:pt x="125220" y="441"/>
                </a:lnTo>
                <a:lnTo>
                  <a:pt x="120497" y="177"/>
                </a:lnTo>
                <a:lnTo>
                  <a:pt x="115657" y="0"/>
                </a:lnTo>
                <a:lnTo>
                  <a:pt x="110735" y="729"/>
                </a:lnTo>
                <a:lnTo>
                  <a:pt x="105761" y="2062"/>
                </a:lnTo>
                <a:lnTo>
                  <a:pt x="100752" y="3797"/>
                </a:lnTo>
                <a:lnTo>
                  <a:pt x="95719" y="5800"/>
                </a:lnTo>
                <a:lnTo>
                  <a:pt x="90671" y="7983"/>
                </a:lnTo>
                <a:lnTo>
                  <a:pt x="85611" y="10284"/>
                </a:lnTo>
                <a:lnTo>
                  <a:pt x="79698" y="12665"/>
                </a:lnTo>
                <a:lnTo>
                  <a:pt x="66356" y="17568"/>
                </a:lnTo>
                <a:lnTo>
                  <a:pt x="44563" y="25089"/>
                </a:lnTo>
                <a:lnTo>
                  <a:pt x="37094" y="28462"/>
                </a:lnTo>
                <a:lnTo>
                  <a:pt x="29574" y="32403"/>
                </a:lnTo>
                <a:lnTo>
                  <a:pt x="22020" y="36724"/>
                </a:lnTo>
                <a:lnTo>
                  <a:pt x="16137" y="41299"/>
                </a:lnTo>
                <a:lnTo>
                  <a:pt x="11370" y="46042"/>
                </a:lnTo>
                <a:lnTo>
                  <a:pt x="7344" y="50897"/>
                </a:lnTo>
                <a:lnTo>
                  <a:pt x="4661" y="55827"/>
                </a:lnTo>
                <a:lnTo>
                  <a:pt x="2871" y="60807"/>
                </a:lnTo>
                <a:lnTo>
                  <a:pt x="1679" y="65820"/>
                </a:lnTo>
                <a:lnTo>
                  <a:pt x="883" y="70009"/>
                </a:lnTo>
                <a:lnTo>
                  <a:pt x="353" y="73649"/>
                </a:lnTo>
                <a:lnTo>
                  <a:pt x="0" y="76921"/>
                </a:lnTo>
                <a:lnTo>
                  <a:pt x="611" y="80796"/>
                </a:lnTo>
                <a:lnTo>
                  <a:pt x="1865" y="85074"/>
                </a:lnTo>
                <a:lnTo>
                  <a:pt x="3548" y="89618"/>
                </a:lnTo>
                <a:lnTo>
                  <a:pt x="6363" y="93494"/>
                </a:lnTo>
                <a:lnTo>
                  <a:pt x="9933" y="96925"/>
                </a:lnTo>
                <a:lnTo>
                  <a:pt x="14007" y="100059"/>
                </a:lnTo>
                <a:lnTo>
                  <a:pt x="18415" y="103841"/>
                </a:lnTo>
                <a:lnTo>
                  <a:pt x="23048" y="108057"/>
                </a:lnTo>
                <a:lnTo>
                  <a:pt x="27830" y="112560"/>
                </a:lnTo>
                <a:lnTo>
                  <a:pt x="33558" y="116409"/>
                </a:lnTo>
                <a:lnTo>
                  <a:pt x="39916" y="119822"/>
                </a:lnTo>
                <a:lnTo>
                  <a:pt x="46695" y="122943"/>
                </a:lnTo>
                <a:lnTo>
                  <a:pt x="53755" y="125025"/>
                </a:lnTo>
                <a:lnTo>
                  <a:pt x="61001" y="126412"/>
                </a:lnTo>
                <a:lnTo>
                  <a:pt x="68371" y="127337"/>
                </a:lnTo>
                <a:lnTo>
                  <a:pt x="74978" y="127954"/>
                </a:lnTo>
                <a:lnTo>
                  <a:pt x="81077" y="128365"/>
                </a:lnTo>
                <a:lnTo>
                  <a:pt x="86835" y="128639"/>
                </a:lnTo>
                <a:lnTo>
                  <a:pt x="100008" y="128943"/>
                </a:lnTo>
                <a:lnTo>
                  <a:pt x="107076" y="129025"/>
                </a:lnTo>
                <a:lnTo>
                  <a:pt x="112635" y="128232"/>
                </a:lnTo>
                <a:lnTo>
                  <a:pt x="117188" y="126857"/>
                </a:lnTo>
                <a:lnTo>
                  <a:pt x="121069" y="125094"/>
                </a:lnTo>
                <a:lnTo>
                  <a:pt x="124504" y="122225"/>
                </a:lnTo>
                <a:lnTo>
                  <a:pt x="127640" y="118619"/>
                </a:lnTo>
                <a:lnTo>
                  <a:pt x="130578" y="114522"/>
                </a:lnTo>
                <a:lnTo>
                  <a:pt x="134229" y="110097"/>
                </a:lnTo>
                <a:lnTo>
                  <a:pt x="138358" y="105454"/>
                </a:lnTo>
                <a:lnTo>
                  <a:pt x="142803" y="100665"/>
                </a:lnTo>
                <a:lnTo>
                  <a:pt x="145766" y="96625"/>
                </a:lnTo>
                <a:lnTo>
                  <a:pt x="147741" y="93086"/>
                </a:lnTo>
                <a:lnTo>
                  <a:pt x="149058" y="89880"/>
                </a:lnTo>
                <a:lnTo>
                  <a:pt x="149937" y="86049"/>
                </a:lnTo>
                <a:lnTo>
                  <a:pt x="150522" y="81802"/>
                </a:lnTo>
                <a:lnTo>
                  <a:pt x="150913" y="77277"/>
                </a:lnTo>
                <a:lnTo>
                  <a:pt x="151173" y="73413"/>
                </a:lnTo>
                <a:lnTo>
                  <a:pt x="151461" y="66864"/>
                </a:lnTo>
                <a:lnTo>
                  <a:pt x="151624" y="54370"/>
                </a:lnTo>
                <a:lnTo>
                  <a:pt x="149954" y="50523"/>
                </a:lnTo>
                <a:lnTo>
                  <a:pt x="147147" y="47111"/>
                </a:lnTo>
                <a:lnTo>
                  <a:pt x="143582" y="43989"/>
                </a:lnTo>
                <a:lnTo>
                  <a:pt x="141206" y="41062"/>
                </a:lnTo>
                <a:lnTo>
                  <a:pt x="139622" y="38264"/>
                </a:lnTo>
                <a:lnTo>
                  <a:pt x="138565" y="35551"/>
                </a:lnTo>
                <a:lnTo>
                  <a:pt x="137015" y="33743"/>
                </a:lnTo>
                <a:lnTo>
                  <a:pt x="135134" y="32538"/>
                </a:lnTo>
                <a:lnTo>
                  <a:pt x="133033" y="31734"/>
                </a:lnTo>
                <a:lnTo>
                  <a:pt x="128442" y="28584"/>
                </a:lnTo>
                <a:lnTo>
                  <a:pt x="121213" y="225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InkAnnotation106"/>
          <p:cNvSpPr/>
          <p:nvPr/>
        </p:nvSpPr>
        <p:spPr>
          <a:xfrm>
            <a:off x="5076720" y="4816440"/>
            <a:ext cx="149400" cy="136440"/>
          </a:xfrm>
          <a:custGeom>
            <a:avLst/>
            <a:gdLst>
              <a:gd name="textAreaLeft" fmla="*/ 0 w 149400"/>
              <a:gd name="textAreaRight" fmla="*/ 149760 w 1494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48803" h="136992">
                <a:moveTo>
                  <a:pt x="104731" y="7620"/>
                </a:moveTo>
                <a:lnTo>
                  <a:pt x="104731" y="93"/>
                </a:lnTo>
                <a:lnTo>
                  <a:pt x="100686" y="4073"/>
                </a:lnTo>
                <a:lnTo>
                  <a:pt x="98170" y="6569"/>
                </a:lnTo>
                <a:lnTo>
                  <a:pt x="95324" y="7153"/>
                </a:lnTo>
                <a:lnTo>
                  <a:pt x="93380" y="7309"/>
                </a:lnTo>
                <a:lnTo>
                  <a:pt x="91236" y="8259"/>
                </a:lnTo>
                <a:lnTo>
                  <a:pt x="83329" y="13642"/>
                </a:lnTo>
                <a:lnTo>
                  <a:pt x="79456" y="15868"/>
                </a:lnTo>
                <a:lnTo>
                  <a:pt x="75181" y="18199"/>
                </a:lnTo>
                <a:lnTo>
                  <a:pt x="70637" y="21446"/>
                </a:lnTo>
                <a:lnTo>
                  <a:pt x="65915" y="25304"/>
                </a:lnTo>
                <a:lnTo>
                  <a:pt x="61074" y="29569"/>
                </a:lnTo>
                <a:lnTo>
                  <a:pt x="51179" y="38824"/>
                </a:lnTo>
                <a:lnTo>
                  <a:pt x="46169" y="43663"/>
                </a:lnTo>
                <a:lnTo>
                  <a:pt x="41136" y="47735"/>
                </a:lnTo>
                <a:lnTo>
                  <a:pt x="36088" y="51297"/>
                </a:lnTo>
                <a:lnTo>
                  <a:pt x="31028" y="54518"/>
                </a:lnTo>
                <a:lnTo>
                  <a:pt x="25963" y="58358"/>
                </a:lnTo>
                <a:lnTo>
                  <a:pt x="20891" y="62613"/>
                </a:lnTo>
                <a:lnTo>
                  <a:pt x="15818" y="67141"/>
                </a:lnTo>
                <a:lnTo>
                  <a:pt x="11588" y="71855"/>
                </a:lnTo>
                <a:lnTo>
                  <a:pt x="7923" y="76689"/>
                </a:lnTo>
                <a:lnTo>
                  <a:pt x="4632" y="81606"/>
                </a:lnTo>
                <a:lnTo>
                  <a:pt x="2438" y="85731"/>
                </a:lnTo>
                <a:lnTo>
                  <a:pt x="976" y="89327"/>
                </a:lnTo>
                <a:lnTo>
                  <a:pt x="0" y="92572"/>
                </a:lnTo>
                <a:lnTo>
                  <a:pt x="197" y="96428"/>
                </a:lnTo>
                <a:lnTo>
                  <a:pt x="1175" y="100692"/>
                </a:lnTo>
                <a:lnTo>
                  <a:pt x="2673" y="105228"/>
                </a:lnTo>
                <a:lnTo>
                  <a:pt x="3673" y="109945"/>
                </a:lnTo>
                <a:lnTo>
                  <a:pt x="4338" y="114783"/>
                </a:lnTo>
                <a:lnTo>
                  <a:pt x="4782" y="119702"/>
                </a:lnTo>
                <a:lnTo>
                  <a:pt x="6771" y="123828"/>
                </a:lnTo>
                <a:lnTo>
                  <a:pt x="9791" y="127426"/>
                </a:lnTo>
                <a:lnTo>
                  <a:pt x="13498" y="130670"/>
                </a:lnTo>
                <a:lnTo>
                  <a:pt x="17662" y="132834"/>
                </a:lnTo>
                <a:lnTo>
                  <a:pt x="22131" y="134276"/>
                </a:lnTo>
                <a:lnTo>
                  <a:pt x="26805" y="135237"/>
                </a:lnTo>
                <a:lnTo>
                  <a:pt x="32460" y="135879"/>
                </a:lnTo>
                <a:lnTo>
                  <a:pt x="38769" y="136306"/>
                </a:lnTo>
                <a:lnTo>
                  <a:pt x="45517" y="136590"/>
                </a:lnTo>
                <a:lnTo>
                  <a:pt x="59786" y="136907"/>
                </a:lnTo>
                <a:lnTo>
                  <a:pt x="67148" y="136991"/>
                </a:lnTo>
                <a:lnTo>
                  <a:pt x="74596" y="136201"/>
                </a:lnTo>
                <a:lnTo>
                  <a:pt x="82100" y="134828"/>
                </a:lnTo>
                <a:lnTo>
                  <a:pt x="89643" y="133065"/>
                </a:lnTo>
                <a:lnTo>
                  <a:pt x="96366" y="131043"/>
                </a:lnTo>
                <a:lnTo>
                  <a:pt x="102541" y="128849"/>
                </a:lnTo>
                <a:lnTo>
                  <a:pt x="108351" y="126540"/>
                </a:lnTo>
                <a:lnTo>
                  <a:pt x="113918" y="123306"/>
                </a:lnTo>
                <a:lnTo>
                  <a:pt x="119322" y="119458"/>
                </a:lnTo>
                <a:lnTo>
                  <a:pt x="124618" y="115199"/>
                </a:lnTo>
                <a:lnTo>
                  <a:pt x="128996" y="110665"/>
                </a:lnTo>
                <a:lnTo>
                  <a:pt x="132760" y="105950"/>
                </a:lnTo>
                <a:lnTo>
                  <a:pt x="136118" y="101113"/>
                </a:lnTo>
                <a:lnTo>
                  <a:pt x="139202" y="96195"/>
                </a:lnTo>
                <a:lnTo>
                  <a:pt x="142104" y="91224"/>
                </a:lnTo>
                <a:lnTo>
                  <a:pt x="144886" y="86216"/>
                </a:lnTo>
                <a:lnTo>
                  <a:pt x="146741" y="81184"/>
                </a:lnTo>
                <a:lnTo>
                  <a:pt x="147978" y="76136"/>
                </a:lnTo>
                <a:lnTo>
                  <a:pt x="148802" y="71077"/>
                </a:lnTo>
                <a:lnTo>
                  <a:pt x="148505" y="66011"/>
                </a:lnTo>
                <a:lnTo>
                  <a:pt x="147460" y="60941"/>
                </a:lnTo>
                <a:lnTo>
                  <a:pt x="145917" y="55867"/>
                </a:lnTo>
                <a:lnTo>
                  <a:pt x="144042" y="50791"/>
                </a:lnTo>
                <a:lnTo>
                  <a:pt x="141944" y="45714"/>
                </a:lnTo>
                <a:lnTo>
                  <a:pt x="139700" y="40636"/>
                </a:lnTo>
                <a:lnTo>
                  <a:pt x="137357" y="36405"/>
                </a:lnTo>
                <a:lnTo>
                  <a:pt x="134948" y="32736"/>
                </a:lnTo>
                <a:lnTo>
                  <a:pt x="132495" y="29444"/>
                </a:lnTo>
                <a:lnTo>
                  <a:pt x="129167" y="25556"/>
                </a:lnTo>
                <a:lnTo>
                  <a:pt x="125255" y="21271"/>
                </a:lnTo>
                <a:lnTo>
                  <a:pt x="120954" y="16720"/>
                </a:lnTo>
                <a:lnTo>
                  <a:pt x="116392" y="12840"/>
                </a:lnTo>
                <a:lnTo>
                  <a:pt x="111659" y="9407"/>
                </a:lnTo>
                <a:lnTo>
                  <a:pt x="9711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InkAnnotation107"/>
          <p:cNvSpPr/>
          <p:nvPr/>
        </p:nvSpPr>
        <p:spPr>
          <a:xfrm>
            <a:off x="5380200" y="4503600"/>
            <a:ext cx="296640" cy="144720"/>
          </a:xfrm>
          <a:custGeom>
            <a:avLst/>
            <a:gdLst>
              <a:gd name="textAreaLeft" fmla="*/ 0 w 296640"/>
              <a:gd name="textAreaRight" fmla="*/ 297000 w 296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97177" h="144781">
                <a:moveTo>
                  <a:pt x="38096" y="0"/>
                </a:moveTo>
                <a:lnTo>
                  <a:pt x="38096" y="22178"/>
                </a:lnTo>
                <a:lnTo>
                  <a:pt x="37250" y="25792"/>
                </a:lnTo>
                <a:lnTo>
                  <a:pt x="35838" y="29048"/>
                </a:lnTo>
                <a:lnTo>
                  <a:pt x="34051" y="32066"/>
                </a:lnTo>
                <a:lnTo>
                  <a:pt x="32860" y="35770"/>
                </a:lnTo>
                <a:lnTo>
                  <a:pt x="32065" y="39934"/>
                </a:lnTo>
                <a:lnTo>
                  <a:pt x="31535" y="44402"/>
                </a:lnTo>
                <a:lnTo>
                  <a:pt x="30336" y="49075"/>
                </a:lnTo>
                <a:lnTo>
                  <a:pt x="28689" y="53883"/>
                </a:lnTo>
                <a:lnTo>
                  <a:pt x="26745" y="58782"/>
                </a:lnTo>
                <a:lnTo>
                  <a:pt x="24602" y="63742"/>
                </a:lnTo>
                <a:lnTo>
                  <a:pt x="19963" y="73767"/>
                </a:lnTo>
                <a:lnTo>
                  <a:pt x="18388" y="79658"/>
                </a:lnTo>
                <a:lnTo>
                  <a:pt x="17337" y="86125"/>
                </a:lnTo>
                <a:lnTo>
                  <a:pt x="16637" y="92977"/>
                </a:lnTo>
                <a:lnTo>
                  <a:pt x="15323" y="98391"/>
                </a:lnTo>
                <a:lnTo>
                  <a:pt x="13601" y="102848"/>
                </a:lnTo>
                <a:lnTo>
                  <a:pt x="4754" y="120128"/>
                </a:lnTo>
                <a:lnTo>
                  <a:pt x="3168" y="124112"/>
                </a:lnTo>
                <a:lnTo>
                  <a:pt x="2110" y="127615"/>
                </a:lnTo>
                <a:lnTo>
                  <a:pt x="1406" y="130797"/>
                </a:lnTo>
                <a:lnTo>
                  <a:pt x="936" y="133764"/>
                </a:lnTo>
                <a:lnTo>
                  <a:pt x="623" y="136590"/>
                </a:lnTo>
                <a:lnTo>
                  <a:pt x="7" y="144638"/>
                </a:lnTo>
                <a:lnTo>
                  <a:pt x="0" y="140693"/>
                </a:lnTo>
                <a:lnTo>
                  <a:pt x="845" y="138669"/>
                </a:lnTo>
                <a:lnTo>
                  <a:pt x="6080" y="130928"/>
                </a:lnTo>
                <a:lnTo>
                  <a:pt x="8285" y="127079"/>
                </a:lnTo>
                <a:lnTo>
                  <a:pt x="10603" y="122819"/>
                </a:lnTo>
                <a:lnTo>
                  <a:pt x="13841" y="118286"/>
                </a:lnTo>
                <a:lnTo>
                  <a:pt x="17692" y="113571"/>
                </a:lnTo>
                <a:lnTo>
                  <a:pt x="21954" y="108734"/>
                </a:lnTo>
                <a:lnTo>
                  <a:pt x="25641" y="102969"/>
                </a:lnTo>
                <a:lnTo>
                  <a:pt x="28946" y="96586"/>
                </a:lnTo>
                <a:lnTo>
                  <a:pt x="31996" y="89791"/>
                </a:lnTo>
                <a:lnTo>
                  <a:pt x="35723" y="83567"/>
                </a:lnTo>
                <a:lnTo>
                  <a:pt x="39901" y="77725"/>
                </a:lnTo>
                <a:lnTo>
                  <a:pt x="44379" y="72137"/>
                </a:lnTo>
                <a:lnTo>
                  <a:pt x="49059" y="66718"/>
                </a:lnTo>
                <a:lnTo>
                  <a:pt x="53871" y="61412"/>
                </a:lnTo>
                <a:lnTo>
                  <a:pt x="58773" y="56182"/>
                </a:lnTo>
                <a:lnTo>
                  <a:pt x="64581" y="51001"/>
                </a:lnTo>
                <a:lnTo>
                  <a:pt x="70993" y="45854"/>
                </a:lnTo>
                <a:lnTo>
                  <a:pt x="77807" y="40729"/>
                </a:lnTo>
                <a:lnTo>
                  <a:pt x="84043" y="35620"/>
                </a:lnTo>
                <a:lnTo>
                  <a:pt x="89894" y="30520"/>
                </a:lnTo>
                <a:lnTo>
                  <a:pt x="95488" y="25427"/>
                </a:lnTo>
                <a:lnTo>
                  <a:pt x="100064" y="22031"/>
                </a:lnTo>
                <a:lnTo>
                  <a:pt x="107406" y="18258"/>
                </a:lnTo>
                <a:lnTo>
                  <a:pt x="115749" y="14324"/>
                </a:lnTo>
                <a:lnTo>
                  <a:pt x="124256" y="10600"/>
                </a:lnTo>
                <a:lnTo>
                  <a:pt x="130858" y="8944"/>
                </a:lnTo>
                <a:lnTo>
                  <a:pt x="139335" y="8012"/>
                </a:lnTo>
                <a:lnTo>
                  <a:pt x="141996" y="8729"/>
                </a:lnTo>
                <a:lnTo>
                  <a:pt x="148938" y="12935"/>
                </a:lnTo>
                <a:lnTo>
                  <a:pt x="150859" y="14216"/>
                </a:lnTo>
                <a:lnTo>
                  <a:pt x="151372" y="16251"/>
                </a:lnTo>
                <a:lnTo>
                  <a:pt x="151713" y="19300"/>
                </a:lnTo>
                <a:lnTo>
                  <a:pt x="151941" y="23027"/>
                </a:lnTo>
                <a:lnTo>
                  <a:pt x="152194" y="29425"/>
                </a:lnTo>
                <a:lnTo>
                  <a:pt x="152307" y="35938"/>
                </a:lnTo>
                <a:lnTo>
                  <a:pt x="152357" y="44477"/>
                </a:lnTo>
                <a:lnTo>
                  <a:pt x="151522" y="48278"/>
                </a:lnTo>
                <a:lnTo>
                  <a:pt x="150121" y="51659"/>
                </a:lnTo>
                <a:lnTo>
                  <a:pt x="148339" y="54759"/>
                </a:lnTo>
                <a:lnTo>
                  <a:pt x="144102" y="62720"/>
                </a:lnTo>
                <a:lnTo>
                  <a:pt x="141787" y="67213"/>
                </a:lnTo>
                <a:lnTo>
                  <a:pt x="140243" y="71055"/>
                </a:lnTo>
                <a:lnTo>
                  <a:pt x="139214" y="74464"/>
                </a:lnTo>
                <a:lnTo>
                  <a:pt x="138528" y="77583"/>
                </a:lnTo>
                <a:lnTo>
                  <a:pt x="137225" y="80508"/>
                </a:lnTo>
                <a:lnTo>
                  <a:pt x="135508" y="83306"/>
                </a:lnTo>
                <a:lnTo>
                  <a:pt x="133518" y="86017"/>
                </a:lnTo>
                <a:lnTo>
                  <a:pt x="132190" y="88672"/>
                </a:lnTo>
                <a:lnTo>
                  <a:pt x="131305" y="91288"/>
                </a:lnTo>
                <a:lnTo>
                  <a:pt x="129550" y="99000"/>
                </a:lnTo>
                <a:lnTo>
                  <a:pt x="129546" y="99020"/>
                </a:lnTo>
                <a:lnTo>
                  <a:pt x="133584" y="95003"/>
                </a:lnTo>
                <a:lnTo>
                  <a:pt x="134775" y="92969"/>
                </a:lnTo>
                <a:lnTo>
                  <a:pt x="136097" y="88451"/>
                </a:lnTo>
                <a:lnTo>
                  <a:pt x="138144" y="85214"/>
                </a:lnTo>
                <a:lnTo>
                  <a:pt x="141202" y="81363"/>
                </a:lnTo>
                <a:lnTo>
                  <a:pt x="144933" y="77102"/>
                </a:lnTo>
                <a:lnTo>
                  <a:pt x="149114" y="72568"/>
                </a:lnTo>
                <a:lnTo>
                  <a:pt x="158276" y="63015"/>
                </a:lnTo>
                <a:lnTo>
                  <a:pt x="172953" y="48116"/>
                </a:lnTo>
                <a:lnTo>
                  <a:pt x="178801" y="43084"/>
                </a:lnTo>
                <a:lnTo>
                  <a:pt x="185239" y="38036"/>
                </a:lnTo>
                <a:lnTo>
                  <a:pt x="192072" y="32978"/>
                </a:lnTo>
                <a:lnTo>
                  <a:pt x="199166" y="28759"/>
                </a:lnTo>
                <a:lnTo>
                  <a:pt x="206437" y="25099"/>
                </a:lnTo>
                <a:lnTo>
                  <a:pt x="220441" y="18776"/>
                </a:lnTo>
                <a:lnTo>
                  <a:pt x="237845" y="10455"/>
                </a:lnTo>
                <a:lnTo>
                  <a:pt x="248512" y="5211"/>
                </a:lnTo>
                <a:lnTo>
                  <a:pt x="256639" y="2317"/>
                </a:lnTo>
                <a:lnTo>
                  <a:pt x="263073" y="1029"/>
                </a:lnTo>
                <a:lnTo>
                  <a:pt x="272302" y="305"/>
                </a:lnTo>
                <a:lnTo>
                  <a:pt x="280758" y="136"/>
                </a:lnTo>
                <a:lnTo>
                  <a:pt x="283691" y="938"/>
                </a:lnTo>
                <a:lnTo>
                  <a:pt x="285646" y="2319"/>
                </a:lnTo>
                <a:lnTo>
                  <a:pt x="286949" y="4086"/>
                </a:lnTo>
                <a:lnTo>
                  <a:pt x="288665" y="5264"/>
                </a:lnTo>
                <a:lnTo>
                  <a:pt x="292829" y="6573"/>
                </a:lnTo>
                <a:lnTo>
                  <a:pt x="294278" y="7769"/>
                </a:lnTo>
                <a:lnTo>
                  <a:pt x="295244" y="9412"/>
                </a:lnTo>
                <a:lnTo>
                  <a:pt x="295888" y="11355"/>
                </a:lnTo>
                <a:lnTo>
                  <a:pt x="296318" y="14344"/>
                </a:lnTo>
                <a:lnTo>
                  <a:pt x="296604" y="18029"/>
                </a:lnTo>
                <a:lnTo>
                  <a:pt x="296794" y="22179"/>
                </a:lnTo>
                <a:lnTo>
                  <a:pt x="296075" y="25793"/>
                </a:lnTo>
                <a:lnTo>
                  <a:pt x="294748" y="29049"/>
                </a:lnTo>
                <a:lnTo>
                  <a:pt x="293018" y="32066"/>
                </a:lnTo>
                <a:lnTo>
                  <a:pt x="291864" y="35770"/>
                </a:lnTo>
                <a:lnTo>
                  <a:pt x="291095" y="39934"/>
                </a:lnTo>
                <a:lnTo>
                  <a:pt x="290582" y="44402"/>
                </a:lnTo>
                <a:lnTo>
                  <a:pt x="290240" y="49075"/>
                </a:lnTo>
                <a:lnTo>
                  <a:pt x="290012" y="53883"/>
                </a:lnTo>
                <a:lnTo>
                  <a:pt x="289759" y="63742"/>
                </a:lnTo>
                <a:lnTo>
                  <a:pt x="289559" y="112077"/>
                </a:lnTo>
                <a:lnTo>
                  <a:pt x="290404" y="116205"/>
                </a:lnTo>
                <a:lnTo>
                  <a:pt x="291815" y="119803"/>
                </a:lnTo>
                <a:lnTo>
                  <a:pt x="293602" y="123049"/>
                </a:lnTo>
                <a:lnTo>
                  <a:pt x="294794" y="126906"/>
                </a:lnTo>
                <a:lnTo>
                  <a:pt x="295588" y="131171"/>
                </a:lnTo>
                <a:lnTo>
                  <a:pt x="297176" y="1447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InkAnnotation108"/>
          <p:cNvSpPr/>
          <p:nvPr/>
        </p:nvSpPr>
        <p:spPr>
          <a:xfrm>
            <a:off x="5837400" y="4572000"/>
            <a:ext cx="242640" cy="15840"/>
          </a:xfrm>
          <a:custGeom>
            <a:avLst/>
            <a:gdLst>
              <a:gd name="textAreaLeft" fmla="*/ 0 w 242640"/>
              <a:gd name="textAreaRight" fmla="*/ 243000 w 242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43841" h="15241">
                <a:moveTo>
                  <a:pt x="0" y="15240"/>
                </a:moveTo>
                <a:lnTo>
                  <a:pt x="81321" y="15240"/>
                </a:lnTo>
                <a:lnTo>
                  <a:pt x="87234" y="14394"/>
                </a:lnTo>
                <a:lnTo>
                  <a:pt x="93716" y="12983"/>
                </a:lnTo>
                <a:lnTo>
                  <a:pt x="100578" y="11195"/>
                </a:lnTo>
                <a:lnTo>
                  <a:pt x="106845" y="10003"/>
                </a:lnTo>
                <a:lnTo>
                  <a:pt x="112717" y="9209"/>
                </a:lnTo>
                <a:lnTo>
                  <a:pt x="118325" y="8679"/>
                </a:lnTo>
                <a:lnTo>
                  <a:pt x="124603" y="8326"/>
                </a:lnTo>
                <a:lnTo>
                  <a:pt x="138353" y="7934"/>
                </a:lnTo>
                <a:lnTo>
                  <a:pt x="160373" y="7713"/>
                </a:lnTo>
                <a:lnTo>
                  <a:pt x="167029" y="6836"/>
                </a:lnTo>
                <a:lnTo>
                  <a:pt x="173160" y="5404"/>
                </a:lnTo>
                <a:lnTo>
                  <a:pt x="178940" y="3602"/>
                </a:lnTo>
                <a:lnTo>
                  <a:pt x="185333" y="2402"/>
                </a:lnTo>
                <a:lnTo>
                  <a:pt x="192136" y="1601"/>
                </a:lnTo>
                <a:lnTo>
                  <a:pt x="199210" y="1067"/>
                </a:lnTo>
                <a:lnTo>
                  <a:pt x="205620" y="712"/>
                </a:lnTo>
                <a:lnTo>
                  <a:pt x="217257" y="316"/>
                </a:lnTo>
                <a:lnTo>
                  <a:pt x="2438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InkAnnotation109"/>
          <p:cNvSpPr/>
          <p:nvPr/>
        </p:nvSpPr>
        <p:spPr>
          <a:xfrm>
            <a:off x="6226200" y="4487760"/>
            <a:ext cx="174600" cy="274680"/>
          </a:xfrm>
          <a:custGeom>
            <a:avLst/>
            <a:gdLst>
              <a:gd name="textAreaLeft" fmla="*/ 0 w 174600"/>
              <a:gd name="textAreaRight" fmla="*/ 174960 w 174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74805" h="274084">
                <a:moveTo>
                  <a:pt x="45719" y="0"/>
                </a:moveTo>
                <a:lnTo>
                  <a:pt x="45719" y="6561"/>
                </a:lnTo>
                <a:lnTo>
                  <a:pt x="40482" y="13494"/>
                </a:lnTo>
                <a:lnTo>
                  <a:pt x="39158" y="18133"/>
                </a:lnTo>
                <a:lnTo>
                  <a:pt x="38412" y="25505"/>
                </a:lnTo>
                <a:lnTo>
                  <a:pt x="35981" y="32784"/>
                </a:lnTo>
                <a:lnTo>
                  <a:pt x="32924" y="40818"/>
                </a:lnTo>
                <a:lnTo>
                  <a:pt x="31566" y="47210"/>
                </a:lnTo>
                <a:lnTo>
                  <a:pt x="28705" y="55131"/>
                </a:lnTo>
                <a:lnTo>
                  <a:pt x="26756" y="59614"/>
                </a:lnTo>
                <a:lnTo>
                  <a:pt x="25457" y="64296"/>
                </a:lnTo>
                <a:lnTo>
                  <a:pt x="24591" y="69111"/>
                </a:lnTo>
                <a:lnTo>
                  <a:pt x="24014" y="74014"/>
                </a:lnTo>
                <a:lnTo>
                  <a:pt x="21115" y="81720"/>
                </a:lnTo>
                <a:lnTo>
                  <a:pt x="17004" y="88813"/>
                </a:lnTo>
                <a:lnTo>
                  <a:pt x="12355" y="97610"/>
                </a:lnTo>
                <a:lnTo>
                  <a:pt x="4977" y="112083"/>
                </a:lnTo>
                <a:lnTo>
                  <a:pt x="2212" y="119806"/>
                </a:lnTo>
                <a:lnTo>
                  <a:pt x="129" y="128970"/>
                </a:lnTo>
                <a:lnTo>
                  <a:pt x="11" y="136051"/>
                </a:lnTo>
                <a:lnTo>
                  <a:pt x="0" y="130502"/>
                </a:lnTo>
                <a:lnTo>
                  <a:pt x="4516" y="127710"/>
                </a:lnTo>
                <a:lnTo>
                  <a:pt x="8090" y="125780"/>
                </a:lnTo>
                <a:lnTo>
                  <a:pt x="11320" y="123647"/>
                </a:lnTo>
                <a:lnTo>
                  <a:pt x="14320" y="121378"/>
                </a:lnTo>
                <a:lnTo>
                  <a:pt x="17166" y="119018"/>
                </a:lnTo>
                <a:lnTo>
                  <a:pt x="22587" y="114139"/>
                </a:lnTo>
                <a:lnTo>
                  <a:pt x="25218" y="111653"/>
                </a:lnTo>
                <a:lnTo>
                  <a:pt x="28665" y="109149"/>
                </a:lnTo>
                <a:lnTo>
                  <a:pt x="32656" y="106633"/>
                </a:lnTo>
                <a:lnTo>
                  <a:pt x="37010" y="104109"/>
                </a:lnTo>
                <a:lnTo>
                  <a:pt x="42454" y="102425"/>
                </a:lnTo>
                <a:lnTo>
                  <a:pt x="48623" y="101304"/>
                </a:lnTo>
                <a:lnTo>
                  <a:pt x="55274" y="100556"/>
                </a:lnTo>
                <a:lnTo>
                  <a:pt x="61403" y="100057"/>
                </a:lnTo>
                <a:lnTo>
                  <a:pt x="67182" y="99725"/>
                </a:lnTo>
                <a:lnTo>
                  <a:pt x="78118" y="99355"/>
                </a:lnTo>
                <a:lnTo>
                  <a:pt x="88623" y="99191"/>
                </a:lnTo>
                <a:lnTo>
                  <a:pt x="93795" y="99994"/>
                </a:lnTo>
                <a:lnTo>
                  <a:pt x="98937" y="101376"/>
                </a:lnTo>
                <a:lnTo>
                  <a:pt x="104058" y="103144"/>
                </a:lnTo>
                <a:lnTo>
                  <a:pt x="109165" y="106016"/>
                </a:lnTo>
                <a:lnTo>
                  <a:pt x="114263" y="109624"/>
                </a:lnTo>
                <a:lnTo>
                  <a:pt x="119356" y="113723"/>
                </a:lnTo>
                <a:lnTo>
                  <a:pt x="123597" y="117302"/>
                </a:lnTo>
                <a:lnTo>
                  <a:pt x="127271" y="120534"/>
                </a:lnTo>
                <a:lnTo>
                  <a:pt x="130567" y="123537"/>
                </a:lnTo>
                <a:lnTo>
                  <a:pt x="138745" y="131387"/>
                </a:lnTo>
                <a:lnTo>
                  <a:pt x="143296" y="135851"/>
                </a:lnTo>
                <a:lnTo>
                  <a:pt x="147177" y="141368"/>
                </a:lnTo>
                <a:lnTo>
                  <a:pt x="150612" y="147585"/>
                </a:lnTo>
                <a:lnTo>
                  <a:pt x="159489" y="166213"/>
                </a:lnTo>
                <a:lnTo>
                  <a:pt x="162206" y="171769"/>
                </a:lnTo>
                <a:lnTo>
                  <a:pt x="164864" y="178012"/>
                </a:lnTo>
                <a:lnTo>
                  <a:pt x="167482" y="184715"/>
                </a:lnTo>
                <a:lnTo>
                  <a:pt x="170075" y="191724"/>
                </a:lnTo>
                <a:lnTo>
                  <a:pt x="171803" y="198089"/>
                </a:lnTo>
                <a:lnTo>
                  <a:pt x="172955" y="204026"/>
                </a:lnTo>
                <a:lnTo>
                  <a:pt x="173723" y="209677"/>
                </a:lnTo>
                <a:lnTo>
                  <a:pt x="174235" y="215138"/>
                </a:lnTo>
                <a:lnTo>
                  <a:pt x="174577" y="220472"/>
                </a:lnTo>
                <a:lnTo>
                  <a:pt x="174804" y="225722"/>
                </a:lnTo>
                <a:lnTo>
                  <a:pt x="174109" y="230915"/>
                </a:lnTo>
                <a:lnTo>
                  <a:pt x="172799" y="236069"/>
                </a:lnTo>
                <a:lnTo>
                  <a:pt x="171079" y="241200"/>
                </a:lnTo>
                <a:lnTo>
                  <a:pt x="166911" y="249158"/>
                </a:lnTo>
                <a:lnTo>
                  <a:pt x="164614" y="252466"/>
                </a:lnTo>
                <a:lnTo>
                  <a:pt x="161389" y="256363"/>
                </a:lnTo>
                <a:lnTo>
                  <a:pt x="157545" y="260656"/>
                </a:lnTo>
                <a:lnTo>
                  <a:pt x="153290" y="265210"/>
                </a:lnTo>
                <a:lnTo>
                  <a:pt x="149606" y="268247"/>
                </a:lnTo>
                <a:lnTo>
                  <a:pt x="146304" y="270271"/>
                </a:lnTo>
                <a:lnTo>
                  <a:pt x="143256" y="271621"/>
                </a:lnTo>
                <a:lnTo>
                  <a:pt x="139531" y="272520"/>
                </a:lnTo>
                <a:lnTo>
                  <a:pt x="135353" y="273120"/>
                </a:lnTo>
                <a:lnTo>
                  <a:pt x="130876" y="273520"/>
                </a:lnTo>
                <a:lnTo>
                  <a:pt x="126197" y="273787"/>
                </a:lnTo>
                <a:lnTo>
                  <a:pt x="116483" y="274083"/>
                </a:lnTo>
                <a:lnTo>
                  <a:pt x="111521" y="272469"/>
                </a:lnTo>
                <a:lnTo>
                  <a:pt x="106521" y="269699"/>
                </a:lnTo>
                <a:lnTo>
                  <a:pt x="101494" y="266160"/>
                </a:lnTo>
                <a:lnTo>
                  <a:pt x="96449" y="262953"/>
                </a:lnTo>
                <a:lnTo>
                  <a:pt x="91392" y="259969"/>
                </a:lnTo>
                <a:lnTo>
                  <a:pt x="86328" y="257133"/>
                </a:lnTo>
                <a:lnTo>
                  <a:pt x="80412" y="253548"/>
                </a:lnTo>
                <a:lnTo>
                  <a:pt x="67064" y="245051"/>
                </a:lnTo>
                <a:lnTo>
                  <a:pt x="60796" y="241260"/>
                </a:lnTo>
                <a:lnTo>
                  <a:pt x="54923" y="237887"/>
                </a:lnTo>
                <a:lnTo>
                  <a:pt x="49316" y="234791"/>
                </a:lnTo>
                <a:lnTo>
                  <a:pt x="44730" y="231034"/>
                </a:lnTo>
                <a:lnTo>
                  <a:pt x="40826" y="226836"/>
                </a:lnTo>
                <a:lnTo>
                  <a:pt x="30479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InkAnnotation110"/>
          <p:cNvSpPr/>
          <p:nvPr/>
        </p:nvSpPr>
        <p:spPr>
          <a:xfrm>
            <a:off x="6278400" y="4465800"/>
            <a:ext cx="266760" cy="14040"/>
          </a:xfrm>
          <a:custGeom>
            <a:avLst/>
            <a:gdLst>
              <a:gd name="textAreaLeft" fmla="*/ 0 w 266760"/>
              <a:gd name="textAreaRight" fmla="*/ 267120 w 2667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66701" h="15239">
                <a:moveTo>
                  <a:pt x="0" y="15238"/>
                </a:moveTo>
                <a:lnTo>
                  <a:pt x="4046" y="15238"/>
                </a:lnTo>
                <a:lnTo>
                  <a:pt x="6083" y="14391"/>
                </a:lnTo>
                <a:lnTo>
                  <a:pt x="8289" y="12981"/>
                </a:lnTo>
                <a:lnTo>
                  <a:pt x="10606" y="11193"/>
                </a:lnTo>
                <a:lnTo>
                  <a:pt x="13844" y="10001"/>
                </a:lnTo>
                <a:lnTo>
                  <a:pt x="17696" y="9207"/>
                </a:lnTo>
                <a:lnTo>
                  <a:pt x="21957" y="8677"/>
                </a:lnTo>
                <a:lnTo>
                  <a:pt x="26491" y="7477"/>
                </a:lnTo>
                <a:lnTo>
                  <a:pt x="31207" y="5831"/>
                </a:lnTo>
                <a:lnTo>
                  <a:pt x="36045" y="3887"/>
                </a:lnTo>
                <a:lnTo>
                  <a:pt x="41810" y="2591"/>
                </a:lnTo>
                <a:lnTo>
                  <a:pt x="48193" y="1726"/>
                </a:lnTo>
                <a:lnTo>
                  <a:pt x="54989" y="1150"/>
                </a:lnTo>
                <a:lnTo>
                  <a:pt x="62059" y="766"/>
                </a:lnTo>
                <a:lnTo>
                  <a:pt x="76688" y="340"/>
                </a:lnTo>
                <a:lnTo>
                  <a:pt x="185777" y="0"/>
                </a:lnTo>
                <a:lnTo>
                  <a:pt x="194971" y="846"/>
                </a:lnTo>
                <a:lnTo>
                  <a:pt x="203641" y="2257"/>
                </a:lnTo>
                <a:lnTo>
                  <a:pt x="211961" y="4044"/>
                </a:lnTo>
                <a:lnTo>
                  <a:pt x="219200" y="5235"/>
                </a:lnTo>
                <a:lnTo>
                  <a:pt x="225721" y="6030"/>
                </a:lnTo>
                <a:lnTo>
                  <a:pt x="231761" y="6559"/>
                </a:lnTo>
                <a:lnTo>
                  <a:pt x="237480" y="6912"/>
                </a:lnTo>
                <a:lnTo>
                  <a:pt x="248352" y="7305"/>
                </a:lnTo>
                <a:lnTo>
                  <a:pt x="266700" y="76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InkAnnotation111"/>
          <p:cNvSpPr/>
          <p:nvPr/>
        </p:nvSpPr>
        <p:spPr>
          <a:xfrm>
            <a:off x="5351400" y="3909960"/>
            <a:ext cx="558720" cy="415800"/>
          </a:xfrm>
          <a:custGeom>
            <a:avLst/>
            <a:gdLst>
              <a:gd name="textAreaLeft" fmla="*/ 0 w 558720"/>
              <a:gd name="textAreaRight" fmla="*/ 559080 w 5587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559649" h="417087">
                <a:moveTo>
                  <a:pt x="112165" y="327162"/>
                </a:moveTo>
                <a:lnTo>
                  <a:pt x="118726" y="333723"/>
                </a:lnTo>
                <a:lnTo>
                  <a:pt x="123516" y="342559"/>
                </a:lnTo>
                <a:lnTo>
                  <a:pt x="130192" y="348963"/>
                </a:lnTo>
                <a:lnTo>
                  <a:pt x="143471" y="359586"/>
                </a:lnTo>
                <a:lnTo>
                  <a:pt x="154019" y="368666"/>
                </a:lnTo>
                <a:lnTo>
                  <a:pt x="167173" y="378346"/>
                </a:lnTo>
                <a:lnTo>
                  <a:pt x="183745" y="386035"/>
                </a:lnTo>
                <a:lnTo>
                  <a:pt x="192905" y="389270"/>
                </a:lnTo>
                <a:lnTo>
                  <a:pt x="203244" y="392274"/>
                </a:lnTo>
                <a:lnTo>
                  <a:pt x="214371" y="395123"/>
                </a:lnTo>
                <a:lnTo>
                  <a:pt x="258601" y="405780"/>
                </a:lnTo>
                <a:lnTo>
                  <a:pt x="270749" y="408361"/>
                </a:lnTo>
                <a:lnTo>
                  <a:pt x="297794" y="413486"/>
                </a:lnTo>
                <a:lnTo>
                  <a:pt x="311271" y="415191"/>
                </a:lnTo>
                <a:lnTo>
                  <a:pt x="324489" y="416328"/>
                </a:lnTo>
                <a:lnTo>
                  <a:pt x="337534" y="417086"/>
                </a:lnTo>
                <a:lnTo>
                  <a:pt x="349618" y="416745"/>
                </a:lnTo>
                <a:lnTo>
                  <a:pt x="361060" y="415671"/>
                </a:lnTo>
                <a:lnTo>
                  <a:pt x="372075" y="414108"/>
                </a:lnTo>
                <a:lnTo>
                  <a:pt x="382806" y="412219"/>
                </a:lnTo>
                <a:lnTo>
                  <a:pt x="393345" y="410113"/>
                </a:lnTo>
                <a:lnTo>
                  <a:pt x="403758" y="407863"/>
                </a:lnTo>
                <a:lnTo>
                  <a:pt x="414934" y="404669"/>
                </a:lnTo>
                <a:lnTo>
                  <a:pt x="426618" y="400847"/>
                </a:lnTo>
                <a:lnTo>
                  <a:pt x="438640" y="396605"/>
                </a:lnTo>
                <a:lnTo>
                  <a:pt x="450042" y="391238"/>
                </a:lnTo>
                <a:lnTo>
                  <a:pt x="461030" y="385119"/>
                </a:lnTo>
                <a:lnTo>
                  <a:pt x="471742" y="378500"/>
                </a:lnTo>
                <a:lnTo>
                  <a:pt x="481423" y="371547"/>
                </a:lnTo>
                <a:lnTo>
                  <a:pt x="490417" y="364372"/>
                </a:lnTo>
                <a:lnTo>
                  <a:pt x="498952" y="357049"/>
                </a:lnTo>
                <a:lnTo>
                  <a:pt x="507184" y="348780"/>
                </a:lnTo>
                <a:lnTo>
                  <a:pt x="515211" y="339881"/>
                </a:lnTo>
                <a:lnTo>
                  <a:pt x="523102" y="330561"/>
                </a:lnTo>
                <a:lnTo>
                  <a:pt x="530056" y="320962"/>
                </a:lnTo>
                <a:lnTo>
                  <a:pt x="536386" y="311175"/>
                </a:lnTo>
                <a:lnTo>
                  <a:pt x="542299" y="301264"/>
                </a:lnTo>
                <a:lnTo>
                  <a:pt x="547088" y="290423"/>
                </a:lnTo>
                <a:lnTo>
                  <a:pt x="551128" y="278963"/>
                </a:lnTo>
                <a:lnTo>
                  <a:pt x="554667" y="267089"/>
                </a:lnTo>
                <a:lnTo>
                  <a:pt x="557026" y="254940"/>
                </a:lnTo>
                <a:lnTo>
                  <a:pt x="558600" y="242607"/>
                </a:lnTo>
                <a:lnTo>
                  <a:pt x="559648" y="230152"/>
                </a:lnTo>
                <a:lnTo>
                  <a:pt x="559500" y="217616"/>
                </a:lnTo>
                <a:lnTo>
                  <a:pt x="558555" y="205025"/>
                </a:lnTo>
                <a:lnTo>
                  <a:pt x="557079" y="192397"/>
                </a:lnTo>
                <a:lnTo>
                  <a:pt x="555247" y="180592"/>
                </a:lnTo>
                <a:lnTo>
                  <a:pt x="553180" y="169335"/>
                </a:lnTo>
                <a:lnTo>
                  <a:pt x="550955" y="158444"/>
                </a:lnTo>
                <a:lnTo>
                  <a:pt x="546932" y="147797"/>
                </a:lnTo>
                <a:lnTo>
                  <a:pt x="541710" y="137312"/>
                </a:lnTo>
                <a:lnTo>
                  <a:pt x="535689" y="126935"/>
                </a:lnTo>
                <a:lnTo>
                  <a:pt x="524482" y="106375"/>
                </a:lnTo>
                <a:lnTo>
                  <a:pt x="519123" y="96151"/>
                </a:lnTo>
                <a:lnTo>
                  <a:pt x="512164" y="86795"/>
                </a:lnTo>
                <a:lnTo>
                  <a:pt x="504138" y="78017"/>
                </a:lnTo>
                <a:lnTo>
                  <a:pt x="495400" y="69625"/>
                </a:lnTo>
                <a:lnTo>
                  <a:pt x="486188" y="61491"/>
                </a:lnTo>
                <a:lnTo>
                  <a:pt x="476661" y="53528"/>
                </a:lnTo>
                <a:lnTo>
                  <a:pt x="466922" y="45679"/>
                </a:lnTo>
                <a:lnTo>
                  <a:pt x="456196" y="38754"/>
                </a:lnTo>
                <a:lnTo>
                  <a:pt x="444813" y="32443"/>
                </a:lnTo>
                <a:lnTo>
                  <a:pt x="432991" y="26543"/>
                </a:lnTo>
                <a:lnTo>
                  <a:pt x="420875" y="21763"/>
                </a:lnTo>
                <a:lnTo>
                  <a:pt x="408565" y="17729"/>
                </a:lnTo>
                <a:lnTo>
                  <a:pt x="396125" y="14193"/>
                </a:lnTo>
                <a:lnTo>
                  <a:pt x="382752" y="10990"/>
                </a:lnTo>
                <a:lnTo>
                  <a:pt x="368756" y="8007"/>
                </a:lnTo>
                <a:lnTo>
                  <a:pt x="354346" y="5172"/>
                </a:lnTo>
                <a:lnTo>
                  <a:pt x="339659" y="3282"/>
                </a:lnTo>
                <a:lnTo>
                  <a:pt x="324788" y="2023"/>
                </a:lnTo>
                <a:lnTo>
                  <a:pt x="309793" y="1182"/>
                </a:lnTo>
                <a:lnTo>
                  <a:pt x="279586" y="249"/>
                </a:lnTo>
                <a:lnTo>
                  <a:pt x="264419" y="0"/>
                </a:lnTo>
                <a:lnTo>
                  <a:pt x="250074" y="1527"/>
                </a:lnTo>
                <a:lnTo>
                  <a:pt x="236278" y="4239"/>
                </a:lnTo>
                <a:lnTo>
                  <a:pt x="222847" y="7740"/>
                </a:lnTo>
                <a:lnTo>
                  <a:pt x="208814" y="10921"/>
                </a:lnTo>
                <a:lnTo>
                  <a:pt x="179673" y="16713"/>
                </a:lnTo>
                <a:lnTo>
                  <a:pt x="165637" y="20289"/>
                </a:lnTo>
                <a:lnTo>
                  <a:pt x="152046" y="24367"/>
                </a:lnTo>
                <a:lnTo>
                  <a:pt x="138753" y="28778"/>
                </a:lnTo>
                <a:lnTo>
                  <a:pt x="112693" y="38196"/>
                </a:lnTo>
                <a:lnTo>
                  <a:pt x="99817" y="43078"/>
                </a:lnTo>
                <a:lnTo>
                  <a:pt x="87846" y="48026"/>
                </a:lnTo>
                <a:lnTo>
                  <a:pt x="76479" y="53018"/>
                </a:lnTo>
                <a:lnTo>
                  <a:pt x="65515" y="58039"/>
                </a:lnTo>
                <a:lnTo>
                  <a:pt x="55665" y="63927"/>
                </a:lnTo>
                <a:lnTo>
                  <a:pt x="46558" y="70392"/>
                </a:lnTo>
                <a:lnTo>
                  <a:pt x="37947" y="77242"/>
                </a:lnTo>
                <a:lnTo>
                  <a:pt x="23863" y="89369"/>
                </a:lnTo>
                <a:lnTo>
                  <a:pt x="12806" y="100403"/>
                </a:lnTo>
                <a:lnTo>
                  <a:pt x="5070" y="110951"/>
                </a:lnTo>
                <a:lnTo>
                  <a:pt x="1067" y="121284"/>
                </a:lnTo>
                <a:lnTo>
                  <a:pt x="0" y="126410"/>
                </a:lnTo>
                <a:lnTo>
                  <a:pt x="1071" y="138879"/>
                </a:lnTo>
                <a:lnTo>
                  <a:pt x="2542" y="145760"/>
                </a:lnTo>
                <a:lnTo>
                  <a:pt x="6063" y="151194"/>
                </a:lnTo>
                <a:lnTo>
                  <a:pt x="10950" y="155664"/>
                </a:lnTo>
                <a:lnTo>
                  <a:pt x="24001" y="164581"/>
                </a:lnTo>
                <a:lnTo>
                  <a:pt x="41089" y="177010"/>
                </a:lnTo>
                <a:lnTo>
                  <a:pt x="52081" y="182188"/>
                </a:lnTo>
                <a:lnTo>
                  <a:pt x="64489" y="186485"/>
                </a:lnTo>
                <a:lnTo>
                  <a:pt x="77841" y="190198"/>
                </a:lnTo>
                <a:lnTo>
                  <a:pt x="106224" y="198838"/>
                </a:lnTo>
                <a:lnTo>
                  <a:pt x="120904" y="203512"/>
                </a:lnTo>
                <a:lnTo>
                  <a:pt x="137464" y="207476"/>
                </a:lnTo>
                <a:lnTo>
                  <a:pt x="155278" y="210965"/>
                </a:lnTo>
                <a:lnTo>
                  <a:pt x="173927" y="214137"/>
                </a:lnTo>
                <a:lnTo>
                  <a:pt x="212711" y="219920"/>
                </a:lnTo>
                <a:lnTo>
                  <a:pt x="292799" y="230531"/>
                </a:lnTo>
                <a:lnTo>
                  <a:pt x="421012" y="245872"/>
                </a:lnTo>
                <a:lnTo>
                  <a:pt x="438290" y="247569"/>
                </a:lnTo>
                <a:lnTo>
                  <a:pt x="453195" y="248700"/>
                </a:lnTo>
                <a:lnTo>
                  <a:pt x="493166" y="2509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InkAnnotation112"/>
          <p:cNvSpPr/>
          <p:nvPr/>
        </p:nvSpPr>
        <p:spPr>
          <a:xfrm>
            <a:off x="6713640" y="3879720"/>
            <a:ext cx="836640" cy="436680"/>
          </a:xfrm>
          <a:custGeom>
            <a:avLst/>
            <a:gdLst>
              <a:gd name="textAreaLeft" fmla="*/ 0 w 836640"/>
              <a:gd name="textAreaRight" fmla="*/ 837000 w 8366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837255" h="437487">
                <a:moveTo>
                  <a:pt x="0" y="266079"/>
                </a:moveTo>
                <a:lnTo>
                  <a:pt x="4046" y="266079"/>
                </a:lnTo>
                <a:lnTo>
                  <a:pt x="20429" y="272640"/>
                </a:lnTo>
                <a:lnTo>
                  <a:pt x="36240" y="279573"/>
                </a:lnTo>
                <a:lnTo>
                  <a:pt x="60880" y="286635"/>
                </a:lnTo>
                <a:lnTo>
                  <a:pt x="79834" y="291584"/>
                </a:lnTo>
                <a:lnTo>
                  <a:pt x="101804" y="298864"/>
                </a:lnTo>
                <a:lnTo>
                  <a:pt x="126526" y="306897"/>
                </a:lnTo>
                <a:lnTo>
                  <a:pt x="140231" y="310224"/>
                </a:lnTo>
                <a:lnTo>
                  <a:pt x="154448" y="313290"/>
                </a:lnTo>
                <a:lnTo>
                  <a:pt x="169006" y="317026"/>
                </a:lnTo>
                <a:lnTo>
                  <a:pt x="183790" y="321210"/>
                </a:lnTo>
                <a:lnTo>
                  <a:pt x="198727" y="325694"/>
                </a:lnTo>
                <a:lnTo>
                  <a:pt x="214611" y="329528"/>
                </a:lnTo>
                <a:lnTo>
                  <a:pt x="231127" y="332932"/>
                </a:lnTo>
                <a:lnTo>
                  <a:pt x="265283" y="338972"/>
                </a:lnTo>
                <a:lnTo>
                  <a:pt x="300220" y="344478"/>
                </a:lnTo>
                <a:lnTo>
                  <a:pt x="316987" y="347978"/>
                </a:lnTo>
                <a:lnTo>
                  <a:pt x="333245" y="352005"/>
                </a:lnTo>
                <a:lnTo>
                  <a:pt x="349163" y="356383"/>
                </a:lnTo>
                <a:lnTo>
                  <a:pt x="366549" y="359302"/>
                </a:lnTo>
                <a:lnTo>
                  <a:pt x="384913" y="361248"/>
                </a:lnTo>
                <a:lnTo>
                  <a:pt x="403929" y="362545"/>
                </a:lnTo>
                <a:lnTo>
                  <a:pt x="422533" y="364256"/>
                </a:lnTo>
                <a:lnTo>
                  <a:pt x="459007" y="368416"/>
                </a:lnTo>
                <a:lnTo>
                  <a:pt x="492717" y="373086"/>
                </a:lnTo>
                <a:lnTo>
                  <a:pt x="508818" y="375518"/>
                </a:lnTo>
                <a:lnTo>
                  <a:pt x="525478" y="377138"/>
                </a:lnTo>
                <a:lnTo>
                  <a:pt x="542512" y="378218"/>
                </a:lnTo>
                <a:lnTo>
                  <a:pt x="576396" y="379419"/>
                </a:lnTo>
                <a:lnTo>
                  <a:pt x="608390" y="379952"/>
                </a:lnTo>
                <a:lnTo>
                  <a:pt x="623186" y="379248"/>
                </a:lnTo>
                <a:lnTo>
                  <a:pt x="637285" y="377932"/>
                </a:lnTo>
                <a:lnTo>
                  <a:pt x="650917" y="376208"/>
                </a:lnTo>
                <a:lnTo>
                  <a:pt x="664237" y="374211"/>
                </a:lnTo>
                <a:lnTo>
                  <a:pt x="690328" y="369735"/>
                </a:lnTo>
                <a:lnTo>
                  <a:pt x="716034" y="362667"/>
                </a:lnTo>
                <a:lnTo>
                  <a:pt x="740724" y="353880"/>
                </a:lnTo>
                <a:lnTo>
                  <a:pt x="762986" y="344331"/>
                </a:lnTo>
                <a:lnTo>
                  <a:pt x="781912" y="332184"/>
                </a:lnTo>
                <a:lnTo>
                  <a:pt x="790515" y="325389"/>
                </a:lnTo>
                <a:lnTo>
                  <a:pt x="797943" y="318320"/>
                </a:lnTo>
                <a:lnTo>
                  <a:pt x="804589" y="311066"/>
                </a:lnTo>
                <a:lnTo>
                  <a:pt x="810712" y="303690"/>
                </a:lnTo>
                <a:lnTo>
                  <a:pt x="816489" y="295386"/>
                </a:lnTo>
                <a:lnTo>
                  <a:pt x="822032" y="286464"/>
                </a:lnTo>
                <a:lnTo>
                  <a:pt x="827421" y="277129"/>
                </a:lnTo>
                <a:lnTo>
                  <a:pt x="831015" y="267519"/>
                </a:lnTo>
                <a:lnTo>
                  <a:pt x="833410" y="257726"/>
                </a:lnTo>
                <a:lnTo>
                  <a:pt x="835007" y="247810"/>
                </a:lnTo>
                <a:lnTo>
                  <a:pt x="836071" y="237813"/>
                </a:lnTo>
                <a:lnTo>
                  <a:pt x="836780" y="227761"/>
                </a:lnTo>
                <a:lnTo>
                  <a:pt x="837254" y="217675"/>
                </a:lnTo>
                <a:lnTo>
                  <a:pt x="836722" y="206716"/>
                </a:lnTo>
                <a:lnTo>
                  <a:pt x="835522" y="195177"/>
                </a:lnTo>
                <a:lnTo>
                  <a:pt x="833875" y="183251"/>
                </a:lnTo>
                <a:lnTo>
                  <a:pt x="831930" y="171914"/>
                </a:lnTo>
                <a:lnTo>
                  <a:pt x="829787" y="160969"/>
                </a:lnTo>
                <a:lnTo>
                  <a:pt x="827510" y="150286"/>
                </a:lnTo>
                <a:lnTo>
                  <a:pt x="823454" y="139777"/>
                </a:lnTo>
                <a:lnTo>
                  <a:pt x="818209" y="129384"/>
                </a:lnTo>
                <a:lnTo>
                  <a:pt x="812173" y="119069"/>
                </a:lnTo>
                <a:lnTo>
                  <a:pt x="804762" y="108806"/>
                </a:lnTo>
                <a:lnTo>
                  <a:pt x="796436" y="98577"/>
                </a:lnTo>
                <a:lnTo>
                  <a:pt x="787497" y="88371"/>
                </a:lnTo>
                <a:lnTo>
                  <a:pt x="777304" y="79027"/>
                </a:lnTo>
                <a:lnTo>
                  <a:pt x="766276" y="70258"/>
                </a:lnTo>
                <a:lnTo>
                  <a:pt x="754691" y="61872"/>
                </a:lnTo>
                <a:lnTo>
                  <a:pt x="741887" y="53741"/>
                </a:lnTo>
                <a:lnTo>
                  <a:pt x="728272" y="45780"/>
                </a:lnTo>
                <a:lnTo>
                  <a:pt x="714115" y="37933"/>
                </a:lnTo>
                <a:lnTo>
                  <a:pt x="699597" y="31008"/>
                </a:lnTo>
                <a:lnTo>
                  <a:pt x="684838" y="24699"/>
                </a:lnTo>
                <a:lnTo>
                  <a:pt x="669918" y="18799"/>
                </a:lnTo>
                <a:lnTo>
                  <a:pt x="655739" y="14019"/>
                </a:lnTo>
                <a:lnTo>
                  <a:pt x="642053" y="9986"/>
                </a:lnTo>
                <a:lnTo>
                  <a:pt x="628695" y="6450"/>
                </a:lnTo>
                <a:lnTo>
                  <a:pt x="613864" y="4093"/>
                </a:lnTo>
                <a:lnTo>
                  <a:pt x="598049" y="2522"/>
                </a:lnTo>
                <a:lnTo>
                  <a:pt x="581580" y="1475"/>
                </a:lnTo>
                <a:lnTo>
                  <a:pt x="564674" y="776"/>
                </a:lnTo>
                <a:lnTo>
                  <a:pt x="530083" y="0"/>
                </a:lnTo>
                <a:lnTo>
                  <a:pt x="513409" y="1486"/>
                </a:lnTo>
                <a:lnTo>
                  <a:pt x="497213" y="4170"/>
                </a:lnTo>
                <a:lnTo>
                  <a:pt x="481335" y="7654"/>
                </a:lnTo>
                <a:lnTo>
                  <a:pt x="466517" y="11668"/>
                </a:lnTo>
                <a:lnTo>
                  <a:pt x="452404" y="16039"/>
                </a:lnTo>
                <a:lnTo>
                  <a:pt x="438764" y="20645"/>
                </a:lnTo>
                <a:lnTo>
                  <a:pt x="424589" y="26257"/>
                </a:lnTo>
                <a:lnTo>
                  <a:pt x="410059" y="32538"/>
                </a:lnTo>
                <a:lnTo>
                  <a:pt x="395293" y="39264"/>
                </a:lnTo>
                <a:lnTo>
                  <a:pt x="382062" y="47136"/>
                </a:lnTo>
                <a:lnTo>
                  <a:pt x="369855" y="55770"/>
                </a:lnTo>
                <a:lnTo>
                  <a:pt x="358330" y="64913"/>
                </a:lnTo>
                <a:lnTo>
                  <a:pt x="347260" y="74396"/>
                </a:lnTo>
                <a:lnTo>
                  <a:pt x="336493" y="84103"/>
                </a:lnTo>
                <a:lnTo>
                  <a:pt x="325929" y="93962"/>
                </a:lnTo>
                <a:lnTo>
                  <a:pt x="317193" y="103921"/>
                </a:lnTo>
                <a:lnTo>
                  <a:pt x="309675" y="113947"/>
                </a:lnTo>
                <a:lnTo>
                  <a:pt x="302970" y="124017"/>
                </a:lnTo>
                <a:lnTo>
                  <a:pt x="296807" y="134965"/>
                </a:lnTo>
                <a:lnTo>
                  <a:pt x="291005" y="146496"/>
                </a:lnTo>
                <a:lnTo>
                  <a:pt x="285444" y="158417"/>
                </a:lnTo>
                <a:lnTo>
                  <a:pt x="280890" y="170598"/>
                </a:lnTo>
                <a:lnTo>
                  <a:pt x="277006" y="182952"/>
                </a:lnTo>
                <a:lnTo>
                  <a:pt x="273571" y="195421"/>
                </a:lnTo>
                <a:lnTo>
                  <a:pt x="271281" y="207967"/>
                </a:lnTo>
                <a:lnTo>
                  <a:pt x="269754" y="220564"/>
                </a:lnTo>
                <a:lnTo>
                  <a:pt x="268735" y="233196"/>
                </a:lnTo>
                <a:lnTo>
                  <a:pt x="269751" y="245003"/>
                </a:lnTo>
                <a:lnTo>
                  <a:pt x="272121" y="256262"/>
                </a:lnTo>
                <a:lnTo>
                  <a:pt x="275394" y="267154"/>
                </a:lnTo>
                <a:lnTo>
                  <a:pt x="279269" y="278650"/>
                </a:lnTo>
                <a:lnTo>
                  <a:pt x="288091" y="302710"/>
                </a:lnTo>
                <a:lnTo>
                  <a:pt x="293661" y="314206"/>
                </a:lnTo>
                <a:lnTo>
                  <a:pt x="299914" y="325257"/>
                </a:lnTo>
                <a:lnTo>
                  <a:pt x="306623" y="336011"/>
                </a:lnTo>
                <a:lnTo>
                  <a:pt x="313635" y="345721"/>
                </a:lnTo>
                <a:lnTo>
                  <a:pt x="320851" y="354734"/>
                </a:lnTo>
                <a:lnTo>
                  <a:pt x="328201" y="363282"/>
                </a:lnTo>
                <a:lnTo>
                  <a:pt x="336487" y="371521"/>
                </a:lnTo>
                <a:lnTo>
                  <a:pt x="345398" y="379554"/>
                </a:lnTo>
                <a:lnTo>
                  <a:pt x="354725" y="387449"/>
                </a:lnTo>
                <a:lnTo>
                  <a:pt x="374120" y="400737"/>
                </a:lnTo>
                <a:lnTo>
                  <a:pt x="394876" y="412287"/>
                </a:lnTo>
                <a:lnTo>
                  <a:pt x="418212" y="423065"/>
                </a:lnTo>
                <a:lnTo>
                  <a:pt x="440436" y="428984"/>
                </a:lnTo>
                <a:lnTo>
                  <a:pt x="459910" y="432461"/>
                </a:lnTo>
                <a:lnTo>
                  <a:pt x="474210" y="436829"/>
                </a:lnTo>
                <a:lnTo>
                  <a:pt x="480393" y="437486"/>
                </a:lnTo>
                <a:lnTo>
                  <a:pt x="502920" y="4337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InkAnnotation113"/>
          <p:cNvSpPr/>
          <p:nvPr/>
        </p:nvSpPr>
        <p:spPr>
          <a:xfrm>
            <a:off x="6973920" y="2583000"/>
            <a:ext cx="272880" cy="220680"/>
          </a:xfrm>
          <a:custGeom>
            <a:avLst/>
            <a:gdLst>
              <a:gd name="textAreaLeft" fmla="*/ 0 w 272880"/>
              <a:gd name="textAreaRight" fmla="*/ 273240 w 2728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73025" h="220970">
                <a:moveTo>
                  <a:pt x="128244" y="0"/>
                </a:moveTo>
                <a:lnTo>
                  <a:pt x="124199" y="0"/>
                </a:lnTo>
                <a:lnTo>
                  <a:pt x="123007" y="847"/>
                </a:lnTo>
                <a:lnTo>
                  <a:pt x="122213" y="2258"/>
                </a:lnTo>
                <a:lnTo>
                  <a:pt x="120938" y="6561"/>
                </a:lnTo>
                <a:lnTo>
                  <a:pt x="120717" y="11352"/>
                </a:lnTo>
                <a:lnTo>
                  <a:pt x="118408" y="18028"/>
                </a:lnTo>
                <a:lnTo>
                  <a:pt x="116607" y="22178"/>
                </a:lnTo>
                <a:lnTo>
                  <a:pt x="114605" y="29048"/>
                </a:lnTo>
                <a:lnTo>
                  <a:pt x="112869" y="35771"/>
                </a:lnTo>
                <a:lnTo>
                  <a:pt x="111221" y="39933"/>
                </a:lnTo>
                <a:lnTo>
                  <a:pt x="109275" y="44403"/>
                </a:lnTo>
                <a:lnTo>
                  <a:pt x="104856" y="53883"/>
                </a:lnTo>
                <a:lnTo>
                  <a:pt x="102492" y="58782"/>
                </a:lnTo>
                <a:lnTo>
                  <a:pt x="99223" y="63742"/>
                </a:lnTo>
                <a:lnTo>
                  <a:pt x="95349" y="68741"/>
                </a:lnTo>
                <a:lnTo>
                  <a:pt x="91074" y="73768"/>
                </a:lnTo>
                <a:lnTo>
                  <a:pt x="87378" y="78811"/>
                </a:lnTo>
                <a:lnTo>
                  <a:pt x="84066" y="83868"/>
                </a:lnTo>
                <a:lnTo>
                  <a:pt x="81013" y="88932"/>
                </a:lnTo>
                <a:lnTo>
                  <a:pt x="77283" y="94001"/>
                </a:lnTo>
                <a:lnTo>
                  <a:pt x="73103" y="99074"/>
                </a:lnTo>
                <a:lnTo>
                  <a:pt x="68624" y="104149"/>
                </a:lnTo>
                <a:lnTo>
                  <a:pt x="59131" y="114304"/>
                </a:lnTo>
                <a:lnTo>
                  <a:pt x="54229" y="119383"/>
                </a:lnTo>
                <a:lnTo>
                  <a:pt x="49268" y="125309"/>
                </a:lnTo>
                <a:lnTo>
                  <a:pt x="44266" y="131799"/>
                </a:lnTo>
                <a:lnTo>
                  <a:pt x="39239" y="138666"/>
                </a:lnTo>
                <a:lnTo>
                  <a:pt x="35041" y="144938"/>
                </a:lnTo>
                <a:lnTo>
                  <a:pt x="31395" y="150812"/>
                </a:lnTo>
                <a:lnTo>
                  <a:pt x="28118" y="156421"/>
                </a:lnTo>
                <a:lnTo>
                  <a:pt x="24240" y="161854"/>
                </a:lnTo>
                <a:lnTo>
                  <a:pt x="19962" y="167170"/>
                </a:lnTo>
                <a:lnTo>
                  <a:pt x="15415" y="172406"/>
                </a:lnTo>
                <a:lnTo>
                  <a:pt x="12385" y="176744"/>
                </a:lnTo>
                <a:lnTo>
                  <a:pt x="10365" y="180483"/>
                </a:lnTo>
                <a:lnTo>
                  <a:pt x="9018" y="183822"/>
                </a:lnTo>
                <a:lnTo>
                  <a:pt x="7273" y="187741"/>
                </a:lnTo>
                <a:lnTo>
                  <a:pt x="0" y="203035"/>
                </a:lnTo>
                <a:lnTo>
                  <a:pt x="415" y="204784"/>
                </a:lnTo>
                <a:lnTo>
                  <a:pt x="4197" y="211289"/>
                </a:lnTo>
                <a:lnTo>
                  <a:pt x="5379" y="216108"/>
                </a:lnTo>
                <a:lnTo>
                  <a:pt x="6541" y="217732"/>
                </a:lnTo>
                <a:lnTo>
                  <a:pt x="8162" y="218815"/>
                </a:lnTo>
                <a:lnTo>
                  <a:pt x="12222" y="220018"/>
                </a:lnTo>
                <a:lnTo>
                  <a:pt x="20113" y="220695"/>
                </a:lnTo>
                <a:lnTo>
                  <a:pt x="28256" y="220853"/>
                </a:lnTo>
                <a:lnTo>
                  <a:pt x="67872" y="220969"/>
                </a:lnTo>
                <a:lnTo>
                  <a:pt x="76142" y="220126"/>
                </a:lnTo>
                <a:lnTo>
                  <a:pt x="85043" y="218717"/>
                </a:lnTo>
                <a:lnTo>
                  <a:pt x="94363" y="216932"/>
                </a:lnTo>
                <a:lnTo>
                  <a:pt x="103963" y="215741"/>
                </a:lnTo>
                <a:lnTo>
                  <a:pt x="113751" y="214947"/>
                </a:lnTo>
                <a:lnTo>
                  <a:pt x="123662" y="214418"/>
                </a:lnTo>
                <a:lnTo>
                  <a:pt x="132810" y="213219"/>
                </a:lnTo>
                <a:lnTo>
                  <a:pt x="141448" y="211573"/>
                </a:lnTo>
                <a:lnTo>
                  <a:pt x="149746" y="209628"/>
                </a:lnTo>
                <a:lnTo>
                  <a:pt x="158666" y="208332"/>
                </a:lnTo>
                <a:lnTo>
                  <a:pt x="167999" y="207468"/>
                </a:lnTo>
                <a:lnTo>
                  <a:pt x="177607" y="206892"/>
                </a:lnTo>
                <a:lnTo>
                  <a:pt x="195057" y="206252"/>
                </a:lnTo>
                <a:lnTo>
                  <a:pt x="219160" y="205892"/>
                </a:lnTo>
                <a:lnTo>
                  <a:pt x="226955" y="205841"/>
                </a:lnTo>
                <a:lnTo>
                  <a:pt x="233845" y="204961"/>
                </a:lnTo>
                <a:lnTo>
                  <a:pt x="240131" y="203527"/>
                </a:lnTo>
                <a:lnTo>
                  <a:pt x="246016" y="201725"/>
                </a:lnTo>
                <a:lnTo>
                  <a:pt x="250786" y="199677"/>
                </a:lnTo>
                <a:lnTo>
                  <a:pt x="258342" y="195143"/>
                </a:lnTo>
                <a:lnTo>
                  <a:pt x="264523" y="192564"/>
                </a:lnTo>
                <a:lnTo>
                  <a:pt x="273024" y="1905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InkAnnotation114"/>
          <p:cNvSpPr/>
          <p:nvPr/>
        </p:nvSpPr>
        <p:spPr>
          <a:xfrm>
            <a:off x="7116840" y="2620800"/>
            <a:ext cx="152280" cy="304920"/>
          </a:xfrm>
          <a:custGeom>
            <a:avLst/>
            <a:gdLst>
              <a:gd name="textAreaLeft" fmla="*/ 0 w 152280"/>
              <a:gd name="textAreaRight" fmla="*/ 152640 w 1522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52401" h="304801">
                <a:moveTo>
                  <a:pt x="152400" y="0"/>
                </a:moveTo>
                <a:lnTo>
                  <a:pt x="152400" y="10606"/>
                </a:lnTo>
                <a:lnTo>
                  <a:pt x="151554" y="12998"/>
                </a:lnTo>
                <a:lnTo>
                  <a:pt x="148355" y="17912"/>
                </a:lnTo>
                <a:lnTo>
                  <a:pt x="146369" y="25177"/>
                </a:lnTo>
                <a:lnTo>
                  <a:pt x="144640" y="34050"/>
                </a:lnTo>
                <a:lnTo>
                  <a:pt x="142993" y="38787"/>
                </a:lnTo>
                <a:lnTo>
                  <a:pt x="141049" y="43638"/>
                </a:lnTo>
                <a:lnTo>
                  <a:pt x="138906" y="48565"/>
                </a:lnTo>
                <a:lnTo>
                  <a:pt x="134267" y="58555"/>
                </a:lnTo>
                <a:lnTo>
                  <a:pt x="126896" y="73700"/>
                </a:lnTo>
                <a:lnTo>
                  <a:pt x="124390" y="79614"/>
                </a:lnTo>
                <a:lnTo>
                  <a:pt x="121873" y="86096"/>
                </a:lnTo>
                <a:lnTo>
                  <a:pt x="116820" y="100071"/>
                </a:lnTo>
                <a:lnTo>
                  <a:pt x="111751" y="114750"/>
                </a:lnTo>
                <a:lnTo>
                  <a:pt x="108367" y="122220"/>
                </a:lnTo>
                <a:lnTo>
                  <a:pt x="104418" y="129740"/>
                </a:lnTo>
                <a:lnTo>
                  <a:pt x="100092" y="137293"/>
                </a:lnTo>
                <a:lnTo>
                  <a:pt x="95515" y="144869"/>
                </a:lnTo>
                <a:lnTo>
                  <a:pt x="85913" y="160060"/>
                </a:lnTo>
                <a:lnTo>
                  <a:pt x="81829" y="167666"/>
                </a:lnTo>
                <a:lnTo>
                  <a:pt x="78258" y="175278"/>
                </a:lnTo>
                <a:lnTo>
                  <a:pt x="75033" y="182892"/>
                </a:lnTo>
                <a:lnTo>
                  <a:pt x="70342" y="189661"/>
                </a:lnTo>
                <a:lnTo>
                  <a:pt x="64675" y="195868"/>
                </a:lnTo>
                <a:lnTo>
                  <a:pt x="58356" y="201698"/>
                </a:lnTo>
                <a:lnTo>
                  <a:pt x="53297" y="208126"/>
                </a:lnTo>
                <a:lnTo>
                  <a:pt x="49079" y="214950"/>
                </a:lnTo>
                <a:lnTo>
                  <a:pt x="45418" y="222040"/>
                </a:lnTo>
                <a:lnTo>
                  <a:pt x="41286" y="228460"/>
                </a:lnTo>
                <a:lnTo>
                  <a:pt x="36838" y="234433"/>
                </a:lnTo>
                <a:lnTo>
                  <a:pt x="32179" y="240109"/>
                </a:lnTo>
                <a:lnTo>
                  <a:pt x="28226" y="245586"/>
                </a:lnTo>
                <a:lnTo>
                  <a:pt x="24744" y="250931"/>
                </a:lnTo>
                <a:lnTo>
                  <a:pt x="21576" y="256187"/>
                </a:lnTo>
                <a:lnTo>
                  <a:pt x="19464" y="261385"/>
                </a:lnTo>
                <a:lnTo>
                  <a:pt x="18057" y="266543"/>
                </a:lnTo>
                <a:lnTo>
                  <a:pt x="17117" y="271675"/>
                </a:lnTo>
                <a:lnTo>
                  <a:pt x="13817" y="279636"/>
                </a:lnTo>
                <a:lnTo>
                  <a:pt x="9528" y="286843"/>
                </a:lnTo>
                <a:lnTo>
                  <a:pt x="0" y="3048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InkAnnotation115"/>
          <p:cNvSpPr/>
          <p:nvPr/>
        </p:nvSpPr>
        <p:spPr>
          <a:xfrm>
            <a:off x="6988320" y="2765520"/>
            <a:ext cx="479160" cy="336600"/>
          </a:xfrm>
          <a:custGeom>
            <a:avLst/>
            <a:gdLst>
              <a:gd name="textAreaLeft" fmla="*/ 0 w 479160"/>
              <a:gd name="textAreaRight" fmla="*/ 479520 w 47916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480060" h="335281">
                <a:moveTo>
                  <a:pt x="480059" y="0"/>
                </a:moveTo>
                <a:lnTo>
                  <a:pt x="469454" y="10606"/>
                </a:lnTo>
                <a:lnTo>
                  <a:pt x="460105" y="15438"/>
                </a:lnTo>
                <a:lnTo>
                  <a:pt x="448331" y="21255"/>
                </a:lnTo>
                <a:lnTo>
                  <a:pt x="437454" y="29485"/>
                </a:lnTo>
                <a:lnTo>
                  <a:pt x="426974" y="38786"/>
                </a:lnTo>
                <a:lnTo>
                  <a:pt x="415826" y="48565"/>
                </a:lnTo>
                <a:lnTo>
                  <a:pt x="402405" y="58556"/>
                </a:lnTo>
                <a:lnTo>
                  <a:pt x="395269" y="64437"/>
                </a:lnTo>
                <a:lnTo>
                  <a:pt x="387973" y="70898"/>
                </a:lnTo>
                <a:lnTo>
                  <a:pt x="380569" y="77745"/>
                </a:lnTo>
                <a:lnTo>
                  <a:pt x="372246" y="84850"/>
                </a:lnTo>
                <a:lnTo>
                  <a:pt x="363311" y="92127"/>
                </a:lnTo>
                <a:lnTo>
                  <a:pt x="353967" y="99518"/>
                </a:lnTo>
                <a:lnTo>
                  <a:pt x="343505" y="106985"/>
                </a:lnTo>
                <a:lnTo>
                  <a:pt x="332297" y="114504"/>
                </a:lnTo>
                <a:lnTo>
                  <a:pt x="320591" y="122056"/>
                </a:lnTo>
                <a:lnTo>
                  <a:pt x="309401" y="128784"/>
                </a:lnTo>
                <a:lnTo>
                  <a:pt x="298554" y="134963"/>
                </a:lnTo>
                <a:lnTo>
                  <a:pt x="287936" y="140775"/>
                </a:lnTo>
                <a:lnTo>
                  <a:pt x="277471" y="147190"/>
                </a:lnTo>
                <a:lnTo>
                  <a:pt x="267106" y="154007"/>
                </a:lnTo>
                <a:lnTo>
                  <a:pt x="256812" y="161091"/>
                </a:lnTo>
                <a:lnTo>
                  <a:pt x="245715" y="169201"/>
                </a:lnTo>
                <a:lnTo>
                  <a:pt x="189044" y="212395"/>
                </a:lnTo>
                <a:lnTo>
                  <a:pt x="178523" y="219490"/>
                </a:lnTo>
                <a:lnTo>
                  <a:pt x="168121" y="225913"/>
                </a:lnTo>
                <a:lnTo>
                  <a:pt x="157801" y="231889"/>
                </a:lnTo>
                <a:lnTo>
                  <a:pt x="147535" y="238413"/>
                </a:lnTo>
                <a:lnTo>
                  <a:pt x="137303" y="245302"/>
                </a:lnTo>
                <a:lnTo>
                  <a:pt x="127095" y="252434"/>
                </a:lnTo>
                <a:lnTo>
                  <a:pt x="117750" y="259730"/>
                </a:lnTo>
                <a:lnTo>
                  <a:pt x="108980" y="267133"/>
                </a:lnTo>
                <a:lnTo>
                  <a:pt x="100594" y="274609"/>
                </a:lnTo>
                <a:lnTo>
                  <a:pt x="91616" y="280439"/>
                </a:lnTo>
                <a:lnTo>
                  <a:pt x="82245" y="285173"/>
                </a:lnTo>
                <a:lnTo>
                  <a:pt x="72610" y="289175"/>
                </a:lnTo>
                <a:lnTo>
                  <a:pt x="63647" y="293537"/>
                </a:lnTo>
                <a:lnTo>
                  <a:pt x="55131" y="298138"/>
                </a:lnTo>
                <a:lnTo>
                  <a:pt x="46914" y="302899"/>
                </a:lnTo>
                <a:lnTo>
                  <a:pt x="33268" y="312704"/>
                </a:lnTo>
                <a:lnTo>
                  <a:pt x="22407" y="321013"/>
                </a:lnTo>
                <a:lnTo>
                  <a:pt x="8535" y="328605"/>
                </a:lnTo>
                <a:lnTo>
                  <a:pt x="0" y="3352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2288"/>
          <p:cNvSpPr/>
          <p:nvPr/>
        </p:nvSpPr>
        <p:spPr>
          <a:xfrm>
            <a:off x="7308720" y="2949480"/>
            <a:ext cx="141480" cy="144720"/>
          </a:xfrm>
          <a:custGeom>
            <a:avLst/>
            <a:gdLst>
              <a:gd name="textAreaLeft" fmla="*/ 0 w 141480"/>
              <a:gd name="textAreaRight" fmla="*/ 141840 w 1414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42344" h="144324">
                <a:moveTo>
                  <a:pt x="75404" y="0"/>
                </a:moveTo>
                <a:lnTo>
                  <a:pt x="75404" y="6561"/>
                </a:lnTo>
                <a:lnTo>
                  <a:pt x="74558" y="6914"/>
                </a:lnTo>
                <a:lnTo>
                  <a:pt x="71359" y="7306"/>
                </a:lnTo>
                <a:lnTo>
                  <a:pt x="69321" y="9104"/>
                </a:lnTo>
                <a:lnTo>
                  <a:pt x="67115" y="11996"/>
                </a:lnTo>
                <a:lnTo>
                  <a:pt x="64798" y="15617"/>
                </a:lnTo>
                <a:lnTo>
                  <a:pt x="62407" y="18878"/>
                </a:lnTo>
                <a:lnTo>
                  <a:pt x="59966" y="21899"/>
                </a:lnTo>
                <a:lnTo>
                  <a:pt x="57491" y="24759"/>
                </a:lnTo>
                <a:lnTo>
                  <a:pt x="54150" y="28359"/>
                </a:lnTo>
                <a:lnTo>
                  <a:pt x="41354" y="41517"/>
                </a:lnTo>
                <a:lnTo>
                  <a:pt x="31767" y="51190"/>
                </a:lnTo>
                <a:lnTo>
                  <a:pt x="27686" y="56140"/>
                </a:lnTo>
                <a:lnTo>
                  <a:pt x="24119" y="61133"/>
                </a:lnTo>
                <a:lnTo>
                  <a:pt x="20894" y="66155"/>
                </a:lnTo>
                <a:lnTo>
                  <a:pt x="17051" y="71197"/>
                </a:lnTo>
                <a:lnTo>
                  <a:pt x="12796" y="76251"/>
                </a:lnTo>
                <a:lnTo>
                  <a:pt x="8265" y="81314"/>
                </a:lnTo>
                <a:lnTo>
                  <a:pt x="5245" y="86383"/>
                </a:lnTo>
                <a:lnTo>
                  <a:pt x="3232" y="91455"/>
                </a:lnTo>
                <a:lnTo>
                  <a:pt x="1889" y="96530"/>
                </a:lnTo>
                <a:lnTo>
                  <a:pt x="994" y="101607"/>
                </a:lnTo>
                <a:lnTo>
                  <a:pt x="397" y="106685"/>
                </a:lnTo>
                <a:lnTo>
                  <a:pt x="0" y="111763"/>
                </a:lnTo>
                <a:lnTo>
                  <a:pt x="581" y="115995"/>
                </a:lnTo>
                <a:lnTo>
                  <a:pt x="1815" y="119664"/>
                </a:lnTo>
                <a:lnTo>
                  <a:pt x="3485" y="122956"/>
                </a:lnTo>
                <a:lnTo>
                  <a:pt x="6291" y="125997"/>
                </a:lnTo>
                <a:lnTo>
                  <a:pt x="9856" y="128872"/>
                </a:lnTo>
                <a:lnTo>
                  <a:pt x="13925" y="131635"/>
                </a:lnTo>
                <a:lnTo>
                  <a:pt x="18331" y="134323"/>
                </a:lnTo>
                <a:lnTo>
                  <a:pt x="22962" y="136962"/>
                </a:lnTo>
                <a:lnTo>
                  <a:pt x="27743" y="139568"/>
                </a:lnTo>
                <a:lnTo>
                  <a:pt x="33470" y="141305"/>
                </a:lnTo>
                <a:lnTo>
                  <a:pt x="39827" y="142463"/>
                </a:lnTo>
                <a:lnTo>
                  <a:pt x="46607" y="143236"/>
                </a:lnTo>
                <a:lnTo>
                  <a:pt x="53666" y="143751"/>
                </a:lnTo>
                <a:lnTo>
                  <a:pt x="60912" y="144093"/>
                </a:lnTo>
                <a:lnTo>
                  <a:pt x="68282" y="144323"/>
                </a:lnTo>
                <a:lnTo>
                  <a:pt x="74889" y="143628"/>
                </a:lnTo>
                <a:lnTo>
                  <a:pt x="80988" y="142319"/>
                </a:lnTo>
                <a:lnTo>
                  <a:pt x="86746" y="140599"/>
                </a:lnTo>
                <a:lnTo>
                  <a:pt x="92278" y="137760"/>
                </a:lnTo>
                <a:lnTo>
                  <a:pt x="97660" y="134173"/>
                </a:lnTo>
                <a:lnTo>
                  <a:pt x="102942" y="130089"/>
                </a:lnTo>
                <a:lnTo>
                  <a:pt x="108156" y="125673"/>
                </a:lnTo>
                <a:lnTo>
                  <a:pt x="113325" y="121035"/>
                </a:lnTo>
                <a:lnTo>
                  <a:pt x="118464" y="116250"/>
                </a:lnTo>
                <a:lnTo>
                  <a:pt x="122737" y="111367"/>
                </a:lnTo>
                <a:lnTo>
                  <a:pt x="126433" y="106418"/>
                </a:lnTo>
                <a:lnTo>
                  <a:pt x="129743" y="101425"/>
                </a:lnTo>
                <a:lnTo>
                  <a:pt x="132797" y="96403"/>
                </a:lnTo>
                <a:lnTo>
                  <a:pt x="135679" y="91363"/>
                </a:lnTo>
                <a:lnTo>
                  <a:pt x="138448" y="86308"/>
                </a:lnTo>
                <a:lnTo>
                  <a:pt x="140293" y="81246"/>
                </a:lnTo>
                <a:lnTo>
                  <a:pt x="141524" y="76177"/>
                </a:lnTo>
                <a:lnTo>
                  <a:pt x="142343" y="71105"/>
                </a:lnTo>
                <a:lnTo>
                  <a:pt x="142043" y="66030"/>
                </a:lnTo>
                <a:lnTo>
                  <a:pt x="140996" y="60953"/>
                </a:lnTo>
                <a:lnTo>
                  <a:pt x="139452" y="55875"/>
                </a:lnTo>
                <a:lnTo>
                  <a:pt x="137576" y="51644"/>
                </a:lnTo>
                <a:lnTo>
                  <a:pt x="135479" y="47976"/>
                </a:lnTo>
                <a:lnTo>
                  <a:pt x="133234" y="44684"/>
                </a:lnTo>
                <a:lnTo>
                  <a:pt x="130890" y="40796"/>
                </a:lnTo>
                <a:lnTo>
                  <a:pt x="128481" y="36511"/>
                </a:lnTo>
                <a:lnTo>
                  <a:pt x="126028" y="31961"/>
                </a:lnTo>
                <a:lnTo>
                  <a:pt x="123546" y="28080"/>
                </a:lnTo>
                <a:lnTo>
                  <a:pt x="121046" y="24647"/>
                </a:lnTo>
                <a:lnTo>
                  <a:pt x="118533" y="21511"/>
                </a:lnTo>
                <a:lnTo>
                  <a:pt x="115162" y="18574"/>
                </a:lnTo>
                <a:lnTo>
                  <a:pt x="111223" y="15769"/>
                </a:lnTo>
                <a:lnTo>
                  <a:pt x="106903" y="13053"/>
                </a:lnTo>
                <a:lnTo>
                  <a:pt x="102329" y="10395"/>
                </a:lnTo>
                <a:lnTo>
                  <a:pt x="92734" y="5185"/>
                </a:lnTo>
                <a:lnTo>
                  <a:pt x="88651" y="3456"/>
                </a:lnTo>
                <a:lnTo>
                  <a:pt x="85081" y="2304"/>
                </a:lnTo>
                <a:lnTo>
                  <a:pt x="81856" y="1536"/>
                </a:lnTo>
                <a:lnTo>
                  <a:pt x="80551" y="1024"/>
                </a:lnTo>
                <a:lnTo>
                  <a:pt x="80530" y="683"/>
                </a:lnTo>
                <a:lnTo>
                  <a:pt x="75404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InkAnnotation117"/>
          <p:cNvSpPr/>
          <p:nvPr/>
        </p:nvSpPr>
        <p:spPr>
          <a:xfrm>
            <a:off x="7316640" y="308628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44920" h="144231">
                <a:moveTo>
                  <a:pt x="89804" y="0"/>
                </a:moveTo>
                <a:lnTo>
                  <a:pt x="78453" y="11352"/>
                </a:lnTo>
                <a:lnTo>
                  <a:pt x="75463" y="13494"/>
                </a:lnTo>
                <a:lnTo>
                  <a:pt x="71777" y="15769"/>
                </a:lnTo>
                <a:lnTo>
                  <a:pt x="67626" y="18133"/>
                </a:lnTo>
                <a:lnTo>
                  <a:pt x="58498" y="23017"/>
                </a:lnTo>
                <a:lnTo>
                  <a:pt x="38840" y="33051"/>
                </a:lnTo>
                <a:lnTo>
                  <a:pt x="33815" y="36427"/>
                </a:lnTo>
                <a:lnTo>
                  <a:pt x="28771" y="40372"/>
                </a:lnTo>
                <a:lnTo>
                  <a:pt x="23715" y="44694"/>
                </a:lnTo>
                <a:lnTo>
                  <a:pt x="19498" y="49270"/>
                </a:lnTo>
                <a:lnTo>
                  <a:pt x="15840" y="54013"/>
                </a:lnTo>
                <a:lnTo>
                  <a:pt x="12555" y="58869"/>
                </a:lnTo>
                <a:lnTo>
                  <a:pt x="9518" y="63799"/>
                </a:lnTo>
                <a:lnTo>
                  <a:pt x="6646" y="68780"/>
                </a:lnTo>
                <a:lnTo>
                  <a:pt x="3885" y="73793"/>
                </a:lnTo>
                <a:lnTo>
                  <a:pt x="2044" y="78829"/>
                </a:lnTo>
                <a:lnTo>
                  <a:pt x="818" y="83879"/>
                </a:lnTo>
                <a:lnTo>
                  <a:pt x="0" y="88940"/>
                </a:lnTo>
                <a:lnTo>
                  <a:pt x="1148" y="94007"/>
                </a:lnTo>
                <a:lnTo>
                  <a:pt x="3606" y="99078"/>
                </a:lnTo>
                <a:lnTo>
                  <a:pt x="6939" y="104152"/>
                </a:lnTo>
                <a:lnTo>
                  <a:pt x="10855" y="108381"/>
                </a:lnTo>
                <a:lnTo>
                  <a:pt x="15158" y="112048"/>
                </a:lnTo>
                <a:lnTo>
                  <a:pt x="19720" y="115339"/>
                </a:lnTo>
                <a:lnTo>
                  <a:pt x="24455" y="119226"/>
                </a:lnTo>
                <a:lnTo>
                  <a:pt x="29305" y="123510"/>
                </a:lnTo>
                <a:lnTo>
                  <a:pt x="34231" y="128061"/>
                </a:lnTo>
                <a:lnTo>
                  <a:pt x="40055" y="131940"/>
                </a:lnTo>
                <a:lnTo>
                  <a:pt x="46478" y="135374"/>
                </a:lnTo>
                <a:lnTo>
                  <a:pt x="53299" y="138509"/>
                </a:lnTo>
                <a:lnTo>
                  <a:pt x="59541" y="140600"/>
                </a:lnTo>
                <a:lnTo>
                  <a:pt x="65396" y="141993"/>
                </a:lnTo>
                <a:lnTo>
                  <a:pt x="70991" y="142922"/>
                </a:lnTo>
                <a:lnTo>
                  <a:pt x="77262" y="143541"/>
                </a:lnTo>
                <a:lnTo>
                  <a:pt x="83983" y="143954"/>
                </a:lnTo>
                <a:lnTo>
                  <a:pt x="91003" y="144230"/>
                </a:lnTo>
                <a:lnTo>
                  <a:pt x="97377" y="143567"/>
                </a:lnTo>
                <a:lnTo>
                  <a:pt x="103320" y="142278"/>
                </a:lnTo>
                <a:lnTo>
                  <a:pt x="108974" y="140572"/>
                </a:lnTo>
                <a:lnTo>
                  <a:pt x="114438" y="138588"/>
                </a:lnTo>
                <a:lnTo>
                  <a:pt x="119774" y="136419"/>
                </a:lnTo>
                <a:lnTo>
                  <a:pt x="125023" y="134126"/>
                </a:lnTo>
                <a:lnTo>
                  <a:pt x="128523" y="130057"/>
                </a:lnTo>
                <a:lnTo>
                  <a:pt x="130857" y="124805"/>
                </a:lnTo>
                <a:lnTo>
                  <a:pt x="132412" y="118764"/>
                </a:lnTo>
                <a:lnTo>
                  <a:pt x="135143" y="113042"/>
                </a:lnTo>
                <a:lnTo>
                  <a:pt x="138657" y="107535"/>
                </a:lnTo>
                <a:lnTo>
                  <a:pt x="142693" y="102170"/>
                </a:lnTo>
                <a:lnTo>
                  <a:pt x="144536" y="96053"/>
                </a:lnTo>
                <a:lnTo>
                  <a:pt x="144919" y="89436"/>
                </a:lnTo>
                <a:lnTo>
                  <a:pt x="144327" y="82484"/>
                </a:lnTo>
                <a:lnTo>
                  <a:pt x="143086" y="75310"/>
                </a:lnTo>
                <a:lnTo>
                  <a:pt x="141412" y="67986"/>
                </a:lnTo>
                <a:lnTo>
                  <a:pt x="139449" y="60564"/>
                </a:lnTo>
                <a:lnTo>
                  <a:pt x="137294" y="53923"/>
                </a:lnTo>
                <a:lnTo>
                  <a:pt x="135011" y="47802"/>
                </a:lnTo>
                <a:lnTo>
                  <a:pt x="132641" y="42028"/>
                </a:lnTo>
                <a:lnTo>
                  <a:pt x="130216" y="37332"/>
                </a:lnTo>
                <a:lnTo>
                  <a:pt x="127751" y="33355"/>
                </a:lnTo>
                <a:lnTo>
                  <a:pt x="125262" y="29857"/>
                </a:lnTo>
                <a:lnTo>
                  <a:pt x="122756" y="26678"/>
                </a:lnTo>
                <a:lnTo>
                  <a:pt x="120239" y="23712"/>
                </a:lnTo>
                <a:lnTo>
                  <a:pt x="112664" y="15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InkAnnotation118"/>
          <p:cNvSpPr/>
          <p:nvPr/>
        </p:nvSpPr>
        <p:spPr>
          <a:xfrm>
            <a:off x="6705720" y="2895480"/>
            <a:ext cx="206280" cy="7920"/>
          </a:xfrm>
          <a:custGeom>
            <a:avLst/>
            <a:gdLst>
              <a:gd name="textAreaLeft" fmla="*/ 0 w 206280"/>
              <a:gd name="textAreaRight" fmla="*/ 206640 w 206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5741" h="7621">
                <a:moveTo>
                  <a:pt x="0" y="7620"/>
                </a:moveTo>
                <a:lnTo>
                  <a:pt x="36045" y="7620"/>
                </a:lnTo>
                <a:lnTo>
                  <a:pt x="42657" y="6773"/>
                </a:lnTo>
                <a:lnTo>
                  <a:pt x="50451" y="5362"/>
                </a:lnTo>
                <a:lnTo>
                  <a:pt x="59034" y="3575"/>
                </a:lnTo>
                <a:lnTo>
                  <a:pt x="67297" y="2383"/>
                </a:lnTo>
                <a:lnTo>
                  <a:pt x="75344" y="1589"/>
                </a:lnTo>
                <a:lnTo>
                  <a:pt x="83250" y="1059"/>
                </a:lnTo>
                <a:lnTo>
                  <a:pt x="91907" y="706"/>
                </a:lnTo>
                <a:lnTo>
                  <a:pt x="119424" y="209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0" y="6094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ify each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166680" y="120960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1143000" y="1219320"/>
                <a:ext cx="3062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0" name="Group 14"/>
          <p:cNvGrpSpPr/>
          <p:nvPr/>
        </p:nvGrpSpPr>
        <p:grpSpPr>
          <a:xfrm>
            <a:off x="4572000" y="1219320"/>
            <a:ext cx="4095720" cy="532800"/>
            <a:chOff x="4572000" y="1219320"/>
            <a:chExt cx="4095720" cy="532800"/>
          </a:xfrm>
        </p:grpSpPr>
        <p:sp>
          <p:nvSpPr>
            <p:cNvPr id="591" name="Text Box 7"/>
            <p:cNvSpPr/>
            <p:nvPr/>
          </p:nvSpPr>
          <p:spPr>
            <a:xfrm>
              <a:off x="4572000" y="1219320"/>
              <a:ext cx="121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4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Object 3"/>
                <p:cNvSpPr txBox="1"/>
                <p:nvPr/>
              </p:nvSpPr>
              <p:spPr>
                <a:xfrm>
                  <a:off x="5638680" y="1231920"/>
                  <a:ext cx="3029040" cy="52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3" name="Line 13"/>
          <p:cNvSpPr/>
          <p:nvPr/>
        </p:nvSpPr>
        <p:spPr>
          <a:xfrm>
            <a:off x="4419720" y="1143000"/>
            <a:ext cx="0" cy="4800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13318"/>
          <p:cNvGrpSpPr/>
          <p:nvPr/>
        </p:nvGrpSpPr>
        <p:grpSpPr>
          <a:xfrm>
            <a:off x="412920" y="963720"/>
            <a:ext cx="8613720" cy="2076480"/>
            <a:chOff x="412920" y="963720"/>
            <a:chExt cx="8613720" cy="2076480"/>
          </a:xfrm>
        </p:grpSpPr>
        <p:sp>
          <p:nvSpPr>
            <p:cNvPr id="595" name="SMARTInkAnnotation26"/>
            <p:cNvSpPr/>
            <p:nvPr/>
          </p:nvSpPr>
          <p:spPr>
            <a:xfrm>
              <a:off x="1402920" y="1051920"/>
              <a:ext cx="539640" cy="2660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539702" h="266345">
                  <a:moveTo>
                    <a:pt x="15144" y="243484"/>
                  </a:moveTo>
                  <a:lnTo>
                    <a:pt x="8583" y="236923"/>
                  </a:lnTo>
                  <a:lnTo>
                    <a:pt x="7995" y="234077"/>
                  </a:lnTo>
                  <a:lnTo>
                    <a:pt x="7838" y="232133"/>
                  </a:lnTo>
                  <a:lnTo>
                    <a:pt x="6887" y="230837"/>
                  </a:lnTo>
                  <a:lnTo>
                    <a:pt x="5406" y="229972"/>
                  </a:lnTo>
                  <a:lnTo>
                    <a:pt x="3572" y="229396"/>
                  </a:lnTo>
                  <a:lnTo>
                    <a:pt x="2349" y="228166"/>
                  </a:lnTo>
                  <a:lnTo>
                    <a:pt x="1534" y="226498"/>
                  </a:lnTo>
                  <a:lnTo>
                    <a:pt x="628" y="222388"/>
                  </a:lnTo>
                  <a:lnTo>
                    <a:pt x="119" y="214468"/>
                  </a:lnTo>
                  <a:lnTo>
                    <a:pt x="0" y="206317"/>
                  </a:lnTo>
                  <a:lnTo>
                    <a:pt x="815" y="202619"/>
                  </a:lnTo>
                  <a:lnTo>
                    <a:pt x="3978" y="196253"/>
                  </a:lnTo>
                  <a:lnTo>
                    <a:pt x="5948" y="188344"/>
                  </a:lnTo>
                  <a:lnTo>
                    <a:pt x="6473" y="183864"/>
                  </a:lnTo>
                  <a:lnTo>
                    <a:pt x="7671" y="179184"/>
                  </a:lnTo>
                  <a:lnTo>
                    <a:pt x="9315" y="174371"/>
                  </a:lnTo>
                  <a:lnTo>
                    <a:pt x="11258" y="169468"/>
                  </a:lnTo>
                  <a:lnTo>
                    <a:pt x="13400" y="164507"/>
                  </a:lnTo>
                  <a:lnTo>
                    <a:pt x="18038" y="154479"/>
                  </a:lnTo>
                  <a:lnTo>
                    <a:pt x="21307" y="149434"/>
                  </a:lnTo>
                  <a:lnTo>
                    <a:pt x="25179" y="144377"/>
                  </a:lnTo>
                  <a:lnTo>
                    <a:pt x="29454" y="139313"/>
                  </a:lnTo>
                  <a:lnTo>
                    <a:pt x="34844" y="133397"/>
                  </a:lnTo>
                  <a:lnTo>
                    <a:pt x="47606" y="120050"/>
                  </a:lnTo>
                  <a:lnTo>
                    <a:pt x="80912" y="86317"/>
                  </a:lnTo>
                  <a:lnTo>
                    <a:pt x="86930" y="81133"/>
                  </a:lnTo>
                  <a:lnTo>
                    <a:pt x="93481" y="75983"/>
                  </a:lnTo>
                  <a:lnTo>
                    <a:pt x="100389" y="70857"/>
                  </a:lnTo>
                  <a:lnTo>
                    <a:pt x="114837" y="60645"/>
                  </a:lnTo>
                  <a:lnTo>
                    <a:pt x="122246" y="55552"/>
                  </a:lnTo>
                  <a:lnTo>
                    <a:pt x="137252" y="47634"/>
                  </a:lnTo>
                  <a:lnTo>
                    <a:pt x="153234" y="40446"/>
                  </a:lnTo>
                  <a:lnTo>
                    <a:pt x="171626" y="31607"/>
                  </a:lnTo>
                  <a:lnTo>
                    <a:pt x="180426" y="27726"/>
                  </a:lnTo>
                  <a:lnTo>
                    <a:pt x="196976" y="21156"/>
                  </a:lnTo>
                  <a:lnTo>
                    <a:pt x="205792" y="18219"/>
                  </a:lnTo>
                  <a:lnTo>
                    <a:pt x="215056" y="15414"/>
                  </a:lnTo>
                  <a:lnTo>
                    <a:pt x="224619" y="12697"/>
                  </a:lnTo>
                  <a:lnTo>
                    <a:pt x="233534" y="10886"/>
                  </a:lnTo>
                  <a:lnTo>
                    <a:pt x="259063" y="7491"/>
                  </a:lnTo>
                  <a:lnTo>
                    <a:pt x="268350" y="5722"/>
                  </a:lnTo>
                  <a:lnTo>
                    <a:pt x="277928" y="3696"/>
                  </a:lnTo>
                  <a:lnTo>
                    <a:pt x="286853" y="2345"/>
                  </a:lnTo>
                  <a:lnTo>
                    <a:pt x="303544" y="845"/>
                  </a:lnTo>
                  <a:lnTo>
                    <a:pt x="312397" y="445"/>
                  </a:lnTo>
                  <a:lnTo>
                    <a:pt x="331265" y="0"/>
                  </a:lnTo>
                  <a:lnTo>
                    <a:pt x="340192" y="728"/>
                  </a:lnTo>
                  <a:lnTo>
                    <a:pt x="356883" y="3795"/>
                  </a:lnTo>
                  <a:lnTo>
                    <a:pt x="372768" y="7980"/>
                  </a:lnTo>
                  <a:lnTo>
                    <a:pt x="388295" y="12662"/>
                  </a:lnTo>
                  <a:lnTo>
                    <a:pt x="426594" y="25086"/>
                  </a:lnTo>
                  <a:lnTo>
                    <a:pt x="441851" y="32400"/>
                  </a:lnTo>
                  <a:lnTo>
                    <a:pt x="449475" y="36722"/>
                  </a:lnTo>
                  <a:lnTo>
                    <a:pt x="457098" y="41296"/>
                  </a:lnTo>
                  <a:lnTo>
                    <a:pt x="472342" y="50894"/>
                  </a:lnTo>
                  <a:lnTo>
                    <a:pt x="479116" y="55824"/>
                  </a:lnTo>
                  <a:lnTo>
                    <a:pt x="485325" y="60804"/>
                  </a:lnTo>
                  <a:lnTo>
                    <a:pt x="491158" y="65817"/>
                  </a:lnTo>
                  <a:lnTo>
                    <a:pt x="495894" y="70853"/>
                  </a:lnTo>
                  <a:lnTo>
                    <a:pt x="499897" y="75903"/>
                  </a:lnTo>
                  <a:lnTo>
                    <a:pt x="503413" y="80964"/>
                  </a:lnTo>
                  <a:lnTo>
                    <a:pt x="507450" y="86030"/>
                  </a:lnTo>
                  <a:lnTo>
                    <a:pt x="511835" y="91102"/>
                  </a:lnTo>
                  <a:lnTo>
                    <a:pt x="516451" y="96176"/>
                  </a:lnTo>
                  <a:lnTo>
                    <a:pt x="520375" y="101252"/>
                  </a:lnTo>
                  <a:lnTo>
                    <a:pt x="523838" y="106329"/>
                  </a:lnTo>
                  <a:lnTo>
                    <a:pt x="526993" y="111408"/>
                  </a:lnTo>
                  <a:lnTo>
                    <a:pt x="529097" y="117333"/>
                  </a:lnTo>
                  <a:lnTo>
                    <a:pt x="530499" y="123823"/>
                  </a:lnTo>
                  <a:lnTo>
                    <a:pt x="531434" y="130690"/>
                  </a:lnTo>
                  <a:lnTo>
                    <a:pt x="532904" y="136962"/>
                  </a:lnTo>
                  <a:lnTo>
                    <a:pt x="534731" y="142836"/>
                  </a:lnTo>
                  <a:lnTo>
                    <a:pt x="536795" y="148445"/>
                  </a:lnTo>
                  <a:lnTo>
                    <a:pt x="538172" y="154725"/>
                  </a:lnTo>
                  <a:lnTo>
                    <a:pt x="539089" y="161451"/>
                  </a:lnTo>
                  <a:lnTo>
                    <a:pt x="539701" y="168476"/>
                  </a:lnTo>
                  <a:lnTo>
                    <a:pt x="539262" y="174852"/>
                  </a:lnTo>
                  <a:lnTo>
                    <a:pt x="538123" y="180796"/>
                  </a:lnTo>
                  <a:lnTo>
                    <a:pt x="536516" y="186452"/>
                  </a:lnTo>
                  <a:lnTo>
                    <a:pt x="535446" y="191916"/>
                  </a:lnTo>
                  <a:lnTo>
                    <a:pt x="534732" y="197252"/>
                  </a:lnTo>
                  <a:lnTo>
                    <a:pt x="534256" y="202503"/>
                  </a:lnTo>
                  <a:lnTo>
                    <a:pt x="533939" y="207697"/>
                  </a:lnTo>
                  <a:lnTo>
                    <a:pt x="533586" y="217983"/>
                  </a:lnTo>
                  <a:lnTo>
                    <a:pt x="533360" y="238384"/>
                  </a:lnTo>
                  <a:lnTo>
                    <a:pt x="533304" y="2663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MARTInkAnnotation27"/>
            <p:cNvSpPr/>
            <p:nvPr/>
          </p:nvSpPr>
          <p:spPr>
            <a:xfrm>
              <a:off x="1540080" y="1059480"/>
              <a:ext cx="1112400" cy="30456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112521" h="304762">
                  <a:moveTo>
                    <a:pt x="0" y="266661"/>
                  </a:moveTo>
                  <a:lnTo>
                    <a:pt x="0" y="255310"/>
                  </a:lnTo>
                  <a:lnTo>
                    <a:pt x="847" y="253167"/>
                  </a:lnTo>
                  <a:lnTo>
                    <a:pt x="6084" y="246106"/>
                  </a:lnTo>
                  <a:lnTo>
                    <a:pt x="12997" y="237805"/>
                  </a:lnTo>
                  <a:lnTo>
                    <a:pt x="17912" y="229565"/>
                  </a:lnTo>
                  <a:lnTo>
                    <a:pt x="25177" y="220258"/>
                  </a:lnTo>
                  <a:lnTo>
                    <a:pt x="29485" y="215406"/>
                  </a:lnTo>
                  <a:lnTo>
                    <a:pt x="41044" y="207757"/>
                  </a:lnTo>
                  <a:lnTo>
                    <a:pt x="54648" y="200688"/>
                  </a:lnTo>
                  <a:lnTo>
                    <a:pt x="69162" y="191902"/>
                  </a:lnTo>
                  <a:lnTo>
                    <a:pt x="75741" y="187188"/>
                  </a:lnTo>
                  <a:lnTo>
                    <a:pt x="81821" y="182353"/>
                  </a:lnTo>
                  <a:lnTo>
                    <a:pt x="87567" y="177435"/>
                  </a:lnTo>
                  <a:lnTo>
                    <a:pt x="93938" y="172464"/>
                  </a:lnTo>
                  <a:lnTo>
                    <a:pt x="100725" y="167456"/>
                  </a:lnTo>
                  <a:lnTo>
                    <a:pt x="107790" y="162425"/>
                  </a:lnTo>
                  <a:lnTo>
                    <a:pt x="115887" y="157377"/>
                  </a:lnTo>
                  <a:lnTo>
                    <a:pt x="124671" y="152318"/>
                  </a:lnTo>
                  <a:lnTo>
                    <a:pt x="133914" y="147253"/>
                  </a:lnTo>
                  <a:lnTo>
                    <a:pt x="142616" y="142182"/>
                  </a:lnTo>
                  <a:lnTo>
                    <a:pt x="159058" y="132033"/>
                  </a:lnTo>
                  <a:lnTo>
                    <a:pt x="182595" y="116799"/>
                  </a:lnTo>
                  <a:lnTo>
                    <a:pt x="200251" y="108898"/>
                  </a:lnTo>
                  <a:lnTo>
                    <a:pt x="218540" y="101717"/>
                  </a:lnTo>
                  <a:lnTo>
                    <a:pt x="235135" y="92882"/>
                  </a:lnTo>
                  <a:lnTo>
                    <a:pt x="253236" y="83310"/>
                  </a:lnTo>
                  <a:lnTo>
                    <a:pt x="272569" y="74259"/>
                  </a:lnTo>
                  <a:lnTo>
                    <a:pt x="292451" y="67413"/>
                  </a:lnTo>
                  <a:lnTo>
                    <a:pt x="312576" y="59291"/>
                  </a:lnTo>
                  <a:lnTo>
                    <a:pt x="332809" y="50883"/>
                  </a:lnTo>
                  <a:lnTo>
                    <a:pt x="364087" y="41390"/>
                  </a:lnTo>
                  <a:lnTo>
                    <a:pt x="420583" y="28005"/>
                  </a:lnTo>
                  <a:lnTo>
                    <a:pt x="443748" y="22867"/>
                  </a:lnTo>
                  <a:lnTo>
                    <a:pt x="478332" y="15215"/>
                  </a:lnTo>
                  <a:lnTo>
                    <a:pt x="512286" y="7585"/>
                  </a:lnTo>
                  <a:lnTo>
                    <a:pt x="536716" y="3349"/>
                  </a:lnTo>
                  <a:lnTo>
                    <a:pt x="561685" y="1467"/>
                  </a:lnTo>
                  <a:lnTo>
                    <a:pt x="586893" y="630"/>
                  </a:lnTo>
                  <a:lnTo>
                    <a:pt x="637570" y="93"/>
                  </a:lnTo>
                  <a:lnTo>
                    <a:pt x="675649" y="0"/>
                  </a:lnTo>
                  <a:lnTo>
                    <a:pt x="701044" y="2236"/>
                  </a:lnTo>
                  <a:lnTo>
                    <a:pt x="726442" y="6052"/>
                  </a:lnTo>
                  <a:lnTo>
                    <a:pt x="751841" y="10570"/>
                  </a:lnTo>
                  <a:lnTo>
                    <a:pt x="785895" y="17874"/>
                  </a:lnTo>
                  <a:lnTo>
                    <a:pt x="821479" y="25401"/>
                  </a:lnTo>
                  <a:lnTo>
                    <a:pt x="844033" y="32716"/>
                  </a:lnTo>
                  <a:lnTo>
                    <a:pt x="890152" y="51210"/>
                  </a:lnTo>
                  <a:lnTo>
                    <a:pt x="900775" y="56141"/>
                  </a:lnTo>
                  <a:lnTo>
                    <a:pt x="910396" y="61121"/>
                  </a:lnTo>
                  <a:lnTo>
                    <a:pt x="919351" y="66134"/>
                  </a:lnTo>
                  <a:lnTo>
                    <a:pt x="938331" y="76220"/>
                  </a:lnTo>
                  <a:lnTo>
                    <a:pt x="948135" y="81281"/>
                  </a:lnTo>
                  <a:lnTo>
                    <a:pt x="957209" y="87194"/>
                  </a:lnTo>
                  <a:lnTo>
                    <a:pt x="965800" y="93676"/>
                  </a:lnTo>
                  <a:lnTo>
                    <a:pt x="974066" y="100538"/>
                  </a:lnTo>
                  <a:lnTo>
                    <a:pt x="982118" y="106806"/>
                  </a:lnTo>
                  <a:lnTo>
                    <a:pt x="990025" y="112677"/>
                  </a:lnTo>
                  <a:lnTo>
                    <a:pt x="997837" y="118285"/>
                  </a:lnTo>
                  <a:lnTo>
                    <a:pt x="1005584" y="124564"/>
                  </a:lnTo>
                  <a:lnTo>
                    <a:pt x="1013290" y="131290"/>
                  </a:lnTo>
                  <a:lnTo>
                    <a:pt x="1020966" y="138314"/>
                  </a:lnTo>
                  <a:lnTo>
                    <a:pt x="1028624" y="144689"/>
                  </a:lnTo>
                  <a:lnTo>
                    <a:pt x="1036269" y="150633"/>
                  </a:lnTo>
                  <a:lnTo>
                    <a:pt x="1043906" y="156289"/>
                  </a:lnTo>
                  <a:lnTo>
                    <a:pt x="1050691" y="162600"/>
                  </a:lnTo>
                  <a:lnTo>
                    <a:pt x="1056907" y="169347"/>
                  </a:lnTo>
                  <a:lnTo>
                    <a:pt x="1062745" y="176385"/>
                  </a:lnTo>
                  <a:lnTo>
                    <a:pt x="1067483" y="182771"/>
                  </a:lnTo>
                  <a:lnTo>
                    <a:pt x="1071489" y="188721"/>
                  </a:lnTo>
                  <a:lnTo>
                    <a:pt x="1079044" y="200694"/>
                  </a:lnTo>
                  <a:lnTo>
                    <a:pt x="1088046" y="214483"/>
                  </a:lnTo>
                  <a:lnTo>
                    <a:pt x="1091124" y="220869"/>
                  </a:lnTo>
                  <a:lnTo>
                    <a:pt x="1093176" y="226819"/>
                  </a:lnTo>
                  <a:lnTo>
                    <a:pt x="1094544" y="232480"/>
                  </a:lnTo>
                  <a:lnTo>
                    <a:pt x="1096303" y="237947"/>
                  </a:lnTo>
                  <a:lnTo>
                    <a:pt x="1098322" y="243285"/>
                  </a:lnTo>
                  <a:lnTo>
                    <a:pt x="1100514" y="248537"/>
                  </a:lnTo>
                  <a:lnTo>
                    <a:pt x="1102823" y="254579"/>
                  </a:lnTo>
                  <a:lnTo>
                    <a:pt x="1107646" y="268065"/>
                  </a:lnTo>
                  <a:lnTo>
                    <a:pt x="1109270" y="274370"/>
                  </a:lnTo>
                  <a:lnTo>
                    <a:pt x="1110354" y="280267"/>
                  </a:lnTo>
                  <a:lnTo>
                    <a:pt x="1111076" y="285892"/>
                  </a:lnTo>
                  <a:lnTo>
                    <a:pt x="1111878" y="294399"/>
                  </a:lnTo>
                  <a:lnTo>
                    <a:pt x="1112520" y="3047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MARTInkAnnotation28"/>
            <p:cNvSpPr/>
            <p:nvPr/>
          </p:nvSpPr>
          <p:spPr>
            <a:xfrm>
              <a:off x="671400" y="2080440"/>
              <a:ext cx="312120" cy="453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12421" h="45721">
                  <a:moveTo>
                    <a:pt x="0" y="45720"/>
                  </a:moveTo>
                  <a:lnTo>
                    <a:pt x="21957" y="45720"/>
                  </a:lnTo>
                  <a:lnTo>
                    <a:pt x="26492" y="44873"/>
                  </a:lnTo>
                  <a:lnTo>
                    <a:pt x="31208" y="43462"/>
                  </a:lnTo>
                  <a:lnTo>
                    <a:pt x="36045" y="41675"/>
                  </a:lnTo>
                  <a:lnTo>
                    <a:pt x="41810" y="40483"/>
                  </a:lnTo>
                  <a:lnTo>
                    <a:pt x="48194" y="39689"/>
                  </a:lnTo>
                  <a:lnTo>
                    <a:pt x="54989" y="39159"/>
                  </a:lnTo>
                  <a:lnTo>
                    <a:pt x="62059" y="37960"/>
                  </a:lnTo>
                  <a:lnTo>
                    <a:pt x="69313" y="36313"/>
                  </a:lnTo>
                  <a:lnTo>
                    <a:pt x="76689" y="34369"/>
                  </a:lnTo>
                  <a:lnTo>
                    <a:pt x="84993" y="33073"/>
                  </a:lnTo>
                  <a:lnTo>
                    <a:pt x="93915" y="32208"/>
                  </a:lnTo>
                  <a:lnTo>
                    <a:pt x="103250" y="31632"/>
                  </a:lnTo>
                  <a:lnTo>
                    <a:pt x="112860" y="30401"/>
                  </a:lnTo>
                  <a:lnTo>
                    <a:pt x="122653" y="28735"/>
                  </a:lnTo>
                  <a:lnTo>
                    <a:pt x="132569" y="26777"/>
                  </a:lnTo>
                  <a:lnTo>
                    <a:pt x="152617" y="22343"/>
                  </a:lnTo>
                  <a:lnTo>
                    <a:pt x="162705" y="19975"/>
                  </a:lnTo>
                  <a:lnTo>
                    <a:pt x="171970" y="18397"/>
                  </a:lnTo>
                  <a:lnTo>
                    <a:pt x="180687" y="17345"/>
                  </a:lnTo>
                  <a:lnTo>
                    <a:pt x="189038" y="16643"/>
                  </a:lnTo>
                  <a:lnTo>
                    <a:pt x="197992" y="15329"/>
                  </a:lnTo>
                  <a:lnTo>
                    <a:pt x="207348" y="13606"/>
                  </a:lnTo>
                  <a:lnTo>
                    <a:pt x="226775" y="9434"/>
                  </a:lnTo>
                  <a:lnTo>
                    <a:pt x="246698" y="4757"/>
                  </a:lnTo>
                  <a:lnTo>
                    <a:pt x="255905" y="3172"/>
                  </a:lnTo>
                  <a:lnTo>
                    <a:pt x="264584" y="2114"/>
                  </a:lnTo>
                  <a:lnTo>
                    <a:pt x="279306" y="940"/>
                  </a:lnTo>
                  <a:lnTo>
                    <a:pt x="288672" y="418"/>
                  </a:lnTo>
                  <a:lnTo>
                    <a:pt x="297914" y="186"/>
                  </a:lnTo>
                  <a:lnTo>
                    <a:pt x="3124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MARTInkAnnotation29"/>
            <p:cNvSpPr/>
            <p:nvPr/>
          </p:nvSpPr>
          <p:spPr>
            <a:xfrm>
              <a:off x="1113840" y="1830240"/>
              <a:ext cx="147240" cy="1807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7278" h="180821">
                  <a:moveTo>
                    <a:pt x="128954" y="44221"/>
                  </a:moveTo>
                  <a:lnTo>
                    <a:pt x="128954" y="18561"/>
                  </a:lnTo>
                  <a:lnTo>
                    <a:pt x="128107" y="16108"/>
                  </a:lnTo>
                  <a:lnTo>
                    <a:pt x="124909" y="11124"/>
                  </a:lnTo>
                  <a:lnTo>
                    <a:pt x="120665" y="6087"/>
                  </a:lnTo>
                  <a:lnTo>
                    <a:pt x="118348" y="3558"/>
                  </a:lnTo>
                  <a:lnTo>
                    <a:pt x="115957" y="1872"/>
                  </a:lnTo>
                  <a:lnTo>
                    <a:pt x="113516" y="749"/>
                  </a:lnTo>
                  <a:lnTo>
                    <a:pt x="111042" y="0"/>
                  </a:lnTo>
                  <a:lnTo>
                    <a:pt x="107699" y="347"/>
                  </a:lnTo>
                  <a:lnTo>
                    <a:pt x="103778" y="1425"/>
                  </a:lnTo>
                  <a:lnTo>
                    <a:pt x="99470" y="2990"/>
                  </a:lnTo>
                  <a:lnTo>
                    <a:pt x="94905" y="4034"/>
                  </a:lnTo>
                  <a:lnTo>
                    <a:pt x="90168" y="4729"/>
                  </a:lnTo>
                  <a:lnTo>
                    <a:pt x="85317" y="5193"/>
                  </a:lnTo>
                  <a:lnTo>
                    <a:pt x="80389" y="7196"/>
                  </a:lnTo>
                  <a:lnTo>
                    <a:pt x="75411" y="10225"/>
                  </a:lnTo>
                  <a:lnTo>
                    <a:pt x="70399" y="13937"/>
                  </a:lnTo>
                  <a:lnTo>
                    <a:pt x="64517" y="18951"/>
                  </a:lnTo>
                  <a:lnTo>
                    <a:pt x="58056" y="24835"/>
                  </a:lnTo>
                  <a:lnTo>
                    <a:pt x="39085" y="42992"/>
                  </a:lnTo>
                  <a:lnTo>
                    <a:pt x="33481" y="48482"/>
                  </a:lnTo>
                  <a:lnTo>
                    <a:pt x="28052" y="55528"/>
                  </a:lnTo>
                  <a:lnTo>
                    <a:pt x="22740" y="63613"/>
                  </a:lnTo>
                  <a:lnTo>
                    <a:pt x="17504" y="72389"/>
                  </a:lnTo>
                  <a:lnTo>
                    <a:pt x="13168" y="79933"/>
                  </a:lnTo>
                  <a:lnTo>
                    <a:pt x="6091" y="92831"/>
                  </a:lnTo>
                  <a:lnTo>
                    <a:pt x="3865" y="99487"/>
                  </a:lnTo>
                  <a:lnTo>
                    <a:pt x="2382" y="106465"/>
                  </a:lnTo>
                  <a:lnTo>
                    <a:pt x="1392" y="113657"/>
                  </a:lnTo>
                  <a:lnTo>
                    <a:pt x="733" y="120992"/>
                  </a:lnTo>
                  <a:lnTo>
                    <a:pt x="293" y="128422"/>
                  </a:lnTo>
                  <a:lnTo>
                    <a:pt x="0" y="135915"/>
                  </a:lnTo>
                  <a:lnTo>
                    <a:pt x="1498" y="141757"/>
                  </a:lnTo>
                  <a:lnTo>
                    <a:pt x="4190" y="146498"/>
                  </a:lnTo>
                  <a:lnTo>
                    <a:pt x="7678" y="150506"/>
                  </a:lnTo>
                  <a:lnTo>
                    <a:pt x="11697" y="154871"/>
                  </a:lnTo>
                  <a:lnTo>
                    <a:pt x="20677" y="164237"/>
                  </a:lnTo>
                  <a:lnTo>
                    <a:pt x="25443" y="168258"/>
                  </a:lnTo>
                  <a:lnTo>
                    <a:pt x="30313" y="171786"/>
                  </a:lnTo>
                  <a:lnTo>
                    <a:pt x="35254" y="174984"/>
                  </a:lnTo>
                  <a:lnTo>
                    <a:pt x="41087" y="177116"/>
                  </a:lnTo>
                  <a:lnTo>
                    <a:pt x="47516" y="178538"/>
                  </a:lnTo>
                  <a:lnTo>
                    <a:pt x="54342" y="179486"/>
                  </a:lnTo>
                  <a:lnTo>
                    <a:pt x="61433" y="180117"/>
                  </a:lnTo>
                  <a:lnTo>
                    <a:pt x="68700" y="180539"/>
                  </a:lnTo>
                  <a:lnTo>
                    <a:pt x="76085" y="180820"/>
                  </a:lnTo>
                  <a:lnTo>
                    <a:pt x="82701" y="180160"/>
                  </a:lnTo>
                  <a:lnTo>
                    <a:pt x="88805" y="178874"/>
                  </a:lnTo>
                  <a:lnTo>
                    <a:pt x="94568" y="177170"/>
                  </a:lnTo>
                  <a:lnTo>
                    <a:pt x="100104" y="175187"/>
                  </a:lnTo>
                  <a:lnTo>
                    <a:pt x="105487" y="173018"/>
                  </a:lnTo>
                  <a:lnTo>
                    <a:pt x="110769" y="170726"/>
                  </a:lnTo>
                  <a:lnTo>
                    <a:pt x="115984" y="167504"/>
                  </a:lnTo>
                  <a:lnTo>
                    <a:pt x="121154" y="163663"/>
                  </a:lnTo>
                  <a:lnTo>
                    <a:pt x="126295" y="159409"/>
                  </a:lnTo>
                  <a:lnTo>
                    <a:pt x="130568" y="154880"/>
                  </a:lnTo>
                  <a:lnTo>
                    <a:pt x="134263" y="150167"/>
                  </a:lnTo>
                  <a:lnTo>
                    <a:pt x="137573" y="145332"/>
                  </a:lnTo>
                  <a:lnTo>
                    <a:pt x="140627" y="139568"/>
                  </a:lnTo>
                  <a:lnTo>
                    <a:pt x="143509" y="133186"/>
                  </a:lnTo>
                  <a:lnTo>
                    <a:pt x="146278" y="126391"/>
                  </a:lnTo>
                  <a:lnTo>
                    <a:pt x="147277" y="120168"/>
                  </a:lnTo>
                  <a:lnTo>
                    <a:pt x="147096" y="114326"/>
                  </a:lnTo>
                  <a:lnTo>
                    <a:pt x="146128" y="108737"/>
                  </a:lnTo>
                  <a:lnTo>
                    <a:pt x="145484" y="102472"/>
                  </a:lnTo>
                  <a:lnTo>
                    <a:pt x="145054" y="95755"/>
                  </a:lnTo>
                  <a:lnTo>
                    <a:pt x="144767" y="88737"/>
                  </a:lnTo>
                  <a:lnTo>
                    <a:pt x="143730" y="82365"/>
                  </a:lnTo>
                  <a:lnTo>
                    <a:pt x="142191" y="76424"/>
                  </a:lnTo>
                  <a:lnTo>
                    <a:pt x="140319" y="70770"/>
                  </a:lnTo>
                  <a:lnTo>
                    <a:pt x="138224" y="66153"/>
                  </a:lnTo>
                  <a:lnTo>
                    <a:pt x="135981" y="62229"/>
                  </a:lnTo>
                  <a:lnTo>
                    <a:pt x="133639" y="58767"/>
                  </a:lnTo>
                  <a:lnTo>
                    <a:pt x="130384" y="55611"/>
                  </a:lnTo>
                  <a:lnTo>
                    <a:pt x="126521" y="52661"/>
                  </a:lnTo>
                  <a:lnTo>
                    <a:pt x="122252" y="49848"/>
                  </a:lnTo>
                  <a:lnTo>
                    <a:pt x="118559" y="47126"/>
                  </a:lnTo>
                  <a:lnTo>
                    <a:pt x="115251" y="44464"/>
                  </a:lnTo>
                  <a:lnTo>
                    <a:pt x="106094" y="366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MARTInkAnnotation30"/>
            <p:cNvSpPr/>
            <p:nvPr/>
          </p:nvSpPr>
          <p:spPr>
            <a:xfrm>
              <a:off x="1121400" y="2042280"/>
              <a:ext cx="174240" cy="144360"/>
            </a:xfrm>
            <a:custGeom>
              <a:avLst/>
              <a:gdLst>
                <a:gd name="textAreaLeft" fmla="*/ 0 w 174240"/>
                <a:gd name="textAreaRight" fmla="*/ 174240 w 174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74510" h="144486">
                  <a:moveTo>
                    <a:pt x="128962" y="15119"/>
                  </a:moveTo>
                  <a:lnTo>
                    <a:pt x="115095" y="1252"/>
                  </a:lnTo>
                  <a:lnTo>
                    <a:pt x="109817" y="489"/>
                  </a:lnTo>
                  <a:lnTo>
                    <a:pt x="106039" y="286"/>
                  </a:lnTo>
                  <a:lnTo>
                    <a:pt x="97325" y="60"/>
                  </a:lnTo>
                  <a:lnTo>
                    <a:pt x="92631" y="0"/>
                  </a:lnTo>
                  <a:lnTo>
                    <a:pt x="87808" y="806"/>
                  </a:lnTo>
                  <a:lnTo>
                    <a:pt x="82899" y="2191"/>
                  </a:lnTo>
                  <a:lnTo>
                    <a:pt x="77933" y="3960"/>
                  </a:lnTo>
                  <a:lnTo>
                    <a:pt x="72930" y="5986"/>
                  </a:lnTo>
                  <a:lnTo>
                    <a:pt x="67901" y="8184"/>
                  </a:lnTo>
                  <a:lnTo>
                    <a:pt x="57797" y="12883"/>
                  </a:lnTo>
                  <a:lnTo>
                    <a:pt x="47662" y="17794"/>
                  </a:lnTo>
                  <a:lnTo>
                    <a:pt x="42589" y="21983"/>
                  </a:lnTo>
                  <a:lnTo>
                    <a:pt x="37513" y="27315"/>
                  </a:lnTo>
                  <a:lnTo>
                    <a:pt x="32436" y="33410"/>
                  </a:lnTo>
                  <a:lnTo>
                    <a:pt x="27358" y="39166"/>
                  </a:lnTo>
                  <a:lnTo>
                    <a:pt x="17200" y="50078"/>
                  </a:lnTo>
                  <a:lnTo>
                    <a:pt x="12968" y="56205"/>
                  </a:lnTo>
                  <a:lnTo>
                    <a:pt x="9299" y="62830"/>
                  </a:lnTo>
                  <a:lnTo>
                    <a:pt x="6007" y="69786"/>
                  </a:lnTo>
                  <a:lnTo>
                    <a:pt x="3812" y="76964"/>
                  </a:lnTo>
                  <a:lnTo>
                    <a:pt x="2349" y="84289"/>
                  </a:lnTo>
                  <a:lnTo>
                    <a:pt x="1373" y="91712"/>
                  </a:lnTo>
                  <a:lnTo>
                    <a:pt x="723" y="98354"/>
                  </a:lnTo>
                  <a:lnTo>
                    <a:pt x="289" y="104476"/>
                  </a:lnTo>
                  <a:lnTo>
                    <a:pt x="0" y="110250"/>
                  </a:lnTo>
                  <a:lnTo>
                    <a:pt x="654" y="115793"/>
                  </a:lnTo>
                  <a:lnTo>
                    <a:pt x="1937" y="121182"/>
                  </a:lnTo>
                  <a:lnTo>
                    <a:pt x="3639" y="126468"/>
                  </a:lnTo>
                  <a:lnTo>
                    <a:pt x="6467" y="130838"/>
                  </a:lnTo>
                  <a:lnTo>
                    <a:pt x="10045" y="134599"/>
                  </a:lnTo>
                  <a:lnTo>
                    <a:pt x="14124" y="137952"/>
                  </a:lnTo>
                  <a:lnTo>
                    <a:pt x="19384" y="140188"/>
                  </a:lnTo>
                  <a:lnTo>
                    <a:pt x="25430" y="141678"/>
                  </a:lnTo>
                  <a:lnTo>
                    <a:pt x="32000" y="142672"/>
                  </a:lnTo>
                  <a:lnTo>
                    <a:pt x="38921" y="143334"/>
                  </a:lnTo>
                  <a:lnTo>
                    <a:pt x="46075" y="143776"/>
                  </a:lnTo>
                  <a:lnTo>
                    <a:pt x="60797" y="144267"/>
                  </a:lnTo>
                  <a:lnTo>
                    <a:pt x="75806" y="144485"/>
                  </a:lnTo>
                  <a:lnTo>
                    <a:pt x="84211" y="143696"/>
                  </a:lnTo>
                  <a:lnTo>
                    <a:pt x="93202" y="142324"/>
                  </a:lnTo>
                  <a:lnTo>
                    <a:pt x="102582" y="140562"/>
                  </a:lnTo>
                  <a:lnTo>
                    <a:pt x="110528" y="138541"/>
                  </a:lnTo>
                  <a:lnTo>
                    <a:pt x="117520" y="136347"/>
                  </a:lnTo>
                  <a:lnTo>
                    <a:pt x="123874" y="134038"/>
                  </a:lnTo>
                  <a:lnTo>
                    <a:pt x="129803" y="130805"/>
                  </a:lnTo>
                  <a:lnTo>
                    <a:pt x="135450" y="126956"/>
                  </a:lnTo>
                  <a:lnTo>
                    <a:pt x="140907" y="122697"/>
                  </a:lnTo>
                  <a:lnTo>
                    <a:pt x="146239" y="118164"/>
                  </a:lnTo>
                  <a:lnTo>
                    <a:pt x="151486" y="113449"/>
                  </a:lnTo>
                  <a:lnTo>
                    <a:pt x="156678" y="108613"/>
                  </a:lnTo>
                  <a:lnTo>
                    <a:pt x="160986" y="103695"/>
                  </a:lnTo>
                  <a:lnTo>
                    <a:pt x="164705" y="98723"/>
                  </a:lnTo>
                  <a:lnTo>
                    <a:pt x="168031" y="93715"/>
                  </a:lnTo>
                  <a:lnTo>
                    <a:pt x="170248" y="88683"/>
                  </a:lnTo>
                  <a:lnTo>
                    <a:pt x="171726" y="83635"/>
                  </a:lnTo>
                  <a:lnTo>
                    <a:pt x="172711" y="78576"/>
                  </a:lnTo>
                  <a:lnTo>
                    <a:pt x="173368" y="73511"/>
                  </a:lnTo>
                  <a:lnTo>
                    <a:pt x="173806" y="68440"/>
                  </a:lnTo>
                  <a:lnTo>
                    <a:pt x="174293" y="59137"/>
                  </a:lnTo>
                  <a:lnTo>
                    <a:pt x="174509" y="52180"/>
                  </a:lnTo>
                  <a:lnTo>
                    <a:pt x="173720" y="49140"/>
                  </a:lnTo>
                  <a:lnTo>
                    <a:pt x="172347" y="46266"/>
                  </a:lnTo>
                  <a:lnTo>
                    <a:pt x="167062" y="379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MARTInkAnnotation31"/>
            <p:cNvSpPr/>
            <p:nvPr/>
          </p:nvSpPr>
          <p:spPr>
            <a:xfrm>
              <a:off x="1395360" y="2049840"/>
              <a:ext cx="151920" cy="1900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52264" h="190408">
                  <a:moveTo>
                    <a:pt x="121920" y="7527"/>
                  </a:moveTo>
                  <a:lnTo>
                    <a:pt x="121920" y="3482"/>
                  </a:lnTo>
                  <a:lnTo>
                    <a:pt x="123614" y="2290"/>
                  </a:lnTo>
                  <a:lnTo>
                    <a:pt x="126436" y="1496"/>
                  </a:lnTo>
                  <a:lnTo>
                    <a:pt x="130010" y="966"/>
                  </a:lnTo>
                  <a:lnTo>
                    <a:pt x="133240" y="613"/>
                  </a:lnTo>
                  <a:lnTo>
                    <a:pt x="136240" y="378"/>
                  </a:lnTo>
                  <a:lnTo>
                    <a:pt x="139087" y="221"/>
                  </a:lnTo>
                  <a:lnTo>
                    <a:pt x="144508" y="47"/>
                  </a:lnTo>
                  <a:lnTo>
                    <a:pt x="147138" y="0"/>
                  </a:lnTo>
                  <a:lnTo>
                    <a:pt x="148892" y="816"/>
                  </a:lnTo>
                  <a:lnTo>
                    <a:pt x="150061" y="2206"/>
                  </a:lnTo>
                  <a:lnTo>
                    <a:pt x="151938" y="6476"/>
                  </a:lnTo>
                  <a:lnTo>
                    <a:pt x="152195" y="11576"/>
                  </a:lnTo>
                  <a:lnTo>
                    <a:pt x="152263" y="15306"/>
                  </a:lnTo>
                  <a:lnTo>
                    <a:pt x="151462" y="18640"/>
                  </a:lnTo>
                  <a:lnTo>
                    <a:pt x="150081" y="21709"/>
                  </a:lnTo>
                  <a:lnTo>
                    <a:pt x="148314" y="24602"/>
                  </a:lnTo>
                  <a:lnTo>
                    <a:pt x="144596" y="28223"/>
                  </a:lnTo>
                  <a:lnTo>
                    <a:pt x="139578" y="32331"/>
                  </a:lnTo>
                  <a:lnTo>
                    <a:pt x="133692" y="36763"/>
                  </a:lnTo>
                  <a:lnTo>
                    <a:pt x="128074" y="42258"/>
                  </a:lnTo>
                  <a:lnTo>
                    <a:pt x="122636" y="48461"/>
                  </a:lnTo>
                  <a:lnTo>
                    <a:pt x="117318" y="55136"/>
                  </a:lnTo>
                  <a:lnTo>
                    <a:pt x="112078" y="62127"/>
                  </a:lnTo>
                  <a:lnTo>
                    <a:pt x="101741" y="76667"/>
                  </a:lnTo>
                  <a:lnTo>
                    <a:pt x="95768" y="84100"/>
                  </a:lnTo>
                  <a:lnTo>
                    <a:pt x="89245" y="91596"/>
                  </a:lnTo>
                  <a:lnTo>
                    <a:pt x="82357" y="99133"/>
                  </a:lnTo>
                  <a:lnTo>
                    <a:pt x="76071" y="106698"/>
                  </a:lnTo>
                  <a:lnTo>
                    <a:pt x="70188" y="114281"/>
                  </a:lnTo>
                  <a:lnTo>
                    <a:pt x="64572" y="121876"/>
                  </a:lnTo>
                  <a:lnTo>
                    <a:pt x="58288" y="129480"/>
                  </a:lnTo>
                  <a:lnTo>
                    <a:pt x="51559" y="137089"/>
                  </a:lnTo>
                  <a:lnTo>
                    <a:pt x="38155" y="151470"/>
                  </a:lnTo>
                  <a:lnTo>
                    <a:pt x="14547" y="175757"/>
                  </a:lnTo>
                  <a:lnTo>
                    <a:pt x="0" y="1904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MARTInkAnnotation32"/>
            <p:cNvSpPr/>
            <p:nvPr/>
          </p:nvSpPr>
          <p:spPr>
            <a:xfrm>
              <a:off x="1387440" y="2057400"/>
              <a:ext cx="213120" cy="2055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13361" h="205741">
                  <a:moveTo>
                    <a:pt x="0" y="0"/>
                  </a:moveTo>
                  <a:lnTo>
                    <a:pt x="29485" y="29484"/>
                  </a:lnTo>
                  <a:lnTo>
                    <a:pt x="34896" y="34050"/>
                  </a:lnTo>
                  <a:lnTo>
                    <a:pt x="41044" y="38787"/>
                  </a:lnTo>
                  <a:lnTo>
                    <a:pt x="47683" y="43638"/>
                  </a:lnTo>
                  <a:lnTo>
                    <a:pt x="54648" y="49412"/>
                  </a:lnTo>
                  <a:lnTo>
                    <a:pt x="61832" y="55801"/>
                  </a:lnTo>
                  <a:lnTo>
                    <a:pt x="76588" y="69674"/>
                  </a:lnTo>
                  <a:lnTo>
                    <a:pt x="91612" y="84306"/>
                  </a:lnTo>
                  <a:lnTo>
                    <a:pt x="99175" y="90918"/>
                  </a:lnTo>
                  <a:lnTo>
                    <a:pt x="106757" y="97018"/>
                  </a:lnTo>
                  <a:lnTo>
                    <a:pt x="114351" y="102779"/>
                  </a:lnTo>
                  <a:lnTo>
                    <a:pt x="121954" y="109159"/>
                  </a:lnTo>
                  <a:lnTo>
                    <a:pt x="129563" y="115953"/>
                  </a:lnTo>
                  <a:lnTo>
                    <a:pt x="144790" y="130275"/>
                  </a:lnTo>
                  <a:lnTo>
                    <a:pt x="160025" y="145106"/>
                  </a:lnTo>
                  <a:lnTo>
                    <a:pt x="166796" y="152618"/>
                  </a:lnTo>
                  <a:lnTo>
                    <a:pt x="173004" y="160165"/>
                  </a:lnTo>
                  <a:lnTo>
                    <a:pt x="178836" y="167737"/>
                  </a:lnTo>
                  <a:lnTo>
                    <a:pt x="183571" y="173631"/>
                  </a:lnTo>
                  <a:lnTo>
                    <a:pt x="187574" y="178408"/>
                  </a:lnTo>
                  <a:lnTo>
                    <a:pt x="191089" y="182438"/>
                  </a:lnTo>
                  <a:lnTo>
                    <a:pt x="195126" y="186819"/>
                  </a:lnTo>
                  <a:lnTo>
                    <a:pt x="21336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MARTInkAnnotation33"/>
            <p:cNvSpPr/>
            <p:nvPr/>
          </p:nvSpPr>
          <p:spPr>
            <a:xfrm>
              <a:off x="1806840" y="1989000"/>
              <a:ext cx="44640" cy="289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44662" h="289561">
                  <a:moveTo>
                    <a:pt x="38100" y="0"/>
                  </a:moveTo>
                  <a:lnTo>
                    <a:pt x="38100" y="11352"/>
                  </a:lnTo>
                  <a:lnTo>
                    <a:pt x="38947" y="14341"/>
                  </a:lnTo>
                  <a:lnTo>
                    <a:pt x="40358" y="18027"/>
                  </a:lnTo>
                  <a:lnTo>
                    <a:pt x="42146" y="22178"/>
                  </a:lnTo>
                  <a:lnTo>
                    <a:pt x="43337" y="26639"/>
                  </a:lnTo>
                  <a:lnTo>
                    <a:pt x="44132" y="31306"/>
                  </a:lnTo>
                  <a:lnTo>
                    <a:pt x="44661" y="36111"/>
                  </a:lnTo>
                  <a:lnTo>
                    <a:pt x="44167" y="41854"/>
                  </a:lnTo>
                  <a:lnTo>
                    <a:pt x="42992" y="48223"/>
                  </a:lnTo>
                  <a:lnTo>
                    <a:pt x="41361" y="55008"/>
                  </a:lnTo>
                  <a:lnTo>
                    <a:pt x="40274" y="62072"/>
                  </a:lnTo>
                  <a:lnTo>
                    <a:pt x="39550" y="69321"/>
                  </a:lnTo>
                  <a:lnTo>
                    <a:pt x="39066" y="76695"/>
                  </a:lnTo>
                  <a:lnTo>
                    <a:pt x="38744" y="84150"/>
                  </a:lnTo>
                  <a:lnTo>
                    <a:pt x="38386" y="99207"/>
                  </a:lnTo>
                  <a:lnTo>
                    <a:pt x="37445" y="106778"/>
                  </a:lnTo>
                  <a:lnTo>
                    <a:pt x="35969" y="114365"/>
                  </a:lnTo>
                  <a:lnTo>
                    <a:pt x="34140" y="121964"/>
                  </a:lnTo>
                  <a:lnTo>
                    <a:pt x="32920" y="130416"/>
                  </a:lnTo>
                  <a:lnTo>
                    <a:pt x="32107" y="139437"/>
                  </a:lnTo>
                  <a:lnTo>
                    <a:pt x="31565" y="148838"/>
                  </a:lnTo>
                  <a:lnTo>
                    <a:pt x="30357" y="157645"/>
                  </a:lnTo>
                  <a:lnTo>
                    <a:pt x="28705" y="166057"/>
                  </a:lnTo>
                  <a:lnTo>
                    <a:pt x="26756" y="174205"/>
                  </a:lnTo>
                  <a:lnTo>
                    <a:pt x="25458" y="183023"/>
                  </a:lnTo>
                  <a:lnTo>
                    <a:pt x="24592" y="192289"/>
                  </a:lnTo>
                  <a:lnTo>
                    <a:pt x="24014" y="201852"/>
                  </a:lnTo>
                  <a:lnTo>
                    <a:pt x="22783" y="210768"/>
                  </a:lnTo>
                  <a:lnTo>
                    <a:pt x="21115" y="219252"/>
                  </a:lnTo>
                  <a:lnTo>
                    <a:pt x="19157" y="227448"/>
                  </a:lnTo>
                  <a:lnTo>
                    <a:pt x="17005" y="234606"/>
                  </a:lnTo>
                  <a:lnTo>
                    <a:pt x="14723" y="241071"/>
                  </a:lnTo>
                  <a:lnTo>
                    <a:pt x="12356" y="247074"/>
                  </a:lnTo>
                  <a:lnTo>
                    <a:pt x="10777" y="252769"/>
                  </a:lnTo>
                  <a:lnTo>
                    <a:pt x="9725" y="258260"/>
                  </a:lnTo>
                  <a:lnTo>
                    <a:pt x="9023" y="263613"/>
                  </a:lnTo>
                  <a:lnTo>
                    <a:pt x="7709" y="268029"/>
                  </a:lnTo>
                  <a:lnTo>
                    <a:pt x="5986" y="271819"/>
                  </a:lnTo>
                  <a:lnTo>
                    <a:pt x="3991" y="275193"/>
                  </a:lnTo>
                  <a:lnTo>
                    <a:pt x="2661" y="278289"/>
                  </a:lnTo>
                  <a:lnTo>
                    <a:pt x="1774" y="281199"/>
                  </a:lnTo>
                  <a:lnTo>
                    <a:pt x="0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MARTInkAnnotation34"/>
            <p:cNvSpPr/>
            <p:nvPr/>
          </p:nvSpPr>
          <p:spPr>
            <a:xfrm>
              <a:off x="1738080" y="2202120"/>
              <a:ext cx="159840" cy="7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0021" h="7621">
                  <a:moveTo>
                    <a:pt x="0" y="7620"/>
                  </a:moveTo>
                  <a:lnTo>
                    <a:pt x="81460" y="7620"/>
                  </a:lnTo>
                  <a:lnTo>
                    <a:pt x="90713" y="6774"/>
                  </a:lnTo>
                  <a:lnTo>
                    <a:pt x="100269" y="5362"/>
                  </a:lnTo>
                  <a:lnTo>
                    <a:pt x="110026" y="3575"/>
                  </a:lnTo>
                  <a:lnTo>
                    <a:pt x="118224" y="2383"/>
                  </a:lnTo>
                  <a:lnTo>
                    <a:pt x="125383" y="1589"/>
                  </a:lnTo>
                  <a:lnTo>
                    <a:pt x="131849" y="1059"/>
                  </a:lnTo>
                  <a:lnTo>
                    <a:pt x="137852" y="706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MARTInkAnnotation35"/>
            <p:cNvSpPr/>
            <p:nvPr/>
          </p:nvSpPr>
          <p:spPr>
            <a:xfrm>
              <a:off x="2038680" y="1996560"/>
              <a:ext cx="179280" cy="2512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79569" h="251461">
                  <a:moveTo>
                    <a:pt x="27168" y="0"/>
                  </a:moveTo>
                  <a:lnTo>
                    <a:pt x="23123" y="4045"/>
                  </a:lnTo>
                  <a:lnTo>
                    <a:pt x="21931" y="6930"/>
                  </a:lnTo>
                  <a:lnTo>
                    <a:pt x="20607" y="14651"/>
                  </a:lnTo>
                  <a:lnTo>
                    <a:pt x="19408" y="19081"/>
                  </a:lnTo>
                  <a:lnTo>
                    <a:pt x="17761" y="23727"/>
                  </a:lnTo>
                  <a:lnTo>
                    <a:pt x="15816" y="28518"/>
                  </a:lnTo>
                  <a:lnTo>
                    <a:pt x="13674" y="34252"/>
                  </a:lnTo>
                  <a:lnTo>
                    <a:pt x="9035" y="47397"/>
                  </a:lnTo>
                  <a:lnTo>
                    <a:pt x="7459" y="54458"/>
                  </a:lnTo>
                  <a:lnTo>
                    <a:pt x="6409" y="61705"/>
                  </a:lnTo>
                  <a:lnTo>
                    <a:pt x="5708" y="69077"/>
                  </a:lnTo>
                  <a:lnTo>
                    <a:pt x="5242" y="76531"/>
                  </a:lnTo>
                  <a:lnTo>
                    <a:pt x="4723" y="91587"/>
                  </a:lnTo>
                  <a:lnTo>
                    <a:pt x="3738" y="99158"/>
                  </a:lnTo>
                  <a:lnTo>
                    <a:pt x="2235" y="106746"/>
                  </a:lnTo>
                  <a:lnTo>
                    <a:pt x="386" y="114344"/>
                  </a:lnTo>
                  <a:lnTo>
                    <a:pt x="0" y="121103"/>
                  </a:lnTo>
                  <a:lnTo>
                    <a:pt x="589" y="127302"/>
                  </a:lnTo>
                  <a:lnTo>
                    <a:pt x="1829" y="133128"/>
                  </a:lnTo>
                  <a:lnTo>
                    <a:pt x="3501" y="139552"/>
                  </a:lnTo>
                  <a:lnTo>
                    <a:pt x="5464" y="146375"/>
                  </a:lnTo>
                  <a:lnTo>
                    <a:pt x="7618" y="153463"/>
                  </a:lnTo>
                  <a:lnTo>
                    <a:pt x="9902" y="159036"/>
                  </a:lnTo>
                  <a:lnTo>
                    <a:pt x="12271" y="163597"/>
                  </a:lnTo>
                  <a:lnTo>
                    <a:pt x="14696" y="167485"/>
                  </a:lnTo>
                  <a:lnTo>
                    <a:pt x="17160" y="171770"/>
                  </a:lnTo>
                  <a:lnTo>
                    <a:pt x="22156" y="181047"/>
                  </a:lnTo>
                  <a:lnTo>
                    <a:pt x="25520" y="185044"/>
                  </a:lnTo>
                  <a:lnTo>
                    <a:pt x="29456" y="188556"/>
                  </a:lnTo>
                  <a:lnTo>
                    <a:pt x="33773" y="191744"/>
                  </a:lnTo>
                  <a:lnTo>
                    <a:pt x="38345" y="193870"/>
                  </a:lnTo>
                  <a:lnTo>
                    <a:pt x="43086" y="195286"/>
                  </a:lnTo>
                  <a:lnTo>
                    <a:pt x="47940" y="196231"/>
                  </a:lnTo>
                  <a:lnTo>
                    <a:pt x="52023" y="196861"/>
                  </a:lnTo>
                  <a:lnTo>
                    <a:pt x="55591" y="197281"/>
                  </a:lnTo>
                  <a:lnTo>
                    <a:pt x="58817" y="197561"/>
                  </a:lnTo>
                  <a:lnTo>
                    <a:pt x="62660" y="197747"/>
                  </a:lnTo>
                  <a:lnTo>
                    <a:pt x="71447" y="197954"/>
                  </a:lnTo>
                  <a:lnTo>
                    <a:pt x="75314" y="196316"/>
                  </a:lnTo>
                  <a:lnTo>
                    <a:pt x="78739" y="193531"/>
                  </a:lnTo>
                  <a:lnTo>
                    <a:pt x="81869" y="189981"/>
                  </a:lnTo>
                  <a:lnTo>
                    <a:pt x="87604" y="183778"/>
                  </a:lnTo>
                  <a:lnTo>
                    <a:pt x="92975" y="177353"/>
                  </a:lnTo>
                  <a:lnTo>
                    <a:pt x="95593" y="173268"/>
                  </a:lnTo>
                  <a:lnTo>
                    <a:pt x="98185" y="168852"/>
                  </a:lnTo>
                  <a:lnTo>
                    <a:pt x="100759" y="164215"/>
                  </a:lnTo>
                  <a:lnTo>
                    <a:pt x="105877" y="154547"/>
                  </a:lnTo>
                  <a:lnTo>
                    <a:pt x="113519" y="139583"/>
                  </a:lnTo>
                  <a:lnTo>
                    <a:pt x="116347" y="131746"/>
                  </a:lnTo>
                  <a:lnTo>
                    <a:pt x="117603" y="125441"/>
                  </a:lnTo>
                  <a:lnTo>
                    <a:pt x="118161" y="119816"/>
                  </a:lnTo>
                  <a:lnTo>
                    <a:pt x="118409" y="114494"/>
                  </a:lnTo>
                  <a:lnTo>
                    <a:pt x="118605" y="106816"/>
                  </a:lnTo>
                  <a:lnTo>
                    <a:pt x="118607" y="110765"/>
                  </a:lnTo>
                  <a:lnTo>
                    <a:pt x="116350" y="117245"/>
                  </a:lnTo>
                  <a:lnTo>
                    <a:pt x="114563" y="121343"/>
                  </a:lnTo>
                  <a:lnTo>
                    <a:pt x="113371" y="125769"/>
                  </a:lnTo>
                  <a:lnTo>
                    <a:pt x="112577" y="130413"/>
                  </a:lnTo>
                  <a:lnTo>
                    <a:pt x="112047" y="135202"/>
                  </a:lnTo>
                  <a:lnTo>
                    <a:pt x="110847" y="140088"/>
                  </a:lnTo>
                  <a:lnTo>
                    <a:pt x="109201" y="145039"/>
                  </a:lnTo>
                  <a:lnTo>
                    <a:pt x="107257" y="150033"/>
                  </a:lnTo>
                  <a:lnTo>
                    <a:pt x="105114" y="155055"/>
                  </a:lnTo>
                  <a:lnTo>
                    <a:pt x="100475" y="165151"/>
                  </a:lnTo>
                  <a:lnTo>
                    <a:pt x="98899" y="170214"/>
                  </a:lnTo>
                  <a:lnTo>
                    <a:pt x="97849" y="175283"/>
                  </a:lnTo>
                  <a:lnTo>
                    <a:pt x="97149" y="180355"/>
                  </a:lnTo>
                  <a:lnTo>
                    <a:pt x="97528" y="185430"/>
                  </a:lnTo>
                  <a:lnTo>
                    <a:pt x="98628" y="190507"/>
                  </a:lnTo>
                  <a:lnTo>
                    <a:pt x="100208" y="195585"/>
                  </a:lnTo>
                  <a:lnTo>
                    <a:pt x="102955" y="200663"/>
                  </a:lnTo>
                  <a:lnTo>
                    <a:pt x="106479" y="205742"/>
                  </a:lnTo>
                  <a:lnTo>
                    <a:pt x="110522" y="210822"/>
                  </a:lnTo>
                  <a:lnTo>
                    <a:pt x="114911" y="215901"/>
                  </a:lnTo>
                  <a:lnTo>
                    <a:pt x="119530" y="220981"/>
                  </a:lnTo>
                  <a:lnTo>
                    <a:pt x="124302" y="226061"/>
                  </a:lnTo>
                  <a:lnTo>
                    <a:pt x="130025" y="229447"/>
                  </a:lnTo>
                  <a:lnTo>
                    <a:pt x="136379" y="231705"/>
                  </a:lnTo>
                  <a:lnTo>
                    <a:pt x="143156" y="233210"/>
                  </a:lnTo>
                  <a:lnTo>
                    <a:pt x="148520" y="235060"/>
                  </a:lnTo>
                  <a:lnTo>
                    <a:pt x="152943" y="237140"/>
                  </a:lnTo>
                  <a:lnTo>
                    <a:pt x="156738" y="239374"/>
                  </a:lnTo>
                  <a:lnTo>
                    <a:pt x="160961" y="241709"/>
                  </a:lnTo>
                  <a:lnTo>
                    <a:pt x="179568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MARTInkAnnotation36"/>
            <p:cNvSpPr/>
            <p:nvPr/>
          </p:nvSpPr>
          <p:spPr>
            <a:xfrm>
              <a:off x="2500200" y="2042280"/>
              <a:ext cx="60840" cy="2055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60922" h="205713">
                  <a:moveTo>
                    <a:pt x="60921" y="7592"/>
                  </a:moveTo>
                  <a:lnTo>
                    <a:pt x="53615" y="286"/>
                  </a:lnTo>
                  <a:lnTo>
                    <a:pt x="52664" y="181"/>
                  </a:lnTo>
                  <a:lnTo>
                    <a:pt x="51183" y="112"/>
                  </a:lnTo>
                  <a:lnTo>
                    <a:pt x="46768" y="0"/>
                  </a:lnTo>
                  <a:lnTo>
                    <a:pt x="46405" y="837"/>
                  </a:lnTo>
                  <a:lnTo>
                    <a:pt x="46003" y="4025"/>
                  </a:lnTo>
                  <a:lnTo>
                    <a:pt x="45049" y="6061"/>
                  </a:lnTo>
                  <a:lnTo>
                    <a:pt x="43567" y="8265"/>
                  </a:lnTo>
                  <a:lnTo>
                    <a:pt x="41731" y="10580"/>
                  </a:lnTo>
                  <a:lnTo>
                    <a:pt x="40508" y="12971"/>
                  </a:lnTo>
                  <a:lnTo>
                    <a:pt x="39149" y="17885"/>
                  </a:lnTo>
                  <a:lnTo>
                    <a:pt x="37940" y="21227"/>
                  </a:lnTo>
                  <a:lnTo>
                    <a:pt x="36287" y="25149"/>
                  </a:lnTo>
                  <a:lnTo>
                    <a:pt x="34338" y="29456"/>
                  </a:lnTo>
                  <a:lnTo>
                    <a:pt x="29915" y="38758"/>
                  </a:lnTo>
                  <a:lnTo>
                    <a:pt x="27550" y="43610"/>
                  </a:lnTo>
                  <a:lnTo>
                    <a:pt x="25127" y="49384"/>
                  </a:lnTo>
                  <a:lnTo>
                    <a:pt x="22665" y="55773"/>
                  </a:lnTo>
                  <a:lnTo>
                    <a:pt x="20177" y="62573"/>
                  </a:lnTo>
                  <a:lnTo>
                    <a:pt x="17672" y="68799"/>
                  </a:lnTo>
                  <a:lnTo>
                    <a:pt x="15155" y="74643"/>
                  </a:lnTo>
                  <a:lnTo>
                    <a:pt x="10101" y="85653"/>
                  </a:lnTo>
                  <a:lnTo>
                    <a:pt x="5032" y="96190"/>
                  </a:lnTo>
                  <a:lnTo>
                    <a:pt x="3341" y="102217"/>
                  </a:lnTo>
                  <a:lnTo>
                    <a:pt x="2215" y="108776"/>
                  </a:lnTo>
                  <a:lnTo>
                    <a:pt x="1463" y="115688"/>
                  </a:lnTo>
                  <a:lnTo>
                    <a:pt x="962" y="121989"/>
                  </a:lnTo>
                  <a:lnTo>
                    <a:pt x="629" y="127883"/>
                  </a:lnTo>
                  <a:lnTo>
                    <a:pt x="258" y="138948"/>
                  </a:lnTo>
                  <a:lnTo>
                    <a:pt x="20" y="159849"/>
                  </a:lnTo>
                  <a:lnTo>
                    <a:pt x="0" y="164977"/>
                  </a:lnTo>
                  <a:lnTo>
                    <a:pt x="834" y="170089"/>
                  </a:lnTo>
                  <a:lnTo>
                    <a:pt x="2236" y="175190"/>
                  </a:lnTo>
                  <a:lnTo>
                    <a:pt x="4018" y="180284"/>
                  </a:lnTo>
                  <a:lnTo>
                    <a:pt x="5206" y="184527"/>
                  </a:lnTo>
                  <a:lnTo>
                    <a:pt x="5997" y="188202"/>
                  </a:lnTo>
                  <a:lnTo>
                    <a:pt x="6525" y="191499"/>
                  </a:lnTo>
                  <a:lnTo>
                    <a:pt x="7724" y="194543"/>
                  </a:lnTo>
                  <a:lnTo>
                    <a:pt x="9370" y="197419"/>
                  </a:lnTo>
                  <a:lnTo>
                    <a:pt x="15201" y="2057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MARTInkAnnotation37"/>
            <p:cNvSpPr/>
            <p:nvPr/>
          </p:nvSpPr>
          <p:spPr>
            <a:xfrm>
              <a:off x="2393280" y="2156400"/>
              <a:ext cx="182880" cy="2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82881" h="22861">
                  <a:moveTo>
                    <a:pt x="0" y="22860"/>
                  </a:moveTo>
                  <a:lnTo>
                    <a:pt x="0" y="18815"/>
                  </a:lnTo>
                  <a:lnTo>
                    <a:pt x="847" y="17623"/>
                  </a:lnTo>
                  <a:lnTo>
                    <a:pt x="2258" y="16829"/>
                  </a:lnTo>
                  <a:lnTo>
                    <a:pt x="4045" y="16299"/>
                  </a:lnTo>
                  <a:lnTo>
                    <a:pt x="6930" y="15946"/>
                  </a:lnTo>
                  <a:lnTo>
                    <a:pt x="10547" y="15711"/>
                  </a:lnTo>
                  <a:lnTo>
                    <a:pt x="14651" y="15554"/>
                  </a:lnTo>
                  <a:lnTo>
                    <a:pt x="32563" y="15333"/>
                  </a:lnTo>
                  <a:lnTo>
                    <a:pt x="38643" y="14455"/>
                  </a:lnTo>
                  <a:lnTo>
                    <a:pt x="44388" y="13023"/>
                  </a:lnTo>
                  <a:lnTo>
                    <a:pt x="49912" y="11222"/>
                  </a:lnTo>
                  <a:lnTo>
                    <a:pt x="56982" y="10022"/>
                  </a:lnTo>
                  <a:lnTo>
                    <a:pt x="65081" y="9221"/>
                  </a:lnTo>
                  <a:lnTo>
                    <a:pt x="73868" y="8687"/>
                  </a:lnTo>
                  <a:lnTo>
                    <a:pt x="92661" y="8095"/>
                  </a:lnTo>
                  <a:lnTo>
                    <a:pt x="102414" y="7936"/>
                  </a:lnTo>
                  <a:lnTo>
                    <a:pt x="112303" y="6984"/>
                  </a:lnTo>
                  <a:lnTo>
                    <a:pt x="122282" y="5503"/>
                  </a:lnTo>
                  <a:lnTo>
                    <a:pt x="132321" y="3669"/>
                  </a:lnTo>
                  <a:lnTo>
                    <a:pt x="139861" y="2446"/>
                  </a:lnTo>
                  <a:lnTo>
                    <a:pt x="145734" y="1631"/>
                  </a:lnTo>
                  <a:lnTo>
                    <a:pt x="150496" y="1087"/>
                  </a:lnTo>
                  <a:lnTo>
                    <a:pt x="156211" y="725"/>
                  </a:lnTo>
                  <a:lnTo>
                    <a:pt x="162561" y="483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MARTInkAnnotation38"/>
            <p:cNvSpPr/>
            <p:nvPr/>
          </p:nvSpPr>
          <p:spPr>
            <a:xfrm>
              <a:off x="2698920" y="2026800"/>
              <a:ext cx="265320" cy="2282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65442" h="228601">
                  <a:moveTo>
                    <a:pt x="67905" y="0"/>
                  </a:moveTo>
                  <a:lnTo>
                    <a:pt x="67905" y="13867"/>
                  </a:lnTo>
                  <a:lnTo>
                    <a:pt x="65647" y="19145"/>
                  </a:lnTo>
                  <a:lnTo>
                    <a:pt x="61821" y="26289"/>
                  </a:lnTo>
                  <a:lnTo>
                    <a:pt x="57299" y="32286"/>
                  </a:lnTo>
                  <a:lnTo>
                    <a:pt x="52467" y="37774"/>
                  </a:lnTo>
                  <a:lnTo>
                    <a:pt x="47497" y="43882"/>
                  </a:lnTo>
                  <a:lnTo>
                    <a:pt x="44986" y="47881"/>
                  </a:lnTo>
                  <a:lnTo>
                    <a:pt x="42466" y="52241"/>
                  </a:lnTo>
                  <a:lnTo>
                    <a:pt x="35150" y="59342"/>
                  </a:lnTo>
                  <a:lnTo>
                    <a:pt x="27100" y="65321"/>
                  </a:lnTo>
                  <a:lnTo>
                    <a:pt x="20701" y="70800"/>
                  </a:lnTo>
                  <a:lnTo>
                    <a:pt x="18656" y="73447"/>
                  </a:lnTo>
                  <a:lnTo>
                    <a:pt x="16383" y="78646"/>
                  </a:lnTo>
                  <a:lnTo>
                    <a:pt x="14084" y="80370"/>
                  </a:lnTo>
                  <a:lnTo>
                    <a:pt x="7013" y="82287"/>
                  </a:lnTo>
                  <a:lnTo>
                    <a:pt x="0" y="83685"/>
                  </a:lnTo>
                  <a:lnTo>
                    <a:pt x="7615" y="83780"/>
                  </a:lnTo>
                  <a:lnTo>
                    <a:pt x="10778" y="82947"/>
                  </a:lnTo>
                  <a:lnTo>
                    <a:pt x="16551" y="79763"/>
                  </a:lnTo>
                  <a:lnTo>
                    <a:pt x="24196" y="75526"/>
                  </a:lnTo>
                  <a:lnTo>
                    <a:pt x="28606" y="73211"/>
                  </a:lnTo>
                  <a:lnTo>
                    <a:pt x="34086" y="70821"/>
                  </a:lnTo>
                  <a:lnTo>
                    <a:pt x="40279" y="68380"/>
                  </a:lnTo>
                  <a:lnTo>
                    <a:pt x="46947" y="65907"/>
                  </a:lnTo>
                  <a:lnTo>
                    <a:pt x="53933" y="64258"/>
                  </a:lnTo>
                  <a:lnTo>
                    <a:pt x="61130" y="63158"/>
                  </a:lnTo>
                  <a:lnTo>
                    <a:pt x="68469" y="62426"/>
                  </a:lnTo>
                  <a:lnTo>
                    <a:pt x="75901" y="61091"/>
                  </a:lnTo>
                  <a:lnTo>
                    <a:pt x="83396" y="59354"/>
                  </a:lnTo>
                  <a:lnTo>
                    <a:pt x="90932" y="57349"/>
                  </a:lnTo>
                  <a:lnTo>
                    <a:pt x="99343" y="56013"/>
                  </a:lnTo>
                  <a:lnTo>
                    <a:pt x="108337" y="55122"/>
                  </a:lnTo>
                  <a:lnTo>
                    <a:pt x="117720" y="54528"/>
                  </a:lnTo>
                  <a:lnTo>
                    <a:pt x="134918" y="53868"/>
                  </a:lnTo>
                  <a:lnTo>
                    <a:pt x="143060" y="53692"/>
                  </a:lnTo>
                  <a:lnTo>
                    <a:pt x="151029" y="54422"/>
                  </a:lnTo>
                  <a:lnTo>
                    <a:pt x="158881" y="55754"/>
                  </a:lnTo>
                  <a:lnTo>
                    <a:pt x="175226" y="59493"/>
                  </a:lnTo>
                  <a:lnTo>
                    <a:pt x="193779" y="63977"/>
                  </a:lnTo>
                  <a:lnTo>
                    <a:pt x="201774" y="67205"/>
                  </a:lnTo>
                  <a:lnTo>
                    <a:pt x="208798" y="71050"/>
                  </a:lnTo>
                  <a:lnTo>
                    <a:pt x="215174" y="75307"/>
                  </a:lnTo>
                  <a:lnTo>
                    <a:pt x="221117" y="78991"/>
                  </a:lnTo>
                  <a:lnTo>
                    <a:pt x="226774" y="82294"/>
                  </a:lnTo>
                  <a:lnTo>
                    <a:pt x="232237" y="85343"/>
                  </a:lnTo>
                  <a:lnTo>
                    <a:pt x="237573" y="89915"/>
                  </a:lnTo>
                  <a:lnTo>
                    <a:pt x="242824" y="95504"/>
                  </a:lnTo>
                  <a:lnTo>
                    <a:pt x="248018" y="101769"/>
                  </a:lnTo>
                  <a:lnTo>
                    <a:pt x="252327" y="107639"/>
                  </a:lnTo>
                  <a:lnTo>
                    <a:pt x="256046" y="113246"/>
                  </a:lnTo>
                  <a:lnTo>
                    <a:pt x="259373" y="118678"/>
                  </a:lnTo>
                  <a:lnTo>
                    <a:pt x="261590" y="123992"/>
                  </a:lnTo>
                  <a:lnTo>
                    <a:pt x="263068" y="129228"/>
                  </a:lnTo>
                  <a:lnTo>
                    <a:pt x="264054" y="134412"/>
                  </a:lnTo>
                  <a:lnTo>
                    <a:pt x="264711" y="140408"/>
                  </a:lnTo>
                  <a:lnTo>
                    <a:pt x="265149" y="146945"/>
                  </a:lnTo>
                  <a:lnTo>
                    <a:pt x="265441" y="153844"/>
                  </a:lnTo>
                  <a:lnTo>
                    <a:pt x="264789" y="160136"/>
                  </a:lnTo>
                  <a:lnTo>
                    <a:pt x="263508" y="166024"/>
                  </a:lnTo>
                  <a:lnTo>
                    <a:pt x="261807" y="171643"/>
                  </a:lnTo>
                  <a:lnTo>
                    <a:pt x="258980" y="177929"/>
                  </a:lnTo>
                  <a:lnTo>
                    <a:pt x="255402" y="184659"/>
                  </a:lnTo>
                  <a:lnTo>
                    <a:pt x="251323" y="191686"/>
                  </a:lnTo>
                  <a:lnTo>
                    <a:pt x="246910" y="198064"/>
                  </a:lnTo>
                  <a:lnTo>
                    <a:pt x="242275" y="204009"/>
                  </a:lnTo>
                  <a:lnTo>
                    <a:pt x="237492" y="209667"/>
                  </a:lnTo>
                  <a:lnTo>
                    <a:pt x="232609" y="214284"/>
                  </a:lnTo>
                  <a:lnTo>
                    <a:pt x="227662" y="218209"/>
                  </a:lnTo>
                  <a:lnTo>
                    <a:pt x="222669" y="221673"/>
                  </a:lnTo>
                  <a:lnTo>
                    <a:pt x="216801" y="223982"/>
                  </a:lnTo>
                  <a:lnTo>
                    <a:pt x="210350" y="225522"/>
                  </a:lnTo>
                  <a:lnTo>
                    <a:pt x="203508" y="226548"/>
                  </a:lnTo>
                  <a:lnTo>
                    <a:pt x="195560" y="227232"/>
                  </a:lnTo>
                  <a:lnTo>
                    <a:pt x="186876" y="227688"/>
                  </a:lnTo>
                  <a:lnTo>
                    <a:pt x="160738" y="228420"/>
                  </a:lnTo>
                  <a:lnTo>
                    <a:pt x="136485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MARTInkAnnotation39"/>
            <p:cNvSpPr/>
            <p:nvPr/>
          </p:nvSpPr>
          <p:spPr>
            <a:xfrm>
              <a:off x="2774520" y="1989000"/>
              <a:ext cx="243720" cy="7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3841" h="7621">
                  <a:moveTo>
                    <a:pt x="0" y="7620"/>
                  </a:moveTo>
                  <a:lnTo>
                    <a:pt x="10606" y="7620"/>
                  </a:lnTo>
                  <a:lnTo>
                    <a:pt x="12997" y="6773"/>
                  </a:lnTo>
                  <a:lnTo>
                    <a:pt x="15438" y="5362"/>
                  </a:lnTo>
                  <a:lnTo>
                    <a:pt x="17912" y="3575"/>
                  </a:lnTo>
                  <a:lnTo>
                    <a:pt x="22101" y="2383"/>
                  </a:lnTo>
                  <a:lnTo>
                    <a:pt x="27434" y="1589"/>
                  </a:lnTo>
                  <a:lnTo>
                    <a:pt x="33529" y="1059"/>
                  </a:lnTo>
                  <a:lnTo>
                    <a:pt x="40133" y="706"/>
                  </a:lnTo>
                  <a:lnTo>
                    <a:pt x="54244" y="314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MARTInkAnnotation40"/>
            <p:cNvSpPr/>
            <p:nvPr/>
          </p:nvSpPr>
          <p:spPr>
            <a:xfrm>
              <a:off x="3071520" y="2026800"/>
              <a:ext cx="198000" cy="220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98121" h="220981">
                  <a:moveTo>
                    <a:pt x="198120" y="0"/>
                  </a:moveTo>
                  <a:lnTo>
                    <a:pt x="191559" y="13122"/>
                  </a:lnTo>
                  <a:lnTo>
                    <a:pt x="191206" y="16368"/>
                  </a:lnTo>
                  <a:lnTo>
                    <a:pt x="190971" y="21072"/>
                  </a:lnTo>
                  <a:lnTo>
                    <a:pt x="190814" y="26748"/>
                  </a:lnTo>
                  <a:lnTo>
                    <a:pt x="189863" y="33072"/>
                  </a:lnTo>
                  <a:lnTo>
                    <a:pt x="188382" y="39828"/>
                  </a:lnTo>
                  <a:lnTo>
                    <a:pt x="186548" y="46872"/>
                  </a:lnTo>
                  <a:lnTo>
                    <a:pt x="183632" y="54108"/>
                  </a:lnTo>
                  <a:lnTo>
                    <a:pt x="179995" y="61472"/>
                  </a:lnTo>
                  <a:lnTo>
                    <a:pt x="175877" y="68921"/>
                  </a:lnTo>
                  <a:lnTo>
                    <a:pt x="170591" y="76428"/>
                  </a:lnTo>
                  <a:lnTo>
                    <a:pt x="164528" y="83972"/>
                  </a:lnTo>
                  <a:lnTo>
                    <a:pt x="157945" y="91541"/>
                  </a:lnTo>
                  <a:lnTo>
                    <a:pt x="151863" y="99128"/>
                  </a:lnTo>
                  <a:lnTo>
                    <a:pt x="146116" y="106725"/>
                  </a:lnTo>
                  <a:lnTo>
                    <a:pt x="140591" y="114330"/>
                  </a:lnTo>
                  <a:lnTo>
                    <a:pt x="134367" y="121940"/>
                  </a:lnTo>
                  <a:lnTo>
                    <a:pt x="127678" y="129553"/>
                  </a:lnTo>
                  <a:lnTo>
                    <a:pt x="120679" y="137169"/>
                  </a:lnTo>
                  <a:lnTo>
                    <a:pt x="106128" y="152404"/>
                  </a:lnTo>
                  <a:lnTo>
                    <a:pt x="98692" y="160023"/>
                  </a:lnTo>
                  <a:lnTo>
                    <a:pt x="91195" y="166795"/>
                  </a:lnTo>
                  <a:lnTo>
                    <a:pt x="83657" y="173003"/>
                  </a:lnTo>
                  <a:lnTo>
                    <a:pt x="76091" y="178836"/>
                  </a:lnTo>
                  <a:lnTo>
                    <a:pt x="68508" y="184417"/>
                  </a:lnTo>
                  <a:lnTo>
                    <a:pt x="53308" y="195134"/>
                  </a:lnTo>
                  <a:lnTo>
                    <a:pt x="45699" y="199516"/>
                  </a:lnTo>
                  <a:lnTo>
                    <a:pt x="38086" y="203284"/>
                  </a:lnTo>
                  <a:lnTo>
                    <a:pt x="23701" y="209729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MARTInkAnnotation41"/>
            <p:cNvSpPr/>
            <p:nvPr/>
          </p:nvSpPr>
          <p:spPr>
            <a:xfrm>
              <a:off x="3109680" y="2126160"/>
              <a:ext cx="205560" cy="990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05741" h="99061">
                  <a:moveTo>
                    <a:pt x="0" y="0"/>
                  </a:moveTo>
                  <a:lnTo>
                    <a:pt x="4045" y="0"/>
                  </a:lnTo>
                  <a:lnTo>
                    <a:pt x="6930" y="847"/>
                  </a:lnTo>
                  <a:lnTo>
                    <a:pt x="10546" y="2258"/>
                  </a:lnTo>
                  <a:lnTo>
                    <a:pt x="14651" y="4045"/>
                  </a:lnTo>
                  <a:lnTo>
                    <a:pt x="18234" y="5237"/>
                  </a:lnTo>
                  <a:lnTo>
                    <a:pt x="24473" y="6561"/>
                  </a:lnTo>
                  <a:lnTo>
                    <a:pt x="29016" y="7761"/>
                  </a:lnTo>
                  <a:lnTo>
                    <a:pt x="40836" y="11352"/>
                  </a:lnTo>
                  <a:lnTo>
                    <a:pt x="47544" y="14341"/>
                  </a:lnTo>
                  <a:lnTo>
                    <a:pt x="54556" y="18028"/>
                  </a:lnTo>
                  <a:lnTo>
                    <a:pt x="61771" y="22178"/>
                  </a:lnTo>
                  <a:lnTo>
                    <a:pt x="78818" y="31306"/>
                  </a:lnTo>
                  <a:lnTo>
                    <a:pt x="88106" y="36111"/>
                  </a:lnTo>
                  <a:lnTo>
                    <a:pt x="96837" y="41007"/>
                  </a:lnTo>
                  <a:lnTo>
                    <a:pt x="105198" y="45965"/>
                  </a:lnTo>
                  <a:lnTo>
                    <a:pt x="113312" y="50963"/>
                  </a:lnTo>
                  <a:lnTo>
                    <a:pt x="122108" y="55989"/>
                  </a:lnTo>
                  <a:lnTo>
                    <a:pt x="140913" y="66089"/>
                  </a:lnTo>
                  <a:lnTo>
                    <a:pt x="205740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MARTInkAnnotation42"/>
            <p:cNvSpPr/>
            <p:nvPr/>
          </p:nvSpPr>
          <p:spPr>
            <a:xfrm>
              <a:off x="3452760" y="2103120"/>
              <a:ext cx="167400" cy="15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7641" h="15241">
                  <a:moveTo>
                    <a:pt x="0" y="15240"/>
                  </a:moveTo>
                  <a:lnTo>
                    <a:pt x="64629" y="15240"/>
                  </a:lnTo>
                  <a:lnTo>
                    <a:pt x="74412" y="14393"/>
                  </a:lnTo>
                  <a:lnTo>
                    <a:pt x="84321" y="12982"/>
                  </a:lnTo>
                  <a:lnTo>
                    <a:pt x="94314" y="11195"/>
                  </a:lnTo>
                  <a:lnTo>
                    <a:pt x="105209" y="10003"/>
                  </a:lnTo>
                  <a:lnTo>
                    <a:pt x="116706" y="9209"/>
                  </a:lnTo>
                  <a:lnTo>
                    <a:pt x="128604" y="8679"/>
                  </a:lnTo>
                  <a:lnTo>
                    <a:pt x="138230" y="7480"/>
                  </a:lnTo>
                  <a:lnTo>
                    <a:pt x="146340" y="5833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MARTInkAnnotation43"/>
            <p:cNvSpPr/>
            <p:nvPr/>
          </p:nvSpPr>
          <p:spPr>
            <a:xfrm>
              <a:off x="3714120" y="1950840"/>
              <a:ext cx="217800" cy="3121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18087" h="312320">
                  <a:moveTo>
                    <a:pt x="188068" y="15139"/>
                  </a:moveTo>
                  <a:lnTo>
                    <a:pt x="188068" y="8578"/>
                  </a:lnTo>
                  <a:lnTo>
                    <a:pt x="184023" y="3788"/>
                  </a:lnTo>
                  <a:lnTo>
                    <a:pt x="181984" y="2491"/>
                  </a:lnTo>
                  <a:lnTo>
                    <a:pt x="177462" y="1051"/>
                  </a:lnTo>
                  <a:lnTo>
                    <a:pt x="174224" y="667"/>
                  </a:lnTo>
                  <a:lnTo>
                    <a:pt x="170372" y="411"/>
                  </a:lnTo>
                  <a:lnTo>
                    <a:pt x="166110" y="240"/>
                  </a:lnTo>
                  <a:lnTo>
                    <a:pt x="147977" y="0"/>
                  </a:lnTo>
                  <a:lnTo>
                    <a:pt x="141021" y="813"/>
                  </a:lnTo>
                  <a:lnTo>
                    <a:pt x="133843" y="2202"/>
                  </a:lnTo>
                  <a:lnTo>
                    <a:pt x="126518" y="3974"/>
                  </a:lnTo>
                  <a:lnTo>
                    <a:pt x="118248" y="6849"/>
                  </a:lnTo>
                  <a:lnTo>
                    <a:pt x="109348" y="10459"/>
                  </a:lnTo>
                  <a:lnTo>
                    <a:pt x="100028" y="14559"/>
                  </a:lnTo>
                  <a:lnTo>
                    <a:pt x="90428" y="19833"/>
                  </a:lnTo>
                  <a:lnTo>
                    <a:pt x="80641" y="25888"/>
                  </a:lnTo>
                  <a:lnTo>
                    <a:pt x="44645" y="49812"/>
                  </a:lnTo>
                  <a:lnTo>
                    <a:pt x="36573" y="56034"/>
                  </a:lnTo>
                  <a:lnTo>
                    <a:pt x="28652" y="62722"/>
                  </a:lnTo>
                  <a:lnTo>
                    <a:pt x="20830" y="69721"/>
                  </a:lnTo>
                  <a:lnTo>
                    <a:pt x="14769" y="76927"/>
                  </a:lnTo>
                  <a:lnTo>
                    <a:pt x="9882" y="84271"/>
                  </a:lnTo>
                  <a:lnTo>
                    <a:pt x="5777" y="91707"/>
                  </a:lnTo>
                  <a:lnTo>
                    <a:pt x="3041" y="98358"/>
                  </a:lnTo>
                  <a:lnTo>
                    <a:pt x="1217" y="104485"/>
                  </a:lnTo>
                  <a:lnTo>
                    <a:pt x="0" y="110263"/>
                  </a:lnTo>
                  <a:lnTo>
                    <a:pt x="36" y="114962"/>
                  </a:lnTo>
                  <a:lnTo>
                    <a:pt x="906" y="118941"/>
                  </a:lnTo>
                  <a:lnTo>
                    <a:pt x="2333" y="122440"/>
                  </a:lnTo>
                  <a:lnTo>
                    <a:pt x="4979" y="125620"/>
                  </a:lnTo>
                  <a:lnTo>
                    <a:pt x="8435" y="128586"/>
                  </a:lnTo>
                  <a:lnTo>
                    <a:pt x="12433" y="131410"/>
                  </a:lnTo>
                  <a:lnTo>
                    <a:pt x="18484" y="133293"/>
                  </a:lnTo>
                  <a:lnTo>
                    <a:pt x="25906" y="134548"/>
                  </a:lnTo>
                  <a:lnTo>
                    <a:pt x="34239" y="135385"/>
                  </a:lnTo>
                  <a:lnTo>
                    <a:pt x="42336" y="135943"/>
                  </a:lnTo>
                  <a:lnTo>
                    <a:pt x="50273" y="136315"/>
                  </a:lnTo>
                  <a:lnTo>
                    <a:pt x="58104" y="136563"/>
                  </a:lnTo>
                  <a:lnTo>
                    <a:pt x="66712" y="135882"/>
                  </a:lnTo>
                  <a:lnTo>
                    <a:pt x="75838" y="134581"/>
                  </a:lnTo>
                  <a:lnTo>
                    <a:pt x="85307" y="132867"/>
                  </a:lnTo>
                  <a:lnTo>
                    <a:pt x="95008" y="130878"/>
                  </a:lnTo>
                  <a:lnTo>
                    <a:pt x="114817" y="126409"/>
                  </a:lnTo>
                  <a:lnTo>
                    <a:pt x="123994" y="124033"/>
                  </a:lnTo>
                  <a:lnTo>
                    <a:pt x="132652" y="121602"/>
                  </a:lnTo>
                  <a:lnTo>
                    <a:pt x="140964" y="119134"/>
                  </a:lnTo>
                  <a:lnTo>
                    <a:pt x="149045" y="115796"/>
                  </a:lnTo>
                  <a:lnTo>
                    <a:pt x="156973" y="111877"/>
                  </a:lnTo>
                  <a:lnTo>
                    <a:pt x="164797" y="107571"/>
                  </a:lnTo>
                  <a:lnTo>
                    <a:pt x="171708" y="103007"/>
                  </a:lnTo>
                  <a:lnTo>
                    <a:pt x="178008" y="98271"/>
                  </a:lnTo>
                  <a:lnTo>
                    <a:pt x="183901" y="93420"/>
                  </a:lnTo>
                  <a:lnTo>
                    <a:pt x="188676" y="88493"/>
                  </a:lnTo>
                  <a:lnTo>
                    <a:pt x="192707" y="83515"/>
                  </a:lnTo>
                  <a:lnTo>
                    <a:pt x="199443" y="74315"/>
                  </a:lnTo>
                  <a:lnTo>
                    <a:pt x="205259" y="67404"/>
                  </a:lnTo>
                  <a:lnTo>
                    <a:pt x="210666" y="61510"/>
                  </a:lnTo>
                  <a:lnTo>
                    <a:pt x="218086" y="53723"/>
                  </a:lnTo>
                  <a:lnTo>
                    <a:pt x="207902" y="63887"/>
                  </a:lnTo>
                  <a:lnTo>
                    <a:pt x="203091" y="70954"/>
                  </a:lnTo>
                  <a:lnTo>
                    <a:pt x="198131" y="79739"/>
                  </a:lnTo>
                  <a:lnTo>
                    <a:pt x="193105" y="89288"/>
                  </a:lnTo>
                  <a:lnTo>
                    <a:pt x="191426" y="95052"/>
                  </a:lnTo>
                  <a:lnTo>
                    <a:pt x="190306" y="101434"/>
                  </a:lnTo>
                  <a:lnTo>
                    <a:pt x="189560" y="108229"/>
                  </a:lnTo>
                  <a:lnTo>
                    <a:pt x="187369" y="115299"/>
                  </a:lnTo>
                  <a:lnTo>
                    <a:pt x="184215" y="122552"/>
                  </a:lnTo>
                  <a:lnTo>
                    <a:pt x="180420" y="129928"/>
                  </a:lnTo>
                  <a:lnTo>
                    <a:pt x="177042" y="138232"/>
                  </a:lnTo>
                  <a:lnTo>
                    <a:pt x="173944" y="147154"/>
                  </a:lnTo>
                  <a:lnTo>
                    <a:pt x="171032" y="156489"/>
                  </a:lnTo>
                  <a:lnTo>
                    <a:pt x="165538" y="175892"/>
                  </a:lnTo>
                  <a:lnTo>
                    <a:pt x="162889" y="185808"/>
                  </a:lnTo>
                  <a:lnTo>
                    <a:pt x="161122" y="194958"/>
                  </a:lnTo>
                  <a:lnTo>
                    <a:pt x="159943" y="203599"/>
                  </a:lnTo>
                  <a:lnTo>
                    <a:pt x="159159" y="211899"/>
                  </a:lnTo>
                  <a:lnTo>
                    <a:pt x="157789" y="220819"/>
                  </a:lnTo>
                  <a:lnTo>
                    <a:pt x="156028" y="230152"/>
                  </a:lnTo>
                  <a:lnTo>
                    <a:pt x="154008" y="239761"/>
                  </a:lnTo>
                  <a:lnTo>
                    <a:pt x="153508" y="248707"/>
                  </a:lnTo>
                  <a:lnTo>
                    <a:pt x="154021" y="257211"/>
                  </a:lnTo>
                  <a:lnTo>
                    <a:pt x="155210" y="265420"/>
                  </a:lnTo>
                  <a:lnTo>
                    <a:pt x="156003" y="272587"/>
                  </a:lnTo>
                  <a:lnTo>
                    <a:pt x="156531" y="279057"/>
                  </a:lnTo>
                  <a:lnTo>
                    <a:pt x="156883" y="285065"/>
                  </a:lnTo>
                  <a:lnTo>
                    <a:pt x="157275" y="296255"/>
                  </a:lnTo>
                  <a:lnTo>
                    <a:pt x="157588" y="3123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MARTInkAnnotation44"/>
            <p:cNvSpPr/>
            <p:nvPr/>
          </p:nvSpPr>
          <p:spPr>
            <a:xfrm>
              <a:off x="701640" y="2354760"/>
              <a:ext cx="213120" cy="75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13361" h="7621">
                  <a:moveTo>
                    <a:pt x="0" y="0"/>
                  </a:moveTo>
                  <a:lnTo>
                    <a:pt x="47683" y="0"/>
                  </a:lnTo>
                  <a:lnTo>
                    <a:pt x="54648" y="847"/>
                  </a:lnTo>
                  <a:lnTo>
                    <a:pt x="61832" y="2258"/>
                  </a:lnTo>
                  <a:lnTo>
                    <a:pt x="69162" y="4045"/>
                  </a:lnTo>
                  <a:lnTo>
                    <a:pt x="78281" y="5237"/>
                  </a:lnTo>
                  <a:lnTo>
                    <a:pt x="88594" y="6031"/>
                  </a:lnTo>
                  <a:lnTo>
                    <a:pt x="99703" y="6561"/>
                  </a:lnTo>
                  <a:lnTo>
                    <a:pt x="123334" y="7149"/>
                  </a:lnTo>
                  <a:lnTo>
                    <a:pt x="2133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MARTInkAnnotation45"/>
            <p:cNvSpPr/>
            <p:nvPr/>
          </p:nvSpPr>
          <p:spPr>
            <a:xfrm>
              <a:off x="412920" y="1707120"/>
              <a:ext cx="1248480" cy="739080"/>
            </a:xfrm>
            <a:custGeom>
              <a:avLst/>
              <a:gdLst>
                <a:gd name="textAreaLeft" fmla="*/ 0 w 1248480"/>
                <a:gd name="textAreaRight" fmla="*/ 1248840 w 12484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1248649" h="739121">
                  <a:moveTo>
                    <a:pt x="860557" y="685791"/>
                  </a:moveTo>
                  <a:lnTo>
                    <a:pt x="895971" y="688049"/>
                  </a:lnTo>
                  <a:lnTo>
                    <a:pt x="926631" y="692352"/>
                  </a:lnTo>
                  <a:lnTo>
                    <a:pt x="962073" y="697143"/>
                  </a:lnTo>
                  <a:lnTo>
                    <a:pt x="1006065" y="703924"/>
                  </a:lnTo>
                  <a:lnTo>
                    <a:pt x="1033883" y="708808"/>
                  </a:lnTo>
                  <a:lnTo>
                    <a:pt x="1086235" y="718842"/>
                  </a:lnTo>
                  <a:lnTo>
                    <a:pt x="1120559" y="726440"/>
                  </a:lnTo>
                  <a:lnTo>
                    <a:pt x="1152177" y="734054"/>
                  </a:lnTo>
                  <a:lnTo>
                    <a:pt x="1186272" y="738128"/>
                  </a:lnTo>
                  <a:lnTo>
                    <a:pt x="1224628" y="739120"/>
                  </a:lnTo>
                  <a:lnTo>
                    <a:pt x="1225191" y="738277"/>
                  </a:lnTo>
                  <a:lnTo>
                    <a:pt x="1225817" y="735083"/>
                  </a:lnTo>
                  <a:lnTo>
                    <a:pt x="1226273" y="721219"/>
                  </a:lnTo>
                  <a:lnTo>
                    <a:pt x="1224594" y="717876"/>
                  </a:lnTo>
                  <a:lnTo>
                    <a:pt x="1215835" y="705082"/>
                  </a:lnTo>
                  <a:lnTo>
                    <a:pt x="1209759" y="685588"/>
                  </a:lnTo>
                  <a:lnTo>
                    <a:pt x="1200657" y="665431"/>
                  </a:lnTo>
                  <a:lnTo>
                    <a:pt x="1197979" y="653036"/>
                  </a:lnTo>
                  <a:lnTo>
                    <a:pt x="1195942" y="638213"/>
                  </a:lnTo>
                  <a:lnTo>
                    <a:pt x="1192215" y="620336"/>
                  </a:lnTo>
                  <a:lnTo>
                    <a:pt x="1189994" y="603360"/>
                  </a:lnTo>
                  <a:lnTo>
                    <a:pt x="1189007" y="587349"/>
                  </a:lnTo>
                  <a:lnTo>
                    <a:pt x="1188568" y="571766"/>
                  </a:lnTo>
                  <a:lnTo>
                    <a:pt x="1188248" y="515189"/>
                  </a:lnTo>
                  <a:lnTo>
                    <a:pt x="1190489" y="492846"/>
                  </a:lnTo>
                  <a:lnTo>
                    <a:pt x="1192271" y="480961"/>
                  </a:lnTo>
                  <a:lnTo>
                    <a:pt x="1196510" y="458724"/>
                  </a:lnTo>
                  <a:lnTo>
                    <a:pt x="1201216" y="437553"/>
                  </a:lnTo>
                  <a:lnTo>
                    <a:pt x="1223785" y="344602"/>
                  </a:lnTo>
                  <a:lnTo>
                    <a:pt x="1233938" y="298763"/>
                  </a:lnTo>
                  <a:lnTo>
                    <a:pt x="1238171" y="277559"/>
                  </a:lnTo>
                  <a:lnTo>
                    <a:pt x="1240052" y="256846"/>
                  </a:lnTo>
                  <a:lnTo>
                    <a:pt x="1243146" y="238609"/>
                  </a:lnTo>
                  <a:lnTo>
                    <a:pt x="1246497" y="221190"/>
                  </a:lnTo>
                  <a:lnTo>
                    <a:pt x="1247985" y="202159"/>
                  </a:lnTo>
                  <a:lnTo>
                    <a:pt x="1248648" y="184671"/>
                  </a:lnTo>
                  <a:lnTo>
                    <a:pt x="1248095" y="168431"/>
                  </a:lnTo>
                  <a:lnTo>
                    <a:pt x="1245027" y="152747"/>
                  </a:lnTo>
                  <a:lnTo>
                    <a:pt x="1240842" y="137309"/>
                  </a:lnTo>
                  <a:lnTo>
                    <a:pt x="1237005" y="121981"/>
                  </a:lnTo>
                  <a:lnTo>
                    <a:pt x="1235301" y="106702"/>
                  </a:lnTo>
                  <a:lnTo>
                    <a:pt x="1233153" y="99918"/>
                  </a:lnTo>
                  <a:lnTo>
                    <a:pt x="1219796" y="76864"/>
                  </a:lnTo>
                  <a:lnTo>
                    <a:pt x="1213259" y="66330"/>
                  </a:lnTo>
                  <a:lnTo>
                    <a:pt x="1204709" y="56004"/>
                  </a:lnTo>
                  <a:lnTo>
                    <a:pt x="1186330" y="40670"/>
                  </a:lnTo>
                  <a:lnTo>
                    <a:pt x="1164798" y="29448"/>
                  </a:lnTo>
                  <a:lnTo>
                    <a:pt x="1133920" y="18071"/>
                  </a:lnTo>
                  <a:lnTo>
                    <a:pt x="1106748" y="11087"/>
                  </a:lnTo>
                  <a:lnTo>
                    <a:pt x="1069866" y="6040"/>
                  </a:lnTo>
                  <a:lnTo>
                    <a:pt x="1036875" y="1783"/>
                  </a:lnTo>
                  <a:lnTo>
                    <a:pt x="1001135" y="522"/>
                  </a:lnTo>
                  <a:lnTo>
                    <a:pt x="859425" y="0"/>
                  </a:lnTo>
                  <a:lnTo>
                    <a:pt x="827316" y="2253"/>
                  </a:lnTo>
                  <a:lnTo>
                    <a:pt x="793290" y="5230"/>
                  </a:lnTo>
                  <a:lnTo>
                    <a:pt x="758412" y="6553"/>
                  </a:lnTo>
                  <a:lnTo>
                    <a:pt x="720897" y="9398"/>
                  </a:lnTo>
                  <a:lnTo>
                    <a:pt x="682493" y="13485"/>
                  </a:lnTo>
                  <a:lnTo>
                    <a:pt x="609547" y="23008"/>
                  </a:lnTo>
                  <a:lnTo>
                    <a:pt x="478103" y="40640"/>
                  </a:lnTo>
                  <a:lnTo>
                    <a:pt x="458268" y="44024"/>
                  </a:lnTo>
                  <a:lnTo>
                    <a:pt x="415909" y="52299"/>
                  </a:lnTo>
                  <a:lnTo>
                    <a:pt x="395638" y="56876"/>
                  </a:lnTo>
                  <a:lnTo>
                    <a:pt x="357311" y="66478"/>
                  </a:lnTo>
                  <a:lnTo>
                    <a:pt x="302413" y="81404"/>
                  </a:lnTo>
                  <a:lnTo>
                    <a:pt x="268747" y="91490"/>
                  </a:lnTo>
                  <a:lnTo>
                    <a:pt x="236004" y="101617"/>
                  </a:lnTo>
                  <a:lnTo>
                    <a:pt x="201696" y="111763"/>
                  </a:lnTo>
                  <a:lnTo>
                    <a:pt x="171208" y="121916"/>
                  </a:lnTo>
                  <a:lnTo>
                    <a:pt x="142700" y="131227"/>
                  </a:lnTo>
                  <a:lnTo>
                    <a:pt x="113096" y="138187"/>
                  </a:lnTo>
                  <a:lnTo>
                    <a:pt x="75960" y="146865"/>
                  </a:lnTo>
                  <a:lnTo>
                    <a:pt x="40001" y="157383"/>
                  </a:lnTo>
                  <a:lnTo>
                    <a:pt x="22129" y="165065"/>
                  </a:lnTo>
                  <a:lnTo>
                    <a:pt x="11095" y="172703"/>
                  </a:lnTo>
                  <a:lnTo>
                    <a:pt x="1192" y="181365"/>
                  </a:lnTo>
                  <a:lnTo>
                    <a:pt x="627" y="182714"/>
                  </a:lnTo>
                  <a:lnTo>
                    <a:pt x="0" y="186470"/>
                  </a:lnTo>
                  <a:lnTo>
                    <a:pt x="1978" y="193219"/>
                  </a:lnTo>
                  <a:lnTo>
                    <a:pt x="5680" y="201017"/>
                  </a:lnTo>
                  <a:lnTo>
                    <a:pt x="13371" y="211014"/>
                  </a:lnTo>
                  <a:lnTo>
                    <a:pt x="35546" y="234032"/>
                  </a:lnTo>
                  <a:lnTo>
                    <a:pt x="43177" y="246249"/>
                  </a:lnTo>
                  <a:lnTo>
                    <a:pt x="50237" y="260993"/>
                  </a:lnTo>
                  <a:lnTo>
                    <a:pt x="59020" y="278834"/>
                  </a:lnTo>
                  <a:lnTo>
                    <a:pt x="66310" y="295795"/>
                  </a:lnTo>
                  <a:lnTo>
                    <a:pt x="69439" y="303874"/>
                  </a:lnTo>
                  <a:lnTo>
                    <a:pt x="72916" y="324139"/>
                  </a:lnTo>
                  <a:lnTo>
                    <a:pt x="75308" y="346410"/>
                  </a:lnTo>
                  <a:lnTo>
                    <a:pt x="79193" y="367597"/>
                  </a:lnTo>
                  <a:lnTo>
                    <a:pt x="81485" y="390560"/>
                  </a:lnTo>
                  <a:lnTo>
                    <a:pt x="82095" y="402611"/>
                  </a:lnTo>
                  <a:lnTo>
                    <a:pt x="81656" y="414877"/>
                  </a:lnTo>
                  <a:lnTo>
                    <a:pt x="80517" y="427289"/>
                  </a:lnTo>
                  <a:lnTo>
                    <a:pt x="78910" y="439796"/>
                  </a:lnTo>
                  <a:lnTo>
                    <a:pt x="77839" y="452368"/>
                  </a:lnTo>
                  <a:lnTo>
                    <a:pt x="77125" y="464982"/>
                  </a:lnTo>
                  <a:lnTo>
                    <a:pt x="76332" y="489441"/>
                  </a:lnTo>
                  <a:lnTo>
                    <a:pt x="75823" y="534995"/>
                  </a:lnTo>
                  <a:lnTo>
                    <a:pt x="75781" y="547160"/>
                  </a:lnTo>
                  <a:lnTo>
                    <a:pt x="73477" y="569708"/>
                  </a:lnTo>
                  <a:lnTo>
                    <a:pt x="70477" y="590172"/>
                  </a:lnTo>
                  <a:lnTo>
                    <a:pt x="69144" y="607734"/>
                  </a:lnTo>
                  <a:lnTo>
                    <a:pt x="68551" y="624006"/>
                  </a:lnTo>
                  <a:lnTo>
                    <a:pt x="68171" y="655148"/>
                  </a:lnTo>
                  <a:lnTo>
                    <a:pt x="68105" y="670032"/>
                  </a:lnTo>
                  <a:lnTo>
                    <a:pt x="68943" y="673592"/>
                  </a:lnTo>
                  <a:lnTo>
                    <a:pt x="72131" y="679805"/>
                  </a:lnTo>
                  <a:lnTo>
                    <a:pt x="78628" y="685388"/>
                  </a:lnTo>
                  <a:lnTo>
                    <a:pt x="96596" y="695872"/>
                  </a:lnTo>
                  <a:lnTo>
                    <a:pt x="108693" y="698738"/>
                  </a:lnTo>
                  <a:lnTo>
                    <a:pt x="115474" y="699502"/>
                  </a:lnTo>
                  <a:lnTo>
                    <a:pt x="129783" y="698094"/>
                  </a:lnTo>
                  <a:lnTo>
                    <a:pt x="154376" y="694799"/>
                  </a:lnTo>
                  <a:lnTo>
                    <a:pt x="185370" y="691565"/>
                  </a:lnTo>
                  <a:lnTo>
                    <a:pt x="221364" y="685244"/>
                  </a:lnTo>
                  <a:lnTo>
                    <a:pt x="247118" y="681315"/>
                  </a:lnTo>
                  <a:lnTo>
                    <a:pt x="275498" y="679568"/>
                  </a:lnTo>
                  <a:lnTo>
                    <a:pt x="305044" y="676534"/>
                  </a:lnTo>
                  <a:lnTo>
                    <a:pt x="335956" y="673210"/>
                  </a:lnTo>
                  <a:lnTo>
                    <a:pt x="369450" y="671733"/>
                  </a:lnTo>
                  <a:lnTo>
                    <a:pt x="421627" y="670902"/>
                  </a:lnTo>
                  <a:lnTo>
                    <a:pt x="705751" y="670552"/>
                  </a:lnTo>
                  <a:lnTo>
                    <a:pt x="726026" y="671398"/>
                  </a:lnTo>
                  <a:lnTo>
                    <a:pt x="746316" y="672809"/>
                  </a:lnTo>
                  <a:lnTo>
                    <a:pt x="766617" y="674597"/>
                  </a:lnTo>
                  <a:lnTo>
                    <a:pt x="786924" y="675788"/>
                  </a:lnTo>
                  <a:lnTo>
                    <a:pt x="827549" y="677112"/>
                  </a:lnTo>
                  <a:lnTo>
                    <a:pt x="914076" y="678032"/>
                  </a:lnTo>
                  <a:lnTo>
                    <a:pt x="974857" y="6781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MARTInkAnnotation46"/>
            <p:cNvSpPr/>
            <p:nvPr/>
          </p:nvSpPr>
          <p:spPr>
            <a:xfrm>
              <a:off x="2610000" y="1851840"/>
              <a:ext cx="872280" cy="617040"/>
            </a:xfrm>
            <a:custGeom>
              <a:avLst/>
              <a:gdLst>
                <a:gd name="textAreaLeft" fmla="*/ 0 w 872280"/>
                <a:gd name="textAreaRight" fmla="*/ 872640 w 87228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872508" h="617175">
                  <a:moveTo>
                    <a:pt x="42490" y="22857"/>
                  </a:moveTo>
                  <a:lnTo>
                    <a:pt x="38445" y="26902"/>
                  </a:lnTo>
                  <a:lnTo>
                    <a:pt x="37253" y="29787"/>
                  </a:lnTo>
                  <a:lnTo>
                    <a:pt x="34729" y="41091"/>
                  </a:lnTo>
                  <a:lnTo>
                    <a:pt x="24357" y="59648"/>
                  </a:lnTo>
                  <a:lnTo>
                    <a:pt x="21731" y="73640"/>
                  </a:lnTo>
                  <a:lnTo>
                    <a:pt x="19717" y="91147"/>
                  </a:lnTo>
                  <a:lnTo>
                    <a:pt x="16000" y="110217"/>
                  </a:lnTo>
                  <a:lnTo>
                    <a:pt x="11525" y="129982"/>
                  </a:lnTo>
                  <a:lnTo>
                    <a:pt x="9147" y="139994"/>
                  </a:lnTo>
                  <a:lnTo>
                    <a:pt x="7561" y="150901"/>
                  </a:lnTo>
                  <a:lnTo>
                    <a:pt x="6504" y="162407"/>
                  </a:lnTo>
                  <a:lnTo>
                    <a:pt x="5799" y="174310"/>
                  </a:lnTo>
                  <a:lnTo>
                    <a:pt x="5016" y="198825"/>
                  </a:lnTo>
                  <a:lnTo>
                    <a:pt x="4473" y="261711"/>
                  </a:lnTo>
                  <a:lnTo>
                    <a:pt x="4390" y="555772"/>
                  </a:lnTo>
                  <a:lnTo>
                    <a:pt x="2132" y="569024"/>
                  </a:lnTo>
                  <a:lnTo>
                    <a:pt x="345" y="574928"/>
                  </a:lnTo>
                  <a:lnTo>
                    <a:pt x="0" y="580558"/>
                  </a:lnTo>
                  <a:lnTo>
                    <a:pt x="3645" y="602867"/>
                  </a:lnTo>
                  <a:lnTo>
                    <a:pt x="4169" y="611648"/>
                  </a:lnTo>
                  <a:lnTo>
                    <a:pt x="5089" y="613505"/>
                  </a:lnTo>
                  <a:lnTo>
                    <a:pt x="6550" y="614742"/>
                  </a:lnTo>
                  <a:lnTo>
                    <a:pt x="11915" y="617174"/>
                  </a:lnTo>
                  <a:lnTo>
                    <a:pt x="12002" y="610653"/>
                  </a:lnTo>
                  <a:lnTo>
                    <a:pt x="25007" y="591425"/>
                  </a:lnTo>
                  <a:lnTo>
                    <a:pt x="29922" y="585152"/>
                  </a:lnTo>
                  <a:lnTo>
                    <a:pt x="39444" y="579541"/>
                  </a:lnTo>
                  <a:lnTo>
                    <a:pt x="51297" y="573379"/>
                  </a:lnTo>
                  <a:lnTo>
                    <a:pt x="69183" y="561236"/>
                  </a:lnTo>
                  <a:lnTo>
                    <a:pt x="100193" y="549119"/>
                  </a:lnTo>
                  <a:lnTo>
                    <a:pt x="122240" y="541160"/>
                  </a:lnTo>
                  <a:lnTo>
                    <a:pt x="140588" y="536001"/>
                  </a:lnTo>
                  <a:lnTo>
                    <a:pt x="190018" y="523246"/>
                  </a:lnTo>
                  <a:lnTo>
                    <a:pt x="214738" y="520419"/>
                  </a:lnTo>
                  <a:lnTo>
                    <a:pt x="241812" y="518316"/>
                  </a:lnTo>
                  <a:lnTo>
                    <a:pt x="267955" y="514559"/>
                  </a:lnTo>
                  <a:lnTo>
                    <a:pt x="293686" y="512324"/>
                  </a:lnTo>
                  <a:lnTo>
                    <a:pt x="320926" y="512178"/>
                  </a:lnTo>
                  <a:lnTo>
                    <a:pt x="336488" y="513325"/>
                  </a:lnTo>
                  <a:lnTo>
                    <a:pt x="352788" y="514936"/>
                  </a:lnTo>
                  <a:lnTo>
                    <a:pt x="368736" y="516010"/>
                  </a:lnTo>
                  <a:lnTo>
                    <a:pt x="384447" y="516725"/>
                  </a:lnTo>
                  <a:lnTo>
                    <a:pt x="400002" y="517203"/>
                  </a:lnTo>
                  <a:lnTo>
                    <a:pt x="415451" y="518368"/>
                  </a:lnTo>
                  <a:lnTo>
                    <a:pt x="430831" y="519991"/>
                  </a:lnTo>
                  <a:lnTo>
                    <a:pt x="461466" y="524052"/>
                  </a:lnTo>
                  <a:lnTo>
                    <a:pt x="492015" y="528679"/>
                  </a:lnTo>
                  <a:lnTo>
                    <a:pt x="507273" y="530252"/>
                  </a:lnTo>
                  <a:lnTo>
                    <a:pt x="522526" y="531300"/>
                  </a:lnTo>
                  <a:lnTo>
                    <a:pt x="537774" y="531999"/>
                  </a:lnTo>
                  <a:lnTo>
                    <a:pt x="553020" y="533312"/>
                  </a:lnTo>
                  <a:lnTo>
                    <a:pt x="568263" y="535034"/>
                  </a:lnTo>
                  <a:lnTo>
                    <a:pt x="598747" y="539204"/>
                  </a:lnTo>
                  <a:lnTo>
                    <a:pt x="629229" y="543881"/>
                  </a:lnTo>
                  <a:lnTo>
                    <a:pt x="657452" y="548781"/>
                  </a:lnTo>
                  <a:lnTo>
                    <a:pt x="710064" y="558826"/>
                  </a:lnTo>
                  <a:lnTo>
                    <a:pt x="733454" y="561632"/>
                  </a:lnTo>
                  <a:lnTo>
                    <a:pt x="755139" y="563726"/>
                  </a:lnTo>
                  <a:lnTo>
                    <a:pt x="776065" y="567479"/>
                  </a:lnTo>
                  <a:lnTo>
                    <a:pt x="802842" y="570307"/>
                  </a:lnTo>
                  <a:lnTo>
                    <a:pt x="826862" y="571144"/>
                  </a:lnTo>
                  <a:lnTo>
                    <a:pt x="841975" y="571393"/>
                  </a:lnTo>
                  <a:lnTo>
                    <a:pt x="851066" y="569193"/>
                  </a:lnTo>
                  <a:lnTo>
                    <a:pt x="863446" y="565452"/>
                  </a:lnTo>
                  <a:lnTo>
                    <a:pt x="866654" y="564927"/>
                  </a:lnTo>
                  <a:lnTo>
                    <a:pt x="868793" y="563730"/>
                  </a:lnTo>
                  <a:lnTo>
                    <a:pt x="870219" y="562086"/>
                  </a:lnTo>
                  <a:lnTo>
                    <a:pt x="871169" y="560143"/>
                  </a:lnTo>
                  <a:lnTo>
                    <a:pt x="872225" y="555726"/>
                  </a:lnTo>
                  <a:lnTo>
                    <a:pt x="872507" y="553363"/>
                  </a:lnTo>
                  <a:lnTo>
                    <a:pt x="868858" y="537902"/>
                  </a:lnTo>
                  <a:lnTo>
                    <a:pt x="862415" y="521279"/>
                  </a:lnTo>
                  <a:lnTo>
                    <a:pt x="855144" y="505630"/>
                  </a:lnTo>
                  <a:lnTo>
                    <a:pt x="850146" y="493116"/>
                  </a:lnTo>
                  <a:lnTo>
                    <a:pt x="844254" y="479088"/>
                  </a:lnTo>
                  <a:lnTo>
                    <a:pt x="835992" y="464386"/>
                  </a:lnTo>
                  <a:lnTo>
                    <a:pt x="828934" y="449386"/>
                  </a:lnTo>
                  <a:lnTo>
                    <a:pt x="822128" y="433405"/>
                  </a:lnTo>
                  <a:lnTo>
                    <a:pt x="813458" y="415014"/>
                  </a:lnTo>
                  <a:lnTo>
                    <a:pt x="806218" y="397809"/>
                  </a:lnTo>
                  <a:lnTo>
                    <a:pt x="800178" y="380849"/>
                  </a:lnTo>
                  <a:lnTo>
                    <a:pt x="784238" y="327578"/>
                  </a:lnTo>
                  <a:lnTo>
                    <a:pt x="779120" y="308713"/>
                  </a:lnTo>
                  <a:lnTo>
                    <a:pt x="777417" y="298941"/>
                  </a:lnTo>
                  <a:lnTo>
                    <a:pt x="776282" y="289040"/>
                  </a:lnTo>
                  <a:lnTo>
                    <a:pt x="775525" y="279052"/>
                  </a:lnTo>
                  <a:lnTo>
                    <a:pt x="774173" y="269007"/>
                  </a:lnTo>
                  <a:lnTo>
                    <a:pt x="772426" y="258924"/>
                  </a:lnTo>
                  <a:lnTo>
                    <a:pt x="770414" y="248815"/>
                  </a:lnTo>
                  <a:lnTo>
                    <a:pt x="768179" y="230810"/>
                  </a:lnTo>
                  <a:lnTo>
                    <a:pt x="766339" y="213494"/>
                  </a:lnTo>
                  <a:lnTo>
                    <a:pt x="762698" y="194509"/>
                  </a:lnTo>
                  <a:lnTo>
                    <a:pt x="760517" y="177040"/>
                  </a:lnTo>
                  <a:lnTo>
                    <a:pt x="759546" y="160810"/>
                  </a:lnTo>
                  <a:lnTo>
                    <a:pt x="759115" y="145129"/>
                  </a:lnTo>
                  <a:lnTo>
                    <a:pt x="758873" y="122022"/>
                  </a:lnTo>
                  <a:lnTo>
                    <a:pt x="761074" y="106723"/>
                  </a:lnTo>
                  <a:lnTo>
                    <a:pt x="764027" y="92304"/>
                  </a:lnTo>
                  <a:lnTo>
                    <a:pt x="765690" y="74667"/>
                  </a:lnTo>
                  <a:lnTo>
                    <a:pt x="766183" y="58716"/>
                  </a:lnTo>
                  <a:lnTo>
                    <a:pt x="766382" y="21834"/>
                  </a:lnTo>
                  <a:lnTo>
                    <a:pt x="765538" y="18788"/>
                  </a:lnTo>
                  <a:lnTo>
                    <a:pt x="762343" y="13147"/>
                  </a:lnTo>
                  <a:lnTo>
                    <a:pt x="760305" y="11303"/>
                  </a:lnTo>
                  <a:lnTo>
                    <a:pt x="758100" y="10075"/>
                  </a:lnTo>
                  <a:lnTo>
                    <a:pt x="739898" y="2704"/>
                  </a:lnTo>
                  <a:lnTo>
                    <a:pt x="718197" y="532"/>
                  </a:lnTo>
                  <a:lnTo>
                    <a:pt x="697077" y="156"/>
                  </a:lnTo>
                  <a:lnTo>
                    <a:pt x="599640" y="0"/>
                  </a:lnTo>
                  <a:lnTo>
                    <a:pt x="575157" y="2256"/>
                  </a:lnTo>
                  <a:lnTo>
                    <a:pt x="550164" y="5235"/>
                  </a:lnTo>
                  <a:lnTo>
                    <a:pt x="524945" y="6558"/>
                  </a:lnTo>
                  <a:lnTo>
                    <a:pt x="511447" y="7758"/>
                  </a:lnTo>
                  <a:lnTo>
                    <a:pt x="497368" y="9404"/>
                  </a:lnTo>
                  <a:lnTo>
                    <a:pt x="482902" y="11349"/>
                  </a:lnTo>
                  <a:lnTo>
                    <a:pt x="468178" y="12645"/>
                  </a:lnTo>
                  <a:lnTo>
                    <a:pt x="453282" y="13509"/>
                  </a:lnTo>
                  <a:lnTo>
                    <a:pt x="438272" y="14085"/>
                  </a:lnTo>
                  <a:lnTo>
                    <a:pt x="424031" y="15316"/>
                  </a:lnTo>
                  <a:lnTo>
                    <a:pt x="396919" y="18941"/>
                  </a:lnTo>
                  <a:lnTo>
                    <a:pt x="349765" y="25742"/>
                  </a:lnTo>
                  <a:lnTo>
                    <a:pt x="334547" y="27320"/>
                  </a:lnTo>
                  <a:lnTo>
                    <a:pt x="320168" y="28373"/>
                  </a:lnTo>
                  <a:lnTo>
                    <a:pt x="292902" y="30389"/>
                  </a:lnTo>
                  <a:lnTo>
                    <a:pt x="266673" y="34107"/>
                  </a:lnTo>
                  <a:lnTo>
                    <a:pt x="240905" y="38582"/>
                  </a:lnTo>
                  <a:lnTo>
                    <a:pt x="216188" y="42546"/>
                  </a:lnTo>
                  <a:lnTo>
                    <a:pt x="193914" y="44308"/>
                  </a:lnTo>
                  <a:lnTo>
                    <a:pt x="174983" y="47348"/>
                  </a:lnTo>
                  <a:lnTo>
                    <a:pt x="150045" y="53820"/>
                  </a:lnTo>
                  <a:lnTo>
                    <a:pt x="123352" y="60864"/>
                  </a:lnTo>
                  <a:lnTo>
                    <a:pt x="111070" y="685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MARTInkAnnotation47"/>
            <p:cNvSpPr/>
            <p:nvPr/>
          </p:nvSpPr>
          <p:spPr>
            <a:xfrm>
              <a:off x="801000" y="285768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4045" y="15240"/>
                  </a:lnTo>
                  <a:lnTo>
                    <a:pt x="6084" y="14394"/>
                  </a:lnTo>
                  <a:lnTo>
                    <a:pt x="8289" y="12982"/>
                  </a:lnTo>
                  <a:lnTo>
                    <a:pt x="10606" y="11195"/>
                  </a:lnTo>
                  <a:lnTo>
                    <a:pt x="12997" y="10003"/>
                  </a:lnTo>
                  <a:lnTo>
                    <a:pt x="15438" y="9209"/>
                  </a:lnTo>
                  <a:lnTo>
                    <a:pt x="17912" y="8679"/>
                  </a:lnTo>
                  <a:lnTo>
                    <a:pt x="21255" y="8326"/>
                  </a:lnTo>
                  <a:lnTo>
                    <a:pt x="25177" y="8091"/>
                  </a:lnTo>
                  <a:lnTo>
                    <a:pt x="29484" y="7934"/>
                  </a:lnTo>
                  <a:lnTo>
                    <a:pt x="34050" y="6983"/>
                  </a:lnTo>
                  <a:lnTo>
                    <a:pt x="38786" y="5502"/>
                  </a:lnTo>
                  <a:lnTo>
                    <a:pt x="43638" y="3668"/>
                  </a:lnTo>
                  <a:lnTo>
                    <a:pt x="48565" y="2445"/>
                  </a:lnTo>
                  <a:lnTo>
                    <a:pt x="53543" y="1630"/>
                  </a:lnTo>
                  <a:lnTo>
                    <a:pt x="58556" y="1087"/>
                  </a:lnTo>
                  <a:lnTo>
                    <a:pt x="63590" y="725"/>
                  </a:lnTo>
                  <a:lnTo>
                    <a:pt x="68640" y="483"/>
                  </a:lnTo>
                  <a:lnTo>
                    <a:pt x="79614" y="215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MARTInkAnnotation48"/>
            <p:cNvSpPr/>
            <p:nvPr/>
          </p:nvSpPr>
          <p:spPr>
            <a:xfrm>
              <a:off x="1122480" y="2682720"/>
              <a:ext cx="323640" cy="3272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323952" h="327274">
                  <a:moveTo>
                    <a:pt x="59271" y="68235"/>
                  </a:moveTo>
                  <a:lnTo>
                    <a:pt x="69877" y="57629"/>
                  </a:lnTo>
                  <a:lnTo>
                    <a:pt x="73115" y="56084"/>
                  </a:lnTo>
                  <a:lnTo>
                    <a:pt x="81228" y="54368"/>
                  </a:lnTo>
                  <a:lnTo>
                    <a:pt x="90479" y="49090"/>
                  </a:lnTo>
                  <a:lnTo>
                    <a:pt x="95316" y="45311"/>
                  </a:lnTo>
                  <a:lnTo>
                    <a:pt x="101081" y="41946"/>
                  </a:lnTo>
                  <a:lnTo>
                    <a:pt x="107464" y="38856"/>
                  </a:lnTo>
                  <a:lnTo>
                    <a:pt x="114260" y="35949"/>
                  </a:lnTo>
                  <a:lnTo>
                    <a:pt x="121330" y="33164"/>
                  </a:lnTo>
                  <a:lnTo>
                    <a:pt x="135960" y="27812"/>
                  </a:lnTo>
                  <a:lnTo>
                    <a:pt x="144263" y="25200"/>
                  </a:lnTo>
                  <a:lnTo>
                    <a:pt x="162521" y="20040"/>
                  </a:lnTo>
                  <a:lnTo>
                    <a:pt x="171285" y="18325"/>
                  </a:lnTo>
                  <a:lnTo>
                    <a:pt x="179666" y="17182"/>
                  </a:lnTo>
                  <a:lnTo>
                    <a:pt x="187795" y="16419"/>
                  </a:lnTo>
                  <a:lnTo>
                    <a:pt x="196600" y="15064"/>
                  </a:lnTo>
                  <a:lnTo>
                    <a:pt x="205857" y="13315"/>
                  </a:lnTo>
                  <a:lnTo>
                    <a:pt x="215415" y="11302"/>
                  </a:lnTo>
                  <a:lnTo>
                    <a:pt x="224327" y="9959"/>
                  </a:lnTo>
                  <a:lnTo>
                    <a:pt x="232808" y="9064"/>
                  </a:lnTo>
                  <a:lnTo>
                    <a:pt x="241002" y="8468"/>
                  </a:lnTo>
                  <a:lnTo>
                    <a:pt x="249006" y="7224"/>
                  </a:lnTo>
                  <a:lnTo>
                    <a:pt x="256881" y="5547"/>
                  </a:lnTo>
                  <a:lnTo>
                    <a:pt x="264671" y="3583"/>
                  </a:lnTo>
                  <a:lnTo>
                    <a:pt x="271558" y="2274"/>
                  </a:lnTo>
                  <a:lnTo>
                    <a:pt x="277842" y="1401"/>
                  </a:lnTo>
                  <a:lnTo>
                    <a:pt x="283725" y="819"/>
                  </a:lnTo>
                  <a:lnTo>
                    <a:pt x="289340" y="431"/>
                  </a:lnTo>
                  <a:lnTo>
                    <a:pt x="294777" y="172"/>
                  </a:lnTo>
                  <a:lnTo>
                    <a:pt x="300095" y="0"/>
                  </a:lnTo>
                  <a:lnTo>
                    <a:pt x="304487" y="732"/>
                  </a:lnTo>
                  <a:lnTo>
                    <a:pt x="313867" y="4960"/>
                  </a:lnTo>
                  <a:lnTo>
                    <a:pt x="316358" y="6246"/>
                  </a:lnTo>
                  <a:lnTo>
                    <a:pt x="317022" y="8282"/>
                  </a:lnTo>
                  <a:lnTo>
                    <a:pt x="317761" y="15061"/>
                  </a:lnTo>
                  <a:lnTo>
                    <a:pt x="316264" y="18392"/>
                  </a:lnTo>
                  <a:lnTo>
                    <a:pt x="313573" y="21460"/>
                  </a:lnTo>
                  <a:lnTo>
                    <a:pt x="306067" y="27973"/>
                  </a:lnTo>
                  <a:lnTo>
                    <a:pt x="297087" y="36512"/>
                  </a:lnTo>
                  <a:lnTo>
                    <a:pt x="282511" y="50839"/>
                  </a:lnTo>
                  <a:lnTo>
                    <a:pt x="275831" y="55791"/>
                  </a:lnTo>
                  <a:lnTo>
                    <a:pt x="267991" y="60786"/>
                  </a:lnTo>
                  <a:lnTo>
                    <a:pt x="259378" y="65809"/>
                  </a:lnTo>
                  <a:lnTo>
                    <a:pt x="250249" y="70851"/>
                  </a:lnTo>
                  <a:lnTo>
                    <a:pt x="231074" y="80969"/>
                  </a:lnTo>
                  <a:lnTo>
                    <a:pt x="222067" y="86037"/>
                  </a:lnTo>
                  <a:lnTo>
                    <a:pt x="213521" y="91110"/>
                  </a:lnTo>
                  <a:lnTo>
                    <a:pt x="205285" y="96185"/>
                  </a:lnTo>
                  <a:lnTo>
                    <a:pt x="197254" y="100415"/>
                  </a:lnTo>
                  <a:lnTo>
                    <a:pt x="189359" y="104082"/>
                  </a:lnTo>
                  <a:lnTo>
                    <a:pt x="181557" y="107373"/>
                  </a:lnTo>
                  <a:lnTo>
                    <a:pt x="174661" y="111260"/>
                  </a:lnTo>
                  <a:lnTo>
                    <a:pt x="168371" y="115545"/>
                  </a:lnTo>
                  <a:lnTo>
                    <a:pt x="162485" y="120095"/>
                  </a:lnTo>
                  <a:lnTo>
                    <a:pt x="153686" y="127408"/>
                  </a:lnTo>
                  <a:lnTo>
                    <a:pt x="150155" y="130544"/>
                  </a:lnTo>
                  <a:lnTo>
                    <a:pt x="148647" y="133481"/>
                  </a:lnTo>
                  <a:lnTo>
                    <a:pt x="148488" y="136286"/>
                  </a:lnTo>
                  <a:lnTo>
                    <a:pt x="150053" y="144278"/>
                  </a:lnTo>
                  <a:lnTo>
                    <a:pt x="150272" y="146871"/>
                  </a:lnTo>
                  <a:lnTo>
                    <a:pt x="151265" y="149445"/>
                  </a:lnTo>
                  <a:lnTo>
                    <a:pt x="154626" y="154564"/>
                  </a:lnTo>
                  <a:lnTo>
                    <a:pt x="163458" y="159661"/>
                  </a:lnTo>
                  <a:lnTo>
                    <a:pt x="169369" y="162206"/>
                  </a:lnTo>
                  <a:lnTo>
                    <a:pt x="175850" y="164749"/>
                  </a:lnTo>
                  <a:lnTo>
                    <a:pt x="189824" y="169832"/>
                  </a:lnTo>
                  <a:lnTo>
                    <a:pt x="197953" y="173220"/>
                  </a:lnTo>
                  <a:lnTo>
                    <a:pt x="206759" y="177172"/>
                  </a:lnTo>
                  <a:lnTo>
                    <a:pt x="216016" y="181499"/>
                  </a:lnTo>
                  <a:lnTo>
                    <a:pt x="224728" y="185231"/>
                  </a:lnTo>
                  <a:lnTo>
                    <a:pt x="233076" y="188566"/>
                  </a:lnTo>
                  <a:lnTo>
                    <a:pt x="241181" y="191636"/>
                  </a:lnTo>
                  <a:lnTo>
                    <a:pt x="249971" y="194529"/>
                  </a:lnTo>
                  <a:lnTo>
                    <a:pt x="259217" y="197304"/>
                  </a:lnTo>
                  <a:lnTo>
                    <a:pt x="268769" y="200001"/>
                  </a:lnTo>
                  <a:lnTo>
                    <a:pt x="276830" y="203493"/>
                  </a:lnTo>
                  <a:lnTo>
                    <a:pt x="283897" y="207513"/>
                  </a:lnTo>
                  <a:lnTo>
                    <a:pt x="290301" y="211887"/>
                  </a:lnTo>
                  <a:lnTo>
                    <a:pt x="296265" y="215650"/>
                  </a:lnTo>
                  <a:lnTo>
                    <a:pt x="301933" y="219005"/>
                  </a:lnTo>
                  <a:lnTo>
                    <a:pt x="307406" y="222088"/>
                  </a:lnTo>
                  <a:lnTo>
                    <a:pt x="315744" y="230030"/>
                  </a:lnTo>
                  <a:lnTo>
                    <a:pt x="319153" y="234518"/>
                  </a:lnTo>
                  <a:lnTo>
                    <a:pt x="322941" y="244021"/>
                  </a:lnTo>
                  <a:lnTo>
                    <a:pt x="323951" y="248926"/>
                  </a:lnTo>
                  <a:lnTo>
                    <a:pt x="323778" y="253889"/>
                  </a:lnTo>
                  <a:lnTo>
                    <a:pt x="321327" y="263919"/>
                  </a:lnTo>
                  <a:lnTo>
                    <a:pt x="317416" y="274021"/>
                  </a:lnTo>
                  <a:lnTo>
                    <a:pt x="315188" y="279086"/>
                  </a:lnTo>
                  <a:lnTo>
                    <a:pt x="312009" y="283309"/>
                  </a:lnTo>
                  <a:lnTo>
                    <a:pt x="303961" y="290259"/>
                  </a:lnTo>
                  <a:lnTo>
                    <a:pt x="298598" y="294144"/>
                  </a:lnTo>
                  <a:lnTo>
                    <a:pt x="285865" y="302977"/>
                  </a:lnTo>
                  <a:lnTo>
                    <a:pt x="278067" y="306856"/>
                  </a:lnTo>
                  <a:lnTo>
                    <a:pt x="269482" y="310289"/>
                  </a:lnTo>
                  <a:lnTo>
                    <a:pt x="260372" y="313425"/>
                  </a:lnTo>
                  <a:lnTo>
                    <a:pt x="250912" y="316361"/>
                  </a:lnTo>
                  <a:lnTo>
                    <a:pt x="231369" y="321883"/>
                  </a:lnTo>
                  <a:lnTo>
                    <a:pt x="221416" y="323693"/>
                  </a:lnTo>
                  <a:lnTo>
                    <a:pt x="211395" y="324901"/>
                  </a:lnTo>
                  <a:lnTo>
                    <a:pt x="201327" y="325706"/>
                  </a:lnTo>
                  <a:lnTo>
                    <a:pt x="191228" y="326242"/>
                  </a:lnTo>
                  <a:lnTo>
                    <a:pt x="170976" y="326838"/>
                  </a:lnTo>
                  <a:lnTo>
                    <a:pt x="103506" y="327273"/>
                  </a:lnTo>
                  <a:lnTo>
                    <a:pt x="92994" y="326440"/>
                  </a:lnTo>
                  <a:lnTo>
                    <a:pt x="82600" y="325039"/>
                  </a:lnTo>
                  <a:lnTo>
                    <a:pt x="72284" y="323257"/>
                  </a:lnTo>
                  <a:lnTo>
                    <a:pt x="62866" y="321224"/>
                  </a:lnTo>
                  <a:lnTo>
                    <a:pt x="54048" y="319021"/>
                  </a:lnTo>
                  <a:lnTo>
                    <a:pt x="45629" y="316705"/>
                  </a:lnTo>
                  <a:lnTo>
                    <a:pt x="38323" y="314316"/>
                  </a:lnTo>
                  <a:lnTo>
                    <a:pt x="31759" y="311875"/>
                  </a:lnTo>
                  <a:lnTo>
                    <a:pt x="25690" y="309402"/>
                  </a:lnTo>
                  <a:lnTo>
                    <a:pt x="16688" y="304396"/>
                  </a:lnTo>
                  <a:lnTo>
                    <a:pt x="6861" y="296817"/>
                  </a:lnTo>
                  <a:lnTo>
                    <a:pt x="4011" y="294283"/>
                  </a:lnTo>
                  <a:lnTo>
                    <a:pt x="2111" y="291747"/>
                  </a:lnTo>
                  <a:lnTo>
                    <a:pt x="0" y="286672"/>
                  </a:lnTo>
                  <a:lnTo>
                    <a:pt x="284" y="284133"/>
                  </a:lnTo>
                  <a:lnTo>
                    <a:pt x="1319" y="281594"/>
                  </a:lnTo>
                  <a:lnTo>
                    <a:pt x="2857" y="279054"/>
                  </a:lnTo>
                  <a:lnTo>
                    <a:pt x="4728" y="277361"/>
                  </a:lnTo>
                  <a:lnTo>
                    <a:pt x="6822" y="276232"/>
                  </a:lnTo>
                  <a:lnTo>
                    <a:pt x="13551" y="2739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SMARTInkAnnotation49"/>
            <p:cNvSpPr/>
            <p:nvPr/>
          </p:nvSpPr>
          <p:spPr>
            <a:xfrm>
              <a:off x="1501920" y="2887920"/>
              <a:ext cx="289440" cy="14868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289561" h="148866">
                  <a:moveTo>
                    <a:pt x="289560" y="0"/>
                  </a:moveTo>
                  <a:lnTo>
                    <a:pt x="285515" y="0"/>
                  </a:lnTo>
                  <a:lnTo>
                    <a:pt x="283477" y="847"/>
                  </a:lnTo>
                  <a:lnTo>
                    <a:pt x="275716" y="6084"/>
                  </a:lnTo>
                  <a:lnTo>
                    <a:pt x="267603" y="10606"/>
                  </a:lnTo>
                  <a:lnTo>
                    <a:pt x="263915" y="13844"/>
                  </a:lnTo>
                  <a:lnTo>
                    <a:pt x="260610" y="17696"/>
                  </a:lnTo>
                  <a:lnTo>
                    <a:pt x="257560" y="21957"/>
                  </a:lnTo>
                  <a:lnTo>
                    <a:pt x="252987" y="25645"/>
                  </a:lnTo>
                  <a:lnTo>
                    <a:pt x="247398" y="28950"/>
                  </a:lnTo>
                  <a:lnTo>
                    <a:pt x="241132" y="32000"/>
                  </a:lnTo>
                  <a:lnTo>
                    <a:pt x="234415" y="35727"/>
                  </a:lnTo>
                  <a:lnTo>
                    <a:pt x="227396" y="39904"/>
                  </a:lnTo>
                  <a:lnTo>
                    <a:pt x="220178" y="44383"/>
                  </a:lnTo>
                  <a:lnTo>
                    <a:pt x="212825" y="49909"/>
                  </a:lnTo>
                  <a:lnTo>
                    <a:pt x="205384" y="56132"/>
                  </a:lnTo>
                  <a:lnTo>
                    <a:pt x="197883" y="62821"/>
                  </a:lnTo>
                  <a:lnTo>
                    <a:pt x="189495" y="68975"/>
                  </a:lnTo>
                  <a:lnTo>
                    <a:pt x="180516" y="74770"/>
                  </a:lnTo>
                  <a:lnTo>
                    <a:pt x="171145" y="80327"/>
                  </a:lnTo>
                  <a:lnTo>
                    <a:pt x="161510" y="85724"/>
                  </a:lnTo>
                  <a:lnTo>
                    <a:pt x="141773" y="96238"/>
                  </a:lnTo>
                  <a:lnTo>
                    <a:pt x="132616" y="101412"/>
                  </a:lnTo>
                  <a:lnTo>
                    <a:pt x="123970" y="106555"/>
                  </a:lnTo>
                  <a:lnTo>
                    <a:pt x="115667" y="111677"/>
                  </a:lnTo>
                  <a:lnTo>
                    <a:pt x="107591" y="115938"/>
                  </a:lnTo>
                  <a:lnTo>
                    <a:pt x="99667" y="119625"/>
                  </a:lnTo>
                  <a:lnTo>
                    <a:pt x="91845" y="122930"/>
                  </a:lnTo>
                  <a:lnTo>
                    <a:pt x="84090" y="125980"/>
                  </a:lnTo>
                  <a:lnTo>
                    <a:pt x="68700" y="131627"/>
                  </a:lnTo>
                  <a:lnTo>
                    <a:pt x="61887" y="134318"/>
                  </a:lnTo>
                  <a:lnTo>
                    <a:pt x="55651" y="136958"/>
                  </a:lnTo>
                  <a:lnTo>
                    <a:pt x="49801" y="139566"/>
                  </a:lnTo>
                  <a:lnTo>
                    <a:pt x="44207" y="141304"/>
                  </a:lnTo>
                  <a:lnTo>
                    <a:pt x="38785" y="142463"/>
                  </a:lnTo>
                  <a:lnTo>
                    <a:pt x="33477" y="143235"/>
                  </a:lnTo>
                  <a:lnTo>
                    <a:pt x="28244" y="144597"/>
                  </a:lnTo>
                  <a:lnTo>
                    <a:pt x="23063" y="146351"/>
                  </a:lnTo>
                  <a:lnTo>
                    <a:pt x="17916" y="148368"/>
                  </a:lnTo>
                  <a:lnTo>
                    <a:pt x="13637" y="148865"/>
                  </a:lnTo>
                  <a:lnTo>
                    <a:pt x="9938" y="148350"/>
                  </a:lnTo>
                  <a:lnTo>
                    <a:pt x="0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SMARTInkAnnotation50"/>
            <p:cNvSpPr/>
            <p:nvPr/>
          </p:nvSpPr>
          <p:spPr>
            <a:xfrm>
              <a:off x="1608480" y="2880360"/>
              <a:ext cx="228600" cy="1598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28601" h="160021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1" y="2258"/>
                  </a:lnTo>
                  <a:lnTo>
                    <a:pt x="6561" y="4046"/>
                  </a:lnTo>
                  <a:lnTo>
                    <a:pt x="7761" y="5237"/>
                  </a:lnTo>
                  <a:lnTo>
                    <a:pt x="9407" y="6031"/>
                  </a:lnTo>
                  <a:lnTo>
                    <a:pt x="11352" y="6561"/>
                  </a:lnTo>
                  <a:lnTo>
                    <a:pt x="15769" y="9407"/>
                  </a:lnTo>
                  <a:lnTo>
                    <a:pt x="18133" y="11352"/>
                  </a:lnTo>
                  <a:lnTo>
                    <a:pt x="20555" y="14341"/>
                  </a:lnTo>
                  <a:lnTo>
                    <a:pt x="23017" y="18027"/>
                  </a:lnTo>
                  <a:lnTo>
                    <a:pt x="25505" y="22178"/>
                  </a:lnTo>
                  <a:lnTo>
                    <a:pt x="28857" y="26639"/>
                  </a:lnTo>
                  <a:lnTo>
                    <a:pt x="32785" y="31306"/>
                  </a:lnTo>
                  <a:lnTo>
                    <a:pt x="37097" y="36111"/>
                  </a:lnTo>
                  <a:lnTo>
                    <a:pt x="41664" y="40161"/>
                  </a:lnTo>
                  <a:lnTo>
                    <a:pt x="46403" y="43707"/>
                  </a:lnTo>
                  <a:lnTo>
                    <a:pt x="51255" y="46918"/>
                  </a:lnTo>
                  <a:lnTo>
                    <a:pt x="57030" y="51599"/>
                  </a:lnTo>
                  <a:lnTo>
                    <a:pt x="63420" y="57259"/>
                  </a:lnTo>
                  <a:lnTo>
                    <a:pt x="70220" y="63573"/>
                  </a:lnTo>
                  <a:lnTo>
                    <a:pt x="76447" y="68629"/>
                  </a:lnTo>
                  <a:lnTo>
                    <a:pt x="82292" y="72846"/>
                  </a:lnTo>
                  <a:lnTo>
                    <a:pt x="152506" y="119454"/>
                  </a:lnTo>
                  <a:lnTo>
                    <a:pt x="160937" y="124509"/>
                  </a:lnTo>
                  <a:lnTo>
                    <a:pt x="169945" y="129573"/>
                  </a:lnTo>
                  <a:lnTo>
                    <a:pt x="179337" y="134642"/>
                  </a:lnTo>
                  <a:lnTo>
                    <a:pt x="188138" y="138868"/>
                  </a:lnTo>
                  <a:lnTo>
                    <a:pt x="196545" y="142532"/>
                  </a:lnTo>
                  <a:lnTo>
                    <a:pt x="204690" y="145821"/>
                  </a:lnTo>
                  <a:lnTo>
                    <a:pt x="210967" y="148861"/>
                  </a:lnTo>
                  <a:lnTo>
                    <a:pt x="215998" y="151734"/>
                  </a:lnTo>
                  <a:lnTo>
                    <a:pt x="228600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SMARTInkAnnotation51"/>
            <p:cNvSpPr/>
            <p:nvPr/>
          </p:nvSpPr>
          <p:spPr>
            <a:xfrm>
              <a:off x="1932120" y="1914480"/>
              <a:ext cx="497520" cy="592200"/>
            </a:xfrm>
            <a:custGeom>
              <a:avLst/>
              <a:gdLst>
                <a:gd name="textAreaLeft" fmla="*/ 0 w 497520"/>
                <a:gd name="textAreaRight" fmla="*/ 497880 w 49752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497688" h="592490">
                  <a:moveTo>
                    <a:pt x="148838" y="462949"/>
                  </a:moveTo>
                  <a:lnTo>
                    <a:pt x="173311" y="462949"/>
                  </a:lnTo>
                  <a:lnTo>
                    <a:pt x="183422" y="465207"/>
                  </a:lnTo>
                  <a:lnTo>
                    <a:pt x="196382" y="468186"/>
                  </a:lnTo>
                  <a:lnTo>
                    <a:pt x="210609" y="469510"/>
                  </a:lnTo>
                  <a:lnTo>
                    <a:pt x="218805" y="469016"/>
                  </a:lnTo>
                  <a:lnTo>
                    <a:pt x="227656" y="467841"/>
                  </a:lnTo>
                  <a:lnTo>
                    <a:pt x="236943" y="466210"/>
                  </a:lnTo>
                  <a:lnTo>
                    <a:pt x="246522" y="465123"/>
                  </a:lnTo>
                  <a:lnTo>
                    <a:pt x="256294" y="464399"/>
                  </a:lnTo>
                  <a:lnTo>
                    <a:pt x="266195" y="463915"/>
                  </a:lnTo>
                  <a:lnTo>
                    <a:pt x="276183" y="461900"/>
                  </a:lnTo>
                  <a:lnTo>
                    <a:pt x="286228" y="458863"/>
                  </a:lnTo>
                  <a:lnTo>
                    <a:pt x="296312" y="455145"/>
                  </a:lnTo>
                  <a:lnTo>
                    <a:pt x="306420" y="451820"/>
                  </a:lnTo>
                  <a:lnTo>
                    <a:pt x="316546" y="448756"/>
                  </a:lnTo>
                  <a:lnTo>
                    <a:pt x="326683" y="445867"/>
                  </a:lnTo>
                  <a:lnTo>
                    <a:pt x="335981" y="442248"/>
                  </a:lnTo>
                  <a:lnTo>
                    <a:pt x="344720" y="438142"/>
                  </a:lnTo>
                  <a:lnTo>
                    <a:pt x="353086" y="433711"/>
                  </a:lnTo>
                  <a:lnTo>
                    <a:pt x="362050" y="428217"/>
                  </a:lnTo>
                  <a:lnTo>
                    <a:pt x="371413" y="422014"/>
                  </a:lnTo>
                  <a:lnTo>
                    <a:pt x="390847" y="408349"/>
                  </a:lnTo>
                  <a:lnTo>
                    <a:pt x="410773" y="393809"/>
                  </a:lnTo>
                  <a:lnTo>
                    <a:pt x="419135" y="387223"/>
                  </a:lnTo>
                  <a:lnTo>
                    <a:pt x="432941" y="375388"/>
                  </a:lnTo>
                  <a:lnTo>
                    <a:pt x="446979" y="359969"/>
                  </a:lnTo>
                  <a:lnTo>
                    <a:pt x="460839" y="341827"/>
                  </a:lnTo>
                  <a:lnTo>
                    <a:pt x="466905" y="332247"/>
                  </a:lnTo>
                  <a:lnTo>
                    <a:pt x="472643" y="322475"/>
                  </a:lnTo>
                  <a:lnTo>
                    <a:pt x="477315" y="312573"/>
                  </a:lnTo>
                  <a:lnTo>
                    <a:pt x="481276" y="302585"/>
                  </a:lnTo>
                  <a:lnTo>
                    <a:pt x="484763" y="292540"/>
                  </a:lnTo>
                  <a:lnTo>
                    <a:pt x="487935" y="282456"/>
                  </a:lnTo>
                  <a:lnTo>
                    <a:pt x="493717" y="262221"/>
                  </a:lnTo>
                  <a:lnTo>
                    <a:pt x="495597" y="252084"/>
                  </a:lnTo>
                  <a:lnTo>
                    <a:pt x="496851" y="241939"/>
                  </a:lnTo>
                  <a:lnTo>
                    <a:pt x="497687" y="231789"/>
                  </a:lnTo>
                  <a:lnTo>
                    <a:pt x="497397" y="221636"/>
                  </a:lnTo>
                  <a:lnTo>
                    <a:pt x="496358" y="211480"/>
                  </a:lnTo>
                  <a:lnTo>
                    <a:pt x="494818" y="201323"/>
                  </a:lnTo>
                  <a:lnTo>
                    <a:pt x="492098" y="191165"/>
                  </a:lnTo>
                  <a:lnTo>
                    <a:pt x="488592" y="181006"/>
                  </a:lnTo>
                  <a:lnTo>
                    <a:pt x="484560" y="170847"/>
                  </a:lnTo>
                  <a:lnTo>
                    <a:pt x="480180" y="160688"/>
                  </a:lnTo>
                  <a:lnTo>
                    <a:pt x="470796" y="140368"/>
                  </a:lnTo>
                  <a:lnTo>
                    <a:pt x="465077" y="130209"/>
                  </a:lnTo>
                  <a:lnTo>
                    <a:pt x="458724" y="120049"/>
                  </a:lnTo>
                  <a:lnTo>
                    <a:pt x="451949" y="109889"/>
                  </a:lnTo>
                  <a:lnTo>
                    <a:pt x="444045" y="100576"/>
                  </a:lnTo>
                  <a:lnTo>
                    <a:pt x="435389" y="91827"/>
                  </a:lnTo>
                  <a:lnTo>
                    <a:pt x="426233" y="83454"/>
                  </a:lnTo>
                  <a:lnTo>
                    <a:pt x="416741" y="75333"/>
                  </a:lnTo>
                  <a:lnTo>
                    <a:pt x="407027" y="67378"/>
                  </a:lnTo>
                  <a:lnTo>
                    <a:pt x="397164" y="59535"/>
                  </a:lnTo>
                  <a:lnTo>
                    <a:pt x="387202" y="52613"/>
                  </a:lnTo>
                  <a:lnTo>
                    <a:pt x="377174" y="46305"/>
                  </a:lnTo>
                  <a:lnTo>
                    <a:pt x="367102" y="40406"/>
                  </a:lnTo>
                  <a:lnTo>
                    <a:pt x="357001" y="35627"/>
                  </a:lnTo>
                  <a:lnTo>
                    <a:pt x="346880" y="31594"/>
                  </a:lnTo>
                  <a:lnTo>
                    <a:pt x="336746" y="28059"/>
                  </a:lnTo>
                  <a:lnTo>
                    <a:pt x="314197" y="19616"/>
                  </a:lnTo>
                  <a:lnTo>
                    <a:pt x="302257" y="14994"/>
                  </a:lnTo>
                  <a:lnTo>
                    <a:pt x="290064" y="11065"/>
                  </a:lnTo>
                  <a:lnTo>
                    <a:pt x="277702" y="7600"/>
                  </a:lnTo>
                  <a:lnTo>
                    <a:pt x="265227" y="4443"/>
                  </a:lnTo>
                  <a:lnTo>
                    <a:pt x="252678" y="2338"/>
                  </a:lnTo>
                  <a:lnTo>
                    <a:pt x="240078" y="935"/>
                  </a:lnTo>
                  <a:lnTo>
                    <a:pt x="227444" y="0"/>
                  </a:lnTo>
                  <a:lnTo>
                    <a:pt x="215636" y="223"/>
                  </a:lnTo>
                  <a:lnTo>
                    <a:pt x="204377" y="1218"/>
                  </a:lnTo>
                  <a:lnTo>
                    <a:pt x="193484" y="2729"/>
                  </a:lnTo>
                  <a:lnTo>
                    <a:pt x="170092" y="6664"/>
                  </a:lnTo>
                  <a:lnTo>
                    <a:pt x="157927" y="8899"/>
                  </a:lnTo>
                  <a:lnTo>
                    <a:pt x="147277" y="12082"/>
                  </a:lnTo>
                  <a:lnTo>
                    <a:pt x="137638" y="15898"/>
                  </a:lnTo>
                  <a:lnTo>
                    <a:pt x="128671" y="20135"/>
                  </a:lnTo>
                  <a:lnTo>
                    <a:pt x="119307" y="25500"/>
                  </a:lnTo>
                  <a:lnTo>
                    <a:pt x="109677" y="31616"/>
                  </a:lnTo>
                  <a:lnTo>
                    <a:pt x="99871" y="38234"/>
                  </a:lnTo>
                  <a:lnTo>
                    <a:pt x="90793" y="46032"/>
                  </a:lnTo>
                  <a:lnTo>
                    <a:pt x="82201" y="54618"/>
                  </a:lnTo>
                  <a:lnTo>
                    <a:pt x="73934" y="63728"/>
                  </a:lnTo>
                  <a:lnTo>
                    <a:pt x="65882" y="73188"/>
                  </a:lnTo>
                  <a:lnTo>
                    <a:pt x="50162" y="92731"/>
                  </a:lnTo>
                  <a:lnTo>
                    <a:pt x="43261" y="104377"/>
                  </a:lnTo>
                  <a:lnTo>
                    <a:pt x="36967" y="117221"/>
                  </a:lnTo>
                  <a:lnTo>
                    <a:pt x="31077" y="130864"/>
                  </a:lnTo>
                  <a:lnTo>
                    <a:pt x="26304" y="144192"/>
                  </a:lnTo>
                  <a:lnTo>
                    <a:pt x="22275" y="157311"/>
                  </a:lnTo>
                  <a:lnTo>
                    <a:pt x="18743" y="170290"/>
                  </a:lnTo>
                  <a:lnTo>
                    <a:pt x="15541" y="184023"/>
                  </a:lnTo>
                  <a:lnTo>
                    <a:pt x="12560" y="198259"/>
                  </a:lnTo>
                  <a:lnTo>
                    <a:pt x="9726" y="212829"/>
                  </a:lnTo>
                  <a:lnTo>
                    <a:pt x="7837" y="227622"/>
                  </a:lnTo>
                  <a:lnTo>
                    <a:pt x="6577" y="242565"/>
                  </a:lnTo>
                  <a:lnTo>
                    <a:pt x="5737" y="257606"/>
                  </a:lnTo>
                  <a:lnTo>
                    <a:pt x="4331" y="272714"/>
                  </a:lnTo>
                  <a:lnTo>
                    <a:pt x="2546" y="287865"/>
                  </a:lnTo>
                  <a:lnTo>
                    <a:pt x="510" y="303047"/>
                  </a:lnTo>
                  <a:lnTo>
                    <a:pt x="0" y="318247"/>
                  </a:lnTo>
                  <a:lnTo>
                    <a:pt x="506" y="333461"/>
                  </a:lnTo>
                  <a:lnTo>
                    <a:pt x="1690" y="348684"/>
                  </a:lnTo>
                  <a:lnTo>
                    <a:pt x="3326" y="363912"/>
                  </a:lnTo>
                  <a:lnTo>
                    <a:pt x="7402" y="394379"/>
                  </a:lnTo>
                  <a:lnTo>
                    <a:pt x="9674" y="407923"/>
                  </a:lnTo>
                  <a:lnTo>
                    <a:pt x="12035" y="420338"/>
                  </a:lnTo>
                  <a:lnTo>
                    <a:pt x="14456" y="432002"/>
                  </a:lnTo>
                  <a:lnTo>
                    <a:pt x="17763" y="444011"/>
                  </a:lnTo>
                  <a:lnTo>
                    <a:pt x="21661" y="456250"/>
                  </a:lnTo>
                  <a:lnTo>
                    <a:pt x="25954" y="468643"/>
                  </a:lnTo>
                  <a:lnTo>
                    <a:pt x="31355" y="479445"/>
                  </a:lnTo>
                  <a:lnTo>
                    <a:pt x="37496" y="489187"/>
                  </a:lnTo>
                  <a:lnTo>
                    <a:pt x="51940" y="506783"/>
                  </a:lnTo>
                  <a:lnTo>
                    <a:pt x="60532" y="515032"/>
                  </a:lnTo>
                  <a:lnTo>
                    <a:pt x="69648" y="523071"/>
                  </a:lnTo>
                  <a:lnTo>
                    <a:pt x="79958" y="530970"/>
                  </a:lnTo>
                  <a:lnTo>
                    <a:pt x="91064" y="538777"/>
                  </a:lnTo>
                  <a:lnTo>
                    <a:pt x="102702" y="546521"/>
                  </a:lnTo>
                  <a:lnTo>
                    <a:pt x="115541" y="552530"/>
                  </a:lnTo>
                  <a:lnTo>
                    <a:pt x="129180" y="557384"/>
                  </a:lnTo>
                  <a:lnTo>
                    <a:pt x="143353" y="561465"/>
                  </a:lnTo>
                  <a:lnTo>
                    <a:pt x="172647" y="570516"/>
                  </a:lnTo>
                  <a:lnTo>
                    <a:pt x="187571" y="575301"/>
                  </a:lnTo>
                  <a:lnTo>
                    <a:pt x="203447" y="578490"/>
                  </a:lnTo>
                  <a:lnTo>
                    <a:pt x="219957" y="580616"/>
                  </a:lnTo>
                  <a:lnTo>
                    <a:pt x="236891" y="582034"/>
                  </a:lnTo>
                  <a:lnTo>
                    <a:pt x="250720" y="582979"/>
                  </a:lnTo>
                  <a:lnTo>
                    <a:pt x="272859" y="584029"/>
                  </a:lnTo>
                  <a:lnTo>
                    <a:pt x="283165" y="585156"/>
                  </a:lnTo>
                  <a:lnTo>
                    <a:pt x="293423" y="586753"/>
                  </a:lnTo>
                  <a:lnTo>
                    <a:pt x="324098" y="5924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SMARTInkAnnotation52"/>
            <p:cNvSpPr/>
            <p:nvPr/>
          </p:nvSpPr>
          <p:spPr>
            <a:xfrm>
              <a:off x="3621960" y="1823400"/>
              <a:ext cx="636120" cy="62676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636297" h="626898">
                  <a:moveTo>
                    <a:pt x="36420" y="554229"/>
                  </a:moveTo>
                  <a:lnTo>
                    <a:pt x="40465" y="558275"/>
                  </a:lnTo>
                  <a:lnTo>
                    <a:pt x="41657" y="561159"/>
                  </a:lnTo>
                  <a:lnTo>
                    <a:pt x="42981" y="568880"/>
                  </a:lnTo>
                  <a:lnTo>
                    <a:pt x="44180" y="571617"/>
                  </a:lnTo>
                  <a:lnTo>
                    <a:pt x="45828" y="573441"/>
                  </a:lnTo>
                  <a:lnTo>
                    <a:pt x="49915" y="576314"/>
                  </a:lnTo>
                  <a:lnTo>
                    <a:pt x="63953" y="587316"/>
                  </a:lnTo>
                  <a:lnTo>
                    <a:pt x="81266" y="598464"/>
                  </a:lnTo>
                  <a:lnTo>
                    <a:pt x="93605" y="604369"/>
                  </a:lnTo>
                  <a:lnTo>
                    <a:pt x="110378" y="609816"/>
                  </a:lnTo>
                  <a:lnTo>
                    <a:pt x="134816" y="617642"/>
                  </a:lnTo>
                  <a:lnTo>
                    <a:pt x="144350" y="619365"/>
                  </a:lnTo>
                  <a:lnTo>
                    <a:pt x="154940" y="620513"/>
                  </a:lnTo>
                  <a:lnTo>
                    <a:pt x="166233" y="621278"/>
                  </a:lnTo>
                  <a:lnTo>
                    <a:pt x="177996" y="622635"/>
                  </a:lnTo>
                  <a:lnTo>
                    <a:pt x="190071" y="624387"/>
                  </a:lnTo>
                  <a:lnTo>
                    <a:pt x="202354" y="626401"/>
                  </a:lnTo>
                  <a:lnTo>
                    <a:pt x="214776" y="626897"/>
                  </a:lnTo>
                  <a:lnTo>
                    <a:pt x="227290" y="626381"/>
                  </a:lnTo>
                  <a:lnTo>
                    <a:pt x="239867" y="625191"/>
                  </a:lnTo>
                  <a:lnTo>
                    <a:pt x="252485" y="624397"/>
                  </a:lnTo>
                  <a:lnTo>
                    <a:pt x="277793" y="623515"/>
                  </a:lnTo>
                  <a:lnTo>
                    <a:pt x="290468" y="621586"/>
                  </a:lnTo>
                  <a:lnTo>
                    <a:pt x="303153" y="618607"/>
                  </a:lnTo>
                  <a:lnTo>
                    <a:pt x="315842" y="614928"/>
                  </a:lnTo>
                  <a:lnTo>
                    <a:pt x="328534" y="611628"/>
                  </a:lnTo>
                  <a:lnTo>
                    <a:pt x="353926" y="605705"/>
                  </a:lnTo>
                  <a:lnTo>
                    <a:pt x="367471" y="602093"/>
                  </a:lnTo>
                  <a:lnTo>
                    <a:pt x="396067" y="593564"/>
                  </a:lnTo>
                  <a:lnTo>
                    <a:pt x="409958" y="588072"/>
                  </a:lnTo>
                  <a:lnTo>
                    <a:pt x="423452" y="581871"/>
                  </a:lnTo>
                  <a:lnTo>
                    <a:pt x="436681" y="575197"/>
                  </a:lnTo>
                  <a:lnTo>
                    <a:pt x="449734" y="568208"/>
                  </a:lnTo>
                  <a:lnTo>
                    <a:pt x="475526" y="553669"/>
                  </a:lnTo>
                  <a:lnTo>
                    <a:pt x="487484" y="545389"/>
                  </a:lnTo>
                  <a:lnTo>
                    <a:pt x="498843" y="536482"/>
                  </a:lnTo>
                  <a:lnTo>
                    <a:pt x="521341" y="517555"/>
                  </a:lnTo>
                  <a:lnTo>
                    <a:pt x="545452" y="497854"/>
                  </a:lnTo>
                  <a:lnTo>
                    <a:pt x="556114" y="487859"/>
                  </a:lnTo>
                  <a:lnTo>
                    <a:pt x="565762" y="477809"/>
                  </a:lnTo>
                  <a:lnTo>
                    <a:pt x="574735" y="467722"/>
                  </a:lnTo>
                  <a:lnTo>
                    <a:pt x="583256" y="456765"/>
                  </a:lnTo>
                  <a:lnTo>
                    <a:pt x="591478" y="445226"/>
                  </a:lnTo>
                  <a:lnTo>
                    <a:pt x="599499" y="433300"/>
                  </a:lnTo>
                  <a:lnTo>
                    <a:pt x="606539" y="421117"/>
                  </a:lnTo>
                  <a:lnTo>
                    <a:pt x="612926" y="408761"/>
                  </a:lnTo>
                  <a:lnTo>
                    <a:pt x="618877" y="396290"/>
                  </a:lnTo>
                  <a:lnTo>
                    <a:pt x="623691" y="382897"/>
                  </a:lnTo>
                  <a:lnTo>
                    <a:pt x="627747" y="368888"/>
                  </a:lnTo>
                  <a:lnTo>
                    <a:pt x="631298" y="354468"/>
                  </a:lnTo>
                  <a:lnTo>
                    <a:pt x="633665" y="340622"/>
                  </a:lnTo>
                  <a:lnTo>
                    <a:pt x="635244" y="327158"/>
                  </a:lnTo>
                  <a:lnTo>
                    <a:pt x="636296" y="313948"/>
                  </a:lnTo>
                  <a:lnTo>
                    <a:pt x="636150" y="300908"/>
                  </a:lnTo>
                  <a:lnTo>
                    <a:pt x="635207" y="287982"/>
                  </a:lnTo>
                  <a:lnTo>
                    <a:pt x="633731" y="275131"/>
                  </a:lnTo>
                  <a:lnTo>
                    <a:pt x="631053" y="261484"/>
                  </a:lnTo>
                  <a:lnTo>
                    <a:pt x="627576" y="247306"/>
                  </a:lnTo>
                  <a:lnTo>
                    <a:pt x="623564" y="232773"/>
                  </a:lnTo>
                  <a:lnTo>
                    <a:pt x="618349" y="218852"/>
                  </a:lnTo>
                  <a:lnTo>
                    <a:pt x="612333" y="205338"/>
                  </a:lnTo>
                  <a:lnTo>
                    <a:pt x="605782" y="192095"/>
                  </a:lnTo>
                  <a:lnTo>
                    <a:pt x="598874" y="179033"/>
                  </a:lnTo>
                  <a:lnTo>
                    <a:pt x="584426" y="153231"/>
                  </a:lnTo>
                  <a:lnTo>
                    <a:pt x="576171" y="141270"/>
                  </a:lnTo>
                  <a:lnTo>
                    <a:pt x="567281" y="129910"/>
                  </a:lnTo>
                  <a:lnTo>
                    <a:pt x="557966" y="118950"/>
                  </a:lnTo>
                  <a:lnTo>
                    <a:pt x="548371" y="108256"/>
                  </a:lnTo>
                  <a:lnTo>
                    <a:pt x="528678" y="87343"/>
                  </a:lnTo>
                  <a:lnTo>
                    <a:pt x="517839" y="77025"/>
                  </a:lnTo>
                  <a:lnTo>
                    <a:pt x="506380" y="66760"/>
                  </a:lnTo>
                  <a:lnTo>
                    <a:pt x="494506" y="56530"/>
                  </a:lnTo>
                  <a:lnTo>
                    <a:pt x="482357" y="48016"/>
                  </a:lnTo>
                  <a:lnTo>
                    <a:pt x="470025" y="40647"/>
                  </a:lnTo>
                  <a:lnTo>
                    <a:pt x="457570" y="34041"/>
                  </a:lnTo>
                  <a:lnTo>
                    <a:pt x="445033" y="27944"/>
                  </a:lnTo>
                  <a:lnTo>
                    <a:pt x="432442" y="22185"/>
                  </a:lnTo>
                  <a:lnTo>
                    <a:pt x="419815" y="16653"/>
                  </a:lnTo>
                  <a:lnTo>
                    <a:pt x="407163" y="12119"/>
                  </a:lnTo>
                  <a:lnTo>
                    <a:pt x="394495" y="8249"/>
                  </a:lnTo>
                  <a:lnTo>
                    <a:pt x="381817" y="4822"/>
                  </a:lnTo>
                  <a:lnTo>
                    <a:pt x="369131" y="2538"/>
                  </a:lnTo>
                  <a:lnTo>
                    <a:pt x="356441" y="1015"/>
                  </a:lnTo>
                  <a:lnTo>
                    <a:pt x="343747" y="0"/>
                  </a:lnTo>
                  <a:lnTo>
                    <a:pt x="331051" y="169"/>
                  </a:lnTo>
                  <a:lnTo>
                    <a:pt x="318354" y="1129"/>
                  </a:lnTo>
                  <a:lnTo>
                    <a:pt x="305656" y="2616"/>
                  </a:lnTo>
                  <a:lnTo>
                    <a:pt x="292957" y="4454"/>
                  </a:lnTo>
                  <a:lnTo>
                    <a:pt x="267559" y="8753"/>
                  </a:lnTo>
                  <a:lnTo>
                    <a:pt x="254859" y="12779"/>
                  </a:lnTo>
                  <a:lnTo>
                    <a:pt x="242160" y="18002"/>
                  </a:lnTo>
                  <a:lnTo>
                    <a:pt x="229460" y="24025"/>
                  </a:lnTo>
                  <a:lnTo>
                    <a:pt x="216760" y="30579"/>
                  </a:lnTo>
                  <a:lnTo>
                    <a:pt x="204061" y="37489"/>
                  </a:lnTo>
                  <a:lnTo>
                    <a:pt x="191360" y="44636"/>
                  </a:lnTo>
                  <a:lnTo>
                    <a:pt x="179506" y="52787"/>
                  </a:lnTo>
                  <a:lnTo>
                    <a:pt x="168217" y="61608"/>
                  </a:lnTo>
                  <a:lnTo>
                    <a:pt x="157305" y="70875"/>
                  </a:lnTo>
                  <a:lnTo>
                    <a:pt x="146643" y="80440"/>
                  </a:lnTo>
                  <a:lnTo>
                    <a:pt x="125766" y="100098"/>
                  </a:lnTo>
                  <a:lnTo>
                    <a:pt x="115458" y="110929"/>
                  </a:lnTo>
                  <a:lnTo>
                    <a:pt x="105198" y="122382"/>
                  </a:lnTo>
                  <a:lnTo>
                    <a:pt x="94973" y="134251"/>
                  </a:lnTo>
                  <a:lnTo>
                    <a:pt x="85615" y="146397"/>
                  </a:lnTo>
                  <a:lnTo>
                    <a:pt x="76836" y="158728"/>
                  </a:lnTo>
                  <a:lnTo>
                    <a:pt x="68444" y="171182"/>
                  </a:lnTo>
                  <a:lnTo>
                    <a:pt x="52347" y="196308"/>
                  </a:lnTo>
                  <a:lnTo>
                    <a:pt x="44498" y="208935"/>
                  </a:lnTo>
                  <a:lnTo>
                    <a:pt x="37571" y="222433"/>
                  </a:lnTo>
                  <a:lnTo>
                    <a:pt x="31262" y="236512"/>
                  </a:lnTo>
                  <a:lnTo>
                    <a:pt x="25361" y="250978"/>
                  </a:lnTo>
                  <a:lnTo>
                    <a:pt x="20581" y="264855"/>
                  </a:lnTo>
                  <a:lnTo>
                    <a:pt x="16547" y="278340"/>
                  </a:lnTo>
                  <a:lnTo>
                    <a:pt x="13011" y="291563"/>
                  </a:lnTo>
                  <a:lnTo>
                    <a:pt x="6825" y="317544"/>
                  </a:lnTo>
                  <a:lnTo>
                    <a:pt x="3990" y="330399"/>
                  </a:lnTo>
                  <a:lnTo>
                    <a:pt x="2100" y="343203"/>
                  </a:lnTo>
                  <a:lnTo>
                    <a:pt x="840" y="355971"/>
                  </a:lnTo>
                  <a:lnTo>
                    <a:pt x="0" y="368717"/>
                  </a:lnTo>
                  <a:lnTo>
                    <a:pt x="287" y="381448"/>
                  </a:lnTo>
                  <a:lnTo>
                    <a:pt x="1324" y="394168"/>
                  </a:lnTo>
                  <a:lnTo>
                    <a:pt x="2863" y="406882"/>
                  </a:lnTo>
                  <a:lnTo>
                    <a:pt x="5582" y="419591"/>
                  </a:lnTo>
                  <a:lnTo>
                    <a:pt x="9088" y="432297"/>
                  </a:lnTo>
                  <a:lnTo>
                    <a:pt x="13119" y="445001"/>
                  </a:lnTo>
                  <a:lnTo>
                    <a:pt x="17499" y="456010"/>
                  </a:lnTo>
                  <a:lnTo>
                    <a:pt x="26882" y="475016"/>
                  </a:lnTo>
                  <a:lnTo>
                    <a:pt x="38954" y="494188"/>
                  </a:lnTo>
                  <a:lnTo>
                    <a:pt x="53633" y="513151"/>
                  </a:lnTo>
                  <a:lnTo>
                    <a:pt x="71446" y="530045"/>
                  </a:lnTo>
                  <a:lnTo>
                    <a:pt x="90651" y="546021"/>
                  </a:lnTo>
                  <a:lnTo>
                    <a:pt x="100515" y="553837"/>
                  </a:lnTo>
                  <a:lnTo>
                    <a:pt x="111323" y="560741"/>
                  </a:lnTo>
                  <a:lnTo>
                    <a:pt x="122762" y="567037"/>
                  </a:lnTo>
                  <a:lnTo>
                    <a:pt x="134621" y="572928"/>
                  </a:lnTo>
                  <a:lnTo>
                    <a:pt x="146761" y="578548"/>
                  </a:lnTo>
                  <a:lnTo>
                    <a:pt x="171538" y="589309"/>
                  </a:lnTo>
                  <a:lnTo>
                    <a:pt x="184919" y="594549"/>
                  </a:lnTo>
                  <a:lnTo>
                    <a:pt x="213333" y="604887"/>
                  </a:lnTo>
                  <a:lnTo>
                    <a:pt x="265020" y="6228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SMARTInkAnnotation53"/>
            <p:cNvSpPr/>
            <p:nvPr/>
          </p:nvSpPr>
          <p:spPr>
            <a:xfrm>
              <a:off x="1997280" y="2936880"/>
              <a:ext cx="174960" cy="43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75261" h="4391">
                  <a:moveTo>
                    <a:pt x="0" y="4390"/>
                  </a:moveTo>
                  <a:lnTo>
                    <a:pt x="0" y="0"/>
                  </a:lnTo>
                  <a:lnTo>
                    <a:pt x="0" y="1875"/>
                  </a:lnTo>
                  <a:lnTo>
                    <a:pt x="847" y="2713"/>
                  </a:lnTo>
                  <a:lnTo>
                    <a:pt x="2258" y="3272"/>
                  </a:lnTo>
                  <a:lnTo>
                    <a:pt x="6561" y="4169"/>
                  </a:lnTo>
                  <a:lnTo>
                    <a:pt x="9407" y="4292"/>
                  </a:lnTo>
                  <a:lnTo>
                    <a:pt x="18133" y="4371"/>
                  </a:lnTo>
                  <a:lnTo>
                    <a:pt x="175260" y="43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SMARTInkAnnotation54"/>
            <p:cNvSpPr/>
            <p:nvPr/>
          </p:nvSpPr>
          <p:spPr>
            <a:xfrm>
              <a:off x="2378160" y="2758320"/>
              <a:ext cx="257760" cy="28188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58038" h="281918">
                  <a:moveTo>
                    <a:pt x="22860" y="53337"/>
                  </a:moveTo>
                  <a:lnTo>
                    <a:pt x="18815" y="53337"/>
                  </a:lnTo>
                  <a:lnTo>
                    <a:pt x="17623" y="52490"/>
                  </a:lnTo>
                  <a:lnTo>
                    <a:pt x="16829" y="51079"/>
                  </a:lnTo>
                  <a:lnTo>
                    <a:pt x="15333" y="46031"/>
                  </a:lnTo>
                  <a:lnTo>
                    <a:pt x="15249" y="39184"/>
                  </a:lnTo>
                  <a:lnTo>
                    <a:pt x="19288" y="34374"/>
                  </a:lnTo>
                  <a:lnTo>
                    <a:pt x="22172" y="33075"/>
                  </a:lnTo>
                  <a:lnTo>
                    <a:pt x="29892" y="31632"/>
                  </a:lnTo>
                  <a:lnTo>
                    <a:pt x="34322" y="30400"/>
                  </a:lnTo>
                  <a:lnTo>
                    <a:pt x="38968" y="28733"/>
                  </a:lnTo>
                  <a:lnTo>
                    <a:pt x="43759" y="26774"/>
                  </a:lnTo>
                  <a:lnTo>
                    <a:pt x="48646" y="24622"/>
                  </a:lnTo>
                  <a:lnTo>
                    <a:pt x="58592" y="19972"/>
                  </a:lnTo>
                  <a:lnTo>
                    <a:pt x="64461" y="17547"/>
                  </a:lnTo>
                  <a:lnTo>
                    <a:pt x="70914" y="15084"/>
                  </a:lnTo>
                  <a:lnTo>
                    <a:pt x="77756" y="12595"/>
                  </a:lnTo>
                  <a:lnTo>
                    <a:pt x="84858" y="10936"/>
                  </a:lnTo>
                  <a:lnTo>
                    <a:pt x="92132" y="9830"/>
                  </a:lnTo>
                  <a:lnTo>
                    <a:pt x="99521" y="9092"/>
                  </a:lnTo>
                  <a:lnTo>
                    <a:pt x="106987" y="7754"/>
                  </a:lnTo>
                  <a:lnTo>
                    <a:pt x="114505" y="6015"/>
                  </a:lnTo>
                  <a:lnTo>
                    <a:pt x="122057" y="4009"/>
                  </a:lnTo>
                  <a:lnTo>
                    <a:pt x="129631" y="2672"/>
                  </a:lnTo>
                  <a:lnTo>
                    <a:pt x="137221" y="1780"/>
                  </a:lnTo>
                  <a:lnTo>
                    <a:pt x="144821" y="1186"/>
                  </a:lnTo>
                  <a:lnTo>
                    <a:pt x="152427" y="790"/>
                  </a:lnTo>
                  <a:lnTo>
                    <a:pt x="167652" y="349"/>
                  </a:lnTo>
                  <a:lnTo>
                    <a:pt x="197453" y="43"/>
                  </a:lnTo>
                  <a:lnTo>
                    <a:pt x="227080" y="0"/>
                  </a:lnTo>
                  <a:lnTo>
                    <a:pt x="230127" y="846"/>
                  </a:lnTo>
                  <a:lnTo>
                    <a:pt x="232158" y="2256"/>
                  </a:lnTo>
                  <a:lnTo>
                    <a:pt x="233512" y="4043"/>
                  </a:lnTo>
                  <a:lnTo>
                    <a:pt x="232721" y="6081"/>
                  </a:lnTo>
                  <a:lnTo>
                    <a:pt x="230501" y="8287"/>
                  </a:lnTo>
                  <a:lnTo>
                    <a:pt x="224365" y="12995"/>
                  </a:lnTo>
                  <a:lnTo>
                    <a:pt x="218815" y="17909"/>
                  </a:lnTo>
                  <a:lnTo>
                    <a:pt x="214457" y="21252"/>
                  </a:lnTo>
                  <a:lnTo>
                    <a:pt x="209011" y="25174"/>
                  </a:lnTo>
                  <a:lnTo>
                    <a:pt x="202841" y="29482"/>
                  </a:lnTo>
                  <a:lnTo>
                    <a:pt x="195341" y="33200"/>
                  </a:lnTo>
                  <a:lnTo>
                    <a:pt x="186954" y="36526"/>
                  </a:lnTo>
                  <a:lnTo>
                    <a:pt x="177976" y="39590"/>
                  </a:lnTo>
                  <a:lnTo>
                    <a:pt x="169451" y="43326"/>
                  </a:lnTo>
                  <a:lnTo>
                    <a:pt x="161227" y="47509"/>
                  </a:lnTo>
                  <a:lnTo>
                    <a:pt x="153205" y="51992"/>
                  </a:lnTo>
                  <a:lnTo>
                    <a:pt x="144470" y="55827"/>
                  </a:lnTo>
                  <a:lnTo>
                    <a:pt x="135260" y="59230"/>
                  </a:lnTo>
                  <a:lnTo>
                    <a:pt x="125734" y="62346"/>
                  </a:lnTo>
                  <a:lnTo>
                    <a:pt x="116842" y="66116"/>
                  </a:lnTo>
                  <a:lnTo>
                    <a:pt x="108375" y="70323"/>
                  </a:lnTo>
                  <a:lnTo>
                    <a:pt x="100190" y="74821"/>
                  </a:lnTo>
                  <a:lnTo>
                    <a:pt x="92193" y="79513"/>
                  </a:lnTo>
                  <a:lnTo>
                    <a:pt x="69650" y="93360"/>
                  </a:lnTo>
                  <a:lnTo>
                    <a:pt x="63367" y="96953"/>
                  </a:lnTo>
                  <a:lnTo>
                    <a:pt x="57485" y="100194"/>
                  </a:lnTo>
                  <a:lnTo>
                    <a:pt x="52717" y="103202"/>
                  </a:lnTo>
                  <a:lnTo>
                    <a:pt x="45161" y="108801"/>
                  </a:lnTo>
                  <a:lnTo>
                    <a:pt x="43654" y="111480"/>
                  </a:lnTo>
                  <a:lnTo>
                    <a:pt x="43496" y="114112"/>
                  </a:lnTo>
                  <a:lnTo>
                    <a:pt x="44238" y="116714"/>
                  </a:lnTo>
                  <a:lnTo>
                    <a:pt x="47319" y="121862"/>
                  </a:lnTo>
                  <a:lnTo>
                    <a:pt x="49326" y="124421"/>
                  </a:lnTo>
                  <a:lnTo>
                    <a:pt x="53204" y="126126"/>
                  </a:lnTo>
                  <a:lnTo>
                    <a:pt x="58330" y="127263"/>
                  </a:lnTo>
                  <a:lnTo>
                    <a:pt x="64287" y="128021"/>
                  </a:lnTo>
                  <a:lnTo>
                    <a:pt x="70798" y="130220"/>
                  </a:lnTo>
                  <a:lnTo>
                    <a:pt x="77679" y="133379"/>
                  </a:lnTo>
                  <a:lnTo>
                    <a:pt x="84806" y="137178"/>
                  </a:lnTo>
                  <a:lnTo>
                    <a:pt x="92944" y="140558"/>
                  </a:lnTo>
                  <a:lnTo>
                    <a:pt x="101756" y="143658"/>
                  </a:lnTo>
                  <a:lnTo>
                    <a:pt x="111017" y="146571"/>
                  </a:lnTo>
                  <a:lnTo>
                    <a:pt x="120578" y="148513"/>
                  </a:lnTo>
                  <a:lnTo>
                    <a:pt x="130339" y="149808"/>
                  </a:lnTo>
                  <a:lnTo>
                    <a:pt x="140233" y="150671"/>
                  </a:lnTo>
                  <a:lnTo>
                    <a:pt x="151062" y="152940"/>
                  </a:lnTo>
                  <a:lnTo>
                    <a:pt x="162515" y="156146"/>
                  </a:lnTo>
                  <a:lnTo>
                    <a:pt x="203222" y="169412"/>
                  </a:lnTo>
                  <a:lnTo>
                    <a:pt x="211682" y="173054"/>
                  </a:lnTo>
                  <a:lnTo>
                    <a:pt x="219861" y="177175"/>
                  </a:lnTo>
                  <a:lnTo>
                    <a:pt x="234876" y="185423"/>
                  </a:lnTo>
                  <a:lnTo>
                    <a:pt x="247194" y="191911"/>
                  </a:lnTo>
                  <a:lnTo>
                    <a:pt x="251156" y="195673"/>
                  </a:lnTo>
                  <a:lnTo>
                    <a:pt x="253798" y="199874"/>
                  </a:lnTo>
                  <a:lnTo>
                    <a:pt x="255559" y="204369"/>
                  </a:lnTo>
                  <a:lnTo>
                    <a:pt x="256733" y="209058"/>
                  </a:lnTo>
                  <a:lnTo>
                    <a:pt x="257515" y="213878"/>
                  </a:lnTo>
                  <a:lnTo>
                    <a:pt x="258037" y="218784"/>
                  </a:lnTo>
                  <a:lnTo>
                    <a:pt x="257538" y="222902"/>
                  </a:lnTo>
                  <a:lnTo>
                    <a:pt x="256359" y="226494"/>
                  </a:lnTo>
                  <a:lnTo>
                    <a:pt x="248382" y="242387"/>
                  </a:lnTo>
                  <a:lnTo>
                    <a:pt x="245175" y="246257"/>
                  </a:lnTo>
                  <a:lnTo>
                    <a:pt x="241344" y="249683"/>
                  </a:lnTo>
                  <a:lnTo>
                    <a:pt x="237096" y="252814"/>
                  </a:lnTo>
                  <a:lnTo>
                    <a:pt x="231724" y="255749"/>
                  </a:lnTo>
                  <a:lnTo>
                    <a:pt x="225602" y="258551"/>
                  </a:lnTo>
                  <a:lnTo>
                    <a:pt x="218982" y="261267"/>
                  </a:lnTo>
                  <a:lnTo>
                    <a:pt x="212028" y="264770"/>
                  </a:lnTo>
                  <a:lnTo>
                    <a:pt x="204852" y="268799"/>
                  </a:lnTo>
                  <a:lnTo>
                    <a:pt x="197528" y="273178"/>
                  </a:lnTo>
                  <a:lnTo>
                    <a:pt x="189259" y="276098"/>
                  </a:lnTo>
                  <a:lnTo>
                    <a:pt x="180359" y="278044"/>
                  </a:lnTo>
                  <a:lnTo>
                    <a:pt x="171039" y="279342"/>
                  </a:lnTo>
                  <a:lnTo>
                    <a:pt x="162286" y="280207"/>
                  </a:lnTo>
                  <a:lnTo>
                    <a:pt x="153911" y="280784"/>
                  </a:lnTo>
                  <a:lnTo>
                    <a:pt x="145787" y="281168"/>
                  </a:lnTo>
                  <a:lnTo>
                    <a:pt x="127730" y="281595"/>
                  </a:lnTo>
                  <a:lnTo>
                    <a:pt x="68920" y="281917"/>
                  </a:lnTo>
                  <a:lnTo>
                    <a:pt x="60340" y="281077"/>
                  </a:lnTo>
                  <a:lnTo>
                    <a:pt x="51234" y="279670"/>
                  </a:lnTo>
                  <a:lnTo>
                    <a:pt x="41776" y="277886"/>
                  </a:lnTo>
                  <a:lnTo>
                    <a:pt x="34624" y="275850"/>
                  </a:lnTo>
                  <a:lnTo>
                    <a:pt x="29010" y="273645"/>
                  </a:lnTo>
                  <a:lnTo>
                    <a:pt x="2924" y="260543"/>
                  </a:lnTo>
                  <a:lnTo>
                    <a:pt x="1950" y="259207"/>
                  </a:lnTo>
                  <a:lnTo>
                    <a:pt x="0" y="2514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SMARTInkAnnotation55"/>
            <p:cNvSpPr/>
            <p:nvPr/>
          </p:nvSpPr>
          <p:spPr>
            <a:xfrm>
              <a:off x="5731200" y="1006200"/>
              <a:ext cx="624600" cy="3272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624833" h="327528">
                  <a:moveTo>
                    <a:pt x="7612" y="304667"/>
                  </a:moveTo>
                  <a:lnTo>
                    <a:pt x="7612" y="300622"/>
                  </a:lnTo>
                  <a:lnTo>
                    <a:pt x="6765" y="299430"/>
                  </a:lnTo>
                  <a:lnTo>
                    <a:pt x="5354" y="298636"/>
                  </a:lnTo>
                  <a:lnTo>
                    <a:pt x="1051" y="297361"/>
                  </a:lnTo>
                  <a:lnTo>
                    <a:pt x="698" y="296410"/>
                  </a:lnTo>
                  <a:lnTo>
                    <a:pt x="85" y="286469"/>
                  </a:lnTo>
                  <a:lnTo>
                    <a:pt x="0" y="267565"/>
                  </a:lnTo>
                  <a:lnTo>
                    <a:pt x="844" y="263846"/>
                  </a:lnTo>
                  <a:lnTo>
                    <a:pt x="6077" y="253719"/>
                  </a:lnTo>
                  <a:lnTo>
                    <a:pt x="10599" y="245052"/>
                  </a:lnTo>
                  <a:lnTo>
                    <a:pt x="12990" y="239524"/>
                  </a:lnTo>
                  <a:lnTo>
                    <a:pt x="15431" y="233298"/>
                  </a:lnTo>
                  <a:lnTo>
                    <a:pt x="17904" y="226608"/>
                  </a:lnTo>
                  <a:lnTo>
                    <a:pt x="20400" y="220454"/>
                  </a:lnTo>
                  <a:lnTo>
                    <a:pt x="22911" y="214659"/>
                  </a:lnTo>
                  <a:lnTo>
                    <a:pt x="27958" y="203703"/>
                  </a:lnTo>
                  <a:lnTo>
                    <a:pt x="33024" y="193190"/>
                  </a:lnTo>
                  <a:lnTo>
                    <a:pt x="36407" y="187169"/>
                  </a:lnTo>
                  <a:lnTo>
                    <a:pt x="40356" y="180615"/>
                  </a:lnTo>
                  <a:lnTo>
                    <a:pt x="49258" y="166559"/>
                  </a:lnTo>
                  <a:lnTo>
                    <a:pt x="73785" y="129282"/>
                  </a:lnTo>
                  <a:lnTo>
                    <a:pt x="79668" y="122551"/>
                  </a:lnTo>
                  <a:lnTo>
                    <a:pt x="86129" y="116369"/>
                  </a:lnTo>
                  <a:lnTo>
                    <a:pt x="92977" y="110555"/>
                  </a:lnTo>
                  <a:lnTo>
                    <a:pt x="100082" y="104139"/>
                  </a:lnTo>
                  <a:lnTo>
                    <a:pt x="114749" y="90237"/>
                  </a:lnTo>
                  <a:lnTo>
                    <a:pt x="137288" y="68130"/>
                  </a:lnTo>
                  <a:lnTo>
                    <a:pt x="144862" y="61462"/>
                  </a:lnTo>
                  <a:lnTo>
                    <a:pt x="152452" y="55324"/>
                  </a:lnTo>
                  <a:lnTo>
                    <a:pt x="160053" y="49538"/>
                  </a:lnTo>
                  <a:lnTo>
                    <a:pt x="175269" y="40852"/>
                  </a:lnTo>
                  <a:lnTo>
                    <a:pt x="190500" y="34169"/>
                  </a:lnTo>
                  <a:lnTo>
                    <a:pt x="205736" y="28377"/>
                  </a:lnTo>
                  <a:lnTo>
                    <a:pt x="228593" y="20356"/>
                  </a:lnTo>
                  <a:lnTo>
                    <a:pt x="274312" y="4962"/>
                  </a:lnTo>
                  <a:lnTo>
                    <a:pt x="289552" y="2132"/>
                  </a:lnTo>
                  <a:lnTo>
                    <a:pt x="304792" y="873"/>
                  </a:lnTo>
                  <a:lnTo>
                    <a:pt x="320032" y="314"/>
                  </a:lnTo>
                  <a:lnTo>
                    <a:pt x="342892" y="0"/>
                  </a:lnTo>
                  <a:lnTo>
                    <a:pt x="358132" y="2184"/>
                  </a:lnTo>
                  <a:lnTo>
                    <a:pt x="392658" y="10485"/>
                  </a:lnTo>
                  <a:lnTo>
                    <a:pt x="407626" y="15310"/>
                  </a:lnTo>
                  <a:lnTo>
                    <a:pt x="420770" y="20278"/>
                  </a:lnTo>
                  <a:lnTo>
                    <a:pt x="435077" y="25307"/>
                  </a:lnTo>
                  <a:lnTo>
                    <a:pt x="449904" y="32623"/>
                  </a:lnTo>
                  <a:lnTo>
                    <a:pt x="464112" y="41518"/>
                  </a:lnTo>
                  <a:lnTo>
                    <a:pt x="482479" y="56047"/>
                  </a:lnTo>
                  <a:lnTo>
                    <a:pt x="496371" y="66040"/>
                  </a:lnTo>
                  <a:lnTo>
                    <a:pt x="518472" y="81187"/>
                  </a:lnTo>
                  <a:lnTo>
                    <a:pt x="531276" y="91325"/>
                  </a:lnTo>
                  <a:lnTo>
                    <a:pt x="541765" y="101475"/>
                  </a:lnTo>
                  <a:lnTo>
                    <a:pt x="549249" y="111630"/>
                  </a:lnTo>
                  <a:lnTo>
                    <a:pt x="562268" y="130913"/>
                  </a:lnTo>
                  <a:lnTo>
                    <a:pt x="566189" y="138031"/>
                  </a:lnTo>
                  <a:lnTo>
                    <a:pt x="569650" y="145317"/>
                  </a:lnTo>
                  <a:lnTo>
                    <a:pt x="572804" y="152713"/>
                  </a:lnTo>
                  <a:lnTo>
                    <a:pt x="578567" y="165448"/>
                  </a:lnTo>
                  <a:lnTo>
                    <a:pt x="581288" y="171214"/>
                  </a:lnTo>
                  <a:lnTo>
                    <a:pt x="583950" y="177598"/>
                  </a:lnTo>
                  <a:lnTo>
                    <a:pt x="586570" y="184395"/>
                  </a:lnTo>
                  <a:lnTo>
                    <a:pt x="589164" y="191466"/>
                  </a:lnTo>
                  <a:lnTo>
                    <a:pt x="591741" y="197873"/>
                  </a:lnTo>
                  <a:lnTo>
                    <a:pt x="594304" y="203837"/>
                  </a:lnTo>
                  <a:lnTo>
                    <a:pt x="596860" y="209507"/>
                  </a:lnTo>
                  <a:lnTo>
                    <a:pt x="598564" y="214981"/>
                  </a:lnTo>
                  <a:lnTo>
                    <a:pt x="599700" y="220323"/>
                  </a:lnTo>
                  <a:lnTo>
                    <a:pt x="600457" y="225577"/>
                  </a:lnTo>
                  <a:lnTo>
                    <a:pt x="601809" y="231621"/>
                  </a:lnTo>
                  <a:lnTo>
                    <a:pt x="603556" y="238189"/>
                  </a:lnTo>
                  <a:lnTo>
                    <a:pt x="605568" y="245109"/>
                  </a:lnTo>
                  <a:lnTo>
                    <a:pt x="610062" y="255055"/>
                  </a:lnTo>
                  <a:lnTo>
                    <a:pt x="612445" y="258892"/>
                  </a:lnTo>
                  <a:lnTo>
                    <a:pt x="615094" y="267672"/>
                  </a:lnTo>
                  <a:lnTo>
                    <a:pt x="616270" y="277218"/>
                  </a:lnTo>
                  <a:lnTo>
                    <a:pt x="616793" y="287105"/>
                  </a:lnTo>
                  <a:lnTo>
                    <a:pt x="617026" y="294886"/>
                  </a:lnTo>
                  <a:lnTo>
                    <a:pt x="617088" y="298146"/>
                  </a:lnTo>
                  <a:lnTo>
                    <a:pt x="619414" y="306285"/>
                  </a:lnTo>
                  <a:lnTo>
                    <a:pt x="623762" y="317216"/>
                  </a:lnTo>
                  <a:lnTo>
                    <a:pt x="624692" y="325584"/>
                  </a:lnTo>
                  <a:lnTo>
                    <a:pt x="624832" y="3275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MARTInkAnnotation56"/>
            <p:cNvSpPr/>
            <p:nvPr/>
          </p:nvSpPr>
          <p:spPr>
            <a:xfrm>
              <a:off x="5845320" y="963720"/>
              <a:ext cx="1127520" cy="369720"/>
            </a:xfrm>
            <a:custGeom>
              <a:avLst/>
              <a:gdLst>
                <a:gd name="textAreaLeft" fmla="*/ 0 w 1127520"/>
                <a:gd name="textAreaRight" fmla="*/ 1127880 w 112752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127760" h="370061">
                  <a:moveTo>
                    <a:pt x="0" y="370060"/>
                  </a:moveTo>
                  <a:lnTo>
                    <a:pt x="4044" y="366015"/>
                  </a:lnTo>
                  <a:lnTo>
                    <a:pt x="21469" y="354622"/>
                  </a:lnTo>
                  <a:lnTo>
                    <a:pt x="32325" y="344883"/>
                  </a:lnTo>
                  <a:lnTo>
                    <a:pt x="51165" y="326423"/>
                  </a:lnTo>
                  <a:lnTo>
                    <a:pt x="66147" y="315550"/>
                  </a:lnTo>
                  <a:lnTo>
                    <a:pt x="76247" y="307451"/>
                  </a:lnTo>
                  <a:lnTo>
                    <a:pt x="87228" y="298207"/>
                  </a:lnTo>
                  <a:lnTo>
                    <a:pt x="100574" y="288454"/>
                  </a:lnTo>
                  <a:lnTo>
                    <a:pt x="112715" y="278475"/>
                  </a:lnTo>
                  <a:lnTo>
                    <a:pt x="124602" y="268396"/>
                  </a:lnTo>
                  <a:lnTo>
                    <a:pt x="138352" y="258271"/>
                  </a:lnTo>
                  <a:lnTo>
                    <a:pt x="144728" y="252354"/>
                  </a:lnTo>
                  <a:lnTo>
                    <a:pt x="150671" y="245870"/>
                  </a:lnTo>
                  <a:lnTo>
                    <a:pt x="156328" y="239006"/>
                  </a:lnTo>
                  <a:lnTo>
                    <a:pt x="162638" y="232738"/>
                  </a:lnTo>
                  <a:lnTo>
                    <a:pt x="176423" y="221257"/>
                  </a:lnTo>
                  <a:lnTo>
                    <a:pt x="191017" y="210510"/>
                  </a:lnTo>
                  <a:lnTo>
                    <a:pt x="205123" y="200089"/>
                  </a:lnTo>
                  <a:lnTo>
                    <a:pt x="217037" y="189813"/>
                  </a:lnTo>
                  <a:lnTo>
                    <a:pt x="230234" y="179601"/>
                  </a:lnTo>
                  <a:lnTo>
                    <a:pt x="244566" y="168572"/>
                  </a:lnTo>
                  <a:lnTo>
                    <a:pt x="251944" y="162074"/>
                  </a:lnTo>
                  <a:lnTo>
                    <a:pt x="259403" y="155203"/>
                  </a:lnTo>
                  <a:lnTo>
                    <a:pt x="266915" y="148929"/>
                  </a:lnTo>
                  <a:lnTo>
                    <a:pt x="282035" y="137442"/>
                  </a:lnTo>
                  <a:lnTo>
                    <a:pt x="297222" y="126692"/>
                  </a:lnTo>
                  <a:lnTo>
                    <a:pt x="350522" y="90688"/>
                  </a:lnTo>
                  <a:lnTo>
                    <a:pt x="368018" y="80512"/>
                  </a:lnTo>
                  <a:lnTo>
                    <a:pt x="386237" y="71192"/>
                  </a:lnTo>
                  <a:lnTo>
                    <a:pt x="411620" y="60338"/>
                  </a:lnTo>
                  <a:lnTo>
                    <a:pt x="430451" y="51501"/>
                  </a:lnTo>
                  <a:lnTo>
                    <a:pt x="447851" y="41930"/>
                  </a:lnTo>
                  <a:lnTo>
                    <a:pt x="464898" y="32878"/>
                  </a:lnTo>
                  <a:lnTo>
                    <a:pt x="492688" y="23021"/>
                  </a:lnTo>
                  <a:lnTo>
                    <a:pt x="527522" y="12106"/>
                  </a:lnTo>
                  <a:lnTo>
                    <a:pt x="554518" y="6613"/>
                  </a:lnTo>
                  <a:lnTo>
                    <a:pt x="580862" y="4985"/>
                  </a:lnTo>
                  <a:lnTo>
                    <a:pt x="610115" y="2245"/>
                  </a:lnTo>
                  <a:lnTo>
                    <a:pt x="630149" y="0"/>
                  </a:lnTo>
                  <a:lnTo>
                    <a:pt x="670605" y="3200"/>
                  </a:lnTo>
                  <a:lnTo>
                    <a:pt x="701052" y="3974"/>
                  </a:lnTo>
                  <a:lnTo>
                    <a:pt x="731523" y="6461"/>
                  </a:lnTo>
                  <a:lnTo>
                    <a:pt x="762000" y="12560"/>
                  </a:lnTo>
                  <a:lnTo>
                    <a:pt x="790222" y="19730"/>
                  </a:lnTo>
                  <a:lnTo>
                    <a:pt x="806717" y="25551"/>
                  </a:lnTo>
                  <a:lnTo>
                    <a:pt x="822513" y="33783"/>
                  </a:lnTo>
                  <a:lnTo>
                    <a:pt x="849733" y="47937"/>
                  </a:lnTo>
                  <a:lnTo>
                    <a:pt x="867032" y="57843"/>
                  </a:lnTo>
                  <a:lnTo>
                    <a:pt x="884034" y="67044"/>
                  </a:lnTo>
                  <a:lnTo>
                    <a:pt x="902879" y="73955"/>
                  </a:lnTo>
                  <a:lnTo>
                    <a:pt x="920286" y="84364"/>
                  </a:lnTo>
                  <a:lnTo>
                    <a:pt x="928484" y="90696"/>
                  </a:lnTo>
                  <a:lnTo>
                    <a:pt x="942108" y="102247"/>
                  </a:lnTo>
                  <a:lnTo>
                    <a:pt x="948112" y="107698"/>
                  </a:lnTo>
                  <a:lnTo>
                    <a:pt x="961555" y="120528"/>
                  </a:lnTo>
                  <a:lnTo>
                    <a:pt x="968697" y="127505"/>
                  </a:lnTo>
                  <a:lnTo>
                    <a:pt x="975150" y="134697"/>
                  </a:lnTo>
                  <a:lnTo>
                    <a:pt x="981147" y="142031"/>
                  </a:lnTo>
                  <a:lnTo>
                    <a:pt x="986837" y="149461"/>
                  </a:lnTo>
                  <a:lnTo>
                    <a:pt x="992325" y="156107"/>
                  </a:lnTo>
                  <a:lnTo>
                    <a:pt x="997676" y="162231"/>
                  </a:lnTo>
                  <a:lnTo>
                    <a:pt x="1008138" y="173552"/>
                  </a:lnTo>
                  <a:lnTo>
                    <a:pt x="1018432" y="184227"/>
                  </a:lnTo>
                  <a:lnTo>
                    <a:pt x="1023548" y="190292"/>
                  </a:lnTo>
                  <a:lnTo>
                    <a:pt x="1028652" y="196874"/>
                  </a:lnTo>
                  <a:lnTo>
                    <a:pt x="1033747" y="203803"/>
                  </a:lnTo>
                  <a:lnTo>
                    <a:pt x="1038838" y="210115"/>
                  </a:lnTo>
                  <a:lnTo>
                    <a:pt x="1049010" y="221645"/>
                  </a:lnTo>
                  <a:lnTo>
                    <a:pt x="1054093" y="227936"/>
                  </a:lnTo>
                  <a:lnTo>
                    <a:pt x="1059176" y="234671"/>
                  </a:lnTo>
                  <a:lnTo>
                    <a:pt x="1064256" y="241701"/>
                  </a:lnTo>
                  <a:lnTo>
                    <a:pt x="1068491" y="248080"/>
                  </a:lnTo>
                  <a:lnTo>
                    <a:pt x="1072161" y="254027"/>
                  </a:lnTo>
                  <a:lnTo>
                    <a:pt x="1075454" y="259685"/>
                  </a:lnTo>
                  <a:lnTo>
                    <a:pt x="1078495" y="265996"/>
                  </a:lnTo>
                  <a:lnTo>
                    <a:pt x="1081370" y="272744"/>
                  </a:lnTo>
                  <a:lnTo>
                    <a:pt x="1084133" y="279783"/>
                  </a:lnTo>
                  <a:lnTo>
                    <a:pt x="1089461" y="289861"/>
                  </a:lnTo>
                  <a:lnTo>
                    <a:pt x="1094652" y="298009"/>
                  </a:lnTo>
                  <a:lnTo>
                    <a:pt x="1099780" y="307275"/>
                  </a:lnTo>
                  <a:lnTo>
                    <a:pt x="1107428" y="317967"/>
                  </a:lnTo>
                  <a:lnTo>
                    <a:pt x="1112514" y="326023"/>
                  </a:lnTo>
                  <a:lnTo>
                    <a:pt x="1117597" y="334401"/>
                  </a:lnTo>
                  <a:lnTo>
                    <a:pt x="1120137" y="337821"/>
                  </a:lnTo>
                  <a:lnTo>
                    <a:pt x="1127759" y="347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MARTInkAnnotation57"/>
            <p:cNvSpPr/>
            <p:nvPr/>
          </p:nvSpPr>
          <p:spPr>
            <a:xfrm>
              <a:off x="4770720" y="1912680"/>
              <a:ext cx="266400" cy="151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66701" h="15241">
                  <a:moveTo>
                    <a:pt x="0" y="15240"/>
                  </a:moveTo>
                  <a:lnTo>
                    <a:pt x="174948" y="15240"/>
                  </a:lnTo>
                  <a:lnTo>
                    <a:pt x="183519" y="14393"/>
                  </a:lnTo>
                  <a:lnTo>
                    <a:pt x="192619" y="12982"/>
                  </a:lnTo>
                  <a:lnTo>
                    <a:pt x="202073" y="11195"/>
                  </a:lnTo>
                  <a:lnTo>
                    <a:pt x="211762" y="10003"/>
                  </a:lnTo>
                  <a:lnTo>
                    <a:pt x="221608" y="9209"/>
                  </a:lnTo>
                  <a:lnTo>
                    <a:pt x="231559" y="8679"/>
                  </a:lnTo>
                  <a:lnTo>
                    <a:pt x="239886" y="7479"/>
                  </a:lnTo>
                  <a:lnTo>
                    <a:pt x="247131" y="5833"/>
                  </a:ln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MARTInkAnnotation58"/>
            <p:cNvSpPr/>
            <p:nvPr/>
          </p:nvSpPr>
          <p:spPr>
            <a:xfrm>
              <a:off x="5220360" y="1806120"/>
              <a:ext cx="15120" cy="198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5233" h="198121">
                  <a:moveTo>
                    <a:pt x="15232" y="0"/>
                  </a:moveTo>
                  <a:lnTo>
                    <a:pt x="15232" y="21958"/>
                  </a:lnTo>
                  <a:lnTo>
                    <a:pt x="14385" y="26492"/>
                  </a:lnTo>
                  <a:lnTo>
                    <a:pt x="12974" y="31208"/>
                  </a:lnTo>
                  <a:lnTo>
                    <a:pt x="11186" y="36045"/>
                  </a:lnTo>
                  <a:lnTo>
                    <a:pt x="9995" y="40117"/>
                  </a:lnTo>
                  <a:lnTo>
                    <a:pt x="9200" y="43678"/>
                  </a:lnTo>
                  <a:lnTo>
                    <a:pt x="8670" y="46899"/>
                  </a:lnTo>
                  <a:lnTo>
                    <a:pt x="7471" y="51586"/>
                  </a:lnTo>
                  <a:lnTo>
                    <a:pt x="5824" y="57251"/>
                  </a:lnTo>
                  <a:lnTo>
                    <a:pt x="3880" y="63567"/>
                  </a:lnTo>
                  <a:lnTo>
                    <a:pt x="2584" y="70318"/>
                  </a:lnTo>
                  <a:lnTo>
                    <a:pt x="1720" y="77359"/>
                  </a:lnTo>
                  <a:lnTo>
                    <a:pt x="1144" y="84592"/>
                  </a:lnTo>
                  <a:lnTo>
                    <a:pt x="759" y="91108"/>
                  </a:lnTo>
                  <a:lnTo>
                    <a:pt x="333" y="102864"/>
                  </a:lnTo>
                  <a:lnTo>
                    <a:pt x="59" y="129445"/>
                  </a:lnTo>
                  <a:lnTo>
                    <a:pt x="0" y="157133"/>
                  </a:lnTo>
                  <a:lnTo>
                    <a:pt x="844" y="162329"/>
                  </a:lnTo>
                  <a:lnTo>
                    <a:pt x="2254" y="167486"/>
                  </a:lnTo>
                  <a:lnTo>
                    <a:pt x="4040" y="172617"/>
                  </a:lnTo>
                  <a:lnTo>
                    <a:pt x="5230" y="176885"/>
                  </a:lnTo>
                  <a:lnTo>
                    <a:pt x="6024" y="180577"/>
                  </a:lnTo>
                  <a:lnTo>
                    <a:pt x="6553" y="183884"/>
                  </a:lnTo>
                  <a:lnTo>
                    <a:pt x="7752" y="186936"/>
                  </a:lnTo>
                  <a:lnTo>
                    <a:pt x="9399" y="189818"/>
                  </a:lnTo>
                  <a:lnTo>
                    <a:pt x="15232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MARTInkAnnotation59"/>
            <p:cNvSpPr/>
            <p:nvPr/>
          </p:nvSpPr>
          <p:spPr>
            <a:xfrm>
              <a:off x="5313240" y="1851840"/>
              <a:ext cx="242280" cy="197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42407" h="197952">
                  <a:moveTo>
                    <a:pt x="67386" y="0"/>
                  </a:moveTo>
                  <a:lnTo>
                    <a:pt x="63341" y="0"/>
                  </a:lnTo>
                  <a:lnTo>
                    <a:pt x="62149" y="847"/>
                  </a:lnTo>
                  <a:lnTo>
                    <a:pt x="61355" y="2258"/>
                  </a:lnTo>
                  <a:lnTo>
                    <a:pt x="60825" y="4045"/>
                  </a:lnTo>
                  <a:lnTo>
                    <a:pt x="59625" y="5237"/>
                  </a:lnTo>
                  <a:lnTo>
                    <a:pt x="57979" y="6031"/>
                  </a:lnTo>
                  <a:lnTo>
                    <a:pt x="56035" y="6561"/>
                  </a:lnTo>
                  <a:lnTo>
                    <a:pt x="51616" y="9407"/>
                  </a:lnTo>
                  <a:lnTo>
                    <a:pt x="45984" y="14341"/>
                  </a:lnTo>
                  <a:lnTo>
                    <a:pt x="34140" y="25792"/>
                  </a:lnTo>
                  <a:lnTo>
                    <a:pt x="19430" y="40357"/>
                  </a:lnTo>
                  <a:lnTo>
                    <a:pt x="16789" y="42145"/>
                  </a:lnTo>
                  <a:lnTo>
                    <a:pt x="11596" y="44131"/>
                  </a:lnTo>
                  <a:lnTo>
                    <a:pt x="9873" y="45508"/>
                  </a:lnTo>
                  <a:lnTo>
                    <a:pt x="8723" y="47272"/>
                  </a:lnTo>
                  <a:lnTo>
                    <a:pt x="7958" y="49295"/>
                  </a:lnTo>
                  <a:lnTo>
                    <a:pt x="6600" y="50643"/>
                  </a:lnTo>
                  <a:lnTo>
                    <a:pt x="4848" y="51542"/>
                  </a:lnTo>
                  <a:lnTo>
                    <a:pt x="0" y="52985"/>
                  </a:lnTo>
                  <a:lnTo>
                    <a:pt x="448" y="53103"/>
                  </a:lnTo>
                  <a:lnTo>
                    <a:pt x="7253" y="53293"/>
                  </a:lnTo>
                  <a:lnTo>
                    <a:pt x="16749" y="53331"/>
                  </a:lnTo>
                  <a:lnTo>
                    <a:pt x="20928" y="52487"/>
                  </a:lnTo>
                  <a:lnTo>
                    <a:pt x="26254" y="51078"/>
                  </a:lnTo>
                  <a:lnTo>
                    <a:pt x="32344" y="49292"/>
                  </a:lnTo>
                  <a:lnTo>
                    <a:pt x="38098" y="48102"/>
                  </a:lnTo>
                  <a:lnTo>
                    <a:pt x="43627" y="47308"/>
                  </a:lnTo>
                  <a:lnTo>
                    <a:pt x="49007" y="46778"/>
                  </a:lnTo>
                  <a:lnTo>
                    <a:pt x="55133" y="45579"/>
                  </a:lnTo>
                  <a:lnTo>
                    <a:pt x="61757" y="43933"/>
                  </a:lnTo>
                  <a:lnTo>
                    <a:pt x="68714" y="41988"/>
                  </a:lnTo>
                  <a:lnTo>
                    <a:pt x="76737" y="40692"/>
                  </a:lnTo>
                  <a:lnTo>
                    <a:pt x="85474" y="39828"/>
                  </a:lnTo>
                  <a:lnTo>
                    <a:pt x="94685" y="39252"/>
                  </a:lnTo>
                  <a:lnTo>
                    <a:pt x="103366" y="39715"/>
                  </a:lnTo>
                  <a:lnTo>
                    <a:pt x="111692" y="40870"/>
                  </a:lnTo>
                  <a:lnTo>
                    <a:pt x="119783" y="42487"/>
                  </a:lnTo>
                  <a:lnTo>
                    <a:pt x="128564" y="43565"/>
                  </a:lnTo>
                  <a:lnTo>
                    <a:pt x="137805" y="44283"/>
                  </a:lnTo>
                  <a:lnTo>
                    <a:pt x="147351" y="44762"/>
                  </a:lnTo>
                  <a:lnTo>
                    <a:pt x="155410" y="45928"/>
                  </a:lnTo>
                  <a:lnTo>
                    <a:pt x="162475" y="47552"/>
                  </a:lnTo>
                  <a:lnTo>
                    <a:pt x="175688" y="51614"/>
                  </a:lnTo>
                  <a:lnTo>
                    <a:pt x="190027" y="56242"/>
                  </a:lnTo>
                  <a:lnTo>
                    <a:pt x="196560" y="59508"/>
                  </a:lnTo>
                  <a:lnTo>
                    <a:pt x="202608" y="63379"/>
                  </a:lnTo>
                  <a:lnTo>
                    <a:pt x="208334" y="67653"/>
                  </a:lnTo>
                  <a:lnTo>
                    <a:pt x="212998" y="72195"/>
                  </a:lnTo>
                  <a:lnTo>
                    <a:pt x="216954" y="76917"/>
                  </a:lnTo>
                  <a:lnTo>
                    <a:pt x="220438" y="81758"/>
                  </a:lnTo>
                  <a:lnTo>
                    <a:pt x="224454" y="85832"/>
                  </a:lnTo>
                  <a:lnTo>
                    <a:pt x="228825" y="89395"/>
                  </a:lnTo>
                  <a:lnTo>
                    <a:pt x="233432" y="92616"/>
                  </a:lnTo>
                  <a:lnTo>
                    <a:pt x="236504" y="96458"/>
                  </a:lnTo>
                  <a:lnTo>
                    <a:pt x="238551" y="100712"/>
                  </a:lnTo>
                  <a:lnTo>
                    <a:pt x="239916" y="105241"/>
                  </a:lnTo>
                  <a:lnTo>
                    <a:pt x="240826" y="110801"/>
                  </a:lnTo>
                  <a:lnTo>
                    <a:pt x="241433" y="117047"/>
                  </a:lnTo>
                  <a:lnTo>
                    <a:pt x="241837" y="123752"/>
                  </a:lnTo>
                  <a:lnTo>
                    <a:pt x="242287" y="135716"/>
                  </a:lnTo>
                  <a:lnTo>
                    <a:pt x="242406" y="141277"/>
                  </a:lnTo>
                  <a:lnTo>
                    <a:pt x="240793" y="145832"/>
                  </a:lnTo>
                  <a:lnTo>
                    <a:pt x="238024" y="149715"/>
                  </a:lnTo>
                  <a:lnTo>
                    <a:pt x="206815" y="180629"/>
                  </a:lnTo>
                  <a:lnTo>
                    <a:pt x="201826" y="184766"/>
                  </a:lnTo>
                  <a:lnTo>
                    <a:pt x="196806" y="188371"/>
                  </a:lnTo>
                  <a:lnTo>
                    <a:pt x="191766" y="191621"/>
                  </a:lnTo>
                  <a:lnTo>
                    <a:pt x="185866" y="193787"/>
                  </a:lnTo>
                  <a:lnTo>
                    <a:pt x="179392" y="195231"/>
                  </a:lnTo>
                  <a:lnTo>
                    <a:pt x="172537" y="196194"/>
                  </a:lnTo>
                  <a:lnTo>
                    <a:pt x="166273" y="196836"/>
                  </a:lnTo>
                  <a:lnTo>
                    <a:pt x="160404" y="197264"/>
                  </a:lnTo>
                  <a:lnTo>
                    <a:pt x="154798" y="197549"/>
                  </a:lnTo>
                  <a:lnTo>
                    <a:pt x="141796" y="197866"/>
                  </a:lnTo>
                  <a:lnTo>
                    <a:pt x="134773" y="197951"/>
                  </a:lnTo>
                  <a:lnTo>
                    <a:pt x="128397" y="197160"/>
                  </a:lnTo>
                  <a:lnTo>
                    <a:pt x="122453" y="195787"/>
                  </a:lnTo>
                  <a:lnTo>
                    <a:pt x="103740" y="189809"/>
                  </a:lnTo>
                  <a:lnTo>
                    <a:pt x="96702" y="187499"/>
                  </a:lnTo>
                  <a:lnTo>
                    <a:pt x="90316" y="185113"/>
                  </a:lnTo>
                  <a:lnTo>
                    <a:pt x="84366" y="182675"/>
                  </a:lnTo>
                  <a:lnTo>
                    <a:pt x="78706" y="180203"/>
                  </a:lnTo>
                  <a:lnTo>
                    <a:pt x="74933" y="177709"/>
                  </a:lnTo>
                  <a:lnTo>
                    <a:pt x="72417" y="175199"/>
                  </a:lnTo>
                  <a:lnTo>
                    <a:pt x="67386" y="1676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MARTInkAnnotation60"/>
            <p:cNvSpPr/>
            <p:nvPr/>
          </p:nvSpPr>
          <p:spPr>
            <a:xfrm>
              <a:off x="5365080" y="1821240"/>
              <a:ext cx="205560" cy="151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05741" h="15233">
                  <a:moveTo>
                    <a:pt x="0" y="15232"/>
                  </a:moveTo>
                  <a:lnTo>
                    <a:pt x="0" y="11187"/>
                  </a:lnTo>
                  <a:lnTo>
                    <a:pt x="846" y="9995"/>
                  </a:lnTo>
                  <a:lnTo>
                    <a:pt x="2258" y="9201"/>
                  </a:lnTo>
                  <a:lnTo>
                    <a:pt x="4045" y="8671"/>
                  </a:lnTo>
                  <a:lnTo>
                    <a:pt x="6083" y="8318"/>
                  </a:lnTo>
                  <a:lnTo>
                    <a:pt x="10606" y="7926"/>
                  </a:lnTo>
                  <a:lnTo>
                    <a:pt x="19954" y="7752"/>
                  </a:lnTo>
                  <a:lnTo>
                    <a:pt x="26003" y="7705"/>
                  </a:lnTo>
                  <a:lnTo>
                    <a:pt x="31728" y="6828"/>
                  </a:lnTo>
                  <a:lnTo>
                    <a:pt x="37239" y="5396"/>
                  </a:lnTo>
                  <a:lnTo>
                    <a:pt x="42606" y="3595"/>
                  </a:lnTo>
                  <a:lnTo>
                    <a:pt x="48724" y="2394"/>
                  </a:lnTo>
                  <a:lnTo>
                    <a:pt x="55343" y="1593"/>
                  </a:lnTo>
                  <a:lnTo>
                    <a:pt x="62295" y="1059"/>
                  </a:lnTo>
                  <a:lnTo>
                    <a:pt x="69470" y="704"/>
                  </a:lnTo>
                  <a:lnTo>
                    <a:pt x="84215" y="308"/>
                  </a:lnTo>
                  <a:lnTo>
                    <a:pt x="163762" y="0"/>
                  </a:lnTo>
                  <a:lnTo>
                    <a:pt x="171828" y="844"/>
                  </a:lnTo>
                  <a:lnTo>
                    <a:pt x="178899" y="2254"/>
                  </a:lnTo>
                  <a:lnTo>
                    <a:pt x="185306" y="4040"/>
                  </a:lnTo>
                  <a:lnTo>
                    <a:pt x="190424" y="5231"/>
                  </a:lnTo>
                  <a:lnTo>
                    <a:pt x="194683" y="6025"/>
                  </a:lnTo>
                  <a:lnTo>
                    <a:pt x="205740" y="7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MARTInkAnnotation61"/>
            <p:cNvSpPr/>
            <p:nvPr/>
          </p:nvSpPr>
          <p:spPr>
            <a:xfrm>
              <a:off x="5672880" y="1920240"/>
              <a:ext cx="370440" cy="15984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70718" h="159994">
                  <a:moveTo>
                    <a:pt x="157357" y="7593"/>
                  </a:moveTo>
                  <a:lnTo>
                    <a:pt x="153312" y="7593"/>
                  </a:lnTo>
                  <a:lnTo>
                    <a:pt x="152120" y="6746"/>
                  </a:lnTo>
                  <a:lnTo>
                    <a:pt x="151326" y="5335"/>
                  </a:lnTo>
                  <a:lnTo>
                    <a:pt x="150051" y="1032"/>
                  </a:lnTo>
                  <a:lnTo>
                    <a:pt x="149100" y="679"/>
                  </a:lnTo>
                  <a:lnTo>
                    <a:pt x="139232" y="112"/>
                  </a:lnTo>
                  <a:lnTo>
                    <a:pt x="125272" y="0"/>
                  </a:lnTo>
                  <a:lnTo>
                    <a:pt x="117415" y="2243"/>
                  </a:lnTo>
                  <a:lnTo>
                    <a:pt x="108279" y="6062"/>
                  </a:lnTo>
                  <a:lnTo>
                    <a:pt x="98573" y="10581"/>
                  </a:lnTo>
                  <a:lnTo>
                    <a:pt x="83590" y="17886"/>
                  </a:lnTo>
                  <a:lnTo>
                    <a:pt x="78546" y="21228"/>
                  </a:lnTo>
                  <a:lnTo>
                    <a:pt x="73489" y="25150"/>
                  </a:lnTo>
                  <a:lnTo>
                    <a:pt x="68426" y="29458"/>
                  </a:lnTo>
                  <a:lnTo>
                    <a:pt x="62509" y="34023"/>
                  </a:lnTo>
                  <a:lnTo>
                    <a:pt x="56025" y="38760"/>
                  </a:lnTo>
                  <a:lnTo>
                    <a:pt x="49162" y="43611"/>
                  </a:lnTo>
                  <a:lnTo>
                    <a:pt x="42895" y="49385"/>
                  </a:lnTo>
                  <a:lnTo>
                    <a:pt x="37022" y="55774"/>
                  </a:lnTo>
                  <a:lnTo>
                    <a:pt x="31414" y="62574"/>
                  </a:lnTo>
                  <a:lnTo>
                    <a:pt x="26828" y="68800"/>
                  </a:lnTo>
                  <a:lnTo>
                    <a:pt x="22925" y="74645"/>
                  </a:lnTo>
                  <a:lnTo>
                    <a:pt x="19475" y="80234"/>
                  </a:lnTo>
                  <a:lnTo>
                    <a:pt x="15483" y="85654"/>
                  </a:lnTo>
                  <a:lnTo>
                    <a:pt x="11128" y="90960"/>
                  </a:lnTo>
                  <a:lnTo>
                    <a:pt x="6531" y="96191"/>
                  </a:lnTo>
                  <a:lnTo>
                    <a:pt x="3466" y="101372"/>
                  </a:lnTo>
                  <a:lnTo>
                    <a:pt x="1424" y="106519"/>
                  </a:lnTo>
                  <a:lnTo>
                    <a:pt x="61" y="111644"/>
                  </a:lnTo>
                  <a:lnTo>
                    <a:pt x="0" y="115907"/>
                  </a:lnTo>
                  <a:lnTo>
                    <a:pt x="806" y="119596"/>
                  </a:lnTo>
                  <a:lnTo>
                    <a:pt x="2190" y="122901"/>
                  </a:lnTo>
                  <a:lnTo>
                    <a:pt x="3959" y="125952"/>
                  </a:lnTo>
                  <a:lnTo>
                    <a:pt x="5985" y="128832"/>
                  </a:lnTo>
                  <a:lnTo>
                    <a:pt x="8183" y="131599"/>
                  </a:lnTo>
                  <a:lnTo>
                    <a:pt x="11341" y="134291"/>
                  </a:lnTo>
                  <a:lnTo>
                    <a:pt x="15139" y="136931"/>
                  </a:lnTo>
                  <a:lnTo>
                    <a:pt x="19366" y="139539"/>
                  </a:lnTo>
                  <a:lnTo>
                    <a:pt x="30835" y="142436"/>
                  </a:lnTo>
                  <a:lnTo>
                    <a:pt x="37449" y="143208"/>
                  </a:lnTo>
                  <a:lnTo>
                    <a:pt x="44398" y="143723"/>
                  </a:lnTo>
                  <a:lnTo>
                    <a:pt x="51571" y="144066"/>
                  </a:lnTo>
                  <a:lnTo>
                    <a:pt x="58893" y="144295"/>
                  </a:lnTo>
                  <a:lnTo>
                    <a:pt x="67161" y="143601"/>
                  </a:lnTo>
                  <a:lnTo>
                    <a:pt x="76060" y="142292"/>
                  </a:lnTo>
                  <a:lnTo>
                    <a:pt x="85379" y="140572"/>
                  </a:lnTo>
                  <a:lnTo>
                    <a:pt x="94132" y="138579"/>
                  </a:lnTo>
                  <a:lnTo>
                    <a:pt x="102507" y="136404"/>
                  </a:lnTo>
                  <a:lnTo>
                    <a:pt x="110630" y="134107"/>
                  </a:lnTo>
                  <a:lnTo>
                    <a:pt x="119433" y="130882"/>
                  </a:lnTo>
                  <a:lnTo>
                    <a:pt x="128687" y="127039"/>
                  </a:lnTo>
                  <a:lnTo>
                    <a:pt x="138244" y="122784"/>
                  </a:lnTo>
                  <a:lnTo>
                    <a:pt x="146309" y="117407"/>
                  </a:lnTo>
                  <a:lnTo>
                    <a:pt x="153378" y="111282"/>
                  </a:lnTo>
                  <a:lnTo>
                    <a:pt x="176891" y="87247"/>
                  </a:lnTo>
                  <a:lnTo>
                    <a:pt x="181386" y="81863"/>
                  </a:lnTo>
                  <a:lnTo>
                    <a:pt x="185230" y="76580"/>
                  </a:lnTo>
                  <a:lnTo>
                    <a:pt x="188639" y="71364"/>
                  </a:lnTo>
                  <a:lnTo>
                    <a:pt x="190912" y="67040"/>
                  </a:lnTo>
                  <a:lnTo>
                    <a:pt x="192427" y="63311"/>
                  </a:lnTo>
                  <a:lnTo>
                    <a:pt x="193437" y="59978"/>
                  </a:lnTo>
                  <a:lnTo>
                    <a:pt x="194111" y="56910"/>
                  </a:lnTo>
                  <a:lnTo>
                    <a:pt x="194559" y="54018"/>
                  </a:lnTo>
                  <a:lnTo>
                    <a:pt x="195280" y="47337"/>
                  </a:lnTo>
                  <a:lnTo>
                    <a:pt x="195378" y="44166"/>
                  </a:lnTo>
                  <a:lnTo>
                    <a:pt x="195441" y="39277"/>
                  </a:lnTo>
                  <a:lnTo>
                    <a:pt x="195453" y="42475"/>
                  </a:lnTo>
                  <a:lnTo>
                    <a:pt x="196301" y="43548"/>
                  </a:lnTo>
                  <a:lnTo>
                    <a:pt x="197713" y="44263"/>
                  </a:lnTo>
                  <a:lnTo>
                    <a:pt x="199501" y="44740"/>
                  </a:lnTo>
                  <a:lnTo>
                    <a:pt x="200694" y="45904"/>
                  </a:lnTo>
                  <a:lnTo>
                    <a:pt x="201487" y="47527"/>
                  </a:lnTo>
                  <a:lnTo>
                    <a:pt x="202017" y="49456"/>
                  </a:lnTo>
                  <a:lnTo>
                    <a:pt x="204864" y="53856"/>
                  </a:lnTo>
                  <a:lnTo>
                    <a:pt x="208952" y="58634"/>
                  </a:lnTo>
                  <a:lnTo>
                    <a:pt x="213590" y="63580"/>
                  </a:lnTo>
                  <a:lnTo>
                    <a:pt x="239114" y="89329"/>
                  </a:lnTo>
                  <a:lnTo>
                    <a:pt x="245729" y="93410"/>
                  </a:lnTo>
                  <a:lnTo>
                    <a:pt x="253525" y="96978"/>
                  </a:lnTo>
                  <a:lnTo>
                    <a:pt x="262109" y="100203"/>
                  </a:lnTo>
                  <a:lnTo>
                    <a:pt x="269525" y="104046"/>
                  </a:lnTo>
                  <a:lnTo>
                    <a:pt x="276163" y="108302"/>
                  </a:lnTo>
                  <a:lnTo>
                    <a:pt x="282280" y="112832"/>
                  </a:lnTo>
                  <a:lnTo>
                    <a:pt x="289747" y="117546"/>
                  </a:lnTo>
                  <a:lnTo>
                    <a:pt x="298109" y="122382"/>
                  </a:lnTo>
                  <a:lnTo>
                    <a:pt x="307072" y="127299"/>
                  </a:lnTo>
                  <a:lnTo>
                    <a:pt x="315587" y="131424"/>
                  </a:lnTo>
                  <a:lnTo>
                    <a:pt x="323803" y="135020"/>
                  </a:lnTo>
                  <a:lnTo>
                    <a:pt x="331821" y="138264"/>
                  </a:lnTo>
                  <a:lnTo>
                    <a:pt x="338013" y="141274"/>
                  </a:lnTo>
                  <a:lnTo>
                    <a:pt x="342988" y="144127"/>
                  </a:lnTo>
                  <a:lnTo>
                    <a:pt x="347151" y="146876"/>
                  </a:lnTo>
                  <a:lnTo>
                    <a:pt x="351620" y="149555"/>
                  </a:lnTo>
                  <a:lnTo>
                    <a:pt x="356293" y="152188"/>
                  </a:lnTo>
                  <a:lnTo>
                    <a:pt x="370717" y="1599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MARTInkAnnotation62"/>
            <p:cNvSpPr/>
            <p:nvPr/>
          </p:nvSpPr>
          <p:spPr>
            <a:xfrm>
              <a:off x="6066360" y="197352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MARTInkAnnotation63"/>
            <p:cNvSpPr/>
            <p:nvPr/>
          </p:nvSpPr>
          <p:spPr>
            <a:xfrm>
              <a:off x="6310080" y="1837440"/>
              <a:ext cx="236160" cy="2422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236221" h="242578">
                  <a:moveTo>
                    <a:pt x="0" y="59862"/>
                  </a:moveTo>
                  <a:lnTo>
                    <a:pt x="11351" y="48511"/>
                  </a:lnTo>
                  <a:lnTo>
                    <a:pt x="18027" y="44093"/>
                  </a:lnTo>
                  <a:lnTo>
                    <a:pt x="22178" y="41729"/>
                  </a:lnTo>
                  <a:lnTo>
                    <a:pt x="31306" y="36845"/>
                  </a:lnTo>
                  <a:lnTo>
                    <a:pt x="36111" y="34357"/>
                  </a:lnTo>
                  <a:lnTo>
                    <a:pt x="40160" y="31853"/>
                  </a:lnTo>
                  <a:lnTo>
                    <a:pt x="46918" y="26811"/>
                  </a:lnTo>
                  <a:lnTo>
                    <a:pt x="51599" y="24282"/>
                  </a:lnTo>
                  <a:lnTo>
                    <a:pt x="57260" y="21748"/>
                  </a:lnTo>
                  <a:lnTo>
                    <a:pt x="63573" y="19213"/>
                  </a:lnTo>
                  <a:lnTo>
                    <a:pt x="69475" y="16676"/>
                  </a:lnTo>
                  <a:lnTo>
                    <a:pt x="80549" y="11599"/>
                  </a:lnTo>
                  <a:lnTo>
                    <a:pt x="85873" y="9907"/>
                  </a:lnTo>
                  <a:lnTo>
                    <a:pt x="91115" y="8779"/>
                  </a:lnTo>
                  <a:lnTo>
                    <a:pt x="96304" y="8027"/>
                  </a:lnTo>
                  <a:lnTo>
                    <a:pt x="101456" y="7525"/>
                  </a:lnTo>
                  <a:lnTo>
                    <a:pt x="106584" y="7191"/>
                  </a:lnTo>
                  <a:lnTo>
                    <a:pt x="111696" y="6968"/>
                  </a:lnTo>
                  <a:lnTo>
                    <a:pt x="116797" y="5973"/>
                  </a:lnTo>
                  <a:lnTo>
                    <a:pt x="121892" y="4462"/>
                  </a:lnTo>
                  <a:lnTo>
                    <a:pt x="126981" y="2609"/>
                  </a:lnTo>
                  <a:lnTo>
                    <a:pt x="132068" y="1373"/>
                  </a:lnTo>
                  <a:lnTo>
                    <a:pt x="137152" y="550"/>
                  </a:lnTo>
                  <a:lnTo>
                    <a:pt x="142235" y="0"/>
                  </a:lnTo>
                  <a:lnTo>
                    <a:pt x="146470" y="481"/>
                  </a:lnTo>
                  <a:lnTo>
                    <a:pt x="150140" y="1648"/>
                  </a:lnTo>
                  <a:lnTo>
                    <a:pt x="156476" y="4356"/>
                  </a:lnTo>
                  <a:lnTo>
                    <a:pt x="162114" y="5559"/>
                  </a:lnTo>
                  <a:lnTo>
                    <a:pt x="167442" y="8352"/>
                  </a:lnTo>
                  <a:lnTo>
                    <a:pt x="170048" y="10282"/>
                  </a:lnTo>
                  <a:lnTo>
                    <a:pt x="171785" y="12415"/>
                  </a:lnTo>
                  <a:lnTo>
                    <a:pt x="172944" y="14684"/>
                  </a:lnTo>
                  <a:lnTo>
                    <a:pt x="174231" y="19463"/>
                  </a:lnTo>
                  <a:lnTo>
                    <a:pt x="174803" y="24409"/>
                  </a:lnTo>
                  <a:lnTo>
                    <a:pt x="172799" y="31687"/>
                  </a:lnTo>
                  <a:lnTo>
                    <a:pt x="171079" y="35999"/>
                  </a:lnTo>
                  <a:lnTo>
                    <a:pt x="167392" y="40567"/>
                  </a:lnTo>
                  <a:lnTo>
                    <a:pt x="162396" y="45305"/>
                  </a:lnTo>
                  <a:lnTo>
                    <a:pt x="156523" y="50158"/>
                  </a:lnTo>
                  <a:lnTo>
                    <a:pt x="150916" y="55086"/>
                  </a:lnTo>
                  <a:lnTo>
                    <a:pt x="145484" y="60064"/>
                  </a:lnTo>
                  <a:lnTo>
                    <a:pt x="134086" y="70959"/>
                  </a:lnTo>
                  <a:lnTo>
                    <a:pt x="98655" y="106040"/>
                  </a:lnTo>
                  <a:lnTo>
                    <a:pt x="90323" y="112661"/>
                  </a:lnTo>
                  <a:lnTo>
                    <a:pt x="81382" y="118768"/>
                  </a:lnTo>
                  <a:lnTo>
                    <a:pt x="72035" y="124533"/>
                  </a:lnTo>
                  <a:lnTo>
                    <a:pt x="64110" y="130916"/>
                  </a:lnTo>
                  <a:lnTo>
                    <a:pt x="57133" y="137711"/>
                  </a:lnTo>
                  <a:lnTo>
                    <a:pt x="50789" y="144782"/>
                  </a:lnTo>
                  <a:lnTo>
                    <a:pt x="44019" y="151188"/>
                  </a:lnTo>
                  <a:lnTo>
                    <a:pt x="36967" y="157153"/>
                  </a:lnTo>
                  <a:lnTo>
                    <a:pt x="29724" y="162822"/>
                  </a:lnTo>
                  <a:lnTo>
                    <a:pt x="23203" y="168296"/>
                  </a:lnTo>
                  <a:lnTo>
                    <a:pt x="17162" y="173638"/>
                  </a:lnTo>
                  <a:lnTo>
                    <a:pt x="11441" y="178893"/>
                  </a:lnTo>
                  <a:lnTo>
                    <a:pt x="7627" y="184936"/>
                  </a:lnTo>
                  <a:lnTo>
                    <a:pt x="5085" y="191504"/>
                  </a:lnTo>
                  <a:lnTo>
                    <a:pt x="3390" y="198424"/>
                  </a:lnTo>
                  <a:lnTo>
                    <a:pt x="3107" y="203883"/>
                  </a:lnTo>
                  <a:lnTo>
                    <a:pt x="3764" y="208369"/>
                  </a:lnTo>
                  <a:lnTo>
                    <a:pt x="5050" y="212207"/>
                  </a:lnTo>
                  <a:lnTo>
                    <a:pt x="6753" y="216459"/>
                  </a:lnTo>
                  <a:lnTo>
                    <a:pt x="8735" y="220987"/>
                  </a:lnTo>
                  <a:lnTo>
                    <a:pt x="10903" y="225699"/>
                  </a:lnTo>
                  <a:lnTo>
                    <a:pt x="14042" y="229686"/>
                  </a:lnTo>
                  <a:lnTo>
                    <a:pt x="17827" y="233192"/>
                  </a:lnTo>
                  <a:lnTo>
                    <a:pt x="22045" y="236375"/>
                  </a:lnTo>
                  <a:lnTo>
                    <a:pt x="27397" y="238498"/>
                  </a:lnTo>
                  <a:lnTo>
                    <a:pt x="33504" y="239912"/>
                  </a:lnTo>
                  <a:lnTo>
                    <a:pt x="40116" y="240856"/>
                  </a:lnTo>
                  <a:lnTo>
                    <a:pt x="47911" y="241485"/>
                  </a:lnTo>
                  <a:lnTo>
                    <a:pt x="56494" y="241904"/>
                  </a:lnTo>
                  <a:lnTo>
                    <a:pt x="75062" y="242370"/>
                  </a:lnTo>
                  <a:lnTo>
                    <a:pt x="94603" y="242577"/>
                  </a:lnTo>
                  <a:lnTo>
                    <a:pt x="104556" y="241785"/>
                  </a:lnTo>
                  <a:lnTo>
                    <a:pt x="114577" y="240411"/>
                  </a:lnTo>
                  <a:lnTo>
                    <a:pt x="124645" y="238648"/>
                  </a:lnTo>
                  <a:lnTo>
                    <a:pt x="135590" y="235779"/>
                  </a:lnTo>
                  <a:lnTo>
                    <a:pt x="147120" y="232173"/>
                  </a:lnTo>
                  <a:lnTo>
                    <a:pt x="159040" y="228076"/>
                  </a:lnTo>
                  <a:lnTo>
                    <a:pt x="170374" y="224498"/>
                  </a:lnTo>
                  <a:lnTo>
                    <a:pt x="210639" y="212672"/>
                  </a:lnTo>
                  <a:lnTo>
                    <a:pt x="236220" y="2046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MARTInkAnnotation64"/>
            <p:cNvSpPr/>
            <p:nvPr/>
          </p:nvSpPr>
          <p:spPr>
            <a:xfrm>
              <a:off x="6562440" y="1821240"/>
              <a:ext cx="218880" cy="264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18913" h="265015">
                  <a:moveTo>
                    <a:pt x="105669" y="0"/>
                  </a:moveTo>
                  <a:lnTo>
                    <a:pt x="101624" y="4045"/>
                  </a:lnTo>
                  <a:lnTo>
                    <a:pt x="97380" y="10547"/>
                  </a:lnTo>
                  <a:lnTo>
                    <a:pt x="95063" y="14651"/>
                  </a:lnTo>
                  <a:lnTo>
                    <a:pt x="91826" y="19081"/>
                  </a:lnTo>
                  <a:lnTo>
                    <a:pt x="87973" y="23727"/>
                  </a:lnTo>
                  <a:lnTo>
                    <a:pt x="83711" y="28518"/>
                  </a:lnTo>
                  <a:lnTo>
                    <a:pt x="79178" y="35099"/>
                  </a:lnTo>
                  <a:lnTo>
                    <a:pt x="74462" y="42872"/>
                  </a:lnTo>
                  <a:lnTo>
                    <a:pt x="69624" y="51442"/>
                  </a:lnTo>
                  <a:lnTo>
                    <a:pt x="63859" y="60541"/>
                  </a:lnTo>
                  <a:lnTo>
                    <a:pt x="57476" y="69994"/>
                  </a:lnTo>
                  <a:lnTo>
                    <a:pt x="43610" y="89529"/>
                  </a:lnTo>
                  <a:lnTo>
                    <a:pt x="28981" y="109499"/>
                  </a:lnTo>
                  <a:lnTo>
                    <a:pt x="22370" y="119566"/>
                  </a:lnTo>
                  <a:lnTo>
                    <a:pt x="16270" y="129664"/>
                  </a:lnTo>
                  <a:lnTo>
                    <a:pt x="10510" y="139783"/>
                  </a:lnTo>
                  <a:lnTo>
                    <a:pt x="6670" y="149069"/>
                  </a:lnTo>
                  <a:lnTo>
                    <a:pt x="4110" y="157799"/>
                  </a:lnTo>
                  <a:lnTo>
                    <a:pt x="2403" y="166159"/>
                  </a:lnTo>
                  <a:lnTo>
                    <a:pt x="1265" y="175120"/>
                  </a:lnTo>
                  <a:lnTo>
                    <a:pt x="506" y="184480"/>
                  </a:lnTo>
                  <a:lnTo>
                    <a:pt x="0" y="194106"/>
                  </a:lnTo>
                  <a:lnTo>
                    <a:pt x="510" y="203064"/>
                  </a:lnTo>
                  <a:lnTo>
                    <a:pt x="1696" y="211576"/>
                  </a:lnTo>
                  <a:lnTo>
                    <a:pt x="3334" y="219791"/>
                  </a:lnTo>
                  <a:lnTo>
                    <a:pt x="6966" y="226961"/>
                  </a:lnTo>
                  <a:lnTo>
                    <a:pt x="11926" y="233434"/>
                  </a:lnTo>
                  <a:lnTo>
                    <a:pt x="17774" y="239442"/>
                  </a:lnTo>
                  <a:lnTo>
                    <a:pt x="25906" y="244295"/>
                  </a:lnTo>
                  <a:lnTo>
                    <a:pt x="35561" y="248376"/>
                  </a:lnTo>
                  <a:lnTo>
                    <a:pt x="73382" y="261011"/>
                  </a:lnTo>
                  <a:lnTo>
                    <a:pt x="83297" y="262907"/>
                  </a:lnTo>
                  <a:lnTo>
                    <a:pt x="94142" y="264172"/>
                  </a:lnTo>
                  <a:lnTo>
                    <a:pt x="105604" y="265014"/>
                  </a:lnTo>
                  <a:lnTo>
                    <a:pt x="115785" y="264730"/>
                  </a:lnTo>
                  <a:lnTo>
                    <a:pt x="125114" y="263693"/>
                  </a:lnTo>
                  <a:lnTo>
                    <a:pt x="133872" y="262155"/>
                  </a:lnTo>
                  <a:lnTo>
                    <a:pt x="143098" y="260284"/>
                  </a:lnTo>
                  <a:lnTo>
                    <a:pt x="162380" y="255946"/>
                  </a:lnTo>
                  <a:lnTo>
                    <a:pt x="171417" y="251911"/>
                  </a:lnTo>
                  <a:lnTo>
                    <a:pt x="179981" y="246681"/>
                  </a:lnTo>
                  <a:lnTo>
                    <a:pt x="188231" y="240654"/>
                  </a:lnTo>
                  <a:lnTo>
                    <a:pt x="195423" y="234096"/>
                  </a:lnTo>
                  <a:lnTo>
                    <a:pt x="201913" y="227184"/>
                  </a:lnTo>
                  <a:lnTo>
                    <a:pt x="207932" y="220036"/>
                  </a:lnTo>
                  <a:lnTo>
                    <a:pt x="211944" y="211884"/>
                  </a:lnTo>
                  <a:lnTo>
                    <a:pt x="214620" y="203063"/>
                  </a:lnTo>
                  <a:lnTo>
                    <a:pt x="216403" y="193795"/>
                  </a:lnTo>
                  <a:lnTo>
                    <a:pt x="217592" y="185077"/>
                  </a:lnTo>
                  <a:lnTo>
                    <a:pt x="218385" y="176725"/>
                  </a:lnTo>
                  <a:lnTo>
                    <a:pt x="218912" y="168617"/>
                  </a:lnTo>
                  <a:lnTo>
                    <a:pt x="218419" y="159824"/>
                  </a:lnTo>
                  <a:lnTo>
                    <a:pt x="217242" y="150576"/>
                  </a:lnTo>
                  <a:lnTo>
                    <a:pt x="215611" y="141024"/>
                  </a:lnTo>
                  <a:lnTo>
                    <a:pt x="212830" y="132116"/>
                  </a:lnTo>
                  <a:lnTo>
                    <a:pt x="209284" y="123637"/>
                  </a:lnTo>
                  <a:lnTo>
                    <a:pt x="205226" y="115445"/>
                  </a:lnTo>
                  <a:lnTo>
                    <a:pt x="200827" y="108290"/>
                  </a:lnTo>
                  <a:lnTo>
                    <a:pt x="196201" y="101827"/>
                  </a:lnTo>
                  <a:lnTo>
                    <a:pt x="191423" y="95824"/>
                  </a:lnTo>
                  <a:lnTo>
                    <a:pt x="184852" y="90130"/>
                  </a:lnTo>
                  <a:lnTo>
                    <a:pt x="177085" y="84640"/>
                  </a:lnTo>
                  <a:lnTo>
                    <a:pt x="168519" y="79287"/>
                  </a:lnTo>
                  <a:lnTo>
                    <a:pt x="160270" y="75718"/>
                  </a:lnTo>
                  <a:lnTo>
                    <a:pt x="152229" y="73338"/>
                  </a:lnTo>
                  <a:lnTo>
                    <a:pt x="144329" y="71752"/>
                  </a:lnTo>
                  <a:lnTo>
                    <a:pt x="126520" y="67732"/>
                  </a:lnTo>
                  <a:lnTo>
                    <a:pt x="117030" y="65475"/>
                  </a:lnTo>
                  <a:lnTo>
                    <a:pt x="109009" y="63970"/>
                  </a:lnTo>
                  <a:lnTo>
                    <a:pt x="101969" y="62966"/>
                  </a:lnTo>
                  <a:lnTo>
                    <a:pt x="82809" y="609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MARTInkAnnotation65"/>
            <p:cNvSpPr/>
            <p:nvPr/>
          </p:nvSpPr>
          <p:spPr>
            <a:xfrm>
              <a:off x="7110360" y="1851840"/>
              <a:ext cx="37800" cy="2282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38073" h="228506">
                  <a:moveTo>
                    <a:pt x="30480" y="15145"/>
                  </a:moveTo>
                  <a:lnTo>
                    <a:pt x="30480" y="7839"/>
                  </a:lnTo>
                  <a:lnTo>
                    <a:pt x="31327" y="6888"/>
                  </a:lnTo>
                  <a:lnTo>
                    <a:pt x="38007" y="0"/>
                  </a:lnTo>
                  <a:lnTo>
                    <a:pt x="38072" y="3979"/>
                  </a:lnTo>
                  <a:lnTo>
                    <a:pt x="37235" y="6007"/>
                  </a:lnTo>
                  <a:lnTo>
                    <a:pt x="35830" y="8207"/>
                  </a:lnTo>
                  <a:lnTo>
                    <a:pt x="34047" y="10520"/>
                  </a:lnTo>
                  <a:lnTo>
                    <a:pt x="32858" y="13755"/>
                  </a:lnTo>
                  <a:lnTo>
                    <a:pt x="32065" y="17605"/>
                  </a:lnTo>
                  <a:lnTo>
                    <a:pt x="31537" y="21865"/>
                  </a:lnTo>
                  <a:lnTo>
                    <a:pt x="31184" y="27245"/>
                  </a:lnTo>
                  <a:lnTo>
                    <a:pt x="30950" y="33372"/>
                  </a:lnTo>
                  <a:lnTo>
                    <a:pt x="30793" y="39996"/>
                  </a:lnTo>
                  <a:lnTo>
                    <a:pt x="29842" y="46106"/>
                  </a:lnTo>
                  <a:lnTo>
                    <a:pt x="28362" y="51872"/>
                  </a:lnTo>
                  <a:lnTo>
                    <a:pt x="26528" y="57410"/>
                  </a:lnTo>
                  <a:lnTo>
                    <a:pt x="25305" y="63642"/>
                  </a:lnTo>
                  <a:lnTo>
                    <a:pt x="24491" y="70336"/>
                  </a:lnTo>
                  <a:lnTo>
                    <a:pt x="23947" y="77339"/>
                  </a:lnTo>
                  <a:lnTo>
                    <a:pt x="22738" y="84548"/>
                  </a:lnTo>
                  <a:lnTo>
                    <a:pt x="21085" y="91894"/>
                  </a:lnTo>
                  <a:lnTo>
                    <a:pt x="19137" y="99331"/>
                  </a:lnTo>
                  <a:lnTo>
                    <a:pt x="16992" y="106829"/>
                  </a:lnTo>
                  <a:lnTo>
                    <a:pt x="12349" y="121934"/>
                  </a:lnTo>
                  <a:lnTo>
                    <a:pt x="10774" y="129517"/>
                  </a:lnTo>
                  <a:lnTo>
                    <a:pt x="9723" y="137113"/>
                  </a:lnTo>
                  <a:lnTo>
                    <a:pt x="9021" y="144717"/>
                  </a:lnTo>
                  <a:lnTo>
                    <a:pt x="7707" y="151480"/>
                  </a:lnTo>
                  <a:lnTo>
                    <a:pt x="5986" y="157681"/>
                  </a:lnTo>
                  <a:lnTo>
                    <a:pt x="3990" y="163509"/>
                  </a:lnTo>
                  <a:lnTo>
                    <a:pt x="2660" y="169088"/>
                  </a:lnTo>
                  <a:lnTo>
                    <a:pt x="1774" y="174500"/>
                  </a:lnTo>
                  <a:lnTo>
                    <a:pt x="1182" y="179802"/>
                  </a:lnTo>
                  <a:lnTo>
                    <a:pt x="1635" y="185876"/>
                  </a:lnTo>
                  <a:lnTo>
                    <a:pt x="2783" y="192466"/>
                  </a:lnTo>
                  <a:lnTo>
                    <a:pt x="4395" y="199399"/>
                  </a:lnTo>
                  <a:lnTo>
                    <a:pt x="4624" y="204868"/>
                  </a:lnTo>
                  <a:lnTo>
                    <a:pt x="3929" y="209360"/>
                  </a:lnTo>
                  <a:lnTo>
                    <a:pt x="2619" y="213202"/>
                  </a:lnTo>
                  <a:lnTo>
                    <a:pt x="1746" y="216609"/>
                  </a:lnTo>
                  <a:lnTo>
                    <a:pt x="776" y="222654"/>
                  </a:lnTo>
                  <a:lnTo>
                    <a:pt x="0" y="2285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MARTInkAnnotation66"/>
            <p:cNvSpPr/>
            <p:nvPr/>
          </p:nvSpPr>
          <p:spPr>
            <a:xfrm>
              <a:off x="7034040" y="1935360"/>
              <a:ext cx="205560" cy="532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05741" h="53341">
                  <a:moveTo>
                    <a:pt x="0" y="53340"/>
                  </a:moveTo>
                  <a:lnTo>
                    <a:pt x="0" y="46779"/>
                  </a:lnTo>
                  <a:lnTo>
                    <a:pt x="1693" y="45580"/>
                  </a:lnTo>
                  <a:lnTo>
                    <a:pt x="4515" y="43933"/>
                  </a:lnTo>
                  <a:lnTo>
                    <a:pt x="8090" y="41989"/>
                  </a:lnTo>
                  <a:lnTo>
                    <a:pt x="21212" y="35207"/>
                  </a:lnTo>
                  <a:lnTo>
                    <a:pt x="25994" y="33632"/>
                  </a:lnTo>
                  <a:lnTo>
                    <a:pt x="30876" y="32581"/>
                  </a:lnTo>
                  <a:lnTo>
                    <a:pt x="35824" y="31881"/>
                  </a:lnTo>
                  <a:lnTo>
                    <a:pt x="41662" y="30567"/>
                  </a:lnTo>
                  <a:lnTo>
                    <a:pt x="48095" y="28845"/>
                  </a:lnTo>
                  <a:lnTo>
                    <a:pt x="54924" y="26850"/>
                  </a:lnTo>
                  <a:lnTo>
                    <a:pt x="80714" y="19997"/>
                  </a:lnTo>
                  <a:lnTo>
                    <a:pt x="90216" y="18412"/>
                  </a:lnTo>
                  <a:lnTo>
                    <a:pt x="99937" y="17354"/>
                  </a:lnTo>
                  <a:lnTo>
                    <a:pt x="109805" y="16649"/>
                  </a:lnTo>
                  <a:lnTo>
                    <a:pt x="119769" y="15333"/>
                  </a:lnTo>
                  <a:lnTo>
                    <a:pt x="129800" y="13609"/>
                  </a:lnTo>
                  <a:lnTo>
                    <a:pt x="139873" y="11613"/>
                  </a:lnTo>
                  <a:lnTo>
                    <a:pt x="160097" y="7137"/>
                  </a:lnTo>
                  <a:lnTo>
                    <a:pt x="170231" y="4758"/>
                  </a:lnTo>
                  <a:lnTo>
                    <a:pt x="178681" y="3172"/>
                  </a:lnTo>
                  <a:lnTo>
                    <a:pt x="186007" y="2115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MARTInkAnnotation67"/>
            <p:cNvSpPr/>
            <p:nvPr/>
          </p:nvSpPr>
          <p:spPr>
            <a:xfrm>
              <a:off x="7384680" y="1783080"/>
              <a:ext cx="217080" cy="319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17193" h="320032">
                  <a:moveTo>
                    <a:pt x="0" y="60951"/>
                  </a:moveTo>
                  <a:lnTo>
                    <a:pt x="0" y="56906"/>
                  </a:lnTo>
                  <a:lnTo>
                    <a:pt x="847" y="55714"/>
                  </a:lnTo>
                  <a:lnTo>
                    <a:pt x="2258" y="54920"/>
                  </a:lnTo>
                  <a:lnTo>
                    <a:pt x="6562" y="53645"/>
                  </a:lnTo>
                  <a:lnTo>
                    <a:pt x="6914" y="52694"/>
                  </a:lnTo>
                  <a:lnTo>
                    <a:pt x="7307" y="49379"/>
                  </a:lnTo>
                  <a:lnTo>
                    <a:pt x="8257" y="48156"/>
                  </a:lnTo>
                  <a:lnTo>
                    <a:pt x="9738" y="47341"/>
                  </a:lnTo>
                  <a:lnTo>
                    <a:pt x="11572" y="46798"/>
                  </a:lnTo>
                  <a:lnTo>
                    <a:pt x="15868" y="43936"/>
                  </a:lnTo>
                  <a:lnTo>
                    <a:pt x="21446" y="39842"/>
                  </a:lnTo>
                  <a:lnTo>
                    <a:pt x="25305" y="37565"/>
                  </a:lnTo>
                  <a:lnTo>
                    <a:pt x="29570" y="35201"/>
                  </a:lnTo>
                  <a:lnTo>
                    <a:pt x="34106" y="33624"/>
                  </a:lnTo>
                  <a:lnTo>
                    <a:pt x="38825" y="32573"/>
                  </a:lnTo>
                  <a:lnTo>
                    <a:pt x="43663" y="31873"/>
                  </a:lnTo>
                  <a:lnTo>
                    <a:pt x="48583" y="30559"/>
                  </a:lnTo>
                  <a:lnTo>
                    <a:pt x="53555" y="28836"/>
                  </a:lnTo>
                  <a:lnTo>
                    <a:pt x="58563" y="26841"/>
                  </a:lnTo>
                  <a:lnTo>
                    <a:pt x="65289" y="25511"/>
                  </a:lnTo>
                  <a:lnTo>
                    <a:pt x="73159" y="24624"/>
                  </a:lnTo>
                  <a:lnTo>
                    <a:pt x="81792" y="24033"/>
                  </a:lnTo>
                  <a:lnTo>
                    <a:pt x="90089" y="22793"/>
                  </a:lnTo>
                  <a:lnTo>
                    <a:pt x="98159" y="21119"/>
                  </a:lnTo>
                  <a:lnTo>
                    <a:pt x="106079" y="19156"/>
                  </a:lnTo>
                  <a:lnTo>
                    <a:pt x="113900" y="17001"/>
                  </a:lnTo>
                  <a:lnTo>
                    <a:pt x="129362" y="12349"/>
                  </a:lnTo>
                  <a:lnTo>
                    <a:pt x="137041" y="10770"/>
                  </a:lnTo>
                  <a:lnTo>
                    <a:pt x="144701" y="9717"/>
                  </a:lnTo>
                  <a:lnTo>
                    <a:pt x="152347" y="9015"/>
                  </a:lnTo>
                  <a:lnTo>
                    <a:pt x="159985" y="7700"/>
                  </a:lnTo>
                  <a:lnTo>
                    <a:pt x="167617" y="5977"/>
                  </a:lnTo>
                  <a:lnTo>
                    <a:pt x="175245" y="3982"/>
                  </a:lnTo>
                  <a:lnTo>
                    <a:pt x="181176" y="2652"/>
                  </a:lnTo>
                  <a:lnTo>
                    <a:pt x="185977" y="1765"/>
                  </a:lnTo>
                  <a:lnTo>
                    <a:pt x="190025" y="1174"/>
                  </a:lnTo>
                  <a:lnTo>
                    <a:pt x="194417" y="779"/>
                  </a:lnTo>
                  <a:lnTo>
                    <a:pt x="199039" y="517"/>
                  </a:lnTo>
                  <a:lnTo>
                    <a:pt x="210532" y="95"/>
                  </a:lnTo>
                  <a:lnTo>
                    <a:pt x="217192" y="12"/>
                  </a:lnTo>
                  <a:lnTo>
                    <a:pt x="215627" y="0"/>
                  </a:lnTo>
                  <a:lnTo>
                    <a:pt x="214872" y="844"/>
                  </a:lnTo>
                  <a:lnTo>
                    <a:pt x="214369" y="2253"/>
                  </a:lnTo>
                  <a:lnTo>
                    <a:pt x="214031" y="4039"/>
                  </a:lnTo>
                  <a:lnTo>
                    <a:pt x="211401" y="8281"/>
                  </a:lnTo>
                  <a:lnTo>
                    <a:pt x="205160" y="15430"/>
                  </a:lnTo>
                  <a:lnTo>
                    <a:pt x="202813" y="17904"/>
                  </a:lnTo>
                  <a:lnTo>
                    <a:pt x="197948" y="27425"/>
                  </a:lnTo>
                  <a:lnTo>
                    <a:pt x="195465" y="33521"/>
                  </a:lnTo>
                  <a:lnTo>
                    <a:pt x="191270" y="39277"/>
                  </a:lnTo>
                  <a:lnTo>
                    <a:pt x="185934" y="44809"/>
                  </a:lnTo>
                  <a:lnTo>
                    <a:pt x="179836" y="50190"/>
                  </a:lnTo>
                  <a:lnTo>
                    <a:pt x="174925" y="56317"/>
                  </a:lnTo>
                  <a:lnTo>
                    <a:pt x="170803" y="62942"/>
                  </a:lnTo>
                  <a:lnTo>
                    <a:pt x="154060" y="95869"/>
                  </a:lnTo>
                  <a:lnTo>
                    <a:pt x="149273" y="104550"/>
                  </a:lnTo>
                  <a:lnTo>
                    <a:pt x="144389" y="112877"/>
                  </a:lnTo>
                  <a:lnTo>
                    <a:pt x="139439" y="120968"/>
                  </a:lnTo>
                  <a:lnTo>
                    <a:pt x="134446" y="129749"/>
                  </a:lnTo>
                  <a:lnTo>
                    <a:pt x="124383" y="148537"/>
                  </a:lnTo>
                  <a:lnTo>
                    <a:pt x="120175" y="157442"/>
                  </a:lnTo>
                  <a:lnTo>
                    <a:pt x="116523" y="165918"/>
                  </a:lnTo>
                  <a:lnTo>
                    <a:pt x="113242" y="174109"/>
                  </a:lnTo>
                  <a:lnTo>
                    <a:pt x="110208" y="182956"/>
                  </a:lnTo>
                  <a:lnTo>
                    <a:pt x="107339" y="192241"/>
                  </a:lnTo>
                  <a:lnTo>
                    <a:pt x="101893" y="210742"/>
                  </a:lnTo>
                  <a:lnTo>
                    <a:pt x="96650" y="227432"/>
                  </a:lnTo>
                  <a:lnTo>
                    <a:pt x="94067" y="234592"/>
                  </a:lnTo>
                  <a:lnTo>
                    <a:pt x="91498" y="241058"/>
                  </a:lnTo>
                  <a:lnTo>
                    <a:pt x="88939" y="247062"/>
                  </a:lnTo>
                  <a:lnTo>
                    <a:pt x="87233" y="253605"/>
                  </a:lnTo>
                  <a:lnTo>
                    <a:pt x="86094" y="260507"/>
                  </a:lnTo>
                  <a:lnTo>
                    <a:pt x="85336" y="267649"/>
                  </a:lnTo>
                  <a:lnTo>
                    <a:pt x="84832" y="274103"/>
                  </a:lnTo>
                  <a:lnTo>
                    <a:pt x="84494" y="280099"/>
                  </a:lnTo>
                  <a:lnTo>
                    <a:pt x="84019" y="294370"/>
                  </a:lnTo>
                  <a:lnTo>
                    <a:pt x="83832" y="310742"/>
                  </a:lnTo>
                  <a:lnTo>
                    <a:pt x="83820" y="3200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MARTInkAnnotation68"/>
            <p:cNvSpPr/>
            <p:nvPr/>
          </p:nvSpPr>
          <p:spPr>
            <a:xfrm>
              <a:off x="7399800" y="1943280"/>
              <a:ext cx="289440" cy="3024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89561" h="30481">
                  <a:moveTo>
                    <a:pt x="0" y="30480"/>
                  </a:moveTo>
                  <a:lnTo>
                    <a:pt x="8090" y="26435"/>
                  </a:lnTo>
                  <a:lnTo>
                    <a:pt x="11320" y="25243"/>
                  </a:lnTo>
                  <a:lnTo>
                    <a:pt x="14320" y="24449"/>
                  </a:lnTo>
                  <a:lnTo>
                    <a:pt x="19911" y="23566"/>
                  </a:lnTo>
                  <a:lnTo>
                    <a:pt x="25218" y="23174"/>
                  </a:lnTo>
                  <a:lnTo>
                    <a:pt x="28665" y="22223"/>
                  </a:lnTo>
                  <a:lnTo>
                    <a:pt x="32656" y="20742"/>
                  </a:lnTo>
                  <a:lnTo>
                    <a:pt x="37011" y="18908"/>
                  </a:lnTo>
                  <a:lnTo>
                    <a:pt x="43300" y="17685"/>
                  </a:lnTo>
                  <a:lnTo>
                    <a:pt x="50880" y="16870"/>
                  </a:lnTo>
                  <a:lnTo>
                    <a:pt x="59319" y="16327"/>
                  </a:lnTo>
                  <a:lnTo>
                    <a:pt x="68333" y="15118"/>
                  </a:lnTo>
                  <a:lnTo>
                    <a:pt x="77728" y="13465"/>
                  </a:lnTo>
                  <a:lnTo>
                    <a:pt x="87378" y="11517"/>
                  </a:lnTo>
                  <a:lnTo>
                    <a:pt x="97199" y="10218"/>
                  </a:lnTo>
                  <a:lnTo>
                    <a:pt x="107133" y="9352"/>
                  </a:lnTo>
                  <a:lnTo>
                    <a:pt x="117141" y="8775"/>
                  </a:lnTo>
                  <a:lnTo>
                    <a:pt x="139552" y="8133"/>
                  </a:lnTo>
                  <a:lnTo>
                    <a:pt x="151454" y="7962"/>
                  </a:lnTo>
                  <a:lnTo>
                    <a:pt x="163623" y="7002"/>
                  </a:lnTo>
                  <a:lnTo>
                    <a:pt x="175968" y="5514"/>
                  </a:lnTo>
                  <a:lnTo>
                    <a:pt x="188432" y="3676"/>
                  </a:lnTo>
                  <a:lnTo>
                    <a:pt x="199281" y="2451"/>
                  </a:lnTo>
                  <a:lnTo>
                    <a:pt x="209054" y="1634"/>
                  </a:lnTo>
                  <a:lnTo>
                    <a:pt x="218109" y="1089"/>
                  </a:lnTo>
                  <a:lnTo>
                    <a:pt x="237201" y="484"/>
                  </a:lnTo>
                  <a:lnTo>
                    <a:pt x="2895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MARTInkAnnotation69"/>
            <p:cNvSpPr/>
            <p:nvPr/>
          </p:nvSpPr>
          <p:spPr>
            <a:xfrm>
              <a:off x="7872120" y="1958400"/>
              <a:ext cx="190440" cy="15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0501" h="15241">
                  <a:moveTo>
                    <a:pt x="0" y="15240"/>
                  </a:moveTo>
                  <a:lnTo>
                    <a:pt x="17913" y="15240"/>
                  </a:lnTo>
                  <a:lnTo>
                    <a:pt x="22102" y="14393"/>
                  </a:lnTo>
                  <a:lnTo>
                    <a:pt x="27434" y="12983"/>
                  </a:lnTo>
                  <a:lnTo>
                    <a:pt x="33529" y="11195"/>
                  </a:lnTo>
                  <a:lnTo>
                    <a:pt x="40132" y="10003"/>
                  </a:lnTo>
                  <a:lnTo>
                    <a:pt x="47075" y="9209"/>
                  </a:lnTo>
                  <a:lnTo>
                    <a:pt x="54243" y="8679"/>
                  </a:lnTo>
                  <a:lnTo>
                    <a:pt x="62409" y="8326"/>
                  </a:lnTo>
                  <a:lnTo>
                    <a:pt x="80512" y="7934"/>
                  </a:lnTo>
                  <a:lnTo>
                    <a:pt x="109745" y="7713"/>
                  </a:lnTo>
                  <a:lnTo>
                    <a:pt x="118884" y="6836"/>
                  </a:lnTo>
                  <a:lnTo>
                    <a:pt x="127516" y="5404"/>
                  </a:lnTo>
                  <a:lnTo>
                    <a:pt x="135810" y="3602"/>
                  </a:lnTo>
                  <a:lnTo>
                    <a:pt x="144727" y="2402"/>
                  </a:lnTo>
                  <a:lnTo>
                    <a:pt x="154058" y="1601"/>
                  </a:lnTo>
                  <a:lnTo>
                    <a:pt x="176598" y="475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MARTInkAnnotation70"/>
            <p:cNvSpPr/>
            <p:nvPr/>
          </p:nvSpPr>
          <p:spPr>
            <a:xfrm>
              <a:off x="8139600" y="1799280"/>
              <a:ext cx="250560" cy="150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665" h="150895">
                  <a:moveTo>
                    <a:pt x="98264" y="6561"/>
                  </a:moveTo>
                  <a:lnTo>
                    <a:pt x="98264" y="0"/>
                  </a:lnTo>
                  <a:lnTo>
                    <a:pt x="98264" y="3300"/>
                  </a:lnTo>
                  <a:lnTo>
                    <a:pt x="97417" y="4387"/>
                  </a:lnTo>
                  <a:lnTo>
                    <a:pt x="96006" y="5112"/>
                  </a:lnTo>
                  <a:lnTo>
                    <a:pt x="94218" y="5595"/>
                  </a:lnTo>
                  <a:lnTo>
                    <a:pt x="89975" y="8390"/>
                  </a:lnTo>
                  <a:lnTo>
                    <a:pt x="85267" y="12454"/>
                  </a:lnTo>
                  <a:lnTo>
                    <a:pt x="80352" y="17082"/>
                  </a:lnTo>
                  <a:lnTo>
                    <a:pt x="68779" y="28493"/>
                  </a:lnTo>
                  <a:lnTo>
                    <a:pt x="65061" y="33036"/>
                  </a:lnTo>
                  <a:lnTo>
                    <a:pt x="61735" y="37758"/>
                  </a:lnTo>
                  <a:lnTo>
                    <a:pt x="58671" y="42599"/>
                  </a:lnTo>
                  <a:lnTo>
                    <a:pt x="54935" y="47520"/>
                  </a:lnTo>
                  <a:lnTo>
                    <a:pt x="50751" y="52493"/>
                  </a:lnTo>
                  <a:lnTo>
                    <a:pt x="46269" y="57503"/>
                  </a:lnTo>
                  <a:lnTo>
                    <a:pt x="36773" y="67584"/>
                  </a:lnTo>
                  <a:lnTo>
                    <a:pt x="31870" y="72643"/>
                  </a:lnTo>
                  <a:lnTo>
                    <a:pt x="27755" y="77709"/>
                  </a:lnTo>
                  <a:lnTo>
                    <a:pt x="24164" y="82780"/>
                  </a:lnTo>
                  <a:lnTo>
                    <a:pt x="20924" y="87853"/>
                  </a:lnTo>
                  <a:lnTo>
                    <a:pt x="17071" y="92929"/>
                  </a:lnTo>
                  <a:lnTo>
                    <a:pt x="12808" y="98007"/>
                  </a:lnTo>
                  <a:lnTo>
                    <a:pt x="8274" y="103085"/>
                  </a:lnTo>
                  <a:lnTo>
                    <a:pt x="5250" y="107317"/>
                  </a:lnTo>
                  <a:lnTo>
                    <a:pt x="3235" y="110985"/>
                  </a:lnTo>
                  <a:lnTo>
                    <a:pt x="1891" y="114277"/>
                  </a:lnTo>
                  <a:lnTo>
                    <a:pt x="995" y="117318"/>
                  </a:lnTo>
                  <a:lnTo>
                    <a:pt x="398" y="120193"/>
                  </a:lnTo>
                  <a:lnTo>
                    <a:pt x="0" y="122955"/>
                  </a:lnTo>
                  <a:lnTo>
                    <a:pt x="1428" y="125644"/>
                  </a:lnTo>
                  <a:lnTo>
                    <a:pt x="4073" y="128283"/>
                  </a:lnTo>
                  <a:lnTo>
                    <a:pt x="7530" y="130889"/>
                  </a:lnTo>
                  <a:lnTo>
                    <a:pt x="11528" y="133473"/>
                  </a:lnTo>
                  <a:lnTo>
                    <a:pt x="15887" y="136042"/>
                  </a:lnTo>
                  <a:lnTo>
                    <a:pt x="20485" y="138602"/>
                  </a:lnTo>
                  <a:lnTo>
                    <a:pt x="26938" y="141155"/>
                  </a:lnTo>
                  <a:lnTo>
                    <a:pt x="34626" y="143704"/>
                  </a:lnTo>
                  <a:lnTo>
                    <a:pt x="43139" y="146250"/>
                  </a:lnTo>
                  <a:lnTo>
                    <a:pt x="51354" y="147947"/>
                  </a:lnTo>
                  <a:lnTo>
                    <a:pt x="59371" y="149078"/>
                  </a:lnTo>
                  <a:lnTo>
                    <a:pt x="67256" y="149832"/>
                  </a:lnTo>
                  <a:lnTo>
                    <a:pt x="77591" y="150335"/>
                  </a:lnTo>
                  <a:lnTo>
                    <a:pt x="102622" y="150894"/>
                  </a:lnTo>
                  <a:lnTo>
                    <a:pt x="115563" y="150196"/>
                  </a:lnTo>
                  <a:lnTo>
                    <a:pt x="128423" y="148885"/>
                  </a:lnTo>
                  <a:lnTo>
                    <a:pt x="141229" y="147163"/>
                  </a:lnTo>
                  <a:lnTo>
                    <a:pt x="152308" y="146016"/>
                  </a:lnTo>
                  <a:lnTo>
                    <a:pt x="162234" y="145251"/>
                  </a:lnTo>
                  <a:lnTo>
                    <a:pt x="171390" y="144741"/>
                  </a:lnTo>
                  <a:lnTo>
                    <a:pt x="180881" y="142708"/>
                  </a:lnTo>
                  <a:lnTo>
                    <a:pt x="190596" y="139659"/>
                  </a:lnTo>
                  <a:lnTo>
                    <a:pt x="209573" y="132602"/>
                  </a:lnTo>
                  <a:lnTo>
                    <a:pt x="226474" y="126644"/>
                  </a:lnTo>
                  <a:lnTo>
                    <a:pt x="232845" y="123870"/>
                  </a:lnTo>
                  <a:lnTo>
                    <a:pt x="237937" y="121173"/>
                  </a:lnTo>
                  <a:lnTo>
                    <a:pt x="250664" y="1132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MARTInkAnnotation71"/>
            <p:cNvSpPr/>
            <p:nvPr/>
          </p:nvSpPr>
          <p:spPr>
            <a:xfrm>
              <a:off x="8322480" y="1806120"/>
              <a:ext cx="75600" cy="266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75654" h="266701">
                  <a:moveTo>
                    <a:pt x="75653" y="0"/>
                  </a:moveTo>
                  <a:lnTo>
                    <a:pt x="75653" y="18133"/>
                  </a:lnTo>
                  <a:lnTo>
                    <a:pt x="73394" y="25275"/>
                  </a:lnTo>
                  <a:lnTo>
                    <a:pt x="71608" y="29550"/>
                  </a:lnTo>
                  <a:lnTo>
                    <a:pt x="69570" y="34093"/>
                  </a:lnTo>
                  <a:lnTo>
                    <a:pt x="65047" y="43657"/>
                  </a:lnTo>
                  <a:lnTo>
                    <a:pt x="62655" y="49425"/>
                  </a:lnTo>
                  <a:lnTo>
                    <a:pt x="60215" y="55810"/>
                  </a:lnTo>
                  <a:lnTo>
                    <a:pt x="55245" y="69678"/>
                  </a:lnTo>
                  <a:lnTo>
                    <a:pt x="50214" y="84308"/>
                  </a:lnTo>
                  <a:lnTo>
                    <a:pt x="46840" y="91765"/>
                  </a:lnTo>
                  <a:lnTo>
                    <a:pt x="42898" y="99277"/>
                  </a:lnTo>
                  <a:lnTo>
                    <a:pt x="38576" y="106824"/>
                  </a:lnTo>
                  <a:lnTo>
                    <a:pt x="34848" y="115243"/>
                  </a:lnTo>
                  <a:lnTo>
                    <a:pt x="31516" y="124242"/>
                  </a:lnTo>
                  <a:lnTo>
                    <a:pt x="28448" y="133628"/>
                  </a:lnTo>
                  <a:lnTo>
                    <a:pt x="24710" y="142425"/>
                  </a:lnTo>
                  <a:lnTo>
                    <a:pt x="20524" y="150830"/>
                  </a:lnTo>
                  <a:lnTo>
                    <a:pt x="16041" y="158974"/>
                  </a:lnTo>
                  <a:lnTo>
                    <a:pt x="12204" y="166942"/>
                  </a:lnTo>
                  <a:lnTo>
                    <a:pt x="8801" y="174795"/>
                  </a:lnTo>
                  <a:lnTo>
                    <a:pt x="5685" y="182570"/>
                  </a:lnTo>
                  <a:lnTo>
                    <a:pt x="3608" y="189447"/>
                  </a:lnTo>
                  <a:lnTo>
                    <a:pt x="2223" y="195724"/>
                  </a:lnTo>
                  <a:lnTo>
                    <a:pt x="1300" y="201603"/>
                  </a:lnTo>
                  <a:lnTo>
                    <a:pt x="683" y="207215"/>
                  </a:lnTo>
                  <a:lnTo>
                    <a:pt x="274" y="212650"/>
                  </a:lnTo>
                  <a:lnTo>
                    <a:pt x="0" y="217967"/>
                  </a:lnTo>
                  <a:lnTo>
                    <a:pt x="665" y="223204"/>
                  </a:lnTo>
                  <a:lnTo>
                    <a:pt x="1954" y="228390"/>
                  </a:lnTo>
                  <a:lnTo>
                    <a:pt x="3660" y="233540"/>
                  </a:lnTo>
                  <a:lnTo>
                    <a:pt x="5644" y="237820"/>
                  </a:lnTo>
                  <a:lnTo>
                    <a:pt x="7813" y="241520"/>
                  </a:lnTo>
                  <a:lnTo>
                    <a:pt x="10107" y="244833"/>
                  </a:lnTo>
                  <a:lnTo>
                    <a:pt x="13329" y="247889"/>
                  </a:lnTo>
                  <a:lnTo>
                    <a:pt x="17170" y="250772"/>
                  </a:lnTo>
                  <a:lnTo>
                    <a:pt x="21425" y="253542"/>
                  </a:lnTo>
                  <a:lnTo>
                    <a:pt x="25107" y="256234"/>
                  </a:lnTo>
                  <a:lnTo>
                    <a:pt x="28410" y="258876"/>
                  </a:lnTo>
                  <a:lnTo>
                    <a:pt x="31457" y="261484"/>
                  </a:lnTo>
                  <a:lnTo>
                    <a:pt x="34336" y="263223"/>
                  </a:lnTo>
                  <a:lnTo>
                    <a:pt x="37102" y="264381"/>
                  </a:lnTo>
                  <a:lnTo>
                    <a:pt x="45173" y="2667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MARTInkAnnotation72"/>
            <p:cNvSpPr/>
            <p:nvPr/>
          </p:nvSpPr>
          <p:spPr>
            <a:xfrm>
              <a:off x="8484840" y="1943640"/>
              <a:ext cx="324720" cy="174600"/>
            </a:xfrm>
            <a:custGeom>
              <a:avLst/>
              <a:gdLst>
                <a:gd name="textAreaLeft" fmla="*/ 0 w 324720"/>
                <a:gd name="textAreaRight" fmla="*/ 324720 w 3247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24726" h="174916">
                  <a:moveTo>
                    <a:pt x="96125" y="37755"/>
                  </a:moveTo>
                  <a:lnTo>
                    <a:pt x="100171" y="33710"/>
                  </a:lnTo>
                  <a:lnTo>
                    <a:pt x="102209" y="32518"/>
                  </a:lnTo>
                  <a:lnTo>
                    <a:pt x="109992" y="30449"/>
                  </a:lnTo>
                  <a:lnTo>
                    <a:pt x="115004" y="26183"/>
                  </a:lnTo>
                  <a:lnTo>
                    <a:pt x="119474" y="21887"/>
                  </a:lnTo>
                  <a:lnTo>
                    <a:pt x="133042" y="8455"/>
                  </a:lnTo>
                  <a:lnTo>
                    <a:pt x="132591" y="7215"/>
                  </a:lnTo>
                  <a:lnTo>
                    <a:pt x="128754" y="2271"/>
                  </a:lnTo>
                  <a:lnTo>
                    <a:pt x="127561" y="818"/>
                  </a:lnTo>
                  <a:lnTo>
                    <a:pt x="118798" y="0"/>
                  </a:lnTo>
                  <a:lnTo>
                    <a:pt x="113780" y="731"/>
                  </a:lnTo>
                  <a:lnTo>
                    <a:pt x="107895" y="2066"/>
                  </a:lnTo>
                  <a:lnTo>
                    <a:pt x="101432" y="3802"/>
                  </a:lnTo>
                  <a:lnTo>
                    <a:pt x="95430" y="5807"/>
                  </a:lnTo>
                  <a:lnTo>
                    <a:pt x="89735" y="7989"/>
                  </a:lnTo>
                  <a:lnTo>
                    <a:pt x="84245" y="10291"/>
                  </a:lnTo>
                  <a:lnTo>
                    <a:pt x="78045" y="12673"/>
                  </a:lnTo>
                  <a:lnTo>
                    <a:pt x="64383" y="17576"/>
                  </a:lnTo>
                  <a:lnTo>
                    <a:pt x="57184" y="20916"/>
                  </a:lnTo>
                  <a:lnTo>
                    <a:pt x="49844" y="24836"/>
                  </a:lnTo>
                  <a:lnTo>
                    <a:pt x="42412" y="29142"/>
                  </a:lnTo>
                  <a:lnTo>
                    <a:pt x="35763" y="33706"/>
                  </a:lnTo>
                  <a:lnTo>
                    <a:pt x="29637" y="38442"/>
                  </a:lnTo>
                  <a:lnTo>
                    <a:pt x="23859" y="43293"/>
                  </a:lnTo>
                  <a:lnTo>
                    <a:pt x="18315" y="48221"/>
                  </a:lnTo>
                  <a:lnTo>
                    <a:pt x="7639" y="58211"/>
                  </a:lnTo>
                  <a:lnTo>
                    <a:pt x="4115" y="63245"/>
                  </a:lnTo>
                  <a:lnTo>
                    <a:pt x="1765" y="68296"/>
                  </a:lnTo>
                  <a:lnTo>
                    <a:pt x="199" y="73355"/>
                  </a:lnTo>
                  <a:lnTo>
                    <a:pt x="0" y="78422"/>
                  </a:lnTo>
                  <a:lnTo>
                    <a:pt x="716" y="83493"/>
                  </a:lnTo>
                  <a:lnTo>
                    <a:pt x="2040" y="88567"/>
                  </a:lnTo>
                  <a:lnTo>
                    <a:pt x="4615" y="93643"/>
                  </a:lnTo>
                  <a:lnTo>
                    <a:pt x="8025" y="98720"/>
                  </a:lnTo>
                  <a:lnTo>
                    <a:pt x="11993" y="103799"/>
                  </a:lnTo>
                  <a:lnTo>
                    <a:pt x="16330" y="108031"/>
                  </a:lnTo>
                  <a:lnTo>
                    <a:pt x="20915" y="111699"/>
                  </a:lnTo>
                  <a:lnTo>
                    <a:pt x="25666" y="114991"/>
                  </a:lnTo>
                  <a:lnTo>
                    <a:pt x="31373" y="118032"/>
                  </a:lnTo>
                  <a:lnTo>
                    <a:pt x="37717" y="120907"/>
                  </a:lnTo>
                  <a:lnTo>
                    <a:pt x="44486" y="123670"/>
                  </a:lnTo>
                  <a:lnTo>
                    <a:pt x="51540" y="125511"/>
                  </a:lnTo>
                  <a:lnTo>
                    <a:pt x="58781" y="126739"/>
                  </a:lnTo>
                  <a:lnTo>
                    <a:pt x="66150" y="127558"/>
                  </a:lnTo>
                  <a:lnTo>
                    <a:pt x="73601" y="128104"/>
                  </a:lnTo>
                  <a:lnTo>
                    <a:pt x="81110" y="128467"/>
                  </a:lnTo>
                  <a:lnTo>
                    <a:pt x="96225" y="128872"/>
                  </a:lnTo>
                  <a:lnTo>
                    <a:pt x="111409" y="129052"/>
                  </a:lnTo>
                  <a:lnTo>
                    <a:pt x="118168" y="128253"/>
                  </a:lnTo>
                  <a:lnTo>
                    <a:pt x="124368" y="126873"/>
                  </a:lnTo>
                  <a:lnTo>
                    <a:pt x="136617" y="123083"/>
                  </a:lnTo>
                  <a:lnTo>
                    <a:pt x="150529" y="118576"/>
                  </a:lnTo>
                  <a:lnTo>
                    <a:pt x="156101" y="115343"/>
                  </a:lnTo>
                  <a:lnTo>
                    <a:pt x="160662" y="111494"/>
                  </a:lnTo>
                  <a:lnTo>
                    <a:pt x="164550" y="107234"/>
                  </a:lnTo>
                  <a:lnTo>
                    <a:pt x="167988" y="102701"/>
                  </a:lnTo>
                  <a:lnTo>
                    <a:pt x="171127" y="97986"/>
                  </a:lnTo>
                  <a:lnTo>
                    <a:pt x="174066" y="93149"/>
                  </a:lnTo>
                  <a:lnTo>
                    <a:pt x="176872" y="89077"/>
                  </a:lnTo>
                  <a:lnTo>
                    <a:pt x="179591" y="85517"/>
                  </a:lnTo>
                  <a:lnTo>
                    <a:pt x="182248" y="82296"/>
                  </a:lnTo>
                  <a:lnTo>
                    <a:pt x="184867" y="79302"/>
                  </a:lnTo>
                  <a:lnTo>
                    <a:pt x="187460" y="76460"/>
                  </a:lnTo>
                  <a:lnTo>
                    <a:pt x="190034" y="73719"/>
                  </a:lnTo>
                  <a:lnTo>
                    <a:pt x="192599" y="71891"/>
                  </a:lnTo>
                  <a:lnTo>
                    <a:pt x="202358" y="68378"/>
                  </a:lnTo>
                  <a:lnTo>
                    <a:pt x="196205" y="68248"/>
                  </a:lnTo>
                  <a:lnTo>
                    <a:pt x="195865" y="69090"/>
                  </a:lnTo>
                  <a:lnTo>
                    <a:pt x="195488" y="72284"/>
                  </a:lnTo>
                  <a:lnTo>
                    <a:pt x="194540" y="74321"/>
                  </a:lnTo>
                  <a:lnTo>
                    <a:pt x="191230" y="78842"/>
                  </a:lnTo>
                  <a:lnTo>
                    <a:pt x="190008" y="81233"/>
                  </a:lnTo>
                  <a:lnTo>
                    <a:pt x="188651" y="86147"/>
                  </a:lnTo>
                  <a:lnTo>
                    <a:pt x="189135" y="88643"/>
                  </a:lnTo>
                  <a:lnTo>
                    <a:pt x="191932" y="93674"/>
                  </a:lnTo>
                  <a:lnTo>
                    <a:pt x="193864" y="97048"/>
                  </a:lnTo>
                  <a:lnTo>
                    <a:pt x="198267" y="105312"/>
                  </a:lnTo>
                  <a:lnTo>
                    <a:pt x="200626" y="109040"/>
                  </a:lnTo>
                  <a:lnTo>
                    <a:pt x="203046" y="112371"/>
                  </a:lnTo>
                  <a:lnTo>
                    <a:pt x="205506" y="115439"/>
                  </a:lnTo>
                  <a:lnTo>
                    <a:pt x="208840" y="119178"/>
                  </a:lnTo>
                  <a:lnTo>
                    <a:pt x="217058" y="127848"/>
                  </a:lnTo>
                  <a:lnTo>
                    <a:pt x="221621" y="131683"/>
                  </a:lnTo>
                  <a:lnTo>
                    <a:pt x="226356" y="135087"/>
                  </a:lnTo>
                  <a:lnTo>
                    <a:pt x="231205" y="138203"/>
                  </a:lnTo>
                  <a:lnTo>
                    <a:pt x="236132" y="141127"/>
                  </a:lnTo>
                  <a:lnTo>
                    <a:pt x="241110" y="143923"/>
                  </a:lnTo>
                  <a:lnTo>
                    <a:pt x="246122" y="146634"/>
                  </a:lnTo>
                  <a:lnTo>
                    <a:pt x="252849" y="148441"/>
                  </a:lnTo>
                  <a:lnTo>
                    <a:pt x="260722" y="149646"/>
                  </a:lnTo>
                  <a:lnTo>
                    <a:pt x="269356" y="150449"/>
                  </a:lnTo>
                  <a:lnTo>
                    <a:pt x="277652" y="151831"/>
                  </a:lnTo>
                  <a:lnTo>
                    <a:pt x="285722" y="153599"/>
                  </a:lnTo>
                  <a:lnTo>
                    <a:pt x="293643" y="155625"/>
                  </a:lnTo>
                  <a:lnTo>
                    <a:pt x="299771" y="157821"/>
                  </a:lnTo>
                  <a:lnTo>
                    <a:pt x="308837" y="162520"/>
                  </a:lnTo>
                  <a:lnTo>
                    <a:pt x="315687" y="167431"/>
                  </a:lnTo>
                  <a:lnTo>
                    <a:pt x="324725" y="1749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MARTInkAnnotation73"/>
            <p:cNvSpPr/>
            <p:nvPr/>
          </p:nvSpPr>
          <p:spPr>
            <a:xfrm>
              <a:off x="7742880" y="1661400"/>
              <a:ext cx="1283760" cy="684360"/>
            </a:xfrm>
            <a:custGeom>
              <a:avLst/>
              <a:gdLst>
                <a:gd name="textAreaLeft" fmla="*/ 0 w 1283760"/>
                <a:gd name="textAreaRight" fmla="*/ 1284120 w 12837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284100" h="684610">
                  <a:moveTo>
                    <a:pt x="114296" y="0"/>
                  </a:moveTo>
                  <a:lnTo>
                    <a:pt x="114296" y="47683"/>
                  </a:lnTo>
                  <a:lnTo>
                    <a:pt x="112603" y="53802"/>
                  </a:lnTo>
                  <a:lnTo>
                    <a:pt x="103822" y="72198"/>
                  </a:lnTo>
                  <a:lnTo>
                    <a:pt x="99621" y="97498"/>
                  </a:lnTo>
                  <a:lnTo>
                    <a:pt x="95639" y="113606"/>
                  </a:lnTo>
                  <a:lnTo>
                    <a:pt x="93304" y="129232"/>
                  </a:lnTo>
                  <a:lnTo>
                    <a:pt x="91420" y="145490"/>
                  </a:lnTo>
                  <a:lnTo>
                    <a:pt x="87760" y="164004"/>
                  </a:lnTo>
                  <a:lnTo>
                    <a:pt x="81054" y="183522"/>
                  </a:lnTo>
                  <a:lnTo>
                    <a:pt x="74121" y="203485"/>
                  </a:lnTo>
                  <a:lnTo>
                    <a:pt x="71040" y="223647"/>
                  </a:lnTo>
                  <a:lnTo>
                    <a:pt x="65156" y="243897"/>
                  </a:lnTo>
                  <a:lnTo>
                    <a:pt x="58589" y="264185"/>
                  </a:lnTo>
                  <a:lnTo>
                    <a:pt x="55671" y="284491"/>
                  </a:lnTo>
                  <a:lnTo>
                    <a:pt x="54046" y="295494"/>
                  </a:lnTo>
                  <a:lnTo>
                    <a:pt x="49983" y="319008"/>
                  </a:lnTo>
                  <a:lnTo>
                    <a:pt x="45355" y="339055"/>
                  </a:lnTo>
                  <a:lnTo>
                    <a:pt x="40475" y="358125"/>
                  </a:lnTo>
                  <a:lnTo>
                    <a:pt x="35485" y="380711"/>
                  </a:lnTo>
                  <a:lnTo>
                    <a:pt x="32702" y="400345"/>
                  </a:lnTo>
                  <a:lnTo>
                    <a:pt x="30619" y="418384"/>
                  </a:lnTo>
                  <a:lnTo>
                    <a:pt x="26871" y="437691"/>
                  </a:lnTo>
                  <a:lnTo>
                    <a:pt x="22383" y="455303"/>
                  </a:lnTo>
                  <a:lnTo>
                    <a:pt x="18412" y="471597"/>
                  </a:lnTo>
                  <a:lnTo>
                    <a:pt x="16648" y="487305"/>
                  </a:lnTo>
                  <a:lnTo>
                    <a:pt x="11609" y="506384"/>
                  </a:lnTo>
                  <a:lnTo>
                    <a:pt x="4754" y="522761"/>
                  </a:lnTo>
                  <a:lnTo>
                    <a:pt x="2111" y="533187"/>
                  </a:lnTo>
                  <a:lnTo>
                    <a:pt x="274" y="552689"/>
                  </a:lnTo>
                  <a:lnTo>
                    <a:pt x="0" y="571042"/>
                  </a:lnTo>
                  <a:lnTo>
                    <a:pt x="4042" y="571364"/>
                  </a:lnTo>
                  <a:lnTo>
                    <a:pt x="6081" y="570563"/>
                  </a:lnTo>
                  <a:lnTo>
                    <a:pt x="36042" y="553585"/>
                  </a:lnTo>
                  <a:lnTo>
                    <a:pt x="69309" y="541002"/>
                  </a:lnTo>
                  <a:lnTo>
                    <a:pt x="107619" y="528318"/>
                  </a:lnTo>
                  <a:lnTo>
                    <a:pt x="135648" y="521546"/>
                  </a:lnTo>
                  <a:lnTo>
                    <a:pt x="175461" y="516571"/>
                  </a:lnTo>
                  <a:lnTo>
                    <a:pt x="205796" y="510069"/>
                  </a:lnTo>
                  <a:lnTo>
                    <a:pt x="238491" y="505038"/>
                  </a:lnTo>
                  <a:lnTo>
                    <a:pt x="274990" y="501290"/>
                  </a:lnTo>
                  <a:lnTo>
                    <a:pt x="310358" y="497075"/>
                  </a:lnTo>
                  <a:lnTo>
                    <a:pt x="344544" y="495826"/>
                  </a:lnTo>
                  <a:lnTo>
                    <a:pt x="381484" y="497714"/>
                  </a:lnTo>
                  <a:lnTo>
                    <a:pt x="421499" y="501378"/>
                  </a:lnTo>
                  <a:lnTo>
                    <a:pt x="449798" y="503081"/>
                  </a:lnTo>
                  <a:lnTo>
                    <a:pt x="476485" y="506661"/>
                  </a:lnTo>
                  <a:lnTo>
                    <a:pt x="519356" y="513436"/>
                  </a:lnTo>
                  <a:lnTo>
                    <a:pt x="546911" y="516061"/>
                  </a:lnTo>
                  <a:lnTo>
                    <a:pt x="586225" y="519796"/>
                  </a:lnTo>
                  <a:lnTo>
                    <a:pt x="612756" y="524814"/>
                  </a:lnTo>
                  <a:lnTo>
                    <a:pt x="641481" y="532688"/>
                  </a:lnTo>
                  <a:lnTo>
                    <a:pt x="671180" y="539575"/>
                  </a:lnTo>
                  <a:lnTo>
                    <a:pt x="701313" y="545458"/>
                  </a:lnTo>
                  <a:lnTo>
                    <a:pt x="731639" y="550895"/>
                  </a:lnTo>
                  <a:lnTo>
                    <a:pt x="759793" y="558391"/>
                  </a:lnTo>
                  <a:lnTo>
                    <a:pt x="787263" y="566520"/>
                  </a:lnTo>
                  <a:lnTo>
                    <a:pt x="816406" y="572956"/>
                  </a:lnTo>
                  <a:lnTo>
                    <a:pt x="844033" y="580896"/>
                  </a:lnTo>
                  <a:lnTo>
                    <a:pt x="883388" y="592629"/>
                  </a:lnTo>
                  <a:lnTo>
                    <a:pt x="921860" y="603725"/>
                  </a:lnTo>
                  <a:lnTo>
                    <a:pt x="960070" y="617737"/>
                  </a:lnTo>
                  <a:lnTo>
                    <a:pt x="993687" y="630356"/>
                  </a:lnTo>
                  <a:lnTo>
                    <a:pt x="1031847" y="642204"/>
                  </a:lnTo>
                  <a:lnTo>
                    <a:pt x="1076387" y="652698"/>
                  </a:lnTo>
                  <a:lnTo>
                    <a:pt x="1111400" y="662924"/>
                  </a:lnTo>
                  <a:lnTo>
                    <a:pt x="1149622" y="674791"/>
                  </a:lnTo>
                  <a:lnTo>
                    <a:pt x="1166502" y="678023"/>
                  </a:lnTo>
                  <a:lnTo>
                    <a:pt x="1178935" y="683120"/>
                  </a:lnTo>
                  <a:lnTo>
                    <a:pt x="1191142" y="684609"/>
                  </a:lnTo>
                  <a:lnTo>
                    <a:pt x="1196261" y="684159"/>
                  </a:lnTo>
                  <a:lnTo>
                    <a:pt x="1200519" y="683013"/>
                  </a:lnTo>
                  <a:lnTo>
                    <a:pt x="1207508" y="680328"/>
                  </a:lnTo>
                  <a:lnTo>
                    <a:pt x="1213436" y="679135"/>
                  </a:lnTo>
                  <a:lnTo>
                    <a:pt x="1218894" y="676347"/>
                  </a:lnTo>
                  <a:lnTo>
                    <a:pt x="1239505" y="657789"/>
                  </a:lnTo>
                  <a:lnTo>
                    <a:pt x="1247132" y="649372"/>
                  </a:lnTo>
                  <a:lnTo>
                    <a:pt x="1253908" y="637377"/>
                  </a:lnTo>
                  <a:lnTo>
                    <a:pt x="1260894" y="618568"/>
                  </a:lnTo>
                  <a:lnTo>
                    <a:pt x="1263129" y="609070"/>
                  </a:lnTo>
                  <a:lnTo>
                    <a:pt x="1266644" y="591945"/>
                  </a:lnTo>
                  <a:lnTo>
                    <a:pt x="1270791" y="573042"/>
                  </a:lnTo>
                  <a:lnTo>
                    <a:pt x="1274276" y="554459"/>
                  </a:lnTo>
                  <a:lnTo>
                    <a:pt x="1277543" y="540220"/>
                  </a:lnTo>
                  <a:lnTo>
                    <a:pt x="1278994" y="525425"/>
                  </a:lnTo>
                  <a:lnTo>
                    <a:pt x="1279639" y="510382"/>
                  </a:lnTo>
                  <a:lnTo>
                    <a:pt x="1280773" y="495230"/>
                  </a:lnTo>
                  <a:lnTo>
                    <a:pt x="1284099" y="480029"/>
                  </a:lnTo>
                  <a:lnTo>
                    <a:pt x="1283883" y="462549"/>
                  </a:lnTo>
                  <a:lnTo>
                    <a:pt x="1281813" y="444337"/>
                  </a:lnTo>
                  <a:lnTo>
                    <a:pt x="1280893" y="427777"/>
                  </a:lnTo>
                  <a:lnTo>
                    <a:pt x="1278225" y="411950"/>
                  </a:lnTo>
                  <a:lnTo>
                    <a:pt x="1275064" y="396449"/>
                  </a:lnTo>
                  <a:lnTo>
                    <a:pt x="1273660" y="381093"/>
                  </a:lnTo>
                  <a:lnTo>
                    <a:pt x="1270777" y="363544"/>
                  </a:lnTo>
                  <a:lnTo>
                    <a:pt x="1266674" y="345302"/>
                  </a:lnTo>
                  <a:lnTo>
                    <a:pt x="1262029" y="328728"/>
                  </a:lnTo>
                  <a:lnTo>
                    <a:pt x="1257141" y="312895"/>
                  </a:lnTo>
                  <a:lnTo>
                    <a:pt x="1251301" y="297391"/>
                  </a:lnTo>
                  <a:lnTo>
                    <a:pt x="1243060" y="282034"/>
                  </a:lnTo>
                  <a:lnTo>
                    <a:pt x="1233754" y="266742"/>
                  </a:lnTo>
                  <a:lnTo>
                    <a:pt x="1223972" y="250632"/>
                  </a:lnTo>
                  <a:lnTo>
                    <a:pt x="1213981" y="232183"/>
                  </a:lnTo>
                  <a:lnTo>
                    <a:pt x="1198836" y="210847"/>
                  </a:lnTo>
                  <a:lnTo>
                    <a:pt x="1183624" y="189756"/>
                  </a:lnTo>
                  <a:lnTo>
                    <a:pt x="1168393" y="167420"/>
                  </a:lnTo>
                  <a:lnTo>
                    <a:pt x="1149110" y="148760"/>
                  </a:lnTo>
                  <a:lnTo>
                    <a:pt x="1131355" y="132507"/>
                  </a:lnTo>
                  <a:lnTo>
                    <a:pt x="1110185" y="111844"/>
                  </a:lnTo>
                  <a:lnTo>
                    <a:pt x="1088649" y="90416"/>
                  </a:lnTo>
                  <a:lnTo>
                    <a:pt x="1065450" y="73793"/>
                  </a:lnTo>
                  <a:lnTo>
                    <a:pt x="1061665" y="72056"/>
                  </a:lnTo>
                  <a:lnTo>
                    <a:pt x="1028545" y="62752"/>
                  </a:lnTo>
                  <a:lnTo>
                    <a:pt x="989914" y="61117"/>
                  </a:lnTo>
                  <a:lnTo>
                    <a:pt x="754209" y="60960"/>
                  </a:lnTo>
                  <a:lnTo>
                    <a:pt x="721564" y="58702"/>
                  </a:lnTo>
                  <a:lnTo>
                    <a:pt x="687300" y="55723"/>
                  </a:lnTo>
                  <a:lnTo>
                    <a:pt x="652315" y="54399"/>
                  </a:lnTo>
                  <a:lnTo>
                    <a:pt x="599299" y="53654"/>
                  </a:lnTo>
                  <a:lnTo>
                    <a:pt x="561558" y="51222"/>
                  </a:lnTo>
                  <a:lnTo>
                    <a:pt x="522206" y="48165"/>
                  </a:lnTo>
                  <a:lnTo>
                    <a:pt x="482138" y="46807"/>
                  </a:lnTo>
                  <a:lnTo>
                    <a:pt x="444010" y="43945"/>
                  </a:lnTo>
                  <a:lnTo>
                    <a:pt x="407309" y="41545"/>
                  </a:lnTo>
                  <a:lnTo>
                    <a:pt x="371240" y="43300"/>
                  </a:lnTo>
                  <a:lnTo>
                    <a:pt x="335457" y="44645"/>
                  </a:lnTo>
                  <a:lnTo>
                    <a:pt x="299796" y="46089"/>
                  </a:lnTo>
                  <a:lnTo>
                    <a:pt x="264191" y="49553"/>
                  </a:lnTo>
                  <a:lnTo>
                    <a:pt x="233128" y="53915"/>
                  </a:lnTo>
                  <a:lnTo>
                    <a:pt x="174645" y="63614"/>
                  </a:lnTo>
                  <a:lnTo>
                    <a:pt x="141491" y="71154"/>
                  </a:lnTo>
                  <a:lnTo>
                    <a:pt x="107490" y="78750"/>
                  </a:lnTo>
                  <a:lnTo>
                    <a:pt x="92080" y="83824"/>
                  </a:lnTo>
                  <a:lnTo>
                    <a:pt x="76196" y="914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MARTInkAnnotation74"/>
            <p:cNvSpPr/>
            <p:nvPr/>
          </p:nvSpPr>
          <p:spPr>
            <a:xfrm>
              <a:off x="4770720" y="2514600"/>
              <a:ext cx="243720" cy="7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3841" h="7621">
                  <a:moveTo>
                    <a:pt x="0" y="7620"/>
                  </a:moveTo>
                  <a:lnTo>
                    <a:pt x="168711" y="7620"/>
                  </a:lnTo>
                  <a:lnTo>
                    <a:pt x="175973" y="6773"/>
                  </a:lnTo>
                  <a:lnTo>
                    <a:pt x="183356" y="5362"/>
                  </a:lnTo>
                  <a:lnTo>
                    <a:pt x="190817" y="3575"/>
                  </a:lnTo>
                  <a:lnTo>
                    <a:pt x="197485" y="2383"/>
                  </a:lnTo>
                  <a:lnTo>
                    <a:pt x="203623" y="1589"/>
                  </a:lnTo>
                  <a:lnTo>
                    <a:pt x="209409" y="1059"/>
                  </a:lnTo>
                  <a:lnTo>
                    <a:pt x="214959" y="706"/>
                  </a:lnTo>
                  <a:lnTo>
                    <a:pt x="225642" y="314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MARTInkAnnotation75"/>
            <p:cNvSpPr/>
            <p:nvPr/>
          </p:nvSpPr>
          <p:spPr>
            <a:xfrm>
              <a:off x="5177880" y="2392560"/>
              <a:ext cx="57600" cy="266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57661" h="266701">
                  <a:moveTo>
                    <a:pt x="57660" y="0"/>
                  </a:moveTo>
                  <a:lnTo>
                    <a:pt x="57660" y="4045"/>
                  </a:lnTo>
                  <a:lnTo>
                    <a:pt x="56813" y="6084"/>
                  </a:lnTo>
                  <a:lnTo>
                    <a:pt x="55403" y="8289"/>
                  </a:lnTo>
                  <a:lnTo>
                    <a:pt x="53615" y="10606"/>
                  </a:lnTo>
                  <a:lnTo>
                    <a:pt x="52423" y="12998"/>
                  </a:lnTo>
                  <a:lnTo>
                    <a:pt x="51099" y="17912"/>
                  </a:lnTo>
                  <a:lnTo>
                    <a:pt x="50354" y="25439"/>
                  </a:lnTo>
                  <a:lnTo>
                    <a:pt x="49403" y="28813"/>
                  </a:lnTo>
                  <a:lnTo>
                    <a:pt x="47922" y="32755"/>
                  </a:lnTo>
                  <a:lnTo>
                    <a:pt x="46088" y="37077"/>
                  </a:lnTo>
                  <a:lnTo>
                    <a:pt x="44865" y="41651"/>
                  </a:lnTo>
                  <a:lnTo>
                    <a:pt x="44050" y="46394"/>
                  </a:lnTo>
                  <a:lnTo>
                    <a:pt x="43507" y="51250"/>
                  </a:lnTo>
                  <a:lnTo>
                    <a:pt x="42298" y="57026"/>
                  </a:lnTo>
                  <a:lnTo>
                    <a:pt x="40646" y="63418"/>
                  </a:lnTo>
                  <a:lnTo>
                    <a:pt x="38697" y="70219"/>
                  </a:lnTo>
                  <a:lnTo>
                    <a:pt x="36551" y="76446"/>
                  </a:lnTo>
                  <a:lnTo>
                    <a:pt x="34274" y="82290"/>
                  </a:lnTo>
                  <a:lnTo>
                    <a:pt x="31910" y="87880"/>
                  </a:lnTo>
                  <a:lnTo>
                    <a:pt x="29487" y="94147"/>
                  </a:lnTo>
                  <a:lnTo>
                    <a:pt x="24536" y="107883"/>
                  </a:lnTo>
                  <a:lnTo>
                    <a:pt x="16989" y="129896"/>
                  </a:lnTo>
                  <a:lnTo>
                    <a:pt x="15307" y="137398"/>
                  </a:lnTo>
                  <a:lnTo>
                    <a:pt x="14184" y="144939"/>
                  </a:lnTo>
                  <a:lnTo>
                    <a:pt x="13436" y="152506"/>
                  </a:lnTo>
                  <a:lnTo>
                    <a:pt x="12091" y="160091"/>
                  </a:lnTo>
                  <a:lnTo>
                    <a:pt x="10347" y="167687"/>
                  </a:lnTo>
                  <a:lnTo>
                    <a:pt x="8338" y="175291"/>
                  </a:lnTo>
                  <a:lnTo>
                    <a:pt x="6999" y="182054"/>
                  </a:lnTo>
                  <a:lnTo>
                    <a:pt x="6106" y="188256"/>
                  </a:lnTo>
                  <a:lnTo>
                    <a:pt x="5511" y="194084"/>
                  </a:lnTo>
                  <a:lnTo>
                    <a:pt x="5114" y="200509"/>
                  </a:lnTo>
                  <a:lnTo>
                    <a:pt x="4673" y="214422"/>
                  </a:lnTo>
                  <a:lnTo>
                    <a:pt x="3709" y="220841"/>
                  </a:lnTo>
                  <a:lnTo>
                    <a:pt x="2219" y="226814"/>
                  </a:lnTo>
                  <a:lnTo>
                    <a:pt x="380" y="232489"/>
                  </a:lnTo>
                  <a:lnTo>
                    <a:pt x="0" y="237966"/>
                  </a:lnTo>
                  <a:lnTo>
                    <a:pt x="593" y="243311"/>
                  </a:lnTo>
                  <a:lnTo>
                    <a:pt x="1836" y="248567"/>
                  </a:lnTo>
                  <a:lnTo>
                    <a:pt x="3216" y="256665"/>
                  </a:lnTo>
                  <a:lnTo>
                    <a:pt x="4320" y="2667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MARTInkAnnotation76"/>
            <p:cNvSpPr/>
            <p:nvPr/>
          </p:nvSpPr>
          <p:spPr>
            <a:xfrm>
              <a:off x="5327640" y="2363760"/>
              <a:ext cx="174600" cy="2955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174688" h="295760">
                  <a:moveTo>
                    <a:pt x="174687" y="105259"/>
                  </a:moveTo>
                  <a:lnTo>
                    <a:pt x="174687" y="72973"/>
                  </a:lnTo>
                  <a:lnTo>
                    <a:pt x="173840" y="70188"/>
                  </a:lnTo>
                  <a:lnTo>
                    <a:pt x="170642" y="64837"/>
                  </a:lnTo>
                  <a:lnTo>
                    <a:pt x="168656" y="57378"/>
                  </a:lnTo>
                  <a:lnTo>
                    <a:pt x="168126" y="53019"/>
                  </a:lnTo>
                  <a:lnTo>
                    <a:pt x="166926" y="49265"/>
                  </a:lnTo>
                  <a:lnTo>
                    <a:pt x="163335" y="42837"/>
                  </a:lnTo>
                  <a:lnTo>
                    <a:pt x="158917" y="34901"/>
                  </a:lnTo>
                  <a:lnTo>
                    <a:pt x="154131" y="26575"/>
                  </a:lnTo>
                  <a:lnTo>
                    <a:pt x="149182" y="20053"/>
                  </a:lnTo>
                  <a:lnTo>
                    <a:pt x="145831" y="17975"/>
                  </a:lnTo>
                  <a:lnTo>
                    <a:pt x="141903" y="16590"/>
                  </a:lnTo>
                  <a:lnTo>
                    <a:pt x="137591" y="15666"/>
                  </a:lnTo>
                  <a:lnTo>
                    <a:pt x="133023" y="14204"/>
                  </a:lnTo>
                  <a:lnTo>
                    <a:pt x="128284" y="12382"/>
                  </a:lnTo>
                  <a:lnTo>
                    <a:pt x="123431" y="10321"/>
                  </a:lnTo>
                  <a:lnTo>
                    <a:pt x="113524" y="5773"/>
                  </a:lnTo>
                  <a:lnTo>
                    <a:pt x="108513" y="3375"/>
                  </a:lnTo>
                  <a:lnTo>
                    <a:pt x="103477" y="1777"/>
                  </a:lnTo>
                  <a:lnTo>
                    <a:pt x="98427" y="711"/>
                  </a:lnTo>
                  <a:lnTo>
                    <a:pt x="93367" y="0"/>
                  </a:lnTo>
                  <a:lnTo>
                    <a:pt x="88300" y="373"/>
                  </a:lnTo>
                  <a:lnTo>
                    <a:pt x="83229" y="1469"/>
                  </a:lnTo>
                  <a:lnTo>
                    <a:pt x="65744" y="7055"/>
                  </a:lnTo>
                  <a:lnTo>
                    <a:pt x="58879" y="9310"/>
                  </a:lnTo>
                  <a:lnTo>
                    <a:pt x="53454" y="11660"/>
                  </a:lnTo>
                  <a:lnTo>
                    <a:pt x="48993" y="14073"/>
                  </a:lnTo>
                  <a:lnTo>
                    <a:pt x="45170" y="16528"/>
                  </a:lnTo>
                  <a:lnTo>
                    <a:pt x="40929" y="19859"/>
                  </a:lnTo>
                  <a:lnTo>
                    <a:pt x="36409" y="23772"/>
                  </a:lnTo>
                  <a:lnTo>
                    <a:pt x="31701" y="28074"/>
                  </a:lnTo>
                  <a:lnTo>
                    <a:pt x="21956" y="37370"/>
                  </a:lnTo>
                  <a:lnTo>
                    <a:pt x="5947" y="53091"/>
                  </a:lnTo>
                  <a:lnTo>
                    <a:pt x="3774" y="56933"/>
                  </a:lnTo>
                  <a:lnTo>
                    <a:pt x="1359" y="65719"/>
                  </a:lnTo>
                  <a:lnTo>
                    <a:pt x="285" y="73010"/>
                  </a:lnTo>
                  <a:lnTo>
                    <a:pt x="0" y="76140"/>
                  </a:lnTo>
                  <a:lnTo>
                    <a:pt x="1940" y="84133"/>
                  </a:lnTo>
                  <a:lnTo>
                    <a:pt x="5623" y="92483"/>
                  </a:lnTo>
                  <a:lnTo>
                    <a:pt x="10084" y="99016"/>
                  </a:lnTo>
                  <a:lnTo>
                    <a:pt x="13305" y="101944"/>
                  </a:lnTo>
                  <a:lnTo>
                    <a:pt x="17146" y="104742"/>
                  </a:lnTo>
                  <a:lnTo>
                    <a:pt x="21399" y="107455"/>
                  </a:lnTo>
                  <a:lnTo>
                    <a:pt x="25929" y="109263"/>
                  </a:lnTo>
                  <a:lnTo>
                    <a:pt x="30642" y="110468"/>
                  </a:lnTo>
                  <a:lnTo>
                    <a:pt x="35477" y="111272"/>
                  </a:lnTo>
                  <a:lnTo>
                    <a:pt x="40393" y="111808"/>
                  </a:lnTo>
                  <a:lnTo>
                    <a:pt x="45365" y="112165"/>
                  </a:lnTo>
                  <a:lnTo>
                    <a:pt x="50372" y="112403"/>
                  </a:lnTo>
                  <a:lnTo>
                    <a:pt x="60452" y="112667"/>
                  </a:lnTo>
                  <a:lnTo>
                    <a:pt x="65510" y="112738"/>
                  </a:lnTo>
                  <a:lnTo>
                    <a:pt x="70576" y="111938"/>
                  </a:lnTo>
                  <a:lnTo>
                    <a:pt x="75646" y="110559"/>
                  </a:lnTo>
                  <a:lnTo>
                    <a:pt x="80720" y="108792"/>
                  </a:lnTo>
                  <a:lnTo>
                    <a:pt x="85796" y="107615"/>
                  </a:lnTo>
                  <a:lnTo>
                    <a:pt x="90873" y="106829"/>
                  </a:lnTo>
                  <a:lnTo>
                    <a:pt x="95951" y="106306"/>
                  </a:lnTo>
                  <a:lnTo>
                    <a:pt x="100183" y="105110"/>
                  </a:lnTo>
                  <a:lnTo>
                    <a:pt x="103851" y="103467"/>
                  </a:lnTo>
                  <a:lnTo>
                    <a:pt x="107143" y="101524"/>
                  </a:lnTo>
                  <a:lnTo>
                    <a:pt x="111031" y="98536"/>
                  </a:lnTo>
                  <a:lnTo>
                    <a:pt x="115316" y="94850"/>
                  </a:lnTo>
                  <a:lnTo>
                    <a:pt x="123747" y="87086"/>
                  </a:lnTo>
                  <a:lnTo>
                    <a:pt x="133253" y="77955"/>
                  </a:lnTo>
                  <a:lnTo>
                    <a:pt x="146642" y="64703"/>
                  </a:lnTo>
                  <a:lnTo>
                    <a:pt x="148370" y="62135"/>
                  </a:lnTo>
                  <a:lnTo>
                    <a:pt x="150291" y="57024"/>
                  </a:lnTo>
                  <a:lnTo>
                    <a:pt x="151649" y="55322"/>
                  </a:lnTo>
                  <a:lnTo>
                    <a:pt x="153402" y="54188"/>
                  </a:lnTo>
                  <a:lnTo>
                    <a:pt x="158253" y="52367"/>
                  </a:lnTo>
                  <a:lnTo>
                    <a:pt x="158651" y="51371"/>
                  </a:lnTo>
                  <a:lnTo>
                    <a:pt x="159342" y="45398"/>
                  </a:lnTo>
                  <a:lnTo>
                    <a:pt x="159438" y="50956"/>
                  </a:lnTo>
                  <a:lnTo>
                    <a:pt x="154208" y="57813"/>
                  </a:lnTo>
                  <a:lnTo>
                    <a:pt x="152885" y="62441"/>
                  </a:lnTo>
                  <a:lnTo>
                    <a:pt x="152297" y="69578"/>
                  </a:lnTo>
                  <a:lnTo>
                    <a:pt x="152140" y="73852"/>
                  </a:lnTo>
                  <a:lnTo>
                    <a:pt x="151189" y="77547"/>
                  </a:lnTo>
                  <a:lnTo>
                    <a:pt x="147874" y="83912"/>
                  </a:lnTo>
                  <a:lnTo>
                    <a:pt x="143580" y="91820"/>
                  </a:lnTo>
                  <a:lnTo>
                    <a:pt x="141248" y="96300"/>
                  </a:lnTo>
                  <a:lnTo>
                    <a:pt x="139695" y="100980"/>
                  </a:lnTo>
                  <a:lnTo>
                    <a:pt x="138659" y="105793"/>
                  </a:lnTo>
                  <a:lnTo>
                    <a:pt x="137968" y="110695"/>
                  </a:lnTo>
                  <a:lnTo>
                    <a:pt x="137508" y="116503"/>
                  </a:lnTo>
                  <a:lnTo>
                    <a:pt x="137201" y="122915"/>
                  </a:lnTo>
                  <a:lnTo>
                    <a:pt x="136996" y="129730"/>
                  </a:lnTo>
                  <a:lnTo>
                    <a:pt x="136014" y="135966"/>
                  </a:lnTo>
                  <a:lnTo>
                    <a:pt x="134511" y="141817"/>
                  </a:lnTo>
                  <a:lnTo>
                    <a:pt x="132663" y="147411"/>
                  </a:lnTo>
                  <a:lnTo>
                    <a:pt x="131431" y="153680"/>
                  </a:lnTo>
                  <a:lnTo>
                    <a:pt x="130610" y="160400"/>
                  </a:lnTo>
                  <a:lnTo>
                    <a:pt x="130062" y="167420"/>
                  </a:lnTo>
                  <a:lnTo>
                    <a:pt x="129698" y="173793"/>
                  </a:lnTo>
                  <a:lnTo>
                    <a:pt x="129291" y="185390"/>
                  </a:lnTo>
                  <a:lnTo>
                    <a:pt x="129031" y="206632"/>
                  </a:lnTo>
                  <a:lnTo>
                    <a:pt x="128967" y="2957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MARTInkAnnotation77"/>
            <p:cNvSpPr/>
            <p:nvPr/>
          </p:nvSpPr>
          <p:spPr>
            <a:xfrm>
              <a:off x="5548680" y="2552760"/>
              <a:ext cx="311760" cy="12168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311927" h="121797">
                  <a:moveTo>
                    <a:pt x="136666" y="37976"/>
                  </a:moveTo>
                  <a:lnTo>
                    <a:pt x="136666" y="11486"/>
                  </a:lnTo>
                  <a:lnTo>
                    <a:pt x="135820" y="9309"/>
                  </a:lnTo>
                  <a:lnTo>
                    <a:pt x="134408" y="7012"/>
                  </a:lnTo>
                  <a:lnTo>
                    <a:pt x="132621" y="4633"/>
                  </a:lnTo>
                  <a:lnTo>
                    <a:pt x="130583" y="3048"/>
                  </a:lnTo>
                  <a:lnTo>
                    <a:pt x="128377" y="1990"/>
                  </a:lnTo>
                  <a:lnTo>
                    <a:pt x="123668" y="816"/>
                  </a:lnTo>
                  <a:lnTo>
                    <a:pt x="115412" y="154"/>
                  </a:lnTo>
                  <a:lnTo>
                    <a:pt x="107182" y="0"/>
                  </a:lnTo>
                  <a:lnTo>
                    <a:pt x="97879" y="2189"/>
                  </a:lnTo>
                  <a:lnTo>
                    <a:pt x="93028" y="3958"/>
                  </a:lnTo>
                  <a:lnTo>
                    <a:pt x="88101" y="5984"/>
                  </a:lnTo>
                  <a:lnTo>
                    <a:pt x="83123" y="8181"/>
                  </a:lnTo>
                  <a:lnTo>
                    <a:pt x="73075" y="12881"/>
                  </a:lnTo>
                  <a:lnTo>
                    <a:pt x="62966" y="17792"/>
                  </a:lnTo>
                  <a:lnTo>
                    <a:pt x="57053" y="21133"/>
                  </a:lnTo>
                  <a:lnTo>
                    <a:pt x="50571" y="25054"/>
                  </a:lnTo>
                  <a:lnTo>
                    <a:pt x="43709" y="29361"/>
                  </a:lnTo>
                  <a:lnTo>
                    <a:pt x="37441" y="33926"/>
                  </a:lnTo>
                  <a:lnTo>
                    <a:pt x="31569" y="38663"/>
                  </a:lnTo>
                  <a:lnTo>
                    <a:pt x="21376" y="47595"/>
                  </a:lnTo>
                  <a:lnTo>
                    <a:pt x="14024" y="54387"/>
                  </a:lnTo>
                  <a:lnTo>
                    <a:pt x="10878" y="58230"/>
                  </a:lnTo>
                  <a:lnTo>
                    <a:pt x="7934" y="62485"/>
                  </a:lnTo>
                  <a:lnTo>
                    <a:pt x="5125" y="67016"/>
                  </a:lnTo>
                  <a:lnTo>
                    <a:pt x="3252" y="70883"/>
                  </a:lnTo>
                  <a:lnTo>
                    <a:pt x="2003" y="74307"/>
                  </a:lnTo>
                  <a:lnTo>
                    <a:pt x="1171" y="77437"/>
                  </a:lnTo>
                  <a:lnTo>
                    <a:pt x="615" y="80370"/>
                  </a:lnTo>
                  <a:lnTo>
                    <a:pt x="246" y="83172"/>
                  </a:lnTo>
                  <a:lnTo>
                    <a:pt x="0" y="85887"/>
                  </a:lnTo>
                  <a:lnTo>
                    <a:pt x="682" y="88543"/>
                  </a:lnTo>
                  <a:lnTo>
                    <a:pt x="1983" y="91161"/>
                  </a:lnTo>
                  <a:lnTo>
                    <a:pt x="3698" y="93753"/>
                  </a:lnTo>
                  <a:lnTo>
                    <a:pt x="5687" y="95481"/>
                  </a:lnTo>
                  <a:lnTo>
                    <a:pt x="7860" y="96632"/>
                  </a:lnTo>
                  <a:lnTo>
                    <a:pt x="10155" y="97400"/>
                  </a:lnTo>
                  <a:lnTo>
                    <a:pt x="14963" y="100511"/>
                  </a:lnTo>
                  <a:lnTo>
                    <a:pt x="17431" y="102526"/>
                  </a:lnTo>
                  <a:lnTo>
                    <a:pt x="26946" y="104765"/>
                  </a:lnTo>
                  <a:lnTo>
                    <a:pt x="33039" y="105362"/>
                  </a:lnTo>
                  <a:lnTo>
                    <a:pt x="38795" y="105760"/>
                  </a:lnTo>
                  <a:lnTo>
                    <a:pt x="44325" y="106025"/>
                  </a:lnTo>
                  <a:lnTo>
                    <a:pt x="54985" y="106320"/>
                  </a:lnTo>
                  <a:lnTo>
                    <a:pt x="65368" y="106451"/>
                  </a:lnTo>
                  <a:lnTo>
                    <a:pt x="70508" y="105639"/>
                  </a:lnTo>
                  <a:lnTo>
                    <a:pt x="75627" y="104252"/>
                  </a:lnTo>
                  <a:lnTo>
                    <a:pt x="80733" y="102480"/>
                  </a:lnTo>
                  <a:lnTo>
                    <a:pt x="85831" y="100452"/>
                  </a:lnTo>
                  <a:lnTo>
                    <a:pt x="90922" y="98254"/>
                  </a:lnTo>
                  <a:lnTo>
                    <a:pt x="101096" y="93553"/>
                  </a:lnTo>
                  <a:lnTo>
                    <a:pt x="111262" y="88641"/>
                  </a:lnTo>
                  <a:lnTo>
                    <a:pt x="115496" y="86146"/>
                  </a:lnTo>
                  <a:lnTo>
                    <a:pt x="119166" y="83636"/>
                  </a:lnTo>
                  <a:lnTo>
                    <a:pt x="122459" y="81116"/>
                  </a:lnTo>
                  <a:lnTo>
                    <a:pt x="126348" y="78590"/>
                  </a:lnTo>
                  <a:lnTo>
                    <a:pt x="130634" y="76059"/>
                  </a:lnTo>
                  <a:lnTo>
                    <a:pt x="135185" y="73524"/>
                  </a:lnTo>
                  <a:lnTo>
                    <a:pt x="139066" y="70142"/>
                  </a:lnTo>
                  <a:lnTo>
                    <a:pt x="142499" y="66193"/>
                  </a:lnTo>
                  <a:lnTo>
                    <a:pt x="145635" y="61868"/>
                  </a:lnTo>
                  <a:lnTo>
                    <a:pt x="148572" y="58137"/>
                  </a:lnTo>
                  <a:lnTo>
                    <a:pt x="151376" y="54803"/>
                  </a:lnTo>
                  <a:lnTo>
                    <a:pt x="157916" y="47415"/>
                  </a:lnTo>
                  <a:lnTo>
                    <a:pt x="161068" y="44147"/>
                  </a:lnTo>
                  <a:lnTo>
                    <a:pt x="167041" y="38083"/>
                  </a:lnTo>
                  <a:lnTo>
                    <a:pt x="174449" y="37979"/>
                  </a:lnTo>
                  <a:lnTo>
                    <a:pt x="174625" y="40235"/>
                  </a:lnTo>
                  <a:lnTo>
                    <a:pt x="174673" y="42022"/>
                  </a:lnTo>
                  <a:lnTo>
                    <a:pt x="176397" y="44060"/>
                  </a:lnTo>
                  <a:lnTo>
                    <a:pt x="179241" y="46265"/>
                  </a:lnTo>
                  <a:lnTo>
                    <a:pt x="182829" y="48582"/>
                  </a:lnTo>
                  <a:lnTo>
                    <a:pt x="186068" y="50974"/>
                  </a:lnTo>
                  <a:lnTo>
                    <a:pt x="189074" y="53414"/>
                  </a:lnTo>
                  <a:lnTo>
                    <a:pt x="191925" y="55888"/>
                  </a:lnTo>
                  <a:lnTo>
                    <a:pt x="195519" y="59231"/>
                  </a:lnTo>
                  <a:lnTo>
                    <a:pt x="204027" y="67461"/>
                  </a:lnTo>
                  <a:lnTo>
                    <a:pt x="208667" y="71179"/>
                  </a:lnTo>
                  <a:lnTo>
                    <a:pt x="213453" y="74505"/>
                  </a:lnTo>
                  <a:lnTo>
                    <a:pt x="218337" y="77569"/>
                  </a:lnTo>
                  <a:lnTo>
                    <a:pt x="223287" y="80458"/>
                  </a:lnTo>
                  <a:lnTo>
                    <a:pt x="228280" y="83230"/>
                  </a:lnTo>
                  <a:lnTo>
                    <a:pt x="233302" y="85926"/>
                  </a:lnTo>
                  <a:lnTo>
                    <a:pt x="239190" y="88569"/>
                  </a:lnTo>
                  <a:lnTo>
                    <a:pt x="245655" y="91178"/>
                  </a:lnTo>
                  <a:lnTo>
                    <a:pt x="252506" y="93764"/>
                  </a:lnTo>
                  <a:lnTo>
                    <a:pt x="258766" y="97182"/>
                  </a:lnTo>
                  <a:lnTo>
                    <a:pt x="264633" y="101153"/>
                  </a:lnTo>
                  <a:lnTo>
                    <a:pt x="270237" y="105494"/>
                  </a:lnTo>
                  <a:lnTo>
                    <a:pt x="275667" y="108388"/>
                  </a:lnTo>
                  <a:lnTo>
                    <a:pt x="280980" y="110318"/>
                  </a:lnTo>
                  <a:lnTo>
                    <a:pt x="286215" y="111603"/>
                  </a:lnTo>
                  <a:lnTo>
                    <a:pt x="291399" y="113308"/>
                  </a:lnTo>
                  <a:lnTo>
                    <a:pt x="296548" y="115291"/>
                  </a:lnTo>
                  <a:lnTo>
                    <a:pt x="311926" y="1217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SMARTInkAnnotation78"/>
            <p:cNvSpPr/>
            <p:nvPr/>
          </p:nvSpPr>
          <p:spPr>
            <a:xfrm>
              <a:off x="6104520" y="1912680"/>
              <a:ext cx="7560" cy="1598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7621" h="160021">
                  <a:moveTo>
                    <a:pt x="0" y="0"/>
                  </a:moveTo>
                  <a:lnTo>
                    <a:pt x="0" y="21485"/>
                  </a:lnTo>
                  <a:lnTo>
                    <a:pt x="847" y="22790"/>
                  </a:lnTo>
                  <a:lnTo>
                    <a:pt x="2259" y="24506"/>
                  </a:lnTo>
                  <a:lnTo>
                    <a:pt x="4046" y="26497"/>
                  </a:lnTo>
                  <a:lnTo>
                    <a:pt x="5237" y="28672"/>
                  </a:lnTo>
                  <a:lnTo>
                    <a:pt x="6032" y="30968"/>
                  </a:lnTo>
                  <a:lnTo>
                    <a:pt x="6561" y="33345"/>
                  </a:lnTo>
                  <a:lnTo>
                    <a:pt x="6914" y="35777"/>
                  </a:lnTo>
                  <a:lnTo>
                    <a:pt x="7150" y="38244"/>
                  </a:lnTo>
                  <a:lnTo>
                    <a:pt x="7307" y="40736"/>
                  </a:lnTo>
                  <a:lnTo>
                    <a:pt x="7481" y="45763"/>
                  </a:lnTo>
                  <a:lnTo>
                    <a:pt x="7593" y="55889"/>
                  </a:lnTo>
                  <a:lnTo>
                    <a:pt x="7620" y="85301"/>
                  </a:lnTo>
                  <a:lnTo>
                    <a:pt x="6773" y="88194"/>
                  </a:lnTo>
                  <a:lnTo>
                    <a:pt x="5362" y="90969"/>
                  </a:lnTo>
                  <a:lnTo>
                    <a:pt x="3575" y="93666"/>
                  </a:lnTo>
                  <a:lnTo>
                    <a:pt x="2384" y="96311"/>
                  </a:lnTo>
                  <a:lnTo>
                    <a:pt x="1589" y="98920"/>
                  </a:lnTo>
                  <a:lnTo>
                    <a:pt x="1059" y="101507"/>
                  </a:lnTo>
                  <a:lnTo>
                    <a:pt x="707" y="104078"/>
                  </a:lnTo>
                  <a:lnTo>
                    <a:pt x="471" y="106639"/>
                  </a:lnTo>
                  <a:lnTo>
                    <a:pt x="314" y="109192"/>
                  </a:lnTo>
                  <a:lnTo>
                    <a:pt x="140" y="114288"/>
                  </a:lnTo>
                  <a:lnTo>
                    <a:pt x="28" y="124458"/>
                  </a:lnTo>
                  <a:lnTo>
                    <a:pt x="0" y="1600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MARTInkAnnotation79"/>
            <p:cNvSpPr/>
            <p:nvPr/>
          </p:nvSpPr>
          <p:spPr>
            <a:xfrm>
              <a:off x="6028200" y="1981440"/>
              <a:ext cx="121680" cy="72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21922" h="7307">
                  <a:moveTo>
                    <a:pt x="0" y="7306"/>
                  </a:moveTo>
                  <a:lnTo>
                    <a:pt x="4046" y="3261"/>
                  </a:lnTo>
                  <a:lnTo>
                    <a:pt x="6084" y="2069"/>
                  </a:lnTo>
                  <a:lnTo>
                    <a:pt x="8289" y="1275"/>
                  </a:lnTo>
                  <a:lnTo>
                    <a:pt x="10606" y="745"/>
                  </a:lnTo>
                  <a:lnTo>
                    <a:pt x="12998" y="392"/>
                  </a:lnTo>
                  <a:lnTo>
                    <a:pt x="15439" y="157"/>
                  </a:lnTo>
                  <a:lnTo>
                    <a:pt x="17913" y="0"/>
                  </a:lnTo>
                  <a:lnTo>
                    <a:pt x="20409" y="742"/>
                  </a:lnTo>
                  <a:lnTo>
                    <a:pt x="22919" y="2083"/>
                  </a:lnTo>
                  <a:lnTo>
                    <a:pt x="25439" y="3824"/>
                  </a:lnTo>
                  <a:lnTo>
                    <a:pt x="28813" y="4985"/>
                  </a:lnTo>
                  <a:lnTo>
                    <a:pt x="32756" y="5759"/>
                  </a:lnTo>
                  <a:lnTo>
                    <a:pt x="37077" y="6274"/>
                  </a:lnTo>
                  <a:lnTo>
                    <a:pt x="40805" y="6618"/>
                  </a:lnTo>
                  <a:lnTo>
                    <a:pt x="44137" y="6848"/>
                  </a:lnTo>
                  <a:lnTo>
                    <a:pt x="47205" y="7000"/>
                  </a:lnTo>
                  <a:lnTo>
                    <a:pt x="55128" y="7170"/>
                  </a:lnTo>
                  <a:lnTo>
                    <a:pt x="121921" y="7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MARTInkAnnotation80"/>
            <p:cNvSpPr/>
            <p:nvPr/>
          </p:nvSpPr>
          <p:spPr>
            <a:xfrm>
              <a:off x="6249240" y="1714680"/>
              <a:ext cx="708480" cy="507240"/>
            </a:xfrm>
            <a:custGeom>
              <a:avLst/>
              <a:gdLst>
                <a:gd name="textAreaLeft" fmla="*/ 0 w 708480"/>
                <a:gd name="textAreaRight" fmla="*/ 708840 w 70848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708516" h="507461">
                  <a:moveTo>
                    <a:pt x="627739" y="451744"/>
                  </a:moveTo>
                  <a:lnTo>
                    <a:pt x="640961" y="439381"/>
                  </a:lnTo>
                  <a:lnTo>
                    <a:pt x="653221" y="424143"/>
                  </a:lnTo>
                  <a:lnTo>
                    <a:pt x="670494" y="408056"/>
                  </a:lnTo>
                  <a:lnTo>
                    <a:pt x="678426" y="394698"/>
                  </a:lnTo>
                  <a:lnTo>
                    <a:pt x="687652" y="376942"/>
                  </a:lnTo>
                  <a:lnTo>
                    <a:pt x="693107" y="363936"/>
                  </a:lnTo>
                  <a:lnTo>
                    <a:pt x="698355" y="349689"/>
                  </a:lnTo>
                  <a:lnTo>
                    <a:pt x="703509" y="334890"/>
                  </a:lnTo>
                  <a:lnTo>
                    <a:pt x="706363" y="319846"/>
                  </a:lnTo>
                  <a:lnTo>
                    <a:pt x="707632" y="305540"/>
                  </a:lnTo>
                  <a:lnTo>
                    <a:pt x="708197" y="293537"/>
                  </a:lnTo>
                  <a:lnTo>
                    <a:pt x="708515" y="273215"/>
                  </a:lnTo>
                  <a:lnTo>
                    <a:pt x="706330" y="258568"/>
                  </a:lnTo>
                  <a:lnTo>
                    <a:pt x="703385" y="243592"/>
                  </a:lnTo>
                  <a:lnTo>
                    <a:pt x="702075" y="228469"/>
                  </a:lnTo>
                  <a:lnTo>
                    <a:pt x="699236" y="215539"/>
                  </a:lnTo>
                  <a:lnTo>
                    <a:pt x="690515" y="189396"/>
                  </a:lnTo>
                  <a:lnTo>
                    <a:pt x="683373" y="174749"/>
                  </a:lnTo>
                  <a:lnTo>
                    <a:pt x="674555" y="160619"/>
                  </a:lnTo>
                  <a:lnTo>
                    <a:pt x="660071" y="142297"/>
                  </a:lnTo>
                  <a:lnTo>
                    <a:pt x="650087" y="128416"/>
                  </a:lnTo>
                  <a:lnTo>
                    <a:pt x="637748" y="116038"/>
                  </a:lnTo>
                  <a:lnTo>
                    <a:pt x="623796" y="104045"/>
                  </a:lnTo>
                  <a:lnTo>
                    <a:pt x="609130" y="90248"/>
                  </a:lnTo>
                  <a:lnTo>
                    <a:pt x="594144" y="80165"/>
                  </a:lnTo>
                  <a:lnTo>
                    <a:pt x="579017" y="72015"/>
                  </a:lnTo>
                  <a:lnTo>
                    <a:pt x="563827" y="62749"/>
                  </a:lnTo>
                  <a:lnTo>
                    <a:pt x="546353" y="52986"/>
                  </a:lnTo>
                  <a:lnTo>
                    <a:pt x="528991" y="43002"/>
                  </a:lnTo>
                  <a:lnTo>
                    <a:pt x="508849" y="28708"/>
                  </a:lnTo>
                  <a:lnTo>
                    <a:pt x="494542" y="21770"/>
                  </a:lnTo>
                  <a:lnTo>
                    <a:pt x="479716" y="18122"/>
                  </a:lnTo>
                  <a:lnTo>
                    <a:pt x="464661" y="15654"/>
                  </a:lnTo>
                  <a:lnTo>
                    <a:pt x="449503" y="11734"/>
                  </a:lnTo>
                  <a:lnTo>
                    <a:pt x="422644" y="4768"/>
                  </a:lnTo>
                  <a:lnTo>
                    <a:pt x="405428" y="2099"/>
                  </a:lnTo>
                  <a:lnTo>
                    <a:pt x="389311" y="912"/>
                  </a:lnTo>
                  <a:lnTo>
                    <a:pt x="373681" y="385"/>
                  </a:lnTo>
                  <a:lnTo>
                    <a:pt x="342950" y="47"/>
                  </a:lnTo>
                  <a:lnTo>
                    <a:pt x="327676" y="0"/>
                  </a:lnTo>
                  <a:lnTo>
                    <a:pt x="312421" y="2237"/>
                  </a:lnTo>
                  <a:lnTo>
                    <a:pt x="297174" y="5207"/>
                  </a:lnTo>
                  <a:lnTo>
                    <a:pt x="281930" y="6527"/>
                  </a:lnTo>
                  <a:lnTo>
                    <a:pt x="266689" y="9372"/>
                  </a:lnTo>
                  <a:lnTo>
                    <a:pt x="251449" y="13458"/>
                  </a:lnTo>
                  <a:lnTo>
                    <a:pt x="236208" y="18097"/>
                  </a:lnTo>
                  <a:lnTo>
                    <a:pt x="213348" y="25468"/>
                  </a:lnTo>
                  <a:lnTo>
                    <a:pt x="194533" y="33014"/>
                  </a:lnTo>
                  <a:lnTo>
                    <a:pt x="172158" y="48386"/>
                  </a:lnTo>
                  <a:lnTo>
                    <a:pt x="152319" y="58526"/>
                  </a:lnTo>
                  <a:lnTo>
                    <a:pt x="134494" y="71031"/>
                  </a:lnTo>
                  <a:lnTo>
                    <a:pt x="114349" y="81322"/>
                  </a:lnTo>
                  <a:lnTo>
                    <a:pt x="97279" y="94719"/>
                  </a:lnTo>
                  <a:lnTo>
                    <a:pt x="81496" y="109413"/>
                  </a:lnTo>
                  <a:lnTo>
                    <a:pt x="66942" y="124491"/>
                  </a:lnTo>
                  <a:lnTo>
                    <a:pt x="56045" y="140530"/>
                  </a:lnTo>
                  <a:lnTo>
                    <a:pt x="47198" y="153877"/>
                  </a:lnTo>
                  <a:lnTo>
                    <a:pt x="37622" y="166018"/>
                  </a:lnTo>
                  <a:lnTo>
                    <a:pt x="24968" y="182374"/>
                  </a:lnTo>
                  <a:lnTo>
                    <a:pt x="18710" y="193641"/>
                  </a:lnTo>
                  <a:lnTo>
                    <a:pt x="7795" y="219313"/>
                  </a:lnTo>
                  <a:lnTo>
                    <a:pt x="5192" y="224936"/>
                  </a:lnTo>
                  <a:lnTo>
                    <a:pt x="2300" y="237958"/>
                  </a:lnTo>
                  <a:lnTo>
                    <a:pt x="1016" y="251365"/>
                  </a:lnTo>
                  <a:lnTo>
                    <a:pt x="445" y="262968"/>
                  </a:lnTo>
                  <a:lnTo>
                    <a:pt x="191" y="276028"/>
                  </a:lnTo>
                  <a:lnTo>
                    <a:pt x="0" y="321164"/>
                  </a:lnTo>
                  <a:lnTo>
                    <a:pt x="2251" y="333501"/>
                  </a:lnTo>
                  <a:lnTo>
                    <a:pt x="4037" y="339162"/>
                  </a:lnTo>
                  <a:lnTo>
                    <a:pt x="10537" y="349967"/>
                  </a:lnTo>
                  <a:lnTo>
                    <a:pt x="21459" y="365570"/>
                  </a:lnTo>
                  <a:lnTo>
                    <a:pt x="32314" y="383176"/>
                  </a:lnTo>
                  <a:lnTo>
                    <a:pt x="41449" y="396340"/>
                  </a:lnTo>
                  <a:lnTo>
                    <a:pt x="56111" y="413271"/>
                  </a:lnTo>
                  <a:lnTo>
                    <a:pt x="72027" y="429012"/>
                  </a:lnTo>
                  <a:lnTo>
                    <a:pt x="92453" y="443554"/>
                  </a:lnTo>
                  <a:lnTo>
                    <a:pt x="114592" y="454448"/>
                  </a:lnTo>
                  <a:lnTo>
                    <a:pt x="129663" y="463294"/>
                  </a:lnTo>
                  <a:lnTo>
                    <a:pt x="144828" y="470612"/>
                  </a:lnTo>
                  <a:lnTo>
                    <a:pt x="160881" y="477534"/>
                  </a:lnTo>
                  <a:lnTo>
                    <a:pt x="179305" y="486255"/>
                  </a:lnTo>
                  <a:lnTo>
                    <a:pt x="196525" y="495775"/>
                  </a:lnTo>
                  <a:lnTo>
                    <a:pt x="211798" y="503957"/>
                  </a:lnTo>
                  <a:lnTo>
                    <a:pt x="218241" y="506139"/>
                  </a:lnTo>
                  <a:lnTo>
                    <a:pt x="223679" y="5074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MARTInkAnnotation81"/>
            <p:cNvSpPr/>
            <p:nvPr/>
          </p:nvSpPr>
          <p:spPr>
            <a:xfrm>
              <a:off x="7194600" y="1684440"/>
              <a:ext cx="592200" cy="555480"/>
            </a:xfrm>
            <a:custGeom>
              <a:avLst/>
              <a:gdLst>
                <a:gd name="textAreaLeft" fmla="*/ 0 w 592200"/>
                <a:gd name="textAreaRight" fmla="*/ 592200 w 59220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592224" h="555766">
                  <a:moveTo>
                    <a:pt x="37510" y="525294"/>
                  </a:moveTo>
                  <a:lnTo>
                    <a:pt x="44072" y="531855"/>
                  </a:lnTo>
                  <a:lnTo>
                    <a:pt x="61569" y="541063"/>
                  </a:lnTo>
                  <a:lnTo>
                    <a:pt x="66249" y="543427"/>
                  </a:lnTo>
                  <a:lnTo>
                    <a:pt x="78223" y="546053"/>
                  </a:lnTo>
                  <a:lnTo>
                    <a:pt x="91164" y="548067"/>
                  </a:lnTo>
                  <a:lnTo>
                    <a:pt x="109664" y="553114"/>
                  </a:lnTo>
                  <a:lnTo>
                    <a:pt x="126588" y="554592"/>
                  </a:lnTo>
                  <a:lnTo>
                    <a:pt x="143140" y="555248"/>
                  </a:lnTo>
                  <a:lnTo>
                    <a:pt x="166740" y="555618"/>
                  </a:lnTo>
                  <a:lnTo>
                    <a:pt x="226932" y="555765"/>
                  </a:lnTo>
                  <a:lnTo>
                    <a:pt x="245029" y="553512"/>
                  </a:lnTo>
                  <a:lnTo>
                    <a:pt x="254596" y="551726"/>
                  </a:lnTo>
                  <a:lnTo>
                    <a:pt x="264361" y="550535"/>
                  </a:lnTo>
                  <a:lnTo>
                    <a:pt x="274256" y="549742"/>
                  </a:lnTo>
                  <a:lnTo>
                    <a:pt x="284241" y="549212"/>
                  </a:lnTo>
                  <a:lnTo>
                    <a:pt x="294285" y="547166"/>
                  </a:lnTo>
                  <a:lnTo>
                    <a:pt x="304366" y="544109"/>
                  </a:lnTo>
                  <a:lnTo>
                    <a:pt x="314474" y="540377"/>
                  </a:lnTo>
                  <a:lnTo>
                    <a:pt x="324599" y="537043"/>
                  </a:lnTo>
                  <a:lnTo>
                    <a:pt x="334736" y="533973"/>
                  </a:lnTo>
                  <a:lnTo>
                    <a:pt x="355030" y="528305"/>
                  </a:lnTo>
                  <a:lnTo>
                    <a:pt x="375339" y="522963"/>
                  </a:lnTo>
                  <a:lnTo>
                    <a:pt x="393396" y="515509"/>
                  </a:lnTo>
                  <a:lnTo>
                    <a:pt x="429729" y="496926"/>
                  </a:lnTo>
                  <a:lnTo>
                    <a:pt x="447202" y="484746"/>
                  </a:lnTo>
                  <a:lnTo>
                    <a:pt x="463435" y="471713"/>
                  </a:lnTo>
                  <a:lnTo>
                    <a:pt x="506269" y="440271"/>
                  </a:lnTo>
                  <a:lnTo>
                    <a:pt x="521296" y="425699"/>
                  </a:lnTo>
                  <a:lnTo>
                    <a:pt x="533620" y="410756"/>
                  </a:lnTo>
                  <a:lnTo>
                    <a:pt x="544741" y="395648"/>
                  </a:lnTo>
                  <a:lnTo>
                    <a:pt x="550077" y="387217"/>
                  </a:lnTo>
                  <a:lnTo>
                    <a:pt x="555328" y="378209"/>
                  </a:lnTo>
                  <a:lnTo>
                    <a:pt x="560522" y="368818"/>
                  </a:lnTo>
                  <a:lnTo>
                    <a:pt x="568550" y="351609"/>
                  </a:lnTo>
                  <a:lnTo>
                    <a:pt x="574940" y="334647"/>
                  </a:lnTo>
                  <a:lnTo>
                    <a:pt x="577831" y="325383"/>
                  </a:lnTo>
                  <a:lnTo>
                    <a:pt x="583299" y="306058"/>
                  </a:lnTo>
                  <a:lnTo>
                    <a:pt x="588552" y="286180"/>
                  </a:lnTo>
                  <a:lnTo>
                    <a:pt x="590291" y="276138"/>
                  </a:lnTo>
                  <a:lnTo>
                    <a:pt x="591450" y="266057"/>
                  </a:lnTo>
                  <a:lnTo>
                    <a:pt x="592223" y="255949"/>
                  </a:lnTo>
                  <a:lnTo>
                    <a:pt x="591892" y="246671"/>
                  </a:lnTo>
                  <a:lnTo>
                    <a:pt x="588227" y="220630"/>
                  </a:lnTo>
                  <a:lnTo>
                    <a:pt x="587534" y="211272"/>
                  </a:lnTo>
                  <a:lnTo>
                    <a:pt x="587073" y="201646"/>
                  </a:lnTo>
                  <a:lnTo>
                    <a:pt x="585919" y="192689"/>
                  </a:lnTo>
                  <a:lnTo>
                    <a:pt x="582377" y="175963"/>
                  </a:lnTo>
                  <a:lnTo>
                    <a:pt x="575624" y="148221"/>
                  </a:lnTo>
                  <a:lnTo>
                    <a:pt x="572359" y="139292"/>
                  </a:lnTo>
                  <a:lnTo>
                    <a:pt x="564215" y="122598"/>
                  </a:lnTo>
                  <a:lnTo>
                    <a:pt x="552694" y="106711"/>
                  </a:lnTo>
                  <a:lnTo>
                    <a:pt x="539954" y="91184"/>
                  </a:lnTo>
                  <a:lnTo>
                    <a:pt x="528647" y="75816"/>
                  </a:lnTo>
                  <a:lnTo>
                    <a:pt x="515720" y="62777"/>
                  </a:lnTo>
                  <a:lnTo>
                    <a:pt x="501507" y="51338"/>
                  </a:lnTo>
                  <a:lnTo>
                    <a:pt x="486724" y="40609"/>
                  </a:lnTo>
                  <a:lnTo>
                    <a:pt x="469429" y="30196"/>
                  </a:lnTo>
                  <a:lnTo>
                    <a:pt x="451301" y="20771"/>
                  </a:lnTo>
                  <a:lnTo>
                    <a:pt x="434776" y="13759"/>
                  </a:lnTo>
                  <a:lnTo>
                    <a:pt x="418966" y="7821"/>
                  </a:lnTo>
                  <a:lnTo>
                    <a:pt x="402625" y="3206"/>
                  </a:lnTo>
                  <a:lnTo>
                    <a:pt x="393527" y="1975"/>
                  </a:lnTo>
                  <a:lnTo>
                    <a:pt x="384074" y="1155"/>
                  </a:lnTo>
                  <a:lnTo>
                    <a:pt x="374387" y="608"/>
                  </a:lnTo>
                  <a:lnTo>
                    <a:pt x="354589" y="0"/>
                  </a:lnTo>
                  <a:lnTo>
                    <a:pt x="344570" y="685"/>
                  </a:lnTo>
                  <a:lnTo>
                    <a:pt x="334503" y="1988"/>
                  </a:lnTo>
                  <a:lnTo>
                    <a:pt x="324405" y="3703"/>
                  </a:lnTo>
                  <a:lnTo>
                    <a:pt x="306412" y="10125"/>
                  </a:lnTo>
                  <a:lnTo>
                    <a:pt x="289102" y="17777"/>
                  </a:lnTo>
                  <a:lnTo>
                    <a:pt x="279746" y="21002"/>
                  </a:lnTo>
                  <a:lnTo>
                    <a:pt x="270120" y="24000"/>
                  </a:lnTo>
                  <a:lnTo>
                    <a:pt x="260317" y="27691"/>
                  </a:lnTo>
                  <a:lnTo>
                    <a:pt x="250395" y="31845"/>
                  </a:lnTo>
                  <a:lnTo>
                    <a:pt x="240393" y="36308"/>
                  </a:lnTo>
                  <a:lnTo>
                    <a:pt x="230340" y="41824"/>
                  </a:lnTo>
                  <a:lnTo>
                    <a:pt x="220250" y="48040"/>
                  </a:lnTo>
                  <a:lnTo>
                    <a:pt x="210137" y="54725"/>
                  </a:lnTo>
                  <a:lnTo>
                    <a:pt x="189869" y="68926"/>
                  </a:lnTo>
                  <a:lnTo>
                    <a:pt x="179723" y="76269"/>
                  </a:lnTo>
                  <a:lnTo>
                    <a:pt x="161676" y="93458"/>
                  </a:lnTo>
                  <a:lnTo>
                    <a:pt x="153307" y="102784"/>
                  </a:lnTo>
                  <a:lnTo>
                    <a:pt x="134978" y="122176"/>
                  </a:lnTo>
                  <a:lnTo>
                    <a:pt x="125348" y="132089"/>
                  </a:lnTo>
                  <a:lnTo>
                    <a:pt x="116389" y="142084"/>
                  </a:lnTo>
                  <a:lnTo>
                    <a:pt x="107876" y="152134"/>
                  </a:lnTo>
                  <a:lnTo>
                    <a:pt x="99661" y="162221"/>
                  </a:lnTo>
                  <a:lnTo>
                    <a:pt x="91643" y="173178"/>
                  </a:lnTo>
                  <a:lnTo>
                    <a:pt x="83759" y="184717"/>
                  </a:lnTo>
                  <a:lnTo>
                    <a:pt x="75963" y="196643"/>
                  </a:lnTo>
                  <a:lnTo>
                    <a:pt x="60528" y="218925"/>
                  </a:lnTo>
                  <a:lnTo>
                    <a:pt x="52855" y="229608"/>
                  </a:lnTo>
                  <a:lnTo>
                    <a:pt x="46046" y="240116"/>
                  </a:lnTo>
                  <a:lnTo>
                    <a:pt x="39814" y="250509"/>
                  </a:lnTo>
                  <a:lnTo>
                    <a:pt x="33966" y="260824"/>
                  </a:lnTo>
                  <a:lnTo>
                    <a:pt x="28374" y="271934"/>
                  </a:lnTo>
                  <a:lnTo>
                    <a:pt x="22953" y="283574"/>
                  </a:lnTo>
                  <a:lnTo>
                    <a:pt x="17646" y="295567"/>
                  </a:lnTo>
                  <a:lnTo>
                    <a:pt x="13261" y="306950"/>
                  </a:lnTo>
                  <a:lnTo>
                    <a:pt x="9490" y="317924"/>
                  </a:lnTo>
                  <a:lnTo>
                    <a:pt x="6130" y="328628"/>
                  </a:lnTo>
                  <a:lnTo>
                    <a:pt x="3890" y="339150"/>
                  </a:lnTo>
                  <a:lnTo>
                    <a:pt x="2397" y="349551"/>
                  </a:lnTo>
                  <a:lnTo>
                    <a:pt x="1401" y="359872"/>
                  </a:lnTo>
                  <a:lnTo>
                    <a:pt x="737" y="370139"/>
                  </a:lnTo>
                  <a:lnTo>
                    <a:pt x="295" y="380371"/>
                  </a:lnTo>
                  <a:lnTo>
                    <a:pt x="0" y="390579"/>
                  </a:lnTo>
                  <a:lnTo>
                    <a:pt x="651" y="399924"/>
                  </a:lnTo>
                  <a:lnTo>
                    <a:pt x="3630" y="417081"/>
                  </a:lnTo>
                  <a:lnTo>
                    <a:pt x="7777" y="433172"/>
                  </a:lnTo>
                  <a:lnTo>
                    <a:pt x="10069" y="441019"/>
                  </a:lnTo>
                  <a:lnTo>
                    <a:pt x="17129" y="454254"/>
                  </a:lnTo>
                  <a:lnTo>
                    <a:pt x="26758" y="466627"/>
                  </a:lnTo>
                  <a:lnTo>
                    <a:pt x="39506" y="480593"/>
                  </a:lnTo>
                  <a:lnTo>
                    <a:pt x="53636" y="490751"/>
                  </a:lnTo>
                  <a:lnTo>
                    <a:pt x="68384" y="498088"/>
                  </a:lnTo>
                  <a:lnTo>
                    <a:pt x="83405" y="504171"/>
                  </a:lnTo>
                  <a:lnTo>
                    <a:pt x="100806" y="509697"/>
                  </a:lnTo>
                  <a:lnTo>
                    <a:pt x="119828" y="514975"/>
                  </a:lnTo>
                  <a:lnTo>
                    <a:pt x="139572" y="520143"/>
                  </a:lnTo>
                  <a:lnTo>
                    <a:pt x="150424" y="521860"/>
                  </a:lnTo>
                  <a:lnTo>
                    <a:pt x="161893" y="523005"/>
                  </a:lnTo>
                  <a:lnTo>
                    <a:pt x="173773" y="523768"/>
                  </a:lnTo>
                  <a:lnTo>
                    <a:pt x="196002" y="524616"/>
                  </a:lnTo>
                  <a:lnTo>
                    <a:pt x="227557" y="525093"/>
                  </a:lnTo>
                  <a:lnTo>
                    <a:pt x="237868" y="525160"/>
                  </a:lnTo>
                  <a:lnTo>
                    <a:pt x="248129" y="524358"/>
                  </a:lnTo>
                  <a:lnTo>
                    <a:pt x="258357" y="522977"/>
                  </a:lnTo>
                  <a:lnTo>
                    <a:pt x="276211" y="520031"/>
                  </a:lnTo>
                  <a:lnTo>
                    <a:pt x="282157" y="519245"/>
                  </a:lnTo>
                  <a:lnTo>
                    <a:pt x="296590" y="5176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MARTInkAnnotation82"/>
            <p:cNvSpPr/>
            <p:nvPr/>
          </p:nvSpPr>
          <p:spPr>
            <a:xfrm>
              <a:off x="4595760" y="1744920"/>
              <a:ext cx="1418040" cy="510480"/>
            </a:xfrm>
            <a:custGeom>
              <a:avLst/>
              <a:gdLst>
                <a:gd name="textAreaLeft" fmla="*/ 0 w 1418040"/>
                <a:gd name="textAreaRight" fmla="*/ 1418400 w 141804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418120" h="510513">
                  <a:moveTo>
                    <a:pt x="0" y="0"/>
                  </a:moveTo>
                  <a:lnTo>
                    <a:pt x="6561" y="6561"/>
                  </a:lnTo>
                  <a:lnTo>
                    <a:pt x="7149" y="9407"/>
                  </a:lnTo>
                  <a:lnTo>
                    <a:pt x="7306" y="11351"/>
                  </a:lnTo>
                  <a:lnTo>
                    <a:pt x="8257" y="13494"/>
                  </a:lnTo>
                  <a:lnTo>
                    <a:pt x="12795" y="20555"/>
                  </a:lnTo>
                  <a:lnTo>
                    <a:pt x="15362" y="28010"/>
                  </a:lnTo>
                  <a:lnTo>
                    <a:pt x="20262" y="35581"/>
                  </a:lnTo>
                  <a:lnTo>
                    <a:pt x="22937" y="43186"/>
                  </a:lnTo>
                  <a:lnTo>
                    <a:pt x="26563" y="48263"/>
                  </a:lnTo>
                  <a:lnTo>
                    <a:pt x="27869" y="51649"/>
                  </a:lnTo>
                  <a:lnTo>
                    <a:pt x="29706" y="64504"/>
                  </a:lnTo>
                  <a:lnTo>
                    <a:pt x="31097" y="79038"/>
                  </a:lnTo>
                  <a:lnTo>
                    <a:pt x="36465" y="96861"/>
                  </a:lnTo>
                  <a:lnTo>
                    <a:pt x="38220" y="104009"/>
                  </a:lnTo>
                  <a:lnTo>
                    <a:pt x="43122" y="118401"/>
                  </a:lnTo>
                  <a:lnTo>
                    <a:pt x="44950" y="137528"/>
                  </a:lnTo>
                  <a:lnTo>
                    <a:pt x="46338" y="154297"/>
                  </a:lnTo>
                  <a:lnTo>
                    <a:pt x="50889" y="170836"/>
                  </a:lnTo>
                  <a:lnTo>
                    <a:pt x="52614" y="190600"/>
                  </a:lnTo>
                  <a:lnTo>
                    <a:pt x="53971" y="208404"/>
                  </a:lnTo>
                  <a:lnTo>
                    <a:pt x="57289" y="222164"/>
                  </a:lnTo>
                  <a:lnTo>
                    <a:pt x="59328" y="236746"/>
                  </a:lnTo>
                  <a:lnTo>
                    <a:pt x="61082" y="250847"/>
                  </a:lnTo>
                  <a:lnTo>
                    <a:pt x="65982" y="268306"/>
                  </a:lnTo>
                  <a:lnTo>
                    <a:pt x="68657" y="285050"/>
                  </a:lnTo>
                  <a:lnTo>
                    <a:pt x="73589" y="304875"/>
                  </a:lnTo>
                  <a:lnTo>
                    <a:pt x="76273" y="321850"/>
                  </a:lnTo>
                  <a:lnTo>
                    <a:pt x="81208" y="338450"/>
                  </a:lnTo>
                  <a:lnTo>
                    <a:pt x="83046" y="358233"/>
                  </a:lnTo>
                  <a:lnTo>
                    <a:pt x="84437" y="375195"/>
                  </a:lnTo>
                  <a:lnTo>
                    <a:pt x="88989" y="390945"/>
                  </a:lnTo>
                  <a:lnTo>
                    <a:pt x="91561" y="406337"/>
                  </a:lnTo>
                  <a:lnTo>
                    <a:pt x="97328" y="424450"/>
                  </a:lnTo>
                  <a:lnTo>
                    <a:pt x="98832" y="444358"/>
                  </a:lnTo>
                  <a:lnTo>
                    <a:pt x="98959" y="450928"/>
                  </a:lnTo>
                  <a:lnTo>
                    <a:pt x="101272" y="458928"/>
                  </a:lnTo>
                  <a:lnTo>
                    <a:pt x="104276" y="467281"/>
                  </a:lnTo>
                  <a:lnTo>
                    <a:pt x="106205" y="479543"/>
                  </a:lnTo>
                  <a:lnTo>
                    <a:pt x="106652" y="497810"/>
                  </a:lnTo>
                  <a:lnTo>
                    <a:pt x="107508" y="499513"/>
                  </a:lnTo>
                  <a:lnTo>
                    <a:pt x="108925" y="500649"/>
                  </a:lnTo>
                  <a:lnTo>
                    <a:pt x="113238" y="502472"/>
                  </a:lnTo>
                  <a:lnTo>
                    <a:pt x="113592" y="503468"/>
                  </a:lnTo>
                  <a:lnTo>
                    <a:pt x="113986" y="506833"/>
                  </a:lnTo>
                  <a:lnTo>
                    <a:pt x="114937" y="508068"/>
                  </a:lnTo>
                  <a:lnTo>
                    <a:pt x="116418" y="508893"/>
                  </a:lnTo>
                  <a:lnTo>
                    <a:pt x="120833" y="510215"/>
                  </a:lnTo>
                  <a:lnTo>
                    <a:pt x="128385" y="510512"/>
                  </a:lnTo>
                  <a:lnTo>
                    <a:pt x="135395" y="505298"/>
                  </a:lnTo>
                  <a:lnTo>
                    <a:pt x="140044" y="503977"/>
                  </a:lnTo>
                  <a:lnTo>
                    <a:pt x="156012" y="502282"/>
                  </a:lnTo>
                  <a:lnTo>
                    <a:pt x="191577" y="489062"/>
                  </a:lnTo>
                  <a:lnTo>
                    <a:pt x="214231" y="487106"/>
                  </a:lnTo>
                  <a:lnTo>
                    <a:pt x="235890" y="481703"/>
                  </a:lnTo>
                  <a:lnTo>
                    <a:pt x="253620" y="478289"/>
                  </a:lnTo>
                  <a:lnTo>
                    <a:pt x="291338" y="466922"/>
                  </a:lnTo>
                  <a:lnTo>
                    <a:pt x="304743" y="464908"/>
                  </a:lnTo>
                  <a:lnTo>
                    <a:pt x="322657" y="459860"/>
                  </a:lnTo>
                  <a:lnTo>
                    <a:pt x="366837" y="452197"/>
                  </a:lnTo>
                  <a:lnTo>
                    <a:pt x="410451" y="449925"/>
                  </a:lnTo>
                  <a:lnTo>
                    <a:pt x="487339" y="449589"/>
                  </a:lnTo>
                  <a:lnTo>
                    <a:pt x="534025" y="443550"/>
                  </a:lnTo>
                  <a:lnTo>
                    <a:pt x="574163" y="442274"/>
                  </a:lnTo>
                  <a:lnTo>
                    <a:pt x="780003" y="441960"/>
                  </a:lnTo>
                  <a:lnTo>
                    <a:pt x="830609" y="447992"/>
                  </a:lnTo>
                  <a:lnTo>
                    <a:pt x="871226" y="449266"/>
                  </a:lnTo>
                  <a:lnTo>
                    <a:pt x="932181" y="449553"/>
                  </a:lnTo>
                  <a:lnTo>
                    <a:pt x="982980" y="455608"/>
                  </a:lnTo>
                  <a:lnTo>
                    <a:pt x="1029390" y="456990"/>
                  </a:lnTo>
                  <a:lnTo>
                    <a:pt x="1071044" y="459417"/>
                  </a:lnTo>
                  <a:lnTo>
                    <a:pt x="1098537" y="463219"/>
                  </a:lnTo>
                  <a:lnTo>
                    <a:pt x="1143009" y="464609"/>
                  </a:lnTo>
                  <a:lnTo>
                    <a:pt x="1191596" y="464792"/>
                  </a:lnTo>
                  <a:lnTo>
                    <a:pt x="1233816" y="470848"/>
                  </a:lnTo>
                  <a:lnTo>
                    <a:pt x="1280105" y="474558"/>
                  </a:lnTo>
                  <a:lnTo>
                    <a:pt x="1303004" y="478430"/>
                  </a:lnTo>
                  <a:lnTo>
                    <a:pt x="1340272" y="480692"/>
                  </a:lnTo>
                  <a:lnTo>
                    <a:pt x="1365568" y="486049"/>
                  </a:lnTo>
                  <a:lnTo>
                    <a:pt x="1412005" y="488463"/>
                  </a:lnTo>
                  <a:lnTo>
                    <a:pt x="1418119" y="490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SMARTInkAnnotation83"/>
            <p:cNvSpPr/>
            <p:nvPr/>
          </p:nvSpPr>
          <p:spPr>
            <a:xfrm>
              <a:off x="4633560" y="1615680"/>
              <a:ext cx="1493280" cy="543960"/>
            </a:xfrm>
            <a:custGeom>
              <a:avLst/>
              <a:gdLst>
                <a:gd name="textAreaLeft" fmla="*/ 0 w 1493280"/>
                <a:gd name="textAreaRight" fmla="*/ 1493640 w 149328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1493521" h="544112">
                  <a:moveTo>
                    <a:pt x="1493492" y="544111"/>
                  </a:moveTo>
                  <a:lnTo>
                    <a:pt x="1493520" y="490283"/>
                  </a:lnTo>
                  <a:lnTo>
                    <a:pt x="1491262" y="480088"/>
                  </a:lnTo>
                  <a:lnTo>
                    <a:pt x="1488283" y="469066"/>
                  </a:lnTo>
                  <a:lnTo>
                    <a:pt x="1485759" y="449427"/>
                  </a:lnTo>
                  <a:lnTo>
                    <a:pt x="1480872" y="432507"/>
                  </a:lnTo>
                  <a:lnTo>
                    <a:pt x="1478201" y="415923"/>
                  </a:lnTo>
                  <a:lnTo>
                    <a:pt x="1473271" y="396146"/>
                  </a:lnTo>
                  <a:lnTo>
                    <a:pt x="1470587" y="378338"/>
                  </a:lnTo>
                  <a:lnTo>
                    <a:pt x="1466958" y="364577"/>
                  </a:lnTo>
                  <a:lnTo>
                    <a:pt x="1464201" y="346595"/>
                  </a:lnTo>
                  <a:lnTo>
                    <a:pt x="1459338" y="330542"/>
                  </a:lnTo>
                  <a:lnTo>
                    <a:pt x="1452536" y="311016"/>
                  </a:lnTo>
                  <a:lnTo>
                    <a:pt x="1437609" y="266577"/>
                  </a:lnTo>
                  <a:lnTo>
                    <a:pt x="1432711" y="242279"/>
                  </a:lnTo>
                  <a:lnTo>
                    <a:pt x="1426772" y="225503"/>
                  </a:lnTo>
                  <a:lnTo>
                    <a:pt x="1414687" y="190092"/>
                  </a:lnTo>
                  <a:lnTo>
                    <a:pt x="1407401" y="177337"/>
                  </a:lnTo>
                  <a:lnTo>
                    <a:pt x="1403087" y="171565"/>
                  </a:lnTo>
                  <a:lnTo>
                    <a:pt x="1398295" y="160635"/>
                  </a:lnTo>
                  <a:lnTo>
                    <a:pt x="1393338" y="144962"/>
                  </a:lnTo>
                  <a:lnTo>
                    <a:pt x="1386507" y="127336"/>
                  </a:lnTo>
                  <a:lnTo>
                    <a:pt x="1379121" y="108285"/>
                  </a:lnTo>
                  <a:lnTo>
                    <a:pt x="1371571" y="91916"/>
                  </a:lnTo>
                  <a:lnTo>
                    <a:pt x="1367354" y="81491"/>
                  </a:lnTo>
                  <a:lnTo>
                    <a:pt x="1364133" y="66103"/>
                  </a:lnTo>
                  <a:lnTo>
                    <a:pt x="1358193" y="51665"/>
                  </a:lnTo>
                  <a:lnTo>
                    <a:pt x="1353506" y="44694"/>
                  </a:lnTo>
                  <a:lnTo>
                    <a:pt x="1350858" y="36515"/>
                  </a:lnTo>
                  <a:lnTo>
                    <a:pt x="1349159" y="21512"/>
                  </a:lnTo>
                  <a:lnTo>
                    <a:pt x="1348172" y="18575"/>
                  </a:lnTo>
                  <a:lnTo>
                    <a:pt x="1343586" y="10395"/>
                  </a:lnTo>
                  <a:lnTo>
                    <a:pt x="1341122" y="12"/>
                  </a:lnTo>
                  <a:lnTo>
                    <a:pt x="1341121" y="4"/>
                  </a:lnTo>
                  <a:lnTo>
                    <a:pt x="1334560" y="0"/>
                  </a:lnTo>
                  <a:lnTo>
                    <a:pt x="1309814" y="17696"/>
                  </a:lnTo>
                  <a:lnTo>
                    <a:pt x="1295155" y="28950"/>
                  </a:lnTo>
                  <a:lnTo>
                    <a:pt x="1259826" y="48170"/>
                  </a:lnTo>
                  <a:lnTo>
                    <a:pt x="1229359" y="63492"/>
                  </a:lnTo>
                  <a:lnTo>
                    <a:pt x="1214684" y="66319"/>
                  </a:lnTo>
                  <a:lnTo>
                    <a:pt x="1189640" y="70168"/>
                  </a:lnTo>
                  <a:lnTo>
                    <a:pt x="1172195" y="73519"/>
                  </a:lnTo>
                  <a:lnTo>
                    <a:pt x="1128760" y="75671"/>
                  </a:lnTo>
                  <a:lnTo>
                    <a:pt x="1097576" y="78301"/>
                  </a:lnTo>
                  <a:lnTo>
                    <a:pt x="1052653" y="82730"/>
                  </a:lnTo>
                  <a:lnTo>
                    <a:pt x="1003014" y="88842"/>
                  </a:lnTo>
                  <a:lnTo>
                    <a:pt x="964269" y="90670"/>
                  </a:lnTo>
                  <a:lnTo>
                    <a:pt x="906094" y="91288"/>
                  </a:lnTo>
                  <a:lnTo>
                    <a:pt x="662939" y="91440"/>
                  </a:lnTo>
                  <a:lnTo>
                    <a:pt x="630201" y="89182"/>
                  </a:lnTo>
                  <a:lnTo>
                    <a:pt x="596743" y="86203"/>
                  </a:lnTo>
                  <a:lnTo>
                    <a:pt x="549346" y="84526"/>
                  </a:lnTo>
                  <a:lnTo>
                    <a:pt x="444259" y="83862"/>
                  </a:lnTo>
                  <a:lnTo>
                    <a:pt x="402283" y="81575"/>
                  </a:lnTo>
                  <a:lnTo>
                    <a:pt x="357673" y="77792"/>
                  </a:lnTo>
                  <a:lnTo>
                    <a:pt x="312281" y="76672"/>
                  </a:lnTo>
                  <a:lnTo>
                    <a:pt x="268916" y="78598"/>
                  </a:lnTo>
                  <a:lnTo>
                    <a:pt x="229256" y="82273"/>
                  </a:lnTo>
                  <a:lnTo>
                    <a:pt x="190694" y="83362"/>
                  </a:lnTo>
                  <a:lnTo>
                    <a:pt x="112217" y="83793"/>
                  </a:lnTo>
                  <a:lnTo>
                    <a:pt x="69309" y="89848"/>
                  </a:lnTo>
                  <a:lnTo>
                    <a:pt x="23169" y="92225"/>
                  </a:lnTo>
                  <a:lnTo>
                    <a:pt x="0" y="990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SMARTInkAnnotation84"/>
            <p:cNvSpPr/>
            <p:nvPr/>
          </p:nvSpPr>
          <p:spPr>
            <a:xfrm>
              <a:off x="5921640" y="258336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0" h="7593">
                  <a:moveTo>
                    <a:pt x="0" y="7592"/>
                  </a:moveTo>
                  <a:lnTo>
                    <a:pt x="14651" y="7592"/>
                  </a:lnTo>
                  <a:lnTo>
                    <a:pt x="19080" y="6746"/>
                  </a:lnTo>
                  <a:lnTo>
                    <a:pt x="23726" y="5334"/>
                  </a:lnTo>
                  <a:lnTo>
                    <a:pt x="28517" y="3547"/>
                  </a:lnTo>
                  <a:lnTo>
                    <a:pt x="33405" y="2355"/>
                  </a:lnTo>
                  <a:lnTo>
                    <a:pt x="38356" y="1561"/>
                  </a:lnTo>
                  <a:lnTo>
                    <a:pt x="43351" y="1031"/>
                  </a:lnTo>
                  <a:lnTo>
                    <a:pt x="49221" y="678"/>
                  </a:lnTo>
                  <a:lnTo>
                    <a:pt x="62515" y="286"/>
                  </a:lnTo>
                  <a:lnTo>
                    <a:pt x="110861" y="0"/>
                  </a:lnTo>
                  <a:lnTo>
                    <a:pt x="121320" y="837"/>
                  </a:lnTo>
                  <a:lnTo>
                    <a:pt x="132526" y="2242"/>
                  </a:lnTo>
                  <a:lnTo>
                    <a:pt x="144231" y="4026"/>
                  </a:lnTo>
                  <a:lnTo>
                    <a:pt x="153727" y="5214"/>
                  </a:lnTo>
                  <a:lnTo>
                    <a:pt x="161751" y="6007"/>
                  </a:lnTo>
                  <a:lnTo>
                    <a:pt x="168794" y="6535"/>
                  </a:lnTo>
                  <a:lnTo>
                    <a:pt x="175182" y="6888"/>
                  </a:lnTo>
                  <a:lnTo>
                    <a:pt x="198119" y="75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MARTInkAnnotation85"/>
            <p:cNvSpPr/>
            <p:nvPr/>
          </p:nvSpPr>
          <p:spPr>
            <a:xfrm>
              <a:off x="6325560" y="2491920"/>
              <a:ext cx="60840" cy="2055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60961" h="205741">
                  <a:moveTo>
                    <a:pt x="60960" y="0"/>
                  </a:moveTo>
                  <a:lnTo>
                    <a:pt x="50354" y="10606"/>
                  </a:lnTo>
                  <a:lnTo>
                    <a:pt x="48810" y="13844"/>
                  </a:lnTo>
                  <a:lnTo>
                    <a:pt x="47779" y="17696"/>
                  </a:lnTo>
                  <a:lnTo>
                    <a:pt x="47093" y="21957"/>
                  </a:lnTo>
                  <a:lnTo>
                    <a:pt x="45789" y="26491"/>
                  </a:lnTo>
                  <a:lnTo>
                    <a:pt x="44073" y="31208"/>
                  </a:lnTo>
                  <a:lnTo>
                    <a:pt x="42082" y="36045"/>
                  </a:lnTo>
                  <a:lnTo>
                    <a:pt x="39908" y="41810"/>
                  </a:lnTo>
                  <a:lnTo>
                    <a:pt x="35234" y="54989"/>
                  </a:lnTo>
                  <a:lnTo>
                    <a:pt x="31957" y="62059"/>
                  </a:lnTo>
                  <a:lnTo>
                    <a:pt x="28078" y="69313"/>
                  </a:lnTo>
                  <a:lnTo>
                    <a:pt x="23798" y="76688"/>
                  </a:lnTo>
                  <a:lnTo>
                    <a:pt x="20099" y="84146"/>
                  </a:lnTo>
                  <a:lnTo>
                    <a:pt x="16786" y="91657"/>
                  </a:lnTo>
                  <a:lnTo>
                    <a:pt x="13731" y="99205"/>
                  </a:lnTo>
                  <a:lnTo>
                    <a:pt x="8078" y="114364"/>
                  </a:lnTo>
                  <a:lnTo>
                    <a:pt x="5385" y="121963"/>
                  </a:lnTo>
                  <a:lnTo>
                    <a:pt x="3591" y="129569"/>
                  </a:lnTo>
                  <a:lnTo>
                    <a:pt x="2394" y="137179"/>
                  </a:lnTo>
                  <a:lnTo>
                    <a:pt x="1596" y="144793"/>
                  </a:lnTo>
                  <a:lnTo>
                    <a:pt x="1064" y="151561"/>
                  </a:lnTo>
                  <a:lnTo>
                    <a:pt x="709" y="157768"/>
                  </a:lnTo>
                  <a:lnTo>
                    <a:pt x="316" y="169179"/>
                  </a:lnTo>
                  <a:lnTo>
                    <a:pt x="62" y="190302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MARTInkAnnotation86"/>
            <p:cNvSpPr/>
            <p:nvPr/>
          </p:nvSpPr>
          <p:spPr>
            <a:xfrm>
              <a:off x="6500520" y="2468880"/>
              <a:ext cx="235440" cy="22068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35538" h="220951">
                  <a:moveTo>
                    <a:pt x="0" y="30450"/>
                  </a:moveTo>
                  <a:lnTo>
                    <a:pt x="0" y="18793"/>
                  </a:lnTo>
                  <a:lnTo>
                    <a:pt x="846" y="17599"/>
                  </a:lnTo>
                  <a:lnTo>
                    <a:pt x="2258" y="16803"/>
                  </a:lnTo>
                  <a:lnTo>
                    <a:pt x="8607" y="14573"/>
                  </a:lnTo>
                  <a:lnTo>
                    <a:pt x="15397" y="11258"/>
                  </a:lnTo>
                  <a:lnTo>
                    <a:pt x="20425" y="10036"/>
                  </a:lnTo>
                  <a:lnTo>
                    <a:pt x="26316" y="9221"/>
                  </a:lnTo>
                  <a:lnTo>
                    <a:pt x="32784" y="8677"/>
                  </a:lnTo>
                  <a:lnTo>
                    <a:pt x="39636" y="7468"/>
                  </a:lnTo>
                  <a:lnTo>
                    <a:pt x="46744" y="5815"/>
                  </a:lnTo>
                  <a:lnTo>
                    <a:pt x="54023" y="3867"/>
                  </a:lnTo>
                  <a:lnTo>
                    <a:pt x="62262" y="2568"/>
                  </a:lnTo>
                  <a:lnTo>
                    <a:pt x="71142" y="1702"/>
                  </a:lnTo>
                  <a:lnTo>
                    <a:pt x="80448" y="1125"/>
                  </a:lnTo>
                  <a:lnTo>
                    <a:pt x="99819" y="483"/>
                  </a:lnTo>
                  <a:lnTo>
                    <a:pt x="145766" y="15"/>
                  </a:lnTo>
                  <a:lnTo>
                    <a:pt x="153058" y="0"/>
                  </a:lnTo>
                  <a:lnTo>
                    <a:pt x="159612" y="837"/>
                  </a:lnTo>
                  <a:lnTo>
                    <a:pt x="165675" y="2241"/>
                  </a:lnTo>
                  <a:lnTo>
                    <a:pt x="171410" y="4024"/>
                  </a:lnTo>
                  <a:lnTo>
                    <a:pt x="176927" y="6060"/>
                  </a:lnTo>
                  <a:lnTo>
                    <a:pt x="182298" y="8263"/>
                  </a:lnTo>
                  <a:lnTo>
                    <a:pt x="187572" y="10579"/>
                  </a:lnTo>
                  <a:lnTo>
                    <a:pt x="191935" y="12122"/>
                  </a:lnTo>
                  <a:lnTo>
                    <a:pt x="199040" y="13838"/>
                  </a:lnTo>
                  <a:lnTo>
                    <a:pt x="201274" y="15142"/>
                  </a:lnTo>
                  <a:lnTo>
                    <a:pt x="202763" y="16858"/>
                  </a:lnTo>
                  <a:lnTo>
                    <a:pt x="203756" y="18849"/>
                  </a:lnTo>
                  <a:lnTo>
                    <a:pt x="204858" y="23318"/>
                  </a:lnTo>
                  <a:lnTo>
                    <a:pt x="205152" y="25696"/>
                  </a:lnTo>
                  <a:lnTo>
                    <a:pt x="204502" y="28974"/>
                  </a:lnTo>
                  <a:lnTo>
                    <a:pt x="203221" y="32853"/>
                  </a:lnTo>
                  <a:lnTo>
                    <a:pt x="201521" y="37132"/>
                  </a:lnTo>
                  <a:lnTo>
                    <a:pt x="198694" y="40831"/>
                  </a:lnTo>
                  <a:lnTo>
                    <a:pt x="195117" y="44144"/>
                  </a:lnTo>
                  <a:lnTo>
                    <a:pt x="191038" y="47200"/>
                  </a:lnTo>
                  <a:lnTo>
                    <a:pt x="185778" y="50083"/>
                  </a:lnTo>
                  <a:lnTo>
                    <a:pt x="179732" y="52852"/>
                  </a:lnTo>
                  <a:lnTo>
                    <a:pt x="173162" y="55545"/>
                  </a:lnTo>
                  <a:lnTo>
                    <a:pt x="167088" y="59033"/>
                  </a:lnTo>
                  <a:lnTo>
                    <a:pt x="161346" y="63052"/>
                  </a:lnTo>
                  <a:lnTo>
                    <a:pt x="155824" y="67425"/>
                  </a:lnTo>
                  <a:lnTo>
                    <a:pt x="148756" y="71187"/>
                  </a:lnTo>
                  <a:lnTo>
                    <a:pt x="140658" y="74541"/>
                  </a:lnTo>
                  <a:lnTo>
                    <a:pt x="107371" y="86008"/>
                  </a:lnTo>
                  <a:lnTo>
                    <a:pt x="101214" y="88656"/>
                  </a:lnTo>
                  <a:lnTo>
                    <a:pt x="96263" y="91267"/>
                  </a:lnTo>
                  <a:lnTo>
                    <a:pt x="92115" y="93855"/>
                  </a:lnTo>
                  <a:lnTo>
                    <a:pt x="85249" y="98988"/>
                  </a:lnTo>
                  <a:lnTo>
                    <a:pt x="82233" y="101542"/>
                  </a:lnTo>
                  <a:lnTo>
                    <a:pt x="80221" y="104091"/>
                  </a:lnTo>
                  <a:lnTo>
                    <a:pt x="77988" y="109182"/>
                  </a:lnTo>
                  <a:lnTo>
                    <a:pt x="78238" y="112571"/>
                  </a:lnTo>
                  <a:lnTo>
                    <a:pt x="79253" y="116524"/>
                  </a:lnTo>
                  <a:lnTo>
                    <a:pt x="80775" y="120853"/>
                  </a:lnTo>
                  <a:lnTo>
                    <a:pt x="83483" y="123739"/>
                  </a:lnTo>
                  <a:lnTo>
                    <a:pt x="86983" y="125662"/>
                  </a:lnTo>
                  <a:lnTo>
                    <a:pt x="91008" y="126945"/>
                  </a:lnTo>
                  <a:lnTo>
                    <a:pt x="95386" y="128647"/>
                  </a:lnTo>
                  <a:lnTo>
                    <a:pt x="99997" y="130628"/>
                  </a:lnTo>
                  <a:lnTo>
                    <a:pt x="104764" y="132795"/>
                  </a:lnTo>
                  <a:lnTo>
                    <a:pt x="111329" y="135087"/>
                  </a:lnTo>
                  <a:lnTo>
                    <a:pt x="119093" y="137461"/>
                  </a:lnTo>
                  <a:lnTo>
                    <a:pt x="127656" y="139891"/>
                  </a:lnTo>
                  <a:lnTo>
                    <a:pt x="135904" y="143204"/>
                  </a:lnTo>
                  <a:lnTo>
                    <a:pt x="143943" y="147106"/>
                  </a:lnTo>
                  <a:lnTo>
                    <a:pt x="151842" y="151401"/>
                  </a:lnTo>
                  <a:lnTo>
                    <a:pt x="159648" y="155110"/>
                  </a:lnTo>
                  <a:lnTo>
                    <a:pt x="167393" y="158430"/>
                  </a:lnTo>
                  <a:lnTo>
                    <a:pt x="175095" y="161490"/>
                  </a:lnTo>
                  <a:lnTo>
                    <a:pt x="181924" y="164377"/>
                  </a:lnTo>
                  <a:lnTo>
                    <a:pt x="194026" y="169842"/>
                  </a:lnTo>
                  <a:lnTo>
                    <a:pt x="200471" y="172485"/>
                  </a:lnTo>
                  <a:lnTo>
                    <a:pt x="207307" y="175093"/>
                  </a:lnTo>
                  <a:lnTo>
                    <a:pt x="214405" y="177679"/>
                  </a:lnTo>
                  <a:lnTo>
                    <a:pt x="219983" y="180249"/>
                  </a:lnTo>
                  <a:lnTo>
                    <a:pt x="224549" y="182810"/>
                  </a:lnTo>
                  <a:lnTo>
                    <a:pt x="228440" y="185363"/>
                  </a:lnTo>
                  <a:lnTo>
                    <a:pt x="231033" y="187912"/>
                  </a:lnTo>
                  <a:lnTo>
                    <a:pt x="232762" y="190458"/>
                  </a:lnTo>
                  <a:lnTo>
                    <a:pt x="235537" y="196583"/>
                  </a:lnTo>
                  <a:lnTo>
                    <a:pt x="234919" y="197932"/>
                  </a:lnTo>
                  <a:lnTo>
                    <a:pt x="231973" y="201689"/>
                  </a:lnTo>
                  <a:lnTo>
                    <a:pt x="228309" y="203876"/>
                  </a:lnTo>
                  <a:lnTo>
                    <a:pt x="223327" y="206181"/>
                  </a:lnTo>
                  <a:lnTo>
                    <a:pt x="217464" y="208564"/>
                  </a:lnTo>
                  <a:lnTo>
                    <a:pt x="211016" y="210999"/>
                  </a:lnTo>
                  <a:lnTo>
                    <a:pt x="197079" y="215963"/>
                  </a:lnTo>
                  <a:lnTo>
                    <a:pt x="189806" y="217625"/>
                  </a:lnTo>
                  <a:lnTo>
                    <a:pt x="182417" y="218734"/>
                  </a:lnTo>
                  <a:lnTo>
                    <a:pt x="174951" y="219472"/>
                  </a:lnTo>
                  <a:lnTo>
                    <a:pt x="166588" y="219965"/>
                  </a:lnTo>
                  <a:lnTo>
                    <a:pt x="148264" y="220512"/>
                  </a:lnTo>
                  <a:lnTo>
                    <a:pt x="79493" y="220925"/>
                  </a:lnTo>
                  <a:lnTo>
                    <a:pt x="38100" y="2209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SMARTInkAnnotation87"/>
            <p:cNvSpPr/>
            <p:nvPr/>
          </p:nvSpPr>
          <p:spPr>
            <a:xfrm>
              <a:off x="5977080" y="1981440"/>
              <a:ext cx="232200" cy="1476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32334" h="14927">
                  <a:moveTo>
                    <a:pt x="43509" y="7306"/>
                  </a:moveTo>
                  <a:lnTo>
                    <a:pt x="138974" y="7306"/>
                  </a:lnTo>
                  <a:lnTo>
                    <a:pt x="145252" y="6459"/>
                  </a:lnTo>
                  <a:lnTo>
                    <a:pt x="151978" y="5048"/>
                  </a:lnTo>
                  <a:lnTo>
                    <a:pt x="159002" y="3261"/>
                  </a:lnTo>
                  <a:lnTo>
                    <a:pt x="165378" y="2069"/>
                  </a:lnTo>
                  <a:lnTo>
                    <a:pt x="171322" y="1275"/>
                  </a:lnTo>
                  <a:lnTo>
                    <a:pt x="176978" y="745"/>
                  </a:lnTo>
                  <a:lnTo>
                    <a:pt x="182442" y="392"/>
                  </a:lnTo>
                  <a:lnTo>
                    <a:pt x="187777" y="157"/>
                  </a:lnTo>
                  <a:lnTo>
                    <a:pt x="193028" y="0"/>
                  </a:lnTo>
                  <a:lnTo>
                    <a:pt x="197375" y="742"/>
                  </a:lnTo>
                  <a:lnTo>
                    <a:pt x="201120" y="2083"/>
                  </a:lnTo>
                  <a:lnTo>
                    <a:pt x="204463" y="3824"/>
                  </a:lnTo>
                  <a:lnTo>
                    <a:pt x="207539" y="4985"/>
                  </a:lnTo>
                  <a:lnTo>
                    <a:pt x="210436" y="5759"/>
                  </a:lnTo>
                  <a:lnTo>
                    <a:pt x="217123" y="7000"/>
                  </a:lnTo>
                  <a:lnTo>
                    <a:pt x="223681" y="7246"/>
                  </a:lnTo>
                  <a:lnTo>
                    <a:pt x="225185" y="7279"/>
                  </a:lnTo>
                  <a:lnTo>
                    <a:pt x="217941" y="7303"/>
                  </a:lnTo>
                  <a:lnTo>
                    <a:pt x="171398" y="7306"/>
                  </a:lnTo>
                  <a:lnTo>
                    <a:pt x="163481" y="8153"/>
                  </a:lnTo>
                  <a:lnTo>
                    <a:pt x="154817" y="9564"/>
                  </a:lnTo>
                  <a:lnTo>
                    <a:pt x="145655" y="11351"/>
                  </a:lnTo>
                  <a:lnTo>
                    <a:pt x="137006" y="12543"/>
                  </a:lnTo>
                  <a:lnTo>
                    <a:pt x="128701" y="13337"/>
                  </a:lnTo>
                  <a:lnTo>
                    <a:pt x="120623" y="13867"/>
                  </a:lnTo>
                  <a:lnTo>
                    <a:pt x="112699" y="14220"/>
                  </a:lnTo>
                  <a:lnTo>
                    <a:pt x="97120" y="14612"/>
                  </a:lnTo>
                  <a:lnTo>
                    <a:pt x="0" y="14926"/>
                  </a:lnTo>
                  <a:lnTo>
                    <a:pt x="41157" y="14926"/>
                  </a:lnTo>
                  <a:lnTo>
                    <a:pt x="47868" y="14080"/>
                  </a:lnTo>
                  <a:lnTo>
                    <a:pt x="55729" y="12668"/>
                  </a:lnTo>
                  <a:lnTo>
                    <a:pt x="64356" y="10881"/>
                  </a:lnTo>
                  <a:lnTo>
                    <a:pt x="72647" y="9689"/>
                  </a:lnTo>
                  <a:lnTo>
                    <a:pt x="80714" y="8895"/>
                  </a:lnTo>
                  <a:lnTo>
                    <a:pt x="88633" y="8366"/>
                  </a:lnTo>
                  <a:lnTo>
                    <a:pt x="96452" y="8012"/>
                  </a:lnTo>
                  <a:lnTo>
                    <a:pt x="111912" y="7620"/>
                  </a:lnTo>
                  <a:lnTo>
                    <a:pt x="195764" y="7306"/>
                  </a:lnTo>
                  <a:lnTo>
                    <a:pt x="194966" y="8153"/>
                  </a:lnTo>
                  <a:lnTo>
                    <a:pt x="191820" y="11351"/>
                  </a:lnTo>
                  <a:lnTo>
                    <a:pt x="188950" y="12543"/>
                  </a:lnTo>
                  <a:lnTo>
                    <a:pt x="185343" y="13337"/>
                  </a:lnTo>
                  <a:lnTo>
                    <a:pt x="181246" y="13867"/>
                  </a:lnTo>
                  <a:lnTo>
                    <a:pt x="177666" y="14220"/>
                  </a:lnTo>
                  <a:lnTo>
                    <a:pt x="171432" y="14612"/>
                  </a:lnTo>
                  <a:lnTo>
                    <a:pt x="163582" y="14787"/>
                  </a:lnTo>
                  <a:lnTo>
                    <a:pt x="82181" y="14926"/>
                  </a:lnTo>
                  <a:lnTo>
                    <a:pt x="232333" y="14926"/>
                  </a:lnTo>
                  <a:lnTo>
                    <a:pt x="119709" y="149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ing an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0" y="6094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an expression for each of the follow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2860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15)  3 time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u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228600" y="3581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16)  The product of -2 an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us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27"/>
          <p:cNvGrpSpPr/>
          <p:nvPr/>
        </p:nvGrpSpPr>
        <p:grpSpPr>
          <a:xfrm>
            <a:off x="1577880" y="1112760"/>
            <a:ext cx="4983120" cy="3405240"/>
            <a:chOff x="1577880" y="1112760"/>
            <a:chExt cx="4983120" cy="3405240"/>
          </a:xfrm>
        </p:grpSpPr>
        <p:sp>
          <p:nvSpPr>
            <p:cNvPr id="663" name="SMARTInkAnnotation0"/>
            <p:cNvSpPr/>
            <p:nvPr/>
          </p:nvSpPr>
          <p:spPr>
            <a:xfrm>
              <a:off x="2966400" y="1158120"/>
              <a:ext cx="249480" cy="2818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49633" h="281941">
                  <a:moveTo>
                    <a:pt x="97232" y="0"/>
                  </a:moveTo>
                  <a:lnTo>
                    <a:pt x="97232" y="10606"/>
                  </a:lnTo>
                  <a:lnTo>
                    <a:pt x="96386" y="12151"/>
                  </a:lnTo>
                  <a:lnTo>
                    <a:pt x="94975" y="13181"/>
                  </a:lnTo>
                  <a:lnTo>
                    <a:pt x="93187" y="13867"/>
                  </a:lnTo>
                  <a:lnTo>
                    <a:pt x="88943" y="19145"/>
                  </a:lnTo>
                  <a:lnTo>
                    <a:pt x="83388" y="27136"/>
                  </a:lnTo>
                  <a:lnTo>
                    <a:pt x="79536" y="31637"/>
                  </a:lnTo>
                  <a:lnTo>
                    <a:pt x="71587" y="40308"/>
                  </a:lnTo>
                  <a:lnTo>
                    <a:pt x="65232" y="46984"/>
                  </a:lnTo>
                  <a:lnTo>
                    <a:pt x="59585" y="55031"/>
                  </a:lnTo>
                  <a:lnTo>
                    <a:pt x="56895" y="59547"/>
                  </a:lnTo>
                  <a:lnTo>
                    <a:pt x="49389" y="71339"/>
                  </a:lnTo>
                  <a:lnTo>
                    <a:pt x="45017" y="78039"/>
                  </a:lnTo>
                  <a:lnTo>
                    <a:pt x="41255" y="84199"/>
                  </a:lnTo>
                  <a:lnTo>
                    <a:pt x="37901" y="90000"/>
                  </a:lnTo>
                  <a:lnTo>
                    <a:pt x="34818" y="95560"/>
                  </a:lnTo>
                  <a:lnTo>
                    <a:pt x="31916" y="101807"/>
                  </a:lnTo>
                  <a:lnTo>
                    <a:pt x="29135" y="108511"/>
                  </a:lnTo>
                  <a:lnTo>
                    <a:pt x="26434" y="115521"/>
                  </a:lnTo>
                  <a:lnTo>
                    <a:pt x="22940" y="122734"/>
                  </a:lnTo>
                  <a:lnTo>
                    <a:pt x="18917" y="130083"/>
                  </a:lnTo>
                  <a:lnTo>
                    <a:pt x="14542" y="137522"/>
                  </a:lnTo>
                  <a:lnTo>
                    <a:pt x="7423" y="150303"/>
                  </a:lnTo>
                  <a:lnTo>
                    <a:pt x="4339" y="156082"/>
                  </a:lnTo>
                  <a:lnTo>
                    <a:pt x="2284" y="162475"/>
                  </a:lnTo>
                  <a:lnTo>
                    <a:pt x="913" y="169277"/>
                  </a:lnTo>
                  <a:lnTo>
                    <a:pt x="0" y="176351"/>
                  </a:lnTo>
                  <a:lnTo>
                    <a:pt x="237" y="183607"/>
                  </a:lnTo>
                  <a:lnTo>
                    <a:pt x="1242" y="190985"/>
                  </a:lnTo>
                  <a:lnTo>
                    <a:pt x="2759" y="198443"/>
                  </a:lnTo>
                  <a:lnTo>
                    <a:pt x="4616" y="205109"/>
                  </a:lnTo>
                  <a:lnTo>
                    <a:pt x="6702" y="211246"/>
                  </a:lnTo>
                  <a:lnTo>
                    <a:pt x="8939" y="217031"/>
                  </a:lnTo>
                  <a:lnTo>
                    <a:pt x="11277" y="222580"/>
                  </a:lnTo>
                  <a:lnTo>
                    <a:pt x="13682" y="227974"/>
                  </a:lnTo>
                  <a:lnTo>
                    <a:pt x="16132" y="233262"/>
                  </a:lnTo>
                  <a:lnTo>
                    <a:pt x="20305" y="238482"/>
                  </a:lnTo>
                  <a:lnTo>
                    <a:pt x="25628" y="243655"/>
                  </a:lnTo>
                  <a:lnTo>
                    <a:pt x="31716" y="248796"/>
                  </a:lnTo>
                  <a:lnTo>
                    <a:pt x="38315" y="253071"/>
                  </a:lnTo>
                  <a:lnTo>
                    <a:pt x="45254" y="256767"/>
                  </a:lnTo>
                  <a:lnTo>
                    <a:pt x="52420" y="260078"/>
                  </a:lnTo>
                  <a:lnTo>
                    <a:pt x="60584" y="263132"/>
                  </a:lnTo>
                  <a:lnTo>
                    <a:pt x="69414" y="266015"/>
                  </a:lnTo>
                  <a:lnTo>
                    <a:pt x="78686" y="268783"/>
                  </a:lnTo>
                  <a:lnTo>
                    <a:pt x="98020" y="274117"/>
                  </a:lnTo>
                  <a:lnTo>
                    <a:pt x="107917" y="276725"/>
                  </a:lnTo>
                  <a:lnTo>
                    <a:pt x="118749" y="278463"/>
                  </a:lnTo>
                  <a:lnTo>
                    <a:pt x="130203" y="279622"/>
                  </a:lnTo>
                  <a:lnTo>
                    <a:pt x="142073" y="280395"/>
                  </a:lnTo>
                  <a:lnTo>
                    <a:pt x="154219" y="280910"/>
                  </a:lnTo>
                  <a:lnTo>
                    <a:pt x="189847" y="281635"/>
                  </a:lnTo>
                  <a:lnTo>
                    <a:pt x="249632" y="2819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MARTInkAnnotation1"/>
            <p:cNvSpPr/>
            <p:nvPr/>
          </p:nvSpPr>
          <p:spPr>
            <a:xfrm>
              <a:off x="3935520" y="1112760"/>
              <a:ext cx="162720" cy="29700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62995" h="297181">
                  <a:moveTo>
                    <a:pt x="4390" y="0"/>
                  </a:moveTo>
                  <a:lnTo>
                    <a:pt x="0" y="0"/>
                  </a:lnTo>
                  <a:lnTo>
                    <a:pt x="8369" y="0"/>
                  </a:lnTo>
                  <a:lnTo>
                    <a:pt x="9583" y="847"/>
                  </a:lnTo>
                  <a:lnTo>
                    <a:pt x="10393" y="2258"/>
                  </a:lnTo>
                  <a:lnTo>
                    <a:pt x="10932" y="4045"/>
                  </a:lnTo>
                  <a:lnTo>
                    <a:pt x="12138" y="5237"/>
                  </a:lnTo>
                  <a:lnTo>
                    <a:pt x="13788" y="6031"/>
                  </a:lnTo>
                  <a:lnTo>
                    <a:pt x="15736" y="6561"/>
                  </a:lnTo>
                  <a:lnTo>
                    <a:pt x="20157" y="9407"/>
                  </a:lnTo>
                  <a:lnTo>
                    <a:pt x="22522" y="11351"/>
                  </a:lnTo>
                  <a:lnTo>
                    <a:pt x="25791" y="13494"/>
                  </a:lnTo>
                  <a:lnTo>
                    <a:pt x="29664" y="15769"/>
                  </a:lnTo>
                  <a:lnTo>
                    <a:pt x="33940" y="18133"/>
                  </a:lnTo>
                  <a:lnTo>
                    <a:pt x="38483" y="21402"/>
                  </a:lnTo>
                  <a:lnTo>
                    <a:pt x="43205" y="25275"/>
                  </a:lnTo>
                  <a:lnTo>
                    <a:pt x="48047" y="29550"/>
                  </a:lnTo>
                  <a:lnTo>
                    <a:pt x="52968" y="33246"/>
                  </a:lnTo>
                  <a:lnTo>
                    <a:pt x="57942" y="36558"/>
                  </a:lnTo>
                  <a:lnTo>
                    <a:pt x="62952" y="39612"/>
                  </a:lnTo>
                  <a:lnTo>
                    <a:pt x="67984" y="43341"/>
                  </a:lnTo>
                  <a:lnTo>
                    <a:pt x="73033" y="47521"/>
                  </a:lnTo>
                  <a:lnTo>
                    <a:pt x="78092" y="52001"/>
                  </a:lnTo>
                  <a:lnTo>
                    <a:pt x="88228" y="61494"/>
                  </a:lnTo>
                  <a:lnTo>
                    <a:pt x="93303" y="66396"/>
                  </a:lnTo>
                  <a:lnTo>
                    <a:pt x="98378" y="72204"/>
                  </a:lnTo>
                  <a:lnTo>
                    <a:pt x="103455" y="78616"/>
                  </a:lnTo>
                  <a:lnTo>
                    <a:pt x="108533" y="85431"/>
                  </a:lnTo>
                  <a:lnTo>
                    <a:pt x="113612" y="91667"/>
                  </a:lnTo>
                  <a:lnTo>
                    <a:pt x="118692" y="97518"/>
                  </a:lnTo>
                  <a:lnTo>
                    <a:pt x="123771" y="103112"/>
                  </a:lnTo>
                  <a:lnTo>
                    <a:pt x="136188" y="116101"/>
                  </a:lnTo>
                  <a:lnTo>
                    <a:pt x="143056" y="123121"/>
                  </a:lnTo>
                  <a:lnTo>
                    <a:pt x="147634" y="130340"/>
                  </a:lnTo>
                  <a:lnTo>
                    <a:pt x="150687" y="137694"/>
                  </a:lnTo>
                  <a:lnTo>
                    <a:pt x="152721" y="145136"/>
                  </a:lnTo>
                  <a:lnTo>
                    <a:pt x="157240" y="160178"/>
                  </a:lnTo>
                  <a:lnTo>
                    <a:pt x="159630" y="167745"/>
                  </a:lnTo>
                  <a:lnTo>
                    <a:pt x="161223" y="174484"/>
                  </a:lnTo>
                  <a:lnTo>
                    <a:pt x="162286" y="180669"/>
                  </a:lnTo>
                  <a:lnTo>
                    <a:pt x="162994" y="186486"/>
                  </a:lnTo>
                  <a:lnTo>
                    <a:pt x="162619" y="192904"/>
                  </a:lnTo>
                  <a:lnTo>
                    <a:pt x="161523" y="199723"/>
                  </a:lnTo>
                  <a:lnTo>
                    <a:pt x="159945" y="206808"/>
                  </a:lnTo>
                  <a:lnTo>
                    <a:pt x="158047" y="213226"/>
                  </a:lnTo>
                  <a:lnTo>
                    <a:pt x="155935" y="219197"/>
                  </a:lnTo>
                  <a:lnTo>
                    <a:pt x="153680" y="224872"/>
                  </a:lnTo>
                  <a:lnTo>
                    <a:pt x="150484" y="229501"/>
                  </a:lnTo>
                  <a:lnTo>
                    <a:pt x="146659" y="233434"/>
                  </a:lnTo>
                  <a:lnTo>
                    <a:pt x="142416" y="236903"/>
                  </a:lnTo>
                  <a:lnTo>
                    <a:pt x="137894" y="240908"/>
                  </a:lnTo>
                  <a:lnTo>
                    <a:pt x="128354" y="249875"/>
                  </a:lnTo>
                  <a:lnTo>
                    <a:pt x="123439" y="253790"/>
                  </a:lnTo>
                  <a:lnTo>
                    <a:pt x="118470" y="257247"/>
                  </a:lnTo>
                  <a:lnTo>
                    <a:pt x="113463" y="260398"/>
                  </a:lnTo>
                  <a:lnTo>
                    <a:pt x="108432" y="264192"/>
                  </a:lnTo>
                  <a:lnTo>
                    <a:pt x="103385" y="268415"/>
                  </a:lnTo>
                  <a:lnTo>
                    <a:pt x="98327" y="272923"/>
                  </a:lnTo>
                  <a:lnTo>
                    <a:pt x="93261" y="275929"/>
                  </a:lnTo>
                  <a:lnTo>
                    <a:pt x="88190" y="277933"/>
                  </a:lnTo>
                  <a:lnTo>
                    <a:pt x="83117" y="279268"/>
                  </a:lnTo>
                  <a:lnTo>
                    <a:pt x="78888" y="281006"/>
                  </a:lnTo>
                  <a:lnTo>
                    <a:pt x="75222" y="283010"/>
                  </a:lnTo>
                  <a:lnTo>
                    <a:pt x="71932" y="285194"/>
                  </a:lnTo>
                  <a:lnTo>
                    <a:pt x="68044" y="287496"/>
                  </a:lnTo>
                  <a:lnTo>
                    <a:pt x="63759" y="289877"/>
                  </a:lnTo>
                  <a:lnTo>
                    <a:pt x="59210" y="292311"/>
                  </a:lnTo>
                  <a:lnTo>
                    <a:pt x="55329" y="293934"/>
                  </a:lnTo>
                  <a:lnTo>
                    <a:pt x="51897" y="295016"/>
                  </a:lnTo>
                  <a:lnTo>
                    <a:pt x="42490" y="297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MARTInkAnnotation2"/>
            <p:cNvSpPr/>
            <p:nvPr/>
          </p:nvSpPr>
          <p:spPr>
            <a:xfrm>
              <a:off x="1905480" y="1767960"/>
              <a:ext cx="319320" cy="30852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319420" h="308846">
                  <a:moveTo>
                    <a:pt x="0" y="83780"/>
                  </a:moveTo>
                  <a:lnTo>
                    <a:pt x="0" y="72429"/>
                  </a:lnTo>
                  <a:lnTo>
                    <a:pt x="847" y="71133"/>
                  </a:lnTo>
                  <a:lnTo>
                    <a:pt x="2258" y="70268"/>
                  </a:lnTo>
                  <a:lnTo>
                    <a:pt x="4045" y="69692"/>
                  </a:lnTo>
                  <a:lnTo>
                    <a:pt x="5237" y="67615"/>
                  </a:lnTo>
                  <a:lnTo>
                    <a:pt x="6561" y="60791"/>
                  </a:lnTo>
                  <a:lnTo>
                    <a:pt x="8607" y="57447"/>
                  </a:lnTo>
                  <a:lnTo>
                    <a:pt x="15397" y="51474"/>
                  </a:lnTo>
                  <a:lnTo>
                    <a:pt x="24694" y="43352"/>
                  </a:lnTo>
                  <a:lnTo>
                    <a:pt x="32424" y="35896"/>
                  </a:lnTo>
                  <a:lnTo>
                    <a:pt x="41504" y="27785"/>
                  </a:lnTo>
                  <a:lnTo>
                    <a:pt x="51184" y="21358"/>
                  </a:lnTo>
                  <a:lnTo>
                    <a:pt x="57829" y="18459"/>
                  </a:lnTo>
                  <a:lnTo>
                    <a:pt x="65646" y="15679"/>
                  </a:lnTo>
                  <a:lnTo>
                    <a:pt x="98480" y="5135"/>
                  </a:lnTo>
                  <a:lnTo>
                    <a:pt x="106294" y="3410"/>
                  </a:lnTo>
                  <a:lnTo>
                    <a:pt x="114042" y="2260"/>
                  </a:lnTo>
                  <a:lnTo>
                    <a:pt x="121748" y="1493"/>
                  </a:lnTo>
                  <a:lnTo>
                    <a:pt x="129426" y="982"/>
                  </a:lnTo>
                  <a:lnTo>
                    <a:pt x="137084" y="642"/>
                  </a:lnTo>
                  <a:lnTo>
                    <a:pt x="157740" y="162"/>
                  </a:lnTo>
                  <a:lnTo>
                    <a:pt x="179889" y="0"/>
                  </a:lnTo>
                  <a:lnTo>
                    <a:pt x="184273" y="833"/>
                  </a:lnTo>
                  <a:lnTo>
                    <a:pt x="191401" y="4017"/>
                  </a:lnTo>
                  <a:lnTo>
                    <a:pt x="200175" y="10570"/>
                  </a:lnTo>
                  <a:lnTo>
                    <a:pt x="202030" y="13806"/>
                  </a:lnTo>
                  <a:lnTo>
                    <a:pt x="204091" y="21919"/>
                  </a:lnTo>
                  <a:lnTo>
                    <a:pt x="203794" y="26452"/>
                  </a:lnTo>
                  <a:lnTo>
                    <a:pt x="201206" y="36006"/>
                  </a:lnTo>
                  <a:lnTo>
                    <a:pt x="198484" y="40924"/>
                  </a:lnTo>
                  <a:lnTo>
                    <a:pt x="194976" y="45896"/>
                  </a:lnTo>
                  <a:lnTo>
                    <a:pt x="190944" y="50904"/>
                  </a:lnTo>
                  <a:lnTo>
                    <a:pt x="186563" y="55936"/>
                  </a:lnTo>
                  <a:lnTo>
                    <a:pt x="181949" y="60984"/>
                  </a:lnTo>
                  <a:lnTo>
                    <a:pt x="177179" y="66043"/>
                  </a:lnTo>
                  <a:lnTo>
                    <a:pt x="171459" y="71109"/>
                  </a:lnTo>
                  <a:lnTo>
                    <a:pt x="165106" y="76179"/>
                  </a:lnTo>
                  <a:lnTo>
                    <a:pt x="158331" y="81253"/>
                  </a:lnTo>
                  <a:lnTo>
                    <a:pt x="152121" y="86329"/>
                  </a:lnTo>
                  <a:lnTo>
                    <a:pt x="146287" y="91406"/>
                  </a:lnTo>
                  <a:lnTo>
                    <a:pt x="140705" y="96484"/>
                  </a:lnTo>
                  <a:lnTo>
                    <a:pt x="135290" y="100716"/>
                  </a:lnTo>
                  <a:lnTo>
                    <a:pt x="129986" y="104384"/>
                  </a:lnTo>
                  <a:lnTo>
                    <a:pt x="124758" y="107676"/>
                  </a:lnTo>
                  <a:lnTo>
                    <a:pt x="119579" y="111564"/>
                  </a:lnTo>
                  <a:lnTo>
                    <a:pt x="114432" y="115849"/>
                  </a:lnTo>
                  <a:lnTo>
                    <a:pt x="105046" y="123433"/>
                  </a:lnTo>
                  <a:lnTo>
                    <a:pt x="98051" y="126804"/>
                  </a:lnTo>
                  <a:lnTo>
                    <a:pt x="95847" y="128549"/>
                  </a:lnTo>
                  <a:lnTo>
                    <a:pt x="94378" y="130560"/>
                  </a:lnTo>
                  <a:lnTo>
                    <a:pt x="93399" y="132746"/>
                  </a:lnTo>
                  <a:lnTo>
                    <a:pt x="93593" y="135051"/>
                  </a:lnTo>
                  <a:lnTo>
                    <a:pt x="94568" y="137434"/>
                  </a:lnTo>
                  <a:lnTo>
                    <a:pt x="96066" y="139869"/>
                  </a:lnTo>
                  <a:lnTo>
                    <a:pt x="98757" y="141493"/>
                  </a:lnTo>
                  <a:lnTo>
                    <a:pt x="106263" y="143297"/>
                  </a:lnTo>
                  <a:lnTo>
                    <a:pt x="111482" y="144625"/>
                  </a:lnTo>
                  <a:lnTo>
                    <a:pt x="117502" y="146356"/>
                  </a:lnTo>
                  <a:lnTo>
                    <a:pt x="124054" y="148357"/>
                  </a:lnTo>
                  <a:lnTo>
                    <a:pt x="130963" y="149692"/>
                  </a:lnTo>
                  <a:lnTo>
                    <a:pt x="138109" y="150581"/>
                  </a:lnTo>
                  <a:lnTo>
                    <a:pt x="145412" y="151174"/>
                  </a:lnTo>
                  <a:lnTo>
                    <a:pt x="153669" y="152416"/>
                  </a:lnTo>
                  <a:lnTo>
                    <a:pt x="162559" y="154091"/>
                  </a:lnTo>
                  <a:lnTo>
                    <a:pt x="181468" y="158209"/>
                  </a:lnTo>
                  <a:lnTo>
                    <a:pt x="231289" y="170241"/>
                  </a:lnTo>
                  <a:lnTo>
                    <a:pt x="240553" y="172748"/>
                  </a:lnTo>
                  <a:lnTo>
                    <a:pt x="257619" y="177790"/>
                  </a:lnTo>
                  <a:lnTo>
                    <a:pt x="265726" y="181167"/>
                  </a:lnTo>
                  <a:lnTo>
                    <a:pt x="273671" y="185111"/>
                  </a:lnTo>
                  <a:lnTo>
                    <a:pt x="288425" y="193163"/>
                  </a:lnTo>
                  <a:lnTo>
                    <a:pt x="300627" y="199563"/>
                  </a:lnTo>
                  <a:lnTo>
                    <a:pt x="305404" y="204149"/>
                  </a:lnTo>
                  <a:lnTo>
                    <a:pt x="309436" y="209746"/>
                  </a:lnTo>
                  <a:lnTo>
                    <a:pt x="312971" y="216017"/>
                  </a:lnTo>
                  <a:lnTo>
                    <a:pt x="316898" y="225243"/>
                  </a:lnTo>
                  <a:lnTo>
                    <a:pt x="318644" y="233013"/>
                  </a:lnTo>
                  <a:lnTo>
                    <a:pt x="319419" y="242110"/>
                  </a:lnTo>
                  <a:lnTo>
                    <a:pt x="318780" y="246907"/>
                  </a:lnTo>
                  <a:lnTo>
                    <a:pt x="317507" y="251798"/>
                  </a:lnTo>
                  <a:lnTo>
                    <a:pt x="315811" y="256752"/>
                  </a:lnTo>
                  <a:lnTo>
                    <a:pt x="312988" y="261748"/>
                  </a:lnTo>
                  <a:lnTo>
                    <a:pt x="309412" y="266772"/>
                  </a:lnTo>
                  <a:lnTo>
                    <a:pt x="300923" y="276023"/>
                  </a:lnTo>
                  <a:lnTo>
                    <a:pt x="291506" y="282957"/>
                  </a:lnTo>
                  <a:lnTo>
                    <a:pt x="285777" y="285991"/>
                  </a:lnTo>
                  <a:lnTo>
                    <a:pt x="279418" y="288861"/>
                  </a:lnTo>
                  <a:lnTo>
                    <a:pt x="272639" y="291621"/>
                  </a:lnTo>
                  <a:lnTo>
                    <a:pt x="265579" y="294307"/>
                  </a:lnTo>
                  <a:lnTo>
                    <a:pt x="250962" y="299550"/>
                  </a:lnTo>
                  <a:lnTo>
                    <a:pt x="242661" y="301287"/>
                  </a:lnTo>
                  <a:lnTo>
                    <a:pt x="233741" y="302444"/>
                  </a:lnTo>
                  <a:lnTo>
                    <a:pt x="224407" y="303216"/>
                  </a:lnTo>
                  <a:lnTo>
                    <a:pt x="214798" y="304577"/>
                  </a:lnTo>
                  <a:lnTo>
                    <a:pt x="205006" y="306332"/>
                  </a:lnTo>
                  <a:lnTo>
                    <a:pt x="195090" y="308348"/>
                  </a:lnTo>
                  <a:lnTo>
                    <a:pt x="185094" y="308845"/>
                  </a:lnTo>
                  <a:lnTo>
                    <a:pt x="175043" y="308330"/>
                  </a:lnTo>
                  <a:lnTo>
                    <a:pt x="164955" y="307140"/>
                  </a:lnTo>
                  <a:lnTo>
                    <a:pt x="153997" y="306347"/>
                  </a:lnTo>
                  <a:lnTo>
                    <a:pt x="142458" y="305818"/>
                  </a:lnTo>
                  <a:lnTo>
                    <a:pt x="130532" y="305465"/>
                  </a:lnTo>
                  <a:lnTo>
                    <a:pt x="119195" y="303537"/>
                  </a:lnTo>
                  <a:lnTo>
                    <a:pt x="108250" y="300558"/>
                  </a:lnTo>
                  <a:lnTo>
                    <a:pt x="97567" y="296879"/>
                  </a:lnTo>
                  <a:lnTo>
                    <a:pt x="87058" y="294426"/>
                  </a:lnTo>
                  <a:lnTo>
                    <a:pt x="76665" y="292791"/>
                  </a:lnTo>
                  <a:lnTo>
                    <a:pt x="66350" y="291700"/>
                  </a:lnTo>
                  <a:lnTo>
                    <a:pt x="57780" y="290127"/>
                  </a:lnTo>
                  <a:lnTo>
                    <a:pt x="50373" y="288231"/>
                  </a:lnTo>
                  <a:lnTo>
                    <a:pt x="43742" y="286121"/>
                  </a:lnTo>
                  <a:lnTo>
                    <a:pt x="34117" y="281518"/>
                  </a:lnTo>
                  <a:lnTo>
                    <a:pt x="27016" y="277497"/>
                  </a:lnTo>
                  <a:lnTo>
                    <a:pt x="17817" y="274915"/>
                  </a:lnTo>
                  <a:lnTo>
                    <a:pt x="16958" y="274704"/>
                  </a:lnTo>
                  <a:lnTo>
                    <a:pt x="16385" y="273716"/>
                  </a:lnTo>
                  <a:lnTo>
                    <a:pt x="15240" y="2666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SMARTInkAnnotation3"/>
            <p:cNvSpPr/>
            <p:nvPr/>
          </p:nvSpPr>
          <p:spPr>
            <a:xfrm>
              <a:off x="2362680" y="1752480"/>
              <a:ext cx="228240" cy="4568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28494" h="457201">
                  <a:moveTo>
                    <a:pt x="91333" y="0"/>
                  </a:moveTo>
                  <a:lnTo>
                    <a:pt x="91333" y="14153"/>
                  </a:lnTo>
                  <a:lnTo>
                    <a:pt x="90486" y="14516"/>
                  </a:lnTo>
                  <a:lnTo>
                    <a:pt x="87288" y="14918"/>
                  </a:lnTo>
                  <a:lnTo>
                    <a:pt x="86096" y="15872"/>
                  </a:lnTo>
                  <a:lnTo>
                    <a:pt x="85302" y="17355"/>
                  </a:lnTo>
                  <a:lnTo>
                    <a:pt x="84772" y="19190"/>
                  </a:lnTo>
                  <a:lnTo>
                    <a:pt x="81926" y="23487"/>
                  </a:lnTo>
                  <a:lnTo>
                    <a:pt x="77839" y="29065"/>
                  </a:lnTo>
                  <a:lnTo>
                    <a:pt x="70778" y="40879"/>
                  </a:lnTo>
                  <a:lnTo>
                    <a:pt x="65829" y="47238"/>
                  </a:lnTo>
                  <a:lnTo>
                    <a:pt x="60807" y="57401"/>
                  </a:lnTo>
                  <a:lnTo>
                    <a:pt x="55752" y="69538"/>
                  </a:lnTo>
                  <a:lnTo>
                    <a:pt x="50684" y="80577"/>
                  </a:lnTo>
                  <a:lnTo>
                    <a:pt x="45609" y="93385"/>
                  </a:lnTo>
                  <a:lnTo>
                    <a:pt x="40531" y="107545"/>
                  </a:lnTo>
                  <a:lnTo>
                    <a:pt x="35452" y="122304"/>
                  </a:lnTo>
                  <a:lnTo>
                    <a:pt x="32066" y="129796"/>
                  </a:lnTo>
                  <a:lnTo>
                    <a:pt x="28115" y="137331"/>
                  </a:lnTo>
                  <a:lnTo>
                    <a:pt x="23788" y="144894"/>
                  </a:lnTo>
                  <a:lnTo>
                    <a:pt x="20056" y="152476"/>
                  </a:lnTo>
                  <a:lnTo>
                    <a:pt x="16722" y="160071"/>
                  </a:lnTo>
                  <a:lnTo>
                    <a:pt x="13652" y="167674"/>
                  </a:lnTo>
                  <a:lnTo>
                    <a:pt x="11606" y="175283"/>
                  </a:lnTo>
                  <a:lnTo>
                    <a:pt x="10242" y="182895"/>
                  </a:lnTo>
                  <a:lnTo>
                    <a:pt x="9332" y="190510"/>
                  </a:lnTo>
                  <a:lnTo>
                    <a:pt x="7879" y="198974"/>
                  </a:lnTo>
                  <a:lnTo>
                    <a:pt x="6064" y="208002"/>
                  </a:lnTo>
                  <a:lnTo>
                    <a:pt x="4007" y="217408"/>
                  </a:lnTo>
                  <a:lnTo>
                    <a:pt x="2635" y="226219"/>
                  </a:lnTo>
                  <a:lnTo>
                    <a:pt x="1721" y="234632"/>
                  </a:lnTo>
                  <a:lnTo>
                    <a:pt x="1112" y="242782"/>
                  </a:lnTo>
                  <a:lnTo>
                    <a:pt x="706" y="250754"/>
                  </a:lnTo>
                  <a:lnTo>
                    <a:pt x="254" y="266386"/>
                  </a:lnTo>
                  <a:lnTo>
                    <a:pt x="0" y="289467"/>
                  </a:lnTo>
                  <a:lnTo>
                    <a:pt x="811" y="297118"/>
                  </a:lnTo>
                  <a:lnTo>
                    <a:pt x="2199" y="304759"/>
                  </a:lnTo>
                  <a:lnTo>
                    <a:pt x="3970" y="312393"/>
                  </a:lnTo>
                  <a:lnTo>
                    <a:pt x="5998" y="320022"/>
                  </a:lnTo>
                  <a:lnTo>
                    <a:pt x="10508" y="335272"/>
                  </a:lnTo>
                  <a:lnTo>
                    <a:pt x="13743" y="342895"/>
                  </a:lnTo>
                  <a:lnTo>
                    <a:pt x="17593" y="350517"/>
                  </a:lnTo>
                  <a:lnTo>
                    <a:pt x="25540" y="364912"/>
                  </a:lnTo>
                  <a:lnTo>
                    <a:pt x="31894" y="376954"/>
                  </a:lnTo>
                  <a:lnTo>
                    <a:pt x="36467" y="382536"/>
                  </a:lnTo>
                  <a:lnTo>
                    <a:pt x="42056" y="387951"/>
                  </a:lnTo>
                  <a:lnTo>
                    <a:pt x="48321" y="393254"/>
                  </a:lnTo>
                  <a:lnTo>
                    <a:pt x="55039" y="397636"/>
                  </a:lnTo>
                  <a:lnTo>
                    <a:pt x="62057" y="401404"/>
                  </a:lnTo>
                  <a:lnTo>
                    <a:pt x="69276" y="404763"/>
                  </a:lnTo>
                  <a:lnTo>
                    <a:pt x="76628" y="408695"/>
                  </a:lnTo>
                  <a:lnTo>
                    <a:pt x="84070" y="413010"/>
                  </a:lnTo>
                  <a:lnTo>
                    <a:pt x="91571" y="417580"/>
                  </a:lnTo>
                  <a:lnTo>
                    <a:pt x="99112" y="421473"/>
                  </a:lnTo>
                  <a:lnTo>
                    <a:pt x="106679" y="424916"/>
                  </a:lnTo>
                  <a:lnTo>
                    <a:pt x="114264" y="428057"/>
                  </a:lnTo>
                  <a:lnTo>
                    <a:pt x="121860" y="430998"/>
                  </a:lnTo>
                  <a:lnTo>
                    <a:pt x="137074" y="436524"/>
                  </a:lnTo>
                  <a:lnTo>
                    <a:pt x="144687" y="438336"/>
                  </a:lnTo>
                  <a:lnTo>
                    <a:pt x="152302" y="439544"/>
                  </a:lnTo>
                  <a:lnTo>
                    <a:pt x="159919" y="440349"/>
                  </a:lnTo>
                  <a:lnTo>
                    <a:pt x="167537" y="441733"/>
                  </a:lnTo>
                  <a:lnTo>
                    <a:pt x="175156" y="443502"/>
                  </a:lnTo>
                  <a:lnTo>
                    <a:pt x="182775" y="445528"/>
                  </a:lnTo>
                  <a:lnTo>
                    <a:pt x="189548" y="447725"/>
                  </a:lnTo>
                  <a:lnTo>
                    <a:pt x="195756" y="450037"/>
                  </a:lnTo>
                  <a:lnTo>
                    <a:pt x="201588" y="452425"/>
                  </a:lnTo>
                  <a:lnTo>
                    <a:pt x="207170" y="454016"/>
                  </a:lnTo>
                  <a:lnTo>
                    <a:pt x="212584" y="455078"/>
                  </a:lnTo>
                  <a:lnTo>
                    <a:pt x="228493" y="457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SMARTInkAnnotation4"/>
            <p:cNvSpPr/>
            <p:nvPr/>
          </p:nvSpPr>
          <p:spPr>
            <a:xfrm>
              <a:off x="2537640" y="1897200"/>
              <a:ext cx="289440" cy="17496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89561" h="175261">
                  <a:moveTo>
                    <a:pt x="289560" y="0"/>
                  </a:moveTo>
                  <a:lnTo>
                    <a:pt x="289560" y="4045"/>
                  </a:lnTo>
                  <a:lnTo>
                    <a:pt x="288714" y="5237"/>
                  </a:lnTo>
                  <a:lnTo>
                    <a:pt x="287303" y="6031"/>
                  </a:lnTo>
                  <a:lnTo>
                    <a:pt x="285515" y="6561"/>
                  </a:lnTo>
                  <a:lnTo>
                    <a:pt x="284324" y="7760"/>
                  </a:lnTo>
                  <a:lnTo>
                    <a:pt x="283529" y="9407"/>
                  </a:lnTo>
                  <a:lnTo>
                    <a:pt x="282999" y="11351"/>
                  </a:lnTo>
                  <a:lnTo>
                    <a:pt x="280153" y="15769"/>
                  </a:lnTo>
                  <a:lnTo>
                    <a:pt x="276066" y="20555"/>
                  </a:lnTo>
                  <a:lnTo>
                    <a:pt x="271427" y="25505"/>
                  </a:lnTo>
                  <a:lnTo>
                    <a:pt x="260704" y="36427"/>
                  </a:lnTo>
                  <a:lnTo>
                    <a:pt x="252464" y="44694"/>
                  </a:lnTo>
                  <a:lnTo>
                    <a:pt x="247896" y="48423"/>
                  </a:lnTo>
                  <a:lnTo>
                    <a:pt x="243157" y="51755"/>
                  </a:lnTo>
                  <a:lnTo>
                    <a:pt x="238305" y="54824"/>
                  </a:lnTo>
                  <a:lnTo>
                    <a:pt x="234223" y="58562"/>
                  </a:lnTo>
                  <a:lnTo>
                    <a:pt x="230656" y="62748"/>
                  </a:lnTo>
                  <a:lnTo>
                    <a:pt x="227431" y="67232"/>
                  </a:lnTo>
                  <a:lnTo>
                    <a:pt x="222740" y="71068"/>
                  </a:lnTo>
                  <a:lnTo>
                    <a:pt x="217074" y="74472"/>
                  </a:lnTo>
                  <a:lnTo>
                    <a:pt x="210756" y="77588"/>
                  </a:lnTo>
                  <a:lnTo>
                    <a:pt x="204851" y="81359"/>
                  </a:lnTo>
                  <a:lnTo>
                    <a:pt x="199221" y="85566"/>
                  </a:lnTo>
                  <a:lnTo>
                    <a:pt x="193774" y="90064"/>
                  </a:lnTo>
                  <a:lnTo>
                    <a:pt x="188449" y="93909"/>
                  </a:lnTo>
                  <a:lnTo>
                    <a:pt x="183206" y="97320"/>
                  </a:lnTo>
                  <a:lnTo>
                    <a:pt x="178018" y="100440"/>
                  </a:lnTo>
                  <a:lnTo>
                    <a:pt x="165479" y="108422"/>
                  </a:lnTo>
                  <a:lnTo>
                    <a:pt x="158580" y="112922"/>
                  </a:lnTo>
                  <a:lnTo>
                    <a:pt x="153133" y="116768"/>
                  </a:lnTo>
                  <a:lnTo>
                    <a:pt x="148655" y="120178"/>
                  </a:lnTo>
                  <a:lnTo>
                    <a:pt x="144824" y="123299"/>
                  </a:lnTo>
                  <a:lnTo>
                    <a:pt x="139729" y="126226"/>
                  </a:lnTo>
                  <a:lnTo>
                    <a:pt x="133793" y="129024"/>
                  </a:lnTo>
                  <a:lnTo>
                    <a:pt x="127295" y="131736"/>
                  </a:lnTo>
                  <a:lnTo>
                    <a:pt x="121270" y="135237"/>
                  </a:lnTo>
                  <a:lnTo>
                    <a:pt x="115561" y="139265"/>
                  </a:lnTo>
                  <a:lnTo>
                    <a:pt x="110060" y="143643"/>
                  </a:lnTo>
                  <a:lnTo>
                    <a:pt x="104700" y="147409"/>
                  </a:lnTo>
                  <a:lnTo>
                    <a:pt x="99434" y="150766"/>
                  </a:lnTo>
                  <a:lnTo>
                    <a:pt x="94229" y="153851"/>
                  </a:lnTo>
                  <a:lnTo>
                    <a:pt x="88219" y="156754"/>
                  </a:lnTo>
                  <a:lnTo>
                    <a:pt x="81673" y="159536"/>
                  </a:lnTo>
                  <a:lnTo>
                    <a:pt x="74769" y="162237"/>
                  </a:lnTo>
                  <a:lnTo>
                    <a:pt x="69319" y="164038"/>
                  </a:lnTo>
                  <a:lnTo>
                    <a:pt x="61006" y="166039"/>
                  </a:lnTo>
                  <a:lnTo>
                    <a:pt x="52232" y="169186"/>
                  </a:lnTo>
                  <a:lnTo>
                    <a:pt x="47521" y="171211"/>
                  </a:lnTo>
                  <a:lnTo>
                    <a:pt x="42688" y="172561"/>
                  </a:lnTo>
                  <a:lnTo>
                    <a:pt x="37772" y="173460"/>
                  </a:lnTo>
                  <a:lnTo>
                    <a:pt x="32802" y="174060"/>
                  </a:lnTo>
                  <a:lnTo>
                    <a:pt x="27794" y="174460"/>
                  </a:lnTo>
                  <a:lnTo>
                    <a:pt x="22763" y="174727"/>
                  </a:lnTo>
                  <a:lnTo>
                    <a:pt x="10611" y="175155"/>
                  </a:lnTo>
                  <a:lnTo>
                    <a:pt x="0" y="1752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MARTInkAnnotation5"/>
            <p:cNvSpPr/>
            <p:nvPr/>
          </p:nvSpPr>
          <p:spPr>
            <a:xfrm>
              <a:off x="2568240" y="1927800"/>
              <a:ext cx="251280" cy="1447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51461" h="144781">
                  <a:moveTo>
                    <a:pt x="0" y="0"/>
                  </a:moveTo>
                  <a:lnTo>
                    <a:pt x="15618" y="0"/>
                  </a:lnTo>
                  <a:lnTo>
                    <a:pt x="18879" y="847"/>
                  </a:lnTo>
                  <a:lnTo>
                    <a:pt x="24760" y="4045"/>
                  </a:lnTo>
                  <a:lnTo>
                    <a:pt x="30196" y="6031"/>
                  </a:lnTo>
                  <a:lnTo>
                    <a:pt x="32830" y="6561"/>
                  </a:lnTo>
                  <a:lnTo>
                    <a:pt x="38016" y="9407"/>
                  </a:lnTo>
                  <a:lnTo>
                    <a:pt x="40584" y="11351"/>
                  </a:lnTo>
                  <a:lnTo>
                    <a:pt x="43143" y="14341"/>
                  </a:lnTo>
                  <a:lnTo>
                    <a:pt x="45696" y="18027"/>
                  </a:lnTo>
                  <a:lnTo>
                    <a:pt x="48244" y="22178"/>
                  </a:lnTo>
                  <a:lnTo>
                    <a:pt x="51636" y="25792"/>
                  </a:lnTo>
                  <a:lnTo>
                    <a:pt x="55591" y="29048"/>
                  </a:lnTo>
                  <a:lnTo>
                    <a:pt x="59921" y="32066"/>
                  </a:lnTo>
                  <a:lnTo>
                    <a:pt x="63654" y="34924"/>
                  </a:lnTo>
                  <a:lnTo>
                    <a:pt x="66989" y="37676"/>
                  </a:lnTo>
                  <a:lnTo>
                    <a:pt x="70060" y="40357"/>
                  </a:lnTo>
                  <a:lnTo>
                    <a:pt x="73800" y="42992"/>
                  </a:lnTo>
                  <a:lnTo>
                    <a:pt x="77987" y="45595"/>
                  </a:lnTo>
                  <a:lnTo>
                    <a:pt x="82471" y="48176"/>
                  </a:lnTo>
                  <a:lnTo>
                    <a:pt x="87154" y="51591"/>
                  </a:lnTo>
                  <a:lnTo>
                    <a:pt x="91970" y="55561"/>
                  </a:lnTo>
                  <a:lnTo>
                    <a:pt x="96873" y="59901"/>
                  </a:lnTo>
                  <a:lnTo>
                    <a:pt x="101835" y="63640"/>
                  </a:lnTo>
                  <a:lnTo>
                    <a:pt x="106837" y="66980"/>
                  </a:lnTo>
                  <a:lnTo>
                    <a:pt x="111865" y="70054"/>
                  </a:lnTo>
                  <a:lnTo>
                    <a:pt x="131076" y="82469"/>
                  </a:lnTo>
                  <a:lnTo>
                    <a:pt x="137338" y="86306"/>
                  </a:lnTo>
                  <a:lnTo>
                    <a:pt x="143205" y="89711"/>
                  </a:lnTo>
                  <a:lnTo>
                    <a:pt x="154240" y="95752"/>
                  </a:lnTo>
                  <a:lnTo>
                    <a:pt x="169973" y="103912"/>
                  </a:lnTo>
                  <a:lnTo>
                    <a:pt x="180248" y="109119"/>
                  </a:lnTo>
                  <a:lnTo>
                    <a:pt x="186205" y="112539"/>
                  </a:lnTo>
                  <a:lnTo>
                    <a:pt x="192717" y="116513"/>
                  </a:lnTo>
                  <a:lnTo>
                    <a:pt x="199598" y="120855"/>
                  </a:lnTo>
                  <a:lnTo>
                    <a:pt x="205879" y="124597"/>
                  </a:lnTo>
                  <a:lnTo>
                    <a:pt x="211759" y="127938"/>
                  </a:lnTo>
                  <a:lnTo>
                    <a:pt x="222809" y="133908"/>
                  </a:lnTo>
                  <a:lnTo>
                    <a:pt x="233364" y="139384"/>
                  </a:lnTo>
                  <a:lnTo>
                    <a:pt x="237703" y="141183"/>
                  </a:lnTo>
                  <a:lnTo>
                    <a:pt x="241442" y="142382"/>
                  </a:lnTo>
                  <a:lnTo>
                    <a:pt x="251460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SMARTInkAnnotation6"/>
            <p:cNvSpPr/>
            <p:nvPr/>
          </p:nvSpPr>
          <p:spPr>
            <a:xfrm>
              <a:off x="4579920" y="1257480"/>
              <a:ext cx="403560" cy="22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403861" h="22861">
                  <a:moveTo>
                    <a:pt x="0" y="22860"/>
                  </a:moveTo>
                  <a:lnTo>
                    <a:pt x="43637" y="22860"/>
                  </a:lnTo>
                  <a:lnTo>
                    <a:pt x="49412" y="22013"/>
                  </a:lnTo>
                  <a:lnTo>
                    <a:pt x="55802" y="20602"/>
                  </a:lnTo>
                  <a:lnTo>
                    <a:pt x="62601" y="18815"/>
                  </a:lnTo>
                  <a:lnTo>
                    <a:pt x="70521" y="17623"/>
                  </a:lnTo>
                  <a:lnTo>
                    <a:pt x="79187" y="16829"/>
                  </a:lnTo>
                  <a:lnTo>
                    <a:pt x="96155" y="15946"/>
                  </a:lnTo>
                  <a:lnTo>
                    <a:pt x="109340" y="15554"/>
                  </a:lnTo>
                  <a:lnTo>
                    <a:pt x="200877" y="15242"/>
                  </a:lnTo>
                  <a:lnTo>
                    <a:pt x="208425" y="14395"/>
                  </a:lnTo>
                  <a:lnTo>
                    <a:pt x="216843" y="12983"/>
                  </a:lnTo>
                  <a:lnTo>
                    <a:pt x="225842" y="11196"/>
                  </a:lnTo>
                  <a:lnTo>
                    <a:pt x="234382" y="10004"/>
                  </a:lnTo>
                  <a:lnTo>
                    <a:pt x="242614" y="9209"/>
                  </a:lnTo>
                  <a:lnTo>
                    <a:pt x="250643" y="8680"/>
                  </a:lnTo>
                  <a:lnTo>
                    <a:pt x="258535" y="8326"/>
                  </a:lnTo>
                  <a:lnTo>
                    <a:pt x="274078" y="7934"/>
                  </a:lnTo>
                  <a:lnTo>
                    <a:pt x="402667" y="7620"/>
                  </a:lnTo>
                  <a:lnTo>
                    <a:pt x="403065" y="6773"/>
                  </a:lnTo>
                  <a:lnTo>
                    <a:pt x="403330" y="5362"/>
                  </a:lnTo>
                  <a:lnTo>
                    <a:pt x="4038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SMARTInkAnnotation7"/>
            <p:cNvSpPr/>
            <p:nvPr/>
          </p:nvSpPr>
          <p:spPr>
            <a:xfrm>
              <a:off x="2949120" y="1988640"/>
              <a:ext cx="243720" cy="302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3841" h="30481">
                  <a:moveTo>
                    <a:pt x="0" y="30480"/>
                  </a:moveTo>
                  <a:lnTo>
                    <a:pt x="4045" y="26435"/>
                  </a:lnTo>
                  <a:lnTo>
                    <a:pt x="6084" y="25243"/>
                  </a:lnTo>
                  <a:lnTo>
                    <a:pt x="8289" y="24449"/>
                  </a:lnTo>
                  <a:lnTo>
                    <a:pt x="12998" y="23566"/>
                  </a:lnTo>
                  <a:lnTo>
                    <a:pt x="17912" y="23174"/>
                  </a:lnTo>
                  <a:lnTo>
                    <a:pt x="25177" y="23000"/>
                  </a:lnTo>
                  <a:lnTo>
                    <a:pt x="65117" y="22868"/>
                  </a:lnTo>
                  <a:lnTo>
                    <a:pt x="72198" y="22019"/>
                  </a:lnTo>
                  <a:lnTo>
                    <a:pt x="80306" y="20606"/>
                  </a:lnTo>
                  <a:lnTo>
                    <a:pt x="89097" y="18817"/>
                  </a:lnTo>
                  <a:lnTo>
                    <a:pt x="96652" y="17625"/>
                  </a:lnTo>
                  <a:lnTo>
                    <a:pt x="103381" y="16830"/>
                  </a:lnTo>
                  <a:lnTo>
                    <a:pt x="109561" y="16300"/>
                  </a:lnTo>
                  <a:lnTo>
                    <a:pt x="116221" y="15947"/>
                  </a:lnTo>
                  <a:lnTo>
                    <a:pt x="130394" y="15554"/>
                  </a:lnTo>
                  <a:lnTo>
                    <a:pt x="175335" y="15268"/>
                  </a:lnTo>
                  <a:lnTo>
                    <a:pt x="182083" y="14412"/>
                  </a:lnTo>
                  <a:lnTo>
                    <a:pt x="188276" y="12995"/>
                  </a:lnTo>
                  <a:lnTo>
                    <a:pt x="194097" y="11203"/>
                  </a:lnTo>
                  <a:lnTo>
                    <a:pt x="199671" y="10009"/>
                  </a:lnTo>
                  <a:lnTo>
                    <a:pt x="205081" y="9212"/>
                  </a:lnTo>
                  <a:lnTo>
                    <a:pt x="210381" y="8682"/>
                  </a:lnTo>
                  <a:lnTo>
                    <a:pt x="215608" y="8328"/>
                  </a:lnTo>
                  <a:lnTo>
                    <a:pt x="220785" y="8092"/>
                  </a:lnTo>
                  <a:lnTo>
                    <a:pt x="225930" y="7935"/>
                  </a:lnTo>
                  <a:lnTo>
                    <a:pt x="230206" y="6983"/>
                  </a:lnTo>
                  <a:lnTo>
                    <a:pt x="233904" y="5502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MARTInkAnnotation8"/>
            <p:cNvSpPr/>
            <p:nvPr/>
          </p:nvSpPr>
          <p:spPr>
            <a:xfrm>
              <a:off x="3284640" y="1889640"/>
              <a:ext cx="273960" cy="25848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74176" h="258633">
                  <a:moveTo>
                    <a:pt x="45717" y="0"/>
                  </a:moveTo>
                  <a:lnTo>
                    <a:pt x="45717" y="11351"/>
                  </a:lnTo>
                  <a:lnTo>
                    <a:pt x="44870" y="13494"/>
                  </a:lnTo>
                  <a:lnTo>
                    <a:pt x="40480" y="20555"/>
                  </a:lnTo>
                  <a:lnTo>
                    <a:pt x="39156" y="25505"/>
                  </a:lnTo>
                  <a:lnTo>
                    <a:pt x="38567" y="32784"/>
                  </a:lnTo>
                  <a:lnTo>
                    <a:pt x="38410" y="37096"/>
                  </a:lnTo>
                  <a:lnTo>
                    <a:pt x="37459" y="41664"/>
                  </a:lnTo>
                  <a:lnTo>
                    <a:pt x="35978" y="46403"/>
                  </a:lnTo>
                  <a:lnTo>
                    <a:pt x="34144" y="51255"/>
                  </a:lnTo>
                  <a:lnTo>
                    <a:pt x="29849" y="58905"/>
                  </a:lnTo>
                  <a:lnTo>
                    <a:pt x="25118" y="65973"/>
                  </a:lnTo>
                  <a:lnTo>
                    <a:pt x="22671" y="70229"/>
                  </a:lnTo>
                  <a:lnTo>
                    <a:pt x="20193" y="74759"/>
                  </a:lnTo>
                  <a:lnTo>
                    <a:pt x="15182" y="82051"/>
                  </a:lnTo>
                  <a:lnTo>
                    <a:pt x="10132" y="88114"/>
                  </a:lnTo>
                  <a:lnTo>
                    <a:pt x="5066" y="93631"/>
                  </a:lnTo>
                  <a:lnTo>
                    <a:pt x="3376" y="96287"/>
                  </a:lnTo>
                  <a:lnTo>
                    <a:pt x="1499" y="101497"/>
                  </a:lnTo>
                  <a:lnTo>
                    <a:pt x="442" y="109189"/>
                  </a:lnTo>
                  <a:lnTo>
                    <a:pt x="0" y="114261"/>
                  </a:lnTo>
                  <a:lnTo>
                    <a:pt x="21209" y="103691"/>
                  </a:lnTo>
                  <a:lnTo>
                    <a:pt x="28615" y="101118"/>
                  </a:lnTo>
                  <a:lnTo>
                    <a:pt x="36423" y="99128"/>
                  </a:lnTo>
                  <a:lnTo>
                    <a:pt x="48359" y="95422"/>
                  </a:lnTo>
                  <a:lnTo>
                    <a:pt x="69360" y="88575"/>
                  </a:lnTo>
                  <a:lnTo>
                    <a:pt x="77565" y="86990"/>
                  </a:lnTo>
                  <a:lnTo>
                    <a:pt x="86423" y="85933"/>
                  </a:lnTo>
                  <a:lnTo>
                    <a:pt x="95713" y="85229"/>
                  </a:lnTo>
                  <a:lnTo>
                    <a:pt x="103601" y="83913"/>
                  </a:lnTo>
                  <a:lnTo>
                    <a:pt x="110553" y="82188"/>
                  </a:lnTo>
                  <a:lnTo>
                    <a:pt x="116881" y="80192"/>
                  </a:lnTo>
                  <a:lnTo>
                    <a:pt x="123639" y="78862"/>
                  </a:lnTo>
                  <a:lnTo>
                    <a:pt x="130685" y="77974"/>
                  </a:lnTo>
                  <a:lnTo>
                    <a:pt x="137922" y="77383"/>
                  </a:lnTo>
                  <a:lnTo>
                    <a:pt x="145287" y="77835"/>
                  </a:lnTo>
                  <a:lnTo>
                    <a:pt x="152737" y="78984"/>
                  </a:lnTo>
                  <a:lnTo>
                    <a:pt x="160244" y="80596"/>
                  </a:lnTo>
                  <a:lnTo>
                    <a:pt x="167788" y="81671"/>
                  </a:lnTo>
                  <a:lnTo>
                    <a:pt x="175357" y="82387"/>
                  </a:lnTo>
                  <a:lnTo>
                    <a:pt x="182944" y="82865"/>
                  </a:lnTo>
                  <a:lnTo>
                    <a:pt x="190541" y="84030"/>
                  </a:lnTo>
                  <a:lnTo>
                    <a:pt x="198146" y="85653"/>
                  </a:lnTo>
                  <a:lnTo>
                    <a:pt x="205756" y="87582"/>
                  </a:lnTo>
                  <a:lnTo>
                    <a:pt x="212523" y="89715"/>
                  </a:lnTo>
                  <a:lnTo>
                    <a:pt x="218727" y="91983"/>
                  </a:lnTo>
                  <a:lnTo>
                    <a:pt x="224557" y="94342"/>
                  </a:lnTo>
                  <a:lnTo>
                    <a:pt x="229290" y="97608"/>
                  </a:lnTo>
                  <a:lnTo>
                    <a:pt x="233292" y="101479"/>
                  </a:lnTo>
                  <a:lnTo>
                    <a:pt x="240844" y="109448"/>
                  </a:lnTo>
                  <a:lnTo>
                    <a:pt x="245228" y="112759"/>
                  </a:lnTo>
                  <a:lnTo>
                    <a:pt x="249844" y="115813"/>
                  </a:lnTo>
                  <a:lnTo>
                    <a:pt x="257231" y="123721"/>
                  </a:lnTo>
                  <a:lnTo>
                    <a:pt x="260386" y="128201"/>
                  </a:lnTo>
                  <a:lnTo>
                    <a:pt x="263336" y="132880"/>
                  </a:lnTo>
                  <a:lnTo>
                    <a:pt x="266150" y="137694"/>
                  </a:lnTo>
                  <a:lnTo>
                    <a:pt x="268872" y="142596"/>
                  </a:lnTo>
                  <a:lnTo>
                    <a:pt x="270687" y="148404"/>
                  </a:lnTo>
                  <a:lnTo>
                    <a:pt x="271897" y="154816"/>
                  </a:lnTo>
                  <a:lnTo>
                    <a:pt x="272703" y="161631"/>
                  </a:lnTo>
                  <a:lnTo>
                    <a:pt x="273241" y="167867"/>
                  </a:lnTo>
                  <a:lnTo>
                    <a:pt x="273600" y="173718"/>
                  </a:lnTo>
                  <a:lnTo>
                    <a:pt x="273998" y="184735"/>
                  </a:lnTo>
                  <a:lnTo>
                    <a:pt x="274175" y="195276"/>
                  </a:lnTo>
                  <a:lnTo>
                    <a:pt x="273375" y="199611"/>
                  </a:lnTo>
                  <a:lnTo>
                    <a:pt x="270229" y="206685"/>
                  </a:lnTo>
                  <a:lnTo>
                    <a:pt x="263698" y="219472"/>
                  </a:lnTo>
                  <a:lnTo>
                    <a:pt x="258873" y="226801"/>
                  </a:lnTo>
                  <a:lnTo>
                    <a:pt x="256401" y="229941"/>
                  </a:lnTo>
                  <a:lnTo>
                    <a:pt x="249139" y="235687"/>
                  </a:lnTo>
                  <a:lnTo>
                    <a:pt x="241113" y="241063"/>
                  </a:lnTo>
                  <a:lnTo>
                    <a:pt x="234724" y="246275"/>
                  </a:lnTo>
                  <a:lnTo>
                    <a:pt x="226804" y="251413"/>
                  </a:lnTo>
                  <a:lnTo>
                    <a:pt x="222322" y="253969"/>
                  </a:lnTo>
                  <a:lnTo>
                    <a:pt x="216793" y="255673"/>
                  </a:lnTo>
                  <a:lnTo>
                    <a:pt x="210568" y="256808"/>
                  </a:lnTo>
                  <a:lnTo>
                    <a:pt x="203877" y="257566"/>
                  </a:lnTo>
                  <a:lnTo>
                    <a:pt x="197724" y="258071"/>
                  </a:lnTo>
                  <a:lnTo>
                    <a:pt x="191928" y="258407"/>
                  </a:lnTo>
                  <a:lnTo>
                    <a:pt x="186371" y="258632"/>
                  </a:lnTo>
                  <a:lnTo>
                    <a:pt x="180126" y="257934"/>
                  </a:lnTo>
                  <a:lnTo>
                    <a:pt x="173423" y="256623"/>
                  </a:lnTo>
                  <a:lnTo>
                    <a:pt x="166414" y="254902"/>
                  </a:lnTo>
                  <a:lnTo>
                    <a:pt x="160048" y="253755"/>
                  </a:lnTo>
                  <a:lnTo>
                    <a:pt x="154111" y="252990"/>
                  </a:lnTo>
                  <a:lnTo>
                    <a:pt x="148459" y="252480"/>
                  </a:lnTo>
                  <a:lnTo>
                    <a:pt x="142152" y="250447"/>
                  </a:lnTo>
                  <a:lnTo>
                    <a:pt x="135406" y="247398"/>
                  </a:lnTo>
                  <a:lnTo>
                    <a:pt x="116036" y="237274"/>
                  </a:lnTo>
                  <a:lnTo>
                    <a:pt x="94320" y="226268"/>
                  </a:lnTo>
                  <a:lnTo>
                    <a:pt x="86227" y="221073"/>
                  </a:lnTo>
                  <a:lnTo>
                    <a:pt x="76196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MARTInkAnnotation9"/>
            <p:cNvSpPr/>
            <p:nvPr/>
          </p:nvSpPr>
          <p:spPr>
            <a:xfrm>
              <a:off x="3322800" y="1859400"/>
              <a:ext cx="205560" cy="302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05741" h="30481">
                  <a:moveTo>
                    <a:pt x="0" y="30480"/>
                  </a:moveTo>
                  <a:lnTo>
                    <a:pt x="40156" y="30480"/>
                  </a:lnTo>
                  <a:lnTo>
                    <a:pt x="46244" y="29633"/>
                  </a:lnTo>
                  <a:lnTo>
                    <a:pt x="51996" y="28222"/>
                  </a:lnTo>
                  <a:lnTo>
                    <a:pt x="57524" y="26435"/>
                  </a:lnTo>
                  <a:lnTo>
                    <a:pt x="63749" y="25243"/>
                  </a:lnTo>
                  <a:lnTo>
                    <a:pt x="70440" y="24449"/>
                  </a:lnTo>
                  <a:lnTo>
                    <a:pt x="77440" y="23919"/>
                  </a:lnTo>
                  <a:lnTo>
                    <a:pt x="84646" y="22719"/>
                  </a:lnTo>
                  <a:lnTo>
                    <a:pt x="91991" y="21073"/>
                  </a:lnTo>
                  <a:lnTo>
                    <a:pt x="99427" y="19129"/>
                  </a:lnTo>
                  <a:lnTo>
                    <a:pt x="106925" y="17833"/>
                  </a:lnTo>
                  <a:lnTo>
                    <a:pt x="114463" y="16968"/>
                  </a:lnTo>
                  <a:lnTo>
                    <a:pt x="122029" y="16392"/>
                  </a:lnTo>
                  <a:lnTo>
                    <a:pt x="129612" y="16008"/>
                  </a:lnTo>
                  <a:lnTo>
                    <a:pt x="144812" y="15582"/>
                  </a:lnTo>
                  <a:lnTo>
                    <a:pt x="152421" y="14621"/>
                  </a:lnTo>
                  <a:lnTo>
                    <a:pt x="160034" y="13134"/>
                  </a:lnTo>
                  <a:lnTo>
                    <a:pt x="167650" y="11296"/>
                  </a:lnTo>
                  <a:lnTo>
                    <a:pt x="174420" y="10071"/>
                  </a:lnTo>
                  <a:lnTo>
                    <a:pt x="180626" y="9254"/>
                  </a:lnTo>
                  <a:lnTo>
                    <a:pt x="186457" y="8709"/>
                  </a:lnTo>
                  <a:lnTo>
                    <a:pt x="191192" y="7499"/>
                  </a:lnTo>
                  <a:lnTo>
                    <a:pt x="195194" y="5846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MARTInkAnnotation10"/>
            <p:cNvSpPr/>
            <p:nvPr/>
          </p:nvSpPr>
          <p:spPr>
            <a:xfrm>
              <a:off x="3558960" y="1722240"/>
              <a:ext cx="243000" cy="46440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43345" h="464821">
                  <a:moveTo>
                    <a:pt x="0" y="0"/>
                  </a:moveTo>
                  <a:lnTo>
                    <a:pt x="4045" y="0"/>
                  </a:lnTo>
                  <a:lnTo>
                    <a:pt x="6084" y="847"/>
                  </a:lnTo>
                  <a:lnTo>
                    <a:pt x="12997" y="6084"/>
                  </a:lnTo>
                  <a:lnTo>
                    <a:pt x="17912" y="10606"/>
                  </a:lnTo>
                  <a:lnTo>
                    <a:pt x="25176" y="15438"/>
                  </a:lnTo>
                  <a:lnTo>
                    <a:pt x="29484" y="17912"/>
                  </a:lnTo>
                  <a:lnTo>
                    <a:pt x="34896" y="20408"/>
                  </a:lnTo>
                  <a:lnTo>
                    <a:pt x="41044" y="22919"/>
                  </a:lnTo>
                  <a:lnTo>
                    <a:pt x="47683" y="25439"/>
                  </a:lnTo>
                  <a:lnTo>
                    <a:pt x="54648" y="28813"/>
                  </a:lnTo>
                  <a:lnTo>
                    <a:pt x="61832" y="32755"/>
                  </a:lnTo>
                  <a:lnTo>
                    <a:pt x="69161" y="37077"/>
                  </a:lnTo>
                  <a:lnTo>
                    <a:pt x="75741" y="41651"/>
                  </a:lnTo>
                  <a:lnTo>
                    <a:pt x="81821" y="46394"/>
                  </a:lnTo>
                  <a:lnTo>
                    <a:pt x="87567" y="51249"/>
                  </a:lnTo>
                  <a:lnTo>
                    <a:pt x="93938" y="57026"/>
                  </a:lnTo>
                  <a:lnTo>
                    <a:pt x="107790" y="70218"/>
                  </a:lnTo>
                  <a:lnTo>
                    <a:pt x="129869" y="91925"/>
                  </a:lnTo>
                  <a:lnTo>
                    <a:pt x="137379" y="100230"/>
                  </a:lnTo>
                  <a:lnTo>
                    <a:pt x="144927" y="109154"/>
                  </a:lnTo>
                  <a:lnTo>
                    <a:pt x="160085" y="128099"/>
                  </a:lnTo>
                  <a:lnTo>
                    <a:pt x="198128" y="177945"/>
                  </a:lnTo>
                  <a:lnTo>
                    <a:pt x="204900" y="188903"/>
                  </a:lnTo>
                  <a:lnTo>
                    <a:pt x="211106" y="200442"/>
                  </a:lnTo>
                  <a:lnTo>
                    <a:pt x="216938" y="212368"/>
                  </a:lnTo>
                  <a:lnTo>
                    <a:pt x="221672" y="223705"/>
                  </a:lnTo>
                  <a:lnTo>
                    <a:pt x="225674" y="234650"/>
                  </a:lnTo>
                  <a:lnTo>
                    <a:pt x="229190" y="245334"/>
                  </a:lnTo>
                  <a:lnTo>
                    <a:pt x="232380" y="255842"/>
                  </a:lnTo>
                  <a:lnTo>
                    <a:pt x="238183" y="276550"/>
                  </a:lnTo>
                  <a:lnTo>
                    <a:pt x="240069" y="287660"/>
                  </a:lnTo>
                  <a:lnTo>
                    <a:pt x="241326" y="299300"/>
                  </a:lnTo>
                  <a:lnTo>
                    <a:pt x="242164" y="311293"/>
                  </a:lnTo>
                  <a:lnTo>
                    <a:pt x="243095" y="331393"/>
                  </a:lnTo>
                  <a:lnTo>
                    <a:pt x="243344" y="340308"/>
                  </a:lnTo>
                  <a:lnTo>
                    <a:pt x="242662" y="348792"/>
                  </a:lnTo>
                  <a:lnTo>
                    <a:pt x="241362" y="356988"/>
                  </a:lnTo>
                  <a:lnTo>
                    <a:pt x="239648" y="364992"/>
                  </a:lnTo>
                  <a:lnTo>
                    <a:pt x="237659" y="372868"/>
                  </a:lnTo>
                  <a:lnTo>
                    <a:pt x="235486" y="380659"/>
                  </a:lnTo>
                  <a:lnTo>
                    <a:pt x="233191" y="388393"/>
                  </a:lnTo>
                  <a:lnTo>
                    <a:pt x="228382" y="401501"/>
                  </a:lnTo>
                  <a:lnTo>
                    <a:pt x="222577" y="412972"/>
                  </a:lnTo>
                  <a:lnTo>
                    <a:pt x="218658" y="418401"/>
                  </a:lnTo>
                  <a:lnTo>
                    <a:pt x="214352" y="423714"/>
                  </a:lnTo>
                  <a:lnTo>
                    <a:pt x="209788" y="428949"/>
                  </a:lnTo>
                  <a:lnTo>
                    <a:pt x="205052" y="434133"/>
                  </a:lnTo>
                  <a:lnTo>
                    <a:pt x="200202" y="439282"/>
                  </a:lnTo>
                  <a:lnTo>
                    <a:pt x="195274" y="443561"/>
                  </a:lnTo>
                  <a:lnTo>
                    <a:pt x="190296" y="447261"/>
                  </a:lnTo>
                  <a:lnTo>
                    <a:pt x="185284" y="450574"/>
                  </a:lnTo>
                  <a:lnTo>
                    <a:pt x="180250" y="452783"/>
                  </a:lnTo>
                  <a:lnTo>
                    <a:pt x="175200" y="454255"/>
                  </a:lnTo>
                  <a:lnTo>
                    <a:pt x="170140" y="455237"/>
                  </a:lnTo>
                  <a:lnTo>
                    <a:pt x="165073" y="456738"/>
                  </a:lnTo>
                  <a:lnTo>
                    <a:pt x="160002" y="458585"/>
                  </a:lnTo>
                  <a:lnTo>
                    <a:pt x="154928" y="460663"/>
                  </a:lnTo>
                  <a:lnTo>
                    <a:pt x="150699" y="462049"/>
                  </a:lnTo>
                  <a:lnTo>
                    <a:pt x="143743" y="463588"/>
                  </a:lnTo>
                  <a:lnTo>
                    <a:pt x="139855" y="463999"/>
                  </a:lnTo>
                  <a:lnTo>
                    <a:pt x="135569" y="464273"/>
                  </a:lnTo>
                  <a:lnTo>
                    <a:pt x="121921" y="464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SMARTInkAnnotation11"/>
            <p:cNvSpPr/>
            <p:nvPr/>
          </p:nvSpPr>
          <p:spPr>
            <a:xfrm>
              <a:off x="2279160" y="3506040"/>
              <a:ext cx="94320" cy="518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94339" h="52139">
                  <a:moveTo>
                    <a:pt x="83357" y="14049"/>
                  </a:moveTo>
                  <a:lnTo>
                    <a:pt x="83357" y="18094"/>
                  </a:lnTo>
                  <a:lnTo>
                    <a:pt x="82511" y="20133"/>
                  </a:lnTo>
                  <a:lnTo>
                    <a:pt x="81099" y="22338"/>
                  </a:lnTo>
                  <a:lnTo>
                    <a:pt x="76051" y="28882"/>
                  </a:lnTo>
                  <a:lnTo>
                    <a:pt x="71785" y="33213"/>
                  </a:lnTo>
                  <a:lnTo>
                    <a:pt x="68869" y="34446"/>
                  </a:lnTo>
                  <a:lnTo>
                    <a:pt x="65232" y="35267"/>
                  </a:lnTo>
                  <a:lnTo>
                    <a:pt x="61114" y="35814"/>
                  </a:lnTo>
                  <a:lnTo>
                    <a:pt x="57521" y="37026"/>
                  </a:lnTo>
                  <a:lnTo>
                    <a:pt x="54280" y="38680"/>
                  </a:lnTo>
                  <a:lnTo>
                    <a:pt x="51272" y="40630"/>
                  </a:lnTo>
                  <a:lnTo>
                    <a:pt x="46727" y="41929"/>
                  </a:lnTo>
                  <a:lnTo>
                    <a:pt x="41157" y="42796"/>
                  </a:lnTo>
                  <a:lnTo>
                    <a:pt x="34904" y="43374"/>
                  </a:lnTo>
                  <a:lnTo>
                    <a:pt x="29888" y="43759"/>
                  </a:lnTo>
                  <a:lnTo>
                    <a:pt x="25698" y="44016"/>
                  </a:lnTo>
                  <a:lnTo>
                    <a:pt x="18784" y="44301"/>
                  </a:lnTo>
                  <a:lnTo>
                    <a:pt x="12889" y="44428"/>
                  </a:lnTo>
                  <a:lnTo>
                    <a:pt x="10132" y="43615"/>
                  </a:lnTo>
                  <a:lnTo>
                    <a:pt x="7447" y="42227"/>
                  </a:lnTo>
                  <a:lnTo>
                    <a:pt x="1100" y="37960"/>
                  </a:lnTo>
                  <a:lnTo>
                    <a:pt x="579" y="36762"/>
                  </a:lnTo>
                  <a:lnTo>
                    <a:pt x="232" y="35118"/>
                  </a:lnTo>
                  <a:lnTo>
                    <a:pt x="0" y="33175"/>
                  </a:lnTo>
                  <a:lnTo>
                    <a:pt x="692" y="31033"/>
                  </a:lnTo>
                  <a:lnTo>
                    <a:pt x="2001" y="28758"/>
                  </a:lnTo>
                  <a:lnTo>
                    <a:pt x="3719" y="26395"/>
                  </a:lnTo>
                  <a:lnTo>
                    <a:pt x="4865" y="23973"/>
                  </a:lnTo>
                  <a:lnTo>
                    <a:pt x="5629" y="21512"/>
                  </a:lnTo>
                  <a:lnTo>
                    <a:pt x="6138" y="19024"/>
                  </a:lnTo>
                  <a:lnTo>
                    <a:pt x="8171" y="16519"/>
                  </a:lnTo>
                  <a:lnTo>
                    <a:pt x="11220" y="14003"/>
                  </a:lnTo>
                  <a:lnTo>
                    <a:pt x="14946" y="11478"/>
                  </a:lnTo>
                  <a:lnTo>
                    <a:pt x="19123" y="9795"/>
                  </a:lnTo>
                  <a:lnTo>
                    <a:pt x="23601" y="8673"/>
                  </a:lnTo>
                  <a:lnTo>
                    <a:pt x="28280" y="7925"/>
                  </a:lnTo>
                  <a:lnTo>
                    <a:pt x="33092" y="6580"/>
                  </a:lnTo>
                  <a:lnTo>
                    <a:pt x="37994" y="4836"/>
                  </a:lnTo>
                  <a:lnTo>
                    <a:pt x="42955" y="2827"/>
                  </a:lnTo>
                  <a:lnTo>
                    <a:pt x="47956" y="1488"/>
                  </a:lnTo>
                  <a:lnTo>
                    <a:pt x="52983" y="595"/>
                  </a:lnTo>
                  <a:lnTo>
                    <a:pt x="58027" y="0"/>
                  </a:lnTo>
                  <a:lnTo>
                    <a:pt x="62237" y="450"/>
                  </a:lnTo>
                  <a:lnTo>
                    <a:pt x="65891" y="1596"/>
                  </a:lnTo>
                  <a:lnTo>
                    <a:pt x="69173" y="3207"/>
                  </a:lnTo>
                  <a:lnTo>
                    <a:pt x="72208" y="4281"/>
                  </a:lnTo>
                  <a:lnTo>
                    <a:pt x="75077" y="4997"/>
                  </a:lnTo>
                  <a:lnTo>
                    <a:pt x="77838" y="5474"/>
                  </a:lnTo>
                  <a:lnTo>
                    <a:pt x="80524" y="6639"/>
                  </a:lnTo>
                  <a:lnTo>
                    <a:pt x="83162" y="8262"/>
                  </a:lnTo>
                  <a:lnTo>
                    <a:pt x="85767" y="10192"/>
                  </a:lnTo>
                  <a:lnTo>
                    <a:pt x="88350" y="11478"/>
                  </a:lnTo>
                  <a:lnTo>
                    <a:pt x="90919" y="12335"/>
                  </a:lnTo>
                  <a:lnTo>
                    <a:pt x="93479" y="12906"/>
                  </a:lnTo>
                  <a:lnTo>
                    <a:pt x="94338" y="14980"/>
                  </a:lnTo>
                  <a:lnTo>
                    <a:pt x="94064" y="18057"/>
                  </a:lnTo>
                  <a:lnTo>
                    <a:pt x="93035" y="21801"/>
                  </a:lnTo>
                  <a:lnTo>
                    <a:pt x="91503" y="24297"/>
                  </a:lnTo>
                  <a:lnTo>
                    <a:pt x="89634" y="25961"/>
                  </a:lnTo>
                  <a:lnTo>
                    <a:pt x="87542" y="27070"/>
                  </a:lnTo>
                  <a:lnTo>
                    <a:pt x="85300" y="28656"/>
                  </a:lnTo>
                  <a:lnTo>
                    <a:pt x="82959" y="30561"/>
                  </a:lnTo>
                  <a:lnTo>
                    <a:pt x="80552" y="32677"/>
                  </a:lnTo>
                  <a:lnTo>
                    <a:pt x="78100" y="34934"/>
                  </a:lnTo>
                  <a:lnTo>
                    <a:pt x="73119" y="39700"/>
                  </a:lnTo>
                  <a:lnTo>
                    <a:pt x="69758" y="42157"/>
                  </a:lnTo>
                  <a:lnTo>
                    <a:pt x="65824" y="44641"/>
                  </a:lnTo>
                  <a:lnTo>
                    <a:pt x="61509" y="47144"/>
                  </a:lnTo>
                  <a:lnTo>
                    <a:pt x="57785" y="48812"/>
                  </a:lnTo>
                  <a:lnTo>
                    <a:pt x="54455" y="49924"/>
                  </a:lnTo>
                  <a:lnTo>
                    <a:pt x="51389" y="50666"/>
                  </a:lnTo>
                  <a:lnTo>
                    <a:pt x="47652" y="51160"/>
                  </a:lnTo>
                  <a:lnTo>
                    <a:pt x="43467" y="51490"/>
                  </a:lnTo>
                  <a:lnTo>
                    <a:pt x="35148" y="51857"/>
                  </a:lnTo>
                  <a:lnTo>
                    <a:pt x="25705" y="52062"/>
                  </a:lnTo>
                  <a:lnTo>
                    <a:pt x="16383" y="52138"/>
                  </a:lnTo>
                  <a:lnTo>
                    <a:pt x="15001" y="51295"/>
                  </a:lnTo>
                  <a:lnTo>
                    <a:pt x="13233" y="49887"/>
                  </a:lnTo>
                  <a:lnTo>
                    <a:pt x="11208" y="48101"/>
                  </a:lnTo>
                  <a:lnTo>
                    <a:pt x="10704" y="46910"/>
                  </a:lnTo>
                  <a:lnTo>
                    <a:pt x="11215" y="46117"/>
                  </a:lnTo>
                  <a:lnTo>
                    <a:pt x="12402" y="45587"/>
                  </a:lnTo>
                  <a:lnTo>
                    <a:pt x="14041" y="44388"/>
                  </a:lnTo>
                  <a:lnTo>
                    <a:pt x="15980" y="42742"/>
                  </a:lnTo>
                  <a:lnTo>
                    <a:pt x="18119" y="40798"/>
                  </a:lnTo>
                  <a:lnTo>
                    <a:pt x="21238" y="38655"/>
                  </a:lnTo>
                  <a:lnTo>
                    <a:pt x="25011" y="36380"/>
                  </a:lnTo>
                  <a:lnTo>
                    <a:pt x="29220" y="34016"/>
                  </a:lnTo>
                  <a:lnTo>
                    <a:pt x="32872" y="32440"/>
                  </a:lnTo>
                  <a:lnTo>
                    <a:pt x="36154" y="31390"/>
                  </a:lnTo>
                  <a:lnTo>
                    <a:pt x="39188" y="30690"/>
                  </a:lnTo>
                  <a:lnTo>
                    <a:pt x="42058" y="30223"/>
                  </a:lnTo>
                  <a:lnTo>
                    <a:pt x="44817" y="29911"/>
                  </a:lnTo>
                  <a:lnTo>
                    <a:pt x="47504" y="29704"/>
                  </a:lnTo>
                  <a:lnTo>
                    <a:pt x="50988" y="29566"/>
                  </a:lnTo>
                  <a:lnTo>
                    <a:pt x="63136" y="29371"/>
                  </a:lnTo>
                  <a:lnTo>
                    <a:pt x="75577" y="29290"/>
                  </a:lnTo>
                  <a:lnTo>
                    <a:pt x="74783" y="30137"/>
                  </a:lnTo>
                  <a:lnTo>
                    <a:pt x="71645" y="33334"/>
                  </a:lnTo>
                  <a:lnTo>
                    <a:pt x="69622" y="34526"/>
                  </a:lnTo>
                  <a:lnTo>
                    <a:pt x="67427" y="35320"/>
                  </a:lnTo>
                  <a:lnTo>
                    <a:pt x="65117" y="35850"/>
                  </a:lnTo>
                  <a:lnTo>
                    <a:pt x="61884" y="37050"/>
                  </a:lnTo>
                  <a:lnTo>
                    <a:pt x="58035" y="38696"/>
                  </a:lnTo>
                  <a:lnTo>
                    <a:pt x="53776" y="40641"/>
                  </a:lnTo>
                  <a:lnTo>
                    <a:pt x="49243" y="41937"/>
                  </a:lnTo>
                  <a:lnTo>
                    <a:pt x="44528" y="42801"/>
                  </a:lnTo>
                  <a:lnTo>
                    <a:pt x="39691" y="43377"/>
                  </a:lnTo>
                  <a:lnTo>
                    <a:pt x="34773" y="43761"/>
                  </a:lnTo>
                  <a:lnTo>
                    <a:pt x="29801" y="44017"/>
                  </a:lnTo>
                  <a:lnTo>
                    <a:pt x="16971" y="44378"/>
                  </a:lnTo>
                  <a:lnTo>
                    <a:pt x="9095" y="44499"/>
                  </a:lnTo>
                  <a:lnTo>
                    <a:pt x="8449" y="43662"/>
                  </a:lnTo>
                  <a:lnTo>
                    <a:pt x="8019" y="42258"/>
                  </a:lnTo>
                  <a:lnTo>
                    <a:pt x="7327" y="37966"/>
                  </a:lnTo>
                  <a:lnTo>
                    <a:pt x="8117" y="36767"/>
                  </a:lnTo>
                  <a:lnTo>
                    <a:pt x="9491" y="35120"/>
                  </a:lnTo>
                  <a:lnTo>
                    <a:pt x="11252" y="33177"/>
                  </a:lnTo>
                  <a:lnTo>
                    <a:pt x="13274" y="31881"/>
                  </a:lnTo>
                  <a:lnTo>
                    <a:pt x="15469" y="31017"/>
                  </a:lnTo>
                  <a:lnTo>
                    <a:pt x="17778" y="30441"/>
                  </a:lnTo>
                  <a:lnTo>
                    <a:pt x="20164" y="29211"/>
                  </a:lnTo>
                  <a:lnTo>
                    <a:pt x="22602" y="27543"/>
                  </a:lnTo>
                  <a:lnTo>
                    <a:pt x="25074" y="25585"/>
                  </a:lnTo>
                  <a:lnTo>
                    <a:pt x="28415" y="23433"/>
                  </a:lnTo>
                  <a:lnTo>
                    <a:pt x="32336" y="21152"/>
                  </a:lnTo>
                  <a:lnTo>
                    <a:pt x="36643" y="18784"/>
                  </a:lnTo>
                  <a:lnTo>
                    <a:pt x="40361" y="17206"/>
                  </a:lnTo>
                  <a:lnTo>
                    <a:pt x="43686" y="16154"/>
                  </a:lnTo>
                  <a:lnTo>
                    <a:pt x="52877" y="140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SMARTInkAnnotation12"/>
            <p:cNvSpPr/>
            <p:nvPr/>
          </p:nvSpPr>
          <p:spPr>
            <a:xfrm>
              <a:off x="4877280" y="3238200"/>
              <a:ext cx="167040" cy="4341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67396" h="434341">
                  <a:moveTo>
                    <a:pt x="152154" y="0"/>
                  </a:moveTo>
                  <a:lnTo>
                    <a:pt x="148109" y="0"/>
                  </a:lnTo>
                  <a:lnTo>
                    <a:pt x="146071" y="847"/>
                  </a:lnTo>
                  <a:lnTo>
                    <a:pt x="141549" y="4045"/>
                  </a:lnTo>
                  <a:lnTo>
                    <a:pt x="136717" y="8289"/>
                  </a:lnTo>
                  <a:lnTo>
                    <a:pt x="134242" y="10606"/>
                  </a:lnTo>
                  <a:lnTo>
                    <a:pt x="113368" y="31208"/>
                  </a:lnTo>
                  <a:lnTo>
                    <a:pt x="108517" y="36045"/>
                  </a:lnTo>
                  <a:lnTo>
                    <a:pt x="103590" y="42657"/>
                  </a:lnTo>
                  <a:lnTo>
                    <a:pt x="98611" y="50451"/>
                  </a:lnTo>
                  <a:lnTo>
                    <a:pt x="93599" y="59034"/>
                  </a:lnTo>
                  <a:lnTo>
                    <a:pt x="87718" y="67296"/>
                  </a:lnTo>
                  <a:lnTo>
                    <a:pt x="81256" y="75344"/>
                  </a:lnTo>
                  <a:lnTo>
                    <a:pt x="74409" y="83250"/>
                  </a:lnTo>
                  <a:lnTo>
                    <a:pt x="68151" y="91060"/>
                  </a:lnTo>
                  <a:lnTo>
                    <a:pt x="62285" y="98806"/>
                  </a:lnTo>
                  <a:lnTo>
                    <a:pt x="36659" y="133535"/>
                  </a:lnTo>
                  <a:lnTo>
                    <a:pt x="31131" y="143210"/>
                  </a:lnTo>
                  <a:lnTo>
                    <a:pt x="26599" y="153047"/>
                  </a:lnTo>
                  <a:lnTo>
                    <a:pt x="22731" y="162991"/>
                  </a:lnTo>
                  <a:lnTo>
                    <a:pt x="18459" y="173008"/>
                  </a:lnTo>
                  <a:lnTo>
                    <a:pt x="9196" y="193168"/>
                  </a:lnTo>
                  <a:lnTo>
                    <a:pt x="6049" y="203285"/>
                  </a:lnTo>
                  <a:lnTo>
                    <a:pt x="3951" y="213417"/>
                  </a:lnTo>
                  <a:lnTo>
                    <a:pt x="2552" y="223558"/>
                  </a:lnTo>
                  <a:lnTo>
                    <a:pt x="1619" y="233706"/>
                  </a:lnTo>
                  <a:lnTo>
                    <a:pt x="998" y="243857"/>
                  </a:lnTo>
                  <a:lnTo>
                    <a:pt x="307" y="264168"/>
                  </a:lnTo>
                  <a:lnTo>
                    <a:pt x="0" y="284483"/>
                  </a:lnTo>
                  <a:lnTo>
                    <a:pt x="1612" y="294642"/>
                  </a:lnTo>
                  <a:lnTo>
                    <a:pt x="4379" y="304802"/>
                  </a:lnTo>
                  <a:lnTo>
                    <a:pt x="7918" y="314961"/>
                  </a:lnTo>
                  <a:lnTo>
                    <a:pt x="11970" y="324274"/>
                  </a:lnTo>
                  <a:lnTo>
                    <a:pt x="16365" y="333023"/>
                  </a:lnTo>
                  <a:lnTo>
                    <a:pt x="20988" y="341395"/>
                  </a:lnTo>
                  <a:lnTo>
                    <a:pt x="27457" y="349517"/>
                  </a:lnTo>
                  <a:lnTo>
                    <a:pt x="35156" y="357471"/>
                  </a:lnTo>
                  <a:lnTo>
                    <a:pt x="43676" y="365314"/>
                  </a:lnTo>
                  <a:lnTo>
                    <a:pt x="52741" y="373083"/>
                  </a:lnTo>
                  <a:lnTo>
                    <a:pt x="62172" y="380802"/>
                  </a:lnTo>
                  <a:lnTo>
                    <a:pt x="71846" y="388488"/>
                  </a:lnTo>
                  <a:lnTo>
                    <a:pt x="82529" y="395306"/>
                  </a:lnTo>
                  <a:lnTo>
                    <a:pt x="93884" y="401544"/>
                  </a:lnTo>
                  <a:lnTo>
                    <a:pt x="105687" y="407396"/>
                  </a:lnTo>
                  <a:lnTo>
                    <a:pt x="115249" y="412991"/>
                  </a:lnTo>
                  <a:lnTo>
                    <a:pt x="123318" y="418414"/>
                  </a:lnTo>
                  <a:lnTo>
                    <a:pt x="130390" y="423723"/>
                  </a:lnTo>
                  <a:lnTo>
                    <a:pt x="137645" y="427262"/>
                  </a:lnTo>
                  <a:lnTo>
                    <a:pt x="145021" y="429621"/>
                  </a:lnTo>
                  <a:lnTo>
                    <a:pt x="167395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SMARTInkAnnotation13"/>
            <p:cNvSpPr/>
            <p:nvPr/>
          </p:nvSpPr>
          <p:spPr>
            <a:xfrm>
              <a:off x="5761080" y="3200040"/>
              <a:ext cx="158400" cy="4723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158467" h="472441">
                  <a:moveTo>
                    <a:pt x="0" y="0"/>
                  </a:moveTo>
                  <a:lnTo>
                    <a:pt x="6561" y="0"/>
                  </a:lnTo>
                  <a:lnTo>
                    <a:pt x="11352" y="4045"/>
                  </a:lnTo>
                  <a:lnTo>
                    <a:pt x="14342" y="6084"/>
                  </a:lnTo>
                  <a:lnTo>
                    <a:pt x="18028" y="8289"/>
                  </a:lnTo>
                  <a:lnTo>
                    <a:pt x="22179" y="10606"/>
                  </a:lnTo>
                  <a:lnTo>
                    <a:pt x="26639" y="13844"/>
                  </a:lnTo>
                  <a:lnTo>
                    <a:pt x="31306" y="17696"/>
                  </a:lnTo>
                  <a:lnTo>
                    <a:pt x="36111" y="21957"/>
                  </a:lnTo>
                  <a:lnTo>
                    <a:pt x="45965" y="31208"/>
                  </a:lnTo>
                  <a:lnTo>
                    <a:pt x="66089" y="50944"/>
                  </a:lnTo>
                  <a:lnTo>
                    <a:pt x="71999" y="57669"/>
                  </a:lnTo>
                  <a:lnTo>
                    <a:pt x="78479" y="65539"/>
                  </a:lnTo>
                  <a:lnTo>
                    <a:pt x="85340" y="74173"/>
                  </a:lnTo>
                  <a:lnTo>
                    <a:pt x="92453" y="82469"/>
                  </a:lnTo>
                  <a:lnTo>
                    <a:pt x="99736" y="90539"/>
                  </a:lnTo>
                  <a:lnTo>
                    <a:pt x="107131" y="98459"/>
                  </a:lnTo>
                  <a:lnTo>
                    <a:pt x="113754" y="107973"/>
                  </a:lnTo>
                  <a:lnTo>
                    <a:pt x="119863" y="118549"/>
                  </a:lnTo>
                  <a:lnTo>
                    <a:pt x="125628" y="129832"/>
                  </a:lnTo>
                  <a:lnTo>
                    <a:pt x="130319" y="141589"/>
                  </a:lnTo>
                  <a:lnTo>
                    <a:pt x="134293" y="153659"/>
                  </a:lnTo>
                  <a:lnTo>
                    <a:pt x="137789" y="165939"/>
                  </a:lnTo>
                  <a:lnTo>
                    <a:pt x="140967" y="178360"/>
                  </a:lnTo>
                  <a:lnTo>
                    <a:pt x="146754" y="203448"/>
                  </a:lnTo>
                  <a:lnTo>
                    <a:pt x="154772" y="241374"/>
                  </a:lnTo>
                  <a:lnTo>
                    <a:pt x="156522" y="254896"/>
                  </a:lnTo>
                  <a:lnTo>
                    <a:pt x="157689" y="268991"/>
                  </a:lnTo>
                  <a:lnTo>
                    <a:pt x="158466" y="283467"/>
                  </a:lnTo>
                  <a:lnTo>
                    <a:pt x="157290" y="297351"/>
                  </a:lnTo>
                  <a:lnTo>
                    <a:pt x="154814" y="310841"/>
                  </a:lnTo>
                  <a:lnTo>
                    <a:pt x="142717" y="358863"/>
                  </a:lnTo>
                  <a:lnTo>
                    <a:pt x="139171" y="369629"/>
                  </a:lnTo>
                  <a:lnTo>
                    <a:pt x="135114" y="380193"/>
                  </a:lnTo>
                  <a:lnTo>
                    <a:pt x="130717" y="390622"/>
                  </a:lnTo>
                  <a:lnTo>
                    <a:pt x="126092" y="399268"/>
                  </a:lnTo>
                  <a:lnTo>
                    <a:pt x="121314" y="406726"/>
                  </a:lnTo>
                  <a:lnTo>
                    <a:pt x="116436" y="413391"/>
                  </a:lnTo>
                  <a:lnTo>
                    <a:pt x="106501" y="427569"/>
                  </a:lnTo>
                  <a:lnTo>
                    <a:pt x="101481" y="434906"/>
                  </a:lnTo>
                  <a:lnTo>
                    <a:pt x="95594" y="441491"/>
                  </a:lnTo>
                  <a:lnTo>
                    <a:pt x="89129" y="447574"/>
                  </a:lnTo>
                  <a:lnTo>
                    <a:pt x="82280" y="453323"/>
                  </a:lnTo>
                  <a:lnTo>
                    <a:pt x="76020" y="458002"/>
                  </a:lnTo>
                  <a:lnTo>
                    <a:pt x="70154" y="461968"/>
                  </a:lnTo>
                  <a:lnTo>
                    <a:pt x="64549" y="465459"/>
                  </a:lnTo>
                  <a:lnTo>
                    <a:pt x="59966" y="467785"/>
                  </a:lnTo>
                  <a:lnTo>
                    <a:pt x="56065" y="469338"/>
                  </a:lnTo>
                  <a:lnTo>
                    <a:pt x="52616" y="470371"/>
                  </a:lnTo>
                  <a:lnTo>
                    <a:pt x="48625" y="471061"/>
                  </a:lnTo>
                  <a:lnTo>
                    <a:pt x="44270" y="471520"/>
                  </a:lnTo>
                  <a:lnTo>
                    <a:pt x="39673" y="471827"/>
                  </a:lnTo>
                  <a:lnTo>
                    <a:pt x="32309" y="472168"/>
                  </a:lnTo>
                  <a:lnTo>
                    <a:pt x="22860" y="472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SMARTInkAnnotation14"/>
            <p:cNvSpPr/>
            <p:nvPr/>
          </p:nvSpPr>
          <p:spPr>
            <a:xfrm>
              <a:off x="1577880" y="4266720"/>
              <a:ext cx="228600" cy="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8601" h="1">
                  <a:moveTo>
                    <a:pt x="0" y="0"/>
                  </a:move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SMARTInkAnnotation15"/>
            <p:cNvSpPr/>
            <p:nvPr/>
          </p:nvSpPr>
          <p:spPr>
            <a:xfrm>
              <a:off x="1935720" y="4099320"/>
              <a:ext cx="243720" cy="2664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43841" h="266697">
                  <a:moveTo>
                    <a:pt x="0" y="38096"/>
                  </a:moveTo>
                  <a:lnTo>
                    <a:pt x="0" y="30790"/>
                  </a:lnTo>
                  <a:lnTo>
                    <a:pt x="6084" y="24455"/>
                  </a:lnTo>
                  <a:lnTo>
                    <a:pt x="10606" y="19898"/>
                  </a:lnTo>
                  <a:lnTo>
                    <a:pt x="17696" y="15050"/>
                  </a:lnTo>
                  <a:lnTo>
                    <a:pt x="21957" y="12572"/>
                  </a:lnTo>
                  <a:lnTo>
                    <a:pt x="26491" y="10074"/>
                  </a:lnTo>
                  <a:lnTo>
                    <a:pt x="36045" y="5040"/>
                  </a:lnTo>
                  <a:lnTo>
                    <a:pt x="40963" y="3358"/>
                  </a:lnTo>
                  <a:lnTo>
                    <a:pt x="45936" y="2238"/>
                  </a:lnTo>
                  <a:lnTo>
                    <a:pt x="50944" y="1490"/>
                  </a:lnTo>
                  <a:lnTo>
                    <a:pt x="56823" y="993"/>
                  </a:lnTo>
                  <a:lnTo>
                    <a:pt x="63282" y="660"/>
                  </a:lnTo>
                  <a:lnTo>
                    <a:pt x="76385" y="292"/>
                  </a:lnTo>
                  <a:lnTo>
                    <a:pt x="107875" y="35"/>
                  </a:lnTo>
                  <a:lnTo>
                    <a:pt x="145944" y="0"/>
                  </a:lnTo>
                  <a:lnTo>
                    <a:pt x="152330" y="845"/>
                  </a:lnTo>
                  <a:lnTo>
                    <a:pt x="158280" y="2255"/>
                  </a:lnTo>
                  <a:lnTo>
                    <a:pt x="163940" y="4042"/>
                  </a:lnTo>
                  <a:lnTo>
                    <a:pt x="169407" y="6081"/>
                  </a:lnTo>
                  <a:lnTo>
                    <a:pt x="174744" y="8285"/>
                  </a:lnTo>
                  <a:lnTo>
                    <a:pt x="179996" y="10603"/>
                  </a:lnTo>
                  <a:lnTo>
                    <a:pt x="184344" y="12994"/>
                  </a:lnTo>
                  <a:lnTo>
                    <a:pt x="191433" y="17909"/>
                  </a:lnTo>
                  <a:lnTo>
                    <a:pt x="197406" y="22915"/>
                  </a:lnTo>
                  <a:lnTo>
                    <a:pt x="200184" y="25435"/>
                  </a:lnTo>
                  <a:lnTo>
                    <a:pt x="202036" y="27963"/>
                  </a:lnTo>
                  <a:lnTo>
                    <a:pt x="205489" y="35564"/>
                  </a:lnTo>
                  <a:lnTo>
                    <a:pt x="209297" y="40639"/>
                  </a:lnTo>
                  <a:lnTo>
                    <a:pt x="209805" y="43178"/>
                  </a:lnTo>
                  <a:lnTo>
                    <a:pt x="209297" y="45718"/>
                  </a:lnTo>
                  <a:lnTo>
                    <a:pt x="207321" y="50797"/>
                  </a:lnTo>
                  <a:lnTo>
                    <a:pt x="206443" y="55877"/>
                  </a:lnTo>
                  <a:lnTo>
                    <a:pt x="203795" y="63214"/>
                  </a:lnTo>
                  <a:lnTo>
                    <a:pt x="199795" y="71273"/>
                  </a:lnTo>
                  <a:lnTo>
                    <a:pt x="195196" y="77677"/>
                  </a:lnTo>
                  <a:lnTo>
                    <a:pt x="188072" y="85604"/>
                  </a:lnTo>
                  <a:lnTo>
                    <a:pt x="183801" y="90087"/>
                  </a:lnTo>
                  <a:lnTo>
                    <a:pt x="180108" y="94771"/>
                  </a:lnTo>
                  <a:lnTo>
                    <a:pt x="176798" y="99586"/>
                  </a:lnTo>
                  <a:lnTo>
                    <a:pt x="173746" y="104489"/>
                  </a:lnTo>
                  <a:lnTo>
                    <a:pt x="170017" y="108605"/>
                  </a:lnTo>
                  <a:lnTo>
                    <a:pt x="165838" y="112195"/>
                  </a:lnTo>
                  <a:lnTo>
                    <a:pt x="161358" y="115436"/>
                  </a:lnTo>
                  <a:lnTo>
                    <a:pt x="156679" y="119289"/>
                  </a:lnTo>
                  <a:lnTo>
                    <a:pt x="151866" y="123551"/>
                  </a:lnTo>
                  <a:lnTo>
                    <a:pt x="142003" y="132803"/>
                  </a:lnTo>
                  <a:lnTo>
                    <a:pt x="131975" y="142559"/>
                  </a:lnTo>
                  <a:lnTo>
                    <a:pt x="126930" y="146685"/>
                  </a:lnTo>
                  <a:lnTo>
                    <a:pt x="121873" y="150282"/>
                  </a:lnTo>
                  <a:lnTo>
                    <a:pt x="116809" y="153527"/>
                  </a:lnTo>
                  <a:lnTo>
                    <a:pt x="111739" y="157383"/>
                  </a:lnTo>
                  <a:lnTo>
                    <a:pt x="106666" y="161648"/>
                  </a:lnTo>
                  <a:lnTo>
                    <a:pt x="101591" y="166184"/>
                  </a:lnTo>
                  <a:lnTo>
                    <a:pt x="95667" y="170054"/>
                  </a:lnTo>
                  <a:lnTo>
                    <a:pt x="89178" y="173482"/>
                  </a:lnTo>
                  <a:lnTo>
                    <a:pt x="82312" y="176613"/>
                  </a:lnTo>
                  <a:lnTo>
                    <a:pt x="76888" y="180395"/>
                  </a:lnTo>
                  <a:lnTo>
                    <a:pt x="72425" y="184608"/>
                  </a:lnTo>
                  <a:lnTo>
                    <a:pt x="68603" y="189111"/>
                  </a:lnTo>
                  <a:lnTo>
                    <a:pt x="62099" y="196371"/>
                  </a:lnTo>
                  <a:lnTo>
                    <a:pt x="55540" y="202421"/>
                  </a:lnTo>
                  <a:lnTo>
                    <a:pt x="51420" y="205220"/>
                  </a:lnTo>
                  <a:lnTo>
                    <a:pt x="46980" y="207932"/>
                  </a:lnTo>
                  <a:lnTo>
                    <a:pt x="39789" y="213203"/>
                  </a:lnTo>
                  <a:lnTo>
                    <a:pt x="33771" y="218368"/>
                  </a:lnTo>
                  <a:lnTo>
                    <a:pt x="28274" y="223486"/>
                  </a:lnTo>
                  <a:lnTo>
                    <a:pt x="26469" y="226036"/>
                  </a:lnTo>
                  <a:lnTo>
                    <a:pt x="24464" y="231127"/>
                  </a:lnTo>
                  <a:lnTo>
                    <a:pt x="23335" y="238753"/>
                  </a:lnTo>
                  <a:lnTo>
                    <a:pt x="23001" y="246375"/>
                  </a:lnTo>
                  <a:lnTo>
                    <a:pt x="22902" y="253996"/>
                  </a:lnTo>
                  <a:lnTo>
                    <a:pt x="23735" y="255690"/>
                  </a:lnTo>
                  <a:lnTo>
                    <a:pt x="25136" y="256818"/>
                  </a:lnTo>
                  <a:lnTo>
                    <a:pt x="26917" y="257571"/>
                  </a:lnTo>
                  <a:lnTo>
                    <a:pt x="33470" y="262676"/>
                  </a:lnTo>
                  <a:lnTo>
                    <a:pt x="36706" y="264015"/>
                  </a:lnTo>
                  <a:lnTo>
                    <a:pt x="40558" y="264909"/>
                  </a:lnTo>
                  <a:lnTo>
                    <a:pt x="44819" y="265504"/>
                  </a:lnTo>
                  <a:lnTo>
                    <a:pt x="49352" y="265902"/>
                  </a:lnTo>
                  <a:lnTo>
                    <a:pt x="54068" y="266166"/>
                  </a:lnTo>
                  <a:lnTo>
                    <a:pt x="58905" y="266343"/>
                  </a:lnTo>
                  <a:lnTo>
                    <a:pt x="77849" y="266592"/>
                  </a:lnTo>
                  <a:lnTo>
                    <a:pt x="227007" y="266696"/>
                  </a:lnTo>
                  <a:lnTo>
                    <a:pt x="230925" y="265850"/>
                  </a:lnTo>
                  <a:lnTo>
                    <a:pt x="237536" y="262651"/>
                  </a:lnTo>
                  <a:lnTo>
                    <a:pt x="243840" y="2590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SMARTInkAnnotation16"/>
            <p:cNvSpPr/>
            <p:nvPr/>
          </p:nvSpPr>
          <p:spPr>
            <a:xfrm>
              <a:off x="2446560" y="4030560"/>
              <a:ext cx="151920" cy="449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52261" h="449581">
                  <a:moveTo>
                    <a:pt x="91300" y="0"/>
                  </a:moveTo>
                  <a:lnTo>
                    <a:pt x="54204" y="37096"/>
                  </a:lnTo>
                  <a:lnTo>
                    <a:pt x="50482" y="41664"/>
                  </a:lnTo>
                  <a:lnTo>
                    <a:pt x="47155" y="46403"/>
                  </a:lnTo>
                  <a:lnTo>
                    <a:pt x="44090" y="51255"/>
                  </a:lnTo>
                  <a:lnTo>
                    <a:pt x="41200" y="57030"/>
                  </a:lnTo>
                  <a:lnTo>
                    <a:pt x="38427" y="63420"/>
                  </a:lnTo>
                  <a:lnTo>
                    <a:pt x="35731" y="70220"/>
                  </a:lnTo>
                  <a:lnTo>
                    <a:pt x="32241" y="76447"/>
                  </a:lnTo>
                  <a:lnTo>
                    <a:pt x="28220" y="82291"/>
                  </a:lnTo>
                  <a:lnTo>
                    <a:pt x="23847" y="87881"/>
                  </a:lnTo>
                  <a:lnTo>
                    <a:pt x="20085" y="94994"/>
                  </a:lnTo>
                  <a:lnTo>
                    <a:pt x="16730" y="103123"/>
                  </a:lnTo>
                  <a:lnTo>
                    <a:pt x="5262" y="136457"/>
                  </a:lnTo>
                  <a:lnTo>
                    <a:pt x="3461" y="145158"/>
                  </a:lnTo>
                  <a:lnTo>
                    <a:pt x="2261" y="154346"/>
                  </a:lnTo>
                  <a:lnTo>
                    <a:pt x="1460" y="163857"/>
                  </a:lnTo>
                  <a:lnTo>
                    <a:pt x="927" y="173585"/>
                  </a:lnTo>
                  <a:lnTo>
                    <a:pt x="334" y="193424"/>
                  </a:lnTo>
                  <a:lnTo>
                    <a:pt x="0" y="219589"/>
                  </a:lnTo>
                  <a:lnTo>
                    <a:pt x="800" y="228519"/>
                  </a:lnTo>
                  <a:lnTo>
                    <a:pt x="2180" y="237859"/>
                  </a:lnTo>
                  <a:lnTo>
                    <a:pt x="3947" y="247473"/>
                  </a:lnTo>
                  <a:lnTo>
                    <a:pt x="6818" y="257269"/>
                  </a:lnTo>
                  <a:lnTo>
                    <a:pt x="10425" y="267186"/>
                  </a:lnTo>
                  <a:lnTo>
                    <a:pt x="14524" y="277184"/>
                  </a:lnTo>
                  <a:lnTo>
                    <a:pt x="18949" y="287236"/>
                  </a:lnTo>
                  <a:lnTo>
                    <a:pt x="28382" y="307437"/>
                  </a:lnTo>
                  <a:lnTo>
                    <a:pt x="33268" y="316717"/>
                  </a:lnTo>
                  <a:lnTo>
                    <a:pt x="38219" y="325445"/>
                  </a:lnTo>
                  <a:lnTo>
                    <a:pt x="43212" y="333804"/>
                  </a:lnTo>
                  <a:lnTo>
                    <a:pt x="49928" y="342762"/>
                  </a:lnTo>
                  <a:lnTo>
                    <a:pt x="57792" y="352122"/>
                  </a:lnTo>
                  <a:lnTo>
                    <a:pt x="66422" y="361748"/>
                  </a:lnTo>
                  <a:lnTo>
                    <a:pt x="82783" y="379217"/>
                  </a:lnTo>
                  <a:lnTo>
                    <a:pt x="113983" y="411128"/>
                  </a:lnTo>
                  <a:lnTo>
                    <a:pt x="120815" y="417172"/>
                  </a:lnTo>
                  <a:lnTo>
                    <a:pt x="127063" y="422048"/>
                  </a:lnTo>
                  <a:lnTo>
                    <a:pt x="132922" y="426146"/>
                  </a:lnTo>
                  <a:lnTo>
                    <a:pt x="137675" y="430571"/>
                  </a:lnTo>
                  <a:lnTo>
                    <a:pt x="141690" y="435214"/>
                  </a:lnTo>
                  <a:lnTo>
                    <a:pt x="152260" y="449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SMARTInkAnnotation17"/>
            <p:cNvSpPr/>
            <p:nvPr/>
          </p:nvSpPr>
          <p:spPr>
            <a:xfrm>
              <a:off x="4168440" y="4038120"/>
              <a:ext cx="144720" cy="4798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44738" h="480061">
                  <a:moveTo>
                    <a:pt x="0" y="0"/>
                  </a:moveTo>
                  <a:lnTo>
                    <a:pt x="6560" y="0"/>
                  </a:lnTo>
                  <a:lnTo>
                    <a:pt x="9407" y="2258"/>
                  </a:lnTo>
                  <a:lnTo>
                    <a:pt x="11351" y="4045"/>
                  </a:lnTo>
                  <a:lnTo>
                    <a:pt x="13494" y="5237"/>
                  </a:lnTo>
                  <a:lnTo>
                    <a:pt x="15769" y="6031"/>
                  </a:lnTo>
                  <a:lnTo>
                    <a:pt x="18133" y="6561"/>
                  </a:lnTo>
                  <a:lnTo>
                    <a:pt x="21401" y="7760"/>
                  </a:lnTo>
                  <a:lnTo>
                    <a:pt x="25274" y="9408"/>
                  </a:lnTo>
                  <a:lnTo>
                    <a:pt x="29549" y="11352"/>
                  </a:lnTo>
                  <a:lnTo>
                    <a:pt x="33246" y="14341"/>
                  </a:lnTo>
                  <a:lnTo>
                    <a:pt x="36557" y="18027"/>
                  </a:lnTo>
                  <a:lnTo>
                    <a:pt x="39611" y="22178"/>
                  </a:lnTo>
                  <a:lnTo>
                    <a:pt x="44188" y="25792"/>
                  </a:lnTo>
                  <a:lnTo>
                    <a:pt x="49778" y="29048"/>
                  </a:lnTo>
                  <a:lnTo>
                    <a:pt x="56045" y="32065"/>
                  </a:lnTo>
                  <a:lnTo>
                    <a:pt x="61069" y="35770"/>
                  </a:lnTo>
                  <a:lnTo>
                    <a:pt x="65266" y="39934"/>
                  </a:lnTo>
                  <a:lnTo>
                    <a:pt x="68910" y="44402"/>
                  </a:lnTo>
                  <a:lnTo>
                    <a:pt x="72187" y="49922"/>
                  </a:lnTo>
                  <a:lnTo>
                    <a:pt x="75217" y="56141"/>
                  </a:lnTo>
                  <a:lnTo>
                    <a:pt x="78085" y="62828"/>
                  </a:lnTo>
                  <a:lnTo>
                    <a:pt x="81690" y="69825"/>
                  </a:lnTo>
                  <a:lnTo>
                    <a:pt x="85786" y="77030"/>
                  </a:lnTo>
                  <a:lnTo>
                    <a:pt x="90211" y="84373"/>
                  </a:lnTo>
                  <a:lnTo>
                    <a:pt x="99642" y="99306"/>
                  </a:lnTo>
                  <a:lnTo>
                    <a:pt x="104528" y="106845"/>
                  </a:lnTo>
                  <a:lnTo>
                    <a:pt x="109478" y="115256"/>
                  </a:lnTo>
                  <a:lnTo>
                    <a:pt x="114472" y="124251"/>
                  </a:lnTo>
                  <a:lnTo>
                    <a:pt x="119495" y="133634"/>
                  </a:lnTo>
                  <a:lnTo>
                    <a:pt x="123690" y="142430"/>
                  </a:lnTo>
                  <a:lnTo>
                    <a:pt x="127332" y="150833"/>
                  </a:lnTo>
                  <a:lnTo>
                    <a:pt x="130608" y="158975"/>
                  </a:lnTo>
                  <a:lnTo>
                    <a:pt x="133638" y="168637"/>
                  </a:lnTo>
                  <a:lnTo>
                    <a:pt x="136506" y="179311"/>
                  </a:lnTo>
                  <a:lnTo>
                    <a:pt x="139264" y="190660"/>
                  </a:lnTo>
                  <a:lnTo>
                    <a:pt x="141103" y="200767"/>
                  </a:lnTo>
                  <a:lnTo>
                    <a:pt x="142328" y="210045"/>
                  </a:lnTo>
                  <a:lnTo>
                    <a:pt x="143145" y="218770"/>
                  </a:lnTo>
                  <a:lnTo>
                    <a:pt x="143690" y="228820"/>
                  </a:lnTo>
                  <a:lnTo>
                    <a:pt x="144295" y="251276"/>
                  </a:lnTo>
                  <a:lnTo>
                    <a:pt x="144737" y="308160"/>
                  </a:lnTo>
                  <a:lnTo>
                    <a:pt x="143904" y="318047"/>
                  </a:lnTo>
                  <a:lnTo>
                    <a:pt x="142502" y="328024"/>
                  </a:lnTo>
                  <a:lnTo>
                    <a:pt x="140721" y="338063"/>
                  </a:lnTo>
                  <a:lnTo>
                    <a:pt x="138687" y="347295"/>
                  </a:lnTo>
                  <a:lnTo>
                    <a:pt x="136484" y="355990"/>
                  </a:lnTo>
                  <a:lnTo>
                    <a:pt x="134169" y="364327"/>
                  </a:lnTo>
                  <a:lnTo>
                    <a:pt x="129339" y="380363"/>
                  </a:lnTo>
                  <a:lnTo>
                    <a:pt x="119340" y="411354"/>
                  </a:lnTo>
                  <a:lnTo>
                    <a:pt x="115966" y="418170"/>
                  </a:lnTo>
                  <a:lnTo>
                    <a:pt x="112024" y="424407"/>
                  </a:lnTo>
                  <a:lnTo>
                    <a:pt x="107703" y="430257"/>
                  </a:lnTo>
                  <a:lnTo>
                    <a:pt x="103975" y="435852"/>
                  </a:lnTo>
                  <a:lnTo>
                    <a:pt x="100643" y="441275"/>
                  </a:lnTo>
                  <a:lnTo>
                    <a:pt x="97575" y="446583"/>
                  </a:lnTo>
                  <a:lnTo>
                    <a:pt x="94683" y="450969"/>
                  </a:lnTo>
                  <a:lnTo>
                    <a:pt x="91909" y="454739"/>
                  </a:lnTo>
                  <a:lnTo>
                    <a:pt x="89212" y="458100"/>
                  </a:lnTo>
                  <a:lnTo>
                    <a:pt x="85721" y="462033"/>
                  </a:lnTo>
                  <a:lnTo>
                    <a:pt x="68579" y="480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SMARTInkAnnotation18"/>
            <p:cNvSpPr/>
            <p:nvPr/>
          </p:nvSpPr>
          <p:spPr>
            <a:xfrm>
              <a:off x="6408720" y="3405960"/>
              <a:ext cx="60840" cy="2206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0961" h="220981">
                  <a:moveTo>
                    <a:pt x="60960" y="0"/>
                  </a:moveTo>
                  <a:lnTo>
                    <a:pt x="60960" y="6561"/>
                  </a:lnTo>
                  <a:lnTo>
                    <a:pt x="60113" y="7761"/>
                  </a:lnTo>
                  <a:lnTo>
                    <a:pt x="58702" y="9407"/>
                  </a:lnTo>
                  <a:lnTo>
                    <a:pt x="56915" y="11351"/>
                  </a:lnTo>
                  <a:lnTo>
                    <a:pt x="55723" y="13494"/>
                  </a:lnTo>
                  <a:lnTo>
                    <a:pt x="54399" y="18133"/>
                  </a:lnTo>
                  <a:lnTo>
                    <a:pt x="53199" y="21402"/>
                  </a:lnTo>
                  <a:lnTo>
                    <a:pt x="51554" y="25275"/>
                  </a:lnTo>
                  <a:lnTo>
                    <a:pt x="49609" y="29550"/>
                  </a:lnTo>
                  <a:lnTo>
                    <a:pt x="48312" y="34093"/>
                  </a:lnTo>
                  <a:lnTo>
                    <a:pt x="47449" y="38815"/>
                  </a:lnTo>
                  <a:lnTo>
                    <a:pt x="46872" y="43657"/>
                  </a:lnTo>
                  <a:lnTo>
                    <a:pt x="45641" y="47731"/>
                  </a:lnTo>
                  <a:lnTo>
                    <a:pt x="43975" y="51294"/>
                  </a:lnTo>
                  <a:lnTo>
                    <a:pt x="42017" y="54516"/>
                  </a:lnTo>
                  <a:lnTo>
                    <a:pt x="40712" y="59204"/>
                  </a:lnTo>
                  <a:lnTo>
                    <a:pt x="39840" y="64869"/>
                  </a:lnTo>
                  <a:lnTo>
                    <a:pt x="39260" y="71186"/>
                  </a:lnTo>
                  <a:lnTo>
                    <a:pt x="38027" y="77091"/>
                  </a:lnTo>
                  <a:lnTo>
                    <a:pt x="36358" y="82721"/>
                  </a:lnTo>
                  <a:lnTo>
                    <a:pt x="34399" y="88167"/>
                  </a:lnTo>
                  <a:lnTo>
                    <a:pt x="33093" y="93491"/>
                  </a:lnTo>
                  <a:lnTo>
                    <a:pt x="32222" y="98734"/>
                  </a:lnTo>
                  <a:lnTo>
                    <a:pt x="31641" y="103923"/>
                  </a:lnTo>
                  <a:lnTo>
                    <a:pt x="30408" y="109075"/>
                  </a:lnTo>
                  <a:lnTo>
                    <a:pt x="28738" y="114204"/>
                  </a:lnTo>
                  <a:lnTo>
                    <a:pt x="26779" y="119316"/>
                  </a:lnTo>
                  <a:lnTo>
                    <a:pt x="25473" y="124417"/>
                  </a:lnTo>
                  <a:lnTo>
                    <a:pt x="24602" y="129511"/>
                  </a:lnTo>
                  <a:lnTo>
                    <a:pt x="24021" y="134601"/>
                  </a:lnTo>
                  <a:lnTo>
                    <a:pt x="22788" y="139687"/>
                  </a:lnTo>
                  <a:lnTo>
                    <a:pt x="21118" y="144772"/>
                  </a:lnTo>
                  <a:lnTo>
                    <a:pt x="19159" y="149855"/>
                  </a:lnTo>
                  <a:lnTo>
                    <a:pt x="17852" y="154936"/>
                  </a:lnTo>
                  <a:lnTo>
                    <a:pt x="16981" y="160018"/>
                  </a:lnTo>
                  <a:lnTo>
                    <a:pt x="16401" y="165099"/>
                  </a:lnTo>
                  <a:lnTo>
                    <a:pt x="16014" y="170179"/>
                  </a:lnTo>
                  <a:lnTo>
                    <a:pt x="15756" y="175260"/>
                  </a:lnTo>
                  <a:lnTo>
                    <a:pt x="15585" y="180340"/>
                  </a:lnTo>
                  <a:lnTo>
                    <a:pt x="14623" y="185420"/>
                  </a:lnTo>
                  <a:lnTo>
                    <a:pt x="13135" y="190500"/>
                  </a:lnTo>
                  <a:lnTo>
                    <a:pt x="11297" y="195580"/>
                  </a:lnTo>
                  <a:lnTo>
                    <a:pt x="10072" y="199814"/>
                  </a:lnTo>
                  <a:lnTo>
                    <a:pt x="9254" y="203482"/>
                  </a:lnTo>
                  <a:lnTo>
                    <a:pt x="8710" y="206775"/>
                  </a:lnTo>
                  <a:lnTo>
                    <a:pt x="7500" y="209817"/>
                  </a:lnTo>
                  <a:lnTo>
                    <a:pt x="5847" y="212691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MARTInkAnnotation19"/>
            <p:cNvSpPr/>
            <p:nvPr/>
          </p:nvSpPr>
          <p:spPr>
            <a:xfrm>
              <a:off x="6340320" y="352008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0" h="22861">
                  <a:moveTo>
                    <a:pt x="0" y="22860"/>
                  </a:moveTo>
                  <a:lnTo>
                    <a:pt x="6560" y="16300"/>
                  </a:lnTo>
                  <a:lnTo>
                    <a:pt x="9406" y="15711"/>
                  </a:lnTo>
                  <a:lnTo>
                    <a:pt x="11351" y="15554"/>
                  </a:lnTo>
                  <a:lnTo>
                    <a:pt x="14340" y="14603"/>
                  </a:lnTo>
                  <a:lnTo>
                    <a:pt x="18027" y="13122"/>
                  </a:lnTo>
                  <a:lnTo>
                    <a:pt x="22178" y="11288"/>
                  </a:lnTo>
                  <a:lnTo>
                    <a:pt x="25791" y="10065"/>
                  </a:lnTo>
                  <a:lnTo>
                    <a:pt x="29047" y="9250"/>
                  </a:lnTo>
                  <a:lnTo>
                    <a:pt x="32065" y="8707"/>
                  </a:lnTo>
                  <a:lnTo>
                    <a:pt x="36617" y="8344"/>
                  </a:lnTo>
                  <a:lnTo>
                    <a:pt x="42190" y="8103"/>
                  </a:lnTo>
                  <a:lnTo>
                    <a:pt x="55158" y="7835"/>
                  </a:lnTo>
                  <a:lnTo>
                    <a:pt x="137180" y="7623"/>
                  </a:lnTo>
                  <a:lnTo>
                    <a:pt x="143947" y="6775"/>
                  </a:lnTo>
                  <a:lnTo>
                    <a:pt x="150151" y="5363"/>
                  </a:lnTo>
                  <a:lnTo>
                    <a:pt x="155981" y="3576"/>
                  </a:lnTo>
                  <a:lnTo>
                    <a:pt x="161560" y="2384"/>
                  </a:lnTo>
                  <a:lnTo>
                    <a:pt x="166973" y="1589"/>
                  </a:lnTo>
                  <a:lnTo>
                    <a:pt x="172275" y="1059"/>
                  </a:lnTo>
                  <a:lnTo>
                    <a:pt x="176657" y="706"/>
                  </a:lnTo>
                  <a:lnTo>
                    <a:pt x="180425" y="471"/>
                  </a:lnTo>
                  <a:lnTo>
                    <a:pt x="183783" y="314"/>
                  </a:lnTo>
                  <a:lnTo>
                    <a:pt x="192030" y="139"/>
                  </a:lnTo>
                  <a:lnTo>
                    <a:pt x="22097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MARTInkAnnotation20"/>
            <p:cNvSpPr/>
            <p:nvPr/>
          </p:nvSpPr>
          <p:spPr>
            <a:xfrm>
              <a:off x="2721240" y="4038120"/>
              <a:ext cx="281160" cy="40212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281383" h="402542">
                  <a:moveTo>
                    <a:pt x="136602" y="0"/>
                  </a:moveTo>
                  <a:lnTo>
                    <a:pt x="136602" y="4045"/>
                  </a:lnTo>
                  <a:lnTo>
                    <a:pt x="135755" y="6083"/>
                  </a:lnTo>
                  <a:lnTo>
                    <a:pt x="130519" y="12997"/>
                  </a:lnTo>
                  <a:lnTo>
                    <a:pt x="125996" y="17912"/>
                  </a:lnTo>
                  <a:lnTo>
                    <a:pt x="124451" y="21255"/>
                  </a:lnTo>
                  <a:lnTo>
                    <a:pt x="122735" y="29484"/>
                  </a:lnTo>
                  <a:lnTo>
                    <a:pt x="117456" y="38786"/>
                  </a:lnTo>
                  <a:lnTo>
                    <a:pt x="110313" y="49412"/>
                  </a:lnTo>
                  <a:lnTo>
                    <a:pt x="107222" y="55801"/>
                  </a:lnTo>
                  <a:lnTo>
                    <a:pt x="104315" y="62601"/>
                  </a:lnTo>
                  <a:lnTo>
                    <a:pt x="96570" y="74672"/>
                  </a:lnTo>
                  <a:lnTo>
                    <a:pt x="92134" y="80261"/>
                  </a:lnTo>
                  <a:lnTo>
                    <a:pt x="87483" y="86527"/>
                  </a:lnTo>
                  <a:lnTo>
                    <a:pt x="77800" y="100263"/>
                  </a:lnTo>
                  <a:lnTo>
                    <a:pt x="56940" y="130625"/>
                  </a:lnTo>
                  <a:lnTo>
                    <a:pt x="43623" y="148931"/>
                  </a:lnTo>
                  <a:lnTo>
                    <a:pt x="38209" y="157707"/>
                  </a:lnTo>
                  <a:lnTo>
                    <a:pt x="33753" y="166098"/>
                  </a:lnTo>
                  <a:lnTo>
                    <a:pt x="29936" y="174232"/>
                  </a:lnTo>
                  <a:lnTo>
                    <a:pt x="25698" y="182195"/>
                  </a:lnTo>
                  <a:lnTo>
                    <a:pt x="21180" y="190043"/>
                  </a:lnTo>
                  <a:lnTo>
                    <a:pt x="16473" y="197815"/>
                  </a:lnTo>
                  <a:lnTo>
                    <a:pt x="12490" y="206384"/>
                  </a:lnTo>
                  <a:lnTo>
                    <a:pt x="8987" y="215483"/>
                  </a:lnTo>
                  <a:lnTo>
                    <a:pt x="5805" y="224935"/>
                  </a:lnTo>
                  <a:lnTo>
                    <a:pt x="3684" y="233776"/>
                  </a:lnTo>
                  <a:lnTo>
                    <a:pt x="2270" y="242211"/>
                  </a:lnTo>
                  <a:lnTo>
                    <a:pt x="1327" y="250374"/>
                  </a:lnTo>
                  <a:lnTo>
                    <a:pt x="699" y="258356"/>
                  </a:lnTo>
                  <a:lnTo>
                    <a:pt x="280" y="266218"/>
                  </a:lnTo>
                  <a:lnTo>
                    <a:pt x="0" y="273998"/>
                  </a:lnTo>
                  <a:lnTo>
                    <a:pt x="661" y="281726"/>
                  </a:lnTo>
                  <a:lnTo>
                    <a:pt x="1948" y="289417"/>
                  </a:lnTo>
                  <a:lnTo>
                    <a:pt x="3653" y="297085"/>
                  </a:lnTo>
                  <a:lnTo>
                    <a:pt x="6482" y="304736"/>
                  </a:lnTo>
                  <a:lnTo>
                    <a:pt x="10062" y="312377"/>
                  </a:lnTo>
                  <a:lnTo>
                    <a:pt x="14142" y="320012"/>
                  </a:lnTo>
                  <a:lnTo>
                    <a:pt x="19402" y="327641"/>
                  </a:lnTo>
                  <a:lnTo>
                    <a:pt x="25449" y="335267"/>
                  </a:lnTo>
                  <a:lnTo>
                    <a:pt x="32020" y="342891"/>
                  </a:lnTo>
                  <a:lnTo>
                    <a:pt x="38940" y="348821"/>
                  </a:lnTo>
                  <a:lnTo>
                    <a:pt x="46094" y="353621"/>
                  </a:lnTo>
                  <a:lnTo>
                    <a:pt x="53404" y="357667"/>
                  </a:lnTo>
                  <a:lnTo>
                    <a:pt x="70556" y="366678"/>
                  </a:lnTo>
                  <a:lnTo>
                    <a:pt x="79871" y="371452"/>
                  </a:lnTo>
                  <a:lnTo>
                    <a:pt x="90315" y="376328"/>
                  </a:lnTo>
                  <a:lnTo>
                    <a:pt x="113207" y="386262"/>
                  </a:lnTo>
                  <a:lnTo>
                    <a:pt x="124392" y="389587"/>
                  </a:lnTo>
                  <a:lnTo>
                    <a:pt x="135235" y="391805"/>
                  </a:lnTo>
                  <a:lnTo>
                    <a:pt x="145851" y="393283"/>
                  </a:lnTo>
                  <a:lnTo>
                    <a:pt x="156315" y="395115"/>
                  </a:lnTo>
                  <a:lnTo>
                    <a:pt x="166677" y="397184"/>
                  </a:lnTo>
                  <a:lnTo>
                    <a:pt x="176972" y="399409"/>
                  </a:lnTo>
                  <a:lnTo>
                    <a:pt x="186376" y="400893"/>
                  </a:lnTo>
                  <a:lnTo>
                    <a:pt x="195185" y="401882"/>
                  </a:lnTo>
                  <a:lnTo>
                    <a:pt x="203597" y="402541"/>
                  </a:lnTo>
                  <a:lnTo>
                    <a:pt x="211745" y="402134"/>
                  </a:lnTo>
                  <a:lnTo>
                    <a:pt x="219718" y="401016"/>
                  </a:lnTo>
                  <a:lnTo>
                    <a:pt x="227572" y="399424"/>
                  </a:lnTo>
                  <a:lnTo>
                    <a:pt x="234502" y="398363"/>
                  </a:lnTo>
                  <a:lnTo>
                    <a:pt x="240816" y="397655"/>
                  </a:lnTo>
                  <a:lnTo>
                    <a:pt x="246718" y="397183"/>
                  </a:lnTo>
                  <a:lnTo>
                    <a:pt x="252346" y="396022"/>
                  </a:lnTo>
                  <a:lnTo>
                    <a:pt x="257791" y="394402"/>
                  </a:lnTo>
                  <a:lnTo>
                    <a:pt x="263115" y="392474"/>
                  </a:lnTo>
                  <a:lnTo>
                    <a:pt x="271288" y="390334"/>
                  </a:lnTo>
                  <a:lnTo>
                    <a:pt x="281382" y="388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SMARTInkAnnotation21"/>
            <p:cNvSpPr/>
            <p:nvPr/>
          </p:nvSpPr>
          <p:spPr>
            <a:xfrm>
              <a:off x="2659680" y="4213440"/>
              <a:ext cx="228600" cy="378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8601" h="38101">
                  <a:moveTo>
                    <a:pt x="0" y="38100"/>
                  </a:moveTo>
                  <a:lnTo>
                    <a:pt x="6561" y="38100"/>
                  </a:lnTo>
                  <a:lnTo>
                    <a:pt x="7760" y="37254"/>
                  </a:lnTo>
                  <a:lnTo>
                    <a:pt x="9407" y="35843"/>
                  </a:lnTo>
                  <a:lnTo>
                    <a:pt x="11351" y="34055"/>
                  </a:lnTo>
                  <a:lnTo>
                    <a:pt x="13494" y="32863"/>
                  </a:lnTo>
                  <a:lnTo>
                    <a:pt x="15770" y="32069"/>
                  </a:lnTo>
                  <a:lnTo>
                    <a:pt x="18133" y="31539"/>
                  </a:lnTo>
                  <a:lnTo>
                    <a:pt x="20555" y="30339"/>
                  </a:lnTo>
                  <a:lnTo>
                    <a:pt x="23017" y="28693"/>
                  </a:lnTo>
                  <a:lnTo>
                    <a:pt x="25505" y="26749"/>
                  </a:lnTo>
                  <a:lnTo>
                    <a:pt x="28856" y="24606"/>
                  </a:lnTo>
                  <a:lnTo>
                    <a:pt x="32784" y="22330"/>
                  </a:lnTo>
                  <a:lnTo>
                    <a:pt x="37096" y="19968"/>
                  </a:lnTo>
                  <a:lnTo>
                    <a:pt x="41664" y="18391"/>
                  </a:lnTo>
                  <a:lnTo>
                    <a:pt x="46403" y="17341"/>
                  </a:lnTo>
                  <a:lnTo>
                    <a:pt x="51255" y="16641"/>
                  </a:lnTo>
                  <a:lnTo>
                    <a:pt x="56184" y="15327"/>
                  </a:lnTo>
                  <a:lnTo>
                    <a:pt x="61162" y="13605"/>
                  </a:lnTo>
                  <a:lnTo>
                    <a:pt x="66175" y="11610"/>
                  </a:lnTo>
                  <a:lnTo>
                    <a:pt x="71210" y="10280"/>
                  </a:lnTo>
                  <a:lnTo>
                    <a:pt x="76260" y="9393"/>
                  </a:lnTo>
                  <a:lnTo>
                    <a:pt x="81320" y="8802"/>
                  </a:lnTo>
                  <a:lnTo>
                    <a:pt x="85540" y="7561"/>
                  </a:lnTo>
                  <a:lnTo>
                    <a:pt x="89200" y="5888"/>
                  </a:lnTo>
                  <a:lnTo>
                    <a:pt x="92487" y="3925"/>
                  </a:lnTo>
                  <a:lnTo>
                    <a:pt x="96371" y="2617"/>
                  </a:lnTo>
                  <a:lnTo>
                    <a:pt x="100654" y="1745"/>
                  </a:lnTo>
                  <a:lnTo>
                    <a:pt x="105202" y="1163"/>
                  </a:lnTo>
                  <a:lnTo>
                    <a:pt x="109928" y="776"/>
                  </a:lnTo>
                  <a:lnTo>
                    <a:pt x="114772" y="517"/>
                  </a:lnTo>
                  <a:lnTo>
                    <a:pt x="119695" y="345"/>
                  </a:lnTo>
                  <a:lnTo>
                    <a:pt x="138759" y="102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SMARTInkAnnotation22"/>
            <p:cNvSpPr/>
            <p:nvPr/>
          </p:nvSpPr>
          <p:spPr>
            <a:xfrm>
              <a:off x="3116880" y="4114440"/>
              <a:ext cx="45720" cy="319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45721" h="320041">
                  <a:moveTo>
                    <a:pt x="0" y="0"/>
                  </a:moveTo>
                  <a:lnTo>
                    <a:pt x="4045" y="0"/>
                  </a:lnTo>
                  <a:lnTo>
                    <a:pt x="5237" y="846"/>
                  </a:lnTo>
                  <a:lnTo>
                    <a:pt x="6031" y="2258"/>
                  </a:lnTo>
                  <a:lnTo>
                    <a:pt x="7306" y="6561"/>
                  </a:lnTo>
                  <a:lnTo>
                    <a:pt x="8257" y="7760"/>
                  </a:lnTo>
                  <a:lnTo>
                    <a:pt x="9739" y="9408"/>
                  </a:lnTo>
                  <a:lnTo>
                    <a:pt x="11572" y="11352"/>
                  </a:lnTo>
                  <a:lnTo>
                    <a:pt x="12795" y="13495"/>
                  </a:lnTo>
                  <a:lnTo>
                    <a:pt x="14153" y="18133"/>
                  </a:lnTo>
                  <a:lnTo>
                    <a:pt x="14757" y="25275"/>
                  </a:lnTo>
                  <a:lnTo>
                    <a:pt x="14918" y="29550"/>
                  </a:lnTo>
                  <a:lnTo>
                    <a:pt x="15872" y="33247"/>
                  </a:lnTo>
                  <a:lnTo>
                    <a:pt x="17355" y="36558"/>
                  </a:lnTo>
                  <a:lnTo>
                    <a:pt x="19189" y="39612"/>
                  </a:lnTo>
                  <a:lnTo>
                    <a:pt x="20413" y="43342"/>
                  </a:lnTo>
                  <a:lnTo>
                    <a:pt x="21773" y="52001"/>
                  </a:lnTo>
                  <a:lnTo>
                    <a:pt x="22135" y="57527"/>
                  </a:lnTo>
                  <a:lnTo>
                    <a:pt x="22377" y="63752"/>
                  </a:lnTo>
                  <a:lnTo>
                    <a:pt x="22717" y="82390"/>
                  </a:lnTo>
                  <a:lnTo>
                    <a:pt x="22860" y="213390"/>
                  </a:lnTo>
                  <a:lnTo>
                    <a:pt x="23706" y="221000"/>
                  </a:lnTo>
                  <a:lnTo>
                    <a:pt x="25118" y="228614"/>
                  </a:lnTo>
                  <a:lnTo>
                    <a:pt x="26905" y="236229"/>
                  </a:lnTo>
                  <a:lnTo>
                    <a:pt x="28943" y="243000"/>
                  </a:lnTo>
                  <a:lnTo>
                    <a:pt x="31149" y="249206"/>
                  </a:lnTo>
                  <a:lnTo>
                    <a:pt x="33466" y="255038"/>
                  </a:lnTo>
                  <a:lnTo>
                    <a:pt x="35010" y="261465"/>
                  </a:lnTo>
                  <a:lnTo>
                    <a:pt x="36041" y="268290"/>
                  </a:lnTo>
                  <a:lnTo>
                    <a:pt x="36727" y="275380"/>
                  </a:lnTo>
                  <a:lnTo>
                    <a:pt x="37185" y="281800"/>
                  </a:lnTo>
                  <a:lnTo>
                    <a:pt x="37490" y="287773"/>
                  </a:lnTo>
                  <a:lnTo>
                    <a:pt x="37693" y="293449"/>
                  </a:lnTo>
                  <a:lnTo>
                    <a:pt x="38675" y="298079"/>
                  </a:lnTo>
                  <a:lnTo>
                    <a:pt x="40177" y="302013"/>
                  </a:lnTo>
                  <a:lnTo>
                    <a:pt x="42025" y="305482"/>
                  </a:lnTo>
                  <a:lnTo>
                    <a:pt x="43256" y="308641"/>
                  </a:lnTo>
                  <a:lnTo>
                    <a:pt x="44625" y="314409"/>
                  </a:lnTo>
                  <a:lnTo>
                    <a:pt x="45720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SMARTInkAnnotation23"/>
            <p:cNvSpPr/>
            <p:nvPr/>
          </p:nvSpPr>
          <p:spPr>
            <a:xfrm>
              <a:off x="3071160" y="4259160"/>
              <a:ext cx="220680" cy="302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0981" h="30481">
                  <a:moveTo>
                    <a:pt x="0" y="30480"/>
                  </a:moveTo>
                  <a:lnTo>
                    <a:pt x="4045" y="26435"/>
                  </a:lnTo>
                  <a:lnTo>
                    <a:pt x="6930" y="25243"/>
                  </a:lnTo>
                  <a:lnTo>
                    <a:pt x="10546" y="24449"/>
                  </a:lnTo>
                  <a:lnTo>
                    <a:pt x="14651" y="23919"/>
                  </a:lnTo>
                  <a:lnTo>
                    <a:pt x="19081" y="22719"/>
                  </a:lnTo>
                  <a:lnTo>
                    <a:pt x="23727" y="21073"/>
                  </a:lnTo>
                  <a:lnTo>
                    <a:pt x="28518" y="19129"/>
                  </a:lnTo>
                  <a:lnTo>
                    <a:pt x="33405" y="17833"/>
                  </a:lnTo>
                  <a:lnTo>
                    <a:pt x="38357" y="16968"/>
                  </a:lnTo>
                  <a:lnTo>
                    <a:pt x="43351" y="16392"/>
                  </a:lnTo>
                  <a:lnTo>
                    <a:pt x="49221" y="16008"/>
                  </a:lnTo>
                  <a:lnTo>
                    <a:pt x="55674" y="15752"/>
                  </a:lnTo>
                  <a:lnTo>
                    <a:pt x="62516" y="15582"/>
                  </a:lnTo>
                  <a:lnTo>
                    <a:pt x="69617" y="14621"/>
                  </a:lnTo>
                  <a:lnTo>
                    <a:pt x="76892" y="13134"/>
                  </a:lnTo>
                  <a:lnTo>
                    <a:pt x="84281" y="11296"/>
                  </a:lnTo>
                  <a:lnTo>
                    <a:pt x="91747" y="10071"/>
                  </a:lnTo>
                  <a:lnTo>
                    <a:pt x="99265" y="9254"/>
                  </a:lnTo>
                  <a:lnTo>
                    <a:pt x="106817" y="8709"/>
                  </a:lnTo>
                  <a:lnTo>
                    <a:pt x="114391" y="8346"/>
                  </a:lnTo>
                  <a:lnTo>
                    <a:pt x="129581" y="7943"/>
                  </a:lnTo>
                  <a:lnTo>
                    <a:pt x="164658" y="7648"/>
                  </a:lnTo>
                  <a:lnTo>
                    <a:pt x="169885" y="6792"/>
                  </a:lnTo>
                  <a:lnTo>
                    <a:pt x="175063" y="5374"/>
                  </a:lnTo>
                  <a:lnTo>
                    <a:pt x="180209" y="3583"/>
                  </a:lnTo>
                  <a:lnTo>
                    <a:pt x="184486" y="2389"/>
                  </a:lnTo>
                  <a:lnTo>
                    <a:pt x="188184" y="1592"/>
                  </a:lnTo>
                  <a:lnTo>
                    <a:pt x="194551" y="708"/>
                  </a:lnTo>
                  <a:lnTo>
                    <a:pt x="200203" y="314"/>
                  </a:lnTo>
                  <a:lnTo>
                    <a:pt x="205537" y="139"/>
                  </a:lnTo>
                  <a:lnTo>
                    <a:pt x="213176" y="19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SMARTInkAnnotation24"/>
            <p:cNvSpPr/>
            <p:nvPr/>
          </p:nvSpPr>
          <p:spPr>
            <a:xfrm>
              <a:off x="3402000" y="4106880"/>
              <a:ext cx="284760" cy="31968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85100" h="319939">
                  <a:moveTo>
                    <a:pt x="4391" y="37998"/>
                  </a:moveTo>
                  <a:lnTo>
                    <a:pt x="0" y="37998"/>
                  </a:lnTo>
                  <a:lnTo>
                    <a:pt x="62952" y="37998"/>
                  </a:lnTo>
                  <a:lnTo>
                    <a:pt x="68831" y="37151"/>
                  </a:lnTo>
                  <a:lnTo>
                    <a:pt x="75290" y="35741"/>
                  </a:lnTo>
                  <a:lnTo>
                    <a:pt x="82137" y="33954"/>
                  </a:lnTo>
                  <a:lnTo>
                    <a:pt x="88395" y="32761"/>
                  </a:lnTo>
                  <a:lnTo>
                    <a:pt x="94260" y="31967"/>
                  </a:lnTo>
                  <a:lnTo>
                    <a:pt x="99863" y="31437"/>
                  </a:lnTo>
                  <a:lnTo>
                    <a:pt x="105293" y="30238"/>
                  </a:lnTo>
                  <a:lnTo>
                    <a:pt x="110605" y="28591"/>
                  </a:lnTo>
                  <a:lnTo>
                    <a:pt x="115840" y="26647"/>
                  </a:lnTo>
                  <a:lnTo>
                    <a:pt x="121870" y="25351"/>
                  </a:lnTo>
                  <a:lnTo>
                    <a:pt x="128430" y="24487"/>
                  </a:lnTo>
                  <a:lnTo>
                    <a:pt x="135343" y="23910"/>
                  </a:lnTo>
                  <a:lnTo>
                    <a:pt x="142493" y="22680"/>
                  </a:lnTo>
                  <a:lnTo>
                    <a:pt x="149798" y="21013"/>
                  </a:lnTo>
                  <a:lnTo>
                    <a:pt x="157209" y="19055"/>
                  </a:lnTo>
                  <a:lnTo>
                    <a:pt x="164689" y="17749"/>
                  </a:lnTo>
                  <a:lnTo>
                    <a:pt x="172216" y="16878"/>
                  </a:lnTo>
                  <a:lnTo>
                    <a:pt x="179774" y="16299"/>
                  </a:lnTo>
                  <a:lnTo>
                    <a:pt x="186506" y="15065"/>
                  </a:lnTo>
                  <a:lnTo>
                    <a:pt x="192688" y="13396"/>
                  </a:lnTo>
                  <a:lnTo>
                    <a:pt x="198502" y="11436"/>
                  </a:lnTo>
                  <a:lnTo>
                    <a:pt x="204071" y="10131"/>
                  </a:lnTo>
                  <a:lnTo>
                    <a:pt x="209477" y="9260"/>
                  </a:lnTo>
                  <a:lnTo>
                    <a:pt x="214775" y="8680"/>
                  </a:lnTo>
                  <a:lnTo>
                    <a:pt x="220000" y="7446"/>
                  </a:lnTo>
                  <a:lnTo>
                    <a:pt x="225177" y="5776"/>
                  </a:lnTo>
                  <a:lnTo>
                    <a:pt x="230321" y="3817"/>
                  </a:lnTo>
                  <a:lnTo>
                    <a:pt x="235444" y="2511"/>
                  </a:lnTo>
                  <a:lnTo>
                    <a:pt x="240552" y="1640"/>
                  </a:lnTo>
                  <a:lnTo>
                    <a:pt x="245651" y="1059"/>
                  </a:lnTo>
                  <a:lnTo>
                    <a:pt x="250744" y="672"/>
                  </a:lnTo>
                  <a:lnTo>
                    <a:pt x="255833" y="414"/>
                  </a:lnTo>
                  <a:lnTo>
                    <a:pt x="268828" y="51"/>
                  </a:lnTo>
                  <a:lnTo>
                    <a:pt x="272121" y="0"/>
                  </a:lnTo>
                  <a:lnTo>
                    <a:pt x="274318" y="813"/>
                  </a:lnTo>
                  <a:lnTo>
                    <a:pt x="275782" y="2201"/>
                  </a:lnTo>
                  <a:lnTo>
                    <a:pt x="276758" y="3974"/>
                  </a:lnTo>
                  <a:lnTo>
                    <a:pt x="278255" y="5155"/>
                  </a:lnTo>
                  <a:lnTo>
                    <a:pt x="280100" y="5943"/>
                  </a:lnTo>
                  <a:lnTo>
                    <a:pt x="282177" y="6468"/>
                  </a:lnTo>
                  <a:lnTo>
                    <a:pt x="283561" y="7665"/>
                  </a:lnTo>
                  <a:lnTo>
                    <a:pt x="284484" y="9309"/>
                  </a:lnTo>
                  <a:lnTo>
                    <a:pt x="285099" y="11252"/>
                  </a:lnTo>
                  <a:lnTo>
                    <a:pt x="284663" y="13394"/>
                  </a:lnTo>
                  <a:lnTo>
                    <a:pt x="281920" y="18032"/>
                  </a:lnTo>
                  <a:lnTo>
                    <a:pt x="280137" y="25173"/>
                  </a:lnTo>
                  <a:lnTo>
                    <a:pt x="278497" y="33991"/>
                  </a:lnTo>
                  <a:lnTo>
                    <a:pt x="274947" y="43555"/>
                  </a:lnTo>
                  <a:lnTo>
                    <a:pt x="270546" y="55708"/>
                  </a:lnTo>
                  <a:lnTo>
                    <a:pt x="268188" y="62505"/>
                  </a:lnTo>
                  <a:lnTo>
                    <a:pt x="264922" y="68729"/>
                  </a:lnTo>
                  <a:lnTo>
                    <a:pt x="261051" y="74572"/>
                  </a:lnTo>
                  <a:lnTo>
                    <a:pt x="256777" y="80161"/>
                  </a:lnTo>
                  <a:lnTo>
                    <a:pt x="252235" y="86427"/>
                  </a:lnTo>
                  <a:lnTo>
                    <a:pt x="242672" y="100162"/>
                  </a:lnTo>
                  <a:lnTo>
                    <a:pt x="212628" y="144784"/>
                  </a:lnTo>
                  <a:lnTo>
                    <a:pt x="206715" y="152368"/>
                  </a:lnTo>
                  <a:lnTo>
                    <a:pt x="200234" y="159965"/>
                  </a:lnTo>
                  <a:lnTo>
                    <a:pt x="193372" y="167569"/>
                  </a:lnTo>
                  <a:lnTo>
                    <a:pt x="187105" y="175179"/>
                  </a:lnTo>
                  <a:lnTo>
                    <a:pt x="181233" y="182792"/>
                  </a:lnTo>
                  <a:lnTo>
                    <a:pt x="175626" y="190408"/>
                  </a:lnTo>
                  <a:lnTo>
                    <a:pt x="170194" y="197178"/>
                  </a:lnTo>
                  <a:lnTo>
                    <a:pt x="164880" y="203384"/>
                  </a:lnTo>
                  <a:lnTo>
                    <a:pt x="159643" y="209216"/>
                  </a:lnTo>
                  <a:lnTo>
                    <a:pt x="154459" y="215643"/>
                  </a:lnTo>
                  <a:lnTo>
                    <a:pt x="149309" y="222468"/>
                  </a:lnTo>
                  <a:lnTo>
                    <a:pt x="139072" y="236825"/>
                  </a:lnTo>
                  <a:lnTo>
                    <a:pt x="128878" y="251673"/>
                  </a:lnTo>
                  <a:lnTo>
                    <a:pt x="123788" y="258341"/>
                  </a:lnTo>
                  <a:lnTo>
                    <a:pt x="118703" y="264480"/>
                  </a:lnTo>
                  <a:lnTo>
                    <a:pt x="113618" y="270266"/>
                  </a:lnTo>
                  <a:lnTo>
                    <a:pt x="109382" y="275817"/>
                  </a:lnTo>
                  <a:lnTo>
                    <a:pt x="105711" y="281211"/>
                  </a:lnTo>
                  <a:lnTo>
                    <a:pt x="102418" y="286500"/>
                  </a:lnTo>
                  <a:lnTo>
                    <a:pt x="94242" y="294635"/>
                  </a:lnTo>
                  <a:lnTo>
                    <a:pt x="89692" y="297989"/>
                  </a:lnTo>
                  <a:lnTo>
                    <a:pt x="86658" y="301072"/>
                  </a:lnTo>
                  <a:lnTo>
                    <a:pt x="84636" y="303974"/>
                  </a:lnTo>
                  <a:lnTo>
                    <a:pt x="82388" y="309457"/>
                  </a:lnTo>
                  <a:lnTo>
                    <a:pt x="80696" y="319250"/>
                  </a:lnTo>
                  <a:lnTo>
                    <a:pt x="80590" y="3199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SMARTInkAnnotation25"/>
            <p:cNvSpPr/>
            <p:nvPr/>
          </p:nvSpPr>
          <p:spPr>
            <a:xfrm>
              <a:off x="3475080" y="4259160"/>
              <a:ext cx="228600" cy="30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8601" h="30481">
                  <a:moveTo>
                    <a:pt x="0" y="30480"/>
                  </a:moveTo>
                  <a:lnTo>
                    <a:pt x="0" y="26435"/>
                  </a:lnTo>
                  <a:lnTo>
                    <a:pt x="847" y="25243"/>
                  </a:lnTo>
                  <a:lnTo>
                    <a:pt x="2258" y="24449"/>
                  </a:lnTo>
                  <a:lnTo>
                    <a:pt x="6083" y="23566"/>
                  </a:lnTo>
                  <a:lnTo>
                    <a:pt x="10606" y="23174"/>
                  </a:lnTo>
                  <a:lnTo>
                    <a:pt x="13844" y="22223"/>
                  </a:lnTo>
                  <a:lnTo>
                    <a:pt x="17697" y="20742"/>
                  </a:lnTo>
                  <a:lnTo>
                    <a:pt x="21957" y="18908"/>
                  </a:lnTo>
                  <a:lnTo>
                    <a:pt x="26491" y="17685"/>
                  </a:lnTo>
                  <a:lnTo>
                    <a:pt x="31207" y="16870"/>
                  </a:lnTo>
                  <a:lnTo>
                    <a:pt x="36046" y="16327"/>
                  </a:lnTo>
                  <a:lnTo>
                    <a:pt x="40964" y="15964"/>
                  </a:lnTo>
                  <a:lnTo>
                    <a:pt x="45936" y="15723"/>
                  </a:lnTo>
                  <a:lnTo>
                    <a:pt x="56823" y="15454"/>
                  </a:lnTo>
                  <a:lnTo>
                    <a:pt x="199152" y="15240"/>
                  </a:lnTo>
                  <a:lnTo>
                    <a:pt x="202195" y="14394"/>
                  </a:lnTo>
                  <a:lnTo>
                    <a:pt x="205070" y="12982"/>
                  </a:lnTo>
                  <a:lnTo>
                    <a:pt x="211723" y="8679"/>
                  </a:lnTo>
                  <a:lnTo>
                    <a:pt x="214890" y="8091"/>
                  </a:lnTo>
                  <a:lnTo>
                    <a:pt x="216921" y="7934"/>
                  </a:lnTo>
                  <a:lnTo>
                    <a:pt x="219120" y="6983"/>
                  </a:lnTo>
                  <a:lnTo>
                    <a:pt x="221434" y="5502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2540307579_8a80d74065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TextBox 2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2.4: The Distributive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0" y="5911560"/>
            <a:ext cx="9144000" cy="94716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no harm in doubt and skepticism, for it is through these that new discoveries are m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6"/>
          <p:cNvSpPr/>
          <p:nvPr/>
        </p:nvSpPr>
        <p:spPr>
          <a:xfrm>
            <a:off x="2895480" y="533520"/>
            <a:ext cx="3429000" cy="137376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OMEWOR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.82 #13-20, 31-40, 43-46, 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10:19Z</dcterms:created>
  <dc:creator>Stephanie Ruth Rentel</dc:creator>
  <dc:description/>
  <dc:language>en-US</dc:language>
  <cp:lastModifiedBy>m</cp:lastModifiedBy>
  <dcterms:modified xsi:type="dcterms:W3CDTF">2012-01-13T21:39:22Z</dcterms:modified>
  <cp:revision>116</cp:revision>
  <dc:subject/>
  <dc:title>Slide 1</dc:title>
</cp:coreProperties>
</file>